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3.gif" ContentType="image/gif"/>
  <Override PartName="/ppt/media/image12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gif" ContentType="image/gif"/>
  <Override PartName="/ppt/media/image22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29A-5DDB-4AE7-A7D5-58209AA5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664-F64A-4D51-A39D-51FB4E7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92D-2075-42B9-909F-7B5CEAE9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D61-1194-4052-BF45-F1AA16A2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BEE-0653-4083-8699-35216B29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ECF-BA99-4818-9B68-313C5AC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817-5298-4AF7-87A7-AC039B48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D92-61A5-44CF-9536-2ABC35A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8A8-B7DB-4BCA-945A-BD3B15E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7A5-098A-4BFE-9A7F-56508B13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416-9D34-4371-8ED6-9A441B7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6F2-C511-4007-B81E-6D8F0E4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3F0-1ED1-4B84-ABA4-E7CAF54FC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ILE5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304920" y="304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Укажите дату первого по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осмического корабля на косм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419720" y="1828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а 196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28600" y="16002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допытных животных встречаются свои гер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вгусте 1960 года на втором советском космическом корабле-спутнике отправились в полет собаки-пассажиры Белка и Стрелка, которые предварительно прошли продолжительные трен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 витков на орбите вокруг планеты корабль был переведен на траекторию спуска на поверхность Земли, а его пассажиры с высоты 7-8 тысяч километров благополучно катапультированы. Обе собаки чувствовали себя прекрасно и в последующем продолжали верно трудиться на благо космической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118"/>
          <p:cNvPicPr/>
          <p:nvPr/>
        </p:nvPicPr>
        <p:blipFill>
          <a:blip r:embed="rId4"/>
          <a:stretch/>
        </p:blipFill>
        <p:spPr>
          <a:xfrm>
            <a:off x="4572000" y="25909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2"/>
          <p:cNvSpPr/>
          <p:nvPr/>
        </p:nvSpPr>
        <p:spPr>
          <a:xfrm>
            <a:off x="5028480" y="601992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елка и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Укажите дату первого полета человека вокруг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4191120" y="41148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12 августа 196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1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12 мая 196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1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12 апреля 196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23 апреля 196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12 октября 1969 г.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Как долго продолжался первый в истории человечества  орбитальный космический по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952880" y="3657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12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47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89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108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18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43040" y="3295800"/>
            <a:ext cx="75646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«Облетев Землю в корабле – спутни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увидел, как прекрасна наша план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юди, будем хранить и приумно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Эту красоту, а не разрушать её»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Ю.А.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638680" y="193680"/>
            <a:ext cx="31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пуск первого в мире искусственного спутника Земли ознаменовал начало космической э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2 апреля 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 космодрома Байконур поднялся в небо космический кораб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"Восток"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с человеком на бо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Гагарин"/>
          <p:cNvPicPr/>
          <p:nvPr/>
        </p:nvPicPr>
        <p:blipFill>
          <a:blip r:embed="rId1"/>
          <a:stretch/>
        </p:blipFill>
        <p:spPr>
          <a:xfrm>
            <a:off x="0" y="0"/>
            <a:ext cx="5114880" cy="6864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1905120" y="5105520"/>
            <a:ext cx="693396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Юрий Алексеевич Гагар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крывший дорогу в косм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блетел земной  шар за 10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3200400" y="228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Юпи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572000" y="27432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4038480" y="3497400"/>
            <a:ext cx="4800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не лётчик, не пило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ведёт не самол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 огромную раке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т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472360" y="60102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смона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755880" y="3801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733920" y="3352680"/>
            <a:ext cx="424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олубая простыня весь свет покр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334120" y="594360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962520" y="3352680"/>
            <a:ext cx="458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гоняя ночь и д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круг Земли бежит ол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девая звёзды р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небе выбрал он дор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ышен стук его к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вселенной след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337720" y="60199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у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4267080" y="3581280"/>
            <a:ext cx="389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кра небо прожи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 до нас не до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4952880" y="594360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ео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3886200" y="3581280"/>
            <a:ext cx="485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 выше леса, краше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з огня гор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5108040" y="601992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5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7010280" y="1600200"/>
            <a:ext cx="19670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586" dur="5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648320" y="28195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Г.Новак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яс зод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6095880" y="36576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зер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962520" y="3352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нег январский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феврале день подлинн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в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рте много снежных глы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где-то среди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 в апреле из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греет уж спо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6173640" y="4419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до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781680" y="51055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ы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945400" y="54864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1" descr="FILE5707"/>
          <p:cNvPicPr/>
          <p:nvPr/>
        </p:nvPicPr>
        <p:blipFill>
          <a:blip r:embed="rId5"/>
          <a:stretch/>
        </p:blipFill>
        <p:spPr>
          <a:xfrm rot="2011800">
            <a:off x="7009920" y="144756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818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FILE5701"/>
          <p:cNvPicPr/>
          <p:nvPr/>
        </p:nvPicPr>
        <p:blipFill>
          <a:blip r:embed="rId4"/>
          <a:stretch/>
        </p:blipFill>
        <p:spPr>
          <a:xfrm rot="19812600">
            <a:off x="6248520" y="1142640"/>
            <a:ext cx="2438280" cy="974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629400" y="34290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ль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411480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е солнышко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ди веснушки на 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не Солнце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анту дети пьют в ку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ле солнце катит 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ломан – на грядку к м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вгуст школы откры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402960" y="4191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лизне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7238880" y="4876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888000" y="60199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8" descr="FILE5707"/>
          <p:cNvPicPr/>
          <p:nvPr/>
        </p:nvPicPr>
        <p:blipFill>
          <a:blip r:embed="rId5"/>
          <a:stretch/>
        </p:blipFill>
        <p:spPr>
          <a:xfrm rot="2011800">
            <a:off x="6857640" y="198072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FILE5701"/>
          <p:cNvPicPr/>
          <p:nvPr/>
        </p:nvPicPr>
        <p:blipFill>
          <a:blip r:embed="rId4"/>
          <a:stretch/>
        </p:blipFill>
        <p:spPr>
          <a:xfrm rot="20358000">
            <a:off x="6248160" y="1142640"/>
            <a:ext cx="2438280" cy="97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886200" y="358128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114800" y="32767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окном «засентябр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прию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октябре , по мнению 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из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ноябре в небоскл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ияет Солнце в  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декабре, как сорва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спряч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6478920" y="426708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орпи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013880" y="571500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е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9" descr="FILE5707"/>
          <p:cNvPicPr/>
          <p:nvPr/>
        </p:nvPicPr>
        <p:blipFill>
          <a:blip r:embed="rId5"/>
          <a:stretch/>
        </p:blipFill>
        <p:spPr>
          <a:xfrm rot="2011800">
            <a:off x="7086240" y="182844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4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0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-380880" y="2698920"/>
            <a:ext cx="391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 окном "засентябрит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.. (Дева) Солнце прию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октябре, по мненью 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лнце светит из ... (Ве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ноябре на небоск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яет Солнце в ... (Скорпио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декабре, как сорван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 Солнце спрячется ... (Стреле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629400" y="34290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ль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11480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е солнышко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ди веснушки на 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не Солнце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анту дети пьют в ку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ле солнце катит 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ломан – на грядку к м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вгуст школы откры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402960" y="4191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лизне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8880" y="4876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888000" y="60199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FILE5707"/>
          <p:cNvPicPr/>
          <p:nvPr/>
        </p:nvPicPr>
        <p:blipFill>
          <a:blip r:embed="rId4"/>
          <a:stretch/>
        </p:blipFill>
        <p:spPr>
          <a:xfrm rot="2011800">
            <a:off x="7009920" y="144756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2245 C 0.01284 -0.02708 0.00816 -0.02685 0.01406 -0.02685 L 0.61666 -0.27106 E">
                                      <p:cBhvr>
                                        <p:cTn id="990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1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0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7238880" y="1752480"/>
            <a:ext cx="1295640" cy="1067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6666ff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61200" y="319104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Times New Roman"/>
              </a:rPr>
              <a:t>Из геометрически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Times New Roman"/>
              </a:rPr>
              <a:t>создать скафан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1050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ILE5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914400" y="762120"/>
            <a:ext cx="762012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в космо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5701"/>
          <p:cNvPicPr/>
          <p:nvPr/>
        </p:nvPicPr>
        <p:blipFill>
          <a:blip r:embed="rId2"/>
          <a:stretch/>
        </p:blipFill>
        <p:spPr>
          <a:xfrm rot="20358000">
            <a:off x="5714640" y="7617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259092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3048120" y="11430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2895480" y="2362320"/>
            <a:ext cx="1676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 rot="18882600">
            <a:off x="3126960" y="205380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 rot="5400000">
            <a:off x="3809520" y="3352680"/>
            <a:ext cx="1676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 rot="16200000">
            <a:off x="1904760" y="3352320"/>
            <a:ext cx="1676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 rot="13440600">
            <a:off x="2285640" y="2895120"/>
            <a:ext cx="1154160" cy="11988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0"/>
          <p:cNvSpPr/>
          <p:nvPr/>
        </p:nvSpPr>
        <p:spPr>
          <a:xfrm rot="8064600">
            <a:off x="3126600" y="373032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1"/>
          <p:cNvSpPr/>
          <p:nvPr/>
        </p:nvSpPr>
        <p:spPr>
          <a:xfrm rot="2646600">
            <a:off x="3962160" y="289548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2"/>
          <p:cNvSpPr/>
          <p:nvPr/>
        </p:nvSpPr>
        <p:spPr>
          <a:xfrm>
            <a:off x="4572000" y="2362320"/>
            <a:ext cx="228600" cy="30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3"/>
          <p:cNvSpPr/>
          <p:nvPr/>
        </p:nvSpPr>
        <p:spPr>
          <a:xfrm flipH="1" rot="15937200">
            <a:off x="2590560" y="4343400"/>
            <a:ext cx="304920" cy="30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4"/>
          <p:cNvSpPr/>
          <p:nvPr/>
        </p:nvSpPr>
        <p:spPr>
          <a:xfrm flipV="1" rot="10657200">
            <a:off x="2590560" y="2361960"/>
            <a:ext cx="304560" cy="301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 flipV="1">
            <a:off x="4495680" y="4343400"/>
            <a:ext cx="304920" cy="457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 rot="16200000">
            <a:off x="2209680" y="5028840"/>
            <a:ext cx="2209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 rot="5400000">
            <a:off x="3048120" y="5029200"/>
            <a:ext cx="2209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 rot="10800000">
            <a:off x="2209320" y="6552720"/>
            <a:ext cx="2971800" cy="304920"/>
          </a:xfrm>
          <a:custGeom>
            <a:avLst/>
            <a:gdLst>
              <a:gd name="textAreaLeft" fmla="*/ 619200 w 2971800"/>
              <a:gd name="textAreaRight" fmla="*/ 2352960 w 297180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915400" y="30481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Oval 55"/>
          <p:cNvSpPr/>
          <p:nvPr/>
        </p:nvSpPr>
        <p:spPr>
          <a:xfrm>
            <a:off x="6629400" y="1447920"/>
            <a:ext cx="1676520" cy="14475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6666ff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048120" y="1523880"/>
          <a:ext cx="1295280" cy="5176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Line 72"/>
          <p:cNvSpPr/>
          <p:nvPr/>
        </p:nvSpPr>
        <p:spPr>
          <a:xfrm>
            <a:off x="30481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3581280" y="2286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Непт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Neptune"/>
          <p:cNvPicPr/>
          <p:nvPr/>
        </p:nvPicPr>
        <p:blipFill>
          <a:blip r:embed="rId4"/>
          <a:stretch/>
        </p:blipFill>
        <p:spPr>
          <a:xfrm rot="20325600">
            <a:off x="7010280" y="159984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380880" y="4572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Открылась бездна звёзд пол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ёздам числа нет, бездне – дна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2" descr="Ломоносов"/>
          <p:cNvPicPr/>
          <p:nvPr/>
        </p:nvPicPr>
        <p:blipFill>
          <a:blip r:embed="rId5"/>
          <a:stretch/>
        </p:blipFill>
        <p:spPr>
          <a:xfrm>
            <a:off x="5410080" y="914400"/>
            <a:ext cx="3505320" cy="54864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4920" y="914400"/>
            <a:ext cx="50292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хаил Васильевич Ломоносов –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великий русский ученый-энциклопед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62 году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Ломоносов создал телескоп-рефлектор с наклонным зеркалом, дававший яркое изображение объекта. Проводя астрономические наблюдения, он обнаружил, что Венера сходна с Землей, она имеет атмосферу, но более плотную, чем зем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омоносов интересовался природой комет, планет и других небесных тел. Он решал задачу о "силе видимого блеска звезд", разработав для этой цели специальный при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омоносов утверждал, что Вселенная бесконечна, что как наша Земля, так и все существующее в природе непрерывно меняется и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5790960" y="4572000"/>
            <a:ext cx="24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асил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0.01284 -0.00486 0.00816 -0.00463 0.01406 -0.00463 L 0.61666 -0.24884 E">
                                      <p:cBhvr>
                                        <p:cTn id="1070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Плу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7620120" y="1523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962520" y="335268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ставить слова, используя буквы данного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1118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FILE5698"/>
          <p:cNvPicPr/>
          <p:nvPr/>
        </p:nvPicPr>
        <p:blipFill>
          <a:blip r:embed="rId2"/>
          <a:stretch/>
        </p:blipFill>
        <p:spPr>
          <a:xfrm>
            <a:off x="990720" y="1143000"/>
            <a:ext cx="6705360" cy="5715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FILE6138"/>
          <p:cNvPicPr/>
          <p:nvPr/>
        </p:nvPicPr>
        <p:blipFill>
          <a:blip r:embed="rId3"/>
          <a:stretch/>
        </p:blipFill>
        <p:spPr>
          <a:xfrm>
            <a:off x="3124080" y="24382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7"/>
          <p:cNvSpPr txBox="1"/>
          <p:nvPr/>
        </p:nvSpPr>
        <p:spPr>
          <a:xfrm>
            <a:off x="2057400" y="487692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82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Мудрец"/>
          <p:cNvPicPr/>
          <p:nvPr/>
        </p:nvPicPr>
        <p:blipFill>
          <a:blip r:embed="rId1"/>
          <a:stretch/>
        </p:blipFill>
        <p:spPr>
          <a:xfrm>
            <a:off x="838080" y="259092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609480" y="60948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едставления о форме Земли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708360" y="1773360"/>
            <a:ext cx="478800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392720" cy="33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19"/>
          <p:cNvPicPr/>
          <p:nvPr/>
        </p:nvPicPr>
        <p:blipFill>
          <a:blip r:embed="rId4"/>
          <a:stretch/>
        </p:blipFill>
        <p:spPr>
          <a:xfrm>
            <a:off x="3780000" y="2205000"/>
            <a:ext cx="4819320" cy="32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84360" y="4581360"/>
            <a:ext cx="502920" cy="5050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93">
                <a:moveTo>
                  <a:pt x="3600" y="0"/>
                </a:moveTo>
                <a:arcTo wR="3600" hR="3600" stAng="16200000" swAng="-5400000"/>
                <a:lnTo>
                  <a:pt x="0" y="18093"/>
                </a:lnTo>
                <a:arcTo wR="3600" hR="3600" stAng="10800000" swAng="-5400000"/>
                <a:lnTo>
                  <a:pt x="18000" y="21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04920" y="228600"/>
            <a:ext cx="8569080" cy="63374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195640" y="357336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70036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195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195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18728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692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700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4211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692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3203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5364000" y="4653000"/>
            <a:ext cx="3384720" cy="1800360"/>
          </a:xfrm>
          <a:prstGeom prst="wedgeRoundRectCallout">
            <a:avLst>
              <a:gd name="adj1" fmla="val -14305"/>
              <a:gd name="adj2" fmla="val -26541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808080"/>
                </a:solidFill>
                <a:latin typeface="Arial"/>
              </a:rPr>
              <a:t>1. Направление, сторона света,   где вечером  заходит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2700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203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2195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4500720" y="1197000"/>
            <a:ext cx="43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3203640" y="620640"/>
            <a:ext cx="54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370836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4211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320364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3708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4716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2700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6"/>
          <p:cNvSpPr/>
          <p:nvPr/>
        </p:nvSpPr>
        <p:spPr>
          <a:xfrm>
            <a:off x="3203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4211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2195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/>
          <p:cNvSpPr/>
          <p:nvPr/>
        </p:nvSpPr>
        <p:spPr>
          <a:xfrm>
            <a:off x="4211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3708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1"/>
          <p:cNvSpPr/>
          <p:nvPr/>
        </p:nvSpPr>
        <p:spPr>
          <a:xfrm>
            <a:off x="2700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118728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1692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2195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3203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>
            <a:off x="118728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684360" y="3068640"/>
            <a:ext cx="502920" cy="504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77">
                <a:moveTo>
                  <a:pt x="3611" y="0"/>
                </a:moveTo>
                <a:arcTo wR="3611" hR="3611" stAng="16200000" swAng="-5400000"/>
                <a:lnTo>
                  <a:pt x="0" y="18066"/>
                </a:lnTo>
                <a:arcTo wR="3611" hR="3611" stAng="10800000" swAng="-5400000"/>
                <a:lnTo>
                  <a:pt x="17989" y="21677"/>
                </a:lnTo>
                <a:arcTo wR="3611" hR="3611" stAng="5400000" swAng="-5400000"/>
                <a:lnTo>
                  <a:pt x="21600" y="3611"/>
                </a:lnTo>
                <a:arcTo wR="3611" hR="3611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8"/>
          <p:cNvSpPr/>
          <p:nvPr/>
        </p:nvSpPr>
        <p:spPr>
          <a:xfrm>
            <a:off x="3708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9"/>
          <p:cNvSpPr/>
          <p:nvPr/>
        </p:nvSpPr>
        <p:spPr>
          <a:xfrm>
            <a:off x="5364000" y="4653000"/>
            <a:ext cx="3384720" cy="1873080"/>
          </a:xfrm>
          <a:prstGeom prst="wedgeRoundRectCallout">
            <a:avLst>
              <a:gd name="adj1" fmla="val -48967"/>
              <a:gd name="adj2" fmla="val -29152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2. Измерение времени, основанное на периодическом повторении явлени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0" descr="Закат 1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2405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1"/>
          <p:cNvSpPr/>
          <p:nvPr/>
        </p:nvSpPr>
        <p:spPr>
          <a:xfrm>
            <a:off x="1907640" y="256536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394560" y="314172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3"/>
          <p:cNvSpPr/>
          <p:nvPr/>
        </p:nvSpPr>
        <p:spPr>
          <a:xfrm>
            <a:off x="899640" y="364500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1907640" y="414972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5"/>
          <p:cNvSpPr/>
          <p:nvPr/>
        </p:nvSpPr>
        <p:spPr>
          <a:xfrm>
            <a:off x="394560" y="465300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6" descr="Календарь"/>
          <p:cNvPicPr/>
          <p:nvPr/>
        </p:nvPicPr>
        <p:blipFill>
          <a:blip r:embed="rId2"/>
          <a:stretch/>
        </p:blipFill>
        <p:spPr>
          <a:xfrm>
            <a:off x="5364000" y="2133720"/>
            <a:ext cx="3384720" cy="2401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7"/>
          <p:cNvSpPr/>
          <p:nvPr/>
        </p:nvSpPr>
        <p:spPr>
          <a:xfrm>
            <a:off x="4716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8"/>
          <p:cNvSpPr/>
          <p:nvPr/>
        </p:nvSpPr>
        <p:spPr>
          <a:xfrm>
            <a:off x="3708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9"/>
          <p:cNvSpPr/>
          <p:nvPr/>
        </p:nvSpPr>
        <p:spPr>
          <a:xfrm>
            <a:off x="5364000" y="4653000"/>
            <a:ext cx="3384720" cy="1873080"/>
          </a:xfrm>
          <a:prstGeom prst="wedgeRoundRectCallout">
            <a:avLst>
              <a:gd name="adj1" fmla="val -27203"/>
              <a:gd name="adj2" fmla="val -53050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3. Прибор для определения направления на север и другие стороны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0"/>
          <p:cNvSpPr/>
          <p:nvPr/>
        </p:nvSpPr>
        <p:spPr>
          <a:xfrm>
            <a:off x="5364000" y="4581360"/>
            <a:ext cx="3384720" cy="2016360"/>
          </a:xfrm>
          <a:prstGeom prst="wedgeRoundRectCallout">
            <a:avLst>
              <a:gd name="adj1" fmla="val -16884"/>
              <a:gd name="adj2" fmla="val -58898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4. Разновидность календаря, основанная на периодической смене полнолуний и новолу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1" descr="Компас"/>
          <p:cNvPicPr/>
          <p:nvPr/>
        </p:nvPicPr>
        <p:blipFill>
          <a:blip r:embed="rId3"/>
          <a:stretch/>
        </p:blipFill>
        <p:spPr>
          <a:xfrm>
            <a:off x="5364000" y="1989000"/>
            <a:ext cx="3384720" cy="2530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luna"/>
          <p:cNvPicPr/>
          <p:nvPr/>
        </p:nvPicPr>
        <p:blipFill>
          <a:blip r:embed="rId4"/>
          <a:stretch/>
        </p:blipFill>
        <p:spPr>
          <a:xfrm>
            <a:off x="5508720" y="1916280"/>
            <a:ext cx="3024000" cy="2322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3"/>
          <p:cNvSpPr/>
          <p:nvPr/>
        </p:nvSpPr>
        <p:spPr>
          <a:xfrm>
            <a:off x="5364000" y="5300640"/>
            <a:ext cx="3384720" cy="1297080"/>
          </a:xfrm>
          <a:prstGeom prst="wedgeRoundRectCallout">
            <a:avLst>
              <a:gd name="adj1" fmla="val -14824"/>
              <a:gd name="adj2" fmla="val -79009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5. Звезда, которая ночью указывает направление на сев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4" descr="Полярная"/>
          <p:cNvPicPr/>
          <p:nvPr/>
        </p:nvPicPr>
        <p:blipFill>
          <a:blip r:embed="rId5"/>
          <a:stretch/>
        </p:blipFill>
        <p:spPr>
          <a:xfrm>
            <a:off x="5292720" y="2060640"/>
            <a:ext cx="3495600" cy="25048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5"/>
          <p:cNvSpPr/>
          <p:nvPr/>
        </p:nvSpPr>
        <p:spPr>
          <a:xfrm>
            <a:off x="2195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6"/>
          <p:cNvSpPr/>
          <p:nvPr/>
        </p:nvSpPr>
        <p:spPr>
          <a:xfrm>
            <a:off x="2195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7"/>
          <p:cNvSpPr/>
          <p:nvPr/>
        </p:nvSpPr>
        <p:spPr>
          <a:xfrm>
            <a:off x="219564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8"/>
          <p:cNvSpPr/>
          <p:nvPr/>
        </p:nvSpPr>
        <p:spPr>
          <a:xfrm>
            <a:off x="2195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9" descr="Земля"/>
          <p:cNvPicPr/>
          <p:nvPr/>
        </p:nvPicPr>
        <p:blipFill>
          <a:blip r:embed="rId6"/>
          <a:stretch/>
        </p:blipFill>
        <p:spPr>
          <a:xfrm>
            <a:off x="5292720" y="2492280"/>
            <a:ext cx="3382920" cy="2654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0"/>
          <p:cNvSpPr txBox="1"/>
          <p:nvPr/>
        </p:nvSpPr>
        <p:spPr>
          <a:xfrm>
            <a:off x="685800" y="457200"/>
            <a:ext cx="77724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тгадайте кроссворд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ILE5697"/>
          <p:cNvPicPr/>
          <p:nvPr/>
        </p:nvPicPr>
        <p:blipFill>
          <a:blip r:embed="rId4"/>
          <a:stretch/>
        </p:blipFill>
        <p:spPr>
          <a:xfrm>
            <a:off x="7238880" y="16002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ILE5701"/>
          <p:cNvPicPr/>
          <p:nvPr/>
        </p:nvPicPr>
        <p:blipFill>
          <a:blip r:embed="rId5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200400" y="22860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114800" y="411480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Распределить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по порядку, вращ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вокруг Солнца  вме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с Землёй, начи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с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262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ILE6138"/>
          <p:cNvPicPr/>
          <p:nvPr/>
        </p:nvPicPr>
        <p:blipFill>
          <a:blip r:embed="rId3"/>
          <a:stretch/>
        </p:blipFill>
        <p:spPr>
          <a:xfrm>
            <a:off x="457200" y="3352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FILE5697"/>
          <p:cNvPicPr/>
          <p:nvPr/>
        </p:nvPicPr>
        <p:blipFill>
          <a:blip r:embed="rId4"/>
          <a:stretch/>
        </p:blipFill>
        <p:spPr>
          <a:xfrm>
            <a:off x="304920" y="59436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Oval 9"/>
          <p:cNvSpPr/>
          <p:nvPr/>
        </p:nvSpPr>
        <p:spPr>
          <a:xfrm>
            <a:off x="7620120" y="1523880"/>
            <a:ext cx="761760" cy="6098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ен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4654440" y="1522080"/>
            <a:ext cx="82548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FILE5689"/>
          <p:cNvPicPr/>
          <p:nvPr/>
        </p:nvPicPr>
        <p:blipFill>
          <a:blip r:embed="rId6"/>
          <a:stretch/>
        </p:blipFill>
        <p:spPr>
          <a:xfrm>
            <a:off x="685800" y="5335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FILE5707"/>
          <p:cNvPicPr/>
          <p:nvPr/>
        </p:nvPicPr>
        <p:blipFill>
          <a:blip r:embed="rId7"/>
          <a:stretch/>
        </p:blipFill>
        <p:spPr>
          <a:xfrm rot="2011800">
            <a:off x="6019560" y="4419720"/>
            <a:ext cx="281916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Neptune"/>
          <p:cNvPicPr/>
          <p:nvPr/>
        </p:nvPicPr>
        <p:blipFill>
          <a:blip r:embed="rId8"/>
          <a:stretch/>
        </p:blipFill>
        <p:spPr>
          <a:xfrm>
            <a:off x="7467480" y="30481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31" name="Oval 14"/>
          <p:cNvSpPr/>
          <p:nvPr/>
        </p:nvSpPr>
        <p:spPr>
          <a:xfrm>
            <a:off x="2666880" y="685800"/>
            <a:ext cx="685800" cy="6094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009999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276720" y="6491160"/>
            <a:ext cx="54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4572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0" y="64008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133720" y="541008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askerville Old Face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895480" y="4724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114800" y="38862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askerville Old Face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5813280" y="3192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7337520" y="14400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askerville Old Face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751E-006 C -0.00469 0.00277 -0.01094 0.0037 -0.01389 0.00925 C -0.01858 0.01827 -0.01545 0.01526 -0.02275 0.0185 C -0.03056 0.02936 -0.0408 0.0326 -0.04913 0.04185 C -0.05104 0.04393 -0.05226 0.04717 -0.05434 0.04879 C -0.05868 0.05272 -0.06841 0.05827 -0.06841 0.05827 C -0.07379 0.06913 -0.08299 0.07283 -0.08941 0.08162 C -0.09167 0.08486 -0.09358 0.08879 -0.09636 0.09087 C -0.09948 0.09364 -0.10695 0.09572 -0.10695 0.09572 C -0.11233 0.10636 -0.12205 0.10936 -0.13143 0.11214 C -0.13386 0.11376 -0.13611 0.11538 -0.13854 0.11676 C -0.14202 0.11861 -0.14913 0.12139 -0.14913 0.12139 C -0.15486 0.12647 -0.16025 0.12763 -0.16667 0.13064 C -0.17865 0.1415 -0.17309 0.1385 -0.18247 0.1422 C -0.1941 0.15283 -0.17952 0.14127 -0.19809 0.14936 C -0.20018 0.15006 -0.20156 0.15283 -0.20347 0.15399 C -0.21077 0.15815 -0.22031 0.16208 -0.22795 0.16578 C -0.2375 0.17526 -0.24861 0.17803 -0.25955 0.18428 C -0.26198 0.1859 -0.26441 0.18751 -0.26667 0.18913 C -0.26841 0.19029 -0.26997 0.1926 -0.27188 0.19376 C -0.27691 0.19676 -0.28264 0.19746 -0.28768 0.20093 C -0.29688 0.20717 -0.30591 0.21526 -0.3158 0.21942 C -0.32448 0.23145 -0.31216 0.21595 -0.32795 0.22659 C -0.34879 0.24023 -0.31771 0.22844 -0.34028 0.23561 C -0.34966 0.24416 -0.35382 0.24856 -0.36476 0.25225 C -0.36841 0.25688 -0.37639 0.26751 -0.38056 0.27098 C -0.38316 0.2733 -0.38663 0.27353 -0.38941 0.27538 C -0.39236 0.27746 -0.39531 0.28 -0.39809 0.28254 C -0.40608 0.29017 -0.41077 0.29896 -0.42101 0.30358 C -0.42656 0.31491 -0.42795 0.30867 -0.43334 0.31769 C -0.43993 0.32832 -0.45087 0.3422 -0.46129 0.34567 C -0.47188 0.35977 -0.46615 0.35607 -0.47709 0.35977 C -0.47882 0.36139 -0.48091 0.36231 -0.48247 0.36416 C -0.48403 0.36624 -0.48438 0.36948 -0.48594 0.37133 C -0.48733 0.37272 -0.48941 0.37249 -0.49115 0.37364 C -0.49584 0.37642 -0.50521 0.38312 -0.50521 0.38312 C -0.51077 0.39052 -0.51545 0.39376 -0.52275 0.39699 C -0.53472 0.40786 -0.5342 0.40532 -0.54722 0.4111 C -0.55139 0.41503 -0.55469 0.42081 -0.55955 0.42289 C -0.5665 0.4259 -0.57275 0.42913 -0.57882 0.43445 C -0.58004 0.43676 -0.58056 0.43977 -0.58247 0.44139 C -0.58785 0.44555 -0.6 0.45087 -0.6 0.45087 C -0.6066 0.45942 -0.61163 0.46659 -0.62101 0.4696 C -0.62396 0.47168 -0.62691 0.47399 -0.62969 0.47653 C -0.63108 0.47792 -0.63195 0.47954 -0.63334 0.48116 C -0.63663 0.48462 -0.64375 0.49064 -0.64375 0.49064 C -0.65052 0.50382 -0.64288 0.49249 -0.65434 0.49965 C -0.66216 0.50497 -0.66528 0.51491 -0.67361 0.51861 C -0.67969 0.52671 -0.68334 0.52578 -0.68941 0.53272 C -0.69427 0.53827 -0.69722 0.5452 -0.70174 0.55098 C -0.70486 0.55538 -0.71025 0.56116 -0.71025 0.56763 E">
                                      <p:cBhvr>
                                        <p:cTn id="297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13873E-006 C 0.00659 0.01318 0.01666 0.03006 0.02795 0.03514 C 0.03298 0.05526 0.02586 0.03029 0.03333 0.0467 C 0.03437 0.04879 0.0342 0.05156 0.03507 0.05387 C 0.0401 0.06589 0.04618 0.07422 0.0526 0.08416 C 0.05399 0.08624 0.05451 0.08925 0.05607 0.0911 C 0.05746 0.09272 0.05954 0.09272 0.06128 0.09341 C 0.06961 0.10451 0.06527 0.1015 0.07361 0.1052 C 0.08854 0.12509 0.10295 0.11815 0.121 0.12855 C 0.13888 0.13873 0.11458 0.1274 0.13854 0.1378 C 0.14027 0.1385 0.14375 0.14011 0.14375 0.14011 C 0.14947 0.1452 0.15382 0.15144 0.15954 0.15653 C 0.1618 0.16555 0.16406 0.16786 0.17013 0.17295 C 0.17204 0.21572 0.17187 0.19954 0.17187 0.22196 E">
                                      <p:cBhvr>
                                        <p:cTn id="30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68786E-006 C -0.00295 0.00994 -0.00782 0.01803 -0.01042 0.02797 C -0.01441 0.04277 -0.01407 0.0497 -0.01754 0.06543 C -0.02188 0.08577 -0.02691 0.10612 -0.0316 0.12624 C -0.03698 0.14936 -0.03959 0.1697 -0.05261 0.18705 C -0.05764 0.20693 -0.06598 0.21548 -0.07535 0.23144 C -0.08438 0.2467 -0.08247 0.24462 -0.09289 0.2571 C -0.09775 0.26311 -0.10105 0.2719 -0.10695 0.27583 C -0.11302 0.27999 -0.11875 0.28485 -0.12448 0.2897 C -0.13351 0.29733 -0.13664 0.3015 -0.14723 0.30612 C -0.15365 0.30889 -0.1566 0.31699 -0.16302 0.32022 C -0.17084 0.3304 -0.17795 0.3408 -0.1842 0.35283 C -0.18646 0.36207 -0.18594 0.35722 -0.18594 0.36693 E">
                                      <p:cBhvr>
                                        <p:cTn id="31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95376E-006 C 0.00174 0.01688 0.00313 0.03191 0.01216 0.0444 C 0.01477 0.05688 0.0224 0.06613 0.03161 0.07006 C 0.03334 0.07238 0.03473 0.07515 0.03681 0.077 C 0.0389 0.07908 0.04185 0.07931 0.04376 0.08162 C 0.04549 0.08347 0.04567 0.08694 0.0474 0.08879 C 0.0514 0.09319 0.05713 0.09388 0.06129 0.09804 C 0.06754 0.10405 0.07119 0.10868 0.07883 0.11215 C 0.07952 0.11446 0.07935 0.11769 0.08074 0.11908 C 0.0849 0.12324 0.09098 0.12347 0.09463 0.12833 C 0.10122 0.13712 0.09758 0.13434 0.10522 0.13781 C 0.11754 0.15399 0.11095 0.14983 0.12275 0.15423 C 0.13074 0.17018 0.13786 0.17827 0.15088 0.18683 C 0.1514 0.18914 0.15122 0.19215 0.15261 0.19376 C 0.15452 0.19584 0.1573 0.19515 0.15956 0.19608 C 0.16494 0.19816 0.17015 0.20093 0.17536 0.20324 C 0.17744 0.20417 0.17865 0.20717 0.18074 0.20787 C 0.18577 0.20949 0.19115 0.20949 0.19636 0.21018 C 0.20522 0.21295 0.21407 0.21434 0.22275 0.21712 C 0.22848 0.21897 0.24029 0.22197 0.24029 0.22197 C 0.25244 0.23284 0.23699 0.22035 0.25435 0.22891 C 0.25626 0.22983 0.25765 0.23238 0.25956 0.23353 C 0.26303 0.23561 0.26668 0.23654 0.27015 0.23816 C 0.27483 0.24024 0.28421 0.24301 0.28421 0.24301 C 0.29185 0.25319 0.30018 0.25319 0.30869 0.26405 C 0.31424 0.27122 0.32015 0.27631 0.32622 0.28255 C 0.33178 0.29388 0.33299 0.28787 0.33855 0.29897 C 0.34115 0.317 0.34237 0.31238 0.35608 0.31538 C 0.35782 0.317 0.35938 0.31885 0.36129 0.32001 C 0.36303 0.32116 0.36668 0.32232 0.36668 0.32232 E">
                                      <p:cBhvr>
                                        <p:cTn id="32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104E-006 C -0.00295 -0.0178 -0.01181 -0.05086 -0.02292 -0.06312 C -0.02917 -0.07005 -0.03698 -0.07398 -0.04393 -0.0793 C -0.0507 -0.08439 -0.05434 -0.09109 -0.06146 -0.09572 C -0.06441 -0.1015 -0.06823 -0.10959 -0.07205 -0.11445 C -0.0757 -0.11907 -0.07969 -0.12069 -0.08247 -0.12624 C -0.08646 -0.13433 -0.0915 -0.14312 -0.0948 -0.1519 C -0.09566 -0.15398 -0.09532 -0.15699 -0.09653 -0.15884 C -0.09844 -0.16185 -0.10122 -0.16346 -0.10348 -0.16578 C -0.1125 -0.18959 -0.10764 -0.17872 -0.11754 -0.19861 C -0.12327 -0.2104 -0.12483 -0.22497 -0.12813 -0.23838 C -0.1316 -0.25271 -0.13507 -0.28277 -0.13507 -0.28277 C -0.13403 -0.31838 -0.1316 -0.35237 -0.1316 -0.38774 L -0.12986 -0.36901 E">
                                      <p:cBhvr>
                                        <p:cTn id="33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333 C -0.00625 -0.02104 -0.000520000000000001 -0.00879 0.00781 0.00162 C 0.00989 0.01017 0.01284 0.01364 0.01701 0.02034 C 0.01857 0.02289 0.01892 0.02589 0.02066 0.02774 C 0.02378 0.03098 0.03489 0.03514 0.03923 0.03699 C 0.04392 0.04601 0.04965 0.04693 0.05764 0.0511 C 0.06146 0.05295 0.06892 0.05572 0.06892 0.05595 C 0.07882 0.06404 0.08906 0.06335 0.10017 0.06728 C 0.12396 0.07584 0.14965 0.07884 0.1743 0.08393 C 0.20955 0.07491 0.23489 0.08277 0.26684 0.09572 C 0.2743 0.10196 0.28211 0.10451 0.2908 0.10728 C 0.30208 0.11699 0.31475 0.12277 0.32604 0.13318 C 0.33993 0.14566 0.35243 0.16092 0.36666 0.17295 C 0.37517 0.18867 0.39722 0.18497 0.41111 0.18705 C 0.41666 0.18543 0.42239 0.18497 0.42777 0.18243 C 0.42934 0.18173 0.43003 0.17896 0.43142 0.17757 C 0.4401 0.16925 0.45503 0.1519 0.46666 0.1519 E">
                                      <p:cBhvr>
                                        <p:cTn id="3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49133E-006 C 0.00174 -0.00948 0.00174 -0.0185 0.00695 -0.02567 C 0.00903 -0.03792 0.01285 -0.05064 0.01406 -0.0629 C 0.01528 -0.07376 0.01754 -0.09573 0.01754 -0.09573 C 0.01632 -0.11284 0.01597 -0.12995 0.01406 -0.14706 C 0.01354 -0.15122 0.01077 -0.15469 0.01059 -0.15885 C 0.00938 -0.21157 0.01597 -0.26313 0.01927 -0.31538 C 0.01806 -0.31839 0.01788 -0.32255 0.0158 -0.32463 C 0.01146 -0.32902 -0.00278 -0.33295 -0.00868 -0.33642 C -0.01614 -0.34058 -0.02222 -0.34636 -0.02986 -0.35029 C -0.03385 -0.35584 -0.03455 -0.35353 -0.0316 -0.35746 E">
                                      <p:cBhvr>
                                        <p:cTn id="34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FILE6138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581280" y="2286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Вен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7467480" y="1600200"/>
            <a:ext cx="1371600" cy="12193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33520" y="838080"/>
            <a:ext cx="43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веты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-91440" y="1295280"/>
            <a:ext cx="60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Baskerville Old Face"/>
              </a:rPr>
              <a:t>Кто является основоположни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Baskerville Old Face"/>
              </a:rPr>
              <a:t>космонавтики?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277560" y="2199600"/>
            <a:ext cx="4264200" cy="4466880"/>
            <a:chOff x="277560" y="2199600"/>
            <a:chExt cx="4264200" cy="4466880"/>
          </a:xfrm>
        </p:grpSpPr>
        <p:sp>
          <p:nvSpPr>
            <p:cNvPr id="150" name="Rectangle 12"/>
            <p:cNvSpPr/>
            <p:nvPr/>
          </p:nvSpPr>
          <p:spPr>
            <a:xfrm rot="21126600">
              <a:off x="533520" y="2438280"/>
              <a:ext cx="3751920" cy="39895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Циолковский"/>
            <p:cNvPicPr/>
            <p:nvPr/>
          </p:nvPicPr>
          <p:blipFill>
            <a:blip r:embed="rId5"/>
            <a:stretch/>
          </p:blipFill>
          <p:spPr>
            <a:xfrm>
              <a:off x="533520" y="2438280"/>
              <a:ext cx="376200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 Box 14"/>
          <p:cNvSpPr/>
          <p:nvPr/>
        </p:nvSpPr>
        <p:spPr>
          <a:xfrm>
            <a:off x="533520" y="594360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.Э.Циол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800600" y="51814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то является перв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изобретателем совет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осмических кора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5288400" y="691920"/>
            <a:ext cx="3727440" cy="4513320"/>
            <a:chOff x="5288400" y="691920"/>
            <a:chExt cx="3727440" cy="4513320"/>
          </a:xfrm>
        </p:grpSpPr>
        <p:sp>
          <p:nvSpPr>
            <p:cNvPr id="155" name="Rectangle 19"/>
            <p:cNvSpPr/>
            <p:nvPr/>
          </p:nvSpPr>
          <p:spPr>
            <a:xfrm rot="319200">
              <a:off x="5476680" y="838080"/>
              <a:ext cx="3350520" cy="422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0" descr="Королев"/>
            <p:cNvPicPr/>
            <p:nvPr/>
          </p:nvPicPr>
          <p:blipFill>
            <a:blip r:embed="rId6"/>
            <a:stretch/>
          </p:blipFill>
          <p:spPr>
            <a:xfrm rot="21463800">
              <a:off x="5661360" y="925200"/>
              <a:ext cx="3051000" cy="40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1"/>
          <p:cNvSpPr/>
          <p:nvPr/>
        </p:nvSpPr>
        <p:spPr>
          <a:xfrm>
            <a:off x="5715000" y="43434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.П.Коро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357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FILE5698"/>
          <p:cNvPicPr/>
          <p:nvPr/>
        </p:nvPicPr>
        <p:blipFill>
          <a:blip r:embed="rId2"/>
          <a:stretch/>
        </p:blipFill>
        <p:spPr>
          <a:xfrm>
            <a:off x="1066680" y="114300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огда был запущен первый искусственный спутник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FILE6138"/>
          <p:cNvPicPr/>
          <p:nvPr/>
        </p:nvPicPr>
        <p:blipFill>
          <a:blip r:embed="rId3"/>
          <a:stretch/>
        </p:blipFill>
        <p:spPr>
          <a:xfrm>
            <a:off x="3124080" y="24382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86200" y="5562720"/>
            <a:ext cx="44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октября 1957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6576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Ма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6705720" y="1828800"/>
            <a:ext cx="1966680" cy="1965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4574160" y="3733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ы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19112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Укажите дату первого полета собаки на кораблях-спут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лайка"/>
          <p:cNvPicPr/>
          <p:nvPr/>
        </p:nvPicPr>
        <p:blipFill>
          <a:blip r:embed="rId6"/>
          <a:stretch/>
        </p:blipFill>
        <p:spPr>
          <a:xfrm>
            <a:off x="22860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4"/>
          <p:cNvSpPr/>
          <p:nvPr/>
        </p:nvSpPr>
        <p:spPr>
          <a:xfrm>
            <a:off x="30492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мятник собаке Лай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ившей полет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пут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ноября 195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4343400" y="601992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 ноября 195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414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3-30T12:55:0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