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1.gif" ContentType="image/gif"/>
  <Override PartName="/ppt/media/image3.png" ContentType="image/png"/>
  <Override PartName="/ppt/media/image17.jpeg" ContentType="image/jpeg"/>
  <Override PartName="/ppt/media/image23.gif" ContentType="image/gif"/>
  <Override PartName="/ppt/media/image12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gif" ContentType="image/gif"/>
  <Override PartName="/ppt/media/image22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2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49E-58B5-41C7-9863-7B7BD25A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907-E560-4B5D-B86F-7B454DD5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658-4202-41F8-9F02-937486DC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70A-4D79-4F69-8060-D0E5606B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53B-21B6-43CE-902E-8C767CF6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3C4-6C70-4A64-9239-6A40A111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B56-C36C-4B22-9256-D7AA153F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932-F9A6-401D-AE11-B0827A52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966-3686-4A5C-AA93-AFC15AA3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268-2283-4F04-BB31-B86F258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0F1-5F40-4789-9717-4962489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D85-D1DC-4156-ACC5-781BA71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655-7662-48F9-8E45-882BA44A71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7.xml"/><Relationship Id="rId10" Type="http://schemas.openxmlformats.org/officeDocument/2006/relationships/slide" Target="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2;&#1072;&#1084;&#1072;/&#1048;&#1083;&#1083;&#1102;&#1089;&#1090;&#1088;&#1072;&#1090;&#1080;&#1074;&#1085;&#1099;&#1081;%20&#1084;&#1072;&#1090;&#1077;&#1088;&#1080;&#1072;&#1083;/&#1040;&#1085;&#1080;&#1084;&#1072;&#1096;&#1082;&#1080;/&#1050;&#1086;&#1089;&#1084;&#1086;&#1089;/FILE5689.gif" TargetMode="Externa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6.gif"/><Relationship Id="rId5" Type="http://schemas.openxmlformats.org/officeDocument/2006/relationships/image" Target="../media/image17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8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ILE56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FILE5698"/>
          <p:cNvPicPr/>
          <p:nvPr/>
        </p:nvPicPr>
        <p:blipFill>
          <a:blip r:embed="rId2"/>
          <a:stretch/>
        </p:blipFill>
        <p:spPr>
          <a:xfrm>
            <a:off x="1143000" y="3808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FILE6138"/>
          <p:cNvPicPr/>
          <p:nvPr/>
        </p:nvPicPr>
        <p:blipFill>
          <a:blip r:embed="rId3"/>
          <a:stretch/>
        </p:blipFill>
        <p:spPr>
          <a:xfrm>
            <a:off x="3048120" y="16765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304920" y="3049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Укажите дату первого по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космического корабля на косм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4419720" y="1828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а 196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228600" y="160020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подопытных животных встречаются свои гер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августе 1960 года на втором советском космическом корабле-спутнике отправились в полет собаки-пассажиры Белка и Стрелка, которые предварительно прошли продолжительные трени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 витков на орбите вокруг планеты корабль был переведен на траекторию спуска на поверхность Земли, а его пассажиры с высоты 7-8 тысяч километров благополучно катапультированы. Обе собаки чувствовали себя прекрасно и в последующем продолжали верно трудиться на благо космической медиц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118"/>
          <p:cNvPicPr/>
          <p:nvPr/>
        </p:nvPicPr>
        <p:blipFill>
          <a:blip r:embed="rId4"/>
          <a:stretch/>
        </p:blipFill>
        <p:spPr>
          <a:xfrm>
            <a:off x="4572000" y="259092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2"/>
          <p:cNvSpPr/>
          <p:nvPr/>
        </p:nvSpPr>
        <p:spPr>
          <a:xfrm>
            <a:off x="5028480" y="6019920"/>
            <a:ext cx="33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елка и Стр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FILE5698"/>
          <p:cNvPicPr/>
          <p:nvPr/>
        </p:nvPicPr>
        <p:blipFill>
          <a:blip r:embed="rId2"/>
          <a:stretch/>
        </p:blipFill>
        <p:spPr>
          <a:xfrm>
            <a:off x="1143000" y="3808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Укажите дату первого полета человека вокруг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FILE6138"/>
          <p:cNvPicPr/>
          <p:nvPr/>
        </p:nvPicPr>
        <p:blipFill>
          <a:blip r:embed="rId3"/>
          <a:stretch/>
        </p:blipFill>
        <p:spPr>
          <a:xfrm>
            <a:off x="3048120" y="16765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7"/>
          <p:cNvSpPr/>
          <p:nvPr/>
        </p:nvSpPr>
        <p:spPr>
          <a:xfrm>
            <a:off x="4191120" y="41148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12 августа 196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1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12 мая 196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1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12 апреля 196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23 апреля 1967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12 октября 1969 г.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3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FILE5698"/>
          <p:cNvPicPr/>
          <p:nvPr/>
        </p:nvPicPr>
        <p:blipFill>
          <a:blip r:embed="rId2"/>
          <a:stretch/>
        </p:blipFill>
        <p:spPr>
          <a:xfrm>
            <a:off x="1143000" y="38088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eorgi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FILE6138"/>
          <p:cNvPicPr/>
          <p:nvPr/>
        </p:nvPicPr>
        <p:blipFill>
          <a:blip r:embed="rId3"/>
          <a:stretch/>
        </p:blipFill>
        <p:spPr>
          <a:xfrm>
            <a:off x="3048120" y="167652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8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Как долго продолжался первый в истории человечества  орбитальный космический пол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4952880" y="36576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12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47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89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108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18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743040" y="3295800"/>
            <a:ext cx="75646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«Облетев Землю в корабле – спутни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увидел, как прекрасна наша план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юди, будем хранить и приумно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Эту красоту, а не разрушать её»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Ю.А.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5638680" y="193680"/>
            <a:ext cx="31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пуск первого в мире искусственного спутника Земли ознаменовал начало космической э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2 апреля 1961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 космодрома Байконур поднялся в небо космический кораб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"Восток"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с человеком на бор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Гагарин"/>
          <p:cNvPicPr/>
          <p:nvPr/>
        </p:nvPicPr>
        <p:blipFill>
          <a:blip r:embed="rId1"/>
          <a:stretch/>
        </p:blipFill>
        <p:spPr>
          <a:xfrm>
            <a:off x="0" y="0"/>
            <a:ext cx="5114880" cy="68644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1905120" y="5105520"/>
            <a:ext cx="6933960" cy="155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Юрий Алексеевич Гагари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ткрывший дорогу в космо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облетел земной  шар за 10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2"/>
          <p:cNvSpPr/>
          <p:nvPr/>
        </p:nvSpPr>
        <p:spPr>
          <a:xfrm>
            <a:off x="3200400" y="228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Юпи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572000" y="274320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гад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4038480" y="3497400"/>
            <a:ext cx="4800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 не лётчик, не пило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 ведёт не самолё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 огромную раке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то же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472360" y="60102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смона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3755880" y="3801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3733920" y="3352680"/>
            <a:ext cx="4244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Голубая простыня весь свет покр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334120" y="5943600"/>
            <a:ext cx="10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3962520" y="3352680"/>
            <a:ext cx="458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гоняя ночь и д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округ Земли бежит оле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девая звёзды ро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небе выбрал он доро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ышен стук его к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н вселенной следопы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5337720" y="601992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пу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4267080" y="3581280"/>
            <a:ext cx="389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скра небо прожиг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А до нас не доле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4952880" y="594360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теор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3886200" y="3581280"/>
            <a:ext cx="485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то выше леса, краше све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з огня гори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5108040" y="6019920"/>
            <a:ext cx="138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5" descr="Mars"/>
          <p:cNvPicPr/>
          <p:nvPr/>
        </p:nvPicPr>
        <p:blipFill>
          <a:blip r:embed="rId5"/>
          <a:srcRect l="2612" t="4493" r="7614" b="-3669"/>
          <a:stretch/>
        </p:blipFill>
        <p:spPr>
          <a:xfrm rot="21153600">
            <a:off x="7010280" y="1600200"/>
            <a:ext cx="19670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586" dur="5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0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4648320" y="28195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Г.Новак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яс зоди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6095880" y="36576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зеро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3962520" y="33526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нег январский на дорог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светит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феврале день подлинне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светит в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арте много снежных глы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где-то среди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 в апреле из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греет уж спол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6173640" y="44197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до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781680" y="51055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ы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5945400" y="548640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1" descr="FILE5707"/>
          <p:cNvPicPr/>
          <p:nvPr/>
        </p:nvPicPr>
        <p:blipFill>
          <a:blip r:embed="rId5"/>
          <a:stretch/>
        </p:blipFill>
        <p:spPr>
          <a:xfrm rot="2011800">
            <a:off x="7009920" y="144756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818" dur="5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5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8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1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4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0" dur="2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2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6" dur="2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FILE5701"/>
          <p:cNvPicPr/>
          <p:nvPr/>
        </p:nvPicPr>
        <p:blipFill>
          <a:blip r:embed="rId4"/>
          <a:stretch/>
        </p:blipFill>
        <p:spPr>
          <a:xfrm rot="19812600">
            <a:off x="6248520" y="1142640"/>
            <a:ext cx="2438280" cy="974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6629400" y="34290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ль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411480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ае солнышко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Жди веснушки на 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не Солнце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Фанту дети пьют в ку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ле солнце катит 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еломан – на грядку к м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вгуст школы открыв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…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солнце убе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402960" y="41911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лизне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7238880" y="48769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888000" y="60199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8" descr="FILE5707"/>
          <p:cNvPicPr/>
          <p:nvPr/>
        </p:nvPicPr>
        <p:blipFill>
          <a:blip r:embed="rId5"/>
          <a:stretch/>
        </p:blipFill>
        <p:spPr>
          <a:xfrm rot="2011800">
            <a:off x="6857640" y="198072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6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5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2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FILE5701"/>
          <p:cNvPicPr/>
          <p:nvPr/>
        </p:nvPicPr>
        <p:blipFill>
          <a:blip r:embed="rId4"/>
          <a:stretch/>
        </p:blipFill>
        <p:spPr>
          <a:xfrm rot="20358000">
            <a:off x="6248160" y="1142640"/>
            <a:ext cx="2438280" cy="974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886200" y="358128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4114800" y="32767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окном «засентябр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…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прию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октябре , по мнению 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олнце светит из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ноябре в небоскл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ияет Солнце в   ..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декабре, как сорванец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Солнце спрячетс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6478920" y="426708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корпи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013880" y="5715000"/>
            <a:ext cx="15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рел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9" descr="FILE5707"/>
          <p:cNvPicPr/>
          <p:nvPr/>
        </p:nvPicPr>
        <p:blipFill>
          <a:blip r:embed="rId5"/>
          <a:stretch/>
        </p:blipFill>
        <p:spPr>
          <a:xfrm rot="2011800">
            <a:off x="7086240" y="182844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2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4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7" dur="2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0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Сату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-380880" y="2698920"/>
            <a:ext cx="391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 окном "засентябрит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.. (Дева) Солнце приют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октябре, по мненью 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лнце светит из ... (Ве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ноябре на небоск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ияет Солнце в ... (Скорпион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 декабре, как сорване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 Солнце спрячется ... (Стрелец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629400" y="34290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ль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114800" y="350532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ае солнышко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Жди веснушки на 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не Солнце в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Фанту дети пьют в кус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июле солнце катит к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еломан – на грядку к ма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вгуст школы открыва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…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 солнце убе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402960" y="419112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лизне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7238880" y="487692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а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3888000" y="6019920"/>
            <a:ext cx="7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6" descr="FILE5707"/>
          <p:cNvPicPr/>
          <p:nvPr/>
        </p:nvPicPr>
        <p:blipFill>
          <a:blip r:embed="rId4"/>
          <a:stretch/>
        </p:blipFill>
        <p:spPr>
          <a:xfrm rot="2011800">
            <a:off x="7009920" y="144756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2245 C 0.01284 -0.02708 0.00816 -0.02685 0.01406 -0.02685 L 0.61666 -0.27106 E">
                                      <p:cBhvr>
                                        <p:cTn id="990" dur="5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9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2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1" dur="2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2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2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0" dur="20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8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У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7238880" y="1752480"/>
            <a:ext cx="1295640" cy="106704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50000">
                <a:srgbClr val="6666ff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561200" y="319104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Times New Roman"/>
              </a:rPr>
              <a:t>Из геометрических фиг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be0e3"/>
                </a:solidFill>
                <a:latin typeface="Times New Roman"/>
              </a:rPr>
              <a:t>создать скафан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1050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ILE5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914400" y="762120"/>
            <a:ext cx="7620120" cy="3200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утешествие в космос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FILE5701"/>
          <p:cNvPicPr/>
          <p:nvPr/>
        </p:nvPicPr>
        <p:blipFill>
          <a:blip r:embed="rId2"/>
          <a:stretch/>
        </p:blipFill>
        <p:spPr>
          <a:xfrm rot="20358000">
            <a:off x="5714640" y="7617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259092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Ур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3048120" y="1143000"/>
            <a:ext cx="1295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2895480" y="2362320"/>
            <a:ext cx="1676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 rot="18882600">
            <a:off x="3126960" y="2053800"/>
            <a:ext cx="1182600" cy="1189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 rot="5400000">
            <a:off x="3809520" y="3352680"/>
            <a:ext cx="16765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 rot="16200000">
            <a:off x="1904760" y="3352320"/>
            <a:ext cx="16765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9"/>
          <p:cNvSpPr/>
          <p:nvPr/>
        </p:nvSpPr>
        <p:spPr>
          <a:xfrm rot="13440600">
            <a:off x="2285640" y="2895120"/>
            <a:ext cx="1154160" cy="11988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0"/>
          <p:cNvSpPr/>
          <p:nvPr/>
        </p:nvSpPr>
        <p:spPr>
          <a:xfrm rot="8064600">
            <a:off x="3126600" y="3730320"/>
            <a:ext cx="1182600" cy="1189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1"/>
          <p:cNvSpPr/>
          <p:nvPr/>
        </p:nvSpPr>
        <p:spPr>
          <a:xfrm rot="2646600">
            <a:off x="3962160" y="2895480"/>
            <a:ext cx="1182600" cy="11890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2"/>
          <p:cNvSpPr/>
          <p:nvPr/>
        </p:nvSpPr>
        <p:spPr>
          <a:xfrm>
            <a:off x="4572000" y="2362320"/>
            <a:ext cx="228600" cy="304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3"/>
          <p:cNvSpPr/>
          <p:nvPr/>
        </p:nvSpPr>
        <p:spPr>
          <a:xfrm flipH="1" rot="15937200">
            <a:off x="2590560" y="4343400"/>
            <a:ext cx="304920" cy="304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4"/>
          <p:cNvSpPr/>
          <p:nvPr/>
        </p:nvSpPr>
        <p:spPr>
          <a:xfrm flipV="1" rot="10657200">
            <a:off x="2590560" y="2361960"/>
            <a:ext cx="304560" cy="30168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 flipV="1">
            <a:off x="4495680" y="4343400"/>
            <a:ext cx="304920" cy="457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 rot="16200000">
            <a:off x="2209680" y="5028840"/>
            <a:ext cx="22096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7"/>
          <p:cNvSpPr/>
          <p:nvPr/>
        </p:nvSpPr>
        <p:spPr>
          <a:xfrm rot="5400000">
            <a:off x="3048120" y="5029200"/>
            <a:ext cx="22096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 rot="10800000">
            <a:off x="2209320" y="6552720"/>
            <a:ext cx="2971800" cy="304920"/>
          </a:xfrm>
          <a:custGeom>
            <a:avLst/>
            <a:gdLst>
              <a:gd name="textAreaLeft" fmla="*/ 619200 w 2971800"/>
              <a:gd name="textAreaRight" fmla="*/ 2352960 w 297180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915400" y="304812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Oval 55"/>
          <p:cNvSpPr/>
          <p:nvPr/>
        </p:nvSpPr>
        <p:spPr>
          <a:xfrm>
            <a:off x="6629400" y="1447920"/>
            <a:ext cx="1676520" cy="144756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50000">
                <a:srgbClr val="6666ff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048120" y="1523880"/>
          <a:ext cx="1295280" cy="5176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Line 72"/>
          <p:cNvSpPr/>
          <p:nvPr/>
        </p:nvSpPr>
        <p:spPr>
          <a:xfrm>
            <a:off x="3048120" y="1752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8"/>
          <p:cNvSpPr/>
          <p:nvPr/>
        </p:nvSpPr>
        <p:spPr>
          <a:xfrm>
            <a:off x="3581280" y="22860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Непту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Neptune"/>
          <p:cNvPicPr/>
          <p:nvPr/>
        </p:nvPicPr>
        <p:blipFill>
          <a:blip r:embed="rId4"/>
          <a:stretch/>
        </p:blipFill>
        <p:spPr>
          <a:xfrm rot="20325600">
            <a:off x="7010280" y="1599840"/>
            <a:ext cx="1752840" cy="167652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380880" y="45720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Открылась бездна звёзд пол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вёздам числа нет, бездне – дна…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2" descr="Ломоносов"/>
          <p:cNvPicPr/>
          <p:nvPr/>
        </p:nvPicPr>
        <p:blipFill>
          <a:blip r:embed="rId5"/>
          <a:stretch/>
        </p:blipFill>
        <p:spPr>
          <a:xfrm>
            <a:off x="5410080" y="914400"/>
            <a:ext cx="3505320" cy="54864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304920" y="914400"/>
            <a:ext cx="5029200" cy="55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ихаил Васильевич Ломоносов –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великий русский ученый-энциклопед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62 году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Ломоносов создал телескоп-рефлектор с наклонным зеркалом, дававший яркое изображение объекта. Проводя астрономические наблюдения, он обнаружил, что Венера сходна с Землей, она имеет атмосферу, но более плотную, чем зем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омоносов интересовался природой комет, планет и других небесных тел. Он решал задачу о "силе видимого блеска звезд", разработав для этой цели специальный при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Ломоносов утверждал, что Вселенная бесконечна, что как наша Земля, так и все существующее в природе непрерывно меняется и разв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5790960" y="4572000"/>
            <a:ext cx="248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иха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асиль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0.01284 -0.00486 0.00816 -0.00463 0.01406 -0.00463 L 0.61666 -0.24884 E">
                                      <p:cBhvr>
                                        <p:cTn id="1070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4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7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FILE6138"/>
          <p:cNvPicPr/>
          <p:nvPr/>
        </p:nvPicPr>
        <p:blipFill>
          <a:blip r:embed="rId2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FILE5701"/>
          <p:cNvPicPr/>
          <p:nvPr/>
        </p:nvPicPr>
        <p:blipFill>
          <a:blip r:embed="rId3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8"/>
          <p:cNvSpPr/>
          <p:nvPr/>
        </p:nvSpPr>
        <p:spPr>
          <a:xfrm>
            <a:off x="34290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Плу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7620120" y="1523880"/>
            <a:ext cx="914400" cy="914400"/>
          </a:xfrm>
          <a:prstGeom prst="ellipse">
            <a:avLst/>
          </a:prstGeom>
          <a:gradFill rotWithShape="0">
            <a:gsLst>
              <a:gs pos="0">
                <a:srgbClr val="5e2f00"/>
              </a:gs>
              <a:gs pos="50000">
                <a:srgbClr val="cc6600"/>
              </a:gs>
              <a:gs pos="100000">
                <a:srgbClr val="5e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962520" y="3352680"/>
            <a:ext cx="495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СМОНА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ставить слова, используя буквы данного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1118" dur="5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9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FILE5698"/>
          <p:cNvPicPr/>
          <p:nvPr/>
        </p:nvPicPr>
        <p:blipFill>
          <a:blip r:embed="rId2"/>
          <a:stretch/>
        </p:blipFill>
        <p:spPr>
          <a:xfrm>
            <a:off x="990720" y="1143000"/>
            <a:ext cx="6705360" cy="5715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FILE6138"/>
          <p:cNvPicPr/>
          <p:nvPr/>
        </p:nvPicPr>
        <p:blipFill>
          <a:blip r:embed="rId3"/>
          <a:stretch/>
        </p:blipFill>
        <p:spPr>
          <a:xfrm>
            <a:off x="3124080" y="24382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325" name="WordArt 7"/>
          <p:cNvSpPr txBox="1"/>
          <p:nvPr/>
        </p:nvSpPr>
        <p:spPr>
          <a:xfrm>
            <a:off x="2057400" y="4876920"/>
            <a:ext cx="5181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noFill/>
          <a:ln w="82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Мудрец"/>
          <p:cNvPicPr/>
          <p:nvPr/>
        </p:nvPicPr>
        <p:blipFill>
          <a:blip r:embed="rId1"/>
          <a:stretch/>
        </p:blipFill>
        <p:spPr>
          <a:xfrm>
            <a:off x="838080" y="2590920"/>
            <a:ext cx="3076560" cy="380988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609480" y="609480"/>
            <a:ext cx="77724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едставления о форме Земли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708360" y="1773360"/>
            <a:ext cx="478800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392720" cy="33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119"/>
          <p:cNvPicPr/>
          <p:nvPr/>
        </p:nvPicPr>
        <p:blipFill>
          <a:blip r:embed="rId4"/>
          <a:stretch/>
        </p:blipFill>
        <p:spPr>
          <a:xfrm>
            <a:off x="3780000" y="2205000"/>
            <a:ext cx="4819320" cy="32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684360" y="4581360"/>
            <a:ext cx="502920" cy="50508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93">
                <a:moveTo>
                  <a:pt x="3600" y="0"/>
                </a:moveTo>
                <a:arcTo wR="3600" hR="3600" stAng="16200000" swAng="-5400000"/>
                <a:lnTo>
                  <a:pt x="0" y="18093"/>
                </a:lnTo>
                <a:arcTo wR="3600" hR="3600" stAng="10800000" swAng="-5400000"/>
                <a:lnTo>
                  <a:pt x="18000" y="21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04920" y="228600"/>
            <a:ext cx="8569080" cy="63374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195640" y="357336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70036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195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195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118728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69236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70036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4211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1692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3203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5364000" y="4653000"/>
            <a:ext cx="3384720" cy="1800360"/>
          </a:xfrm>
          <a:prstGeom prst="wedgeRoundRectCallout">
            <a:avLst>
              <a:gd name="adj1" fmla="val -14305"/>
              <a:gd name="adj2" fmla="val -26541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808080"/>
                </a:solidFill>
                <a:latin typeface="Arial"/>
              </a:rPr>
              <a:t>1. Направление, сторона света,   где вечером  заходит сол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2700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3203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2195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4500720" y="1197000"/>
            <a:ext cx="43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3203640" y="620640"/>
            <a:ext cx="547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370836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4211640" y="256536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320364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370836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4"/>
          <p:cNvSpPr/>
          <p:nvPr/>
        </p:nvSpPr>
        <p:spPr>
          <a:xfrm>
            <a:off x="4716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5"/>
          <p:cNvSpPr/>
          <p:nvPr/>
        </p:nvSpPr>
        <p:spPr>
          <a:xfrm>
            <a:off x="270036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6"/>
          <p:cNvSpPr/>
          <p:nvPr/>
        </p:nvSpPr>
        <p:spPr>
          <a:xfrm>
            <a:off x="3203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4211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8"/>
          <p:cNvSpPr/>
          <p:nvPr/>
        </p:nvSpPr>
        <p:spPr>
          <a:xfrm>
            <a:off x="2195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9"/>
          <p:cNvSpPr/>
          <p:nvPr/>
        </p:nvSpPr>
        <p:spPr>
          <a:xfrm>
            <a:off x="4211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0"/>
          <p:cNvSpPr/>
          <p:nvPr/>
        </p:nvSpPr>
        <p:spPr>
          <a:xfrm>
            <a:off x="370836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1"/>
          <p:cNvSpPr/>
          <p:nvPr/>
        </p:nvSpPr>
        <p:spPr>
          <a:xfrm>
            <a:off x="270036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2"/>
          <p:cNvSpPr/>
          <p:nvPr/>
        </p:nvSpPr>
        <p:spPr>
          <a:xfrm>
            <a:off x="118728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3"/>
          <p:cNvSpPr/>
          <p:nvPr/>
        </p:nvSpPr>
        <p:spPr>
          <a:xfrm>
            <a:off x="169236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4"/>
          <p:cNvSpPr/>
          <p:nvPr/>
        </p:nvSpPr>
        <p:spPr>
          <a:xfrm>
            <a:off x="2195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3203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6"/>
          <p:cNvSpPr/>
          <p:nvPr/>
        </p:nvSpPr>
        <p:spPr>
          <a:xfrm>
            <a:off x="118728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7"/>
          <p:cNvSpPr/>
          <p:nvPr/>
        </p:nvSpPr>
        <p:spPr>
          <a:xfrm>
            <a:off x="684360" y="3068640"/>
            <a:ext cx="502920" cy="50472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77">
                <a:moveTo>
                  <a:pt x="3611" y="0"/>
                </a:moveTo>
                <a:arcTo wR="3611" hR="3611" stAng="16200000" swAng="-5400000"/>
                <a:lnTo>
                  <a:pt x="0" y="18066"/>
                </a:lnTo>
                <a:arcTo wR="3611" hR="3611" stAng="10800000" swAng="-5400000"/>
                <a:lnTo>
                  <a:pt x="17989" y="21677"/>
                </a:lnTo>
                <a:arcTo wR="3611" hR="3611" stAng="5400000" swAng="-5400000"/>
                <a:lnTo>
                  <a:pt x="21600" y="3611"/>
                </a:lnTo>
                <a:arcTo wR="3611" hR="3611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8"/>
          <p:cNvSpPr/>
          <p:nvPr/>
        </p:nvSpPr>
        <p:spPr>
          <a:xfrm>
            <a:off x="370836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9"/>
          <p:cNvSpPr/>
          <p:nvPr/>
        </p:nvSpPr>
        <p:spPr>
          <a:xfrm>
            <a:off x="5364000" y="4653000"/>
            <a:ext cx="3384720" cy="1873080"/>
          </a:xfrm>
          <a:prstGeom prst="wedgeRoundRectCallout">
            <a:avLst>
              <a:gd name="adj1" fmla="val -48967"/>
              <a:gd name="adj2" fmla="val -29152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2. Измерение времени, основанное на периодическом повторении явлений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0" descr="Закат 1"/>
          <p:cNvPicPr/>
          <p:nvPr/>
        </p:nvPicPr>
        <p:blipFill>
          <a:blip r:embed="rId1"/>
          <a:stretch/>
        </p:blipFill>
        <p:spPr>
          <a:xfrm>
            <a:off x="5364000" y="1989000"/>
            <a:ext cx="3384720" cy="2405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1"/>
          <p:cNvSpPr/>
          <p:nvPr/>
        </p:nvSpPr>
        <p:spPr>
          <a:xfrm>
            <a:off x="1907640" y="256536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394560" y="314172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3"/>
          <p:cNvSpPr/>
          <p:nvPr/>
        </p:nvSpPr>
        <p:spPr>
          <a:xfrm>
            <a:off x="899640" y="364500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4"/>
          <p:cNvSpPr/>
          <p:nvPr/>
        </p:nvSpPr>
        <p:spPr>
          <a:xfrm>
            <a:off x="1907640" y="414972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5"/>
          <p:cNvSpPr/>
          <p:nvPr/>
        </p:nvSpPr>
        <p:spPr>
          <a:xfrm>
            <a:off x="394560" y="4653000"/>
            <a:ext cx="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6" descr="Календарь"/>
          <p:cNvPicPr/>
          <p:nvPr/>
        </p:nvPicPr>
        <p:blipFill>
          <a:blip r:embed="rId2"/>
          <a:stretch/>
        </p:blipFill>
        <p:spPr>
          <a:xfrm>
            <a:off x="5364000" y="2133720"/>
            <a:ext cx="3384720" cy="2401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7"/>
          <p:cNvSpPr/>
          <p:nvPr/>
        </p:nvSpPr>
        <p:spPr>
          <a:xfrm>
            <a:off x="471636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8"/>
          <p:cNvSpPr/>
          <p:nvPr/>
        </p:nvSpPr>
        <p:spPr>
          <a:xfrm>
            <a:off x="370836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>
                  <a:alpha val="22352"/>
                </a:srgbClr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9"/>
          <p:cNvSpPr/>
          <p:nvPr/>
        </p:nvSpPr>
        <p:spPr>
          <a:xfrm>
            <a:off x="5364000" y="4653000"/>
            <a:ext cx="3384720" cy="1873080"/>
          </a:xfrm>
          <a:prstGeom prst="wedgeRoundRectCallout">
            <a:avLst>
              <a:gd name="adj1" fmla="val -27203"/>
              <a:gd name="adj2" fmla="val -53050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3. Прибор для определения направления на север и другие стороны с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0"/>
          <p:cNvSpPr/>
          <p:nvPr/>
        </p:nvSpPr>
        <p:spPr>
          <a:xfrm>
            <a:off x="5364000" y="4581360"/>
            <a:ext cx="3384720" cy="2016360"/>
          </a:xfrm>
          <a:prstGeom prst="wedgeRoundRectCallout">
            <a:avLst>
              <a:gd name="adj1" fmla="val -16884"/>
              <a:gd name="adj2" fmla="val -58898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4. Разновидность календаря, основанная на периодической смене полнолуний и новолу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1" descr="Компас"/>
          <p:cNvPicPr/>
          <p:nvPr/>
        </p:nvPicPr>
        <p:blipFill>
          <a:blip r:embed="rId3"/>
          <a:stretch/>
        </p:blipFill>
        <p:spPr>
          <a:xfrm>
            <a:off x="5364000" y="1989000"/>
            <a:ext cx="3384720" cy="2530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luna"/>
          <p:cNvPicPr/>
          <p:nvPr/>
        </p:nvPicPr>
        <p:blipFill>
          <a:blip r:embed="rId4"/>
          <a:stretch/>
        </p:blipFill>
        <p:spPr>
          <a:xfrm>
            <a:off x="5508720" y="1916280"/>
            <a:ext cx="3024000" cy="23223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3"/>
          <p:cNvSpPr/>
          <p:nvPr/>
        </p:nvSpPr>
        <p:spPr>
          <a:xfrm>
            <a:off x="5364000" y="5300640"/>
            <a:ext cx="3384720" cy="1297080"/>
          </a:xfrm>
          <a:prstGeom prst="wedgeRoundRectCallout">
            <a:avLst>
              <a:gd name="adj1" fmla="val -14824"/>
              <a:gd name="adj2" fmla="val -79009"/>
              <a:gd name="adj3" fmla="val 16667"/>
            </a:avLst>
          </a:prstGeom>
          <a:gradFill rotWithShape="0">
            <a:gsLst>
              <a:gs pos="0">
                <a:srgbClr val="66ccff">
                  <a:alpha val="72156"/>
                </a:srgbClr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8080"/>
                </a:solidFill>
                <a:latin typeface="Arial"/>
              </a:rPr>
              <a:t>5. Звезда, которая ночью указывает направление на сев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4" descr="Полярная"/>
          <p:cNvPicPr/>
          <p:nvPr/>
        </p:nvPicPr>
        <p:blipFill>
          <a:blip r:embed="rId5"/>
          <a:stretch/>
        </p:blipFill>
        <p:spPr>
          <a:xfrm>
            <a:off x="5292720" y="2060640"/>
            <a:ext cx="3495600" cy="250488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5"/>
          <p:cNvSpPr/>
          <p:nvPr/>
        </p:nvSpPr>
        <p:spPr>
          <a:xfrm>
            <a:off x="2195640" y="3068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6"/>
          <p:cNvSpPr/>
          <p:nvPr/>
        </p:nvSpPr>
        <p:spPr>
          <a:xfrm>
            <a:off x="2195640" y="4581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7"/>
          <p:cNvSpPr/>
          <p:nvPr/>
        </p:nvSpPr>
        <p:spPr>
          <a:xfrm>
            <a:off x="2195640" y="3573360"/>
            <a:ext cx="503280" cy="50508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77">
                <a:moveTo>
                  <a:pt x="3600" y="0"/>
                </a:moveTo>
                <a:arcTo wR="3600" hR="3600" stAng="16200000" swAng="-5400000"/>
                <a:lnTo>
                  <a:pt x="0" y="18077"/>
                </a:lnTo>
                <a:arcTo wR="3600" hR="3600" stAng="10800000" swAng="-5400000"/>
                <a:lnTo>
                  <a:pt x="18000" y="216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8"/>
          <p:cNvSpPr/>
          <p:nvPr/>
        </p:nvSpPr>
        <p:spPr>
          <a:xfrm>
            <a:off x="2195640" y="407664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cc">
                  <a:alpha val="22352"/>
                </a:srgbClr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9" descr="Земля"/>
          <p:cNvPicPr/>
          <p:nvPr/>
        </p:nvPicPr>
        <p:blipFill>
          <a:blip r:embed="rId6"/>
          <a:stretch/>
        </p:blipFill>
        <p:spPr>
          <a:xfrm>
            <a:off x="5292720" y="2492280"/>
            <a:ext cx="3382920" cy="2654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60"/>
          <p:cNvSpPr txBox="1"/>
          <p:nvPr/>
        </p:nvSpPr>
        <p:spPr>
          <a:xfrm>
            <a:off x="685800" y="457200"/>
            <a:ext cx="7772400" cy="79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тгадайте кроссворд</a:t>
            </a:r>
            <a:endParaRPr b="1" i="1" lang="en-US" sz="2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FILE5697"/>
          <p:cNvPicPr/>
          <p:nvPr/>
        </p:nvPicPr>
        <p:blipFill>
          <a:blip r:embed="rId4"/>
          <a:stretch/>
        </p:blipFill>
        <p:spPr>
          <a:xfrm>
            <a:off x="7238880" y="16002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FILE5701"/>
          <p:cNvPicPr/>
          <p:nvPr/>
        </p:nvPicPr>
        <p:blipFill>
          <a:blip r:embed="rId5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3200400" y="22860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Мерку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4114800" y="4114800"/>
            <a:ext cx="472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Распределить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по порядку, вращаю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вокруг Солнца  вме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с Землёй, начи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с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262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ILE6138"/>
          <p:cNvPicPr/>
          <p:nvPr/>
        </p:nvPicPr>
        <p:blipFill>
          <a:blip r:embed="rId3"/>
          <a:stretch/>
        </p:blipFill>
        <p:spPr>
          <a:xfrm>
            <a:off x="457200" y="33526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FILE5697"/>
          <p:cNvPicPr/>
          <p:nvPr/>
        </p:nvPicPr>
        <p:blipFill>
          <a:blip r:embed="rId4"/>
          <a:stretch/>
        </p:blipFill>
        <p:spPr>
          <a:xfrm>
            <a:off x="304920" y="594360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Oval 9"/>
          <p:cNvSpPr/>
          <p:nvPr/>
        </p:nvSpPr>
        <p:spPr>
          <a:xfrm>
            <a:off x="7620120" y="1523880"/>
            <a:ext cx="761760" cy="60984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Вен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Mars"/>
          <p:cNvPicPr/>
          <p:nvPr/>
        </p:nvPicPr>
        <p:blipFill>
          <a:blip r:embed="rId5"/>
          <a:srcRect l="2612" t="4493" r="7614" b="-3669"/>
          <a:stretch/>
        </p:blipFill>
        <p:spPr>
          <a:xfrm rot="21153600">
            <a:off x="4654440" y="1522080"/>
            <a:ext cx="82548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FILE5689"/>
          <p:cNvPicPr/>
          <p:nvPr/>
        </p:nvPicPr>
        <p:blipFill>
          <a:blip r:embed="rId6"/>
          <a:stretch/>
        </p:blipFill>
        <p:spPr>
          <a:xfrm>
            <a:off x="685800" y="53352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FILE5707"/>
          <p:cNvPicPr/>
          <p:nvPr/>
        </p:nvPicPr>
        <p:blipFill>
          <a:blip r:embed="rId7"/>
          <a:stretch/>
        </p:blipFill>
        <p:spPr>
          <a:xfrm rot="2011800">
            <a:off x="6019560" y="4419720"/>
            <a:ext cx="2819160" cy="1676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Neptune"/>
          <p:cNvPicPr/>
          <p:nvPr/>
        </p:nvPicPr>
        <p:blipFill>
          <a:blip r:embed="rId8"/>
          <a:stretch/>
        </p:blipFill>
        <p:spPr>
          <a:xfrm>
            <a:off x="7467480" y="30481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31" name="Oval 14"/>
          <p:cNvSpPr/>
          <p:nvPr/>
        </p:nvSpPr>
        <p:spPr>
          <a:xfrm>
            <a:off x="2666880" y="685800"/>
            <a:ext cx="685800" cy="6094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50000">
                <a:srgbClr val="009999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3276720" y="6491160"/>
            <a:ext cx="54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457200" y="6095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0" y="64008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2133720" y="5410080"/>
            <a:ext cx="8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Baskerville Old Face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2895480" y="472428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Мар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114800" y="38862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askerville Old Face"/>
              </a:rPr>
              <a:t>Юпи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5813280" y="3192480"/>
            <a:ext cx="17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атур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7337520" y="1440000"/>
            <a:ext cx="142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askerville Old Face"/>
              </a:rPr>
              <a:t>Непту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0751E-006 C -0.00469 0.00277 -0.01094 0.0037 -0.01389 0.00925 C -0.01858 0.01827 -0.01545 0.01526 -0.02275 0.0185 C -0.03056 0.02936 -0.0408 0.0326 -0.04913 0.04185 C -0.05104 0.04393 -0.05226 0.04717 -0.05434 0.04879 C -0.05868 0.05272 -0.06841 0.05827 -0.06841 0.05827 C -0.07379 0.06913 -0.08299 0.07283 -0.08941 0.08162 C -0.09167 0.08486 -0.09358 0.08879 -0.09636 0.09087 C -0.09948 0.09364 -0.10695 0.09572 -0.10695 0.09572 C -0.11233 0.10636 -0.12205 0.10936 -0.13143 0.11214 C -0.13386 0.11376 -0.13611 0.11538 -0.13854 0.11676 C -0.14202 0.11861 -0.14913 0.12139 -0.14913 0.12139 C -0.15486 0.12647 -0.16025 0.12763 -0.16667 0.13064 C -0.17865 0.1415 -0.17309 0.1385 -0.18247 0.1422 C -0.1941 0.15283 -0.17952 0.14127 -0.19809 0.14936 C -0.20018 0.15006 -0.20156 0.15283 -0.20347 0.15399 C -0.21077 0.15815 -0.22031 0.16208 -0.22795 0.16578 C -0.2375 0.17526 -0.24861 0.17803 -0.25955 0.18428 C -0.26198 0.1859 -0.26441 0.18751 -0.26667 0.18913 C -0.26841 0.19029 -0.26997 0.1926 -0.27188 0.19376 C -0.27691 0.19676 -0.28264 0.19746 -0.28768 0.20093 C -0.29688 0.20717 -0.30591 0.21526 -0.3158 0.21942 C -0.32448 0.23145 -0.31216 0.21595 -0.32795 0.22659 C -0.34879 0.24023 -0.31771 0.22844 -0.34028 0.23561 C -0.34966 0.24416 -0.35382 0.24856 -0.36476 0.25225 C -0.36841 0.25688 -0.37639 0.26751 -0.38056 0.27098 C -0.38316 0.2733 -0.38663 0.27353 -0.38941 0.27538 C -0.39236 0.27746 -0.39531 0.28 -0.39809 0.28254 C -0.40608 0.29017 -0.41077 0.29896 -0.42101 0.30358 C -0.42656 0.31491 -0.42795 0.30867 -0.43334 0.31769 C -0.43993 0.32832 -0.45087 0.3422 -0.46129 0.34567 C -0.47188 0.35977 -0.46615 0.35607 -0.47709 0.35977 C -0.47882 0.36139 -0.48091 0.36231 -0.48247 0.36416 C -0.48403 0.36624 -0.48438 0.36948 -0.48594 0.37133 C -0.48733 0.37272 -0.48941 0.37249 -0.49115 0.37364 C -0.49584 0.37642 -0.50521 0.38312 -0.50521 0.38312 C -0.51077 0.39052 -0.51545 0.39376 -0.52275 0.39699 C -0.53472 0.40786 -0.5342 0.40532 -0.54722 0.4111 C -0.55139 0.41503 -0.55469 0.42081 -0.55955 0.42289 C -0.5665 0.4259 -0.57275 0.42913 -0.57882 0.43445 C -0.58004 0.43676 -0.58056 0.43977 -0.58247 0.44139 C -0.58785 0.44555 -0.6 0.45087 -0.6 0.45087 C -0.6066 0.45942 -0.61163 0.46659 -0.62101 0.4696 C -0.62396 0.47168 -0.62691 0.47399 -0.62969 0.47653 C -0.63108 0.47792 -0.63195 0.47954 -0.63334 0.48116 C -0.63663 0.48462 -0.64375 0.49064 -0.64375 0.49064 C -0.65052 0.50382 -0.64288 0.49249 -0.65434 0.49965 C -0.66216 0.50497 -0.66528 0.51491 -0.67361 0.51861 C -0.67969 0.52671 -0.68334 0.52578 -0.68941 0.53272 C -0.69427 0.53827 -0.69722 0.5452 -0.70174 0.55098 C -0.70486 0.55538 -0.71025 0.56116 -0.71025 0.56763 E">
                                      <p:cBhvr>
                                        <p:cTn id="297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13873E-006 C 0.00659 0.01318 0.01666 0.03006 0.02795 0.03514 C 0.03298 0.05526 0.02586 0.03029 0.03333 0.0467 C 0.03437 0.04879 0.0342 0.05156 0.03507 0.05387 C 0.0401 0.06589 0.04618 0.07422 0.0526 0.08416 C 0.05399 0.08624 0.05451 0.08925 0.05607 0.0911 C 0.05746 0.09272 0.05954 0.09272 0.06128 0.09341 C 0.06961 0.10451 0.06527 0.1015 0.07361 0.1052 C 0.08854 0.12509 0.10295 0.11815 0.121 0.12855 C 0.13888 0.13873 0.11458 0.1274 0.13854 0.1378 C 0.14027 0.1385 0.14375 0.14011 0.14375 0.14011 C 0.14947 0.1452 0.15382 0.15144 0.15954 0.15653 C 0.1618 0.16555 0.16406 0.16786 0.17013 0.17295 C 0.17204 0.21572 0.17187 0.19954 0.17187 0.22196 E">
                                      <p:cBhvr>
                                        <p:cTn id="30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7.68786E-006 C -0.00295 0.00994 -0.00782 0.01803 -0.01042 0.02797 C -0.01441 0.04277 -0.01407 0.0497 -0.01754 0.06543 C -0.02188 0.08577 -0.02691 0.10612 -0.0316 0.12624 C -0.03698 0.14936 -0.03959 0.1697 -0.05261 0.18705 C -0.05764 0.20693 -0.06598 0.21548 -0.07535 0.23144 C -0.08438 0.2467 -0.08247 0.24462 -0.09289 0.2571 C -0.09775 0.26311 -0.10105 0.2719 -0.10695 0.27583 C -0.11302 0.27999 -0.11875 0.28485 -0.12448 0.2897 C -0.13351 0.29733 -0.13664 0.3015 -0.14723 0.30612 C -0.15365 0.30889 -0.1566 0.31699 -0.16302 0.32022 C -0.17084 0.3304 -0.17795 0.3408 -0.1842 0.35283 C -0.18646 0.36207 -0.18594 0.35722 -0.18594 0.36693 E">
                                      <p:cBhvr>
                                        <p:cTn id="31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5.95376E-006 C 0.00174 0.01688 0.00313 0.03191 0.01216 0.0444 C 0.01477 0.05688 0.0224 0.06613 0.03161 0.07006 C 0.03334 0.07238 0.03473 0.07515 0.03681 0.077 C 0.0389 0.07908 0.04185 0.07931 0.04376 0.08162 C 0.04549 0.08347 0.04567 0.08694 0.0474 0.08879 C 0.0514 0.09319 0.05713 0.09388 0.06129 0.09804 C 0.06754 0.10405 0.07119 0.10868 0.07883 0.11215 C 0.07952 0.11446 0.07935 0.11769 0.08074 0.11908 C 0.0849 0.12324 0.09098 0.12347 0.09463 0.12833 C 0.10122 0.13712 0.09758 0.13434 0.10522 0.13781 C 0.11754 0.15399 0.11095 0.14983 0.12275 0.15423 C 0.13074 0.17018 0.13786 0.17827 0.15088 0.18683 C 0.1514 0.18914 0.15122 0.19215 0.15261 0.19376 C 0.15452 0.19584 0.1573 0.19515 0.15956 0.19608 C 0.16494 0.19816 0.17015 0.20093 0.17536 0.20324 C 0.17744 0.20417 0.17865 0.20717 0.18074 0.20787 C 0.18577 0.20949 0.19115 0.20949 0.19636 0.21018 C 0.20522 0.21295 0.21407 0.21434 0.22275 0.21712 C 0.22848 0.21897 0.24029 0.22197 0.24029 0.22197 C 0.25244 0.23284 0.23699 0.22035 0.25435 0.22891 C 0.25626 0.22983 0.25765 0.23238 0.25956 0.23353 C 0.26303 0.23561 0.26668 0.23654 0.27015 0.23816 C 0.27483 0.24024 0.28421 0.24301 0.28421 0.24301 C 0.29185 0.25319 0.30018 0.25319 0.30869 0.26405 C 0.31424 0.27122 0.32015 0.27631 0.32622 0.28255 C 0.33178 0.29388 0.33299 0.28787 0.33855 0.29897 C 0.34115 0.317 0.34237 0.31238 0.35608 0.31538 C 0.35782 0.317 0.35938 0.31885 0.36129 0.32001 C 0.36303 0.32116 0.36668 0.32232 0.36668 0.32232 E">
                                      <p:cBhvr>
                                        <p:cTn id="32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4104E-006 C -0.00295 -0.0178 -0.01181 -0.05086 -0.02292 -0.06312 C -0.02917 -0.07005 -0.03698 -0.07398 -0.04393 -0.0793 C -0.0507 -0.08439 -0.05434 -0.09109 -0.06146 -0.09572 C -0.06441 -0.1015 -0.06823 -0.10959 -0.07205 -0.11445 C -0.0757 -0.11907 -0.07969 -0.12069 -0.08247 -0.12624 C -0.08646 -0.13433 -0.0915 -0.14312 -0.0948 -0.1519 C -0.09566 -0.15398 -0.09532 -0.15699 -0.09653 -0.15884 C -0.09844 -0.16185 -0.10122 -0.16346 -0.10348 -0.16578 C -0.1125 -0.18959 -0.10764 -0.17872 -0.11754 -0.19861 C -0.12327 -0.2104 -0.12483 -0.22497 -0.12813 -0.23838 C -0.1316 -0.25271 -0.13507 -0.28277 -0.13507 -0.28277 C -0.13403 -0.31838 -0.1316 -0.35237 -0.1316 -0.38774 L -0.12986 -0.36901 E">
                                      <p:cBhvr>
                                        <p:cTn id="331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333 C -0.00625 -0.02104 -0.000520000000000001 -0.00879 0.00781 0.00162 C 0.00989 0.01017 0.01284 0.01364 0.01701 0.02034 C 0.01857 0.02289 0.01892 0.02589 0.02066 0.02774 C 0.02378 0.03098 0.03489 0.03514 0.03923 0.03699 C 0.04392 0.04601 0.04965 0.04693 0.05764 0.0511 C 0.06146 0.05295 0.06892 0.05572 0.06892 0.05595 C 0.07882 0.06404 0.08906 0.06335 0.10017 0.06728 C 0.12396 0.07584 0.14965 0.07884 0.1743 0.08393 C 0.20955 0.07491 0.23489 0.08277 0.26684 0.09572 C 0.2743 0.10196 0.28211 0.10451 0.2908 0.10728 C 0.30208 0.11699 0.31475 0.12277 0.32604 0.13318 C 0.33993 0.14566 0.35243 0.16092 0.36666 0.17295 C 0.37517 0.18867 0.39722 0.18497 0.41111 0.18705 C 0.41666 0.18543 0.42239 0.18497 0.42777 0.18243 C 0.42934 0.18173 0.43003 0.17896 0.43142 0.17757 C 0.4401 0.16925 0.45503 0.1519 0.46666 0.1519 E">
                                      <p:cBhvr>
                                        <p:cTn id="34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5.49133E-006 C 0.00174 -0.00948 0.00174 -0.0185 0.00695 -0.02567 C 0.00903 -0.03792 0.01285 -0.05064 0.01406 -0.0629 C 0.01528 -0.07376 0.01754 -0.09573 0.01754 -0.09573 C 0.01632 -0.11284 0.01597 -0.12995 0.01406 -0.14706 C 0.01354 -0.15122 0.01077 -0.15469 0.01059 -0.15885 C 0.00938 -0.21157 0.01597 -0.26313 0.01927 -0.31538 C 0.01806 -0.31839 0.01788 -0.32255 0.0158 -0.32463 C 0.01146 -0.32902 -0.00278 -0.33295 -0.00868 -0.33642 C -0.01614 -0.34058 -0.02222 -0.34636 -0.02986 -0.35029 C -0.03385 -0.35584 -0.03455 -0.35353 -0.0316 -0.35746 E">
                                      <p:cBhvr>
                                        <p:cTn id="345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FILE6138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581280" y="22860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Вен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7467480" y="1600200"/>
            <a:ext cx="1371600" cy="1219320"/>
          </a:xfrm>
          <a:prstGeom prst="ellipse">
            <a:avLst/>
          </a:prstGeom>
          <a:gradFill rotWithShape="0">
            <a:gsLst>
              <a:gs pos="0">
                <a:srgbClr val="03d4a8"/>
              </a:gs>
              <a:gs pos="100000">
                <a:srgbClr val="03d4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33520" y="838080"/>
            <a:ext cx="43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веты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-91440" y="1295280"/>
            <a:ext cx="60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Baskerville Old Face"/>
              </a:rPr>
              <a:t>Кто является основоположни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ff"/>
                </a:solidFill>
                <a:latin typeface="Baskerville Old Face"/>
              </a:rPr>
              <a:t>космонавтики?</a:t>
            </a:r>
            <a:r>
              <a:rPr b="0" lang="ru-RU" sz="1800" spc="-1" strike="noStrike">
                <a:solidFill>
                  <a:srgbClr val="000000"/>
                </a:solidFill>
                <a:latin typeface="Baskerville Old Face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277560" y="2199600"/>
            <a:ext cx="4264200" cy="4466880"/>
            <a:chOff x="277560" y="2199600"/>
            <a:chExt cx="4264200" cy="4466880"/>
          </a:xfrm>
        </p:grpSpPr>
        <p:sp>
          <p:nvSpPr>
            <p:cNvPr id="150" name="Rectangle 12"/>
            <p:cNvSpPr/>
            <p:nvPr/>
          </p:nvSpPr>
          <p:spPr>
            <a:xfrm rot="21126600">
              <a:off x="533520" y="2438280"/>
              <a:ext cx="3751920" cy="39895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Циолковский"/>
            <p:cNvPicPr/>
            <p:nvPr/>
          </p:nvPicPr>
          <p:blipFill>
            <a:blip r:embed="rId5"/>
            <a:stretch/>
          </p:blipFill>
          <p:spPr>
            <a:xfrm>
              <a:off x="533520" y="2438280"/>
              <a:ext cx="376200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 Box 14"/>
          <p:cNvSpPr/>
          <p:nvPr/>
        </p:nvSpPr>
        <p:spPr>
          <a:xfrm>
            <a:off x="533520" y="5943600"/>
            <a:ext cx="37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.Э.Циол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4800600" y="518148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Кто является перв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изобретателем советск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космических кора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8"/>
          <p:cNvGrpSpPr/>
          <p:nvPr/>
        </p:nvGrpSpPr>
        <p:grpSpPr>
          <a:xfrm>
            <a:off x="5288400" y="691920"/>
            <a:ext cx="3727440" cy="4513320"/>
            <a:chOff x="5288400" y="691920"/>
            <a:chExt cx="3727440" cy="4513320"/>
          </a:xfrm>
        </p:grpSpPr>
        <p:sp>
          <p:nvSpPr>
            <p:cNvPr id="155" name="Rectangle 19"/>
            <p:cNvSpPr/>
            <p:nvPr/>
          </p:nvSpPr>
          <p:spPr>
            <a:xfrm rot="319200">
              <a:off x="5476680" y="838080"/>
              <a:ext cx="3350520" cy="4221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0" descr="Королев"/>
            <p:cNvPicPr/>
            <p:nvPr/>
          </p:nvPicPr>
          <p:blipFill>
            <a:blip r:embed="rId6"/>
            <a:stretch/>
          </p:blipFill>
          <p:spPr>
            <a:xfrm rot="21463800">
              <a:off x="5661360" y="925200"/>
              <a:ext cx="3051000" cy="40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 Box 21"/>
          <p:cNvSpPr/>
          <p:nvPr/>
        </p:nvSpPr>
        <p:spPr>
          <a:xfrm>
            <a:off x="5715000" y="4343400"/>
            <a:ext cx="27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С.П.Королё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357" dur="5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Звездное 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FILE5698"/>
          <p:cNvPicPr/>
          <p:nvPr/>
        </p:nvPicPr>
        <p:blipFill>
          <a:blip r:embed="rId2"/>
          <a:stretch/>
        </p:blipFill>
        <p:spPr>
          <a:xfrm>
            <a:off x="1066680" y="1143000"/>
            <a:ext cx="670572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Когда был запущен первый искусственный спутник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FILE6138"/>
          <p:cNvPicPr/>
          <p:nvPr/>
        </p:nvPicPr>
        <p:blipFill>
          <a:blip r:embed="rId3"/>
          <a:stretch/>
        </p:blipFill>
        <p:spPr>
          <a:xfrm>
            <a:off x="3124080" y="2438280"/>
            <a:ext cx="2514600" cy="20574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886200" y="5562720"/>
            <a:ext cx="447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октября 1957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ма\Иллюстративный материал\Анимашки\Космос\FILE5689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Звездное неб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ILE6138"/>
          <p:cNvPicPr/>
          <p:nvPr/>
        </p:nvPicPr>
        <p:blipFill>
          <a:blip r:embed="rId3"/>
          <a:stretch/>
        </p:blipFill>
        <p:spPr>
          <a:xfrm>
            <a:off x="380880" y="3352680"/>
            <a:ext cx="3429000" cy="3276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FILE5701"/>
          <p:cNvPicPr/>
          <p:nvPr/>
        </p:nvPicPr>
        <p:blipFill>
          <a:blip r:embed="rId4"/>
          <a:stretch/>
        </p:blipFill>
        <p:spPr>
          <a:xfrm rot="20358000">
            <a:off x="990360" y="259056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3657600" y="228600"/>
            <a:ext cx="249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Georgia"/>
              </a:rPr>
              <a:t>Мар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Mars"/>
          <p:cNvPicPr/>
          <p:nvPr/>
        </p:nvPicPr>
        <p:blipFill>
          <a:blip r:embed="rId5"/>
          <a:srcRect l="2612" t="4493" r="7614" b="-3669"/>
          <a:stretch/>
        </p:blipFill>
        <p:spPr>
          <a:xfrm rot="21153600">
            <a:off x="6705720" y="1828800"/>
            <a:ext cx="1966680" cy="1965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"/>
          <p:cNvSpPr/>
          <p:nvPr/>
        </p:nvSpPr>
        <p:spPr>
          <a:xfrm>
            <a:off x="4574160" y="37339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тветы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4191120" y="43434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ff"/>
                </a:solidFill>
                <a:latin typeface="Times New Roman"/>
              </a:rPr>
              <a:t>Укажите дату первого полета собаки на кораблях-спут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2" descr="лайка"/>
          <p:cNvPicPr/>
          <p:nvPr/>
        </p:nvPicPr>
        <p:blipFill>
          <a:blip r:embed="rId6"/>
          <a:stretch/>
        </p:blipFill>
        <p:spPr>
          <a:xfrm>
            <a:off x="228600" y="17524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4"/>
          <p:cNvSpPr/>
          <p:nvPr/>
        </p:nvSpPr>
        <p:spPr>
          <a:xfrm>
            <a:off x="30492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мятник собаке Лай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вершившей полет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пут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ноября 195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4343400" y="601992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3 ноября 1957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69942E-006 C 0.01284 -0.00462 0.00816 -0.00439 0.01406 -0.00439 L 0.61666 -0.24855 E">
                                      <p:cBhvr>
                                        <p:cTn id="414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3-30T12:55:0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