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47AC-A346-48C8-A19D-527AA14A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EC05-114B-4741-899B-182BA495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22DD-9CA0-4146-A464-DCA9E0FC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D1A4-64B0-47AE-8312-8E95F66E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AF52-9972-44B1-B859-814EE87E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F9DC-D150-4297-9E74-AF11330E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545D-EF9F-4C9C-9489-5F88D07E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CE9E-A67D-451D-BFFC-9E7725F8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8A8-FB19-4118-897C-5D164DF6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AA17-6012-4DDF-AEB9-6CC1EF60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75BE-805C-4FE7-A180-E1FFC013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A959-A73B-4832-9CD1-22416B52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CFF9-0AB6-42FC-B35C-6E714229CD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ний ЕГЭ повышенной слож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яева С.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председателя ПК по биолог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 октября 20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280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6496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зоны корня обо­зна­че­ны на рис. циф­ра­ми 2, 4, 5? Какие функ­ции они выполняю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264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564000" y="2997360"/>
            <a:ext cx="3384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684360" y="2585880"/>
            <a:ext cx="453528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видоизмененный побег представлен на рисунке? Назовите элементы строения, обозначенные на рисунке цифрами 1, 2, 3, и функции, которые они выполняю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2" descr="https://bio-ege.sdamgia.ru/get_file?id=2576"/>
          <p:cNvPicPr/>
          <p:nvPr/>
        </p:nvPicPr>
        <p:blipFill>
          <a:blip r:embed="rId1"/>
          <a:stretch/>
        </p:blipFill>
        <p:spPr>
          <a:xfrm>
            <a:off x="5364000" y="1197000"/>
            <a:ext cx="3168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часть листа обозначена на рисунке буквой А и из каких структур она состоит? Какие функции выполняют эти структуры?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3" descr="https://bio-ege.sdamgia.ru/get_file?id=2579"/>
          <p:cNvPicPr/>
          <p:nvPr/>
        </p:nvPicPr>
        <p:blipFill>
          <a:blip r:embed="rId1"/>
          <a:stretch/>
        </p:blipFill>
        <p:spPr>
          <a:xfrm>
            <a:off x="826920" y="1844640"/>
            <a:ext cx="74901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бо­зна­че­но на ри­сун­ке циф­ра­ми 1, 2, 3? Какие функ­ции вы­пол­ня­ют ука­зан­ные структуры?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Объект 3" descr="https://bio-ege.sdamgia.ru/get_file?id=12068"/>
          <p:cNvPicPr/>
          <p:nvPr/>
        </p:nvPicPr>
        <p:blipFill>
          <a:blip r:embed="rId1"/>
          <a:stretch/>
        </p:blipFill>
        <p:spPr>
          <a:xfrm>
            <a:off x="1619280" y="1484280"/>
            <a:ext cx="5905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те рисунок. Дайте название изображенным образованиям. Назовите тип взаимодействия между растением и бактериями. Объясните,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ают друг друг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бактерии и растение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3" descr="https://bio-ege.sdamgia.ru/get_file?id=24922"/>
          <p:cNvPicPr/>
          <p:nvPr/>
        </p:nvPicPr>
        <p:blipFill>
          <a:blip r:embed="rId1"/>
          <a:stretch/>
        </p:blipFill>
        <p:spPr>
          <a:xfrm>
            <a:off x="1763640" y="2276640"/>
            <a:ext cx="5545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­сун­ке изоб­ражён ме­дул­ло­за Ноэ — се­мен­ной па­по­рот­ник — вы­мер­шее около 270 млн лет назад рас­те­ни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­поль­зуя фраг­мент гео­хро­но­ло­ги­че­ской таб­ли­цы, уста­но­ви­те эру и пе­ри­од, в ко­то­рый вы­ми­ра­ет дан­ный ор­га­низм, а также его воз­мож­но­го «близ­ко­го род­ствен­ни­ка» в со­вре­мен­ной флоре (ответ — на уров­не от­де­ла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черты стро­е­ния ха­рак­те­ри­зу­ют рас­те­ние ме­дул­ло­за Ноэ как выс­шее се­мен­ное рас­те­ние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3" descr="https://bio-ege.sdamgia.ru/get_file?id=31175"/>
          <p:cNvPicPr/>
          <p:nvPr/>
        </p:nvPicPr>
        <p:blipFill>
          <a:blip r:embed="rId1"/>
          <a:stretch/>
        </p:blipFill>
        <p:spPr>
          <a:xfrm>
            <a:off x="2124000" y="2708280"/>
            <a:ext cx="4248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08000" y="571680"/>
            <a:ext cx="8856720" cy="60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971640" y="115920"/>
            <a:ext cx="7488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9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линии 22 с двумя элемент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а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ют знания по всем изучаемым разделам учебного предмета биологии. Они проверяют умения объяснять результаты биологических экспериментов, применять в практических ситуациях знания о живых системах, биологических закономерностях, характерных признаках и свойствах организмов и надорганизменных систем. Задания относят к заданиям высокого уровня сложности и оцениваются максимально в два бал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9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и 2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усматривают работу с кратким тематическим текстом из любого раздела биологии (профильный уровень), в котором требуется найти и исправить ошибк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9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инии 24, где необходимо найти и исправить ошибки в тексте, ошибка не считается исправленной, если в качестве исправления в ответе содержится только отрицание суждения (может – не может, является – не является, имеется – не имеется и т.д.). За такое исправление балл не присваивается. Неверное суждение должно быть исправлено с указанием верного определения (суждения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9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дании указано «Исправьте 3 ошибки в тексте». Если в ответе участника исправлено 4 и более предложений наряду с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мя правильными исправлениями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.е. дополнительные исправления правильных суждений на неправильные, то за каждое лишнее исправление правильного предложения на неправильное снимается по 1 баллу. В остальных случаях необходимо следовать рекомендациям в критерия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9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24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813744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три ошибки в приведенном тексте «Закономерности генетики». Укажите номера предложений, в которых сделаны ошибки, исправьте 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Объектом, с которым работал Т.Морган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а плодовая мушка дрозофилла.  2) Эксперименты показали, что гены, находящиеся в одной хромосоме, наследуются сцепленно и составляют группу сцепления.3) Среди гибридов второго поколения может находиться определенное число особей с перекомбинированными признаками. 4) Гаметы с перекомбинированными генами образуются за счет спирализации гомологичных хромосом. 5) Этот процесс осуществляется в метафаз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йоза. 6) Чем ближе друг к другу  расположены гены в хромосоме, тем чаще будет нарушаться их сцепление. 7) Явление неполного сцепления генов легло в основу построения генетических кар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9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и 25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на проверку знаний и умений по разделам биологии основной и средней школы (профильный уровень): «Растения. Бактерии. Грибы. Лишайники», «Животные», «Человек и его здоровье», «Общая биология» представлены в контекстной форм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9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ния 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функция лёгких – снабжение организма кислородом. Какие иные функции в организме человека выполняют эти парные органы? Приведите не менее трёх функц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тиц, особенно хищных, хорошо развиты органы зрения. У разных видов птиц на сетчатке располагается от 500 тыс. до 1,5 млн фоторецепторов. Птицы способны видеть очень мелкие объекты на большом расстоянии. За счёт каких структур глаза и как у птиц обеспечивается высокая острота зрения? Какие фоторецепторы преобладают в сетчатке глаза коршуна, а какие – у совы и почем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ём заключается сходство и различие в транспортировке кислорода и углекислого газа в крови человека с учётом их различной растворимости? Какие соединения при этом образуются? Ответ поясните. Какое видимое изменение крови происходит при связывании углекислого газ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та зрения достигается за счёт хорошо развитой мышцы, которая изменяет кривизну хрусталика (за счёт способности  изменять кривизну хрусталика в большом диапазон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та зрения достигается за счёт зрительных рецепторов в сетчатке глаза, расположенных очень плот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бочки активны на свету (воспринимают цве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шун хорошо видит днём (дневной хищник), у него преобладают колбоч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очки активны в ночное врем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а хорошо видит ночью (ночной хищник), у неё преобладают палоч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одство: при транспортировке газов происходит их связывание с гемоглобином эритроци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е: углекислый газ лучше растворяется в воде, поэтому его большая часть растворяется в плаз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кислый газ в плазме образует угольную кислоту (карбоксид-ион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род образует с гемоглобином оксигемоглоб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кислый газ образует сгемоглобином карбоксигемоглоб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сыщении углекислым газом кровь становится вишнёвого цв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 в организме инфузории-туфельки поддерживается водно-солевой гомеостаз в пресных водоёмах? Как называется реакция инфузории-туфельки, выражающаяся в движении от кристалла сол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де расположен центр безусловно-рефлекторный регуляции отделения сока поджелудочной железы? Какова роль этого сока в пищеварении? Какую еще функцию выполняет поджелудочная железа, и в чем она проявляется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чем различие в строении семени и споры у цветковых растений? Укажите, что развивается из споры и семени в жизненном цикле этих растений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сновная функция легких – осуществление газообмена. Какие другие функции в организме человека выполняют эти парные органы? Приведите не менее трех функций. Ответ обоснуйт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тицы, в отличие от пресмыкающихся, обитают во всех природных зонах – от Арктики до Антарктиды. Приведите не менее четырех особенностей птиц, позволивших им занять все природные зоны. Обоснуйте их значени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ченые, изучая пищеварение в желудке, провели следующий эксперимент. Перед употреблением куска мяса один испытуемый выпил 250 мл воды, а другой – такой же объём мясного бульона. Как это повлияет на продолжительность переваривания белков мяса в желудке? Ответ пояснит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близкородственные браки нежелательны с позиций биологи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врачи рекомендуют использовать в пищу йодированную поваренную соль? В каком органе человека вырабатывается гормон, содержащий йод? Ответ поясни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бирку с кровью человека добавили такое же количество 0,1% раствора поваренной соли. Что произойдет с с эритроцитами крови? Ответ поясни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ксперименте для проверки работы вкусового анализатора в спокойном состоянии и в состоянии эмоционального напряжения человеку были предложены две таблетки: сладкая и горькая. Вкусовые ощущения в состоянии эмоционального напряжения были ослаблены по сравнению со спокойным состоянием. Объясните,  почем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9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и 26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яют знания и умения по разделу «Общая биология» средней школы (профильный уровень) и её блокам «Эволюция живой природы» и «Экосистемы и присущие им закономерности», представлены в контекстной форм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9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эволюция – это сопряженная эволюция двух видов организмов, находящихся друг с другом в тесных пищевых или иных экологических отношениях. Предположим, что у растения в результате его эволюции образовались жёсткие листья с плотным покровом, препятствующим поеданию насекомыми. Назовите не менее четырёх адаптаций, которые могут возникнуть у насекомых, питающихся листьями этого растения, вследствие их коэволюционного разви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ароморфозы в строении покрова, дыхательной и кровеносной системы произошли у пресмыкающихся? Обоснуйте их знач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с позиции современного эволюционного учения объясняется появление собачьих блох, устойчивых к противоблошиному шампуню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пуляции блох присутствуют особи с различной степенью устойчивости к ядовитым веществам (разными мутациям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бработке шампунем (в ходе борьбы за существование) неустойчивые к яду шампуня блохи погибают, а устойчивые выживаю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жившие блохи передают гены устойчивости к яду (мутацию)своим потомкам (получают преимущество в размножен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естественного отбора формируется новая популяция, устойчивая к яду шампу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даже длительное воздействие стабилизирующего отбора на особей одного вида не приводит к формированию полного фенотипического единообразия? Ответ обоснуй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ём проявляются различия экосистем пшеничного поля и естественного луга? Укажите не менее шести различ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идиоадаптации сформировались у цветковых растений, обитающих в воде? Приведите не менее четырёх признаков и обоснуйтеих адаптивные зна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ъясните, почему переселение человеком собак в Австралию привело к образованию нового вида (Дикая собака Динго). Для объяснения используйте знания о факторах эволюц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временные кистепёрые рыбы находятся в состоянии биологического регресса. Приведите доказательства этого явления. Ответ пояснит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 каких условиях генетически разнообразная популяция организмов может со временем образовать два вида? Укажите возможные причины разделения популяции с образованием двух видов. Ответ пояснит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9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и 27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ряют знания и умения по разделу «Общая биология» средней школы (профильный уровень) и блоку «Клетка как биологическая система», где от экзаменуемого требуется решать задачи на заданную тему, обосновывать ход решения и объяснять полученный результа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9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инии 27 при решении задач с использованием генетического кода при написании последовательности нуклеотидов во фрагментах молекул ДНК, иРНК допускается запись через тире между триплетами или нуклеотидами, так как это соответствует связи нуклеотидов между собой в единую цепь. Триплеты ДНК и кодоны иРНК могут записываться в виде сплошной последовательности или через тире между триплет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ой считается запись антикодонов разных молекул тРНК через тире между триплетами, что означает связывание их в единую цепь. Это свидетельствует о непонимании участником экзамена того, что антикодоны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адлежат разным молекулам тРНК и не связаны в единую цепь. За такую ошибку снимается 1 балл. Во фрагменте молекулы полипептида аминокислоты должны быть соединены друг с другом тире, так как являются единой цепью. Отсутствие пояснения, если оно требуется в задании, не дает возможность выставить высший бал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иния 2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993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хромосомный набо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ен для макроспоры, из которой формируется восьмиядерный зародышевый мешок, и яйцеклетки цветкового растения? Объясните, из каких исходных клеток и в результате какого деления образуются макроспора и яйцеклет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й хромосомный набор характерен для клеток заростка и клеток корневища щитовника мужского? Объясните, из каких исходных и в результате какого деления образуются эти клет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й хромосомный набор характерен для клеток спорогона (коробочки на ножке) и спор сфагнума? Объясните, из каких исходных клеток и в результате какого деления они образую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 правильного отве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50920" y="62028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у близких родственников наиболее вероятно наличие одинаковых рецессивных аллелей, вызывающих определенные заболев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 большой вероятностью потомки могут быть гомозиготны по рецессивным аллелям (аа) и могут иметь наследственные заболе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од необходим для синтеза гормона тироксина в организме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итовидная желе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а внутренней секре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эритроциты начнут набухать (лопатьс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ри добавлении 0,1% раствора соли понижается концентрация солей плазмы (среда становится гипотонической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ода по закону осмоса (диффузии) поступает в эритроци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моциональном напряжении в коре головного мозга возникает сильный очаг возбуждения (принцип доминанты Ухтомског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дит торможение центра вкуса в коре, поэтому вкусовые ощущения ослабле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9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и 28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ряет практические умения по разделу «Общая биология» (профильный уровень) и блоку «Организм как биологическая система», где от экзаменуемого требуется решать генетические задачи, составлять схему их решения и объяснять полученные результа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9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ценивании задач по генетике в линии 28 рекомендуется строго следовать эталонам и критериям оценивания. Схема решения задачи в работе должна соответствовать схеме в эталоне. Допускается лишь иная генетическая символика, о чем указано в критериях оценивания. В ответе при отсутствии объяснения результатов скрещивания высший балл не присуждается даже в случае правильного решения задач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задаче требуется указать закон наследственности, то должно быть указано его название. Если в ответе указан номер закона или автор (1 закон, закон Менделя, закон Моргана), то ответ не принимается как верный и балл не выставляетс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ы формы и окраски плода находятся в разных хромосомах. При скрещивании растений арбуза с удлинёнными зелёными плодами и растения арбуза с круглыми полосатыми плодами в потомстве получили растения с удлинёнными зелёными плодами и круглыми зелёными плодами. При скрещивании этого же арбуза с удлинёнными зелёными плодами и растения с круглыми зелёными плодами всё потомство имело круглые зелёные плоды. Составьте схемы скрещивания. Определите все возможные генотипы родителей и потомства в каждом скрещива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розофилы гетерогаметным полом является мужской пол. При скрещивании самки дрозофилы с нормальными крыльями, красными глазами и самца с загнутыми крыльями, белыми глазами всё гибридное потомство было единообразным по форме крыльев и окраске глаз. При скрещивании самки дрозофилы с загнутыми крыльями, белыми глазами и самца с нормальными крыльями, красными глазами в потомстве получились самки с нормальными крыльями, красными глазами и самцы с нормальными крыльями, белыми глазами. Составьте схемы скрещиваний. Определите генотипы родительских особей и генотипы, фенотипы, пол потомства в двух скрещиваниях. Объясните фенотипическое расщепление во втором скрещива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крещивании самок мыши с прямой длинной шерстью и самцов мыши с извитой шерстью нормальной длины все потомство получилось с прямой шерстью нормальной длины. В анализирующем скрещивании гибридного потомства получилось четыре разные фенотипические группы в количестве: 32, 30,10,9. Составьте схемы скрещиваний. Определите  генотипы родительских особей, генотипы и фенотипы потомства каждой группы в двух скрещиваниях и численность каждой группы во втором скрещивании. Объясните формирование четырех фенотипических групп в анализирующем скрещивани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человека между аллелями генов атрофии зрительного нерва и красно-зелёного дальтонизма. Не имеющая таких заболеваний женщина, у матери которой был дальтонизм, а у отца-атрофия зрительного нерва, вышла замуж за мужчину, не имеющего таких заболеваний. Родившаяся в этом браке моногомозиготная здоровая дочь вышла замуж за мужчину, не имеющего таких заболеваний, в этой семье родился ребенок-дальтоник. Составьте схемы решения задачи. Укажите генотипы, фенотипы, пол возможного потомства в двух браках. Возможно ли в первом браке рождение больного двумя заболеваниями ребёнка? Ответ пояснит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биохимического метода отличают РНК-содержащие вирусы от ДНК-содержащих. На чём основан этот метод? Какие различия в химическом составе вирусов определяются с помощью этого метода? Ответ поясни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блюдении вегетарианской диеты врачи рекомендуют увеличивать долю бобовых культур в рационе. Почему бобовые растения считаются полноценной заменой мясной пище? Какие особенности их жизнедеятельности привели к этом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ой целью в специальных лабораториях размножают, а затем выпускают на поля и в сады трихограмм из группы наездников-яйцеедов? Ответ обоснуйте с учётом особенностей размножения наездников – наезд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я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химический метод основан на анализе химического состава веществ (качественных реакци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НК-вирусы содержат рибозу и ураци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- вирусы содержат дезоксирибозу и тим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бовые растения, как и мясо имеют высокое содержание белков(незаменимых аминокисло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бовые растения живут в симбиозе с азотфиксирующими бактер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бовые получают большое количество азота для синтеза бел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хограмм используют на полях и в садах с целью сократить численность насекомых-вредите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хограммы откладывают свои яйца в яйца других насеком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личинки съедают содержимое яиц насекомых-вредителей раст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4"/>
          <p:cNvSpPr/>
          <p:nvPr/>
        </p:nvSpPr>
        <p:spPr>
          <a:xfrm flipV="1">
            <a:off x="1036800" y="4797000"/>
            <a:ext cx="44640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9"/>
          <p:cNvSpPr/>
          <p:nvPr/>
        </p:nvSpPr>
        <p:spPr>
          <a:xfrm>
            <a:off x="4140360" y="4797360"/>
            <a:ext cx="1360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ния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препарат инсулина, необходимый для лечения больных диабетом, выпускается только в виде раствора для инъекций, а не в виде таблеток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58 г. учеными в процессе эксперимента был установлен полуконсервативный принцип репликации ДНК.В качестве объекта эксперимента использовали бактерию кишечную палочк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erichia col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актерии длительное время выращивали на питательной среде, содержащей нуклеотиды с тяжелым изотоп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затем перевели на среду с легким изотоп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1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Как называется используемый в эксперименте метод? Какие изотопы азот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держали цепи новых молекул ДНК после первого деления клетки на новой питательной сред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и 2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усматривают ответ на вопрос практической направленности из любого раздела биологии. В заданиях требуется применить имеющиеся биологические знания по всем разделам биологии, для объяснения практического действия или применения знаний и умений для обоснования получившихся результа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ния 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84360" y="1011240"/>
            <a:ext cx="813564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8T03:45:44Z</dcterms:created>
  <dc:creator>admin</dc:creator>
  <dc:description/>
  <dc:language>en-US</dc:language>
  <cp:lastModifiedBy>admin</cp:lastModifiedBy>
  <dcterms:modified xsi:type="dcterms:W3CDTF">2021-10-29T14:15:38Z</dcterms:modified>
  <cp:revision>47</cp:revision>
  <dc:subject/>
  <dc:title>Решение заданий ЕГЭ повышенной сложности</dc:title>
</cp:coreProperties>
</file>