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19.png" ContentType="image/png"/>
  <Override PartName="/ppt/media/image18.jpeg" ContentType="image/jpeg"/>
  <Override PartName="/ppt/media/image28.jpeg" ContentType="image/jpeg"/>
  <Override PartName="/ppt/media/image34.jpeg" ContentType="image/jpeg"/>
  <Override PartName="/ppt/media/image20.png" ContentType="image/png"/>
  <Override PartName="/ppt/media/image36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140-94F7-444D-84F1-461F9643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964-551B-4135-8415-72718EF3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4C8-DFFF-4932-8B48-4BD2C8D2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1CB-8B7B-46AA-912D-B273CB4F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B5E2-EA31-44D1-8CA1-D0EDC133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09F2-4001-415E-B4B1-0EF5D30F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A5DA-7AFA-4046-AFAC-EDA32732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C3A8-77CD-4018-A79D-865104B6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0456-8A18-4758-B7D2-1701E077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F9E1-B14F-475E-A7E6-A3C4C014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2CBE-7471-4B24-A275-7A65F58C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115-A98E-4BFB-B998-2708FFB7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4667-AEA0-4BC9-A75A-97096F59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F25A-27B9-4315-9239-0E67C540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D594-576B-4FB2-B27E-B3A4B70A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6998-3CBA-4D6B-B82F-8F51D111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151D-6A42-435D-814E-33F4E228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D98-A166-44E8-9707-E04E84B9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7EA-7D8A-462A-85BB-97BA6BD1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962-CDC9-433D-BC4B-38AE3640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512-6BF6-4004-853F-923E961B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07A-97CB-4F0E-9320-16E057B3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EB4-1E07-4CBA-BE29-8D048014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E73-2041-4040-AD03-F5DB7403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E99F-59E9-4042-94DA-9607FFE674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EBDD-4EAB-4395-85B9-C21ABDA0EC3E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8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сканирование0014"/>
          <p:cNvPicPr/>
          <p:nvPr/>
        </p:nvPicPr>
        <p:blipFill>
          <a:blip r:embed="rId1"/>
          <a:stretch/>
        </p:blipFill>
        <p:spPr>
          <a:xfrm>
            <a:off x="0" y="0"/>
            <a:ext cx="9144000" cy="7058160"/>
          </a:xfrm>
          <a:prstGeom prst="rect">
            <a:avLst/>
          </a:prstGeom>
          <a:ln w="0">
            <a:noFill/>
          </a:ln>
        </p:spPr>
      </p:pic>
      <p:sp>
        <p:nvSpPr>
          <p:cNvPr id="193" name="WordArt 5"/>
          <p:cNvSpPr txBox="1"/>
          <p:nvPr/>
        </p:nvSpPr>
        <p:spPr>
          <a:xfrm>
            <a:off x="304920" y="304920"/>
            <a:ext cx="86104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струкция  и  дек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дме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родного  бы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ЗО   5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94" name="Picture 7" descr="http://matematikaiskusstvo.ru/images/34.jpg"/>
          <p:cNvPicPr/>
          <p:nvPr/>
        </p:nvPicPr>
        <p:blipFill>
          <a:blip r:embed="rId2"/>
          <a:stretch/>
        </p:blipFill>
        <p:spPr>
          <a:xfrm>
            <a:off x="380880" y="2819520"/>
            <a:ext cx="3886200" cy="40320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4"/>
          <p:cNvSpPr/>
          <p:nvPr/>
        </p:nvSpPr>
        <p:spPr>
          <a:xfrm>
            <a:off x="4585320" y="5105520"/>
            <a:ext cx="448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Учитель МБОУ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«Школа      № 101 города Донецка ДНР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авленко Людмила Петро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сканирование0022"/>
          <p:cNvPicPr/>
          <p:nvPr/>
        </p:nvPicPr>
        <p:blipFill>
          <a:blip r:embed="rId1"/>
          <a:stretch/>
        </p:blipFill>
        <p:spPr>
          <a:xfrm>
            <a:off x="6172200" y="2362320"/>
            <a:ext cx="2743200" cy="1778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сканирование0023"/>
          <p:cNvPicPr/>
          <p:nvPr/>
        </p:nvPicPr>
        <p:blipFill>
          <a:blip r:embed="rId2"/>
          <a:stretch/>
        </p:blipFill>
        <p:spPr>
          <a:xfrm>
            <a:off x="304920" y="2579760"/>
            <a:ext cx="5257800" cy="35938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8"/>
          <p:cNvSpPr/>
          <p:nvPr/>
        </p:nvSpPr>
        <p:spPr>
          <a:xfrm>
            <a:off x="304920" y="30492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Самое почётное место на столе занимали хлеб да соль. Разве могла обойтись без них встреча гостей, невесты с женихом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«Без соли, без хлеба – худая беседа», - говорили в народ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Игрушечные креслица, уточки не что иное, как солоницы. 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6" descr="сканирование0019"/>
          <p:cNvPicPr/>
          <p:nvPr/>
        </p:nvPicPr>
        <p:blipFill>
          <a:blip r:embed="rId3"/>
          <a:stretch/>
        </p:blipFill>
        <p:spPr>
          <a:xfrm>
            <a:off x="5334120" y="4343400"/>
            <a:ext cx="30351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-380880" y="580320"/>
            <a:ext cx="449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изенькой светелке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гонек горит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лодая пряха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 окна сидит.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избушке, распевая, дева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ядет, и, зимних друг ночей,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ит лучина перед ней... 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"Три девицы под окном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яли поздно вечерком..."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Picture 7" descr="http://stitcher.narod.ru/gallery/images/pryaha1.jpg"/>
          <p:cNvPicPr/>
          <p:nvPr/>
        </p:nvPicPr>
        <p:blipFill>
          <a:blip r:embed="rId1"/>
          <a:stretch/>
        </p:blipFill>
        <p:spPr>
          <a:xfrm>
            <a:off x="4267080" y="533520"/>
            <a:ext cx="4572000" cy="6059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http://img1.liveinternet.ru/images/attach/c/1/50/777/50777959_1257416849_18.gif"/>
          <p:cNvPicPr/>
          <p:nvPr/>
        </p:nvPicPr>
        <p:blipFill>
          <a:blip r:embed="rId2"/>
          <a:stretch/>
        </p:blipFill>
        <p:spPr>
          <a:xfrm>
            <a:off x="228600" y="4114800"/>
            <a:ext cx="38624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9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лка была не только орудием труда, но и произведением искусства: чтобы скрасить тяжелый труд, ее украшали резьбой по дереву, цветистой росписью, а иногда резьбой и росписью одновременно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2" name="Picture 2" descr="http://img1.liveinternet.ru/images/attach/c/1/50/787/50787583_1257433829_Vazhskie_pryalki.jpg"/>
          <p:cNvPicPr/>
          <p:nvPr/>
        </p:nvPicPr>
        <p:blipFill>
          <a:blip r:embed="rId1"/>
          <a:stretch/>
        </p:blipFill>
        <p:spPr>
          <a:xfrm>
            <a:off x="2514600" y="1295280"/>
            <a:ext cx="4438800" cy="2086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http://istoriz.ru/wp-content/uploads/2014/06/3-Mehanicheskaya-pryalka.jpg"/>
          <p:cNvPicPr/>
          <p:nvPr/>
        </p:nvPicPr>
        <p:blipFill>
          <a:blip r:embed="rId2"/>
          <a:stretch/>
        </p:blipFill>
        <p:spPr>
          <a:xfrm>
            <a:off x="228600" y="1676520"/>
            <a:ext cx="2146320" cy="362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http://kanunnikovao.ru/wp-content/uploads/2013/06/pryalka1_thumb.jpg"/>
          <p:cNvPicPr/>
          <p:nvPr/>
        </p:nvPicPr>
        <p:blipFill>
          <a:blip r:embed="rId3"/>
          <a:stretch/>
        </p:blipFill>
        <p:spPr>
          <a:xfrm>
            <a:off x="5562720" y="3352680"/>
            <a:ext cx="3222360" cy="3245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http://proxy11.media.online.ua/uol/r3-4ad3547c47/5182fc1a88189.jpg"/>
          <p:cNvPicPr/>
          <p:nvPr/>
        </p:nvPicPr>
        <p:blipFill>
          <a:blip r:embed="rId4"/>
          <a:stretch/>
        </p:blipFill>
        <p:spPr>
          <a:xfrm>
            <a:off x="2209680" y="4114800"/>
            <a:ext cx="32688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Выполнение эскиза декоративного украшения предметов крестьянского быта (ковш-утица, ковш-скопкарь, ковш-конюх)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7" name="Picture 2" descr="http://cs1.livemaster.ru/storage/a7/72/3642167dba8b450c465b097c46--russkij-stil-kovsh-utitsa.jpg"/>
          <p:cNvPicPr/>
          <p:nvPr/>
        </p:nvPicPr>
        <p:blipFill>
          <a:blip r:embed="rId1"/>
          <a:stretch/>
        </p:blipFill>
        <p:spPr>
          <a:xfrm>
            <a:off x="304920" y="1295280"/>
            <a:ext cx="3803400" cy="3121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http://cs1.livemaster.ru/storage/a2/bf/032743b61187a7d56a97a2599ce9--russkij-stil-kovsh-utitsa-s-lozhkami.jpg"/>
          <p:cNvPicPr/>
          <p:nvPr/>
        </p:nvPicPr>
        <p:blipFill>
          <a:blip r:embed="rId2"/>
          <a:srcRect l="0" t="20004" r="0" b="22859"/>
          <a:stretch/>
        </p:blipFill>
        <p:spPr>
          <a:xfrm>
            <a:off x="3657600" y="2286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http://www.rezbaderevo.ru/sites/default/files/styles/galleryformatter_slide/public/images/w_110112_1.JPG"/>
          <p:cNvPicPr/>
          <p:nvPr/>
        </p:nvPicPr>
        <p:blipFill>
          <a:blip r:embed="rId3"/>
          <a:srcRect l="0" t="20724" r="0" b="0"/>
          <a:stretch/>
        </p:blipFill>
        <p:spPr>
          <a:xfrm>
            <a:off x="4095720" y="4343400"/>
            <a:ext cx="5048280" cy="2514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http://playing-field.ru/img/2015/052211/1052824"/>
          <p:cNvPicPr/>
          <p:nvPr/>
        </p:nvPicPr>
        <p:blipFill>
          <a:blip r:embed="rId4"/>
          <a:stretch/>
        </p:blipFill>
        <p:spPr>
          <a:xfrm>
            <a:off x="0" y="4419720"/>
            <a:ext cx="3809880" cy="2171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http://cs1.livemaster.ru/storage/7f/6e/e534ffde3c5d5bea275c89f570z9--russkij-stil-kovsh-utitsa.jpg"/>
          <p:cNvPicPr/>
          <p:nvPr/>
        </p:nvPicPr>
        <p:blipFill>
          <a:blip r:embed="rId5"/>
          <a:srcRect l="11762" t="9253" r="9797" b="0"/>
          <a:stretch/>
        </p:blipFill>
        <p:spPr>
          <a:xfrm>
            <a:off x="6095880" y="838080"/>
            <a:ext cx="304812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опросы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.  Как  ты  думаешь,  что  роднит  различные  произведения  крестьянского  быта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.  Какую  роль  играет  декор  в  крестьянском  прикладном  искусстве?  Можно  ли  сказать,  что  он  служит  только  украшением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3.  Какие  черты  свойственны  крестьянским  мастерам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5333760"/>
            <a:ext cx="838188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ЧНОЕ ЦВЕТЕНИЕ РОСПИСИ, МЕРЦАЮЩИЕ РЕЗНЫЕ УЗОРЫ, ЯРКИЕ ОСТРОВКИ ВЫШИВОК НЕ ТОЛЬКО ДОСТАВЛЯЛИ РАДОСТЬ ГЛАЗУ, НО И БЫЛИ ЗНАКОМ ДОБРОДЕЯНИЯ, ПОЖЕЛАНИЕМ БЛАГА.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-228960"/>
            <a:ext cx="8458200" cy="111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Произведения народного искусства, которые жили вместе с человеком, помогали в быту, труде, были участниками праздник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4" descr="http://mtdata.ru/u29/photo8BF5/20057300282-0/original.jpg"/>
          <p:cNvPicPr/>
          <p:nvPr/>
        </p:nvPicPr>
        <p:blipFill>
          <a:blip r:embed="rId1"/>
          <a:stretch/>
        </p:blipFill>
        <p:spPr>
          <a:xfrm>
            <a:off x="838080" y="990720"/>
            <a:ext cx="56199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варь, предметы быта, помогали  крестьянину в его повседневной жизни. Эти предметы радовали глаз хозяина и окружали всю его семью теплом и радостью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2" descr="http://f3.s.qip.ru/zuH5XprB.jpg"/>
          <p:cNvPicPr/>
          <p:nvPr/>
        </p:nvPicPr>
        <p:blipFill>
          <a:blip r:embed="rId1"/>
          <a:stretch/>
        </p:blipFill>
        <p:spPr>
          <a:xfrm>
            <a:off x="262080" y="1295280"/>
            <a:ext cx="82468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380988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- каповый ладьевидным московский ковш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- большой Козьмодемьянским ковш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3 - Козьмодемьянские ковши-черпак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 - тверской ковш “конюх”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5 - ковш ярославско-костромского тип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6 - вологодский ковш-налевк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7 - северодвинский скопкар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8 - тверская ендова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 - северодвинская ендова</a:t>
            </a: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Picture 2" descr="Русские деревянные ковши"/>
          <p:cNvPicPr/>
          <p:nvPr/>
        </p:nvPicPr>
        <p:blipFill>
          <a:blip r:embed="rId1"/>
          <a:srcRect l="9855" t="6206" r="8448" b="5232"/>
          <a:stretch/>
        </p:blipFill>
        <p:spPr>
          <a:xfrm>
            <a:off x="4005360" y="228600"/>
            <a:ext cx="513864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-3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Ковш-конюх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8" descr="сканирование0015"/>
          <p:cNvPicPr/>
          <p:nvPr/>
        </p:nvPicPr>
        <p:blipFill>
          <a:blip r:embed="rId2"/>
          <a:stretch/>
        </p:blipFill>
        <p:spPr>
          <a:xfrm>
            <a:off x="0" y="2895480"/>
            <a:ext cx="4264200" cy="3294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Русский стиль ручной работы. Ярмарка Мастеров - ручная работа Братина &quot;Конь&quot; с 6 черпаками. Handmade."/>
          <p:cNvPicPr/>
          <p:nvPr/>
        </p:nvPicPr>
        <p:blipFill>
          <a:blip r:embed="rId3"/>
          <a:srcRect l="0" t="10366" r="0" b="15339"/>
          <a:stretch/>
        </p:blipFill>
        <p:spPr>
          <a:xfrm>
            <a:off x="4343400" y="304920"/>
            <a:ext cx="4410000" cy="327636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9"/>
          <p:cNvSpPr/>
          <p:nvPr/>
        </p:nvSpPr>
        <p:spPr>
          <a:xfrm>
            <a:off x="4495680" y="4038480"/>
            <a:ext cx="358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народных представлениях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овш – конюх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лицетворял собой хозяина дом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1" descr="http://900igr.net/datas/mkhk/Slova-na-bukvu-s/0044-044-Skopkar.jpg"/>
          <p:cNvPicPr/>
          <p:nvPr/>
        </p:nvPicPr>
        <p:blipFill>
          <a:blip r:embed="rId1"/>
          <a:srcRect l="0" t="0" r="7500" b="20000"/>
          <a:stretch/>
        </p:blipFill>
        <p:spPr>
          <a:xfrm>
            <a:off x="0" y="0"/>
            <a:ext cx="8458200" cy="5486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ttp://matematikaiskusstvo.ru/images/skopk.JPG"/>
          <p:cNvPicPr/>
          <p:nvPr/>
        </p:nvPicPr>
        <p:blipFill>
          <a:blip r:embed="rId2"/>
          <a:stretch/>
        </p:blipFill>
        <p:spPr>
          <a:xfrm>
            <a:off x="5457960" y="3962520"/>
            <a:ext cx="368604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http://matematikaiskusstvo.ru/gallery/hohlll--2-.jpg"/>
          <p:cNvPicPr/>
          <p:nvPr/>
        </p:nvPicPr>
        <p:blipFill>
          <a:blip r:embed="rId1"/>
          <a:stretch/>
        </p:blipFill>
        <p:spPr>
          <a:xfrm>
            <a:off x="4267080" y="380880"/>
            <a:ext cx="3478320" cy="4641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фото №1 - Ладья Лебедь малый с крыльями - 3100 рублей"/>
          <p:cNvPicPr/>
          <p:nvPr/>
        </p:nvPicPr>
        <p:blipFill>
          <a:blip r:embed="rId2"/>
          <a:srcRect l="16607" t="9060" r="15473" b="0"/>
          <a:stretch/>
        </p:blipFill>
        <p:spPr>
          <a:xfrm>
            <a:off x="533520" y="2590920"/>
            <a:ext cx="2859120" cy="382896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4"/>
          <p:cNvSpPr/>
          <p:nvPr/>
        </p:nvSpPr>
        <p:spPr>
          <a:xfrm>
            <a:off x="358128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 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овш –утица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связывался с образом гостеприимной и домовитой хозяй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Picture 4" descr="http://cs1.livemaster.ru/storage/a2/bf/032743b61187a7d56a97a2599ce9--russkij-stil-kovsh-utitsa-s-lozhkami.jpg"/>
          <p:cNvPicPr/>
          <p:nvPr/>
        </p:nvPicPr>
        <p:blipFill>
          <a:blip r:embed="rId3"/>
          <a:srcRect l="0" t="20004" r="0" b="22859"/>
          <a:stretch/>
        </p:blipFill>
        <p:spPr>
          <a:xfrm>
            <a:off x="533520" y="174600"/>
            <a:ext cx="277164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1724040" cy="5305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3657600" y="1371600"/>
            <a:ext cx="3962520" cy="2714760"/>
          </a:xfrm>
          <a:prstGeom prst="rect">
            <a:avLst/>
          </a:prstGeom>
          <a:ln w="0">
            <a:noFill/>
          </a:ln>
        </p:spPr>
      </p:pic>
      <p:sp>
        <p:nvSpPr>
          <p:cNvPr id="215" name="WordArt 7"/>
          <p:cNvSpPr txBox="1"/>
          <p:nvPr/>
        </p:nvSpPr>
        <p:spPr>
          <a:xfrm>
            <a:off x="380880" y="533520"/>
            <a:ext cx="2686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вш-черп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6" name="Прямоугольник 9"/>
          <p:cNvSpPr/>
          <p:nvPr/>
        </p:nvSpPr>
        <p:spPr>
          <a:xfrm>
            <a:off x="3352680" y="4114800"/>
            <a:ext cx="4572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Огромная круглая чаша с носиком для разлива напитков –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 ендова</a:t>
            </a: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также предназначалась для праздничных столов. И поэтому её украшали с особым старанием: наряжали в праздничные расписные «одежды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сканирование0020"/>
          <p:cNvPicPr/>
          <p:nvPr/>
        </p:nvPicPr>
        <p:blipFill>
          <a:blip r:embed="rId1"/>
          <a:stretch/>
        </p:blipFill>
        <p:spPr>
          <a:xfrm>
            <a:off x="609480" y="457200"/>
            <a:ext cx="4773600" cy="1752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сканирование0024"/>
          <p:cNvPicPr/>
          <p:nvPr/>
        </p:nvPicPr>
        <p:blipFill>
          <a:blip r:embed="rId2"/>
          <a:stretch/>
        </p:blipFill>
        <p:spPr>
          <a:xfrm>
            <a:off x="380880" y="2971800"/>
            <a:ext cx="2133720" cy="3220920"/>
          </a:xfrm>
          <a:prstGeom prst="rect">
            <a:avLst/>
          </a:prstGeom>
          <a:ln w="0">
            <a:noFill/>
          </a:ln>
        </p:spPr>
      </p:pic>
      <p:sp>
        <p:nvSpPr>
          <p:cNvPr id="219" name="WordArt 7"/>
          <p:cNvSpPr txBox="1"/>
          <p:nvPr/>
        </p:nvSpPr>
        <p:spPr>
          <a:xfrm>
            <a:off x="1523880" y="2209680"/>
            <a:ext cx="1629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бе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0" name="WordArt 9"/>
          <p:cNvSpPr txBox="1"/>
          <p:nvPr/>
        </p:nvSpPr>
        <p:spPr>
          <a:xfrm>
            <a:off x="1523880" y="5943600"/>
            <a:ext cx="132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ра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1" name="Picture 11" descr="http://go4.imgsmail.ru/imgpreview?key=24c2f85e08136598&amp;mb=imgdb_preview_67"/>
          <p:cNvPicPr/>
          <p:nvPr/>
        </p:nvPicPr>
        <p:blipFill>
          <a:blip r:embed="rId3"/>
          <a:stretch/>
        </p:blipFill>
        <p:spPr>
          <a:xfrm>
            <a:off x="3276720" y="2819520"/>
            <a:ext cx="2514600" cy="2877840"/>
          </a:xfrm>
          <a:prstGeom prst="rect">
            <a:avLst/>
          </a:prstGeom>
          <a:ln w="0">
            <a:noFill/>
          </a:ln>
        </p:spPr>
      </p:pic>
      <p:sp>
        <p:nvSpPr>
          <p:cNvPr id="222" name="WordArt 9"/>
          <p:cNvSpPr txBox="1"/>
          <p:nvPr/>
        </p:nvSpPr>
        <p:spPr>
          <a:xfrm>
            <a:off x="5791320" y="5867280"/>
            <a:ext cx="1323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бан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3" name="Picture 6" descr="http://cs5.livemaster.ru/storage/72/97/73661498909e0c7a83a02d9cc96a.jpg"/>
          <p:cNvPicPr/>
          <p:nvPr/>
        </p:nvPicPr>
        <p:blipFill>
          <a:blip r:embed="rId4"/>
          <a:stretch/>
        </p:blipFill>
        <p:spPr>
          <a:xfrm>
            <a:off x="6019920" y="10666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10-02T11:40:3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