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DF6-D6BE-4F93-8769-78D2A810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DBB-2F3C-48A8-9776-D67ED64E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627-E770-4F6E-9E24-C7C283B8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3E9-A6F1-4221-8340-B1B9DAF1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A3C-B78E-4FE9-9A43-B311CF5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04A-C16B-4339-8696-56450013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AD3-43A5-47AA-AC98-88C41DB7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07D8-1D34-4637-B68B-9930240E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03C-F308-4939-B45C-DEB4B38E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ADC5-1ABE-4EC3-8EC7-02AB605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45C-46D2-44F6-B9A7-2C7B44B9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8B6-6A4E-4FB7-BA95-7F09B6BC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4A12-600E-4839-8654-F8020BD1796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нтаксические норм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остроение предложений с деепричастием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итая о страданиях Бруно и Галилея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ыл предан анафеме догмат о существовании только одного ми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ы подчас готовы считать их палачей олицетворением воинствующего невеже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ение о бесконечности Вселенной никогда не будет забыт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агедия ученых до сих пор не дает покоя исследователям их жиз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утешествуя по бескрайней дальневосточной тайг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шла пора опубликовать свои дорожные наблю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ется описание рельефа Приморья и горной системы Сихотэ-Али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граф В. Арсеньев изучал богатейшие флору и фауну эт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же стемн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7.Читая книги зоолога А. Бре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не исследования, а жизнеописания живот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новится очень интерес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мысли выражены в ней прави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остно удивляешься причудливости ми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Читая книги о Леонардо да Винчи и глядя на его карти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умаешь о необыкновенном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ключении, которое сделала природа для человеч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природа захотела соединить множество талантов в одном челове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вас ничто не должно отвлек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за окном библиотеки быстро стемн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росая камни в вод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все стороны летели брыз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ятся широкие кру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онардо да Винчи объяснил распространение звуковых вол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было прекрасное настро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ереходя улиц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только на зеленый с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 нарушаются прав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я оштрафовал милицион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рушай правила дви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рожив долгую и счастливую жизнь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зика Роберта Вуда мучило неодолимое любопытств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 него была замечательная ж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ступило состояние поко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ный всегда занимался тем, к чему лежала его душ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лушая лекции Галилея Галиле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я молодого профессора быстро становится популяр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его лекции приходило до двух тысяч слуша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венецианцев возникало чувство гордости за соотечественн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священного цензурного комитета Рима возникли пробле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Покинув ребенком отцовское имени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ем не было внешней суетной одержим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кудные средства родителей не позволили учиться в университе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Жуковский решает непременно стать инженер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го охватило радостное чувств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верив в Октябрьскую революцию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инсульт настиг его в новогоднюю ночь 1921 г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ировалась личность большого уче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я Н.Жуковского по механике поразили уче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отдался ей безогляд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9280" y="188640"/>
            <a:ext cx="8785440" cy="59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ирая правильное продолжение предложения, начинающегося с деепричастного оборота, необходимо знать, что действие, о котором идет речь в обороте,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бавочным по отношению к основному действию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ечь о котором идет 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казуемом: Сидя на ветке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лк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рыз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ехи.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Грызла (как?) сидя на ветке.) Поэтому и основное, и добавочное действие должно выполняться одним и тем же лицом (должен быть один исполнитель – подлежащее, выполняющее оба действия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зучая законы движения планет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реди научных трактатов есть одна совершенно необычная рабо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же совсем стемнел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анатизм и мистика соседствуют с непостижимыми откровениями г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читайте исследования Николая Копер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видев в иллюминаторе голубую Землю и совершенно черное неб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 желание уберечь ее от любых бе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монавту не было рав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монавта охватило радостное возбу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смонавт зачарованно зам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омогая бедным и обездоленным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ми были выбраны лучшие продукты и ве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е сердце сжимается от боли за н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арайтесь быть деликатны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веряется сострадание и милосерд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чистив улицы и дворы от мусо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е настроение было замеча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дух становится чищ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забудьте потом посадить цветы и деревь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ы большие мусорные ба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игласив девушку в кинотеатр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ее красота давно меня привлека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я галантность не знала границ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илет купите заране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 друзей мне не понадобила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мотрев по телевизору выпуск новост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понравился дикт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оказался неинтерес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м говорили о предстоящих реформах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огда думаешь, что это криминальные свод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рушая правила пожарной безопасност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юг сильно накалил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жарный шланг был удале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зникает угроза жизни окружающ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удьте готовы к большим неприятностя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адив огромный вишневый са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репляются мышцы рук, ног и спи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овлетворение переполняло его душ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ли первый урожай отдать в детский 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е заморозки погубили сажен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3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ыиграв чемпионат мира по футболу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адион долго ликова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яч влетел в ворота противни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анда вновь начала упорно тренировать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меняется настроение болельщик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4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купая подарок мам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й кошелек быстро опуст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я охватила нежная любовь к н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райтесь устроить ей настоящий праздн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ились наши пл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560" y="189000"/>
            <a:ext cx="84358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 в определенно-личных и неопределенно-личных предложениях подлежащего нет, и сказуемое в них может быть выражено глаголом в одной из трех фор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форме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повелительного наклонения: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Читая текст,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обращайте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 внимание на способы выражения авторской позици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форме 1-го или 2-го лица изъявительного наклонения: 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Читая текст, обращаю внимание на способы выражения авторской позиции.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(Подлежащее «я» легко восстанавливается и относится как к сказуемому, так и к деепричастию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форме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инфинитива в значении повелительного наклонения: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Читая текст,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следует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братить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внимание на способы выражения авторской позици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аким образом. Основные способы грамматически верных продолжений предложения с деепричастным оборотом можно увидеть в следующей таблиц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5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озвращаясь домой из Сибир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екабристам не позволили жить в Москве и Петербург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рога декабристов была бесконечн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а декабристов запрещено было упомина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ногие декабристы надеялись увидеть Россию обновленно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6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грубив незнакомому челове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почувствовал себя совсем нехорош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го хамство не знало пре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увствовалось какое-то недоволь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совесть страд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7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бороняя осажденный Ленинград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локада тысячами уносила людские жизн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лод и холод царили в н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нем и ночью велись артобстрел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ши солдаты показывали чудеса храбр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зложив в сочинении личностную позицию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уманно аргументируйте 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гументы были очень интерес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возникла неожиданная иде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чинение получилось интерес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9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ыдвинув Фарадея в члены Королевского общест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ушная волна тайной зависти захлестнула некоторых его противни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ые признали его огромный вклад в науку об электричеств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ача сопутствовала 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ка о магнетизме вышла на широкую дорог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0.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умая о межпланетных полета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смос перестал быть недосягаем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П. Королев обсуждал с конструкторами свои пла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чты С.П. Королева оказались воплощены в жизн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друг обнаружилась трещина в обшивке кораб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1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итая воспоминания о Толстом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е впечатление изменило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нига оставила приятное впечатл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 меня возникло желание съездить в Ясную Полян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шь его величие как писателя и человек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2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казав всадникам спешить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и отправились на конюшн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ыл прочитан приказ о наступл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ница противника была разгромл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андир направился к одному из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3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овершив более двухсот прыжков с парашютом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молет улетел на баз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бодное падение резко замедлило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емля стремительно приближалас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я перестал бояться неб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4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меясь над своими порокам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не стало грус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епенно освобождаешься от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остное возбуждение долго не проходи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лась привычка анализировать собственные поступ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259920"/>
            <a:ext cx="403848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Начало предложения (деепричастный оборот, обозначающий добавочное действие сказуемого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Готовясь к ЕГЭ по русскому языку,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89000"/>
            <a:ext cx="40384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Правильные варианты предложе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ученик повторял синтаксис простого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предложения.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Есть подлежащее, которое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ыполняет и основное действие, заключенное в сказуемом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 «повторял»,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 добавочное, заключенное в деепричастии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 «готовясь»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решаю сложные тесты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решаем сложные тесты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Есть сказуемое в форме 1-го или 2-го лица изъявительного наклонения (можно восстановить подлежащее, выраженное местоимениями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я, мы, ты, вы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тщательно повторяйте пройденное. 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определенно-личном предложении есть глагол-сказуемое в форме повелительного наклон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</a:t>
            </a:r>
            <a:r>
              <a:rPr b="0" i="1" lang="ru-RU" sz="1500" spc="-1" strike="noStrike">
                <a:solidFill>
                  <a:srgbClr val="000000"/>
                </a:solidFill>
                <a:latin typeface="Calibri"/>
              </a:rPr>
              <a:t>необходимо тщательно повторить пройденный материал.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Есть инфинитив в значении повелительного наклонения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5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зучив труды Архимеда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нем неистребимо жила страсть к изобретательств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ревний Рим так и не узнал секретов метательных машин этого учен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дивление потомков не знало преде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юдская молва и суд потомков мало для него значи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6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правляясь покорять горные вершины или бурные ре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юкзаки были тщательно улож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имость туристов не знала пре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изучить маршрут след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цинская аптечка никогда не помеш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7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азмышляя о смысле жизн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риентироваться вам помогут герои Л. Толст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любимые герои Л. Толстого идут непростыми путя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и симпатии принадлежат героям Л. Толст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рдца читателей раскрыты для любимых героев Л. Толст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8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лушая песни на стихи Р. Рождественского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пытываешь удивительное чувство душевного очищ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 зрителей текли невольные слез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тается чувство огромной благодарности поэ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рительном зале раздавались громкие аплодисмент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9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ешая сложное тестовое задани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шибка может появиться из-за невнима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быть предельно внимате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внимательность привела  к ошиб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меня возникло чувство неувер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0.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первые приехав к папуасам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исследователей возникли пробл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еными были исследованы этнографические особенности племе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утешественники были поражены их дружелюбием и гостеприимст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никла теория эволюции Чарльза Дарви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1.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ознакомившись с геометрией Лобачевского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ебуется прежде всего пространственное мышлен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на не имеет аналогов  в мир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асота его рассуждений меня порази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крываешь его четырехмерный мир теории относи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2.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щущая неприязненное отношение однокласснико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е настроение упа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и казались бесконеч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яд ли можно рассчитывать на их помощ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д мне кажется неудач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ратите внимание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1. Деепричастный оборот не может быть употреблен, если действие, выраженное глаголом-сказуемым, и действие, выраженное деепричастием,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тносятся к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разным лицам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 нельзя: «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Пользуясь калькулятором, расчет производится быстро и легко»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2. Деепричастный оборот не может быть употреблен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 безличном предложении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нельзя: «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Гуляя вечером,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мне нездоровилось»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3. Если предложение выражено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конструкцией со страдательным причастием,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деепричастный оборот не может быть употреблен, так как исполнитель действия, выраженного сказуемым, и исполнитель действия, выраженного деепричастием, не совпадают (нельзя: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»Доставив необходимые медикаменты, самолет МЧС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будет осмотрен</a:t>
            </a: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 техниками»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1.Окончив с отличием политехнический институт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зы радости навернулись у него не глаза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не предстояла успешная карье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и взгляды устремлены на работу в конструкторском бюр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пускник с дипломом инженера-технолога пришел на известный заво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000" y="1628280"/>
            <a:ext cx="8567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аботая с химическими реактивами в лаборатори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айтесь быть предельно осторожн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не были понятны многие законы хим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тношения иногда не складываютс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дписи на колбах сделаны четким почерк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19040" indent="-41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Прославив свое имя исследованиями болезней и применением вакцин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) у меня сложились замечательные отношения со всеми учены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 это способствовало распространению и развитию нау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) ученый Луи Пастер по-прежнему остался очень скромным человек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) нужны дополнительные финансовые средст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кажите грамматически правильное продолжение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ступая к написанию сочинения-рассуждения на ЕГЭ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ся авторская позиц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имательно, вдумчиво прочитайте исходный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 проблема формулируется неточно, неправи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ентарий к сформулированной проблеме игнор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08:22:40Z</dcterms:created>
  <dc:creator>Cab210</dc:creator>
  <dc:description/>
  <dc:language>en-US</dc:language>
  <cp:lastModifiedBy>я</cp:lastModifiedBy>
  <dcterms:modified xsi:type="dcterms:W3CDTF">2022-10-02T12:37:24Z</dcterms:modified>
  <cp:revision>9</cp:revision>
  <dc:subject/>
  <dc:title>А 5</dc:title>
</cp:coreProperties>
</file>