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AC81-555F-4BE4-81DC-B740A08F2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0F7F-8557-47D4-9CB9-EA17DB3D6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932F-EC7E-4B12-86A0-AB408EB2D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E166-30E2-433A-97C8-784BC4A20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0691-8DC6-4FA9-AEC7-53EBF39B5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8C76-A747-467D-A9D8-7232052A7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A720-F60C-4B5A-9AFB-F40272E30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D5E6-C9B7-4B04-A6FC-211244681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1E04-DD6A-4161-A08F-48AC614ED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C590-5658-4E1E-8C73-2CA90A23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1ABC-4120-4DE4-99DE-7718C759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A507-367E-4114-B305-1E8FC1FF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58E48-643D-401F-872E-E36584D8552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интаксические нормы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построение предложений с деепричастием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кажите грамматически правильное продолжение предлож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Читая о страданиях Бруно и Галилея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был предан анафеме догмат о существовании только одного мир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ы подчас готовы считать их палачей олицетворением воинствующего невежеств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чение о бесконечности Вселенной никогда не будет забыто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рагедия ученых до сих пор не дает покоя исследователям их жизн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кажите грамматически правильное продолжение предлож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утешествуя по бескрайней дальневосточной тайге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шла пора опубликовать свои дорожные наблюд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ется описание рельефа Приморья и горной системы Сихотэ-Алин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еограф В. Арсеньев изучал богатейшие флору и фауну этого кра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же стемнел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кажите грамматически правильное продолжение предлож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7.Читая книги зоолога А. Брем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не исследования, а жизнеописания животны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ановится очень интерес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новные мысли выражены в ней правиль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достно удивляешься причудливости ми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кажите грамматически правильное продолжение предлож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8.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Читая книги о Леонардо да Винчи и глядя на его картины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думаешь о необыкновенном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ключении, которое сделала природа для человечест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природа захотела соединить множество талантов в одном человек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 вас ничто не должно отвлека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) за окном библиотеки быстро стемнел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кажите грамматически правильное продолжение предлож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9.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Бросая камни в воду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 все стороны летели брызг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ходятся широкие круг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еонардо да Винчи объяснил распространение звуковых вол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меня было прекрасное настро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кажите грамматически правильное продолжение предлож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0.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ереходя улицу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жно только на зеленый св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асто нарушаются прави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ня оштрафовал милиционе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нарушай правила движ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кажите грамматически правильное продолжение предлож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599840"/>
            <a:ext cx="8075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1.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Прожив долгую и счастливую жизнь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физика Роберта Вуда мучило неодолимое любопытство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 него была замечательная жен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ступило состояние поко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ченый всегда занимался тем, к чему лежала его душ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кажите грамматически правильное продолжение предлож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2.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лушая лекции Галилея Галилео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мя молодого профессора быстро становится популярны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его лекции приходило до двух тысяч слушател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венецианцев возникало чувство гордости за соотечественни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священного цензурного комитета Рима возникли проблем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кажите грамматически правильное продолжение предлож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599840"/>
            <a:ext cx="8147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3.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Покинув ребенком отцовское имение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нем не было внешней суетной одержимост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кудные средства родителей не позволили учиться в университет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Жуковский решает непременно стать инженеро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его охватило радостное чувство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кажите грамматически правильное продолжение предлож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4.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оверив в Октябрьскую революцию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торой инсульт настиг его в новогоднюю ночь 1921 го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ировалась личность большого учено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следования Н.Жуковского по механике поразили учены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 отдался ей безогляд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79280" y="188640"/>
            <a:ext cx="8785440" cy="59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бирая правильное продолжение предложения, начинающегося с деепричастного оборота, необходимо знать, что действие, о котором идет речь в обороте, является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добавочным по отношению к основному действию,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речь о котором идет в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казуемом: Сидя на ветке,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лка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грызл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ехи. (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Грызла (как?) сидя на ветке.) Поэтому и основное, и добавочное действие должно выполняться одним и тем же лицом (должен быть один исполнитель – подлежащее, выполняющее оба действия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кажите грамматически правильное продолжение предлож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6840" y="1599840"/>
            <a:ext cx="8147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15.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Изучая законы движения планет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реди научных трактатов есть одна совершенно необычная работ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же совсем стемнело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фанатизм и мистика соседствуют с непостижимыми откровениями ген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очитайте исследования Николая Коперник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кажите грамматически правильное продолжение предлож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6.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Увидев в иллюминаторе голубую Землю и совершенно черное небо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никает желание уберечь ее от любых бе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смонавту не было равны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смонавта охватило радостное возбужд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смонавт зачарованно заме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кажите грамматически правильное продолжение предлож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6840" y="1599840"/>
            <a:ext cx="8218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17.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Помогая бедным и обездоленным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ми были выбраны лучшие продукты и вещ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ое сердце сжимается от боли за них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тарайтесь быть деликатным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оверяется сострадание и милосерди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кажите грамматически правильное продолжение предлож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8.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Очистив улицы и дворы от мусор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ше настроение было замечательны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дух становится чищ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забудьте потом посадить цветы и деревь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обходимы большие мусорные ба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кажите грамматически правильное продолжение предлож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6840" y="1599840"/>
            <a:ext cx="8147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19.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Пригласив девушку в кинотеатр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ее красота давно меня привлекал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оя галантность не знала границ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билет купите заране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мощь друзей мне не понадобилась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кажите грамматически правильное продолжение предлож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0.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осмотрев по телевизору выпуск новосте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не понравился дикто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 оказался неинтересны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нем говорили о предстоящих реформах образов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огда думаешь, что это криминальные свод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кажите грамматически правильное продолжение предлож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6840" y="1599840"/>
            <a:ext cx="8147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21.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Нарушая правила пожарной безопасности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тюг сильно накалилс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жарный шланг был удален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озникает угроза жизни окружающих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будьте готовы к большим неприятностя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кажите грамматически правильное продолжение предлож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2.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осадив огромный вишневый сад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крепляются мышцы рук, ног и спин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довлетворение переполняло его душ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шили первый урожай отдать в детский д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вые заморозки погубили саженц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кажите грамматически правильное продолжение предложен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6840" y="1599840"/>
            <a:ext cx="8218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23.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Выиграв чемпионат мира по футболу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тадион долго ликовал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яч влетел в ворота противник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оманда вновь начала упорно тренироватьс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зменяется настроение болельщиков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кажите грамматически правильное продолжение предложен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4.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окупая подарок маме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й кошелек быстро опусте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ня охватила нежная любовь к н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тарайтесь устроить ей настоящий праздни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менились наши план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250560" y="189000"/>
            <a:ext cx="843588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Но в определенно-личных и неопределенно-личных предложениях подлежащего нет, и сказуемое в них может быть выражено глаголом в одной из трех форм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В форме </a:t>
            </a:r>
            <a:r>
              <a:rPr b="1" i="1" lang="ru-RU" sz="2100" spc="-1" strike="noStrike">
                <a:solidFill>
                  <a:srgbClr val="000000"/>
                </a:solidFill>
                <a:latin typeface="Calibri"/>
              </a:rPr>
              <a:t>повелительного наклонения: </a:t>
            </a:r>
            <a:r>
              <a:rPr b="0" i="1" lang="ru-RU" sz="2100" spc="-1" strike="noStrike">
                <a:solidFill>
                  <a:srgbClr val="000000"/>
                </a:solidFill>
                <a:latin typeface="Calibri"/>
              </a:rPr>
              <a:t>Читая текст, </a:t>
            </a:r>
            <a:r>
              <a:rPr b="1" i="1" lang="ru-RU" sz="2100" spc="-1" strike="noStrike">
                <a:solidFill>
                  <a:srgbClr val="000000"/>
                </a:solidFill>
                <a:latin typeface="Calibri"/>
              </a:rPr>
              <a:t>обращайте</a:t>
            </a:r>
            <a:r>
              <a:rPr b="0" i="1" lang="ru-RU" sz="2100" spc="-1" strike="noStrike">
                <a:solidFill>
                  <a:srgbClr val="000000"/>
                </a:solidFill>
                <a:latin typeface="Calibri"/>
              </a:rPr>
              <a:t> внимание на способы выражения авторской позиции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В форме 1-го или 2-го лица изъявительного наклонения: </a:t>
            </a:r>
            <a:r>
              <a:rPr b="0" i="1" lang="ru-RU" sz="2100" spc="-1" strike="noStrike">
                <a:solidFill>
                  <a:srgbClr val="000000"/>
                </a:solidFill>
                <a:latin typeface="Calibri"/>
              </a:rPr>
              <a:t>Читая текст, обращаю внимание на способы выражения авторской позиции. 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(Подлежащее «я» легко восстанавливается и относится как к сказуемому, так и к деепричастию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В форме </a:t>
            </a: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инфинитива в значении повелительного наклонения: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Читая текст, </a:t>
            </a:r>
            <a:r>
              <a:rPr b="1" i="1" lang="ru-RU" sz="2100" spc="-1" strike="noStrike">
                <a:solidFill>
                  <a:srgbClr val="000000"/>
                </a:solidFill>
                <a:latin typeface="Calibri"/>
              </a:rPr>
              <a:t>следует </a:t>
            </a: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обратить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внимание на способы выражения авторской позиции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Таким образом. Основные способы грамматически верных продолжений предложения с деепричастным оборотом можно увидеть в следующей таблице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кажите грамматически правильное продолжение предложен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6840" y="1599840"/>
            <a:ext cx="8147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25.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Возвращаясь домой из Сибири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екабристам не позволили жить в Москве и Петербург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орога декабристов была бесконечно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мена декабристов запрещено было упоминать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ногие декабристы надеялись увидеть Россию обновленно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кажите грамматически правильное продолжение предложен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6.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Нагрубив незнакомому человеку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 почувствовал себя совсем нехорош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го хамство не знало преде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увствовалось какое-то недовольств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я совесть страда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кажите грамматически правильное продолжение предложен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599840"/>
            <a:ext cx="8218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27.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Обороняя осажденный Ленинград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блокада тысячами уносила людские жизн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голод и холод царили в не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нем и ночью велись артобстрелы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ши солдаты показывали чудеса храброст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кажите грамматически правильное продолжение предложен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8.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Изложив в сочинении личностную позицию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думанно аргументируйте е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ргументы были очень интересн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меня возникла неожиданная иде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чинение получилось интересны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кажите грамматически правильное продолжение предложен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6840" y="1599840"/>
            <a:ext cx="8218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9.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Выдвинув Фарадея в члены Королевского обществ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ушная волна тайной зависти захлестнула некоторых его противник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еные признали его огромный вклад в науку об электричеств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дача сопутствовала ем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ука о магнетизме вышла на широкую дорог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кажите грамматически правильное продолжение предложен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0.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Думая о межпланетных полетах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смос перестал быть недосягаемы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.П. Королев обсуждал с конструкторами свои план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чты С.П. Королева оказались воплощены в жизн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друг обнаружилась трещина в обшивке корабл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кажите грамматически правильное продолжение предложен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31.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Читая воспоминания о Толстом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ое впечатление изменилось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нига оставила приятное впечатлени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 меня возникло желание съездить в Ясную Поляну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нимаешь его величие как писателя и человек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кажите грамматически правильное продолжение предложен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2.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риказав всадникам спешитьс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ни отправились на конюшн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ыл прочитан приказ о наступлен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нница противника была разгромле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мандир направился к одному из ни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кажите грамматически правильное продолжение предложен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6840" y="1599840"/>
            <a:ext cx="8218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33.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Совершив более двухсот прыжков с парашютом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амолет улетел на базу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вободное падение резко замедлилось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земля стремительно приближалась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я перестал бояться неб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кажите грамматически правильное продолжение предложен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4.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меясь над своими порокам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не стало груст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тепенно освобождаешься от ни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достное возбуждение долго не проходил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дилась привычка анализировать собственные поступ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95280" y="259920"/>
            <a:ext cx="4038480" cy="58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 u="sng">
                <a:solidFill>
                  <a:srgbClr val="000000"/>
                </a:solidFill>
                <a:uFillTx/>
                <a:latin typeface="Calibri"/>
              </a:rPr>
              <a:t>Начало предложения (деепричастный оборот, обозначающий добавочное действие сказуемого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Calibri"/>
              </a:rPr>
              <a:t>Готовясь к ЕГЭ по русскому языку,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48320" y="189000"/>
            <a:ext cx="403848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 u="sng">
                <a:solidFill>
                  <a:srgbClr val="000000"/>
                </a:solidFill>
                <a:uFillTx/>
                <a:latin typeface="Calibri"/>
              </a:rPr>
              <a:t>Правильные варианты предложений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Calibri"/>
              </a:rPr>
              <a:t>ученик повторял синтаксис простого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Calibri"/>
              </a:rPr>
              <a:t>предложения. (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Есть подлежащее, которое</a:t>
            </a:r>
            <a:r>
              <a:rPr b="0" i="1" lang="ru-RU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выполняет и основное действие, заключенное в сказуемом</a:t>
            </a:r>
            <a:r>
              <a:rPr b="0" i="1" lang="ru-RU" sz="1500" spc="-1" strike="noStrike">
                <a:solidFill>
                  <a:srgbClr val="000000"/>
                </a:solidFill>
                <a:latin typeface="Calibri"/>
              </a:rPr>
              <a:t> «повторял»,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и добавочное, заключенное в деепричастии</a:t>
            </a:r>
            <a:r>
              <a:rPr b="0" i="1" lang="ru-RU" sz="1500" spc="-1" strike="noStrike">
                <a:solidFill>
                  <a:srgbClr val="000000"/>
                </a:solidFill>
                <a:latin typeface="Calibri"/>
              </a:rPr>
              <a:t> «готовясь».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а)</a:t>
            </a:r>
            <a:r>
              <a:rPr b="0" i="1" lang="ru-RU" sz="1500" spc="-1" strike="noStrike">
                <a:solidFill>
                  <a:srgbClr val="000000"/>
                </a:solidFill>
                <a:latin typeface="Calibri"/>
              </a:rPr>
              <a:t>решаю сложные тесты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Calibri"/>
              </a:rPr>
              <a:t>решаем сложные тесты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(Есть сказуемое в форме 1-го или 2-го лица изъявительного наклонения (можно восстановить подлежащее, выраженное местоимениями </a:t>
            </a:r>
            <a:r>
              <a:rPr b="0" i="1" lang="ru-RU" sz="1500" spc="-1" strike="noStrike">
                <a:solidFill>
                  <a:srgbClr val="000000"/>
                </a:solidFill>
                <a:latin typeface="Calibri"/>
              </a:rPr>
              <a:t>я, мы, ты, вы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б) </a:t>
            </a:r>
            <a:r>
              <a:rPr b="0" i="1" lang="ru-RU" sz="1500" spc="-1" strike="noStrike">
                <a:solidFill>
                  <a:srgbClr val="000000"/>
                </a:solidFill>
                <a:latin typeface="Calibri"/>
              </a:rPr>
              <a:t>тщательно повторяйте пройденное. (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В определенно-личном предложении есть глагол-сказуемое в форме повелительного наклонения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в)</a:t>
            </a:r>
            <a:r>
              <a:rPr b="0" i="1" lang="ru-RU" sz="1500" spc="-1" strike="noStrike">
                <a:solidFill>
                  <a:srgbClr val="000000"/>
                </a:solidFill>
                <a:latin typeface="Calibri"/>
              </a:rPr>
              <a:t>необходимо тщательно повторить пройденный материал.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(Есть инфинитив в значении повелительного наклонения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кажите грамматически правильное продолжение предложен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599840"/>
            <a:ext cx="8218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35.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Изучив труды Архимеда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нем неистребимо жила страсть к изобретательству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ревний Рим так и не узнал секретов метательных машин этого ученого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дивление потомков не знало предел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людская молва и суд потомков мало для него значит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кажите грамматически правильное продолжение предложен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6.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Отправляясь покорять горные вершины или бурные рек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юкзаки были тщательно уложен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шимость туристов не знала преде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обходимо изучить маршрут следов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дицинская аптечка никогда не помеша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кажите грамматически правильное продолжение предложен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6840" y="1599840"/>
            <a:ext cx="8147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37.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Размышляя о смысле жизни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риентироваться вам помогут герои Л. Толстого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любимые герои Л. Толстого идут непростыми путям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ои симпатии принадлежат героям Л. Толстого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ердца читателей раскрыты для любимых героев Л. Толстого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кажите грамматически правильное продолжение предложен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38.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Слушая песни на стихи Р. Рождественского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спытываешь удивительное чувство душевного очищен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 зрителей текли невольные слезы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стается чувство огромной благодарности поэту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зрительном зале раздавались громкие аплодисменты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кажите грамматически правильное продолжение предложен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6840" y="1599840"/>
            <a:ext cx="8218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9.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Решая сложное тестовое задание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шибка может появиться из-за невниматель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ужно быть предельно внимательны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внимательность привела  к ошибк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 меня возникло чувство неуверен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кажите грамматически правильное продолжение предложен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0.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Впервые приехав к папуасам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 исследователей возникли проблем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еными были исследованы этнографические особенности племе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утешественники были поражены их дружелюбием и гостеприимств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зникла теория эволюции Чарльза Дарвин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кажите грамматически правильное продолжение предложен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6840" y="1599840"/>
            <a:ext cx="8218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41.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Познакомившись с геометрией Лобачевского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ребуется прежде всего пространственное мышлени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на не имеет аналогов  в мир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расота его рассуждений меня поразил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ткрываешь его четырехмерный мир теории относительност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кажите грамматически правильное продолжение предлож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2.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Ощущая неприязненное отношение одноклассников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е настроение упал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роки казались бесконечны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ряд ли можно рассчитывать на их помощ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ход мне кажется неудачны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Обратите внимание!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79280" y="765000"/>
            <a:ext cx="878544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1. Деепричастный оборот не может быть употреблен, если действие, выраженное глаголом-сказуемым, и действие, выраженное деепричастием, </a:t>
            </a: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относятся к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разным лицам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( нельзя: «</a:t>
            </a:r>
            <a:r>
              <a:rPr b="0" i="1" lang="ru-RU" sz="2100" spc="-1" strike="noStrike">
                <a:solidFill>
                  <a:srgbClr val="000000"/>
                </a:solidFill>
                <a:latin typeface="Calibri"/>
              </a:rPr>
              <a:t>Пользуясь калькулятором, расчет производится быстро и легко»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2. Деепричастный оборот не может быть употреблен </a:t>
            </a: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в безличном предложении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(нельзя: «</a:t>
            </a:r>
            <a:r>
              <a:rPr b="0" i="1" lang="ru-RU" sz="2100" spc="-1" strike="noStrike">
                <a:solidFill>
                  <a:srgbClr val="000000"/>
                </a:solidFill>
                <a:latin typeface="Calibri"/>
              </a:rPr>
              <a:t>Гуляя вечером, </a:t>
            </a:r>
            <a:r>
              <a:rPr b="1" i="1" lang="ru-RU" sz="2100" spc="-1" strike="noStrike">
                <a:solidFill>
                  <a:srgbClr val="000000"/>
                </a:solidFill>
                <a:latin typeface="Calibri"/>
              </a:rPr>
              <a:t>мне нездоровилось»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3. Если предложение выражено </a:t>
            </a: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конструкцией со страдательным причастием,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деепричастный оборот не может быть употреблен, так как исполнитель действия, выраженного сказуемым, и исполнитель действия, выраженного деепричастием, не совпадают (нельзя:</a:t>
            </a:r>
            <a:r>
              <a:rPr b="0" i="1" lang="ru-RU" sz="2100" spc="-1" strike="noStrike">
                <a:solidFill>
                  <a:srgbClr val="000000"/>
                </a:solidFill>
                <a:latin typeface="Calibri"/>
              </a:rPr>
              <a:t>»Доставив необходимые медикаменты, самолет МЧС </a:t>
            </a:r>
            <a:r>
              <a:rPr b="1" i="1" lang="ru-RU" sz="2100" spc="-1" strike="noStrike">
                <a:solidFill>
                  <a:srgbClr val="000000"/>
                </a:solidFill>
                <a:latin typeface="Calibri"/>
              </a:rPr>
              <a:t>будет осмотрен</a:t>
            </a:r>
            <a:r>
              <a:rPr b="0" i="1" lang="ru-RU" sz="2100" spc="-1" strike="noStrike">
                <a:solidFill>
                  <a:srgbClr val="000000"/>
                </a:solidFill>
                <a:latin typeface="Calibri"/>
              </a:rPr>
              <a:t> техниками»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кажите грамматически правильное продолжение предлож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1.Окончив с отличием политехнический институт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лезы радости навернулись у него не глазах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не предстояла успешная карьер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ои взгляды устремлены на работу в конструкторском бюро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ыпускник с дипломом инженера-технолога пришел на известный завод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кажите грамматически правильное продолжение предлож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000" y="1628280"/>
            <a:ext cx="8567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Работая с химическими реактивами в лаборатории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19040" indent="-41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19040" indent="-419040"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тарайтесь быть предельно осторожны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19040" indent="-419040"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не были понятны многие законы хими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19040" indent="-419040"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тношения иногда не складываютс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19040" indent="-419040"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дписи на колбах сделаны четким почерко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19040" indent="-41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кажите грамматически правильное продолжение предлож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Прославив свое имя исследованиями болезней и применением вакцин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1) у меня сложились замечательные отношения со всеми ученым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2) это способствовало распространению и развитию наук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3) ученый Луи Пастер по-прежнему остался очень скромным человеко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4) нужны дополнительные финансовые средств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кажите грамматически правильное продолжение предлож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риступая к написанию сочинения-рассуждения на ЕГЭ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итывается авторская позиц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нимательно, вдумчиво прочитайте исходный текс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асто проблема формулируется неточно, неправиль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мментарий к сформулированной проблеме игнорирует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08:22:40Z</dcterms:created>
  <dc:creator>Cab210</dc:creator>
  <dc:description/>
  <dc:language>en-US</dc:language>
  <cp:lastModifiedBy>я</cp:lastModifiedBy>
  <dcterms:modified xsi:type="dcterms:W3CDTF">2022-10-02T12:37:24Z</dcterms:modified>
  <cp:revision>9</cp:revision>
  <dc:subject/>
  <dc:title>А 5</dc:title>
</cp:coreProperties>
</file>