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C875-5A8D-4570-97E7-4F7E41E1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0A2-484F-450B-B583-B7FE6F7A84C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C35-4B29-4BF0-A233-8D43DF28E24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991-25C1-4951-B3F3-A9DD603C4D7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33000" y="80496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92d14"/>
                </a:solidFill>
                <a:latin typeface="Microsoft Sans Serif"/>
              </a:rPr>
              <a:t>Жидкость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533520" y="1000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0" y="4800600"/>
            <a:ext cx="604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ал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реподаватель химических дисциплин СОГБПОУ Верхнеднепровский технологический техникум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Белова О.В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580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648320" y="170820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верхностное натяжение </a:t>
            </a:r>
            <a:r>
              <a:rPr b="0" lang="ru-RU" sz="2400" spc="-1" strike="noStrike">
                <a:solidFill>
                  <a:srgbClr val="202020"/>
                </a:solidFill>
                <a:latin typeface="Arial"/>
              </a:rPr>
              <a:t>— это явление, при котором вещество (прежде всего, жидкость) стремится приобрести форму с минимально возможной площадью поверхн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7" name="Picture 2" descr="https://cf.ppt-online.org/files/slide/o/oRWqt8hFbJEGMQD439lVjHXOkBgr1fSdpenTZ0/slide-1.jpg"/>
          <p:cNvPicPr/>
          <p:nvPr/>
        </p:nvPicPr>
        <p:blipFill>
          <a:blip r:embed="rId1"/>
          <a:stretch/>
        </p:blipFill>
        <p:spPr>
          <a:xfrm>
            <a:off x="93600" y="1681200"/>
            <a:ext cx="4648320" cy="2657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s://myslide.ru/documents_3/14b49fc6db2a1093a7579ed6dca5414c/img2.jpg"/>
          <p:cNvPicPr/>
          <p:nvPr/>
        </p:nvPicPr>
        <p:blipFill>
          <a:blip r:embed="rId2"/>
          <a:stretch/>
        </p:blipFill>
        <p:spPr>
          <a:xfrm>
            <a:off x="93600" y="4338720"/>
            <a:ext cx="4021200" cy="2055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https://theslide.ru/img/tmb/5/457839/94dfbcd959e47fe0d5e62f103759ce9c-800x.jpg"/>
          <p:cNvPicPr/>
          <p:nvPr/>
        </p:nvPicPr>
        <p:blipFill>
          <a:blip r:embed="rId3"/>
          <a:stretch/>
        </p:blipFill>
        <p:spPr>
          <a:xfrm>
            <a:off x="4114800" y="4295880"/>
            <a:ext cx="4800600" cy="255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19040" y="1295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http://images.myshared.ru/19/1224513/slide_4.jpg"/>
          <p:cNvPicPr/>
          <p:nvPr/>
        </p:nvPicPr>
        <p:blipFill>
          <a:blip r:embed="rId1"/>
          <a:stretch/>
        </p:blipFill>
        <p:spPr>
          <a:xfrm>
            <a:off x="304920" y="1730520"/>
            <a:ext cx="8572320" cy="49482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http://pochemuha.ru/wp-content/uploads/2010/06/%D0%9A%D0%B0%D0%BA-%D1%83%D0%BB%D0%B5%D1%82%D1%83%D1%87%D0%B8%D0%B2%D0%B0%D0%B5%D1%82%D1%81%D1%8F-%D0%B2%D0%BE%D0%B4%D0%B0.jpg"/>
          <p:cNvPicPr/>
          <p:nvPr/>
        </p:nvPicPr>
        <p:blipFill>
          <a:blip r:embed="rId2"/>
          <a:stretch/>
        </p:blipFill>
        <p:spPr>
          <a:xfrm>
            <a:off x="6743880" y="5867280"/>
            <a:ext cx="213336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5" name="Рисунок 2" descr="http://images.myshared.ru/6/697129/slide_7.jpg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073480" y="175896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нденсац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 изменение физического состояния вещества из газовой фазы в жидкую и является обратным испарением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26360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Рисунок 6" descr="https://media.baamboozle.com/uploads/images/114351/1636003813_244333.jpeg"/>
          <p:cNvPicPr/>
          <p:nvPr/>
        </p:nvPicPr>
        <p:blipFill>
          <a:blip r:embed="rId2"/>
          <a:stretch/>
        </p:blipFill>
        <p:spPr>
          <a:xfrm>
            <a:off x="5221440" y="4435560"/>
            <a:ext cx="384624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1904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Picture 2" descr="http://player.myshared.ru/10/952500/slides/slide_1.jpg"/>
          <p:cNvPicPr/>
          <p:nvPr/>
        </p:nvPicPr>
        <p:blipFill>
          <a:blip r:embed="rId1"/>
          <a:stretch/>
        </p:blipFill>
        <p:spPr>
          <a:xfrm>
            <a:off x="0" y="1752480"/>
            <a:ext cx="632448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s://i0.wp.com/fenbilimi.net/wp-content/uploads/2016/12/buharlasma-kaynama-farklidir.png"/>
          <p:cNvPicPr/>
          <p:nvPr/>
        </p:nvPicPr>
        <p:blipFill>
          <a:blip r:embed="rId2"/>
          <a:stretch/>
        </p:blipFill>
        <p:spPr>
          <a:xfrm>
            <a:off x="6353280" y="2286000"/>
            <a:ext cx="2671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90440" y="19368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Roboto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 — газообразное вещество, находящееся в контакте с тем же жидким или кристаллическим вещество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Важнейшие характеристики пара — его давление и плотность </a:t>
            </a:r>
            <a:r>
              <a:rPr b="1" lang="ru-RU" sz="2400" spc="-1" strike="noStrike">
                <a:solidFill>
                  <a:srgbClr val="000000"/>
                </a:solidFill>
                <a:latin typeface="Roboto"/>
              </a:rPr>
              <a:t> (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Почему?) над жидкой или кристаллической фазами. Пар может быть насыщенным, т.е. находящимся при данной температуре в равновесии с жидкостью (или кристаллом), и тогда говорят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Roboto"/>
              </a:rPr>
              <a:t>давлении насыщенного пара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. У пересыщенного пара его давление выше давления насыщенног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4" descr="http://player.myshared.ru/5/514809/slides/slide_17.jpg"/>
          <p:cNvPicPr/>
          <p:nvPr/>
        </p:nvPicPr>
        <p:blipFill>
          <a:blip r:embed="rId1"/>
          <a:stretch/>
        </p:blipFill>
        <p:spPr>
          <a:xfrm>
            <a:off x="155520" y="-329076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2" descr="http://player.myshared.ru/5/514809/slides/slide_17.jpg"/>
          <p:cNvPicPr/>
          <p:nvPr/>
        </p:nvPicPr>
        <p:blipFill>
          <a:blip r:embed="rId1"/>
          <a:stretch/>
        </p:blipFill>
        <p:spPr>
          <a:xfrm>
            <a:off x="152280" y="1776240"/>
            <a:ext cx="8839440" cy="4929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676520" y="131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Рисунок 4" descr="https://mobimg.b-cdn.net/v3/fetch/ed/edc60463b958b6f0343cc258017b815b.jpeg"/>
          <p:cNvPicPr/>
          <p:nvPr/>
        </p:nvPicPr>
        <p:blipFill>
          <a:blip r:embed="rId2"/>
          <a:stretch/>
        </p:blipFill>
        <p:spPr>
          <a:xfrm>
            <a:off x="179280" y="1693800"/>
            <a:ext cx="8812440" cy="97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https://mobimg.b-cdn.net/v3/fetch/ed/edc60463b958b6f0343cc258017b815b.jpeg"/>
          <p:cNvPicPr/>
          <p:nvPr/>
        </p:nvPicPr>
        <p:blipFill>
          <a:blip r:embed="rId3"/>
          <a:stretch/>
        </p:blipFill>
        <p:spPr>
          <a:xfrm>
            <a:off x="152280" y="6162840"/>
            <a:ext cx="883944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0948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Рисунок 4" descr="https://cf3.ppt-online.org/files3/slide/m/meiPZFR45y2jbUN01Bvux6TW3wrDJpMozS8nt9/slide-15.jpg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6019920" y="2201760"/>
            <a:ext cx="28191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мачивание</a:t>
            </a:r>
            <a:r>
              <a:rPr b="1" lang="ru-RU" sz="1900" spc="-1" strike="noStrike">
                <a:solidFill>
                  <a:srgbClr val="b92d14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 поверхностное явление, возникающее при контакте жидкости с твёрдой поверхностью в присутствии пара, то есть на границах раздела трёх фаз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Различают три случая: несмачивание, ограниченное смачивание и полное смачивание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Рисунок 4" descr="https://quizizz.com/_media/questions/cb5ab01d-388d-48ca-bd7e-01c962c8fabb_90_90"/>
          <p:cNvPicPr/>
          <p:nvPr/>
        </p:nvPicPr>
        <p:blipFill>
          <a:blip r:embed="rId1"/>
          <a:stretch/>
        </p:blipFill>
        <p:spPr>
          <a:xfrm>
            <a:off x="152280" y="1955880"/>
            <a:ext cx="525780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410080" y="242424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мешиваемость —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пособность жидкостей растворяться друг в друге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имер смешиваемых жидкостей: вода и этиловый спирт, пример несмешиваемых: вода и жидкое масл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876240" y="26820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60948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Рисунок 3" descr="https://shareslide.ru/img/thumbs/79c1ef5fe8e68dbe9d10d79e8869ddd3-800x.jpg"/>
          <p:cNvPicPr/>
          <p:nvPr/>
        </p:nvPicPr>
        <p:blipFill>
          <a:blip r:embed="rId1"/>
          <a:stretch/>
        </p:blipFill>
        <p:spPr>
          <a:xfrm>
            <a:off x="152280" y="1919160"/>
            <a:ext cx="5940720" cy="4454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324480" y="26668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иффузия –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ное проникновение частиц одного вещества в другое, обусловленное движением молеку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crosoft Sans Serif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7" name="Рисунок 3" descr="C:\Users\Admin\Downloads\3-1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58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49" name="Picture 7" descr="https://ieducations.ru/wp-content/uploads/c/4/b/c4b382dfa8bb3c8060798726d0637a49.jpeg"/>
          <p:cNvPicPr/>
          <p:nvPr/>
        </p:nvPicPr>
        <p:blipFill>
          <a:blip r:embed="rId1"/>
          <a:stretch/>
        </p:blipFill>
        <p:spPr>
          <a:xfrm>
            <a:off x="304920" y="1371600"/>
            <a:ext cx="8535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1" name="Picture 2" descr="http://images.myshared.ru/6/578274/slide_6.jpg"/>
          <p:cNvPicPr/>
          <p:nvPr/>
        </p:nvPicPr>
        <p:blipFill>
          <a:blip r:embed="rId1"/>
          <a:stretch/>
        </p:blipFill>
        <p:spPr>
          <a:xfrm>
            <a:off x="230040" y="1208160"/>
            <a:ext cx="868392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s://koffkindom.ru/wp-content/uploads/2016/09/Polstakana-vody.jpg"/>
          <p:cNvPicPr/>
          <p:nvPr/>
        </p:nvPicPr>
        <p:blipFill>
          <a:blip r:embed="rId2"/>
          <a:stretch/>
        </p:blipFill>
        <p:spPr>
          <a:xfrm>
            <a:off x="5943600" y="5486400"/>
            <a:ext cx="2590920" cy="1257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914400" y="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5" name="Picture 2" descr="https://fsd.videouroki.net/html/2015/04/20/98710166/img4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Picture 4" descr="http://player.myshared.ru/5/514809/slides/slide_4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http://st.gde-fon.com/wallpapers_original/656998_jidkost_voda_kapli_makro_2048x1509_www.Gde-Fon.com.jpg"/>
          <p:cNvPicPr/>
          <p:nvPr/>
        </p:nvPicPr>
        <p:blipFill>
          <a:blip r:embed="rId2"/>
          <a:stretch/>
        </p:blipFill>
        <p:spPr>
          <a:xfrm>
            <a:off x="457200" y="1295280"/>
            <a:ext cx="2381400" cy="10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c.pxhere.com/photos/73/78/glasses_colorful_liquid_decoration_reflection_window_glass_light-753172.jpg!d"/>
          <p:cNvPicPr/>
          <p:nvPr/>
        </p:nvPicPr>
        <p:blipFill>
          <a:blip r:embed="rId3"/>
          <a:stretch/>
        </p:blipFill>
        <p:spPr>
          <a:xfrm>
            <a:off x="2838600" y="1295280"/>
            <a:ext cx="2495520" cy="1057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https://krrot.net/wp-content/uploads/2018/02/water.png"/>
          <p:cNvPicPr/>
          <p:nvPr/>
        </p:nvPicPr>
        <p:blipFill>
          <a:blip r:embed="rId4"/>
          <a:stretch/>
        </p:blipFill>
        <p:spPr>
          <a:xfrm>
            <a:off x="5057640" y="1295280"/>
            <a:ext cx="271476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2" name="Picture 2" descr="https://s1.slide-share.ru/s_slide/361df56b231ca5f84b77d25f7f15061c/ca47e6a0-5834-40f2-a3b2-f6e91b0d32db.jpeg"/>
          <p:cNvPicPr/>
          <p:nvPr/>
        </p:nvPicPr>
        <p:blipFill>
          <a:blip r:embed="rId1"/>
          <a:stretch/>
        </p:blipFill>
        <p:spPr>
          <a:xfrm>
            <a:off x="152280" y="1371600"/>
            <a:ext cx="87631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2860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" name="Picture 2" descr="http://player.myshared.ru/10/968545/slides/slide_2.jpg"/>
          <p:cNvPicPr/>
          <p:nvPr/>
        </p:nvPicPr>
        <p:blipFill>
          <a:blip r:embed="rId1"/>
          <a:stretch/>
        </p:blipFill>
        <p:spPr>
          <a:xfrm>
            <a:off x="228600" y="1913040"/>
            <a:ext cx="8610480" cy="4944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s://fsd.kopilkaurokov.ru/up/html/2019/10/29/k_5db7d9c90f3e3/img_user_file_5db7d9caaa3cb_14.jpg"/>
          <p:cNvPicPr/>
          <p:nvPr/>
        </p:nvPicPr>
        <p:blipFill>
          <a:blip r:embed="rId2"/>
          <a:stretch/>
        </p:blipFill>
        <p:spPr>
          <a:xfrm>
            <a:off x="6181560" y="4495680"/>
            <a:ext cx="265752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52280" y="1295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" name="Рисунок 5" descr="http://images.myshared.ru/10/959531/slide_10.jpg"/>
          <p:cNvPicPr/>
          <p:nvPr/>
        </p:nvPicPr>
        <p:blipFill>
          <a:blip r:embed="rId1"/>
          <a:stretch/>
        </p:blipFill>
        <p:spPr>
          <a:xfrm>
            <a:off x="304920" y="1757520"/>
            <a:ext cx="8610480" cy="4948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76212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" name="Рисунок 3" descr="https://present5.com/presentation/182208689_422952613/image-14.jpg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s://www.arkronix.ru/upload/medialibrary/c94/c94581102017a7bf2633ee7543bc07bb.jpg"/>
          <p:cNvPicPr/>
          <p:nvPr/>
        </p:nvPicPr>
        <p:blipFill>
          <a:blip r:embed="rId2"/>
          <a:stretch/>
        </p:blipFill>
        <p:spPr>
          <a:xfrm>
            <a:off x="4648320" y="3886200"/>
            <a:ext cx="42480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22-10-02T12:02:19Z</dcterms:modified>
  <cp:revision>269</cp:revision>
  <dc:subject/>
  <dc:title>Name of presentation</dc:title>
</cp:coreProperties>
</file>