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EEC-9C99-4200-8CF1-3050E0F4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B5E-9DD2-49AC-A528-80F14096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BB9-E223-4B35-AC75-EC593B8B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39FF-0D5C-4F5D-AD29-351F3772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DF2C-DB0A-455C-B7E3-F8DA2BB7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3B22-56FB-46E0-A0CA-45A8AB2C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99F-DCED-4186-B7DB-13A8EF5E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2DC-8250-46FC-AD0A-FA6B6599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4FE9-4BD8-4574-9057-FDC10EE1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055-443E-4DDB-9346-C7247387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929-5271-4F05-BD3D-9E762908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F356-7A3B-46B3-A399-A557437B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11B0-F8D3-4A10-B183-657792BB5D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\Мои документы\Мои рисунки\bv-b.gif"/>
          <p:cNvPicPr/>
          <p:nvPr/>
        </p:nvPicPr>
        <p:blipFill>
          <a:blip r:embed="rId3"/>
          <a:stretch/>
        </p:blipFill>
        <p:spPr>
          <a:xfrm>
            <a:off x="7786800" y="6286680"/>
            <a:ext cx="938160" cy="225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Admin\Рабочий стол\угадай\сс.gif"/>
          <p:cNvPicPr/>
          <p:nvPr/>
        </p:nvPicPr>
        <p:blipFill>
          <a:blip r:embed="rId3"/>
          <a:stretch/>
        </p:blipFill>
        <p:spPr>
          <a:xfrm>
            <a:off x="3357720" y="5357880"/>
            <a:ext cx="2527200" cy="1500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Admin\Рабочий стол\угадай\д.gif"/>
          <p:cNvPicPr/>
          <p:nvPr/>
        </p:nvPicPr>
        <p:blipFill>
          <a:blip r:embed="rId3"/>
          <a:stretch/>
        </p:blipFill>
        <p:spPr>
          <a:xfrm>
            <a:off x="0" y="5000760"/>
            <a:ext cx="1461960" cy="1857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Documents and Settings\Admin\Рабочий стол\угадай\ссч.gif"/>
          <p:cNvPicPr/>
          <p:nvPr/>
        </p:nvPicPr>
        <p:blipFill>
          <a:blip r:embed="rId4"/>
          <a:stretch/>
        </p:blipFill>
        <p:spPr>
          <a:xfrm>
            <a:off x="7500960" y="4965840"/>
            <a:ext cx="1643040" cy="1892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Documents and Settings\Admin\Рабочий стол\угадай\сс.gif"/>
          <p:cNvPicPr/>
          <p:nvPr/>
        </p:nvPicPr>
        <p:blipFill>
          <a:blip r:embed="rId3"/>
          <a:stretch/>
        </p:blipFill>
        <p:spPr>
          <a:xfrm>
            <a:off x="5715000" y="4737240"/>
            <a:ext cx="3571920" cy="2120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8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979640" y="3704400"/>
            <a:ext cx="633744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76" name="Bethoven_Elisa.mp3" descr=""/>
          <p:cNvPicPr/>
          <p:nvPr/>
        </p:nvPicPr>
        <p:blipFill>
          <a:blip r:embed="rId1"/>
          <a:stretch/>
        </p:blipFill>
        <p:spPr>
          <a:xfrm>
            <a:off x="7812000" y="53737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5408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ac090"/>
                </a:solidFill>
                <a:latin typeface="Calibri"/>
              </a:rPr>
              <a:t>Определите тип союза в предложениях, используйте для этого карточки с буквами С (сочинительный) </a:t>
            </a:r>
            <a:br>
              <a:rPr sz="2800"/>
            </a:br>
            <a:r>
              <a:rPr b="1" i="1" lang="ru-RU" sz="2800" spc="-1" strike="noStrike">
                <a:solidFill>
                  <a:srgbClr val="fac090"/>
                </a:solidFill>
                <a:latin typeface="Calibri"/>
              </a:rPr>
              <a:t>и П (подчинительны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3"/>
          <p:cNvSpPr/>
          <p:nvPr/>
        </p:nvSpPr>
        <p:spPr>
          <a:xfrm rot="21177000">
            <a:off x="104760" y="159336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По горизонту весь день слоями лежит прозрачная мгла, и в ней пропадают очертания низких бере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"/>
          <p:cNvSpPr/>
          <p:nvPr/>
        </p:nvSpPr>
        <p:spPr>
          <a:xfrm rot="615000">
            <a:off x="5352480" y="2867040"/>
            <a:ext cx="362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Вечерняя заря начинается, когда солнце уже заходит за край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395280" y="4365720"/>
            <a:ext cx="49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Река сверкала то голубым, то зеленым св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ac090"/>
                </a:solidFill>
                <a:latin typeface="Calibri"/>
              </a:rPr>
              <a:t>Определите тип союза в предложениях, используйте для этого карточки с буквами С и 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0" y="2492280"/>
            <a:ext cx="464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акануне выглянуло солнце, но дороги еще совсем не просох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4"/>
          <p:cNvSpPr/>
          <p:nvPr/>
        </p:nvSpPr>
        <p:spPr>
          <a:xfrm rot="903000">
            <a:off x="4502160" y="2060640"/>
            <a:ext cx="43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Сразу за деревянным мостиком начинался подъем в гору, где было видно всю окрес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1116000" y="4508640"/>
            <a:ext cx="374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Слуга вышел и объявил, что лошади гот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AutoShape 2"/>
          <p:cNvSpPr/>
          <p:nvPr/>
        </p:nvSpPr>
        <p:spPr>
          <a:xfrm>
            <a:off x="684360" y="0"/>
            <a:ext cx="7704000" cy="6178680"/>
          </a:xfrm>
          <a:prstGeom prst="pi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В мире нет ничего лучше … приятнее дружбы.   ……….дружба, ….. и жизнь - сложная штука.    Однако …….. жизнь проходит, то настоящие друзья остаются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(Цицерон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-36360" y="436572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ова для справок: </a:t>
            </a:r>
            <a:r>
              <a:rPr b="0" lang="ru-RU" sz="4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и, если, как, но</a:t>
            </a:r>
            <a:r>
              <a:rPr b="0" lang="en-US" sz="4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Bethoven_Elisa.mp3" descr=""/>
          <p:cNvPicPr/>
          <p:nvPr/>
        </p:nvPicPr>
        <p:blipFill>
          <a:blip r:embed="rId1"/>
          <a:stretch/>
        </p:blipFill>
        <p:spPr>
          <a:xfrm>
            <a:off x="8172360" y="40608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155408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2"/>
          <p:cNvSpPr/>
          <p:nvPr/>
        </p:nvSpPr>
        <p:spPr>
          <a:xfrm>
            <a:off x="684360" y="0"/>
            <a:ext cx="7704000" cy="6178680"/>
          </a:xfrm>
          <a:prstGeom prst="pi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В мире нет нич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лучш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приятнее дружбы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дружба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и жизнь - сложная штука. Однак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жизнь проходит, то настоящие друзья остаются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(Цицерон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800" spc="-1" strike="noStrike">
                <a:solidFill>
                  <a:srgbClr val="fac090"/>
                </a:solidFill>
                <a:latin typeface="Calibri"/>
              </a:rPr>
              <a:t>«Взаимные узы,связь,скрепа, сцепление; часть речи связующая слова» (В.И.Даль)</a:t>
            </a:r>
            <a:br>
              <a:rPr sz="2800"/>
            </a:br>
            <a:br>
              <a:rPr sz="2800"/>
            </a:br>
            <a:br>
              <a:rPr sz="2400"/>
            </a:br>
            <a:r>
              <a:rPr b="1" i="1" lang="ru-RU" sz="3600" spc="-1" strike="noStrike">
                <a:solidFill>
                  <a:srgbClr val="fac090"/>
                </a:solidFill>
                <a:latin typeface="Calibri"/>
              </a:rPr>
              <a:t>Это интересно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6840" y="2708280"/>
            <a:ext cx="785988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вание СОЮЗ появилось в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XVll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веке. По количеству союзов около 250. Чаще всего употребляются союзы типа И, А, ИЛИ. Ученые исследовали союз «И», его значение, частоту употребления и обнаружил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лово И – один из самых древних союзов русского язы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лово И – за тысячелетия – не изменило своего звуч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лово И – за тысячелетия! – не изменило своего зна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лово И – тысячелетия – было и остается исключительно частотным словом ( очень часто употребляетс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Н. Холод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-181440" y="333000"/>
            <a:ext cx="9325080" cy="70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кажите верное написание выделенного слова и его объясн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рише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(бы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говорить с вами о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) чтобы – всегда пишется сли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) что бы – всегда пишется разд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) чтобы – здесь это союз, поэтому пишется сли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) что бы – здесь это местоимение ЧТО с частицей БЫ, поэтому пишется  раздельно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кажите верное написание выделенного слова и его объяс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(же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щно, как и вверх, эвкалипты растут и в толщ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акже – всегда пишется сли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так же – всегда пишется разд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также – здесь это союз, поэтому пишется сли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так же – здесь это наречие ТАК с частицей ЖЕ, поэтому пишется  разд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кажите строчку, где все союзы всегда пишутся разде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) как(будто), потому(что), оттого(чт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) то(же), что(бы), буд(т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) (по)этому, слов(но), (с)тем(чтоб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(за)тем(чтобы), (с)тем(чтобы), как(будт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кажите предложение, где союз пишется слит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По(этому) вопросу обратитесь в справочное бю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К берегу лыжники отправились дальним путем, через лес, (за)то получили огромное удоволь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Что(б) было б в нем без на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Здесь все то(же) сам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кажите предложение, где союз пишется слит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) Денисов то(же) покраснел, но улыбнулся и взял руку Ната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Все кричали в одно и то(же)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) Сын учился так(же) хорошо, как и от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) Спрячься (за)то дер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457200" y="286236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16" name="Bethoven_Elisa.mp3" descr=""/>
          <p:cNvPicPr/>
          <p:nvPr/>
        </p:nvPicPr>
        <p:blipFill>
          <a:blip r:embed="rId3"/>
          <a:stretch/>
        </p:blipFill>
        <p:spPr>
          <a:xfrm>
            <a:off x="8317080" y="5877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55408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афический дикт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765000"/>
            <a:ext cx="7931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. Когда мы вернулись в деревню, уже все спа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. Веет теплый ветер, и легкий пар клубится у ре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3. Все время доносился отдаленный рокот, а земля под ногами вздрагив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4. Наталья Саввишна никак не могла понять, что Карл Иванович уеха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. Ребята поднялись на холм и пошли в лагер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Bethoven_Elisa.mp3" descr=""/>
          <p:cNvPicPr/>
          <p:nvPr/>
        </p:nvPicPr>
        <p:blipFill>
          <a:blip r:embed="rId1"/>
          <a:stretch/>
        </p:blipFill>
        <p:spPr>
          <a:xfrm>
            <a:off x="8388360" y="43657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4"/>
          <p:cNvSpPr/>
          <p:nvPr/>
        </p:nvSpPr>
        <p:spPr>
          <a:xfrm>
            <a:off x="1979640" y="59500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c090"/>
                </a:solidFill>
                <a:latin typeface="Arial"/>
              </a:rPr>
              <a:t>Проверьте  по клю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155408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ac090"/>
              </a:solidFill>
              <a:latin typeface="Arial"/>
              <a:ea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5472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.(когда- =     ), [ - = 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2. . [ = - ], и[  - =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3. [= -  ], а [  - =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4. [― =  ], (что- =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5. [- = и = 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4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ac09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Нравственность заключается в совершенном познании добра, в совершенном умении и желании творить добро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Морфологический разбор сою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1.И-союз,служит для связи однородных чле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2.Сочинительный.соедините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3.Прост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68360" y="10526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рузья мои, прекрасен наш сою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 как душа неразделим и вечен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колебим, свободен и беспеч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астался он под сенью дружных му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C:\Users\User\Desktop\i.jpg"/>
          <p:cNvPicPr/>
          <p:nvPr/>
        </p:nvPicPr>
        <p:blipFill>
          <a:blip r:embed="rId1"/>
          <a:stretch/>
        </p:blipFill>
        <p:spPr>
          <a:xfrm>
            <a:off x="179280" y="3573360"/>
            <a:ext cx="2880000" cy="3284640"/>
          </a:xfrm>
          <a:prstGeom prst="rect">
            <a:avLst/>
          </a:prstGeom>
          <a:ln w="0">
            <a:noFill/>
          </a:ln>
        </p:spPr>
      </p:pic>
      <p:pic>
        <p:nvPicPr>
          <p:cNvPr id="279" name="Bethoven_Elisa.mp3" descr=""/>
          <p:cNvPicPr/>
          <p:nvPr/>
        </p:nvPicPr>
        <p:blipFill>
          <a:blip r:embed="rId2"/>
          <a:stretch/>
        </p:blipFill>
        <p:spPr>
          <a:xfrm>
            <a:off x="8028000" y="5732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5408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дведем итог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акова была тема уро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акие цели мы преследовали по ходу всего урока? Как вы считаете, мы достигли цели уро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ак вы оцениваете свою работу на уро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c090"/>
                </a:solidFill>
                <a:latin typeface="Arial"/>
                <a:ea typeface="Arial"/>
              </a:rPr>
              <a:t>Продолжите высказывания по урок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сегодня  я почувствовал, чт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я выполнял задани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у меня получилось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я понял, что теперь могу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я научилс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я попробую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меня удивил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урок дал мне для жизн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мне захотелось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ставить синквейн или класт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199"/>
              </a:lnSpc>
              <a:spcBef>
                <a:spcPts val="11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чинить сказку о союз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Овал 2"/>
          <p:cNvSpPr/>
          <p:nvPr/>
        </p:nvSpPr>
        <p:spPr>
          <a:xfrm>
            <a:off x="3645000" y="2216160"/>
            <a:ext cx="1441440" cy="1706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ОЮ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кругленный прямоугольник 3"/>
          <p:cNvSpPr/>
          <p:nvPr/>
        </p:nvSpPr>
        <p:spPr>
          <a:xfrm>
            <a:off x="5867280" y="2276640"/>
            <a:ext cx="2355840" cy="360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ОЧИ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4"/>
          <p:cNvSpPr/>
          <p:nvPr/>
        </p:nvSpPr>
        <p:spPr>
          <a:xfrm>
            <a:off x="5867280" y="2637000"/>
            <a:ext cx="2355840" cy="507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5"/>
          <p:cNvSpPr/>
          <p:nvPr/>
        </p:nvSpPr>
        <p:spPr>
          <a:xfrm>
            <a:off x="5872320" y="3144960"/>
            <a:ext cx="2355840" cy="420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Calibri"/>
              </a:rPr>
              <a:t>ПОДЧИ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ая соединительная линия 7"/>
          <p:cNvSpPr/>
          <p:nvPr/>
        </p:nvSpPr>
        <p:spPr>
          <a:xfrm flipV="1">
            <a:off x="7045200" y="1915920"/>
            <a:ext cx="0" cy="360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Овал 8"/>
          <p:cNvSpPr/>
          <p:nvPr/>
        </p:nvSpPr>
        <p:spPr>
          <a:xfrm>
            <a:off x="5867280" y="1639800"/>
            <a:ext cx="235584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ОЕДИНИТ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Овал 9"/>
          <p:cNvSpPr/>
          <p:nvPr/>
        </p:nvSpPr>
        <p:spPr>
          <a:xfrm>
            <a:off x="5867280" y="1052640"/>
            <a:ext cx="2355840" cy="58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РАЗДЕЛИТ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10"/>
          <p:cNvSpPr/>
          <p:nvPr/>
        </p:nvSpPr>
        <p:spPr>
          <a:xfrm>
            <a:off x="5867280" y="476280"/>
            <a:ext cx="2355840" cy="57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ОТИВИТ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кругленный прямоугольник 11"/>
          <p:cNvSpPr/>
          <p:nvPr/>
        </p:nvSpPr>
        <p:spPr>
          <a:xfrm>
            <a:off x="1187280" y="3490920"/>
            <a:ext cx="1872000" cy="852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ТР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12"/>
          <p:cNvSpPr/>
          <p:nvPr/>
        </p:nvSpPr>
        <p:spPr>
          <a:xfrm>
            <a:off x="1187280" y="3068640"/>
            <a:ext cx="1872000" cy="422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13"/>
          <p:cNvSpPr/>
          <p:nvPr/>
        </p:nvSpPr>
        <p:spPr>
          <a:xfrm>
            <a:off x="1187280" y="4343400"/>
            <a:ext cx="19954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ста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16"/>
          <p:cNvSpPr/>
          <p:nvPr/>
        </p:nvSpPr>
        <p:spPr>
          <a:xfrm>
            <a:off x="5821200" y="3716280"/>
            <a:ext cx="2401920" cy="201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зъяс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сл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Це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Прямая со стрелкой 6"/>
          <p:cNvCxnSpPr/>
          <p:nvPr/>
        </p:nvCxnSpPr>
        <p:spPr>
          <a:xfrm flipV="1">
            <a:off x="4908600" y="2848680"/>
            <a:ext cx="1146960" cy="43092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6" name="Прямая со стрелкой 23"/>
          <p:cNvCxnSpPr>
            <a:endCxn id="341" idx="3"/>
          </p:cNvCxnSpPr>
          <p:nvPr/>
        </p:nvCxnSpPr>
        <p:spPr>
          <a:xfrm flipH="1">
            <a:off x="3058560" y="3355560"/>
            <a:ext cx="586440" cy="56268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549000"/>
            <a:ext cx="8686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Союз сердец =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важение + дружба + доброта + согласие + сотрудничество + нравственност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8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вторение по теме «Союз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979640" y="3704400"/>
            <a:ext cx="633744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056720" cy="4103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Союз человеческих серде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2"/>
          <a:stretch/>
        </p:blipFill>
        <p:spPr>
          <a:xfrm>
            <a:off x="2843280" y="2060640"/>
            <a:ext cx="273672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654120" y="836640"/>
            <a:ext cx="763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вторить и обобщить теоретические сведения о союзе как служебной части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ершенствовать навык в умении определять вид сложного предложения, различать ССП и СПП, а также предложения с однородными членами определять роль союза в построении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воение нравственно-этической категории, как союз человеческих серд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30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хождение на вершин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ика знаний Союза»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Calibri"/>
              </a:rPr>
              <a:t>Что такое союз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оюз – служебная часть речи, его главная задача – соединять однородные члены предложения или отдельные предлож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4832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бъединять и связывать стараю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Я равных и неравных в нужный ча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рою я совсем не повторяю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рою повторяюсь много р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1619280" y="4869000"/>
            <a:ext cx="626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значению союзы делятся на сочинительные и подчинительные.  По строению бывают простыми и составными, одиночными и повторяющими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5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5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5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5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476280"/>
            <a:ext cx="9144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метьте истинные и ложные высказывания, поставив справа от них соответственно буквы Л и 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d9f1"/>
                </a:solidFill>
                <a:latin typeface="Times New Roman"/>
                <a:ea typeface="Times New Roman"/>
              </a:rPr>
              <a:t>1.Союз – самостоятельная часть речи, которая связывает как члены предложения, так и простые предложения в составе сложн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d9f1"/>
                </a:solidFill>
                <a:latin typeface="Calibri"/>
              </a:rPr>
              <a:t>2.По своему строению союзы бывают простыми и составн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d9f1"/>
                </a:solidFill>
                <a:latin typeface="Calibri"/>
              </a:rPr>
              <a:t>3. Сочинительные союзы по значению делятся на четыре разря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d9f1"/>
                </a:solidFill>
                <a:latin typeface="Calibri"/>
              </a:rPr>
              <a:t>4. Подчинительные союзы связывают простые предложения в сложносочиненн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d9f1"/>
                </a:solidFill>
                <a:latin typeface="Calibri"/>
              </a:rPr>
              <a:t>5. Союз ДА (в значении НО) является сочинительным, противитель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d9f1"/>
                </a:solidFill>
                <a:latin typeface="Calibri"/>
              </a:rPr>
              <a:t>6. Подчинительный союз КОГДА указывает на причи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d9f1"/>
                </a:solidFill>
                <a:latin typeface="Calibri"/>
              </a:rPr>
              <a:t>7По значению союзы делятся на две группы: сочинительные и подчинитель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Bethoven_Elisa.mp3" descr=""/>
          <p:cNvPicPr/>
          <p:nvPr/>
        </p:nvPicPr>
        <p:blipFill>
          <a:blip r:embed="rId1"/>
          <a:stretch/>
        </p:blipFill>
        <p:spPr>
          <a:xfrm>
            <a:off x="7885080" y="6093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55408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люч к тест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)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)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3) 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4) 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5)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6) 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7)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цените по шкале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«5» – нет ошиб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«4» – одна ошиб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«3» – две ошиб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«2» – более двух ошиб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2:19:04Z</dcterms:created>
  <dc:creator>Таня</dc:creator>
  <dc:description/>
  <dc:language>en-US</dc:language>
  <cp:lastModifiedBy>Z</cp:lastModifiedBy>
  <dcterms:modified xsi:type="dcterms:W3CDTF">2015-03-17T13:48:59Z</dcterms:modified>
  <cp:revision>51</cp:revision>
  <dc:subject/>
  <dc:title>Урок русского языка в 7 классе Повторение по теме «Союз»</dc:title>
</cp:coreProperties>
</file>