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C15-5287-42F0-91E8-AA352EBB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878-4B62-4A2E-BF2E-8964DBD0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499-385E-4F40-828A-6237353C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F5E-F965-4A29-8D48-D0F8A8F9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4F8-D689-4CD2-A630-C3D6024B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245-498E-4051-A69D-7B1EB87A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66E-F3FA-4560-AACC-CE536194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6C0-3B20-45CB-9247-4AA3FF6F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00C-6F8B-4830-B501-678E7BF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6E5-6782-4D6A-9E0A-09A12AF3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2EA-0ADB-4EE7-ABC4-3AEAFFC5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366-4858-4EC2-8A57-5E5324EE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C04-C8C7-4EA6-9612-1C5D2697D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86;&#1083;&#1086;&#1095;&#1085;&#1072;&#1103;_&#1082;&#1080;&#1089;&#1083;&#1086;&#1090;&#1072;" TargetMode="External"/><Relationship Id="rId2" Type="http://schemas.openxmlformats.org/officeDocument/2006/relationships/hyperlink" Target="https://ru.wikipedia.org/wiki/&#1052;&#1086;&#1083;&#1086;&#1095;&#1085;&#1086;&#1082;&#1080;&#1089;&#1083;&#1086;&#1077;_&#1073;&#1088;&#1086;&#1078;&#1077;&#1085;&#1080;&#1077;" TargetMode="External"/><Relationship Id="rId3" Type="http://schemas.openxmlformats.org/officeDocument/2006/relationships/hyperlink" Target="https://ru.wikipedia.org/wiki/&#1056;&#1077;&#1085;&#1085;&#1080;&#1085;" TargetMode="External"/><Relationship Id="rId4" Type="http://schemas.openxmlformats.org/officeDocument/2006/relationships/hyperlink" Target="https://ru.wikipedia.org/wiki/&#1055;&#1077;&#1087;&#1089;&#1080;&#1085;" TargetMode="External"/><Relationship Id="rId5" Type="http://schemas.openxmlformats.org/officeDocument/2006/relationships/hyperlink" Target="https://ru.wikipedia.org/wiki/&#1050;&#1086;&#1072;&#1075;&#1091;&#1083;&#1103;&#1094;&#1080;&#1103;_(&#1076;&#1080;&#1089;&#1087;&#1077;&#1088;&#1089;&#1085;&#1072;&#1103;_&#1089;&#1080;&#1089;&#1090;&#1077;&#1084;&#1072;)" TargetMode="External"/><Relationship Id="rId6" Type="http://schemas.openxmlformats.org/officeDocument/2006/relationships/hyperlink" Target="https://ru.wikipedia.org/wiki/&#1057;&#1083;&#1080;&#1074;&#1082;&#1080;" TargetMode="External"/><Relationship Id="rId7" Type="http://schemas.openxmlformats.org/officeDocument/2006/relationships/hyperlink" Target="https://ru.wikipedia.org/wiki/&#1058;&#1074;&#1086;&#1088;&#1086;&#1075;#cite_note-12" TargetMode="External"/><Relationship Id="rId8" Type="http://schemas.openxmlformats.org/officeDocument/2006/relationships/hyperlink" Target="https://ru.wikipedia.org/wiki/&#1048;&#1079;&#1102;&#1084;" TargetMode="External"/><Relationship Id="rId9" Type="http://schemas.openxmlformats.org/officeDocument/2006/relationships/hyperlink" Target="https://ru.wikipedia.org/wiki/&#1057;&#1091;&#1093;&#1086;&#1092;&#1088;&#1091;&#1082;&#1090;&#1099;" TargetMode="External"/><Relationship Id="rId10" Type="http://schemas.openxmlformats.org/officeDocument/2006/relationships/hyperlink" Target="https://ru.wikipedia.org/wiki/&#1054;&#1088;&#1077;&#1093;" TargetMode="External"/><Relationship Id="rId11" Type="http://schemas.openxmlformats.org/officeDocument/2006/relationships/hyperlink" Target="https://ru.wikipedia.org/wiki/&#1062;&#1091;&#1082;&#1072;&#1090;&#1099;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86;&#1084;&#1099;&#1096;&#1083;&#1077;&#1085;&#1085;&#1086;&#1089;&#1090;&#1100;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о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705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тв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ислотный твор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готовят, как правило, из обезжиренного молока. При этом белок свёртывается под действием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олочной кислот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образующейся в процессе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лочнокислого броже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развивающегося в результате внесения заквасок в молок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ислотно-сычужный твор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личается от кислотного тем, что при выработке его для свёртывания белков молока применяют одновременно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ычужный фермент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(ил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псин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и закваски молочнокислых бактер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Раздельный спосо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изводства творога отличается от обычного тем, что очищенное молоко сепарируется в целях получения обезжиренного молока и сливок, массовая доля жира в которых составляет 50—55 %. Из обезжиренного молока получают обезжиренный творог. При этом для получения сгустка используется кислотно-сычужная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оагуляц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белков молока. Обезжиренный творог охлаждается и смешивается со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ливкам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свойств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рный (19—23 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ассический (4—18 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жирный (нежирный) (1,8 %)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12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езжиренный твор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добавками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изюм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сухофрукт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орех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цукат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и т. п.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льцинирован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61080" cy="384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18120" y="0"/>
            <a:ext cx="40258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5148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тв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сс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мышленного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зготовления творога выглядит так: молоко нормализуют (задают нужную жирность), пастеризуют и наливают в ванны (ёмкости). В ваннах поддерживается определенная температура (28-30 °С), которая необходима для нормального протекания процессов. В тёплое молоко вносят закваску и пепсин. Спустя некоторое время (среднее время закваски 8 часов) в ванне образуется творожное зерно, которое образует монолит (белки молока коагулируют и выпадают в осадок, образуя липкую массу). При этом начинает отделяться сыворотка — прозрачная желтоватая жидкость — побочный продукт производства. На завершающем этапе творожный монолит разрезается струнами на мелкие кусочки для того, чтобы увеличить площадь поверхности и облегчить отток сыворотки. Далее творожное зерно отжимают и охлаждают. В конце технологического процесса происходит расфасовка твор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8000" cy="319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7667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готовление творога в домашних услов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жее молоко нужно налить в небольшую кастрюлю, и поставить ее в теплое место – можно просто оставить на столе. Кастрюлю нужно продержать в тепле по меньшей мере 30 часов, не прикасаясь к молоку в течение всего этого срока – это ухудшит качество творожного сгустка. По прошествии указанного времени молоко превратится в простоквашу и сывороточную жидкость. Теперь кастрюлю нужно поставить на плиту на очень маленький огонь. Простоквашу необходимо нагреть, но до кипения ее доводить не следует. Чтобы лучше контролировать температуру, можно воспользоваться водяной баней – поставить кастрюлю со сквашенным молоком в другую кастрюлю большего размера с водой, причем вода должна доходить не более чем до середины кастрюли с простоквашей. Затем нужно выложить творог шумовкой на сито, либо слить содержимое кастрюли в банку через марлю, после чего следует оставить творог на некоторое время, чтобы он стек. Если творог был переложен в марлю, ее нужно подвесить над раковиной или ванной, если в сито – его необходимо установить над любой емкостью, чтобы жидкости было куда стекать. До полной готовности творог должен стекать примерно час-полтора: если оставить его на более продолжительный срок, продукт может стать чрезмерно сух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37440" cy="421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471636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337440" cy="421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967280" y="4503600"/>
            <a:ext cx="41767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ьза тв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ог относится к питательным продуктам. Наряду с насыщением он заряжает организм энергией и дарит целый комплекс полезных витаминов. В твороге много кальция, который нужен костям, зубам и ногтям. В нем есть все витами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шайте творог , а не хими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16:59:47Z</dcterms:created>
  <dc:creator>xxx</dc:creator>
  <dc:description/>
  <dc:language>en-US</dc:language>
  <cp:lastModifiedBy>xxx</cp:lastModifiedBy>
  <dcterms:modified xsi:type="dcterms:W3CDTF">2018-10-19T17:35:54Z</dcterms:modified>
  <cp:revision>2</cp:revision>
  <dc:subject/>
  <dc:title>Творог </dc:title>
</cp:coreProperties>
</file>