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9BE9-5A78-4C14-8D64-64E68F8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718-193D-4FC6-9F16-8D66F61D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05B-55CB-4502-8A1E-81AC4369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6D6D-CD7C-4F72-AF0F-570F4E50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2E4-280E-4907-92BE-982A21A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976-42D6-46B7-95A2-0C8C0140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30AF-EB67-459A-9E8F-F43CFC9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603-A271-4529-B8C7-2836F468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7D7-60CD-4EDB-B8AC-ADCA5C0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85-891D-4E5A-8B9C-1BEF23A1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ED3B-734D-4C46-8111-B731D90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D0FB-B96E-42AC-ADFD-F6458B4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0049-118C-4ED6-AF6E-1AB39B6F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86;&#1083;&#1086;&#1095;&#1085;&#1072;&#1103;_&#1082;&#1080;&#1089;&#1083;&#1086;&#1090;&#1072;" TargetMode="External"/><Relationship Id="rId2" Type="http://schemas.openxmlformats.org/officeDocument/2006/relationships/hyperlink" Target="https://ru.wikipedia.org/wiki/&#1052;&#1086;&#1083;&#1086;&#1095;&#1085;&#1086;&#1082;&#1080;&#1089;&#1083;&#1086;&#1077;_&#1073;&#1088;&#1086;&#1078;&#1077;&#1085;&#1080;&#1077;" TargetMode="External"/><Relationship Id="rId3" Type="http://schemas.openxmlformats.org/officeDocument/2006/relationships/hyperlink" Target="https://ru.wikipedia.org/wiki/&#1056;&#1077;&#1085;&#1085;&#1080;&#1085;" TargetMode="External"/><Relationship Id="rId4" Type="http://schemas.openxmlformats.org/officeDocument/2006/relationships/hyperlink" Target="https://ru.wikipedia.org/wiki/&#1055;&#1077;&#1087;&#1089;&#1080;&#1085;" TargetMode="External"/><Relationship Id="rId5" Type="http://schemas.openxmlformats.org/officeDocument/2006/relationships/hyperlink" Target="https://ru.wikipedia.org/wiki/&#1050;&#1086;&#1072;&#1075;&#1091;&#1083;&#1103;&#1094;&#1080;&#1103;_(&#1076;&#1080;&#1089;&#1087;&#1077;&#1088;&#1089;&#1085;&#1072;&#1103;_&#1089;&#1080;&#1089;&#1090;&#1077;&#1084;&#1072;)" TargetMode="External"/><Relationship Id="rId6" Type="http://schemas.openxmlformats.org/officeDocument/2006/relationships/hyperlink" Target="https://ru.wikipedia.org/wiki/&#1057;&#1083;&#1080;&#1074;&#1082;&#1080;" TargetMode="External"/><Relationship Id="rId7" Type="http://schemas.openxmlformats.org/officeDocument/2006/relationships/hyperlink" Target="https://ru.wikipedia.org/wiki/&#1058;&#1074;&#1086;&#1088;&#1086;&#1075;#cite_note-12" TargetMode="External"/><Relationship Id="rId8" Type="http://schemas.openxmlformats.org/officeDocument/2006/relationships/hyperlink" Target="https://ru.wikipedia.org/wiki/&#1048;&#1079;&#1102;&#1084;" TargetMode="External"/><Relationship Id="rId9" Type="http://schemas.openxmlformats.org/officeDocument/2006/relationships/hyperlink" Target="https://ru.wikipedia.org/wiki/&#1057;&#1091;&#1093;&#1086;&#1092;&#1088;&#1091;&#1082;&#1090;&#1099;" TargetMode="External"/><Relationship Id="rId10" Type="http://schemas.openxmlformats.org/officeDocument/2006/relationships/hyperlink" Target="https://ru.wikipedia.org/wiki/&#1054;&#1088;&#1077;&#1093;" TargetMode="External"/><Relationship Id="rId11" Type="http://schemas.openxmlformats.org/officeDocument/2006/relationships/hyperlink" Target="https://ru.wikipedia.org/wiki/&#1062;&#1091;&#1082;&#1072;&#1090;&#1099;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8;&#1086;&#1084;&#1099;&#1096;&#1083;&#1077;&#1085;&#1085;&#1086;&#1089;&#1090;&#1100;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воро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705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ислотный твор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отовят, как правило, из обезжиренного молока. При этом белок свёртывается под действием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олочной кисло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образующейся в процессе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лочнокислого брожен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развивающегося в результате внесения заквасок в молок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Кислотно-сычужный творо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тличается от кислотного тем, что при выработке его для свёртывания белков молока применяют одновременно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ычужный фермент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(ил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пси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 и закваски молочнокислых бактер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Раздельный спосо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изводства творога отличается от обычного тем, что очищенное молоко сепарируется в целях получения обезжиренного молока и сливок, массовая доля жира в которых составляет 50—55 %. Из обезжиренного молока получают обезжиренный творог. При этом для получения сгустка используется кислотно-сычужная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коагуляция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белков молока. Обезжиренный творог охлаждается и смешивается со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сливкам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свойств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Жирный (19—23 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лассический (4—18 %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ужирный (нежирный) (1,8 %)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12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езжиренный творо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добавками (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изюм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сухофрук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орех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цукаты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и т. п.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льцинирован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384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18120" y="0"/>
            <a:ext cx="40258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789360"/>
            <a:ext cx="5148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зготовление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сс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мышленного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зготовления творога выглядит так: молоко нормализуют (задают нужную жирность), пастеризуют и наливают в ванны (ёмкости). В ваннах поддерживается определенная температура (28-30 °С), которая необходима для нормального протекания процессов. В тёплое молоко вносят закваску и пепсин. Спустя некоторое время (среднее время закваски 8 часов) в ванне образуется творожное зерно, которое образует монолит (белки молока коагулируют и выпадают в осадок, образуя липкую массу). При этом начинает отделяться сыворотка — прозрачная желтоватая жидкость — побочный продукт производства. На завершающем этапе творожный монолит разрезается струнами на мелкие кусочки для того, чтобы увеличить площадь поверхности и облегчить отток сыворотки. Далее творожное зерно отжимают и охлаждают. В конце технологического процесса происходит расфасовка творо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8000" cy="319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7667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готовление творога в домашних услов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ежее молоко нужно налить в небольшую кастрюлю, и поставить ее в теплое место – можно просто оставить на столе. Кастрюлю нужно продержать в тепле по меньшей мере 30 часов, не прикасаясь к молоку в течение всего этого срока – это ухудшит качество творожного сгустка. По прошествии указанного времени молоко превратится в простоквашу и сывороточную жидкость. Теперь кастрюлю нужно поставить на плиту на очень маленький огонь. Простоквашу необходимо нагреть, но до кипения ее доводить не следует. Чтобы лучше контролировать температуру, можно воспользоваться водяной баней – поставить кастрюлю со сквашенным молоком в другую кастрюлю большего размера с водой, причем вода должна доходить не более чем до середины кастрюли с простоквашей. Затем нужно выложить творог шумовкой на сито, либо слить содержимое кастрюли в банку через марлю, после чего следует оставить творог на некоторое время, чтобы он стек. Если творог был переложен в марлю, ее нужно подвесить над раковиной или ванной, если в сито – его необходимо установить над любой емкостью, чтобы жидкости было куда стекать. До полной готовности творог должен стекать примерно час-полтора: если оставить его на более продолжительный срок, продукт может стать чрезмерно сух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37440" cy="421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4221000"/>
            <a:ext cx="471636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337440" cy="421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967280" y="4503600"/>
            <a:ext cx="41767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ьза твор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ог относится к питательным продуктам. Наряду с насыщением он заряжает организм энергией и дарит целый комплекс полезных витаминов. В твороге много кальция, который нужен костям, зубам и ногтям. В нем есть все витами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шайте творог , а не хими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9T16:59:47Z</dcterms:created>
  <dc:creator>xxx</dc:creator>
  <dc:description/>
  <dc:language>en-US</dc:language>
  <cp:lastModifiedBy>xxx</cp:lastModifiedBy>
  <dcterms:modified xsi:type="dcterms:W3CDTF">2018-10-19T17:35:54Z</dcterms:modified>
  <cp:revision>2</cp:revision>
  <dc:subject/>
  <dc:title>Творог </dc:title>
</cp:coreProperties>
</file>