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DA7E6-CB68-4BE8-B188-3E880B6B9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C0F9C-E72F-4C0E-82A6-F4ED79DD5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8B10F-C2F2-487E-8131-9768FCFD5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EA999-EA61-47EF-B49F-B55E8DDA9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B05A9-34EB-4EFC-84A3-C8EC2E4C2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E3797-8820-4986-821A-07D2F75C6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38901-A123-45DB-A793-AD7AD57C6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FF8D2-697E-40FF-AB22-795354E76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4DE5E-3B40-4E41-BE40-E3BCBF59D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7CFDF-C785-490D-BA57-FB221BE70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328E3-F9F0-4BEF-9B89-F819D4C5B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97168-AD29-410C-AA14-2B2ED7924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956C2-6EEB-4FFA-9362-231CE7902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215F6-9C85-476F-88C5-2E5517CDC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A04D6-4DB6-40EB-AB76-8EFC4D040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771092-0168-4E0F-80B2-B2FC6336B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0DA7B-6352-42B6-8599-C6CB2ADA4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13C3F-0BC8-427F-BFB9-40F8ACF32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B3338-4646-4820-8907-074FE50D2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7FF97-64C2-4EED-AD54-A731A3D24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6B729-5B3F-48A9-8745-FE9D912FB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69BE5-40DE-4BBA-977D-0ED29EC21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03304-45DE-4C1B-80FC-E7A144A42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40E99-51A9-4006-B1EB-962419FEE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ece2"/>
            </a:gs>
            <a:gs pos="100000">
              <a:srgbClr val="7d6af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8176-1275-48EF-8E51-806B4A84DDF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ece2"/>
            </a:gs>
            <a:gs pos="100000">
              <a:srgbClr val="7d6af0"/>
            </a:gs>
          </a:gsLst>
          <a:lin ang="189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BDD6-BB93-4528-83F0-B7F6DFD4842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Прямоугольник 1"/>
          <p:cNvSpPr/>
          <p:nvPr/>
        </p:nvSpPr>
        <p:spPr>
          <a:xfrm>
            <a:off x="228600" y="304920"/>
            <a:ext cx="8686800" cy="652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ea typeface="Calibri"/>
              </a:rPr>
              <a:t>  </a:t>
            </a:r>
            <a:r>
              <a:rPr b="1" lang="ru-RU" sz="4000" spc="-1" strike="noStrike">
                <a:solidFill>
                  <a:srgbClr val="ffffff"/>
                </a:solidFill>
                <a:latin typeface="Times New Roman"/>
                <a:ea typeface="Times New Roman"/>
              </a:rPr>
              <a:t>Формирование навыков бесконфликтной коммуникации - основа профилактики межличностных конфликтов в начальных классах </a:t>
            </a:r>
            <a:endParaRPr b="0" lang="en-US" sz="4000" spc="-1" strike="noStrike">
              <a:solidFill>
                <a:srgbClr val="000000"/>
              </a:solidFill>
              <a:latin typeface="Arial"/>
            </a:endParaRPr>
          </a:p>
          <a:p>
            <a:pPr algn="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Calibri"/>
              </a:rPr>
              <a:t>учитель – логопед</a:t>
            </a:r>
            <a:endParaRPr b="0" lang="en-US" sz="2400" spc="-1" strike="noStrike">
              <a:solidFill>
                <a:srgbClr val="000000"/>
              </a:solidFill>
              <a:latin typeface="Arial"/>
            </a:endParaRPr>
          </a:p>
          <a:p>
            <a:pPr algn="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Calibri"/>
              </a:rPr>
              <a:t>Давыдова И.В. </a:t>
            </a:r>
            <a:endParaRPr b="0" lang="en-US" sz="2400" spc="-1" strike="noStrike">
              <a:solidFill>
                <a:srgbClr val="000000"/>
              </a:solidFill>
              <a:latin typeface="Arial"/>
            </a:endParaRPr>
          </a:p>
          <a:p>
            <a:pPr algn="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Профилактика межличностных конфликтов</a:t>
            </a:r>
            <a:endParaRPr b="0" lang="en-US" sz="32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рофилактика межличностных конфликтов в начальных классах достаточно актуальна, так как именно в младшем школьном возрасте дети делают первые шаги в процессе формирования умений конструктивно выстраивать сферу межличностного общения. Они учатся взаимодействовать в коллективе, решать проблемы взаимопонимания, усваивают образцы поведения и морально-нравственные ценности и др.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менно поэтому младших школьников необходимо целенаправленно учить конструктивно разрешать конфликты и находить выходы из различных конфликтных ситуаций. Одним из направлений модернизации образования является введение Федерального государственного образовательного стандарта (ФГОС), в котором особое внимание уделяется развитию у обучающихся универсальных учебных действий, в частности коммуникативных.</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1"/>
          <p:cNvSpPr/>
          <p:nvPr/>
        </p:nvSpPr>
        <p:spPr>
          <a:xfrm>
            <a:off x="342000" y="457200"/>
            <a:ext cx="878508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Методика «Кто прав?»  (Г.А. Цукерма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Цель: диагностика уровня сформированности действий,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направленных на учет позиции собеседни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Диаграмма 5" descr=""/>
          <p:cNvPicPr/>
          <p:nvPr/>
        </p:nvPicPr>
        <p:blipFill>
          <a:blip r:embed="rId1"/>
          <a:stretch/>
        </p:blipFill>
        <p:spPr>
          <a:xfrm>
            <a:off x="1549440" y="2006640"/>
            <a:ext cx="6016680" cy="467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1660680" y="417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Прямоугольник 2"/>
          <p:cNvSpPr/>
          <p:nvPr/>
        </p:nvSpPr>
        <p:spPr>
          <a:xfrm>
            <a:off x="990720" y="417600"/>
            <a:ext cx="792468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Методика «Рукавички» (Г.А. Цукерман)</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Цель: диагностика уровня сформированнос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действий по согласованию усилий в процесс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организации и осуществления сотрудничеств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5" descr="C:\Users\EGanieva.BSSHI\Downloads\hello_html_42a4a8d2.jpg"/>
          <p:cNvPicPr/>
          <p:nvPr/>
        </p:nvPicPr>
        <p:blipFill>
          <a:blip r:embed="rId1"/>
          <a:stretch/>
        </p:blipFill>
        <p:spPr>
          <a:xfrm>
            <a:off x="2362320" y="2611440"/>
            <a:ext cx="4722840" cy="3552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1660680" y="417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Прямоугольник 2"/>
          <p:cNvSpPr/>
          <p:nvPr/>
        </p:nvSpPr>
        <p:spPr>
          <a:xfrm>
            <a:off x="990720" y="417600"/>
            <a:ext cx="79246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2" name="Picture 6" descr="C:\Users\EGanieva.BSSHI\Desktop\педсовет январь 22\post_5c46f06326f9d-600x428.jpg"/>
          <p:cNvPicPr/>
          <p:nvPr/>
        </p:nvPicPr>
        <p:blipFill>
          <a:blip r:embed="rId1"/>
          <a:stretch/>
        </p:blipFill>
        <p:spPr>
          <a:xfrm>
            <a:off x="1809720" y="2133720"/>
            <a:ext cx="5715000" cy="4076640"/>
          </a:xfrm>
          <a:prstGeom prst="rect">
            <a:avLst/>
          </a:prstGeom>
          <a:ln w="0">
            <a:noFill/>
          </a:ln>
        </p:spPr>
      </p:pic>
      <p:sp>
        <p:nvSpPr>
          <p:cNvPr id="93" name="Прямоугольник 3"/>
          <p:cNvSpPr/>
          <p:nvPr/>
        </p:nvSpPr>
        <p:spPr>
          <a:xfrm>
            <a:off x="1660680" y="304920"/>
            <a:ext cx="6400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Результат работы совместной деятельности обучающихся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в 2020 – 2021 учебном году</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1660680" y="417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C:\Users\EGanieva.BSSHI\Desktop\педсовет январь 22\рукавички.jpeg"/>
          <p:cNvPicPr/>
          <p:nvPr/>
        </p:nvPicPr>
        <p:blipFill>
          <a:blip r:embed="rId1"/>
          <a:stretch/>
        </p:blipFill>
        <p:spPr>
          <a:xfrm>
            <a:off x="1606680" y="1447920"/>
            <a:ext cx="6035400" cy="5225760"/>
          </a:xfrm>
          <a:prstGeom prst="rect">
            <a:avLst/>
          </a:prstGeom>
          <a:ln w="0">
            <a:noFill/>
          </a:ln>
        </p:spPr>
      </p:pic>
      <p:sp>
        <p:nvSpPr>
          <p:cNvPr id="96" name="Прямоугольник 4"/>
          <p:cNvSpPr/>
          <p:nvPr/>
        </p:nvSpPr>
        <p:spPr>
          <a:xfrm>
            <a:off x="1438200" y="0"/>
            <a:ext cx="6400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Результат работы совместной деятельности обучающихся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в 2021 – 2022 учебном году</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1660680" y="417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Прямоугольник 1"/>
          <p:cNvSpPr/>
          <p:nvPr/>
        </p:nvSpPr>
        <p:spPr>
          <a:xfrm>
            <a:off x="166680" y="228600"/>
            <a:ext cx="8763120" cy="24818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Методика «Дорога к дом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Цель: диагностика уровня сформированности действия </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Calibri"/>
              </a:rPr>
              <a:t>по передаче информации и отображению  предметного содержания и условий деятельнос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Диаграмма 6" descr=""/>
          <p:cNvPicPr/>
          <p:nvPr/>
        </p:nvPicPr>
        <p:blipFill>
          <a:blip r:embed="rId1"/>
          <a:stretch/>
        </p:blipFill>
        <p:spPr>
          <a:xfrm>
            <a:off x="1589040" y="2158920"/>
            <a:ext cx="6502320" cy="4521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4"/>
          <p:cNvSpPr/>
          <p:nvPr/>
        </p:nvSpPr>
        <p:spPr>
          <a:xfrm>
            <a:off x="1660680" y="417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2" descr=""/>
          <p:cNvPicPr/>
          <p:nvPr/>
        </p:nvPicPr>
        <p:blipFill>
          <a:blip r:embed="rId1"/>
          <a:stretch/>
        </p:blipFill>
        <p:spPr>
          <a:xfrm>
            <a:off x="457200" y="1095480"/>
            <a:ext cx="3848040" cy="2971800"/>
          </a:xfrm>
          <a:prstGeom prst="rect">
            <a:avLst/>
          </a:prstGeom>
          <a:ln w="0">
            <a:noFill/>
          </a:ln>
        </p:spPr>
      </p:pic>
      <p:pic>
        <p:nvPicPr>
          <p:cNvPr id="102" name="Диаграмма 5" descr=""/>
          <p:cNvPicPr/>
          <p:nvPr/>
        </p:nvPicPr>
        <p:blipFill>
          <a:blip r:embed="rId2"/>
          <a:stretch/>
        </p:blipFill>
        <p:spPr>
          <a:xfrm>
            <a:off x="4840200" y="1306440"/>
            <a:ext cx="4140360" cy="2997360"/>
          </a:xfrm>
          <a:prstGeom prst="rect">
            <a:avLst/>
          </a:prstGeom>
          <a:ln w="0">
            <a:noFill/>
          </a:ln>
        </p:spPr>
      </p:pic>
      <p:pic>
        <p:nvPicPr>
          <p:cNvPr id="103" name="Picture 3" descr=""/>
          <p:cNvPicPr/>
          <p:nvPr/>
        </p:nvPicPr>
        <p:blipFill>
          <a:blip r:embed="rId3"/>
          <a:stretch/>
        </p:blipFill>
        <p:spPr>
          <a:xfrm>
            <a:off x="2228760" y="4044960"/>
            <a:ext cx="3867120" cy="2663640"/>
          </a:xfrm>
          <a:prstGeom prst="rect">
            <a:avLst/>
          </a:prstGeom>
          <a:ln w="0">
            <a:noFill/>
          </a:ln>
        </p:spPr>
      </p:pic>
      <p:sp>
        <p:nvSpPr>
          <p:cNvPr id="104" name="Прямоугольник 7"/>
          <p:cNvSpPr/>
          <p:nvPr/>
        </p:nvSpPr>
        <p:spPr>
          <a:xfrm>
            <a:off x="166680" y="185760"/>
            <a:ext cx="8763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Мониторинг уровня сформированности коммуникативных УУД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обучающихся 3 «Б» класса</a:t>
            </a:r>
            <a:endParaRPr b="0" lang="en-US" sz="2400" spc="-1" strike="noStrike">
              <a:solidFill>
                <a:srgbClr val="000000"/>
              </a:solidFill>
              <a:latin typeface="Arial"/>
            </a:endParaRPr>
          </a:p>
        </p:txBody>
      </p:sp>
      <p:sp>
        <p:nvSpPr>
          <p:cNvPr id="105" name="Прямоугольник 2"/>
          <p:cNvSpPr/>
          <p:nvPr/>
        </p:nvSpPr>
        <p:spPr>
          <a:xfrm>
            <a:off x="676440" y="1338120"/>
            <a:ext cx="3105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Calibri"/>
              </a:rPr>
              <a:t>Методика «Кто прав?»  (Г.А. Цукерман)</a:t>
            </a:r>
            <a:endParaRPr b="0" lang="en-US" sz="1200" spc="-1" strike="noStrike">
              <a:solidFill>
                <a:srgbClr val="000000"/>
              </a:solidFill>
              <a:latin typeface="Arial"/>
            </a:endParaRPr>
          </a:p>
        </p:txBody>
      </p:sp>
      <p:sp>
        <p:nvSpPr>
          <p:cNvPr id="106" name="Прямоугольник 3"/>
          <p:cNvSpPr/>
          <p:nvPr/>
        </p:nvSpPr>
        <p:spPr>
          <a:xfrm>
            <a:off x="5340240" y="1406520"/>
            <a:ext cx="381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Calibri"/>
              </a:rPr>
              <a:t>Методика «Рукавички» (Г.А. Цукерман)</a:t>
            </a:r>
            <a:endParaRPr b="0" lang="en-US" sz="1200" spc="-1" strike="noStrike">
              <a:solidFill>
                <a:srgbClr val="000000"/>
              </a:solidFill>
              <a:latin typeface="Arial"/>
            </a:endParaRPr>
          </a:p>
        </p:txBody>
      </p:sp>
      <p:sp>
        <p:nvSpPr>
          <p:cNvPr id="107" name="Прямоугольник 4"/>
          <p:cNvSpPr/>
          <p:nvPr/>
        </p:nvSpPr>
        <p:spPr>
          <a:xfrm>
            <a:off x="3376440" y="4106880"/>
            <a:ext cx="1957680" cy="30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ea typeface="Calibri"/>
              </a:rPr>
              <a:t>Методика «Дорога к дому»</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Формирование коммуникативного компонента УУД</a:t>
            </a:r>
            <a:endParaRPr b="0" lang="en-US" sz="2400" spc="-1" strike="noStrike">
              <a:solidFill>
                <a:srgbClr val="000000"/>
              </a:solidFill>
              <a:latin typeface="Arial"/>
            </a:endParaRPr>
          </a:p>
        </p:txBody>
      </p:sp>
      <p:sp>
        <p:nvSpPr>
          <p:cNvPr id="109" name=""/>
          <p:cNvSpPr txBox="1"/>
          <p:nvPr/>
        </p:nvSpPr>
        <p:spPr>
          <a:xfrm>
            <a:off x="457200" y="1294920"/>
            <a:ext cx="8229600" cy="53341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Младший школьный возраст является благоприятным для формирования коммуникативного компонента универсальных учебных действий. В начальной школе дети перестают считать свою точку зрения единственно возможной, и это происходит в процессе коммуникации, а именно споров, нахождения общих путей решения и компромиссов. Многие дети в начальной школе склонны работать индивидуально, не обращая внимания на партнёра. Поэтому научить детей сотрудничать, договариваться, находить общее решение посредствами коммуникации является одной из важных задач. Обучающиеся должны уметь не просто высказать своё мнение, но и аргументировать своё предположение, уметь убеждать, уступать, сохранять доброжелательное отношение друг к другу даже в моменты споров, уметь брать на себя инициативу в организации совместной деятельности, оказывать друг другу помощь. От сформированного в начальной школе уровня коммуникативного развития зависит успешность обучения, а также сформированность навыков бесконфликтной коммуникации.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Елена Ганиева</dc:creator>
  <dc:description/>
  <dc:language>en-US</dc:language>
  <cp:lastModifiedBy>Ирина</cp:lastModifiedBy>
  <dcterms:modified xsi:type="dcterms:W3CDTF">2022-09-16T19:00:55Z</dcterms:modified>
  <cp:revision>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