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FB3B-5F2C-4B2B-8E76-59FB5F59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B00-3FB7-49E2-85BB-8DE1210F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C70-F296-414F-8781-0CC07BD5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72C-F716-4C56-A5D1-DBC885AB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E3509-B05B-4F77-8617-CBCE37C7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A40CE-C4AB-4628-97AB-24C135F3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15DEC-0CD9-475F-985F-D77C846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4EF99-98A2-4754-8E2A-C21B8753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F94EF-817A-4DEE-8093-504F4702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69162-B49A-496D-84E8-A1E52C9D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113BA-2F95-42E5-8FF8-0EBF566F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D6A0-7F39-45A0-897C-B41850A9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A92B4-F5A7-48E5-8EA9-5C2B474A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D8A5A-7B4B-4770-BB3F-3E7AA287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C7194-77A7-482A-988F-36B0AB21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E285C-4A3D-4A5C-84EA-C63EFF21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B29B9-DA0A-4D93-997D-9F56C6BE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964B-641E-489A-8E95-11E65865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077-2F7A-4808-BA57-1791A417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BBF-6B84-41BE-9136-B8C8EE0B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C169-6542-4538-A442-75F1B74E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A8E-532B-4A67-951F-E652175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D98-741B-48E9-8152-BC44FD2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168-898B-4768-9B05-35E58201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CB5-4832-47EA-BD03-A8504D38A5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3938-0EC7-47CE-9F7F-CEA19AC1BC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Легенды о Луне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" descr="Легенды о Луне"/>
          <p:cNvPicPr/>
          <p:nvPr/>
        </p:nvPicPr>
        <p:blipFill>
          <a:blip r:embed="rId1"/>
          <a:stretch/>
        </p:blipFill>
        <p:spPr>
          <a:xfrm>
            <a:off x="395280" y="1989000"/>
            <a:ext cx="8459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6200" y="423720"/>
            <a:ext cx="808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Если найти все легенды и сказки про луну, то можно их читать несколько дней без переры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488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602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вным-давно у людей не было телескопов, а желание понять, откуда взялась на небе луна – было. Так что они сочиняли что-нибудь, во что сами потом верили. Но эти мифы больше говорят о людях, чем о происхождении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Мифы и легенды о луне разных народов мира"/>
          <p:cNvPicPr/>
          <p:nvPr/>
        </p:nvPicPr>
        <p:blipFill>
          <a:blip r:embed="rId1"/>
          <a:stretch/>
        </p:blipFill>
        <p:spPr>
          <a:xfrm>
            <a:off x="684360" y="1557360"/>
            <a:ext cx="79214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https://ladiesinlife.ru/wp-content/uploads/2021/04/0249552c8074ce33fc97f34735162f6e.jpg"/>
          <p:cNvPicPr/>
          <p:nvPr/>
        </p:nvPicPr>
        <p:blipFill>
          <a:blip r:embed="rId1"/>
          <a:stretch/>
        </p:blipFill>
        <p:spPr>
          <a:xfrm>
            <a:off x="2195640" y="1413000"/>
            <a:ext cx="6767280" cy="5078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https://pbs.twimg.com/media/EfX-BHUXgAINXgx.jpg"/>
          <p:cNvPicPr/>
          <p:nvPr/>
        </p:nvPicPr>
        <p:blipFill>
          <a:blip r:embed="rId2"/>
          <a:stretch/>
        </p:blipFill>
        <p:spPr>
          <a:xfrm>
            <a:off x="324000" y="1916280"/>
            <a:ext cx="3848040" cy="4808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4000" y="333360"/>
            <a:ext cx="85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лена – так древние греки называли Луну. Они считали что эта богиня, каждую ночь на своей колеснице катается по ночному небу и светит люд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115920"/>
            <a:ext cx="90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кеания: рыба большого полёта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Океании веками верили в том, что одном острове жили две сестры – чудесные охотницы и рыбачки. Однажды они вытащили из воды волшебную рыбу, огромную белую камбалу, и решили тотчас её съесть. Оставили было в траве, чтобы набрать корешков и дров, но, пока они ходили, волшебная рыба забралась на дерево. А когда снова их увидела, стала прыгать всё выше по веткам, пока не забралась на небо. Так что луна – это большая волшебная камбал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Мифы и легенды о луне разных народов мира"/>
          <p:cNvPicPr/>
          <p:nvPr/>
        </p:nvPicPr>
        <p:blipFill>
          <a:blip r:embed="rId1"/>
          <a:stretch/>
        </p:blipFill>
        <p:spPr>
          <a:xfrm>
            <a:off x="1476360" y="2073240"/>
            <a:ext cx="63784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129440" cy="556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50920" y="18900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Европе есть легенды, что во время полнолуния, все оборотни превращаются из людей в животных. Ведь в это время луна светит так ярко. А волки в это время любят повыть на луну. Вот люди и решили, что это не спро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8000" y="11556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итайская легенда. Однажды Нефритовый император переоделся голодным старцем и обратился за помощью к лисе, обезьяне и кролику. Лиса поймала для него рыбу, обезьяна принесла фрукты, а кролик бросился в огонь, предлагая себя в качестве обе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8000" y="1454040"/>
            <a:ext cx="5403960" cy="540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867280" y="1484280"/>
            <a:ext cx="27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благодарность Нефритовый император воскресил кролика и отправил его на луну, где он встретился с лунной богиней и стал ее компаньон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48200" y="4292640"/>
            <a:ext cx="41958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189360"/>
            <a:ext cx="86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Эстония: небо попортили ножницам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вным-давно небо, считали предки современных эстонцев, висело очень низко и выглядело совсем как синее полотно, которое мог потрогать любой высокий мужчина. У одного портного прохудились штаны, и он вырезал себе кусок неба на заплату. А потом вырезал кусок поменьше на заплатку жене. Это обеспокоило Старого бога, и тот приказал своим помощникам перевесить небо повыше. Но через дырки до сих пор льётся райский свет, через большую поярче, через маленькую помельче. А звёзды – это дырки от пальцев детей портного, которые любили баловаться, когда небо ещё висело очень низк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4152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079880" cy="4079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788000" y="2421000"/>
            <a:ext cx="4092480" cy="409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7840" y="65160"/>
            <a:ext cx="8516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ть забавное выражение, что луна сделана из сыра. Однажды среди детей устроили опрос – из чего сделана луна.  Большинство детей ответили – из сыра. Обычно это выражение означает какую-то очевидную глуп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о также глупо, как считать, что луна сделана из сыра. Дети так часто слышали эту фразу от взрослых, что решили – это прав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26028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юди заметили, что если посадить растения в определённые лунные дни, то они лучше растут. И теперь можно купить лунный календарь для садов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30T20:11:32Z</dcterms:created>
  <dc:creator>User</dc:creator>
  <dc:description/>
  <dc:language>en-US</dc:language>
  <cp:lastModifiedBy>User</cp:lastModifiedBy>
  <dcterms:modified xsi:type="dcterms:W3CDTF">2021-09-30T22:30:26Z</dcterms:modified>
  <cp:revision>2</cp:revision>
  <dc:subject/>
  <dc:title>Легенды о Луне</dc:title>
</cp:coreProperties>
</file>