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3B3-AEE5-45B4-8825-8565E7FC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E6F-61D6-4BCD-848C-FFC70BC5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78D-1194-4EC5-851E-DD6FFE6A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802-3EC1-4523-9A01-865783B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3FB80-5AB5-46E3-BACC-02CE2102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7BED9-832A-48DC-9B7A-A348F79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FE81-A3DC-43FF-8258-B534F1A9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16D6C-10F9-4D16-B7BB-1D596476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E1A68-BC3C-4A77-AA18-98100329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356B2-79A3-4549-8580-4641178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D7777-D650-4266-9B83-06C9EE1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3A4-04EE-4CB3-80E4-7D86764F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C5FB1-8DB7-47C0-89B7-2D4CE25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36129-04D7-4379-BB51-111836F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2DC06-1A19-44C0-9D3E-7A15A3E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9103A-B623-4904-8510-3D9166B0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DD717-9F50-4077-AC4C-E4776FEE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346-3416-428F-A31B-BF1C801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1D8-87E9-4256-BE41-16ED3D0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665-9EEC-4325-9DDD-507D5290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CBF-6D41-4534-B751-9A40DEF4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01D-154C-41C7-AE9D-07D2A41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BA4-1075-46C7-A628-EEDA7932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5A0-427A-4414-996A-41F9990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05DF-6B43-448F-8CA8-D96CD7118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A55-8EF1-487C-A687-27CD057CF6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Легенды о Луне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Легенды о Луне"/>
          <p:cNvPicPr/>
          <p:nvPr/>
        </p:nvPicPr>
        <p:blipFill>
          <a:blip r:embed="rId1"/>
          <a:stretch/>
        </p:blipFill>
        <p:spPr>
          <a:xfrm>
            <a:off x="395280" y="1989000"/>
            <a:ext cx="8459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6200" y="423720"/>
            <a:ext cx="808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Если найти все легенды и сказки про луну, то можно их читать несколько дней без переры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488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602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вным-давно у людей не было телескопов, а желание понять, откуда взялась на небе луна – было. Так что они сочиняли что-нибудь, во что сами потом верили. Но эти мифы больше говорят о людях, чем о происхождении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Мифы и легенды о луне разных народов мира"/>
          <p:cNvPicPr/>
          <p:nvPr/>
        </p:nvPicPr>
        <p:blipFill>
          <a:blip r:embed="rId1"/>
          <a:stretch/>
        </p:blipFill>
        <p:spPr>
          <a:xfrm>
            <a:off x="684360" y="1557360"/>
            <a:ext cx="79214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https://ladiesinlife.ru/wp-content/uploads/2021/04/0249552c8074ce33fc97f34735162f6e.jpg"/>
          <p:cNvPicPr/>
          <p:nvPr/>
        </p:nvPicPr>
        <p:blipFill>
          <a:blip r:embed="rId1"/>
          <a:stretch/>
        </p:blipFill>
        <p:spPr>
          <a:xfrm>
            <a:off x="2195640" y="1413000"/>
            <a:ext cx="6767280" cy="5078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https://pbs.twimg.com/media/EfX-BHUXgAINXgx.jpg"/>
          <p:cNvPicPr/>
          <p:nvPr/>
        </p:nvPicPr>
        <p:blipFill>
          <a:blip r:embed="rId2"/>
          <a:stretch/>
        </p:blipFill>
        <p:spPr>
          <a:xfrm>
            <a:off x="324000" y="1916280"/>
            <a:ext cx="3848040" cy="4808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333360"/>
            <a:ext cx="85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лена – так древние греки называли Луну. Они считали что эта богиня, каждую ночь на своей колеснице катается по ночному небу и светит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15920"/>
            <a:ext cx="90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кеания: рыба большого полёт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Океании веками верили в том, что одном острове жили две сестры – чудесные охотницы и рыбачки. Однажды они вытащили из воды волшебную рыбу, огромную белую камбалу, и решили тотчас её съесть. Оставили было в траве, чтобы набрать корешков и дров, но, пока они ходили, волшебная рыба забралась на дерево. А когда снова их увидела, стала прыгать всё выше по веткам, пока не забралась на небо. Так что луна – это большая волшебная камб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Мифы и легенды о луне разных народов мира"/>
          <p:cNvPicPr/>
          <p:nvPr/>
        </p:nvPicPr>
        <p:blipFill>
          <a:blip r:embed="rId1"/>
          <a:stretch/>
        </p:blipFill>
        <p:spPr>
          <a:xfrm>
            <a:off x="1476360" y="2073240"/>
            <a:ext cx="63784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129440" cy="556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0920" y="18900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Европе есть легенды, что во время полнолуния, все оборотни превращаются из людей в животных. Ведь в это время луна светит так ярко. А волки в это время любят повыть на луну. Вот люди и решили, что это не спро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8000" y="1155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тайская легенда. Однажды Нефритовый император переоделся голодным старцем и обратился за помощью к лисе, обезьяне и кролику. Лиса поймала для него рыбу, обезьяна принесла фрукты, а кролик бросился в огонь, предлагая себя в качестве обе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454040"/>
            <a:ext cx="5403960" cy="540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867280" y="148428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благодарность Нефритовый император воскресил кролика и отправил его на луну, где он встретился с лунной богиней и стал ее компань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48200" y="4292640"/>
            <a:ext cx="4195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89360"/>
            <a:ext cx="86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стония: небо попортили ножницам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вным-давно небо, считали предки современных эстонцев, висело очень низко и выглядело совсем как синее полотно, которое мог потрогать любой высокий мужчина. У одного портного прохудились штаны, и он вырезал себе кусок неба на заплату. А потом вырезал кусок поменьше на заплатку жене. Это обеспокоило Старого бога, и тот приказал своим помощникам перевесить небо повыше. Но через дырки до сих пор льётся райский свет, через большую поярче, через маленькую помельче. А звёзды – это дырки от пальцев детей портного, которые любили баловаться, когда небо ещё висело очень низ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4152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079880" cy="407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4092480" cy="409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7840" y="65160"/>
            <a:ext cx="851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ть забавное выражение, что луна сделана из сыра. Однажды среди детей устроили опрос – из чего сделана луна.  Большинство детей ответили – из сыра. Обычно это выражение означает какую-то очевидную глуп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также глупо, как считать, что луна сделана из сыра. Дети так часто слышали эту фразу от взрослых, что решили – это прав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26028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ди заметили, что если посадить растения в определённые лунные дни, то они лучше растут. И теперь можно купить лунный календарь для садов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30T20:11:32Z</dcterms:created>
  <dc:creator>User</dc:creator>
  <dc:description/>
  <dc:language>en-US</dc:language>
  <cp:lastModifiedBy>User</cp:lastModifiedBy>
  <dcterms:modified xsi:type="dcterms:W3CDTF">2021-09-30T22:30:26Z</dcterms:modified>
  <cp:revision>2</cp:revision>
  <dc:subject/>
  <dc:title>Легенды о Луне</dc:title>
</cp:coreProperties>
</file>