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4.jpeg" ContentType="image/jpeg"/>
  <Override PartName="/ppt/media/image8.wmf" ContentType="image/x-wmf"/>
  <Override PartName="/ppt/media/image1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9.jpeg" ContentType="image/jpeg"/>
  <Override PartName="/ppt/media/image5.png" ContentType="image/png"/>
  <Override PartName="/ppt/media/image10.jpeg" ContentType="image/jpeg"/>
  <Override PartName="/ppt/media/image30.png" ContentType="image/png"/>
  <Override PartName="/ppt/media/image31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B79E-EA9E-4D6D-9009-8DF65570D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75EC-7A83-45CC-A018-351A928E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49732-8663-491A-8753-E4DEED4F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3D192-D52E-474D-9A31-9274B6B4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8E656-23A1-4715-B14E-FC425AAD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94930-46E2-4721-BEC4-D37AE5B0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D6B60-CDFE-4B11-9A1B-8C266A95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04F86-B668-4596-A57E-C2A9F15A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5B535-A047-4B18-9B34-5CACA4DB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2B8D7-B114-426F-9027-200451EAB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B03AE-E183-432A-94E9-7BBCF2664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DEE7-35D4-4136-8B2B-9DA299218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0C00-B6FD-4BB9-A2CD-683CD4AE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199F-CD37-47A1-8E26-51C263A77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BE88-445C-467A-80A3-D4A63881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7890-96F7-4B3E-BB9C-E8AC3E15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B4CF-AD66-4D85-973D-594C76BC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1ECA-465D-43DF-A9D5-40D0EBDF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F6C5-0118-4F61-9F0A-CD2B39CA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E02A-6071-4F34-A0D3-8703FF71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A29F-0412-483B-9F74-7CB11476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26BA-E0D9-4692-A0A0-49E13429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9313-CFA2-41A5-9450-7AEDA17E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9C73-DFD7-41AD-9471-6E000646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B02B-131C-43D6-A2BC-0EFC0CC55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97B4-860A-49E9-BFA3-80B380663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81C93-1B59-4401-BDE1-FA5789338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3F364-7A5A-4D00-9B15-059458BA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D83C8-9AB8-4B0D-A499-3649A8B6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B5B41-EF27-4464-8D13-81AEDD6C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E954C-CC77-426F-8CA3-0024DB32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652F-6E1E-4389-8648-B7096555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9B7AD-6E12-4873-A00F-D31077EF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B6FC5-17A5-461D-8020-B8BCAB9C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FEC4B-0E84-484C-BC7B-13943042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D7F8F-D397-49DD-836C-BBDCF066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C31F6-1ACE-4C71-A21E-5EEFC9E5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0874A-8E4A-45E1-8EDE-F008FFFC8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2B877-F44E-465F-BC83-7CCEBF5D1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ADADC-3CCE-493B-B9D2-572D26091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E45F6-4093-4DF2-AE18-845288BF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0C675-A1D5-4D42-B39D-3739A832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A3A2-EE55-42EC-87AF-23B5D3EB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91449-B7EC-4EA9-BF60-C378191E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FBC61-21EE-45E7-8AB5-B17FCF2D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8EBEE-AB5F-46CA-BA0A-D9653495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E735F-1DBD-494A-A467-043B517A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9E30A-1D74-4A2B-B20C-FE6308AD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FB4CC-5283-47B6-9B66-34597AD5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3433E-8270-419B-970F-13CA9B08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6AE15-1BF7-4DEE-8681-3C7CA5124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165C3-C938-4BA8-86A6-16060A27A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D2C35-21D1-49C5-B810-700C2F003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AC41-A60E-4692-9350-F003D296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E4800-740A-43BD-813C-8DF46217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D2943-C9DE-46EA-9792-3A5B22C3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FA232-747A-40B9-A760-4AE26E2E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98D5D-C1ED-4CC7-8DB3-FF3C1854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54431-3C4E-4176-B9A2-DA6607CA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2708D-7A5F-4044-ADC2-5A62E951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63334-3F4B-42BC-8545-C039119A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5744E-BF2D-402F-836E-39245840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D49BD-1BA1-4594-A662-688766EB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AF629-A411-4733-99D3-D5E4BE230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1862-0DE4-457C-BD2F-67BF93CB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F544C-7356-4A27-855D-3D6679C45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3144F-4ABD-44BB-8837-CE98B5F0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75AFA-52A7-4468-A229-2420F7F2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6EE83-C349-4DFC-A5F9-4CB71427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6346C-324E-4ACD-8509-7FA83D97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8AC90-96B1-4A8A-B136-721E4E1A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EEA29-45D4-4C71-AC52-33AECD3B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13C89-3034-4E08-B2BC-28A799D5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162DF-0F89-4AA4-931A-9931330D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EA6CC-C49C-41B7-94DA-E44E53BC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1278-D27A-4C42-8B19-8B827242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36DB3-504D-4836-8FD8-2B01D40C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66C8A-6192-4A88-B651-4E35C4D0A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F456B-BD35-4033-9516-7A681ED48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5EA3B-3AD3-47DA-B34C-854ABE4C6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82AFC-FBD4-4EBC-8E83-D8A9C3E9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CA9C9-076F-4E38-B78E-090452D9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694DB-2165-40FB-B558-AA197EF5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79933-DA25-4CE3-903F-944C88D5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A747E-ED99-4829-B1CD-2D060090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12210-FF79-4508-B5A0-53FDE040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D553-0719-49EA-BFEA-4EFA0080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703C2-5A45-43D4-8C44-F15D7230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75DDB-B69A-4AAC-AA2A-5FDDA8F2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F9269-E93F-484A-95E3-CC00853A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126F7-756F-4AB1-9D73-B82AAE7E3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94B79-27B4-474D-9DA6-FB9A9BF39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C9AD2-445D-4483-85A7-7CAEE4D58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503AF-88CD-4696-8372-4832CB17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6748F-2724-479F-8B9A-B6E8DD51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6F04D-CE0A-4F84-A769-95D3C007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DFAE6-4B9C-4307-8114-BE58035A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AEB5-4140-4AFF-ABB4-D30A47CE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38203-CCAE-4AF5-8B2D-C1251BC6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BEBB6-E69D-493B-B53C-17CBC092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B80DC-8B17-49A5-90A9-0D0F020D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7DEB0-1CAB-42F3-81AF-8912C41C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0BF91-BC2C-4360-9C66-59CDC548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1819E-87F0-48A4-941E-70BFB58FD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425A1-468C-45D9-AE7F-2AD0A2CC2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F073A-6F51-4F59-8BAF-735444860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69033-BB45-4AC1-8F3B-A7885196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D1762-2812-4265-B211-63BC9A87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4641-6892-4A88-95DA-6E3C56E5B5D6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F5AA-2347-4D19-A4B1-3F9D19D313A2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31E9-ED27-4B5B-8A31-8659B2BB7892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eeece1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eeece1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eeece1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eeece1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eeece1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eeece1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eeece1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eeece1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6AE6-7B58-4866-BB83-9B274341695D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3B02-615B-4EC9-B86A-5A57980D4118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D299-DA60-4386-A08F-642E0240351C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6CC7-7C61-42F0-A03E-4E1806DBBF18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63B2-9FB1-42D7-97B9-2DCB53447416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BC35-2398-4660-AEB4-4E146593BD20}" type="slidenum">
              <a:rPr b="0" lang="ru-RU" sz="1200" spc="-1" strike="noStrike">
                <a:solidFill>
                  <a:srgbClr val="4471a6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VlcKp3bWH8" TargetMode="External"/><Relationship Id="rId2" Type="http://schemas.openxmlformats.org/officeDocument/2006/relationships/hyperlink" Target="https://www.youtube.com/watch?v=ORGLQudvMWE" TargetMode="External"/><Relationship Id="rId3" Type="http://schemas.openxmlformats.org/officeDocument/2006/relationships/hyperlink" Target="https://www.youtube.com/watch?v=Xcws7UWWDEs" TargetMode="External"/><Relationship Id="rId4" Type="http://schemas.openxmlformats.org/officeDocument/2006/relationships/hyperlink" Target="https://www.youtube.com/watch?v=Xcws7UWWDEs" TargetMode="External"/><Relationship Id="rId5" Type="http://schemas.openxmlformats.org/officeDocument/2006/relationships/hyperlink" Target="https://www.youtube.com/watch?v=Xcws7UWWDEs" TargetMode="External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youtube.com/watch?v=tVlcKp3bWH8" TargetMode="External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384120" y="4803840"/>
            <a:ext cx="8454960" cy="18414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- учитель английского языка Юскине Мадина Заурбековна</a:t>
            </a: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Школа №31»</a:t>
            </a: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401" name="Picture 4" descr="000803_1071_1235_vnvv"/>
          <p:cNvPicPr/>
          <p:nvPr/>
        </p:nvPicPr>
        <p:blipFill>
          <a:blip r:embed="rId2"/>
          <a:stretch/>
        </p:blipFill>
        <p:spPr>
          <a:xfrm>
            <a:off x="7885080" y="333360"/>
            <a:ext cx="1109520" cy="22766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" descr="000803_1055_8651_vnvv"/>
          <p:cNvPicPr/>
          <p:nvPr/>
        </p:nvPicPr>
        <p:blipFill>
          <a:blip r:embed="rId3"/>
          <a:stretch/>
        </p:blipFill>
        <p:spPr>
          <a:xfrm>
            <a:off x="5076720" y="620640"/>
            <a:ext cx="1519200" cy="22320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000803_1057_9648_vnvv"/>
          <p:cNvPicPr/>
          <p:nvPr/>
        </p:nvPicPr>
        <p:blipFill>
          <a:blip r:embed="rId4"/>
          <a:stretch/>
        </p:blipFill>
        <p:spPr>
          <a:xfrm>
            <a:off x="539640" y="476280"/>
            <a:ext cx="1220760" cy="1295280"/>
          </a:xfrm>
          <a:prstGeom prst="rect">
            <a:avLst/>
          </a:prstGeom>
          <a:ln w="0">
            <a:noFill/>
          </a:ln>
        </p:spPr>
      </p:pic>
      <p:pic>
        <p:nvPicPr>
          <p:cNvPr id="404" name="Содержимое 3" descr="images.jpg"/>
          <p:cNvPicPr/>
          <p:nvPr/>
        </p:nvPicPr>
        <p:blipFill>
          <a:blip r:embed="rId5"/>
          <a:stretch/>
        </p:blipFill>
        <p:spPr>
          <a:xfrm>
            <a:off x="2484360" y="1916280"/>
            <a:ext cx="209556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328680" y="-255600"/>
            <a:ext cx="8358120" cy="4273560"/>
          </a:xfrm>
          <a:prstGeom prst="rect">
            <a:avLst/>
          </a:prstGeom>
          <a:ln w="0">
            <a:noFill/>
          </a:ln>
        </p:spPr>
      </p:pic>
      <p:pic>
        <p:nvPicPr>
          <p:cNvPr id="427" name="Содержимое 3" descr="pe07364_1-300x268.gif"/>
          <p:cNvPicPr/>
          <p:nvPr/>
        </p:nvPicPr>
        <p:blipFill>
          <a:blip r:embed="rId2"/>
          <a:stretch/>
        </p:blipFill>
        <p:spPr>
          <a:xfrm>
            <a:off x="611280" y="4676760"/>
            <a:ext cx="1944720" cy="1736640"/>
          </a:xfrm>
          <a:prstGeom prst="rect">
            <a:avLst/>
          </a:prstGeom>
          <a:ln w="0">
            <a:noFill/>
          </a:ln>
        </p:spPr>
      </p:pic>
      <p:pic>
        <p:nvPicPr>
          <p:cNvPr id="428" name="Содержимое 7" descr="1-english.jpg.gif"/>
          <p:cNvPicPr/>
          <p:nvPr/>
        </p:nvPicPr>
        <p:blipFill>
          <a:blip r:embed="rId3"/>
          <a:stretch/>
        </p:blipFill>
        <p:spPr>
          <a:xfrm>
            <a:off x="324000" y="3076560"/>
            <a:ext cx="1511280" cy="2008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29" name="Содержимое 5" descr="0003-002-Vrach 1.png"/>
          <p:cNvPicPr/>
          <p:nvPr/>
        </p:nvPicPr>
        <p:blipFill>
          <a:blip r:embed="rId4"/>
          <a:stretch/>
        </p:blipFill>
        <p:spPr>
          <a:xfrm>
            <a:off x="6588000" y="3645000"/>
            <a:ext cx="2016360" cy="1865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30" name="Picture 5" descr="Fireman"/>
          <p:cNvPicPr/>
          <p:nvPr/>
        </p:nvPicPr>
        <p:blipFill>
          <a:blip r:embed="rId5"/>
          <a:stretch/>
        </p:blipFill>
        <p:spPr>
          <a:xfrm>
            <a:off x="2700360" y="3645000"/>
            <a:ext cx="1511280" cy="247788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9" descr="http://consultgeo.ru/images/Uridiceskie_uslugi/rabota-voditelia.jpg"/>
          <p:cNvPicPr/>
          <p:nvPr/>
        </p:nvPicPr>
        <p:blipFill>
          <a:blip r:embed="rId6"/>
          <a:stretch/>
        </p:blipFill>
        <p:spPr>
          <a:xfrm>
            <a:off x="4859280" y="5013360"/>
            <a:ext cx="194472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176040" y="371520"/>
            <a:ext cx="8815680" cy="92700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оверьте ответы:</a:t>
            </a: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Mrs Meg Colin is a teacher.</a:t>
            </a: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2.Ms Rose Parker is a singer.</a:t>
            </a: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3.Mr Jim Brown is a doctor.</a:t>
            </a: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4.Mrs Sally Green is a nurse.</a:t>
            </a: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5/Miss Lucy Webb is a dancer.</a:t>
            </a: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- </a:t>
            </a:r>
            <a:r>
              <a:rPr b="1" i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ставьте оценки, пожалуйста</a:t>
            </a:r>
            <a:r>
              <a:rPr b="0" i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ет ошибок- 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1 ошибка -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2 </a:t>
            </a:r>
            <a:r>
              <a:rPr b="1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шибки-3,</a:t>
            </a: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больше 3-х ошибок – не ставим оценку.</a:t>
            </a: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36" name="Горизонтальный свиток 3"/>
          <p:cNvSpPr/>
          <p:nvPr/>
        </p:nvSpPr>
        <p:spPr>
          <a:xfrm>
            <a:off x="1285920" y="285840"/>
            <a:ext cx="6286320" cy="628632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Franklin Gothic Book"/>
              </a:rPr>
              <a:t>ФИЗКУЛЬ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Franklin Gothic Book"/>
              </a:rPr>
              <a:t>МИНУТ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439" name="Picture 2" descr="http://mypresentation.ru/documents/d003f5132c7ff17e759e2e1e8a141c36/img6.jpg"/>
          <p:cNvPicPr/>
          <p:nvPr/>
        </p:nvPicPr>
        <p:blipFill>
          <a:blip r:embed="rId1"/>
          <a:stretch/>
        </p:blipFill>
        <p:spPr>
          <a:xfrm>
            <a:off x="108000" y="81000"/>
            <a:ext cx="9036000" cy="67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Заголовок 1" descr=""/>
          <p:cNvPicPr/>
          <p:nvPr/>
        </p:nvPicPr>
        <p:blipFill>
          <a:blip r:embed="rId1"/>
          <a:stretch/>
        </p:blipFill>
        <p:spPr>
          <a:xfrm>
            <a:off x="176040" y="-115920"/>
            <a:ext cx="8815680" cy="171288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442" name="Picture 2" descr="http://900igr.net/datas/geografija/Obrazovanie-pochvy/0029-029-Refleksija.jpg"/>
          <p:cNvPicPr/>
          <p:nvPr/>
        </p:nvPicPr>
        <p:blipFill>
          <a:blip r:embed="rId2"/>
          <a:stretch/>
        </p:blipFill>
        <p:spPr>
          <a:xfrm>
            <a:off x="539640" y="1557360"/>
            <a:ext cx="8496360" cy="49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1" descr=""/>
          <p:cNvPicPr/>
          <p:nvPr/>
        </p:nvPicPr>
        <p:blipFill>
          <a:blip r:embed="rId1"/>
          <a:stretch/>
        </p:blipFill>
        <p:spPr>
          <a:xfrm>
            <a:off x="115920" y="457200"/>
            <a:ext cx="8875800" cy="11160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чебник упр.3 с.11,</a:t>
            </a:r>
            <a:r>
              <a:rPr b="0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WB </a:t>
            </a:r>
            <a:r>
              <a:rPr b="0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№4 с.86.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WB</a:t>
            </a:r>
            <a:r>
              <a:rPr b="0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№2-3 с.85 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Заголовок 1" descr=""/>
          <p:cNvPicPr/>
          <p:nvPr/>
        </p:nvPicPr>
        <p:blipFill>
          <a:blip r:embed="rId1"/>
          <a:stretch/>
        </p:blipFill>
        <p:spPr>
          <a:xfrm>
            <a:off x="298440" y="1017720"/>
            <a:ext cx="8534520" cy="227952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www.youtube.com/watch?v=tVlcKp3bWH8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s://www.youtube.com/watch?v=ORGLQudvMWE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s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://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www</a:t>
            </a:r>
            <a:r>
              <a:rPr b="0" lang="ru-RU" sz="32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en-US" sz="32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youtube</a:t>
            </a:r>
            <a:r>
              <a:rPr b="0" lang="ru-RU" sz="32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en-US" sz="32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ru-RU" sz="32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en-US" sz="32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watch</a:t>
            </a:r>
            <a:r>
              <a:rPr b="0" lang="ru-RU" sz="32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?</a:t>
            </a:r>
            <a:r>
              <a:rPr b="0" lang="en-US" sz="32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v</a:t>
            </a:r>
            <a:r>
              <a:rPr b="0" lang="ru-RU" sz="32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=</a:t>
            </a:r>
            <a:r>
              <a:rPr b="0" lang="en-US" sz="32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Xcws</a:t>
            </a:r>
            <a:r>
              <a:rPr b="0" lang="ru-RU" sz="32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7</a:t>
            </a:r>
            <a:r>
              <a:rPr b="0" lang="en-US" sz="32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UWWDEs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1619280" y="260280"/>
            <a:ext cx="62658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2268360" y="692280"/>
            <a:ext cx="394344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115920" y="182520"/>
            <a:ext cx="8875800" cy="16653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youtube.com/watch?v=tVlcKp3bWH8</a:t>
            </a: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171360" y="103320"/>
            <a:ext cx="8820360" cy="17809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We are going to speak about…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414" name="Picture 1" descr="C:\Users\пк\Desktop\depositphotos_33002251-Cartoon-characters-of-different-professions.jpg"/>
          <p:cNvPicPr/>
          <p:nvPr/>
        </p:nvPicPr>
        <p:blipFill>
          <a:blip r:embed="rId2"/>
          <a:stretch/>
        </p:blipFill>
        <p:spPr>
          <a:xfrm>
            <a:off x="1116000" y="2492280"/>
            <a:ext cx="691200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417" name="Picture 2" descr="http://1.bp.blogspot.com/-f7UCnOT9lds/T4Q4Weo7L0I/AAAAAAAAB24/nnAOV55Gc_M/s1600/2.jpg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420" name="Picture 2" descr="http://dok.opredelim.com/pars_docs/refs/24/23518/img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423" name="Picture 2" descr="http://images.myshared.ru/5/396275/slide_2.jpg"/>
          <p:cNvPicPr/>
          <p:nvPr/>
        </p:nvPicPr>
        <p:blipFill>
          <a:blip r:embed="rId1"/>
          <a:stretch/>
        </p:blipFill>
        <p:spPr>
          <a:xfrm>
            <a:off x="324000" y="225360"/>
            <a:ext cx="864072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146160" y="255600"/>
            <a:ext cx="8845560" cy="14875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1</a:t>
            </a:r>
            <a:r>
              <a:rPr b="0" lang="en-US" sz="27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 The person who teaches children is a…</a:t>
            </a:r>
            <a:endParaRPr b="0" lang="en-US" sz="27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) doctor; b) pilot; c) teacher</a:t>
            </a:r>
            <a:endParaRPr b="0" lang="en-US" sz="27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2. The person who helps people when they are ill is a…</a:t>
            </a:r>
            <a:endParaRPr b="0" lang="en-US" sz="27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) cosmonaut; b) doctor; c) pupil.</a:t>
            </a:r>
            <a:endParaRPr b="0" lang="en-US" sz="27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3. The person who drives a car is a…</a:t>
            </a:r>
            <a:endParaRPr b="0" lang="en-US" sz="27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) engineer; b) driver; c) worker.</a:t>
            </a:r>
            <a:endParaRPr b="0" lang="en-US" sz="27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4. The person who helps animals when they are ill is a</a:t>
            </a:r>
            <a:endParaRPr b="0" lang="en-US" sz="27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) teacher; b) vet; c) designer.</a:t>
            </a:r>
            <a:endParaRPr b="0" lang="en-US" sz="27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5. The person who puts out the fire is a….</a:t>
            </a:r>
            <a:endParaRPr b="0" lang="en-US" sz="27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) fireman; b) designer; c) driver.</a:t>
            </a:r>
            <a:endParaRPr b="0" lang="en-US" sz="2700" spc="-1" strike="noStrike">
              <a:solidFill>
                <a:srgbClr val="1f497d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8T02:26:03Z</dcterms:created>
  <dc:creator>пк</dc:creator>
  <dc:description/>
  <dc:language>en-US</dc:language>
  <cp:lastModifiedBy>05</cp:lastModifiedBy>
  <dcterms:modified xsi:type="dcterms:W3CDTF">2022-10-02T11:58:43Z</dcterms:modified>
  <cp:revision>20</cp:revision>
  <dc:subject/>
  <dc:title>«Чем ты занимаешься? Профессии.» к учебнику английского языка под редакцией  О.В. Афанасьевой  и И.В. Михеевой - 3 класс</dc:title>
</cp:coreProperties>
</file>