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E20-E8F7-419D-B86F-BA8EC036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55A-3CBB-4ABF-AE1D-8C21B483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3472A-F556-4D99-8B81-6EA311B7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199A7-ED87-48C2-AF2B-065AC6CA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9CEDB-CB81-4631-9998-335FAA1F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E17A4-FED9-4F51-8F6E-026B4A8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85C09-3798-46A8-9357-2BF36FFC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4BD2E-4189-40EF-B4E2-196A627B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3D587-D14B-4595-8168-C86A90BC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CB286-D445-403C-B663-8729A89B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3DAA0-9351-4283-B53C-5C8F0F65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00A-39F9-458A-B802-C8768E44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9E2-1A05-4561-8229-555737F7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8481-525E-4E4A-B73B-1DAA4732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01AB-AD78-4555-8C1B-4BD86959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CCFC-30D3-4A09-92F3-745CAA9D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4FFA-88CE-4E57-B84F-6A69664A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EADE-285E-4397-8066-C9D07199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A47A-C998-469F-9D03-944C0761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8FB9-3F81-4D2D-9F84-D7D6EE3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DB3-4B50-4099-8C9C-7F1264C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9F93-0663-4947-A1BE-C445FC2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A3C7-C269-47FB-A72F-798EC55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6789-32C2-497B-A906-51609540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CC68-5148-4FF8-B744-89646321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83A2-0E54-4384-93B0-0B9DBF90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E660-C895-4746-BD03-1163D48C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F97C-14F5-464E-96C1-F22C2731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559D-1EFB-464B-8DCB-BA455D75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2CF7-7E4E-423C-A731-D8C5E503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74A6-D693-458F-8BC7-AB00C624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5EC-2221-4DD5-8D1E-9058EB73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1E45-8EB3-4C99-B655-505D47C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FB768-DD26-43F4-9D82-8479D2BA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5080-A8D4-406C-A140-DF6EC65E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CD11-BFE8-44C9-B10C-62B7EDF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D1B0-3030-4F25-8CE7-E9CEE59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6079-9542-437B-8ADE-C5EC6B94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C049-D5FE-48C3-960A-0E62633C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2887-0B8D-4D2D-9D14-24ACAE08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DD44-A996-4F84-9554-B6FF6231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C0536-4E46-4792-9456-068CD78F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F37-7122-4E19-96D2-8BBB8955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97243-C40D-4096-8799-035E1638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0DC4-FC80-41FD-B778-1B09B39C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FE543-A61A-4376-810A-D2EF1C83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E9255-99C8-48B2-9ABB-18B70EF0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62CC7-0089-4C13-83F3-B5B1BD4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56585-508A-4353-B2D1-C95C41B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E535-87CC-4401-A71A-5935B314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70BA-C5D7-4462-AD31-FC3FF117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83B7-6F67-4ACA-83C5-5707BAEC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9E9CD-B12E-4F69-8379-AB4C75D6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5DE-32C1-4F27-A9D6-9467F3D6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038A6-BB00-43D6-85AE-A3D8A658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15E37-D539-40CB-893F-A3B34441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32EE0-11A9-4FE2-9DE1-3B7379BC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DD4A5-4BB6-4FA3-A0D8-32ACB4C0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A8D26-A994-448D-A026-096D0F22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8C78-D2B1-4911-9FDA-2F54B717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4EF5-824A-46FB-B849-5852ADA1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21A0B-583C-4543-BF71-5644468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734F9-BCA8-4449-8A00-E22B0026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739A5-A83C-422D-A4CC-FACD0B9E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FC1-8EC8-46DA-A785-D9961CE0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3921-70B2-43D3-9302-EE416E39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5B4EB-12D9-447C-9133-81BA617D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A7D95-805D-4E14-A577-C769EFF5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E0CED-27DF-4379-96B4-FF51A05D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E870B-1B05-408A-B0CC-5523D0C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2856F-20FA-451E-8F38-B3106DC7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90597-0B81-40BB-9C6F-D1E45972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A8314-96CE-4040-B395-9144ECF5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E2AA3-0728-41E0-8249-000A22A7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51E2D-3A36-43AD-8546-1CD08AE7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2A4-0023-4AFE-8DB5-E09C639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FCE4-EEC5-407D-8DFB-B19800A9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7F672-8DBC-47AF-9FFB-A5F5D82B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EAA6B-ACFB-4EE2-8732-F6DA1541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A22B3-FBCF-4C27-9D2C-F6842231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86E31-0131-446A-A699-E7AA3C25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C9F14-435C-4254-8C73-5B102C4E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2D37B-BA8C-4DA7-8CEB-90A7D269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0F8EF-75DE-449D-AD04-777EE0E8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8687C-9E48-4055-A8A7-53CD047F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82973-C564-4BA8-A8E9-84940A0B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D88-19C1-4A31-9FA7-9A207F5C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0FBB4-96AB-43CE-ACE0-5893C25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06268-B214-4AB0-BF65-64057024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3DF85-4C88-4147-B2D9-43059AD7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F75AE-FBB8-49FD-A722-A5EF600E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35B16-F7FD-43D6-9ACD-F67A8AE6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FA0A6-8C65-4C39-8CB7-BBF69F5D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8E248-10C0-4041-9CB2-F11082EB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9628C-EB38-4D4B-A571-DB6FB334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A4568-3E07-4229-BFD0-22164C02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64379-006D-44C6-81CB-0E1A2EB9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449-5E18-4BB8-83F8-2316CA18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A246C-07FE-424A-B4B0-98A82B70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5C0E8-FF0C-4CE0-9C6F-8D86BB03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82E92-4190-48F8-8C03-2370F8A7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9A1C2-19CE-4FE2-9B90-BEE88C2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1BA96-31B9-46EC-92B9-56C5FE8E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F8D8E-D59B-46E3-8E8A-0819F696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1EF53-562B-4BD2-938D-378A2360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2B7EC-2D5B-48B1-AD17-BD5B0CF5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85947-AECB-4D2E-93D4-C4D42283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6C159-A0C6-4DFE-BDF7-71C29BA2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468F-BC16-4F44-B9EE-14130291062E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0670-5874-4DA9-857E-058F61029F3F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4281-2C7E-4D70-9C75-CE7C4D7937D6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547F-4DD1-4EAC-8E72-48D92E8F95D0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A2A1-D615-40E2-B867-17AA1C39B568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6DE0-3771-4A20-8B50-619113810B12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E8FC-A06B-4F78-8B78-C7769DC40CEA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A1A4-FB39-442F-8902-FC13323B504C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F53F-4017-4B84-9C72-302D4D2EB92F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VlcKp3bWH8" TargetMode="External"/><Relationship Id="rId2" Type="http://schemas.openxmlformats.org/officeDocument/2006/relationships/hyperlink" Target="https://www.youtube.com/watch?v=ORGLQudvMWE" TargetMode="External"/><Relationship Id="rId3" Type="http://schemas.openxmlformats.org/officeDocument/2006/relationships/hyperlink" Target="https://www.youtube.com/watch?v=Xcws7UWWDEs" TargetMode="External"/><Relationship Id="rId4" Type="http://schemas.openxmlformats.org/officeDocument/2006/relationships/hyperlink" Target="https://www.youtube.com/watch?v=Xcws7UWWDEs" TargetMode="External"/><Relationship Id="rId5" Type="http://schemas.openxmlformats.org/officeDocument/2006/relationships/hyperlink" Target="https://www.youtube.com/watch?v=Xcws7UWWDEs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youtube.com/watch?v=tVlcKp3bWH8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4803840"/>
            <a:ext cx="8454960" cy="1841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 учитель английского языка Юскине Мадина Заурбековна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Школа №31»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01" name="Picture 4" descr="000803_1071_1235_vnvv"/>
          <p:cNvPicPr/>
          <p:nvPr/>
        </p:nvPicPr>
        <p:blipFill>
          <a:blip r:embed="rId2"/>
          <a:stretch/>
        </p:blipFill>
        <p:spPr>
          <a:xfrm>
            <a:off x="7885080" y="333360"/>
            <a:ext cx="1109520" cy="2276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000803_1055_8651_vnvv"/>
          <p:cNvPicPr/>
          <p:nvPr/>
        </p:nvPicPr>
        <p:blipFill>
          <a:blip r:embed="rId3"/>
          <a:stretch/>
        </p:blipFill>
        <p:spPr>
          <a:xfrm>
            <a:off x="5076720" y="620640"/>
            <a:ext cx="1519200" cy="2232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000803_1057_9648_vnvv"/>
          <p:cNvPicPr/>
          <p:nvPr/>
        </p:nvPicPr>
        <p:blipFill>
          <a:blip r:embed="rId4"/>
          <a:stretch/>
        </p:blipFill>
        <p:spPr>
          <a:xfrm>
            <a:off x="539640" y="476280"/>
            <a:ext cx="1220760" cy="129528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images.jpg"/>
          <p:cNvPicPr/>
          <p:nvPr/>
        </p:nvPicPr>
        <p:blipFill>
          <a:blip r:embed="rId5"/>
          <a:stretch/>
        </p:blipFill>
        <p:spPr>
          <a:xfrm>
            <a:off x="2484360" y="1916280"/>
            <a:ext cx="209556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328680" y="-255600"/>
            <a:ext cx="8358120" cy="4273560"/>
          </a:xfrm>
          <a:prstGeom prst="rect">
            <a:avLst/>
          </a:prstGeom>
          <a:ln w="0">
            <a:noFill/>
          </a:ln>
        </p:spPr>
      </p:pic>
      <p:pic>
        <p:nvPicPr>
          <p:cNvPr id="427" name="Содержимое 3" descr="pe07364_1-300x268.gif"/>
          <p:cNvPicPr/>
          <p:nvPr/>
        </p:nvPicPr>
        <p:blipFill>
          <a:blip r:embed="rId2"/>
          <a:stretch/>
        </p:blipFill>
        <p:spPr>
          <a:xfrm>
            <a:off x="611280" y="4676760"/>
            <a:ext cx="1944720" cy="1736640"/>
          </a:xfrm>
          <a:prstGeom prst="rect">
            <a:avLst/>
          </a:prstGeom>
          <a:ln w="0">
            <a:noFill/>
          </a:ln>
        </p:spPr>
      </p:pic>
      <p:pic>
        <p:nvPicPr>
          <p:cNvPr id="428" name="Содержимое 7" descr="1-english.jpg.gif"/>
          <p:cNvPicPr/>
          <p:nvPr/>
        </p:nvPicPr>
        <p:blipFill>
          <a:blip r:embed="rId3"/>
          <a:stretch/>
        </p:blipFill>
        <p:spPr>
          <a:xfrm>
            <a:off x="324000" y="3076560"/>
            <a:ext cx="1511280" cy="200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9" name="Содержимое 5" descr="0003-002-Vrach 1.png"/>
          <p:cNvPicPr/>
          <p:nvPr/>
        </p:nvPicPr>
        <p:blipFill>
          <a:blip r:embed="rId4"/>
          <a:stretch/>
        </p:blipFill>
        <p:spPr>
          <a:xfrm>
            <a:off x="6588000" y="3645000"/>
            <a:ext cx="2016360" cy="18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0" name="Picture 5" descr="Fireman"/>
          <p:cNvPicPr/>
          <p:nvPr/>
        </p:nvPicPr>
        <p:blipFill>
          <a:blip r:embed="rId5"/>
          <a:stretch/>
        </p:blipFill>
        <p:spPr>
          <a:xfrm>
            <a:off x="2700360" y="3645000"/>
            <a:ext cx="1511280" cy="247788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9" descr="http://consultgeo.ru/images/Uridiceskie_uslugi/rabota-voditelia.jpg"/>
          <p:cNvPicPr/>
          <p:nvPr/>
        </p:nvPicPr>
        <p:blipFill>
          <a:blip r:embed="rId6"/>
          <a:stretch/>
        </p:blipFill>
        <p:spPr>
          <a:xfrm>
            <a:off x="4859280" y="5013360"/>
            <a:ext cx="194472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76040" y="371520"/>
            <a:ext cx="8815680" cy="927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верьте ответы: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rs Meg Colin is a teacher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Ms Rose Parker is a singer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Mr Jim Brown is a doctor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Mrs Sally Green is a nurse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/Miss Lucy Webb is a dancer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ставьте оценки, пожалуйста</a:t>
            </a:r>
            <a:r>
              <a:rPr b="0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 ошибок-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 ошибка -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шибки-3,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ольше 3-х ошибок – не ставим оценку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6" name="Горизонтальный свиток 3"/>
          <p:cNvSpPr/>
          <p:nvPr/>
        </p:nvSpPr>
        <p:spPr>
          <a:xfrm>
            <a:off x="1285920" y="285840"/>
            <a:ext cx="6286320" cy="62863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ФИЗКУЛЬ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39" name="Picture 2" descr="http://mypresentation.ru/documents/d003f5132c7ff17e759e2e1e8a141c36/img6.jpg"/>
          <p:cNvPicPr/>
          <p:nvPr/>
        </p:nvPicPr>
        <p:blipFill>
          <a:blip r:embed="rId1"/>
          <a:stretch/>
        </p:blipFill>
        <p:spPr>
          <a:xfrm>
            <a:off x="108000" y="81000"/>
            <a:ext cx="903600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76040" y="-115920"/>
            <a:ext cx="8815680" cy="17128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42" name="Picture 2" descr="http://900igr.net/datas/geografija/Obrazovanie-pochvy/0029-029-Refleksija.jpg"/>
          <p:cNvPicPr/>
          <p:nvPr/>
        </p:nvPicPr>
        <p:blipFill>
          <a:blip r:embed="rId2"/>
          <a:stretch/>
        </p:blipFill>
        <p:spPr>
          <a:xfrm>
            <a:off x="539640" y="1557360"/>
            <a:ext cx="849636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11160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чебник упр.3 с.11,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B 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№4 с.86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B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№2-3 с.85 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298440" y="1017720"/>
            <a:ext cx="8534520" cy="22795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youtube.com/watch?v=tVlcKp3bWH8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s://www.youtube.com/watch?v=ORGLQudvMW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www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youtube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watch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=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Xcws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7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UWWDE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265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39434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15920" y="182520"/>
            <a:ext cx="8875800" cy="1665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tVlcKp3bWH8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71360" y="103320"/>
            <a:ext cx="8820360" cy="1780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e are going to speak about…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14" name="Picture 1" descr="C:\Users\пк\Desktop\depositphotos_33002251-Cartoon-characters-of-different-professions.jpg"/>
          <p:cNvPicPr/>
          <p:nvPr/>
        </p:nvPicPr>
        <p:blipFill>
          <a:blip r:embed="rId2"/>
          <a:stretch/>
        </p:blipFill>
        <p:spPr>
          <a:xfrm>
            <a:off x="1116000" y="2492280"/>
            <a:ext cx="69120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17" name="Picture 2" descr="http://1.bp.blogspot.com/-f7UCnOT9lds/T4Q4Weo7L0I/AAAAAAAAB24/nnAOV55Gc_M/s1600/2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20" name="Picture 2" descr="http://dok.opredelim.com/pars_docs/refs/24/23518/img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23" name="Picture 2" descr="http://images.myshared.ru/5/396275/slide_2.jpg"/>
          <p:cNvPicPr/>
          <p:nvPr/>
        </p:nvPicPr>
        <p:blipFill>
          <a:blip r:embed="rId1"/>
          <a:stretch/>
        </p:blipFill>
        <p:spPr>
          <a:xfrm>
            <a:off x="324000" y="225360"/>
            <a:ext cx="86407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46160" y="255600"/>
            <a:ext cx="8845560" cy="14875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</a:t>
            </a: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The person who teaches children is a…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) doctor; b) pilot; c) teacher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The person who helps people when they are ill is a…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) cosmonaut; b) doctor; c) pupil.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The person who drives a car is a…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) engineer; b) driver; c) worker.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 The person who helps animals when they are ill is a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) teacher; b) vet; c) designer.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. The person who puts out the fire is a….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) fireman; b) designer; c) driver.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8T02:26:03Z</dcterms:created>
  <dc:creator>пк</dc:creator>
  <dc:description/>
  <dc:language>en-US</dc:language>
  <cp:lastModifiedBy>05</cp:lastModifiedBy>
  <dcterms:modified xsi:type="dcterms:W3CDTF">2022-10-02T11:58:43Z</dcterms:modified>
  <cp:revision>20</cp:revision>
  <dc:subject/>
  <dc:title>«Чем ты занимаешься? Профессии.» к учебнику английского языка под редакцией  О.В. Афанасьевой  и И.В. Михеевой - 3 класс</dc:title>
</cp:coreProperties>
</file>