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96B3-7F46-4AF5-A1BD-E407DCCB3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911E-2F6A-44B3-B896-BE188A913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6273-69CE-44F6-BE67-CA9270482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FBA6-684B-480E-940C-547963C93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60AD2-86EA-4729-8146-4BE3E526F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87D32-5275-414F-B542-609700298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FCE9C-5471-4F9D-BC64-0CAC7A515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6E223-900E-49BC-8277-530B028F0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85894-B86C-463E-8966-E9DA26E44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34E82-EA54-4D36-ACD9-672671DA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37BEE-9153-4E2C-8E2A-2CD82E26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7D9E-07C3-4FAD-AA3C-32DEF72C4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50B51-02F7-4057-A70F-CCFF091F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50025-0109-41D9-B165-F670568D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5500E-E669-41EC-902E-C345BFD35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EC9A0-FE38-4FEF-97A3-0316E029F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786DA-C231-43F3-9108-CA056890B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297A-24CF-4910-A756-B5F6FC73E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2197-E6BC-4A29-8B44-42B34422C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DA0B-95AE-4765-B1EB-AE731E324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774B-7BAB-455D-8713-C37FAB844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74B0-AE88-4663-8173-554165D3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D738-54E5-4900-89E8-79B08B08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6473-6CEF-472E-BE55-454A644D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9A501-52CF-4CF6-A721-A05911B2B19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8E82E-F117-4EEC-83B2-DCE3B4E4878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71640" y="184464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Растяпинская игрушка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3924360" y="566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Выполнила студентка ПДС-19У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Будагова Диана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Прямоугольник 5"/>
          <p:cNvSpPr/>
          <p:nvPr/>
        </p:nvSpPr>
        <p:spPr>
          <a:xfrm>
            <a:off x="1332000" y="189000"/>
            <a:ext cx="64818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СТЕРСТВО ПРОСВЕЩЕНИЯ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ОЕ ГОСУДАРСТВЕННОЕ БЮДЖЕТНОЕ ОБРАЗОВАТЕЛЬНОЕ УЧРЕЖДЕНИЕ ВЫСШЕГО ОБРАЗ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ИЖЕГОРОДСКИЙ ГОСУДАРСТВЕННЫЙ ПЕДАГОГИЧЕСКИЙ УНИВЕРСИТЕТ ИМЕНИ КОЗЬМЫ МИНИН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4360" y="3860640"/>
            <a:ext cx="396072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85800" y="475920"/>
            <a:ext cx="7696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ародные промыслы – это живой процесс, одни из них затухают, другие, однажды возникнув, начинают свое развитие. Из совсем молодых, но заметных явлений, связанных с игрушкой, возникших на исходе XX века, следует назвать глиняную растяпинскую игрушку, создаваемую в городе химиков Дзержинске, выросшем на месте поселка Растяпино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астяпинская забава представляет собой керамические миниатюры, по своему образному содержанию близкие к городскому фольклору, анекдоту и юморинам. Небольшие по форме, они отличаются несколько гротескной пластикой, усиливающейся яркой темперной раскраской, в которой декоративная сочность сочетается с тональной мягкостью. Сейчас в коллекции студии насчитывается более сотни наименований изделий, спрос на них постоянно растет и коллекция образцов увеличивается. Растяпинские забавы охотно приобретают жители и гости Нижнего Новгорода и Дзержинска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11280" y="260280"/>
            <a:ext cx="769608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Форма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“Растяпинской забавы” была придумана Владимиром Васильевичем Корневым и его супругой Галиной Корневой под девизом “Забавляемся сами, забавляем других!”. Поэтому,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ошибочно считать “Растяпинскую игрушку” народными промыслами», ведь у них есть свои «папа» и «мама», они все они являются авторскими произведениями.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нтересно, что"Растяпинская забава" задумывалась как сувенир "карманного" размера (высота фигурки 9-10 см). Для большей выразительности решено было использовать прием шаржирования, гротеска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Благодаря художникам, расписывающим фигурки яркой темперной краской, последние не только становятся наряднее и веселее, но и обретают неповторимость. На стендах студии всегда можно найти ряд персонажей, сделанных по одной модели, но среди них вы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никогда не найдёте даже двух одинаковых.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364000" y="4724280"/>
            <a:ext cx="3598920" cy="19828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250920" y="4724280"/>
            <a:ext cx="395424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85800" y="404640"/>
            <a:ext cx="769608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 технологии изготовления в растяпинской игрушке соединяются ручная шликерная отливка с дальнейшей проработкой черт характера персонажа до задуманного образа. После обжига фигурки расписываются темперными красками и не нуждаются в покрытии лаком. Они имеют приятную матовую поверхность и при яркости цвета производят благородное впечатление. Фигурки людей и забавных животных отличаются небольшими размерами, их приятно брать в руки, а взяв, хочется унести с собой, такая от них идет положительная энергия. Поросенок Митяй, отец Евлампий, банщик, медведи и коты, коровы и русские красавицы, летчики и колхозники, артисты и цыгане – множество персонажей в совокупности составляют многообразие народной жизни города и деревни, как в ее историческом бытовании, так и в современном состоянии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211640" y="4149720"/>
            <a:ext cx="432108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539280" y="26028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"Растяпинская забава" является и прекрасным методическим пособием для детских садов, позволяя в популярной форме прививать интерес к истории родного края, изучению традиций и жизни дедов и прадедов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79280" y="2205000"/>
            <a:ext cx="3129120" cy="21128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867280" y="2205000"/>
            <a:ext cx="3097440" cy="20890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2556000" y="4292640"/>
            <a:ext cx="439236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1-07T15:18:34Z</dcterms:created>
  <dc:creator>GREEN</dc:creator>
  <dc:description/>
  <dc:language>en-US</dc:language>
  <cp:lastModifiedBy>GREEN</cp:lastModifiedBy>
  <dcterms:modified xsi:type="dcterms:W3CDTF">2021-01-07T15:30:30Z</dcterms:modified>
  <cp:revision>2</cp:revision>
  <dc:subject/>
  <dc:title>Растяпинская игрушка</dc:title>
</cp:coreProperties>
</file>