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875-E7A7-4AA6-BE88-695FDF64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FF0-81D7-4197-AFC9-5C5D211D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71C-A2D3-437E-8164-908F2B92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0A5-7141-4235-9EA4-9BC5A0AE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9EBC-C62F-4FE0-BB06-461143B4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9E63-0036-41B4-887F-5D53C21E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2728-0A10-4724-AE4B-7805E1DA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2380-D215-475C-BB00-FCD5B242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976F-DF11-4759-86EE-4699F891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FCFC-AE9E-43CB-91A1-C99BB442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AEB1-0BB7-4483-896A-444EA53B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8F6B-7D64-4825-9578-EDAB0B65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4FC2-2F1F-4671-A498-3220F49D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4EA1-CB87-4338-9231-93FC98CF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0DC6-D181-4360-8322-B65BCD1B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897A-E0FD-42C4-B063-30D396AD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0F6B-11CA-4276-80CC-CA773F87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0554-1989-490C-A8DC-730F8C42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FD27-7EA3-4F1E-ACBF-0470D170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06D5-7779-497C-AF6B-3154FDC9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222-5420-40A5-A444-2D56E705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61C-10C1-4A2B-90EF-8F292EDC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1F9D-4488-4108-AECD-8B68AA27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023A-8286-486A-B6A5-22E1C06A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CD70-370D-4EFA-B4EB-1F42BC2CE1E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F119-CD70-4702-96C5-489ABCEC506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640" y="184464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Растяпинская игрушк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92436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ыполнила студентка ПДС-19У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Будагова Диан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рямоугольник 5"/>
          <p:cNvSpPr/>
          <p:nvPr/>
        </p:nvSpPr>
        <p:spPr>
          <a:xfrm>
            <a:off x="1332000" y="189000"/>
            <a:ext cx="64818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ПРОСВЕЩЕНИЯ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ГОСУДАРСТВЕННОЕ БЮДЖЕТНОЕ ОБРАЗОВАТЕЛЬНОЕ УЧРЕЖДЕНИЕ ВЫСШЕ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ЖЕГОРОДСКИЙ ГОСУДАРСТВЕННЫЙ ПЕДАГОГИЧЕСКИЙ УНИВЕРСИТЕТ ИМЕНИ КОЗЬМЫ МИНИ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4360" y="3860640"/>
            <a:ext cx="39607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696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родные промыслы – это живой процесс, одни из них затухают, другие, однажды возникнув, начинают свое развитие. Из совсем молодых, но заметных явлений, связанных с игрушкой, возникших на исходе XX века, следует назвать глиняную растяпинскую игрушку, создаваемую в городе химиков Дзержинске, выросшем на месте поселка Растяпин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стяпинская забава представляет собой керамические миниатюры, по своему образному содержанию близкие к городскому фольклору, анекдоту и юморинам. Небольшие по форме, они отличаются несколько гротескной пластикой, усиливающейся яркой темперной раскраской, в которой декоративная сочность сочетается с тональной мягкостью. Сейчас в коллекции студии насчитывается более сотни наименований изделий, спрос на них постоянно растет и коллекция образцов увеличивается. Растяпинские забавы охотно приобретают жители и гости Нижнего Новгорода и Дзержинск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орм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“Растяпинской забавы” была придумана Владимиром Васильевичем Корневым и его супругой Галиной Корневой под девизом “Забавляемся сами, забавляем других!”. Поэтому,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шибочно считать “Растяпинскую игрушку” народными промыслами», ведь у них есть свои «папа» и «мама», они все они являются авторскими произведениями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тересно, что"Растяпинская забава" задумывалась как сувенир "карманного" размера (высота фигурки 9-10 см). Для большей выразительности решено было использовать прием шаржирования, гротеск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лагодаря художникам, расписывающим фигурки яркой темперной краской, последние не только становятся наряднее и веселее, но и обретают неповторимость. На стендах студии всегда можно найти ряд персонажей, сделанных по одной модели, но среди них вы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никогда не найдёте даже двух одинаковых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64000" y="4724280"/>
            <a:ext cx="3598920" cy="1982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50920" y="4724280"/>
            <a:ext cx="39542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6960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технологии изготовления в растяпинской игрушке соединяются ручная шликерная отливка с дальнейшей проработкой черт характера персонажа до задуманного образа. После обжига фигурки расписываются темперными красками и не нуждаются в покрытии лаком. Они имеют приятную матовую поверхность и при яркости цвета производят благородное впечатление. Фигурки людей и забавных животных отличаются небольшими размерами, их приятно брать в руки, а взяв, хочется унести с собой, такая от них идет положительная энергия. Поросенок Митяй, отец Евлампий, банщик, медведи и коты, коровы и русские красавицы, летчики и колхозники, артисты и цыгане – множество персонажей в совокупности составляют многообразие народной жизни города и деревни, как в ее историческом бытовании, так и в современном состояни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211640" y="4149720"/>
            <a:ext cx="43210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"Растяпинская забава" является и прекрасным методическим пособием для детских садов, позволяя в популярной форме прививать интерес к истории родного края, изучению традиций и жизни дедов и прадедов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3129120" cy="2112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867280" y="2205000"/>
            <a:ext cx="3097440" cy="2089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556000" y="4292640"/>
            <a:ext cx="43923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07T15:18:34Z</dcterms:created>
  <dc:creator>GREEN</dc:creator>
  <dc:description/>
  <dc:language>en-US</dc:language>
  <cp:lastModifiedBy>GREEN</cp:lastModifiedBy>
  <dcterms:modified xsi:type="dcterms:W3CDTF">2021-01-07T15:30:30Z</dcterms:modified>
  <cp:revision>2</cp:revision>
  <dc:subject/>
  <dc:title>Растяпинская игрушка</dc:title>
</cp:coreProperties>
</file>