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35F-73BB-4635-AAB2-7A42EDF4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55A-AC94-4361-9F9C-806F2F6F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13F7-D644-4B26-B83C-84F23C30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AA2-454C-4A32-B414-9239EC3F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03FC-4D2C-4091-8A2A-935139F5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D016-CA29-4240-9077-0D5D554B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498A-09E5-4366-97EF-C7A297A8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E72F-DF80-4F54-85AB-1D162323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FA5E-42E7-4617-B59F-39362725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61EA-C61E-4485-BBE0-8D3EB59E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166-B24D-44AB-8D01-9FE1042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D80-DEA9-42A4-9ECD-F78202AF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F947-E52C-4250-99EA-9BD6387C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77FE-1964-47F1-8991-7471390C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A4D9-861E-40BA-8775-7B467A08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4CC7-5F3F-4EF7-979D-20C1F2DD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F65F-C34C-41F5-AAC1-92C0BF32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999-A37E-436E-ACA5-6B016DDA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772-1DE2-4503-AE21-F6033E7D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C29-7DC3-4D58-8683-295B04CC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33E-1669-4F35-AF53-0DCE0740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700-1089-4521-9A70-9D4922E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CAA7-CFD5-4EF1-A7A0-4DCD5621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6F3-C70C-495A-A249-CEE543D4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786950"/>
                </a:gs>
                <a:gs pos="100000">
                  <a:srgbClr val="e9e2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1882-03CA-42D3-9A15-A0AA8727B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806E-9911-4B8C-9380-7BFFEA438F4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419280" y="856800"/>
            <a:ext cx="5545080" cy="30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86950"/>
                </a:solidFill>
                <a:latin typeface="Palatino Linotype"/>
              </a:rPr>
              <a:t>Модульная технология в личностно-ориентированном обучении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ВНУТРЕННЯЯ  ПОЛИТИКА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АЛЕКСАНДРА </a:t>
            </a:r>
            <a:r>
              <a:rPr b="1" lang="en-US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35a7"/>
                </a:solidFill>
                <a:latin typeface="Times New Roman"/>
                <a:ea typeface="Times New Roman"/>
              </a:rPr>
              <a:t>1801-1812 гг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4572000" y="1773360"/>
            <a:ext cx="37450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pic>
        <p:nvPicPr>
          <p:cNvPr id="87" name="P. MAURIAT - MINUETTO.mp3" descr=""/>
          <p:cNvPicPr/>
          <p:nvPr/>
        </p:nvPicPr>
        <p:blipFill>
          <a:blip r:embed="rId1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2"/>
          <p:cNvSpPr/>
          <p:nvPr/>
        </p:nvSpPr>
        <p:spPr>
          <a:xfrm>
            <a:off x="4572000" y="4051440"/>
            <a:ext cx="43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«Дней Александровых прекрасное начало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. С. Пушки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5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Елизавета Алексеевна</a:t>
            </a: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pic>
        <p:nvPicPr>
          <p:cNvPr id="104" name="Picture 7" descr="150px-Elisbeth_Alexeievna"/>
          <p:cNvPicPr/>
          <p:nvPr/>
        </p:nvPicPr>
        <p:blipFill>
          <a:blip r:embed="rId1"/>
          <a:stretch/>
        </p:blipFill>
        <p:spPr>
          <a:xfrm>
            <a:off x="3492360" y="1628640"/>
            <a:ext cx="3529080" cy="442296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174"/>
          <p:cNvPicPr/>
          <p:nvPr/>
        </p:nvPicPr>
        <p:blipFill>
          <a:blip r:embed="rId1"/>
          <a:stretch/>
        </p:blipFill>
        <p:spPr>
          <a:xfrm>
            <a:off x="3419640" y="333360"/>
            <a:ext cx="324000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Павел"/>
          <p:cNvPicPr/>
          <p:nvPr/>
        </p:nvPicPr>
        <p:blipFill>
          <a:blip r:embed="rId2"/>
          <a:stretch/>
        </p:blipFill>
        <p:spPr>
          <a:xfrm>
            <a:off x="1979640" y="3213000"/>
            <a:ext cx="2448000" cy="302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Алкус"/>
          <p:cNvPicPr/>
          <p:nvPr/>
        </p:nvPicPr>
        <p:blipFill>
          <a:blip r:embed="rId3"/>
          <a:stretch/>
        </p:blipFill>
        <p:spPr>
          <a:xfrm>
            <a:off x="6012000" y="3284640"/>
            <a:ext cx="2395440" cy="2952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2628000" y="63817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4818"/>
                </a:solidFill>
                <a:latin typeface="Times New Roman"/>
              </a:rPr>
              <a:t>Павел </a:t>
            </a:r>
            <a:r>
              <a:rPr b="0" lang="en-US" sz="1800" spc="-1" strike="noStrike">
                <a:solidFill>
                  <a:srgbClr val="504818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6589080" y="63817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04818"/>
                </a:solidFill>
                <a:latin typeface="Times New Roman"/>
              </a:rPr>
              <a:t>Александр </a:t>
            </a:r>
            <a:r>
              <a:rPr b="0" lang="en-US" sz="1800" spc="-1" strike="noStrike">
                <a:solidFill>
                  <a:srgbClr val="504818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4285080" y="2637000"/>
            <a:ext cx="15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34d00"/>
                </a:solidFill>
                <a:latin typeface="Times New Roman"/>
              </a:rPr>
              <a:t>Семья Павла </a:t>
            </a:r>
            <a:r>
              <a:rPr b="0" lang="en-US" sz="1800" spc="-1" strike="noStrike">
                <a:solidFill>
                  <a:srgbClr val="734d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3 МОДУЛЬ -  АНАЛИЗ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765000"/>
            <a:ext cx="7772400" cy="533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8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 Согласившись на участие в заговоре против отца, Александр тешил себя мыслью, что будет править лучше, чем он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 Какие же проблемы должен был решить Александр?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 Вспомните, какой была Россия к началу 19 века и какие проблемы стояли перед страной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в результате обсуждения выделяют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«Задачи правлени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Александра</a:t>
            </a:r>
            <a:r>
              <a:rPr b="1" i="1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ликвидация последствий правления Павла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отмена крепостного права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усовершенствование государственного аппарата, создание парламента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введение конституции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развитие образования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371600" y="62028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.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С первых же дней молодой император взялся за государственные дела. Еще в середине 90-х годов вокруг Александра сложился небольшой кружок единомышленников. Это были друзья царя - В. Кочубей,  А.Чарторыйский, П. Строганов, Н. Новосильцев. В этом кружке друзей, получившим название Негласный комитет, обсуждались пороки павловского правления и строились планы на будущее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Каким представлял свое правление сам император? Обратимся к документам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Архивариус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зачитывает отрывок из письма Александра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(См. Приложение №5)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«Кружок  молодых  друзей»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pic>
        <p:nvPicPr>
          <p:cNvPr id="115" name="Содержимое 3" descr="Кочубей.png"/>
          <p:cNvPicPr/>
          <p:nvPr/>
        </p:nvPicPr>
        <p:blipFill>
          <a:blip r:embed="rId1"/>
          <a:stretch/>
        </p:blipFill>
        <p:spPr>
          <a:xfrm>
            <a:off x="2309760" y="2109960"/>
            <a:ext cx="2238480" cy="2425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5"/>
          <p:cNvSpPr/>
          <p:nvPr/>
        </p:nvSpPr>
        <p:spPr>
          <a:xfrm>
            <a:off x="2571840" y="4797360"/>
            <a:ext cx="167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В. П. Кочуб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Содержимое 5" descr="Строганов.png"/>
          <p:cNvPicPr/>
          <p:nvPr/>
        </p:nvPicPr>
        <p:blipFill>
          <a:blip r:embed="rId2"/>
          <a:stretch/>
        </p:blipFill>
        <p:spPr>
          <a:xfrm>
            <a:off x="6151680" y="1407960"/>
            <a:ext cx="2101680" cy="22622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8" descr="Новосильцев.png"/>
          <p:cNvPicPr/>
          <p:nvPr/>
        </p:nvPicPr>
        <p:blipFill>
          <a:blip r:embed="rId3"/>
          <a:stretch/>
        </p:blipFill>
        <p:spPr>
          <a:xfrm>
            <a:off x="6205680" y="4346640"/>
            <a:ext cx="1987560" cy="2151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0"/>
          <p:cNvSpPr/>
          <p:nvPr/>
        </p:nvSpPr>
        <p:spPr>
          <a:xfrm>
            <a:off x="6214320" y="3789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П. А. Строг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11"/>
          <p:cNvSpPr/>
          <p:nvPr/>
        </p:nvSpPr>
        <p:spPr>
          <a:xfrm>
            <a:off x="3867480" y="612792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Н. Н. Новосильц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4 МОДУЛЬ -ДЕЙСТВИЕ</a:t>
            </a: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обращает внимание на эпиграф урока.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Что же было сделано в ходе реформ 1801-1812 гг.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записывают в тетради заголовок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«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Преобразования Александра</a:t>
            </a:r>
            <a:r>
              <a:rPr b="1" i="1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. 1801-1812гг.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сообщает о том, что было сделано для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ликвидации последствий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правления Павла </a:t>
            </a:r>
            <a:r>
              <a:rPr b="1" i="1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(</a:t>
            </a: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ведут запись в тетради)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возвращение репрессированных Павлом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разрешение ввозить товары и книги из Западной Европы;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восстановление Жалованных грамот дворянству и городам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3716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предлагает учащимся ознакомиться с текстом учебника-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c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18-19 и подготовить ответ на задание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Как был решен аграрный вопрос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, работая с учебником, должны составить в тетради ответ на вопрос в виде тезисного плана (аналогично предыдущей записи)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ащиеся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знакомятся с текстом учебника- с. 19- и отвечают на вопрос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-Как был изменен государственный строй России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В ходе ответа учащиеся составляют в тетради тезисный план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Palatino Linotype"/>
              </a:rPr>
              <a:t>« Государственные преобразования»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280" y="188640"/>
            <a:ext cx="66596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5 МОДУЛЬ – ПРОПОВЕДЬ</a:t>
            </a:r>
            <a:br>
              <a:rPr sz="2400"/>
            </a:br>
            <a:r>
              <a:rPr b="0" lang="ru-RU" sz="2400" spc="-1" strike="noStrike">
                <a:solidFill>
                  <a:srgbClr val="996600"/>
                </a:solidFill>
                <a:latin typeface="Palatino Linotype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716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-А теперь сравните планы Александра и их реализацию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-Какой вывод напрашивается из сравнения?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Учащиеся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должны отметить, что не удалось отменить крепостное право, осуществить введение конституции и парламента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Коренных изменений в жизни общества не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произошло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5 МОДУЛЬ – ПРОПОВЕДЬ</a:t>
            </a:r>
            <a:br>
              <a:rPr sz="2400"/>
            </a:br>
            <a:r>
              <a:rPr b="0" lang="ru-RU" sz="2400" spc="-1" strike="noStrike">
                <a:solidFill>
                  <a:srgbClr val="996600"/>
                </a:solidFill>
                <a:latin typeface="Palatino Linotype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6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для себя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Женщину, религию, дорогу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Дьяволу служить или пророку -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для себя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 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по себе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Слово для любви и для молитвы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   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Шпагу для дуэли, меч для битвы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по себе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по себе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Щит и латы, посох и заплаты,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Меру окончательной расплаты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по себе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для себя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Выбираем тоже - как умеем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Ни к кому претензий не имеем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         </a:t>
            </a:r>
            <a:r>
              <a:rPr b="0" lang="ru-RU" sz="1600" spc="-1" strike="noStrike">
                <a:solidFill>
                  <a:srgbClr val="002060"/>
                </a:solidFill>
                <a:latin typeface="Palatino Linotype"/>
              </a:rPr>
              <a:t>Каждый выбирает для себя!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51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7160" y="648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1 МОДУЛЬ - МОТИВАЦИЯ</a:t>
            </a:r>
            <a:br>
              <a:rPr sz="2400"/>
            </a:br>
            <a:r>
              <a:rPr b="0" lang="ru-RU" sz="2400" spc="-1" strike="noStrike">
                <a:solidFill>
                  <a:srgbClr val="996600"/>
                </a:solidFill>
                <a:latin typeface="Palatino Linotype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7160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.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Любите ли вы загадки? История, которую мы изучаем на уроках, полна загадок и тайн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лее учитель рассказывает о тайне смерти Александра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(См. Приложение №1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им образом, смерть российского императора - загадка. Но загадка и вся его жизнь, он сам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Сфинкс, неразгаданный до гроба», - так сказал о нем П. А. Вяземский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Почему Александр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получил такую оценку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В чем заключалась сложность и противоречивость этой личности и его времени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эти вопросы вы должны будете ответить после изучения всего раздела «Россия в царствование Александра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1801-1825гг.»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свою разгадку этой личности, свое отношение к Александру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ы выразите в синквейне. (Синквейн - см. Приложение№2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ащиеся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записывают тему раздела и задание в тетрадь)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 сегодня мы только начинаем  знакомиться с Александром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 Россией в его правление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37160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Palatino Linotype"/>
              </a:rPr>
              <a:t>Тема нашего урока: « Внутренняя политика Александра </a:t>
            </a:r>
            <a:r>
              <a:rPr b="1" i="1" lang="en-US" sz="24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1" i="1" lang="ru-RU" sz="2400" spc="-1" strike="noStrike">
                <a:solidFill>
                  <a:srgbClr val="000099"/>
                </a:solidFill>
                <a:latin typeface="Palatino Linotype"/>
              </a:rPr>
              <a:t>. 1801-1812гг.»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(Запись </a:t>
            </a:r>
            <a:r>
              <a:rPr b="1" lang="ru-RU" sz="2400" spc="-1" strike="noStrike">
                <a:solidFill>
                  <a:srgbClr val="000099"/>
                </a:solidFill>
                <a:latin typeface="Palatino Linotype"/>
              </a:rPr>
              <a:t>учащимися 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темы урока и эпиграфа в тетрадь)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Нам предстоит познакомиться с детством и воспитанием царя, выяснить, какие преобразования были проведены Александром </a:t>
            </a:r>
            <a:r>
              <a:rPr b="0" lang="en-US" sz="24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 в указанный период, чем они были обусловлены, и дать оценку этим реформам. А также вы познакомитесь с новыми историческими личностями, понятиями и датами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Помогать изучению темы нам будут архивариусы, «работники архива», знакомя нас с архивными документами той эпохи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Palatino Linotyp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7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7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Palatino Linotype"/>
              </a:rPr>
              <a:t>2 МОДУЛЬ - ОБРАЗ</a:t>
            </a:r>
            <a:br>
              <a:rPr sz="2400"/>
            </a:br>
            <a:endParaRPr b="0" lang="en-US" sz="24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Учитель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 Каким он был, Александр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? Обратимся к свидетельствам современников императора. (Портрет Александра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Palatino Linotype"/>
              </a:rPr>
              <a:t>Архивариусы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зачитывают высказывания об Александре </a:t>
            </a:r>
            <a:r>
              <a:rPr b="0" lang="en-US" sz="20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000" spc="-1" strike="noStrike">
                <a:solidFill>
                  <a:srgbClr val="000099"/>
                </a:solidFill>
                <a:latin typeface="Palatino Linotype"/>
              </a:rPr>
              <a:t>( См. Приложение №3. Презентация)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5041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Александр </a:t>
            </a:r>
            <a:r>
              <a:rPr b="1" lang="en-US" sz="3200" spc="-1" strike="noStrike">
                <a:solidFill>
                  <a:srgbClr val="996600"/>
                </a:solidFill>
                <a:latin typeface="Palatino Linotype"/>
              </a:rPr>
              <a:t>I</a:t>
            </a: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(1801 – 1825 гг.)</a:t>
            </a: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98480" y="3716280"/>
            <a:ext cx="474516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«Сфинкс, неразгаданный до гроба»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.А. Вяземский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1"/>
          <a:stretch/>
        </p:blipFill>
        <p:spPr>
          <a:xfrm>
            <a:off x="1463760" y="1916280"/>
            <a:ext cx="3108240" cy="42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71600" y="18864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В политике Александр тонок, как кончик булавки, остер, как бритва, фальшив, как пена морская»                         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              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Шведский дипломат Лагербьелк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Нечаянно пригретый славо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Плешивый щёголь, враг труда,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Властитель слабый и лукавы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 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Над нами царствовал тогда»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А.С. Пушкин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Император любил внешние формы свободы, как можно любить представление…Он охотно согласился бы, чтобы каждый был свободен, лишь бы все добровольно исполняли бы ЕГО волю»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Адам Чарторыйский, друг царя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Император взошел на трон с наилучшими намерениями – утвердить порядок на возможно лучших основаниях; но его связывают личная неопытность и вялая, ленивая натура»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П.А. Строганов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Царь умён, изящен, образован; он легко может очаровывать, но этого надо опасаться; он настоящий византиец времен упадка империи… он может далеко пойти. Если я умру, он станет моим настоящим наследником в Европе»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Наполеон Бонапарт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       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«После царя Алексея Михайловича император Александр производил наиболее приятное впечатление, вызывал к себе сочувствие своими личными качествами; это роскошный, но тепличный цветок, не успевший и не сумевший акклиматизироваться на русской почве. Он рос и цвел роскошно; как наступило наше осеннее ненастье, он завял и опустился»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1" i="1" lang="ru-RU" sz="1600" spc="-1" strike="noStrike">
                <a:solidFill>
                  <a:srgbClr val="000099"/>
                </a:solidFill>
                <a:latin typeface="Palatino Linotype"/>
              </a:rPr>
              <a:t>	</a:t>
            </a:r>
            <a:r>
              <a:rPr b="0" lang="ru-RU" sz="1600" spc="-1" strike="noStrike">
                <a:solidFill>
                  <a:srgbClr val="000099"/>
                </a:solidFill>
                <a:latin typeface="Palatino Linotype"/>
              </a:rPr>
              <a:t>В.О.Ключевский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716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Palatino Linotype"/>
              </a:rPr>
              <a:t>Учитель.</a:t>
            </a: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 Как формировалась личность Александра и как состоялось его восшествие на престол?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Palatino Linotype"/>
              </a:rPr>
              <a:t>Сообщение учащегося</a:t>
            </a: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 «Александр </a:t>
            </a:r>
            <a:r>
              <a:rPr b="0" lang="en-US" sz="2800" spc="-1" strike="noStrike">
                <a:solidFill>
                  <a:srgbClr val="000099"/>
                </a:solidFill>
                <a:latin typeface="Palatino Linotype"/>
              </a:rPr>
              <a:t>I</a:t>
            </a: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- воспитание и черты характера»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     </a:t>
            </a:r>
            <a:r>
              <a:rPr b="0" lang="ru-RU" sz="2800" spc="-1" strike="noStrike">
                <a:solidFill>
                  <a:srgbClr val="000099"/>
                </a:solidFill>
                <a:latin typeface="Palatino Linotype"/>
              </a:rPr>
              <a:t>( См. Приложение №4. Презентация)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Екатерина </a:t>
            </a:r>
            <a:r>
              <a:rPr b="1" lang="en-US" sz="3200" spc="-1" strike="noStrike">
                <a:solidFill>
                  <a:srgbClr val="996600"/>
                </a:solidFill>
                <a:latin typeface="Palatino Linotype"/>
              </a:rPr>
              <a:t>II</a:t>
            </a:r>
            <a:br>
              <a:rPr sz="3200"/>
            </a:b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(1762 – 1796 гг.)</a:t>
            </a:r>
            <a:br>
              <a:rPr sz="3200"/>
            </a:b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pic>
        <p:nvPicPr>
          <p:cNvPr id="100" name="Picture 7" descr="images"/>
          <p:cNvPicPr/>
          <p:nvPr/>
        </p:nvPicPr>
        <p:blipFill>
          <a:blip r:embed="rId1"/>
          <a:stretch/>
        </p:blipFill>
        <p:spPr>
          <a:xfrm>
            <a:off x="3419640" y="1628640"/>
            <a:ext cx="3457440" cy="4321440"/>
          </a:xfrm>
          <a:prstGeom prst="rect">
            <a:avLst/>
          </a:prstGeom>
          <a:ln w="28440">
            <a:solidFill>
              <a:srgbClr val="cc0066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Павел </a:t>
            </a:r>
            <a:r>
              <a:rPr b="1" lang="en-US" sz="3200" spc="-1" strike="noStrike">
                <a:solidFill>
                  <a:srgbClr val="996600"/>
                </a:solidFill>
                <a:latin typeface="Palatino Linotype"/>
              </a:rPr>
              <a:t>I</a:t>
            </a:r>
            <a:br>
              <a:rPr sz="3200"/>
            </a:br>
            <a:r>
              <a:rPr b="1" lang="ru-RU" sz="3200" spc="-1" strike="noStrike">
                <a:solidFill>
                  <a:srgbClr val="996600"/>
                </a:solidFill>
                <a:latin typeface="Palatino Linotype"/>
              </a:rPr>
              <a:t>(1796 – 1801 гг.)</a:t>
            </a:r>
            <a:endParaRPr b="0" lang="en-US" sz="3200" spc="-1" strike="noStrike">
              <a:solidFill>
                <a:srgbClr val="996600"/>
              </a:solidFill>
              <a:latin typeface="Palatino Linotype"/>
            </a:endParaRPr>
          </a:p>
        </p:txBody>
      </p:sp>
      <p:pic>
        <p:nvPicPr>
          <p:cNvPr id="102" name="Picture 9" descr="pavel1"/>
          <p:cNvPicPr/>
          <p:nvPr/>
        </p:nvPicPr>
        <p:blipFill>
          <a:blip r:embed="rId1"/>
          <a:stretch/>
        </p:blipFill>
        <p:spPr>
          <a:xfrm>
            <a:off x="3492360" y="1844640"/>
            <a:ext cx="31813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17:40Z</dcterms:created>
  <dc:creator>ира</dc:creator>
  <dc:description/>
  <cp:keywords/>
  <dc:language>en-US</dc:language>
  <cp:lastModifiedBy>Admin</cp:lastModifiedBy>
  <dcterms:modified xsi:type="dcterms:W3CDTF">2022-10-02T15:29:11Z</dcterms:modified>
  <cp:revision>33</cp:revision>
  <dc:subject/>
  <dc:title>Александр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