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B89C-5814-48DB-885B-AD6C6EDA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FED5-C2DC-4099-9C8D-4130EC07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6835-81E0-4807-AA8E-B49786EC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9DB8-4EA4-4029-9B54-E7A6FB4C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08A7-D05B-45F8-A7F3-1BFEEF6A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88B6-BB98-4DE5-887A-1A4B2462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30E9-D4B2-4885-865E-37E46A3A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7873-6786-4274-942C-6A545357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228F-73EA-49E8-A5AC-6AD97401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A459-9F5E-429D-BC4A-423CE8EF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9A9D-EDC2-468A-BC80-205FD614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DFC5-0722-43E9-8B0E-0F55ADE0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5D14-0C09-40A9-88F5-3AC4389A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9C09-AF96-4D54-9AD4-2471F2AC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DBB3-2CB9-4544-A59D-0382BE3B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7591-69A8-4F82-9EB1-AF9F8982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A1B8-0AB2-4103-9888-EA0D0BB7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3BD5-6F1E-4556-8129-A021620F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551F-8592-43F2-A181-2227F6BE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2EFD-8C71-41E1-9FBB-0283C185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04D2-A0E2-4D2C-B0F1-B2707DC8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A7E9-CBB7-4A0C-91C2-A891FD22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0202-5DBB-490F-A4D5-1A4100F8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982E-0D03-4C32-A03C-B3039AEF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573200" cy="6858000"/>
            <a:chOff x="0" y="0"/>
            <a:chExt cx="1573200" cy="6858000"/>
          </a:xfrm>
        </p:grpSpPr>
        <p:sp>
          <p:nvSpPr>
            <p:cNvPr id="1" name="Rectangle 3"/>
            <p:cNvSpPr/>
            <p:nvPr/>
          </p:nvSpPr>
          <p:spPr>
            <a:xfrm>
              <a:off x="1268280" y="1440"/>
              <a:ext cx="304920" cy="6856560"/>
            </a:xfrm>
            <a:prstGeom prst="rect">
              <a:avLst/>
            </a:prstGeom>
            <a:gradFill rotWithShape="0">
              <a:gsLst>
                <a:gs pos="0">
                  <a:srgbClr val="786950"/>
                </a:gs>
                <a:gs pos="100000">
                  <a:srgbClr val="e9e2b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Picture 4" descr=""/>
            <p:cNvPicPr/>
            <p:nvPr/>
          </p:nvPicPr>
          <p:blipFill>
            <a:blip r:embed="rId2"/>
            <a:srcRect l="8110" t="0" r="0" b="0"/>
            <a:stretch/>
          </p:blipFill>
          <p:spPr>
            <a:xfrm>
              <a:off x="0" y="0"/>
              <a:ext cx="12603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A621-307C-4971-9664-AF1812BE14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4F8C-7DE6-4F69-B09E-08E6580A7E28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419280" y="856800"/>
            <a:ext cx="5545080" cy="30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86950"/>
                </a:solidFill>
                <a:latin typeface="Palatino Linotype"/>
              </a:rPr>
              <a:t>Модульная технология в личностно-ориентированном обучении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35a7"/>
                </a:solidFill>
                <a:latin typeface="Times New Roman"/>
                <a:ea typeface="Times New Roman"/>
              </a:rPr>
              <a:t>ВНУТРЕННЯЯ  ПОЛИТИКА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35a7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2d35a7"/>
                </a:solidFill>
                <a:latin typeface="Times New Roman"/>
                <a:ea typeface="Times New Roman"/>
              </a:rPr>
              <a:t>АЛЕКСАНДРА </a:t>
            </a:r>
            <a:r>
              <a:rPr b="1" lang="en-US" sz="2800" spc="-1" strike="noStrike">
                <a:solidFill>
                  <a:srgbClr val="2d35a7"/>
                </a:solidFill>
                <a:latin typeface="Times New Roman"/>
                <a:ea typeface="Times New Roman"/>
              </a:rPr>
              <a:t>I</a:t>
            </a:r>
            <a:r>
              <a:rPr b="1" lang="ru-RU" sz="2800" spc="-1" strike="noStrike">
                <a:solidFill>
                  <a:srgbClr val="2d35a7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35a7"/>
                </a:solidFill>
                <a:latin typeface="Times New Roman"/>
                <a:ea typeface="Times New Roman"/>
              </a:rPr>
              <a:t>1801-1812 гг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4572000" y="1773360"/>
            <a:ext cx="37450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pic>
        <p:nvPicPr>
          <p:cNvPr id="87" name="P. MAURIAT - MINUETTO.mp3" descr=""/>
          <p:cNvPicPr/>
          <p:nvPr/>
        </p:nvPicPr>
        <p:blipFill>
          <a:blip r:embed="rId1"/>
          <a:stretch/>
        </p:blipFill>
        <p:spPr>
          <a:xfrm>
            <a:off x="17928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"/>
          <p:cNvSpPr/>
          <p:nvPr/>
        </p:nvSpPr>
        <p:spPr>
          <a:xfrm>
            <a:off x="4572000" y="4051440"/>
            <a:ext cx="43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«Дней Александровых прекрасное начало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А. С. Пушки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509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Palatino Linotype"/>
              </a:rPr>
              <a:t>Елизавета Алексеевна</a:t>
            </a:r>
            <a:endParaRPr b="0" lang="en-US" sz="3200" spc="-1" strike="noStrike">
              <a:solidFill>
                <a:srgbClr val="996600"/>
              </a:solidFill>
              <a:latin typeface="Palatino Linotype"/>
            </a:endParaRPr>
          </a:p>
        </p:txBody>
      </p:sp>
      <p:pic>
        <p:nvPicPr>
          <p:cNvPr id="104" name="Picture 7" descr="150px-Elisbeth_Alexeievna"/>
          <p:cNvPicPr/>
          <p:nvPr/>
        </p:nvPicPr>
        <p:blipFill>
          <a:blip r:embed="rId1"/>
          <a:stretch/>
        </p:blipFill>
        <p:spPr>
          <a:xfrm>
            <a:off x="3492360" y="1628640"/>
            <a:ext cx="3529080" cy="4422960"/>
          </a:xfrm>
          <a:prstGeom prst="rect">
            <a:avLst/>
          </a:prstGeom>
          <a:ln w="28440">
            <a:solidFill>
              <a:srgbClr val="00808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0" descr="174"/>
          <p:cNvPicPr/>
          <p:nvPr/>
        </p:nvPicPr>
        <p:blipFill>
          <a:blip r:embed="rId1"/>
          <a:stretch/>
        </p:blipFill>
        <p:spPr>
          <a:xfrm>
            <a:off x="3419640" y="333360"/>
            <a:ext cx="3240000" cy="223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Павел"/>
          <p:cNvPicPr/>
          <p:nvPr/>
        </p:nvPicPr>
        <p:blipFill>
          <a:blip r:embed="rId2"/>
          <a:stretch/>
        </p:blipFill>
        <p:spPr>
          <a:xfrm>
            <a:off x="1979640" y="3213000"/>
            <a:ext cx="2448000" cy="3024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Алкус"/>
          <p:cNvPicPr/>
          <p:nvPr/>
        </p:nvPicPr>
        <p:blipFill>
          <a:blip r:embed="rId3"/>
          <a:stretch/>
        </p:blipFill>
        <p:spPr>
          <a:xfrm>
            <a:off x="6012000" y="3284640"/>
            <a:ext cx="2395440" cy="2952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0"/>
          <p:cNvSpPr/>
          <p:nvPr/>
        </p:nvSpPr>
        <p:spPr>
          <a:xfrm>
            <a:off x="2628000" y="63817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04818"/>
                </a:solidFill>
                <a:latin typeface="Times New Roman"/>
              </a:rPr>
              <a:t>Павел </a:t>
            </a:r>
            <a:r>
              <a:rPr b="0" lang="en-US" sz="1800" spc="-1" strike="noStrike">
                <a:solidFill>
                  <a:srgbClr val="504818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1"/>
          <p:cNvSpPr/>
          <p:nvPr/>
        </p:nvSpPr>
        <p:spPr>
          <a:xfrm>
            <a:off x="6589080" y="638172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04818"/>
                </a:solidFill>
                <a:latin typeface="Times New Roman"/>
              </a:rPr>
              <a:t>Александр </a:t>
            </a:r>
            <a:r>
              <a:rPr b="0" lang="en-US" sz="1800" spc="-1" strike="noStrike">
                <a:solidFill>
                  <a:srgbClr val="504818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4285080" y="263700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34d00"/>
                </a:solidFill>
                <a:latin typeface="Times New Roman"/>
              </a:rPr>
              <a:t>Семья Павла </a:t>
            </a:r>
            <a:r>
              <a:rPr b="0" lang="en-US" sz="1800" spc="-1" strike="noStrike">
                <a:solidFill>
                  <a:srgbClr val="734d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Palatino Linotype"/>
              </a:rPr>
              <a:t>3 МОДУЛЬ -  АНАЛИЗ</a:t>
            </a:r>
            <a:br>
              <a:rPr sz="2400"/>
            </a:br>
            <a:endParaRPr b="0" lang="en-US" sz="2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716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8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Palatino Linotype"/>
              </a:rPr>
              <a:t>Учитель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. Согласившись на участие в заговоре против отца, Александр тешил себя мыслью, что будет править лучше, чем он.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- Какие же проблемы должен был решить Александр?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- Вспомните, какой была Россия к началу 19 века и какие проблемы стояли перед страной?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Palatino Linotype"/>
              </a:rPr>
              <a:t>Учащиеся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в результате обсуждения выделяют </a:t>
            </a:r>
            <a:r>
              <a:rPr b="1" i="1" lang="ru-RU" sz="2000" spc="-1" strike="noStrike">
                <a:solidFill>
                  <a:srgbClr val="000099"/>
                </a:solidFill>
                <a:latin typeface="Palatino Linotype"/>
              </a:rPr>
              <a:t>«Задачи правления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99"/>
                </a:solidFill>
                <a:latin typeface="Palatino Linotype"/>
              </a:rPr>
              <a:t>Александра</a:t>
            </a:r>
            <a:r>
              <a:rPr b="1" i="1" lang="en-US" sz="2000" spc="-1" strike="noStrike">
                <a:solidFill>
                  <a:srgbClr val="000099"/>
                </a:solidFill>
                <a:latin typeface="Palatino Linotype"/>
              </a:rPr>
              <a:t>I</a:t>
            </a:r>
            <a:r>
              <a:rPr b="1" lang="ru-RU" sz="2000" spc="-1" strike="noStrike">
                <a:solidFill>
                  <a:srgbClr val="000099"/>
                </a:solidFill>
                <a:latin typeface="Palatino Linotype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-ликвидация последствий правления Павла </a:t>
            </a:r>
            <a:r>
              <a:rPr b="0" lang="en-US" sz="2000" spc="-1" strike="noStrike">
                <a:solidFill>
                  <a:srgbClr val="000099"/>
                </a:solidFill>
                <a:latin typeface="Palatino Linotype"/>
              </a:rPr>
              <a:t>I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-отмена крепостного права;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-усовершенствование государственного аппарата, создание парламента;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-введение конституции;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-развитие образования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371600" y="620280"/>
            <a:ext cx="7772400" cy="60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Palatino Linotype"/>
              </a:rPr>
              <a:t>Учитель.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С первых же дней молодой император взялся за государственные дела. Еще в середине 90-х годов вокруг Александра сложился небольшой кружок единомышленников. Это были друзья царя - В. Кочубей,  А.Чарторыйский, П. Строганов, Н. Новосильцев. В этом кружке друзей, получившим название Негласный комитет, обсуждались пороки павловского правления и строились планы на будущее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buClr>
                <a:srgbClr val="9966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Каким представлял свое правление сам император? Обратимся к документам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buClr>
                <a:srgbClr val="9966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Palatino Linotype"/>
              </a:rPr>
              <a:t>Архивариус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зачитывает отрывок из письма Александра </a:t>
            </a:r>
            <a:r>
              <a:rPr b="0" lang="en-US" sz="2000" spc="-1" strike="noStrike">
                <a:solidFill>
                  <a:srgbClr val="000099"/>
                </a:solidFill>
                <a:latin typeface="Palatino Linotype"/>
              </a:rPr>
              <a:t>I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.(См. Приложение №5)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Palatino Linotype"/>
              </a:rPr>
              <a:t>«Кружок  молодых  друзей»</a:t>
            </a:r>
            <a:br>
              <a:rPr sz="3200"/>
            </a:br>
            <a:endParaRPr b="0" lang="en-US" sz="3200" spc="-1" strike="noStrike">
              <a:solidFill>
                <a:srgbClr val="996600"/>
              </a:solidFill>
              <a:latin typeface="Palatino Linotype"/>
            </a:endParaRPr>
          </a:p>
        </p:txBody>
      </p:sp>
      <p:pic>
        <p:nvPicPr>
          <p:cNvPr id="115" name="Содержимое 3" descr="Кочубей.png"/>
          <p:cNvPicPr/>
          <p:nvPr/>
        </p:nvPicPr>
        <p:blipFill>
          <a:blip r:embed="rId1"/>
          <a:stretch/>
        </p:blipFill>
        <p:spPr>
          <a:xfrm>
            <a:off x="2309760" y="2109960"/>
            <a:ext cx="2238480" cy="242568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5"/>
          <p:cNvSpPr/>
          <p:nvPr/>
        </p:nvSpPr>
        <p:spPr>
          <a:xfrm>
            <a:off x="2571840" y="4797360"/>
            <a:ext cx="167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. П. Кочуб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Содержимое 5" descr="Строганов.png"/>
          <p:cNvPicPr/>
          <p:nvPr/>
        </p:nvPicPr>
        <p:blipFill>
          <a:blip r:embed="rId2"/>
          <a:stretch/>
        </p:blipFill>
        <p:spPr>
          <a:xfrm>
            <a:off x="6151680" y="1407960"/>
            <a:ext cx="2101680" cy="226224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8" descr="Новосильцев.png"/>
          <p:cNvPicPr/>
          <p:nvPr/>
        </p:nvPicPr>
        <p:blipFill>
          <a:blip r:embed="rId3"/>
          <a:stretch/>
        </p:blipFill>
        <p:spPr>
          <a:xfrm>
            <a:off x="6205680" y="4346640"/>
            <a:ext cx="1987560" cy="21510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10"/>
          <p:cNvSpPr/>
          <p:nvPr/>
        </p:nvSpPr>
        <p:spPr>
          <a:xfrm>
            <a:off x="6214320" y="378936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П. А. Строган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11"/>
          <p:cNvSpPr/>
          <p:nvPr/>
        </p:nvSpPr>
        <p:spPr>
          <a:xfrm>
            <a:off x="3867480" y="612792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Н. Н. Новосильце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Palatino Linotype"/>
              </a:rPr>
              <a:t>4 МОДУЛЬ -ДЕЙСТВИЕ</a:t>
            </a:r>
            <a:endParaRPr b="0" lang="en-US" sz="2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3716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Palatino Linotype"/>
              </a:rPr>
              <a:t>Учитель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обращает внимание на эпиграф урока.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     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-Что же было сделано в ходе реформ 1801-1812 гг.?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Palatino Linotype"/>
              </a:rPr>
              <a:t>Учащиеся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записывают в тетради заголовок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     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« </a:t>
            </a:r>
            <a:r>
              <a:rPr b="1" i="1" lang="ru-RU" sz="2000" spc="-1" strike="noStrike">
                <a:solidFill>
                  <a:srgbClr val="000099"/>
                </a:solidFill>
                <a:latin typeface="Palatino Linotype"/>
              </a:rPr>
              <a:t>Преобразования Александра</a:t>
            </a:r>
            <a:r>
              <a:rPr b="1" i="1" lang="en-US" sz="2000" spc="-1" strike="noStrike">
                <a:solidFill>
                  <a:srgbClr val="000099"/>
                </a:solidFill>
                <a:latin typeface="Palatino Linotype"/>
              </a:rPr>
              <a:t>I</a:t>
            </a:r>
            <a:r>
              <a:rPr b="1" i="1" lang="ru-RU" sz="2000" spc="-1" strike="noStrike">
                <a:solidFill>
                  <a:srgbClr val="000099"/>
                </a:solidFill>
                <a:latin typeface="Palatino Linotype"/>
              </a:rPr>
              <a:t>. 1801-1812гг.»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Palatino Linotype"/>
              </a:rPr>
              <a:t>Учитель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сообщает о том, что было сделано для </a:t>
            </a:r>
            <a:r>
              <a:rPr b="1" i="1" lang="ru-RU" sz="2000" spc="-1" strike="noStrike">
                <a:solidFill>
                  <a:srgbClr val="000099"/>
                </a:solidFill>
                <a:latin typeface="Palatino Linotype"/>
              </a:rPr>
              <a:t>ликвидации последствий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99"/>
                </a:solidFill>
                <a:latin typeface="Palatino Linotype"/>
              </a:rPr>
              <a:t>правления Павла </a:t>
            </a:r>
            <a:r>
              <a:rPr b="1" i="1" lang="en-US" sz="2000" spc="-1" strike="noStrike">
                <a:solidFill>
                  <a:srgbClr val="000099"/>
                </a:solidFill>
                <a:latin typeface="Palatino Linotype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(</a:t>
            </a:r>
            <a:r>
              <a:rPr b="1" lang="ru-RU" sz="2000" spc="-1" strike="noStrike">
                <a:solidFill>
                  <a:srgbClr val="000099"/>
                </a:solidFill>
                <a:latin typeface="Palatino Linotype"/>
              </a:rPr>
              <a:t>учащиеся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ведут запись в тетради):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     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-возвращение репрессированных Павлом </a:t>
            </a:r>
            <a:r>
              <a:rPr b="0" lang="en-US" sz="2000" spc="-1" strike="noStrike">
                <a:solidFill>
                  <a:srgbClr val="000099"/>
                </a:solidFill>
                <a:latin typeface="Palatino Linotype"/>
              </a:rPr>
              <a:t>I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     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-разрешение ввозить товары и книги из Западной Европы;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     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-восстановление Жалованных грамот дворянству и городам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3716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Palatino Linotype"/>
              </a:rPr>
              <a:t>Учитель 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предлагает учащимся ознакомиться с текстом учебника-</a:t>
            </a:r>
            <a:r>
              <a:rPr b="0" lang="en-US" sz="2000" spc="-1" strike="noStrike">
                <a:solidFill>
                  <a:srgbClr val="000099"/>
                </a:solidFill>
                <a:latin typeface="Palatino Linotype"/>
              </a:rPr>
              <a:t>c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.18-19 и подготовить ответ на задание: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    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-Как был решен аграрный вопрос?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Palatino Linotype"/>
              </a:rPr>
              <a:t>Учащиеся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, работая с учебником, должны составить в тетради ответ на вопрос в виде тезисного плана (аналогично предыдущей записи)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Palatino Linotype"/>
              </a:rPr>
              <a:t>Учащиеся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знакомятся с текстом учебника- с. 19- и отвечают на вопрос: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     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-Как был изменен государственный строй России?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В ходе ответа учащиеся составляют в тетради тезисный план: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Palatino Linotype"/>
              </a:rPr>
              <a:t>« Государственные преобразования»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47280" y="188640"/>
            <a:ext cx="66596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996600"/>
                </a:solidFill>
                <a:latin typeface="Palatino Linotype"/>
              </a:rPr>
              <a:t>5 МОДУЛЬ – ПРОПОВЕДЬ</a:t>
            </a:r>
            <a:br>
              <a:rPr sz="2400"/>
            </a:br>
            <a:r>
              <a:rPr b="0" lang="ru-RU" sz="2400" spc="-1" strike="noStrike">
                <a:solidFill>
                  <a:srgbClr val="996600"/>
                </a:solidFill>
                <a:latin typeface="Palatino Linotype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3716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Palatino Linotype"/>
              </a:rPr>
              <a:t>Учитель</a:t>
            </a: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-А теперь сравните планы Александра и их реализацию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     </a:t>
            </a: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-Какой вывод напрашивается из сравнения?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Palatino Linotype"/>
              </a:rPr>
              <a:t>Учащиеся </a:t>
            </a: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должны отметить, что не удалось отменить крепостное право, осуществить введение конституции и парламента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     </a:t>
            </a: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Коренных изменений в жизни общества не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no Linotype"/>
              </a:rPr>
              <a:t>     </a:t>
            </a: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произошло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Palatino Linotype"/>
              </a:rPr>
              <a:t>5 МОДУЛЬ – ПРОПОВЕДЬ</a:t>
            </a:r>
            <a:br>
              <a:rPr sz="2400"/>
            </a:br>
            <a:r>
              <a:rPr b="0" lang="ru-RU" sz="2400" spc="-1" strike="noStrike">
                <a:solidFill>
                  <a:srgbClr val="996600"/>
                </a:solidFill>
                <a:latin typeface="Palatino Linotype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3716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Каждый выбирает для себя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Женщину, религию, дорогу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Дьяволу служить или пророку -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Каждый выбирает для себя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 algn="ctr">
              <a:spcBef>
                <a:spcPts val="400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 </a:t>
            </a: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Каждый выбирает по себе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  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Слово для любви и для молитвы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  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Шпагу для дуэли, меч для битвы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Каждый выбирает по себе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00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Каждый выбирает по себе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Щит и латы, посох и заплаты,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Меру окончательной расплаты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Каждый выбирает по себе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 algn="ctr">
              <a:spcBef>
                <a:spcPts val="400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Каждый выбирает для себя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Выбираем тоже - как умеем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Ни к кому претензий не имеем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Каждый выбирает для себя!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51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7160" y="648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996600"/>
                </a:solidFill>
                <a:latin typeface="Palatino Linotype"/>
              </a:rPr>
              <a:t>1 МОДУЛЬ - МОТИВАЦИЯ</a:t>
            </a:r>
            <a:br>
              <a:rPr sz="2400"/>
            </a:br>
            <a:r>
              <a:rPr b="0" lang="ru-RU" sz="2400" spc="-1" strike="noStrike">
                <a:solidFill>
                  <a:srgbClr val="996600"/>
                </a:solidFill>
                <a:latin typeface="Palatino Linotype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371600" y="1052640"/>
            <a:ext cx="777240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итель.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Любите ли вы загадки? История, которую мы изучаем на уроках, полна загадок и тайн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алее учитель рассказывает о тайне смерти Александра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(См. Приложение №1)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аким образом, смерть российского императора - загадка. Но загадка и вся его жизнь, он сам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Сфинкс, неразгаданный до гроба», - так сказал о нем П. А. Вяземский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Почему Александр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получил такую оценку?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В чем заключалась сложность и противоречивость этой личности и его времени?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 эти вопросы вы должны будете ответить после изучения всего раздела «Россия в царствование Александра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1801-1825гг.»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 свою разгадку этой личности, свое отношение к Александру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вы выразите в синквейне. (Синквейн - см. Приложение№2)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ащиеся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записывают тему раздела и задание в тетрадь)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 сегодня мы только начинаем  знакомиться с Александром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 Россией в его правление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371600" y="47592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Palatino Linotype"/>
              </a:rPr>
              <a:t>Тема нашего урока: « Внутренняя политика Александра </a:t>
            </a:r>
            <a:r>
              <a:rPr b="1" i="1" lang="en-US" sz="2400" spc="-1" strike="noStrike">
                <a:solidFill>
                  <a:srgbClr val="000099"/>
                </a:solidFill>
                <a:latin typeface="Palatino Linotype"/>
              </a:rPr>
              <a:t>I</a:t>
            </a:r>
            <a:r>
              <a:rPr b="1" i="1" lang="ru-RU" sz="2400" spc="-1" strike="noStrike">
                <a:solidFill>
                  <a:srgbClr val="000099"/>
                </a:solidFill>
                <a:latin typeface="Palatino Linotype"/>
              </a:rPr>
              <a:t>. 1801-1812гг.»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(Запись </a:t>
            </a:r>
            <a:r>
              <a:rPr b="1" lang="ru-RU" sz="2400" spc="-1" strike="noStrike">
                <a:solidFill>
                  <a:srgbClr val="000099"/>
                </a:solidFill>
                <a:latin typeface="Palatino Linotype"/>
              </a:rPr>
              <a:t>учащимися </a:t>
            </a: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темы урока и эпиграфа в тетрадь)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Нам предстоит познакомиться с детством и воспитанием царя, выяснить, какие преобразования были проведены Александром </a:t>
            </a:r>
            <a:r>
              <a:rPr b="0" lang="en-US" sz="2400" spc="-1" strike="noStrike">
                <a:solidFill>
                  <a:srgbClr val="000099"/>
                </a:solidFill>
                <a:latin typeface="Palatino Linotype"/>
              </a:rPr>
              <a:t>I</a:t>
            </a: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 в указанный период, чем они были обусловлены, и дать оценку этим реформам. А также вы познакомитесь с новыми историческими личностями, понятиями и датами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Помогать изучению темы нам будут архивариусы, «работники архива», знакомя нас с архивными документами той эпохи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799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799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8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Palatino Linotype"/>
              </a:rPr>
              <a:t>2 МОДУЛЬ - ОБРАЗ</a:t>
            </a:r>
            <a:br>
              <a:rPr sz="2400"/>
            </a:br>
            <a:endParaRPr b="0" lang="en-US" sz="2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Palatino Linotype"/>
              </a:rPr>
              <a:t>Учитель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. Каким он был, Александр</a:t>
            </a:r>
            <a:r>
              <a:rPr b="0" lang="en-US" sz="2000" spc="-1" strike="noStrike">
                <a:solidFill>
                  <a:srgbClr val="000099"/>
                </a:solidFill>
                <a:latin typeface="Palatino Linotype"/>
              </a:rPr>
              <a:t>I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? Обратимся к свидетельствам современников императора. (Портрет Александра </a:t>
            </a:r>
            <a:r>
              <a:rPr b="0" lang="en-US" sz="2000" spc="-1" strike="noStrike">
                <a:solidFill>
                  <a:srgbClr val="000099"/>
                </a:solidFill>
                <a:latin typeface="Palatino Linotype"/>
              </a:rPr>
              <a:t>I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)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Palatino Linotype"/>
              </a:rPr>
              <a:t>Архивариусы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зачитывают высказывания об Александре </a:t>
            </a:r>
            <a:r>
              <a:rPr b="0" lang="en-US" sz="2000" spc="-1" strike="noStrike">
                <a:solidFill>
                  <a:srgbClr val="000099"/>
                </a:solidFill>
                <a:latin typeface="Palatino Linotype"/>
              </a:rPr>
              <a:t>I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    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( См. Приложение №3. Презентация)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041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Palatino Linotype"/>
              </a:rPr>
              <a:t>Александр </a:t>
            </a:r>
            <a:r>
              <a:rPr b="1" lang="en-US" sz="3200" spc="-1" strike="noStrike">
                <a:solidFill>
                  <a:srgbClr val="996600"/>
                </a:solidFill>
                <a:latin typeface="Palatino Linotype"/>
              </a:rPr>
              <a:t>I</a:t>
            </a:r>
            <a:r>
              <a:rPr b="1" lang="ru-RU" sz="3200" spc="-1" strike="noStrike">
                <a:solidFill>
                  <a:srgbClr val="996600"/>
                </a:solidFill>
                <a:latin typeface="Palatino Linotype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996600"/>
                </a:solidFill>
                <a:latin typeface="Palatino Linotype"/>
              </a:rPr>
              <a:t>(1801 – 1825 гг.)</a:t>
            </a:r>
            <a:endParaRPr b="0" lang="en-US" sz="32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98480" y="3716280"/>
            <a:ext cx="4745160" cy="18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Сфинкс, неразгаданный до гроба»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.А. Вяземский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6" name="Picture 17" descr=""/>
          <p:cNvPicPr/>
          <p:nvPr/>
        </p:nvPicPr>
        <p:blipFill>
          <a:blip r:embed="rId1"/>
          <a:stretch/>
        </p:blipFill>
        <p:spPr>
          <a:xfrm>
            <a:off x="1463760" y="1916280"/>
            <a:ext cx="3108240" cy="42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371600" y="18864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Palatino Linotype"/>
              </a:rPr>
              <a:t>    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«В политике Александр тонок, как кончик булавки, остер, как бритва, фальшив, как пена морская»                         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              </a:t>
            </a:r>
            <a:r>
              <a:rPr b="0" lang="ru-RU" sz="1600" spc="-1" strike="noStrike">
                <a:solidFill>
                  <a:srgbClr val="000099"/>
                </a:solidFill>
                <a:latin typeface="Palatino Linotype"/>
              </a:rPr>
              <a:t>Шведский дипломат Лагербьелк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Palatino Linotype"/>
              </a:rPr>
              <a:t>     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«Нечаянно пригретый славой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      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Плешивый щёголь, враг труда,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      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Властитель слабый и лукавый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      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Над нами царствовал тогда»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0" lang="ru-RU" sz="1600" spc="-1" strike="noStrike">
                <a:solidFill>
                  <a:srgbClr val="000099"/>
                </a:solidFill>
                <a:latin typeface="Palatino Linotype"/>
              </a:rPr>
              <a:t>А.С. Пушкин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Palatino Linotype"/>
              </a:rPr>
              <a:t>    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«Император любил внешние формы свободы, как можно любить представление…Он охотно согласился бы, чтобы каждый был свободен, лишь бы все добровольно исполняли бы ЕГО волю»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0" lang="ru-RU" sz="1600" spc="-1" strike="noStrike">
                <a:solidFill>
                  <a:srgbClr val="000099"/>
                </a:solidFill>
                <a:latin typeface="Palatino Linotype"/>
              </a:rPr>
              <a:t>Адам Чарторыйский, друг царя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Palatino Linotype"/>
              </a:rPr>
              <a:t>    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«Император взошел на трон с наилучшими намерениями – утвердить порядок на возможно лучших основаниях; но его связывают личная неопытность и вялая, ленивая натура»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0" lang="ru-RU" sz="1600" spc="-1" strike="noStrike">
                <a:solidFill>
                  <a:srgbClr val="000099"/>
                </a:solidFill>
                <a:latin typeface="Palatino Linotype"/>
              </a:rPr>
              <a:t>П.А. Строганов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Palatino Linotype"/>
              </a:rPr>
              <a:t>     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«Царь умён, изящен, образован; он легко может очаровывать, но этого надо опасаться; он настоящий византиец времен упадка империи… он может далеко пойти. Если я умру, он станет моим настоящим наследником в Европе»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0" lang="ru-RU" sz="1600" spc="-1" strike="noStrike">
                <a:solidFill>
                  <a:srgbClr val="000099"/>
                </a:solidFill>
                <a:latin typeface="Palatino Linotype"/>
              </a:rPr>
              <a:t>Наполеон Бонапарт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Palatino Linotype"/>
              </a:rPr>
              <a:t>       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«После царя Алексея Михайловича император Александр производил наиболее приятное впечатление, вызывал к себе сочувствие своими личными качествами; это роскошный, но тепличный цветок, не успевший и не сумевший акклиматизироваться на русской почве. Он рос и цвел роскошно; как наступило наше осеннее ненастье, он завял и опустился»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0" lang="ru-RU" sz="1600" spc="-1" strike="noStrike">
                <a:solidFill>
                  <a:srgbClr val="000099"/>
                </a:solidFill>
                <a:latin typeface="Palatino Linotype"/>
              </a:rPr>
              <a:t>В.О.Ключевский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3716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Palatino Linotype"/>
              </a:rPr>
              <a:t>Учитель.</a:t>
            </a:r>
            <a:r>
              <a:rPr b="0" lang="ru-RU" sz="2800" spc="-1" strike="noStrike">
                <a:solidFill>
                  <a:srgbClr val="000099"/>
                </a:solidFill>
                <a:latin typeface="Palatino Linotype"/>
              </a:rPr>
              <a:t> Как формировалась личность Александра и как состоялось его восшествие на престол?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Palatino Linotype"/>
              </a:rPr>
              <a:t>Сообщение учащегося</a:t>
            </a:r>
            <a:r>
              <a:rPr b="0" lang="ru-RU" sz="2800" spc="-1" strike="noStrike">
                <a:solidFill>
                  <a:srgbClr val="000099"/>
                </a:solidFill>
                <a:latin typeface="Palatino Linotype"/>
              </a:rPr>
              <a:t> «Александр </a:t>
            </a:r>
            <a:r>
              <a:rPr b="0" lang="en-US" sz="2800" spc="-1" strike="noStrike">
                <a:solidFill>
                  <a:srgbClr val="000099"/>
                </a:solidFill>
                <a:latin typeface="Palatino Linotype"/>
              </a:rPr>
              <a:t>I</a:t>
            </a:r>
            <a:r>
              <a:rPr b="0" lang="ru-RU" sz="2800" spc="-1" strike="noStrike">
                <a:solidFill>
                  <a:srgbClr val="000099"/>
                </a:solidFill>
                <a:latin typeface="Palatino Linotype"/>
              </a:rPr>
              <a:t>- воспитание и черты характера»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Palatino Linotype"/>
              </a:rPr>
              <a:t>     </a:t>
            </a:r>
            <a:r>
              <a:rPr b="0" lang="ru-RU" sz="2800" spc="-1" strike="noStrike">
                <a:solidFill>
                  <a:srgbClr val="000099"/>
                </a:solidFill>
                <a:latin typeface="Palatino Linotype"/>
              </a:rPr>
              <a:t>( См. Приложение №4. Презентация)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Palatino Linotype"/>
              </a:rPr>
              <a:t>Екатерина </a:t>
            </a:r>
            <a:r>
              <a:rPr b="1" lang="en-US" sz="3200" spc="-1" strike="noStrike">
                <a:solidFill>
                  <a:srgbClr val="996600"/>
                </a:solidFill>
                <a:latin typeface="Palatino Linotype"/>
              </a:rPr>
              <a:t>II</a:t>
            </a:r>
            <a:br>
              <a:rPr sz="3200"/>
            </a:br>
            <a:r>
              <a:rPr b="1" lang="ru-RU" sz="3200" spc="-1" strike="noStrike">
                <a:solidFill>
                  <a:srgbClr val="996600"/>
                </a:solidFill>
                <a:latin typeface="Palatino Linotype"/>
              </a:rPr>
              <a:t>(1762 – 1796 гг.)</a:t>
            </a:r>
            <a:br>
              <a:rPr sz="3200"/>
            </a:br>
            <a:endParaRPr b="0" lang="en-US" sz="3200" spc="-1" strike="noStrike">
              <a:solidFill>
                <a:srgbClr val="996600"/>
              </a:solidFill>
              <a:latin typeface="Palatino Linotype"/>
            </a:endParaRPr>
          </a:p>
        </p:txBody>
      </p:sp>
      <p:pic>
        <p:nvPicPr>
          <p:cNvPr id="100" name="Picture 7" descr="images"/>
          <p:cNvPicPr/>
          <p:nvPr/>
        </p:nvPicPr>
        <p:blipFill>
          <a:blip r:embed="rId1"/>
          <a:stretch/>
        </p:blipFill>
        <p:spPr>
          <a:xfrm>
            <a:off x="3419640" y="1628640"/>
            <a:ext cx="3457440" cy="4321440"/>
          </a:xfrm>
          <a:prstGeom prst="rect">
            <a:avLst/>
          </a:prstGeom>
          <a:ln w="28440">
            <a:solidFill>
              <a:srgbClr val="cc0066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Palatino Linotype"/>
              </a:rPr>
              <a:t>Павел </a:t>
            </a:r>
            <a:r>
              <a:rPr b="1" lang="en-US" sz="3200" spc="-1" strike="noStrike">
                <a:solidFill>
                  <a:srgbClr val="996600"/>
                </a:solidFill>
                <a:latin typeface="Palatino Linotype"/>
              </a:rPr>
              <a:t>I</a:t>
            </a:r>
            <a:br>
              <a:rPr sz="3200"/>
            </a:br>
            <a:r>
              <a:rPr b="1" lang="ru-RU" sz="3200" spc="-1" strike="noStrike">
                <a:solidFill>
                  <a:srgbClr val="996600"/>
                </a:solidFill>
                <a:latin typeface="Palatino Linotype"/>
              </a:rPr>
              <a:t>(1796 – 1801 гг.)</a:t>
            </a:r>
            <a:endParaRPr b="0" lang="en-US" sz="3200" spc="-1" strike="noStrike">
              <a:solidFill>
                <a:srgbClr val="996600"/>
              </a:solidFill>
              <a:latin typeface="Palatino Linotype"/>
            </a:endParaRPr>
          </a:p>
        </p:txBody>
      </p:sp>
      <p:pic>
        <p:nvPicPr>
          <p:cNvPr id="102" name="Picture 9" descr="pavel1"/>
          <p:cNvPicPr/>
          <p:nvPr/>
        </p:nvPicPr>
        <p:blipFill>
          <a:blip r:embed="rId1"/>
          <a:stretch/>
        </p:blipFill>
        <p:spPr>
          <a:xfrm>
            <a:off x="3492360" y="1844640"/>
            <a:ext cx="3181320" cy="441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6:17:40Z</dcterms:created>
  <dc:creator>ира</dc:creator>
  <dc:description/>
  <cp:keywords/>
  <dc:language>en-US</dc:language>
  <cp:lastModifiedBy>Admin</cp:lastModifiedBy>
  <dcterms:modified xsi:type="dcterms:W3CDTF">2022-10-02T15:29:11Z</dcterms:modified>
  <cp:revision>33</cp:revision>
  <dc:subject/>
  <dc:title>Александр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71049</vt:lpwstr>
  </property>
</Properties>
</file>