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1A7-4DB4-4114-8D9A-A94AAA4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5D5-1593-4CFF-AF65-A497F9DC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C4F-B080-47BE-BD68-D28A53DD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621-D96D-4011-80B1-CE3F7D96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2E2-52AF-4F2A-8394-4B0AE702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A455-0DEA-4A14-A1AD-18920CD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DFC-FA57-48A3-8367-1BD10FC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A93-ABD5-410B-AEF7-B048530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D80-8BAE-4A0B-A8CB-39259E0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6591-C1ED-4E31-A87E-E9B1130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07B-5CD0-4715-B754-3F13FE5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BE7-CBA7-4F26-89E7-AFE413E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7326-A2D4-4DA3-9662-7385CC8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733D-221B-4037-8E06-52A4543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006-DE78-442F-92CD-F888733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3E3D-6A43-4165-B5E0-AADE228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301-4B56-4D63-89F4-D448846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FAD4-539B-430D-8B26-A6AA6B12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7F8A-D621-456E-960E-CCB448F4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C038-4385-4115-8123-9C542BF6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5067-3559-472D-B63E-24190EB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39AC-4350-46C9-BAF9-11E37732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5A3-C50D-421C-891D-D7770B4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9E7E-8F5D-4A3A-9B1F-6B35369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7372-FA76-4A1A-B425-0EF4A4D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B021-4882-43DF-A207-53BC5F7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3F6A-5DE6-479E-9C5D-2A3FCD3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77F5-9449-4F82-9DA5-8C963023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AC41-369D-4A40-B2C0-A1D9027A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1631-00CF-4A04-90C8-C583BB5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8ACA-DCF6-40F9-85B0-0892141E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E0AA-28D0-421E-BB1F-F61B091C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842C-86B9-41BF-AA50-4D2F3038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1A5-2F64-4C99-A053-EC9A8F0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D497-CCA1-414A-A08C-A6705A0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FE8E-A055-4033-8282-6C3B2F92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9E9D-4089-43F1-8E50-D7BAEF7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8051-D878-4CA7-A827-5BD0346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047C-5BEF-47F5-9123-1CA9167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0C5A-4E21-4EDB-B295-EC7B5FE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C219-81F7-48EC-8CC7-E285D934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01F0-0B70-4001-AE74-89D15799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1B21-032C-47CA-870A-1C74404F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7C2-97EB-43CC-AC1A-FA22CA18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51C-A207-49A1-934D-96CB0E7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E4C-732B-4E48-8B3C-1FE1E65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A6E-8C0D-419D-9C80-8A1E9B9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6D6-C810-4105-8F95-11F95EA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58F-F1EE-481A-9E37-256AEBF6B39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F78-EFE0-437B-8B1F-DBB45CB0BB4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EEA-4B1E-4113-B1F9-57F8B9EF7A23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454-EE68-4FE8-B780-9F4A204530F1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1.jpeg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2286000"/>
            <a:ext cx="8089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629604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Расставить  буквы, чтобы получилось название одного из устройств компьютер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0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Arial"/>
            </a:endParaRPr>
          </a:p>
        </p:txBody>
      </p:sp>
      <p:sp>
        <p:nvSpPr>
          <p:cNvPr id="227" name="Скругленный прямоугольник 3"/>
          <p:cNvSpPr/>
          <p:nvPr/>
        </p:nvSpPr>
        <p:spPr>
          <a:xfrm>
            <a:off x="971640" y="263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1692360" y="3618000"/>
            <a:ext cx="718920" cy="720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6"/>
          <p:cNvSpPr/>
          <p:nvPr/>
        </p:nvSpPr>
        <p:spPr>
          <a:xfrm>
            <a:off x="2708280" y="263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3595680" y="3618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8"/>
          <p:cNvSpPr/>
          <p:nvPr/>
        </p:nvSpPr>
        <p:spPr>
          <a:xfrm>
            <a:off x="4316400" y="2746440"/>
            <a:ext cx="720720" cy="7189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0"/>
          <p:cNvSpPr/>
          <p:nvPr/>
        </p:nvSpPr>
        <p:spPr>
          <a:xfrm>
            <a:off x="5292720" y="361800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"/>
          <p:cNvSpPr/>
          <p:nvPr/>
        </p:nvSpPr>
        <p:spPr>
          <a:xfrm>
            <a:off x="6019920" y="27846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3"/>
          <p:cNvSpPr/>
          <p:nvPr/>
        </p:nvSpPr>
        <p:spPr>
          <a:xfrm>
            <a:off x="6948360" y="361800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4"/>
          <p:cNvSpPr/>
          <p:nvPr/>
        </p:nvSpPr>
        <p:spPr>
          <a:xfrm>
            <a:off x="7524720" y="270972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5"/>
          <p:cNvSpPr/>
          <p:nvPr/>
        </p:nvSpPr>
        <p:spPr>
          <a:xfrm>
            <a:off x="971640" y="5013360"/>
            <a:ext cx="7272360" cy="100800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кругленная прямоугольная выноска 2"/>
          <p:cNvSpPr/>
          <p:nvPr/>
        </p:nvSpPr>
        <p:spPr>
          <a:xfrm>
            <a:off x="2819520" y="1052640"/>
            <a:ext cx="396072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 обработки данных процессор помещает в оперативную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ак прочесть результат из памя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ая прямоугольная выноска 4"/>
          <p:cNvSpPr/>
          <p:nvPr/>
        </p:nvSpPr>
        <p:spPr>
          <a:xfrm>
            <a:off x="3757680" y="3789360"/>
            <a:ext cx="2879640" cy="934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нужны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стройства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nstantia"/>
              </a:rPr>
              <a:t>ТЕМА: Устройства вывода информации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6253200" cy="36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имеет экран, куда выводятся тексты и рисунки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ТЕ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печатает на бумаге тексты и рису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User\Desktop\4.jpeg"/>
          <p:cNvPicPr/>
          <p:nvPr/>
        </p:nvPicPr>
        <p:blipFill>
          <a:blip r:embed="rId1"/>
          <a:stretch/>
        </p:blipFill>
        <p:spPr>
          <a:xfrm>
            <a:off x="539640" y="620640"/>
            <a:ext cx="7632720" cy="568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ая со стрелкой 2" descr=""/>
          <p:cNvPicPr/>
          <p:nvPr/>
        </p:nvPicPr>
        <p:blipFill>
          <a:blip r:embed="rId2"/>
          <a:stretch/>
        </p:blipFill>
        <p:spPr>
          <a:xfrm>
            <a:off x="2189160" y="2627280"/>
            <a:ext cx="1779480" cy="1420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1292400" y="2127240"/>
            <a:ext cx="3584520" cy="27925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ая со стрелкой 7" descr=""/>
          <p:cNvPicPr/>
          <p:nvPr/>
        </p:nvPicPr>
        <p:blipFill>
          <a:blip r:embed="rId4"/>
          <a:stretch/>
        </p:blipFill>
        <p:spPr>
          <a:xfrm>
            <a:off x="5608800" y="2706840"/>
            <a:ext cx="1425240" cy="23526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ая со стрелкой 9" descr=""/>
          <p:cNvPicPr/>
          <p:nvPr/>
        </p:nvPicPr>
        <p:blipFill>
          <a:blip r:embed="rId5"/>
          <a:stretch/>
        </p:blipFill>
        <p:spPr>
          <a:xfrm>
            <a:off x="3986280" y="1981080"/>
            <a:ext cx="31892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817560"/>
            <a:ext cx="80643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ГРА «ТРЕТИЙ  ЛИШНИЙ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1187280" y="1989000"/>
            <a:ext cx="223236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6232680" y="198900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3808440" y="201456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115740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80844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623268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8"/>
          <p:cNvSpPr/>
          <p:nvPr/>
        </p:nvSpPr>
        <p:spPr>
          <a:xfrm>
            <a:off x="3741840" y="4352760"/>
            <a:ext cx="2232000" cy="8654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1322280" y="4361040"/>
            <a:ext cx="2232000" cy="86328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0"/>
          <p:cNvSpPr/>
          <p:nvPr/>
        </p:nvSpPr>
        <p:spPr>
          <a:xfrm>
            <a:off x="6227640" y="4352760"/>
            <a:ext cx="2232000" cy="8654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826920" y="220500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826920" y="342900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826920" y="458136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253200" cy="492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 принтер  выведено предложен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  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У нас есть компьютер!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  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колько ячеек оперативной памяти занимает это предложени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6253200" cy="23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Домашнее задание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с.55, у.6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5840" y="3726000"/>
            <a:ext cx="62323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19:27Z</dcterms:created>
  <dc:creator>User</dc:creator>
  <dc:description/>
  <dc:language>en-US</dc:language>
  <cp:lastModifiedBy>User</cp:lastModifiedBy>
  <dcterms:modified xsi:type="dcterms:W3CDTF">2013-03-27T09:10:08Z</dcterms:modified>
  <cp:revision>13</cp:revision>
  <dc:subject/>
  <dc:title>Отметь жителей Компьютерной Долины, нарушающих</dc:title>
</cp:coreProperties>
</file>