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EFE-2BE1-43EC-B55C-03616A48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3BF-07E5-4C15-828B-730291F2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35D-7B2A-4330-A728-A2B196F7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176-5EF3-4DF6-BA03-AEBD5D0C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0ED1-0AAF-4CCA-81C1-20A864A8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8C69-EDDE-4899-AE12-74981113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695D-EF40-4E60-BAB1-32AF23CA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C94B-717B-4018-B03F-790263CD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AE5A-5007-4B13-9B59-7065505F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3076-3C2E-4F19-A36F-5354C82A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D33F-DE7B-4AE6-BD99-46ECCFC3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35B-3CE4-4681-8CDB-0F61E260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24D5-7EB1-4D68-B684-19255D12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F237-0DCF-4C93-B947-DEDBB9F0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1BA0-B42A-4AE7-8725-EEDBD75A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7F9D-C521-4E6E-8B79-E9260577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72A9-B9E1-4E05-83F1-87F1EF28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015-5038-40F3-B1C6-204387C9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2A0-32D8-4429-A0AE-20B841E2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06B-2B36-4163-BCB0-A1D1B1C9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E67-2376-41D8-BAB9-AA749BD5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1EC-0ACA-4F6D-8F8E-7D819BC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020-717A-45F3-B4DB-6FDB7572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811-303B-4A02-8261-BA6EADB3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FEAC-1428-4119-9223-72FE761764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D814-60C0-4663-9A4C-7562F56EC3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ahoma"/>
              </a:rPr>
              <a:t>Развитие реч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58920" y="292428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Текст. Тема тек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Лексические средства связи 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предложений в текст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628280"/>
            <a:ext cx="8640720" cy="4753080"/>
          </a:xfrm>
          <a:prstGeom prst="rect">
            <a:avLst/>
          </a:prstGeom>
          <a:solidFill>
            <a:srgbClr val="6d6d6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Лексический повто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Вокруг города раскинулись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леса. В лесах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попадались глухие озёра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Текстовые синони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(В лесу мы видели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лося. Сохатый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шёл вдоль опушки и никого не боялся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Антоним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(У природы много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друзей. Недругов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у неё значительно меньше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495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Местоимения</a:t>
            </a: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(Кругом стояли высокие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травы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, и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на них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дрожали крупные водяные шарики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Описательные обороты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(Построили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шоссе.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Шумная, стремительная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 река жизни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соединила область со столицей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105200" y="312840"/>
            <a:ext cx="643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Лексические средства связи 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предложений в текс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ahoma"/>
              </a:rPr>
              <a:t>Типы реч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108000" y="2349360"/>
            <a:ext cx="3384360" cy="151128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овеств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2916360" y="4365720"/>
            <a:ext cx="3600360" cy="151272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опис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580000" y="2492280"/>
            <a:ext cx="3384720" cy="14400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рассуж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2916000" y="981000"/>
            <a:ext cx="1368360" cy="151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4572000" y="98100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4859280" y="981000"/>
            <a:ext cx="1584360" cy="151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419120" y="35496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4773600" y="4917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7790040" y="3500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Повествование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1541520"/>
          </a:xfrm>
          <a:prstGeom prst="rect">
            <a:avLst/>
          </a:prstGeom>
          <a:solidFill>
            <a:srgbClr val="ff1111"/>
          </a:solidFill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каз о каком-либо событии, случа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ездке, пох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327040" y="1557360"/>
            <a:ext cx="45806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Что произошл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-48960" y="4365720"/>
            <a:ext cx="9286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Повествовать – значит рассказы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Описани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075520" cy="1442880"/>
          </a:xfrm>
          <a:prstGeom prst="rect">
            <a:avLst/>
          </a:prstGeom>
          <a:solidFill>
            <a:srgbClr val="644f4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писание внешности человека, игрушки, картины, природы, помещения, одежды, костюма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Америка 2"/>
          <p:cNvPicPr/>
          <p:nvPr/>
        </p:nvPicPr>
        <p:blipFill>
          <a:blip r:embed="rId1"/>
          <a:stretch/>
        </p:blipFill>
        <p:spPr>
          <a:xfrm>
            <a:off x="6372360" y="189000"/>
            <a:ext cx="2555640" cy="1892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3574080" y="1844640"/>
            <a:ext cx="206424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Какой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8" descr="807083"/>
          <p:cNvPicPr/>
          <p:nvPr/>
        </p:nvPicPr>
        <p:blipFill>
          <a:blip r:embed="rId2"/>
          <a:stretch/>
        </p:blipFill>
        <p:spPr>
          <a:xfrm>
            <a:off x="179280" y="189000"/>
            <a:ext cx="2536920" cy="169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Рисунок6"/>
          <p:cNvPicPr/>
          <p:nvPr/>
        </p:nvPicPr>
        <p:blipFill>
          <a:blip r:embed="rId3"/>
          <a:stretch/>
        </p:blipFill>
        <p:spPr>
          <a:xfrm>
            <a:off x="6443640" y="4724280"/>
            <a:ext cx="2565360" cy="1924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7"/>
          <p:cNvPicPr/>
          <p:nvPr/>
        </p:nvPicPr>
        <p:blipFill>
          <a:blip r:embed="rId4"/>
          <a:stretch/>
        </p:blipFill>
        <p:spPr>
          <a:xfrm>
            <a:off x="179280" y="4724280"/>
            <a:ext cx="2521080" cy="1947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Закат 7"/>
          <p:cNvPicPr/>
          <p:nvPr/>
        </p:nvPicPr>
        <p:blipFill>
          <a:blip r:embed="rId5"/>
          <a:stretch/>
        </p:blipFill>
        <p:spPr>
          <a:xfrm>
            <a:off x="3276720" y="4724280"/>
            <a:ext cx="2663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Рассуждение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1584360"/>
          </a:xfrm>
          <a:prstGeom prst="rect">
            <a:avLst/>
          </a:prstGeom>
          <a:solidFill>
            <a:srgbClr val="66392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оказательства, объяснения, аргументы, до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77440" y="1773360"/>
            <a:ext cx="24638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Почем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81400" y="4581360"/>
            <a:ext cx="8303760" cy="642600"/>
          </a:xfrm>
          <a:prstGeom prst="rect">
            <a:avLst/>
          </a:prstGeom>
          <a:solidFill>
            <a:srgbClr val="d50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Рассуждать – значит доказы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5280" y="1916280"/>
            <a:ext cx="7848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ркое слово – пища душе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. Радостные и весёлые мы вернулись домой. Мой друг исколесил полсвета и недавно прилетел из Италии. В школьной столовой сегодня был отменный обе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. В доме у нас жил ручной ёж. Колючки у него были мягкими, и мы прозвали его Пушком. Летом Пушок бегал по садовым дорожкам, а зимой сидел за печкой и ел тёплую смета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2916360" y="333360"/>
            <a:ext cx="3095640" cy="1346040"/>
          </a:xfrm>
          <a:prstGeom prst="downArrowCallout">
            <a:avLst>
              <a:gd name="adj1" fmla="val 57501"/>
              <a:gd name="adj2" fmla="val 57495"/>
              <a:gd name="adj3" fmla="val 16667"/>
              <a:gd name="adj4" fmla="val 66667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3429000"/>
            <a:ext cx="8300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ahoma"/>
              </a:rPr>
              <a:t>Основные средства грамматической связи предложений в текс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ahoma"/>
              </a:rPr>
              <a:t>Порядок предлож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ahoma"/>
              </a:rPr>
              <a:t>Порядок слов в предложен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ahoma"/>
              </a:rPr>
              <a:t>Интонаци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276720" y="333360"/>
            <a:ext cx="23857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Тек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0"/>
          <p:cNvSpPr/>
          <p:nvPr/>
        </p:nvSpPr>
        <p:spPr>
          <a:xfrm>
            <a:off x="1111680" y="1916280"/>
            <a:ext cx="6852960" cy="130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ряд предложений, связанны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по смыслу и</a:t>
            </a: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грамматичес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234000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179280" y="333360"/>
            <a:ext cx="8785440" cy="2158920"/>
          </a:xfrm>
          <a:prstGeom prst="horizontalScroll">
            <a:avLst>
              <a:gd name="adj" fmla="val 12500"/>
            </a:avLst>
          </a:prstGeom>
          <a:solidFill>
            <a:srgbClr val="ffadaa"/>
          </a:solidFill>
          <a:ln w="25560">
            <a:solidFill>
              <a:srgbClr val="bc7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М.Горький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«Прежде чем начать писать, я задаю себе три вопрос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ЧТО хочу написать, КАК написать и ДЛЯ ЧЕГО написат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758760" y="32464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00"/>
                </a:solidFill>
                <a:latin typeface="Tahoma"/>
              </a:rPr>
              <a:t>Тема тек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758760" y="32464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00"/>
                </a:solidFill>
                <a:latin typeface="Tahoma"/>
              </a:rPr>
              <a:t>Тема тек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30120" y="2637000"/>
            <a:ext cx="8642520" cy="2166120"/>
          </a:xfrm>
          <a:prstGeom prst="rect">
            <a:avLst/>
          </a:prstGeom>
          <a:gradFill rotWithShape="0">
            <a:gsLst>
              <a:gs pos="0">
                <a:srgbClr val="da1100"/>
              </a:gs>
              <a:gs pos="100000">
                <a:srgbClr val="ff1700"/>
              </a:gs>
            </a:gsLst>
            <a:lin ang="16200000"/>
          </a:gradFill>
          <a:ln w="9360">
            <a:solidFill>
              <a:srgbClr val="ff2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Тема текста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то, о чём (или о ком) в нём говорит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а текста часто отражается в его заглавии (темы «Снег», «Первый снег», «Каким я видел снег в лесу»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изкие, но разные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" name="Text Box 14"/>
          <p:cNvGrpSpPr/>
          <p:nvPr/>
        </p:nvGrpSpPr>
        <p:grpSpPr>
          <a:xfrm>
            <a:off x="324000" y="4827600"/>
            <a:ext cx="8216640" cy="1828800"/>
            <a:chOff x="324000" y="4827600"/>
            <a:chExt cx="8216640" cy="1828800"/>
          </a:xfrm>
        </p:grpSpPr>
        <p:pic>
          <p:nvPicPr>
            <p:cNvPr id="105" name="Text Box 14" descr=""/>
            <p:cNvPicPr/>
            <p:nvPr/>
          </p:nvPicPr>
          <p:blipFill>
            <a:blip r:embed="rId1"/>
            <a:stretch/>
          </p:blipFill>
          <p:spPr>
            <a:xfrm>
              <a:off x="324000" y="4827600"/>
              <a:ext cx="8216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66840" y="4941720"/>
              <a:ext cx="813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cc66"/>
                  </a:solidFill>
                  <a:latin typeface="Tahoma"/>
                </a:rPr>
                <a:t>Основная мысль текста –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это то, к чему он призывает, чему учит, ради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чего он написан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115920"/>
            <a:ext cx="360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Упражнения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Детство начинается с любви к матери. Это самое святое чувство. Если в твоей душе нет его, значит, когда ты станешь взрослым, не будет у тебя ни любви к другу, ни любви к Родине. Всё будет для тебя безразличным, кроме собственного покоя и удобства.                                                                             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(С.Михалк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-38880" y="1085760"/>
            <a:ext cx="93110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рочитайте текст. Найдите слов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торыми можно выразить основную мыс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к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2. Прочитайте заглавия журнальных заметок. Подумайте, какие из них отражают тему, какие – основную мысль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нкурс юных пиани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порт учит мужест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ы на выставку идё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Бросьте, мальчики, рогатк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Улетели птицы за мор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жалейте рябину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вязь предложений в текст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281916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Цепна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11280" y="2133720"/>
            <a:ext cx="172872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492360" y="2133720"/>
            <a:ext cx="172728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443640" y="2133720"/>
            <a:ext cx="172872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340000" y="24940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1835280" y="2494080"/>
            <a:ext cx="1657080" cy="341280"/>
          </a:xfrm>
          <a:prstGeom prst="leftArrow">
            <a:avLst>
              <a:gd name="adj1" fmla="val 50000"/>
              <a:gd name="adj2" fmla="val 1213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4716360" y="2494080"/>
            <a:ext cx="1727280" cy="341280"/>
          </a:xfrm>
          <a:prstGeom prst="leftArrow">
            <a:avLst>
              <a:gd name="adj1" fmla="val 50000"/>
              <a:gd name="adj2" fmla="val 12653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5292720" y="24940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8172360" y="2421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395280" y="3716280"/>
            <a:ext cx="8532720" cy="308016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Дворец Трёх Толстяков стоял посреди огромног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арк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арк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был окружён глубоким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аналам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ад</a:t>
            </a:r>
            <a:r>
              <a:rPr b="1" i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аналам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висели чёрные железные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мосты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Мосты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охранялись дворцовой стражей – гвардейцами в чёрных клеёнчатых шляпах с жёлтыми перьями. (Ю.Олеш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1267920" y="24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вязь предложений в текст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42591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араллельна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492360" y="1844640"/>
            <a:ext cx="251964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042920" y="3355920"/>
            <a:ext cx="194472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08360" y="3355920"/>
            <a:ext cx="216072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588000" y="3355920"/>
            <a:ext cx="201636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4572000" y="2635200"/>
            <a:ext cx="431640" cy="792360"/>
          </a:xfrm>
          <a:prstGeom prst="upArrow">
            <a:avLst>
              <a:gd name="adj1" fmla="val 50000"/>
              <a:gd name="adj2" fmla="val 458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10"/>
          <p:cNvSpPr/>
          <p:nvPr/>
        </p:nvSpPr>
        <p:spPr>
          <a:xfrm rot="2742000">
            <a:off x="3078720" y="2559600"/>
            <a:ext cx="412920" cy="976320"/>
          </a:xfrm>
          <a:prstGeom prst="upArrow">
            <a:avLst>
              <a:gd name="adj1" fmla="val 50000"/>
              <a:gd name="adj2" fmla="val 5911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11"/>
          <p:cNvSpPr/>
          <p:nvPr/>
        </p:nvSpPr>
        <p:spPr>
          <a:xfrm rot="18763200">
            <a:off x="6077520" y="2570400"/>
            <a:ext cx="412920" cy="976320"/>
          </a:xfrm>
          <a:prstGeom prst="upArrow">
            <a:avLst>
              <a:gd name="adj1" fmla="val 50000"/>
              <a:gd name="adj2" fmla="val 5911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987640" y="364500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867280" y="3645000"/>
            <a:ext cx="3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156360" y="213192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042920" y="4941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-108000" y="4508640"/>
            <a:ext cx="9144000" cy="21661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ahoma"/>
              </a:rPr>
              <a:t>Весна в лес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достна, шумна и пахуча весна в лесу.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Звонко поют птицы. Звенят под деревьями весенние ручейки. Смолой пахнут набухшие почки.</a:t>
            </a:r>
            <a:r>
              <a:rPr b="0" i="1" lang="ru-RU" sz="2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Tahoma"/>
              </a:rPr>
              <a:t>(И. Соколов-Микитов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8675640" y="371628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1:28:50Z</dcterms:created>
  <dc:creator>Лена</dc:creator>
  <dc:description/>
  <dc:language>en-US</dc:language>
  <cp:lastModifiedBy>tyagn</cp:lastModifiedBy>
  <dcterms:modified xsi:type="dcterms:W3CDTF">2022-10-02T15:32:02Z</dcterms:modified>
  <cp:revision>19</cp:revision>
  <dc:subject/>
  <dc:title>Развитие речи</dc:title>
</cp:coreProperties>
</file>