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5A8E-DFB3-4052-8A11-3D7E04044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9E4A-8A07-4B62-A9A4-BFE4A826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8030-400F-415C-ACCF-BCB00B515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D00A-314A-4D80-B266-E21E45E66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D8A6-D883-4F44-A90D-131AC0869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6971-9F3E-48D4-AEDD-AAE9BB7C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ABA2-6897-4C03-9381-7551475E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2D72-EC5B-4240-ACF7-BA362A46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F678-DD83-4A62-B514-FF8C5FF3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6FED-3BC9-4B23-9433-440CFA0F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B940-4080-43E1-A339-92F44B4A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F774-0BD0-4D37-B840-A3467E1A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AB31-AB88-401B-878E-22798E40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F71C-0D6F-4260-877A-476DDF30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9CEB-F1C6-4D20-AC68-DCEEC518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76DF-911C-4036-A150-47043F429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E445-5836-423E-9391-2D2C01254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F995-7D95-4113-A1DF-074D7B6E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1AFB-9ED3-4320-95FA-ABCDFB20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EDD8-9B5C-446A-A060-1DBB69D4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1471-9159-4249-840A-5B777346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929B-F43C-4927-A251-D2E5F498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6459-959E-4AC6-839F-A9719C51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15CA-4E29-4AE5-A08B-77B15DDE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54BA-3CD6-44FC-A110-88A6099B204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8ED2-D2E7-48D0-87BD-F568C0E46F8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Развивающее обучение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140360" y="5981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Выполнила: Будагова Диан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39640" y="3789360"/>
            <a:ext cx="388944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Развивающее обучение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это ориентация учебного процесса на потенциальные возможности человека и на их реакцию. Целью данного вида обучения является подготовка учащихся к самостоятельному освоению знаний, поиску истины, а также к независимости в повседневной жизни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4360" y="836640"/>
            <a:ext cx="769608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Структура развивающего обучения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едставляет собой цепь усложняющихся предметных задач, которые вызывают у учащегося потребность в овладении специальными знаниями и навыками, в создании новой схемы решения, новых способов действия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 первый план выступает не только актуализация ранее усвоенных знаний и способов действия, но и выдвижение гипотез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процессе «добывания» знаний и создания новых способов выполнения действия ученик получает конкретный результат виде новых фактов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Таким образом, уже в самом процессе обучения ученик поднимается на новые ступени интеллектуального и личностного развития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Основная задача педагог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в процессе развивающего обучения – организация учебной деятельности, направленной на формирование познавательной самостоятельности, развитие и формирование способностей, активной жизненной позиции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364000" y="4365720"/>
            <a:ext cx="316872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Центральное технологическое звено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развивающего обучения – это самостоятельная учебно-познавательная деятельность ребенка, основанная на способности ребенка регулировать в ходе обучения свои действия в соответствии с осознаваемой целью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Суть развивающего обучения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в том, чтобы ученик не только усваивал конкретные знания и навыки, но и овладевал способами действий, обучался конструировать и управлять своей учебной деятельностью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440" y="260280"/>
            <a:ext cx="81342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Принципы развивающего обучен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учета ведущих видов деятельности и законов их смены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учета сензитивных периодов развития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определения зоны ближайшего развития и организации в ней совместной деятельности детей и взрослых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амплификации (обогащения, усиления, углубления) детского развития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проектирования, конструирования и создания ситуации образовательной деятельности; - принцип обязательной результативности каждого вида деятельност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высокой мотивированности любых видов деятельност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обязательной рефлексивности всякой деятельност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нравственного обогащения используемых в качестве средства видов деятельности; - принцип сотрудничества при организации и управлении различными формами 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549360"/>
            <a:ext cx="769608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Развивающее обуче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Предмет развития – одна из сфер психики ребен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Ребенок субъект одной из сфер развития психики (например интеллектуальной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Ребенок должен усвоить и достичь определенного уровня знаний, умений, навык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Субъектно-субъектные отнош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Закономерности развития ребенка основа построения образовательного процесса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19T16:02:57Z</dcterms:created>
  <dc:creator>Пользователь Windows</dc:creator>
  <dc:description/>
  <dc:language>en-US</dc:language>
  <cp:lastModifiedBy>Пользователь Windows</cp:lastModifiedBy>
  <dcterms:modified xsi:type="dcterms:W3CDTF">2019-04-19T16:10:49Z</dcterms:modified>
  <cp:revision>1</cp:revision>
  <dc:subject/>
  <dc:title>Развивающее обучение</dc:title>
</cp:coreProperties>
</file>