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0F69-F18E-41E4-B823-665F404F8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23A-64E1-48F0-99CE-521A1AF7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664-943D-4513-9F34-F4BD5F33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C5E-4129-4F22-85DE-BF4967BC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A88-33B0-49BC-B6C3-BE8D6B52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E563-436F-44C0-BBD4-077FBBF7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E05B-512A-4AAB-8043-E24119D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FC36-24E3-4378-8030-1E8A5C3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AB48-3944-4312-8F88-DF88FBE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4918-7195-49EE-9C5C-136F3430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7BB6-7DE1-4910-B87B-FB287AC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112-FDD8-4A13-BD16-B262F5D5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0C4B-DC63-4AB6-B478-4CCDF17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FD1-A8DB-4CAA-A4D3-14EFE941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3FBA-0314-4D9F-B7FF-FC51C0A3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1ED4-C9E7-4E18-B6E5-56375C1F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AF2D-E8A4-49F8-B24D-9D8D69B5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BA2-BD7A-4E13-86AE-70A788D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7B8-7741-49CD-ACBD-D534BBE5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E26-B611-4AB2-B892-7A42C7C1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1B9-3F14-4829-92E4-BCE1833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3C5-286F-4850-B76B-A6ABA919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A2A-722C-4855-91BD-3278EB89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0D4-85CC-461B-9D2B-FB7C15D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6AAA-2FA7-4FC6-8455-BB5CD98B5A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F294-359E-4B77-9B0B-D019BF6CAD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Развивающее обучение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140360" y="598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Выполнила: Будагова Диа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789360"/>
            <a:ext cx="3889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вивающее обучени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это ориентация учебного процесса на потенциальные возможности человека и на их реакцию. Целью данного вида обучения является подготовка учащихся к самостоятельному освоению знаний, поиску истины, а также к независимости в повседневной жизн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46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труктура развивающего обуче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дставляет собой цепь усложняющихся предметных задач, которые вызывают у учащегося потребность в овладении специальными знаниями и навыками, в создании новой схемы решения, новых способов действ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 первый план выступает не только актуализация ранее усвоенных знаний и способов действия, но и выдвижение гипотез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роцессе «добывания» знаний и создания новых способов выполнения действия ученик получает конкретный результат виде новых факт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Таким образом, уже в самом процессе обучения ученик поднимается на новые ступени интеллектуального и личностного развит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Основная задача педагог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 процессе развивающего обучения – организация учебной деятельности, направленной на формирование познавательной самостоятельности, развитие и формирование способностей, активной жизненной позиц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64000" y="4365720"/>
            <a:ext cx="3168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Центральное технологическое звен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звивающего обучения – это самостоятельная учебно-познавательная деятельность ребенка, основанная на способности ребенка регулировать в ходе обучения свои действия в соответствии с осознаваемой цель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Суть развивающего обучения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в том, чтобы ученик не только усваивал конкретные знания и навыки, но и овладевал способами действий, обучался конструировать и управлять своей учебной деятельностью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260280"/>
            <a:ext cx="81342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ринципы развивающего обуч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учета ведущих видов деятельности и законов их смены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учета сензитивных периодов разви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определения зоны ближайшего развития и организации в ней совместной деятельности детей и взрослых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амплификации (обогащения, усиления, углубления) детского развит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проектирования, конструирования и создания ситуации образовательной деятельности; - принцип обязательной результативности каждого вида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высокой мотивированности любых видов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обязательной рефлексивности всякой деятель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нравственного обогащения используемых в качестве средства видов деятельности; - принцип сотрудничества при организации и управлении различными формами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549360"/>
            <a:ext cx="7696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Развивающее обуч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Предмет развития – одна из сфер психики ребен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Ребенок субъект одной из сфер развития психики (например интеллектуально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Ребенок должен усвоить и достичь определенного уровня знаний, умений, навыков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Субъектно-субъектные отнош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Закономерности развития ребенка основа построения образовательного процесса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9T16:02:57Z</dcterms:created>
  <dc:creator>Пользователь Windows</dc:creator>
  <dc:description/>
  <dc:language>en-US</dc:language>
  <cp:lastModifiedBy>Пользователь Windows</cp:lastModifiedBy>
  <dcterms:modified xsi:type="dcterms:W3CDTF">2019-04-19T16:10:49Z</dcterms:modified>
  <cp:revision>1</cp:revision>
  <dc:subject/>
  <dc:title>Развивающее обучение</dc:title>
</cp:coreProperties>
</file>