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CCA1-1390-42E2-89FF-F3D9C0907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803-4026-43C6-B754-0AFA4C23F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363-B461-46A5-872A-3A3C0E54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799-D6A7-46FA-B9D9-60C2CC6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5F-9483-4303-B6FE-DB3395AA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345-6914-477E-AD51-1A76CE98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F20-10B9-404D-8EE9-65E0CA2A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2B9-2F74-4EE2-AAFD-EDF12D49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680-06DD-435B-ABB8-1585F6A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D10-DBD8-4287-BE85-E18DB9D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033-79AC-4A54-9CA3-AC2D60B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078-500D-4F58-954E-440F679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C5D-D7A0-485A-ABD5-3EE9819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146-CE11-4721-A882-C2B7D8F3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221-6093-4AD1-8F2D-F2BABE6CA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250920" y="765000"/>
            <a:ext cx="5616360" cy="585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ОПРОСЫ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ДАПТАЦИИ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ЕРВОКЛАССНИКОВ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  ОБРАЗОВАТЕЛЬНОМ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РЕЖДЕНИИ  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7" descr="PE03254_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32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9"/>
          <p:cNvPicPr/>
          <p:nvPr/>
        </p:nvPicPr>
        <p:blipFill>
          <a:blip r:embed="rId3"/>
          <a:stretch/>
        </p:blipFill>
        <p:spPr>
          <a:xfrm>
            <a:off x="7885080" y="270828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7"/>
          <p:cNvPicPr/>
          <p:nvPr/>
        </p:nvPicPr>
        <p:blipFill>
          <a:blip r:embed="rId4"/>
          <a:stretch/>
        </p:blipFill>
        <p:spPr>
          <a:xfrm rot="867600">
            <a:off x="5651640" y="9075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9"/>
          <p:cNvPicPr/>
          <p:nvPr/>
        </p:nvPicPr>
        <p:blipFill>
          <a:blip r:embed="rId5"/>
          <a:stretch/>
        </p:blipFill>
        <p:spPr>
          <a:xfrm>
            <a:off x="684360" y="189000"/>
            <a:ext cx="83808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вышенная тревожность, страх не соответствовать ожиданиям  окружающи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жалобы на те или иные события, связанные со школ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стремление при  разговоре  отвлечь  родителей от школьных событий, переключить внимание на другие 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Кризисные пери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первые 4-6 нед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сентябрь,октябрь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декабря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неделя после каникул в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январе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середина </a:t>
            </a:r>
            <a:r>
              <a:rPr b="1" lang="ru-RU" sz="3600" spc="-1" strike="noStrike">
                <a:solidFill>
                  <a:srgbClr val="333399"/>
                </a:solidFill>
                <a:latin typeface="Arial Black"/>
              </a:rPr>
              <a:t>м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(особенно пос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                     </a:t>
            </a:r>
            <a:r>
              <a:rPr b="1" lang="ru-RU" sz="3600" spc="-1" strike="noStrike">
                <a:solidFill>
                  <a:srgbClr val="008080"/>
                </a:solidFill>
                <a:latin typeface="Arial Black"/>
              </a:rPr>
              <a:t>канику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ib12"/>
          <p:cNvPicPr/>
          <p:nvPr/>
        </p:nvPicPr>
        <p:blipFill>
          <a:blip r:embed="rId1"/>
          <a:stretch/>
        </p:blipFill>
        <p:spPr>
          <a:xfrm>
            <a:off x="6500880" y="4325760"/>
            <a:ext cx="26431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спешность адаптации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насколько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тепень самостоятельности при выполнении учебны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довлетворенность межличностными отношениями - с одноклассниками и уч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блюдение школьных 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умение ориентироваться в  н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tomorrow"/>
          <p:cNvPicPr/>
          <p:nvPr/>
        </p:nvPicPr>
        <p:blipFill>
          <a:blip r:embed="rId1"/>
          <a:stretch/>
        </p:blipFill>
        <p:spPr>
          <a:xfrm>
            <a:off x="7935840" y="4932360"/>
            <a:ext cx="1208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ЕЛАЮ  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3" descr="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ОСТУПЛЕНИЕ  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        В   ПЕРВЫЙ КЛАС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2857320"/>
            <a:ext cx="8061480" cy="25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АЖ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В ЖИЗН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              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boy11"/>
          <p:cNvPicPr/>
          <p:nvPr/>
        </p:nvPicPr>
        <p:blipFill>
          <a:blip r:embed="rId1"/>
          <a:stretch/>
        </p:blipFill>
        <p:spPr>
          <a:xfrm>
            <a:off x="0" y="5105520"/>
            <a:ext cx="1490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приспособлен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социальным услов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новым отношен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требова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видам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к режиму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Виды адап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изи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взаимодействие различных систем организ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биологическая</a:t>
            </a: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изменение в обмене веществ и функциях орган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сихологическая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испособление человека к условиям, задачам на уровне психических процессов, свойств, состоя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оциально-психологическа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риспособление к взаимоотношениям в новом коллективе, усвоение норм и ценностей образовательного пространст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Школьная  адап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приспособление ребенка к успеш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функционированию в   данной сре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(новым социальным условиям, новым отношениям, требованиям,  видам деятельности, режиму жизнедеятель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способность к дальнейшему 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(психологическому, личностному, социально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D13730_"/>
          <p:cNvPicPr/>
          <p:nvPr/>
        </p:nvPicPr>
        <p:blipFill>
          <a:blip r:embed="rId1"/>
          <a:stretch/>
        </p:blipFill>
        <p:spPr>
          <a:xfrm>
            <a:off x="7667640" y="54435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активно формируется главное новообразование – внутренняя позиция школь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нимание непроизвольное, необходима частая смена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амять непроизвольна, начинает развиваться способность к произвольному запомина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преобладает образное мышление (требует наглядность), начинает развиваться абстрактн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D13730_"/>
          <p:cNvPicPr/>
          <p:nvPr/>
        </p:nvPicPr>
        <p:blipFill>
          <a:blip r:embed="rId1"/>
          <a:stretch/>
        </p:blipFill>
        <p:spPr>
          <a:xfrm>
            <a:off x="7885080" y="486900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Особенности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0200" y="1412640"/>
            <a:ext cx="846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 стадии формирования находится способность к произвольному повед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едущая деятельность меняется с ролевой игры на учеб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важна роль взрослого, сложно регламентировать сво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учительская фигура становится более значи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 Black"/>
              </a:rPr>
              <a:t>кризис 7 лет – появление манерности, демонстративности, натянутости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D13730_"/>
          <p:cNvPicPr/>
          <p:nvPr/>
        </p:nvPicPr>
        <p:blipFill>
          <a:blip r:embed="rId1"/>
          <a:stretch/>
        </p:blipFill>
        <p:spPr>
          <a:xfrm>
            <a:off x="7812000" y="55897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786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усталый, утомленный вид ребен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беспокойный ночной со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трудности утреннего пробуждения, вял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постоянные жалобы на плохое самочувств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dddddd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Признаки 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выполнять домашнее зад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гативные характеристики в адрес школы, учителей, однокласс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нежелание делиться впечатлениями о проведенном д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51:20Z</dcterms:created>
  <dc:creator>aleksei</dc:creator>
  <dc:description/>
  <dc:language>en-US</dc:language>
  <cp:lastModifiedBy>Admin</cp:lastModifiedBy>
  <dcterms:modified xsi:type="dcterms:W3CDTF">2023-02-01T15:16:33Z</dcterms:modified>
  <cp:revision>20</cp:revision>
  <dc:subject/>
  <dc:title>Слайд 1</dc:title>
</cp:coreProperties>
</file>