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8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C2E3-F2ED-4B6F-B8AD-A3F203567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53B4-8F49-47D8-903A-D912091AB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744-29FF-4B58-AF2E-6C252D10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030-767B-446F-BE3F-45234F87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069-5829-4EE4-AF41-EC518E4F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16B-1D25-47C1-82BB-19DFE5F5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D45-C51E-41BF-8A96-FBACBFD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61A-A8C9-47A2-B6EF-D107CCB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9D9-A147-4CC7-86BE-BEFC8F5F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746-0885-4991-ABA7-226C74DC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54B-49D5-4A00-BC6E-B083D81C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951-FE95-4864-A125-9BDAABB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F22-3270-4F80-8458-A0DC2BAC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71E-A76C-4E68-9FBE-B5BA0F4A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D7AB-925D-4156-B1D4-AE87BC2F0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250920" y="765000"/>
            <a:ext cx="5616360" cy="585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ОПРОСЫ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АДАПТАЦИИ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ЕРВОКЛАССНИКОВ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  ОБРАЗОВАТЕЛЬНОМ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РЕЖДЕНИИ  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7" descr="PE03254_"/>
          <p:cNvPicPr/>
          <p:nvPr/>
        </p:nvPicPr>
        <p:blipFill>
          <a:blip r:embed="rId2"/>
          <a:stretch/>
        </p:blipFill>
        <p:spPr>
          <a:xfrm>
            <a:off x="5508720" y="3429000"/>
            <a:ext cx="3635280" cy="32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09"/>
          <p:cNvPicPr/>
          <p:nvPr/>
        </p:nvPicPr>
        <p:blipFill>
          <a:blip r:embed="rId3"/>
          <a:stretch/>
        </p:blipFill>
        <p:spPr>
          <a:xfrm>
            <a:off x="7885080" y="270828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07"/>
          <p:cNvPicPr/>
          <p:nvPr/>
        </p:nvPicPr>
        <p:blipFill>
          <a:blip r:embed="rId4"/>
          <a:stretch/>
        </p:blipFill>
        <p:spPr>
          <a:xfrm rot="867600">
            <a:off x="5651640" y="90756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9"/>
          <p:cNvPicPr/>
          <p:nvPr/>
        </p:nvPicPr>
        <p:blipFill>
          <a:blip r:embed="rId5"/>
          <a:stretch/>
        </p:blipFill>
        <p:spPr>
          <a:xfrm>
            <a:off x="684360" y="189000"/>
            <a:ext cx="8380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повышенная тревожность, страх не соответствовать ожиданиям  окружающи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жалобы на те или иные события, связанные со школ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стремление при  разговоре  отвлечь  родителей от школьных событий, переключить внимание на другие 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Кризисные пери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первые 4-6 нед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(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сентябрь,октябрь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середина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декабря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неделя после каникул в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январе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середина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м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(особенно пос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                    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канику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fib12"/>
          <p:cNvPicPr/>
          <p:nvPr/>
        </p:nvPicPr>
        <p:blipFill>
          <a:blip r:embed="rId1"/>
          <a:stretch/>
        </p:blipFill>
        <p:spPr>
          <a:xfrm>
            <a:off x="6500880" y="4325760"/>
            <a:ext cx="26431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Успешность адаптации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довлетворенность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насколько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тепень самостоятельности при выполнении учебных зад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довлетворенность межличностными отношениями - с одноклассниками и учите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облюдение школьных прав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мение ориентироваться в  н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tomorrow"/>
          <p:cNvPicPr/>
          <p:nvPr/>
        </p:nvPicPr>
        <p:blipFill>
          <a:blip r:embed="rId1"/>
          <a:stretch/>
        </p:blipFill>
        <p:spPr>
          <a:xfrm>
            <a:off x="7935840" y="4932360"/>
            <a:ext cx="12081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ЕЛАЮ  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0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ОСТУПЛЕНИЕ 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        В   ПЕРВЫЙ КЛАСС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2857320"/>
            <a:ext cx="806148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ВАЖ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В ЖИЗНИ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              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boy11"/>
          <p:cNvPicPr/>
          <p:nvPr/>
        </p:nvPicPr>
        <p:blipFill>
          <a:blip r:embed="rId1"/>
          <a:stretch/>
        </p:blipFill>
        <p:spPr>
          <a:xfrm>
            <a:off x="0" y="5105520"/>
            <a:ext cx="1490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Школьная 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приспособление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новым социальным услов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новым отношен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требовани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видам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режиму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D13730_"/>
          <p:cNvPicPr/>
          <p:nvPr/>
        </p:nvPicPr>
        <p:blipFill>
          <a:blip r:embed="rId1"/>
          <a:stretch/>
        </p:blipFill>
        <p:spPr>
          <a:xfrm>
            <a:off x="7667640" y="54435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Виды адапт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физиологическая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взаимодействие различных систем организм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биологическая</a:t>
            </a: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изменение в обмене веществ и функциях орган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психологическая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испособление человека к условиям, задачам на уровне психических процессов, свойств, состоя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оциально-психологическа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риспособление к взаимоотношениям в новом коллективе, усвоение норм и ценностей образовательного пространст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D13730_"/>
          <p:cNvPicPr/>
          <p:nvPr/>
        </p:nvPicPr>
        <p:blipFill>
          <a:blip r:embed="rId1"/>
          <a:stretch/>
        </p:blipFill>
        <p:spPr>
          <a:xfrm>
            <a:off x="7812000" y="55897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Школьная 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приспособление ребенка к успеш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функционированию в   данной сре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(новым социальным условиям, новым отношениям, требованиям,  видам деятельности, режиму жизнедеятель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пособность к дальнейшему 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(психологическому, личностному, социально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D13730_"/>
          <p:cNvPicPr/>
          <p:nvPr/>
        </p:nvPicPr>
        <p:blipFill>
          <a:blip r:embed="rId1"/>
          <a:stretch/>
        </p:blipFill>
        <p:spPr>
          <a:xfrm>
            <a:off x="7667640" y="54435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Особенности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0200" y="1412640"/>
            <a:ext cx="846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активно формируется главное новообразование – внутренняя позиция школь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нимание непроизвольное, необходима частая смена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память непроизвольна, начинает развиваться способность к произвольному запомина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преобладает образное мышление (требует наглядность), начинает развиваться абстрактное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D13730_"/>
          <p:cNvPicPr/>
          <p:nvPr/>
        </p:nvPicPr>
        <p:blipFill>
          <a:blip r:embed="rId1"/>
          <a:stretch/>
        </p:blipFill>
        <p:spPr>
          <a:xfrm>
            <a:off x="7885080" y="486900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Особенности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0200" y="1412640"/>
            <a:ext cx="846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 стадии формирования находится способность к произвольному повед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едущая деятельность меняется с ролевой игры на учеб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ажна роль взрослого, сложно регламентировать сво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учительская фигура становится более значи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кризис 7 лет – появление манерности, демонстративности, натянутости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D13730_"/>
          <p:cNvPicPr/>
          <p:nvPr/>
        </p:nvPicPr>
        <p:blipFill>
          <a:blip r:embed="rId1"/>
          <a:stretch/>
        </p:blipFill>
        <p:spPr>
          <a:xfrm>
            <a:off x="7812000" y="55897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786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усталый, утомленный вид ребен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беспокойный ночной со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трудности утреннего пробуждения, вял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постоянные жалобы на плохое самочувств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желание выполнять домашнее зада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гативные характеристики в адрес школы, учителей, одноклассник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желание делиться впечатлениями о проведенном д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3:51:20Z</dcterms:created>
  <dc:creator>aleksei</dc:creator>
  <dc:description/>
  <dc:language>en-US</dc:language>
  <cp:lastModifiedBy>Admin</cp:lastModifiedBy>
  <dcterms:modified xsi:type="dcterms:W3CDTF">2023-02-01T15:16:33Z</dcterms:modified>
  <cp:revision>20</cp:revision>
  <dc:subject/>
  <dc:title>Слайд 1</dc:title>
</cp:coreProperties>
</file>