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0A9F-AF0F-4AA1-91BC-35E78B37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0C3E-262F-4B8D-B9D3-8D7DD78B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24ED-52C4-4CBC-BF99-C46A89B6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CC26-8E23-4474-8324-F94DBB42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E222-9332-4588-A491-45A74730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BFE5-3F43-45BC-BE2A-60AD97DD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8655-159B-4FD5-BD9C-A3F10357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1048-4B76-4493-B7C7-5E223561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EFA4-D11B-41BE-A46A-BB543706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2119-C485-48FB-8E70-5A9617D6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AE1C-D93E-4F38-8213-EDDEF6B0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921A-3E95-4BF9-9774-EFB606FB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3650-54EC-407B-B469-64D6D432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8728-9C0C-458D-A831-9B779E12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C23E-2351-4458-9203-D2188432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D053-7D79-4257-997D-600D7C8A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F9A2-8D0E-48FA-B946-234EA388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C3A73-5948-4427-A57E-45E04A29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D2FC6-80D9-4EE8-BECA-8DF1FB04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92D47-5659-4C21-A5BA-1AEE7191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59797-DF54-4D61-8350-EEB7E43A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138D9-F595-47D0-B438-08BCB5DF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AB0-502C-4671-9C0D-BEC8C8B4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9E27F-F0FA-4D5A-B2BA-E6A2A4A3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37351-637A-42EE-8BD4-A30C6C7E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F5896-BE6D-4F9B-9A93-1FC0C4FA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F0DC8-442A-485F-A190-74590ABF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9D029-BEFC-4B91-808B-4EB3FD87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364A2-8086-4C0A-B796-F5BEC4C0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94124-C6BA-40C8-ADF7-3DF609B5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08129-EAE1-4FD9-A777-E841C099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19A47-BCD3-4B52-8470-F1C413EA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72158-5B59-41BC-9DFD-CB42B1D9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7A83-D1B5-41E4-B7F2-C3F0E1DB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30F55-DEA2-4360-8E40-37A9C094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4017D-EDC9-4E53-BD82-ECB8E1AC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7DFDB-949F-47D7-B441-57BDC014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478FC-DF56-4E1F-818C-4BAFCC8A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22121-6AC5-4CAA-B401-4EEE7E90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DC39B-F6FE-4236-991B-451F27CA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0EDBC-A927-4D8A-AD94-6B1DA5A2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3E36C-7C51-4701-93FC-3EC89BF3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9A5D9-ADCF-41C8-AA54-76D9E33F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26E-056F-4E8E-858B-D77C3F05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9D99-2C5D-40AE-B32D-A70D7D97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46A1-72D1-417F-917D-51405399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40B-3BB8-4AE6-9158-DA06D6F6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822-D78D-4E1C-A373-2AA412B9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6F21-6E19-4DA5-89C5-468CAE64E7D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74D7-A018-4872-ACA1-E7685506264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452B-50BE-4FE6-9112-9E7290B8CA4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1590-B51E-4639-8771-DEE8C24C1FA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4" descr="YUk6CwweoEs.jpg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959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142560" y="1285920"/>
            <a:ext cx="8543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e23dd"/>
                </a:solidFill>
                <a:latin typeface="Franklin Gothic Book"/>
              </a:rPr>
              <a:t>Адаптация 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e23dd"/>
                </a:solidFill>
                <a:latin typeface="Franklin Gothic Book"/>
              </a:rPr>
              <a:t>студентов-первокурсников в 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e23dd"/>
                </a:solidFill>
                <a:latin typeface="Franklin Gothic Book"/>
              </a:rPr>
              <a:t>образовательном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e23dd"/>
                </a:solidFill>
                <a:latin typeface="Franklin Gothic Book"/>
              </a:rPr>
              <a:t>пространстве колледжа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Выполнила: куратор гр.КС-13-20 Сысоева Елена Михайловна АК СИБГ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Franklin Gothic Book"/>
              </a:rPr>
              <a:t>Разработка родительского собрания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285840" y="878760"/>
            <a:ext cx="8501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редний уровень адап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удент положительно относится к колледжу, посещение не вызывает отрицательных пережив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понимает учебный материал, если преподаватель излагает его подробно и нагляд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ваивает основное содержание учебных программ, самостоятельно решает типовые зада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сосредоточен и внимателен при выполнении заданий, поручений, указаний старших, но, при его контро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бывает сосредоточен только тогда, когда занят чем-то для него интерес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почти всегда выполняет домашние зад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общественные поручения выполняет добросовест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дружит со многими одногрупп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357120" y="649440"/>
            <a:ext cx="8429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изкий уровень адап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студент равнодушно или отрицательно относится к колледж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 нередки жалобы на здоров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обладает подавленное настро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блюдаются нарушения дисципл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учебный материал усваивается фрагментар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затруднена самостоятельная работа, нет интереса к ее выполн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домашние задания выполняет нерегулярно, необходим постоянный контро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общественные поручения выполняет под контролем, без особого желания, пассив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близких друзей не имеет, знает по именам и фамилиям лишь часть одногрупп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285840" y="545400"/>
            <a:ext cx="86439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екомендации преподавателям по адаптации первокурс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ых занятиях ознакомить с системой обучения в колледже и требованиями к зна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беседу о правильном слушании л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студентов правильно работать с книгой, методическими пособ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ть индивидуальный подход к студенту при опросе с учетом психологических и возрастных особ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ректировать количество домашнего задания и письменных работ по требованиям програм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способы воздействия на мотивационную сферу студента: проблемное обучение, приемы активизации, общение, разнообразные педагогические технологии, компьютерное обу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менее стрессогенный опрос: письменный, текстовый или групп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лять внимание беседам о нравственности, самовоспитании, об организации режима дня, профилактике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чески предупреждать повышение тревожности у студ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 такие формы и методы обучения, которые позволили бы студентам эффективно общаться с целью скорейшей адап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214200" y="746640"/>
            <a:ext cx="864396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бая роль в адаптации первокурсников принадлежит родителям. Основная задача родителей заключается в том, чтобы помочь студентам нового набора органично вписаться в  образовательный процесс, сохранив при этом целостность и уникальность личности, способной к самореализации, самоконтролю, самопозн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C:\Users\Максим\Desktop\подростковый возраст2.jpg"/>
          <p:cNvPicPr/>
          <p:nvPr/>
        </p:nvPicPr>
        <p:blipFill>
          <a:blip r:embed="rId1"/>
          <a:stretch/>
        </p:blipFill>
        <p:spPr>
          <a:xfrm>
            <a:off x="1000080" y="3357720"/>
            <a:ext cx="3571920" cy="271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Users\Максим\Desktop\parents-and-teens_big.jpg"/>
          <p:cNvPicPr/>
          <p:nvPr/>
        </p:nvPicPr>
        <p:blipFill>
          <a:blip r:embed="rId2"/>
          <a:stretch/>
        </p:blipFill>
        <p:spPr>
          <a:xfrm>
            <a:off x="4643280" y="3357720"/>
            <a:ext cx="38577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428760" y="740520"/>
            <a:ext cx="842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еты родителям на каждый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ворить сыну (дочери): «Людям должно быть с тобой легко» - не бойтесь повторять э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расставайтесь с ребенком в ссоре, сначала помиритесь, а потом идите по своим дел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райтесь, чтобы ребенок был привязан к дому; возвращаясь, домой, не забывайте сказать: « А все – таки, как хорошо у нас дом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шайте ребенку давно известную формулу психического здоровья: «Ты хорош, но не лучше други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порах с сыном или дочерью хоть иногда уступайте, чтобы им не казалось,  будто они вечно неправы. Этим вы и детей научите уступать, признавать ошибки и по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у вас есть возможность дойти до колледжа вместе с ребенком, не упускайте ее. Совместная дорога – это совместное общение, ненавязчивые сов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тесь встречать ребенка после занятий. Не стоит первым задавать вопрос, «Какие оценки ты сегодня получил?»,  лучше задавать контрольные вопросы: «Что было интересного сегодня?», «Чем сегодня занимались?», «Как дела в колледже?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раздражайтесь в момент его временных неу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рпеливо, с интересом слушайте рассказы ребенка о событиях в его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дуйтесь успехам ребенка. Не раздражайтесь в момент его временных неу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428760" y="94752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того чтобы, процесс адаптации проходил менее болезненно, следует следить за тем, чтобы ваш ребен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облюдал режим дня: ложился спать не позднее 23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авильно организовал свой быт, с меньшими затратами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ходился на свежем воздухе не менее 2 часов в день. Это улучшает самочув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нимался физкульту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держивал свое здоровье, соблюдал личную гиги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чился больше работать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держивайте постоянную связь с преподавателями, классным руковод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500040" y="115740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того чтобы поддержать первокурсника, необходим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бегать подчеркивать промахи молод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пираться на сильные стороны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казывать, что вы удовлетворены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меть демонстрировать любовь и уважение к ребе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мести юмор во  взаимоотношения с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нать обо всех попытках справиться с зад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меть взаимодействовать с реб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нимать индивидуальность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являть веру в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емонстрировать оптим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0" y="1481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Будьте внимательны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к тем изменениям, которые Вы замечаете в своем ребенке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ГЛАВНОЕ!!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481040"/>
            <a:ext cx="822960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Book"/>
              </a:rPr>
              <a:t>Спасибо 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Book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2"/>
          <p:cNvSpPr/>
          <p:nvPr/>
        </p:nvSpPr>
        <p:spPr>
          <a:xfrm>
            <a:off x="857160" y="1500120"/>
            <a:ext cx="7929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я первокурсников – это сложный процесс приспособления к новым условиям учебной деятельности и общения. Период адаптации дает возможность осуществить проверку социально-психологической подготовки учащихся к обучению, спрогнозировать возможность их дальнейшего продвижения и разви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285840" y="858960"/>
            <a:ext cx="8501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ассмотрение процесса адаптации студентов к обучению в колледже должно включать ряд аспе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</a:t>
            </a:r>
            <a:r>
              <a:rPr b="0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 психолого-педагогический (связанный с приспособлением студентов к новой дидактической систе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е</a:t>
            </a:r>
            <a:r>
              <a:rPr b="0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принципиально отличающейся от форм и методов школ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</a:t>
            </a:r>
            <a:r>
              <a:rPr b="0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 социально-психологический (имеющий связь с усвоением учащимися социальных норм, установлением и поддержанием социального статуса в новом коллектив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</a:t>
            </a:r>
            <a:r>
              <a:rPr b="0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 мотивационно-личностный (определяющий формирование позитивных учебных мотивов и личностных каче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.</a:t>
            </a:r>
            <a:r>
              <a:rPr b="0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 психофизический (предполагающий приспособление функций и реакций организма к требованиям новой сре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428760" y="1379880"/>
            <a:ext cx="835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адаптации длительный и не всегда успешный, и у значительной части студентов первого года обучения возникают проблемы с адаптацией, что связ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личностными качествами самих студ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м навыков к самостоятельной учеб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формированностью профессионального самоо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нятие адаптации вход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тивация учения и профессионального самоопред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ость умственного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нностные предпочт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ношения с преподавателями и одногрупп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428760" y="133668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сновными задачами по содействию адаптации первокурсников к профессиональной образовательной среде колледжа 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читаются</a:t>
            </a:r>
            <a:r>
              <a:rPr b="1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дготовка первокурсников к новым условиям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становление и поддержание социального статуса первокурсников в новом коллекти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Формирование у первокурсников позитивных учебных моти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и снятие у первокурсников психологического и физического дискомфорта, связанного с новой образовательной сре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642960" y="9288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ие особенности ранней ю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ошеский возраст – этап формирования собственного мировоззрения, принятия ответственных решений, этап человеческой близости, когда ценности дружбы, любви, интимной близости могут быть первостепенными. Для юношества свойственны - максимализм мышления: разрабатывая свои теории, юноша ведет себя так, как если бы мир должен был подчиняться его теориям, а не теории действительности; стремление к самоутверждению, независимости, оригинальности, пренебрежение к советам старших, критиканство, проявление недоверия, отсутствие подлинной самостоятельности, повышенная внушаемость, происходит существенная перестройка эмоциональной сф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428760" y="829080"/>
            <a:ext cx="835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453f"/>
                </a:solidFill>
                <a:latin typeface="Arial"/>
                <a:ea typeface="Times New Roman"/>
              </a:rPr>
              <a:t>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я к новым условиям проходит для одних спокойно, для других болезненно. И с этим нужно считаться преподавателю  при изучении личностных качеств первокурсника. Становление личности первокурсника выражается не только в приспособлении организма к новым условиям, но и в выработке новых способов поведения, позволяющих справляться с трудностями и овладевать учебной и общественной деятельн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C:\Users\Максим\Desktop\KIuqZBipp7s.jpg"/>
          <p:cNvPicPr/>
          <p:nvPr/>
        </p:nvPicPr>
        <p:blipFill>
          <a:blip r:embed="rId1"/>
          <a:stretch/>
        </p:blipFill>
        <p:spPr>
          <a:xfrm>
            <a:off x="500040" y="4572000"/>
            <a:ext cx="2714760" cy="1928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Users\Максим\Desktop\ee777adf-9b1a-4df6-8f16-8798f0f43092.jpg"/>
          <p:cNvPicPr/>
          <p:nvPr/>
        </p:nvPicPr>
        <p:blipFill>
          <a:blip r:embed="rId2"/>
          <a:stretch/>
        </p:blipFill>
        <p:spPr>
          <a:xfrm>
            <a:off x="3214800" y="4214880"/>
            <a:ext cx="3286080" cy="2400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C:\Users\Максим\Desktop\ucheba.jpg"/>
          <p:cNvPicPr/>
          <p:nvPr/>
        </p:nvPicPr>
        <p:blipFill>
          <a:blip r:embed="rId3"/>
          <a:stretch/>
        </p:blipFill>
        <p:spPr>
          <a:xfrm>
            <a:off x="6500880" y="4572000"/>
            <a:ext cx="2214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285840" y="195408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изнаки адаптирова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C:\Users\Максим\Desktop\книги.jpg"/>
          <p:cNvPicPr/>
          <p:nvPr/>
        </p:nvPicPr>
        <p:blipFill>
          <a:blip r:embed="rId1"/>
          <a:stretch/>
        </p:blipFill>
        <p:spPr>
          <a:xfrm>
            <a:off x="2143080" y="3429000"/>
            <a:ext cx="500076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285840" y="582840"/>
            <a:ext cx="8572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ысокий уровень адап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студент положительно относится к колледжу, предъявленные требования воспринимает адекват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учебный материал усваивает лег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глубоко и полно овладевает программным материа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прилежен, внимательно слушает указания и объяснения преподава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выполняет поручения без внешнего контро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проявляет большой интерес к самостоятельной учебной работе, готовится ко всем заняти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общественные поручения выполняет охотно и добросовест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занимает в группе благоприятное статусное пол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8:20:04Z</dcterms:created>
  <dc:creator>Максим</dc:creator>
  <dc:description/>
  <dc:language>en-US</dc:language>
  <cp:lastModifiedBy>RePack by Diakov</cp:lastModifiedBy>
  <dcterms:modified xsi:type="dcterms:W3CDTF">2023-02-01T15:27:14Z</dcterms:modified>
  <cp:revision>41</cp:revision>
  <dc:subject/>
  <dc:title>ПСИХОЛОГИЧЕСКИЕ АСПЕКТЫ И РЕКОМЕНДАЦИИ ДЛЯ КЛАССНЫХ РУКОВОДИТЕЛЕЙ, ПРЕПОДАВАТЕЛЕЙ И РОДИТЕЛЕЙ В ПЕРИОД АДАПТАЦИИ СТУДЕНТОВ</dc:title>
</cp:coreProperties>
</file>