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50B0-E2DD-4ECF-95E0-AF0DD989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DFA0-CB52-4EE5-9418-5ABB8471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4BBB-13BD-4C0E-B314-41FBC683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130D-DDE1-4BD7-A91A-8C243D8B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90C1-B989-4F63-AD67-E230E347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1103-F2BB-43F2-BE06-E1AAC28F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825F-1203-412A-83E8-A4859033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474E-5235-4809-AE45-13B1BFB2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EF3D-41E7-4132-88B2-D414C11B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4205-1C9E-41A2-993F-DC8AC838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14BA-59C1-4863-8432-7145659B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62EC-9818-42BC-8C23-22D1943E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8C34-8A88-49DA-9B04-79EFDD48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F534-829C-4F2A-9BA4-3732BD4E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8855-104B-44DC-A5AF-F5584FC0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F226-E493-4D00-99CA-CF4137F5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0A94-3B81-49C3-B29A-0E31AC69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33D25-CCBD-4A4F-BD0E-A573795D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3B07F-6584-47E2-9717-566FD811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949D5-907F-4220-801C-5AF876D8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73EB6-65ED-4F60-9385-2A4A3F10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D51B5-2084-4226-9A94-F97F1AFA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D183-EBBF-42B8-B1BD-36925A4D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3004E-E4BA-4347-BF51-F370EE74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88730-77B9-4C97-9E43-78905E42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36764-C5F4-47DA-B9FF-716A97D4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DC4DE-5456-4FD9-A475-B6B3B5E4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A107E-08CB-4911-830F-95904582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FBEFA-AD85-454F-ACBD-BBE508FF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54449-F3C1-4533-94E8-C67C1606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EA445-E9CB-4AD4-BC41-86318A02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E4868-C1A6-46CE-BC0B-712F20F9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A23D4-11C6-409B-8C45-FF68AFFB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747B-D999-4D76-8A67-92764157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11B34-9272-44F0-8C23-6A6DB5D3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2D1E5-2CEC-4032-B324-027EE0F6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CC5ED-34BB-4388-8E79-D4B1F8E8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F94BE-2AE3-415B-83F3-1662B819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F1355-95F0-43CF-BFE9-156CE34C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C28E2-7FAA-4E6F-9630-06B40BB8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31583-775F-4F5D-BB4A-C6962A8A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C8D81-CD6D-41A2-B4D9-DD40EBCC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5D74C-6037-4F5C-8276-D9850F44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70F0-3CF9-44D5-B82D-D7F3E581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F194-AD09-4B07-8D26-641DB3AA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4EA5-F736-42DD-9B16-B30FA164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CFB-044D-49C3-B6BF-2878BC3E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24DC-884A-4ADB-A53E-F0CD7FBF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D47C-1EA1-4DE7-9E5B-A0625935072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40C2-71DF-4272-AE1E-E9528FAF24C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9FD1-763B-4FE5-885E-0B4DB0E3D1F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035B-AC8E-4F19-B4A6-B794A81D305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4" descr="YUk6CwweoEs.jpg"/>
          <p:cNvPicPr/>
          <p:nvPr/>
        </p:nvPicPr>
        <p:blipFill>
          <a:blip r:embed="rId1"/>
          <a:stretch/>
        </p:blipFill>
        <p:spPr>
          <a:xfrm>
            <a:off x="-30240" y="0"/>
            <a:ext cx="9174240" cy="6959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142560" y="1285920"/>
            <a:ext cx="8543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e23dd"/>
                </a:solidFill>
                <a:latin typeface="Franklin Gothic Book"/>
              </a:rPr>
              <a:t>Адаптация 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e23dd"/>
                </a:solidFill>
                <a:latin typeface="Franklin Gothic Book"/>
              </a:rPr>
              <a:t>студентов-первокурсников в 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e23dd"/>
                </a:solidFill>
                <a:latin typeface="Franklin Gothic Book"/>
              </a:rPr>
              <a:t>образовательном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e23dd"/>
                </a:solidFill>
                <a:latin typeface="Franklin Gothic Book"/>
              </a:rPr>
              <a:t>пространстве колледжа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Выполнила: куратор гр.КС-13-20 Сысоева Елена Михайловна АК СИБГ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Franklin Gothic Book"/>
              </a:rPr>
              <a:t>Разработка родительского собрания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285840" y="878760"/>
            <a:ext cx="8501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редний уровень адап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удент положительно относится к колледжу, посещение не вызывает отрицательных пережив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понимает учебный материал, если преподаватель излагает его подробно и нагляд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ваивает основное содержание учебных программ, самостоятельно решает типовые зада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сосредоточен и внимателен при выполнении заданий, поручений, указаний старших, но, при его контрол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бывает сосредоточен только тогда, когда занят чем-то для него интерес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почти всегда выполняет домашние зад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общественные поручения выполняет добросовест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дружит со многими одногрупп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357120" y="649440"/>
            <a:ext cx="8429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изкий уровень адап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студент равнодушно или отрицательно относится к колледж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 нередки жалобы на здоров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обладает подавленное настро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блюдаются нарушения дисципл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учебный материал усваивается фрагментар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затруднена самостоятельная работа, нет интереса к ее выполн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домашние задания выполняет нерегулярно, необходим постоянный контро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общественные поручения выполняет под контролем, без особого желания, пассив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близких друзей не имеет, знает по именам и фамилиям лишь часть одногрупп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285840" y="545400"/>
            <a:ext cx="86439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екомендации преподавателям по адаптации первокурс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ых занятиях ознакомить с системой обучения в колледже и требованиями к зна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беседу о правильном слушании л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студентов правильно работать с книгой, методическими пособ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ть индивидуальный подход к студенту при опросе с учетом психологических и возрастных особ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ректировать количество домашнего задания и письменных работ по требованиям програм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способы воздействия на мотивационную сферу студента: проблемное обучение, приемы активизации, общение, разнообразные педагогические технологии, компьютерное обу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менее стрессогенный опрос: письменный, текстовый или групп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лять внимание беседам о нравственности, самовоспитании, об организации режима дня, профилактике заболе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чески предупреждать повышение тревожности у студ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ть такие формы и методы обучения, которые позволили бы студентам эффективно общаться с целью скорейшей адап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"/>
          <p:cNvSpPr/>
          <p:nvPr/>
        </p:nvSpPr>
        <p:spPr>
          <a:xfrm>
            <a:off x="214200" y="746640"/>
            <a:ext cx="864396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обая роль в адаптации первокурсников принадлежит родителям. Основная задача родителей заключается в том, чтобы помочь студентам нового набора органично вписаться в  образовательный процесс, сохранив при этом целостность и уникальность личности, способной к самореализации, самоконтролю, самопозн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C:\Users\Максим\Desktop\подростковый возраст2.jpg"/>
          <p:cNvPicPr/>
          <p:nvPr/>
        </p:nvPicPr>
        <p:blipFill>
          <a:blip r:embed="rId1"/>
          <a:stretch/>
        </p:blipFill>
        <p:spPr>
          <a:xfrm>
            <a:off x="1000080" y="3357720"/>
            <a:ext cx="3571920" cy="2714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C:\Users\Максим\Desktop\parents-and-teens_big.jpg"/>
          <p:cNvPicPr/>
          <p:nvPr/>
        </p:nvPicPr>
        <p:blipFill>
          <a:blip r:embed="rId2"/>
          <a:stretch/>
        </p:blipFill>
        <p:spPr>
          <a:xfrm>
            <a:off x="4643280" y="3357720"/>
            <a:ext cx="38577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428760" y="740520"/>
            <a:ext cx="8429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еты родителям на каждый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ворить сыну (дочери): «Людям должно быть с тобой легко» - не бойтесь повторять э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расставайтесь с ребенком в ссоре, сначала помиритесь, а потом идите по своим дел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райтесь, чтобы ребенок был привязан к дому; возвращаясь, домой, не забывайте сказать: « А все – таки, как хорошо у нас дом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шайте ребенку давно известную формулу психического здоровья: «Ты хорош, но не лучше други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порах с сыном или дочерью хоть иногда уступайте, чтобы им не казалось,  будто они вечно неправы. Этим вы и детей научите уступать, признавать ошибки и пор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у вас есть возможность дойти до колледжа вместе с ребенком, не упускайте ее. Совместная дорога – это совместное общение, ненавязчивые сов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итесь встречать ребенка после занятий. Не стоит первым задавать вопрос, «Какие оценки ты сегодня получил?»,  лучше задавать контрольные вопросы: «Что было интересного сегодня?», «Чем сегодня занимались?», «Как дела в колледже?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раздражайтесь в момент его временных неу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рпеливо, с интересом слушайте рассказы ребенка о событиях в его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дуйтесь успехам ребенка. Не раздражайтесь в момент его временных неу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428760" y="94752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того чтобы, процесс адаптации проходил менее болезненно, следует следить за тем, чтобы ваш ребен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облюдал режим дня: ложился спать не позднее 23 ча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авильно организовал свой быт, с меньшими затратами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ходился на свежем воздухе не менее 2 часов в день. Это улучшает самочув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нимался физкульту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ддерживал свое здоровье, соблюдал личную гиги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чился больше работать 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ддерживайте постоянную связь с преподавателями, классным руковод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500040" y="115740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того чтобы поддержать первокурсника, необходим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Избегать подчеркивать промахи молод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пираться на сильные стороны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казывать, что вы удовлетворены ребе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меть демонстрировать любовь и уважение к ребе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мести юмор во  взаимоотношения с ребе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Знать обо всех попытках справиться с зада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меть взаимодействовать с ребе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нимать индивидуальность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являть веру в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Демонстрировать оптим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0" y="14810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Будьте внимательны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к тем изменениям, которые Вы замечаете в своем ребенке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Franklin Gothic Book"/>
              </a:rPr>
              <a:t>ГЛАВНОЕ!!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481040"/>
            <a:ext cx="822960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Franklin Gothic Book"/>
              </a:rPr>
              <a:t>Спасибо 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Franklin Gothic Book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2"/>
          <p:cNvSpPr/>
          <p:nvPr/>
        </p:nvSpPr>
        <p:spPr>
          <a:xfrm>
            <a:off x="857160" y="1500120"/>
            <a:ext cx="7929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я первокурсников – это сложный процесс приспособления к новым условиям учебной деятельности и общения. Период адаптации дает возможность осуществить проверку социально-психологической подготовки учащихся к обучению, спрогнозировать возможность их дальнейшего продвижения и разви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285840" y="858960"/>
            <a:ext cx="8501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ассмотрение процесса адаптации студентов к обучению в колледже должно включать ряд аспе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</a:t>
            </a:r>
            <a:r>
              <a:rPr b="0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 психолого-педагогический (связанный с приспособлением студентов к новой дидактической систе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е</a:t>
            </a:r>
            <a:r>
              <a:rPr b="0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принципиально отличающейся от форм и методов школ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</a:t>
            </a:r>
            <a:r>
              <a:rPr b="0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 социально-психологический (имеющий связь с усвоением учащимися социальных норм, установлением и поддержанием социального статуса в новом коллектив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.</a:t>
            </a:r>
            <a:r>
              <a:rPr b="0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 мотивационно-личностный (определяющий формирование позитивных учебных мотивов и личностных качест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.</a:t>
            </a:r>
            <a:r>
              <a:rPr b="0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 психофизический (предполагающий приспособление функций и реакций организма к требованиям новой сре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428760" y="1379880"/>
            <a:ext cx="8358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адаптации длительный и не всегда успешный, и у значительной части студентов первого года обучения возникают проблемы с адаптацией, что связ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личностными качествами самих студен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м навыков к самостоятельной учеб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формированностью профессионального самоо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нятие адаптации вход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тивация учения и профессионального самоопред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стоятельность умственного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нностные предпочт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ношения с преподавателями и одногрупп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428760" y="1336680"/>
            <a:ext cx="8501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сновными задачами по содействию адаптации первокурсников к профессиональной образовательной среде колледжа 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читаются</a:t>
            </a:r>
            <a:r>
              <a:rPr b="1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дготовка первокурсников к новым условиям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становление и поддержание социального статуса первокурсников в новом коллекти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Формирование у первокурсников позитивных учебных моти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и снятие у первокурсников психологического и физического дискомфорта, связанного с новой образовательной сре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"/>
          <p:cNvSpPr/>
          <p:nvPr/>
        </p:nvSpPr>
        <p:spPr>
          <a:xfrm>
            <a:off x="642960" y="9288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ие особенности ранней ю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ошеский возраст – этап формирования собственного мировоззрения, принятия ответственных решений, этап человеческой близости, когда ценности дружбы, любви, интимной близости могут быть первостепенными. Для юношества свойственны - максимализм мышления: разрабатывая свои теории, юноша ведет себя так, как если бы мир должен был подчиняться его теориям, а не теории действительности; стремление к самоутверждению, независимости, оригинальности, пренебрежение к советам старших, критиканство, проявление недоверия, отсутствие подлинной самостоятельности, повышенная внушаемость, происходит существенная перестройка эмоциональной сф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428760" y="829080"/>
            <a:ext cx="835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453f"/>
                </a:solidFill>
                <a:latin typeface="Arial"/>
                <a:ea typeface="Times New Roman"/>
              </a:rPr>
              <a:t>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я к новым условиям проходит для одних спокойно, для других болезненно. И с этим нужно считаться преподавателю  при изучении личностных качеств первокурсника. Становление личности первокурсника выражается не только в приспособлении организма к новым условиям, но и в выработке новых способов поведения, позволяющих справляться с трудностями и овладевать учебной и общественной деятельно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C:\Users\Максим\Desktop\KIuqZBipp7s.jpg"/>
          <p:cNvPicPr/>
          <p:nvPr/>
        </p:nvPicPr>
        <p:blipFill>
          <a:blip r:embed="rId1"/>
          <a:stretch/>
        </p:blipFill>
        <p:spPr>
          <a:xfrm>
            <a:off x="500040" y="4572000"/>
            <a:ext cx="2714760" cy="1928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Users\Максим\Desktop\ee777adf-9b1a-4df6-8f16-8798f0f43092.jpg"/>
          <p:cNvPicPr/>
          <p:nvPr/>
        </p:nvPicPr>
        <p:blipFill>
          <a:blip r:embed="rId2"/>
          <a:stretch/>
        </p:blipFill>
        <p:spPr>
          <a:xfrm>
            <a:off x="3214800" y="4214880"/>
            <a:ext cx="3286080" cy="2400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C:\Users\Максим\Desktop\ucheba.jpg"/>
          <p:cNvPicPr/>
          <p:nvPr/>
        </p:nvPicPr>
        <p:blipFill>
          <a:blip r:embed="rId3"/>
          <a:stretch/>
        </p:blipFill>
        <p:spPr>
          <a:xfrm>
            <a:off x="6500880" y="4572000"/>
            <a:ext cx="2214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285840" y="195408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изнаки адаптирова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C:\Users\Максим\Desktop\книги.jpg"/>
          <p:cNvPicPr/>
          <p:nvPr/>
        </p:nvPicPr>
        <p:blipFill>
          <a:blip r:embed="rId1"/>
          <a:stretch/>
        </p:blipFill>
        <p:spPr>
          <a:xfrm>
            <a:off x="2143080" y="3429000"/>
            <a:ext cx="500076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285840" y="582840"/>
            <a:ext cx="8572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ысокий уровень адап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студент положительно относится к колледжу, предъявленные требования воспринимает адекват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учебный материал усваивает легк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глубоко и полно овладевает программным материал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прилежен, внимательно слушает указания и объяснения преподава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выполняет поручения без внешнего контро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проявляет большой интерес к самостоятельной учебной работе, готовится ко всем заняти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общественные поручения выполняет охотно и добросовест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занимает в группе благоприятное статусное пол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8:20:04Z</dcterms:created>
  <dc:creator>Максим</dc:creator>
  <dc:description/>
  <dc:language>en-US</dc:language>
  <cp:lastModifiedBy>RePack by Diakov</cp:lastModifiedBy>
  <dcterms:modified xsi:type="dcterms:W3CDTF">2023-02-01T15:27:14Z</dcterms:modified>
  <cp:revision>41</cp:revision>
  <dc:subject/>
  <dc:title>ПСИХОЛОГИЧЕСКИЕ АСПЕКТЫ И РЕКОМЕНДАЦИИ ДЛЯ КЛАССНЫХ РУКОВОДИТЕЛЕЙ, ПРЕПОДАВАТЕЛЕЙ И РОДИТЕЛЕЙ В ПЕРИОД АДАПТАЦИИ СТУДЕНТОВ</dc:title>
</cp:coreProperties>
</file>