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F4E-0A87-4171-8BD7-F02FD423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440-8C21-4F5D-954D-A064E681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95D-9C16-4B81-A2E1-CD1E6639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EAE-9028-47FD-A91E-7B13E435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5258-3797-4A41-836D-B9AD3758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D650-872C-4D8F-B61B-8A16708A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667B-16B1-4C76-91B9-3EFCFB39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B2F3-60FF-461B-B887-5EC4FB67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6A0F-9256-43F5-AD35-5B5D781D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C860-F398-470D-A09A-1AA3145D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0ADD-0F20-4ACC-931E-1C7C65A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391-3FE0-4685-9CEA-FD2DB42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260C-B0A0-42E5-B5F3-D7A1E226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4AC5-4AC9-4397-BB2B-1ECDF75E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7F25-8864-4656-A976-5AABEE0F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B5F0-A58B-4958-88D4-672C82FE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DF2B-0719-4BF2-8158-B907FFBD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C736-156F-4C94-A09D-086165D9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A83F-42A7-44D5-8A95-02E7927B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4534-B4AE-4396-B0E5-6835805C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FDBA-C8DF-4415-84A7-194AD51A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B63A-C22E-4876-8027-3AEFAFAE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E25-7431-4AB9-85FF-1029BC9F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4AF3E-90F1-4B63-87BF-0D31890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B8DA-09E1-43F8-BE2B-AF1CEA21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8ACD-60AB-478A-A039-3357916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D06C-F9FF-4899-BC44-D0ACBBD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D25A-6E92-4BE7-9D91-73606B8D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1F53-1E7F-4618-869A-1E368F9B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812A0-FC2B-444A-8CD1-616FBE0E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918A-DE73-43DC-9BDB-A08A63C1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18162-206B-4007-B5FD-7F904617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441D-B9D9-4615-A126-BBB71332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74B-5A57-4794-A767-81D566A5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5874-6895-4B99-90F5-E5A27E0C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7BBB6-C60E-48B1-B05E-1EF76F0F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B3BFF-F265-4A75-B81C-DB3FAE1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F61C9-E434-45C7-AB4C-A4E9790B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38FB-962F-4B54-BE59-03F46233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6561-1E78-45FA-B588-4F6CA875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54FA-E73E-4CCC-97F5-852FDD07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3088A-2A20-41D2-AC3C-FDC209C5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BEB1-81F0-45AC-9269-DA454949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C00-BD4C-45FF-8E29-9371530F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542-C48A-4A77-BE1C-9B6008D7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E31-D52B-4AD1-9DAE-D3527F7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DED-E293-4312-8A26-3D0925A6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2FB-6E23-48EB-9397-A42D4BF5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4BC-7574-4FB2-BE91-21AC3176866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458D-492D-4EDB-B56A-ACF54ECBE2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44A9-D5C0-4731-B5A2-467D796702F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1CE4-EE53-4A2F-8A80-B2F1D374B7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YUk6CwweoEs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959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42560" y="1285920"/>
            <a:ext cx="85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Адаптация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студентов-первокурсников в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образовательном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пространстве колледжа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Выполнила: куратор гр.КС-13-20 Сысоева Елена Михайловна АК СИБГ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Разработка родительского собр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285840" y="8787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редний уровень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дент положительно относится к колледжу, посещение не вызывает отрицательных пережи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понимает учебный материал, если преподаватель излагает его подробно и нагляд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ваивает основное содержание учебных программ, самостоятельно решает типовые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сосредоточен и внимателен при выполнении заданий, поручений, указаний старших, но, при его контр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бывает сосредоточен только тогда, когда занят чем-то для него интерес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почти всегда выполняет домашние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общественные поручения выполняет добросове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дружит со многими одногрупп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357120" y="649440"/>
            <a:ext cx="8429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изкий уровень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студент равнодушно или отрицательно относится к колледж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нередки жалобы на здоров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обладает подавленное настро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людаются нарушения дисципл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учебный материал усваивается фрагментар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затруднена самостоятельная работа, нет интереса к ее выполн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домашние задания выполняет нерегулярно, необходим постоянный конт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щественные поручения выполняет под контролем, без особого желания, пассив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близких друзей не имеет, знает по именам и фамилиям лишь часть одногрупп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285840" y="54540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екомендации преподавателям по адаптации первокур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ых занятиях ознакомить с системой обучения в колледже и требованиями к зн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о правильном слушании л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студентов правильно работать с книгой, методическими пособ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 индивидуальный подход к студенту при опросе с учетом психологических и возраст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количество домашнего задания и письменных работ по требованиям програ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способы воздействия на мотивационную сферу студента: проблемное обучение, приемы активизации, общение, разнообразные педагогические технологии, компьютерное обу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менее стрессогенный опрос: письменный, текстовый или групп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ять внимание беседам о нравственности, самовоспитании, об организации режима дня, профилактике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чески предупреждать повышение тревожности у студ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такие формы и методы обучения, которые позволили бы студентам эффективно общаться с целью скорейшей адап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214200" y="746640"/>
            <a:ext cx="864396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ая роль в адаптации первокурсников принадлежит родителям. Основная задача родителей заключается в том, чтобы помочь студентам нового набора органично вписаться в  образовательный процесс, сохранив при этом целостность и уникальность личности, способной к самореализации, самоконтролю, самопозн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C:\Users\Максим\Desktop\подростковый возраст2.jpg"/>
          <p:cNvPicPr/>
          <p:nvPr/>
        </p:nvPicPr>
        <p:blipFill>
          <a:blip r:embed="rId1"/>
          <a:stretch/>
        </p:blipFill>
        <p:spPr>
          <a:xfrm>
            <a:off x="1000080" y="3357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Users\Максим\Desktop\parents-and-teens_big.jpg"/>
          <p:cNvPicPr/>
          <p:nvPr/>
        </p:nvPicPr>
        <p:blipFill>
          <a:blip r:embed="rId2"/>
          <a:stretch/>
        </p:blipFill>
        <p:spPr>
          <a:xfrm>
            <a:off x="4643280" y="3357720"/>
            <a:ext cx="38577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428760" y="740520"/>
            <a:ext cx="84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ты родителям на кажд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ворить сыну (дочери): «Людям должно быть с тобой легко» - не бойтесь повторять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сставайтесь с ребенком в ссоре, сначала помиритесь, а потом идите по своим де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айтесь, чтобы ребенок был привязан к дому; возвращаясь, домой, не забывайте сказать: « А все – таки, как хорошо у нас дом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шайте ребенку давно известную формулу психического здоровья: «Ты хорош, но не лучше други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порах с сыном или дочерью хоть иногда уступайте, чтобы им не казалось,  будто они вечно неправы. Этим вы и детей научите уступать, признавать ошибки и по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у вас есть возможность дойти до колледжа вместе с ребенком, не упускайте ее. Совместная дорога –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есь встречать ребенка после занятий. Не стоит первым задавать вопрос, «Какие оценки ты сегодня получил?»,  лучше задавать контрольные вопросы: «Что было интересного сегодня?», «Чем сегодня занимались?», «Как дела в колледже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428760" y="9475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 чтобы, процесс адаптации проходил менее болезненно, следует следить за тем, чтобы ваш ребе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блюдал режим дня: ложился спать не позднее 23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ильно организовал свой быт, с меньшими затратами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ходился на свежем воздухе не менее 2 часов в день. Это улучшает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нимался физ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л свое здоровье, соблюдал личную гиги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чился больше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йте постоянную связь с преподавателями, классным руковод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500040" y="11574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 чтобы поддержать первокурсника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бегать подчеркивать промахи молод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ираться на сильные стороны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казывать, что вы удовлетворены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меть демонстрировать любовь и уважение к реб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мести юмор во  взаимоотношения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нать обо всех попытках справиться с зад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меть взаимодействовать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нимать индивидуальнос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являть веру в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ировать опт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Будьте внимательны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к тем изменениям, которые Вы замечаете в своем ребенк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ГЛАВНОЕ!!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481040"/>
            <a:ext cx="82296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Book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Book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2"/>
          <p:cNvSpPr/>
          <p:nvPr/>
        </p:nvSpPr>
        <p:spPr>
          <a:xfrm>
            <a:off x="857160" y="1500120"/>
            <a:ext cx="792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я первокурсников – это сложный процесс приспособления к новым условиям учебной деятельности и общения. Период адаптации дает возможность осуществить проверку социально-психологической подготовки учащихся к обучению, спрогнозировать возможность их дальнейшего продвижения и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285840" y="8589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ссмотрение процесса адаптации студентов к обучению в колледже должно включать ряд асп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психолого-педагогический (связанный с приспособлением студентов к новой дидактической систе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е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принципиально отличающейся от форм и методов школ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социально-психологический (имеющий связь с усвоением учащимися социальных норм, установлением и поддержанием социального статуса в новом коллектив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мотивационно-личностный (определяющий формирование позитивных учебных мотивов и личностных каче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психофизический (предполагающий приспособление функций и реакций организма к требованиям новой сре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428760" y="137988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адаптации длительный и не всегда успешный, и у значительной части студентов первого года обучения возникают проблемы с адаптацией, что связ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чностными качествами самих студ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м навыков к самостоятельной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ю профессионального сам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адаптации вход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тивация учения и профессионального самоопред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сть умственного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нностные предпочт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ношения с преподавателями и одногрупп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428760" y="133668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новными задачами по содействию адаптации первокурсников к профессиональной образовательной среде колледжа 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читаются</a:t>
            </a: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дготовка первокурсников к новым условия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становление и поддержание социального статуса первокурсников в новом коллект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ормирование у первокурсников позитивных учебных моти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и снятие у первокурсников психологического и физического дискомфорта, связанного с новой образовательно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642960" y="9288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е особенности ранней ю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еский возраст – этап формирования собственного мировоззрения, принятия ответственных решений, этап человеческой близости, когда ценности дружбы, любви, интимной близости могут быть первостепенными. Для юношества свойственны - максимализм мышления: разрабатывая свои теории, юноша ведет себя так, как если бы мир должен был подчиняться его теориям, а не теории действительности; стремление к самоутверждению, независимости, оригинальности, пренебрежение к советам старших, критиканство, проявление недоверия, отсутствие подлинной самостоятельности, повышенная внушаемость, происходит существенная перестройка эмоциональной 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428760" y="82908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453f"/>
                </a:solidFill>
                <a:latin typeface="Arial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я к новым условиям проходит для одних спокойно, для других болезненно. И с этим нужно считаться преподавателю  при изучении личностных качеств первокурсника. Становление личности первокурсника выражается не только в приспособлении организма к новым условиям, но и в выработке новых способов поведения, позволяющих справляться с трудностями и овладевать учебной и общественной деятель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Максим\Desktop\KIuqZBipp7s.jpg"/>
          <p:cNvPicPr/>
          <p:nvPr/>
        </p:nvPicPr>
        <p:blipFill>
          <a:blip r:embed="rId1"/>
          <a:stretch/>
        </p:blipFill>
        <p:spPr>
          <a:xfrm>
            <a:off x="500040" y="457200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Users\Максим\Desktop\ee777adf-9b1a-4df6-8f16-8798f0f43092.jpg"/>
          <p:cNvPicPr/>
          <p:nvPr/>
        </p:nvPicPr>
        <p:blipFill>
          <a:blip r:embed="rId2"/>
          <a:stretch/>
        </p:blipFill>
        <p:spPr>
          <a:xfrm>
            <a:off x="3214800" y="4214880"/>
            <a:ext cx="3286080" cy="240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Users\Максим\Desktop\ucheba.jpg"/>
          <p:cNvPicPr/>
          <p:nvPr/>
        </p:nvPicPr>
        <p:blipFill>
          <a:blip r:embed="rId3"/>
          <a:stretch/>
        </p:blipFill>
        <p:spPr>
          <a:xfrm>
            <a:off x="6500880" y="4572000"/>
            <a:ext cx="221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285840" y="1954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знаки адаптирова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Максим\Desktop\книги.jpg"/>
          <p:cNvPicPr/>
          <p:nvPr/>
        </p:nvPicPr>
        <p:blipFill>
          <a:blip r:embed="rId1"/>
          <a:stretch/>
        </p:blipFill>
        <p:spPr>
          <a:xfrm>
            <a:off x="2143080" y="3429000"/>
            <a:ext cx="50007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285840" y="582840"/>
            <a:ext cx="8572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сокий уровень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студент положительно относится к колледжу, предъявленные требования воспринимает адеква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чебный материал усваивает лег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глубоко и полно овладевает программным матери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прилежен, внимательно слушает указания и объяснения преподав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ыполняет поручения без внешнего 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проявляет большой интерес к самостоятельной учебной работе, готовится ко всем занят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общественные поручения выполняет охотно и добросове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занимает в группе благоприятное статусное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8:20:04Z</dcterms:created>
  <dc:creator>Максим</dc:creator>
  <dc:description/>
  <dc:language>en-US</dc:language>
  <cp:lastModifiedBy>RePack by Diakov</cp:lastModifiedBy>
  <dcterms:modified xsi:type="dcterms:W3CDTF">2023-02-01T15:27:14Z</dcterms:modified>
  <cp:revision>41</cp:revision>
  <dc:subject/>
  <dc:title>ПСИХОЛОГИЧЕСКИЕ АСПЕКТЫ И РЕКОМЕНДАЦИИ ДЛЯ КЛАССНЫХ РУКОВОДИТЕЛЕЙ, ПРЕПОДАВАТЕЛЕЙ И РОДИТЕЛЕЙ В ПЕРИОД АДАПТАЦИИ СТУДЕНТОВ</dc:title>
</cp:coreProperties>
</file>