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16F-025C-451C-89F5-5EC3CEAF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E76-B552-4F8A-97E2-5F4C350D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A34-1B51-41A6-9ABF-2E07ABDD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0B3-976D-42B9-976E-1EF18EF1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8DB7-852D-46CD-A09A-4F5DA0B1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3C3E-4835-4C7A-B413-775256FC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9D97-344B-439E-A7B7-CD4A6475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A038-D4A6-4685-A49B-E51C923D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9955-BD1B-4A8C-80A3-8CD40BF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2A9A-8DE1-4DE8-974C-2649BA53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89C7-74D1-4601-839A-B88F78D1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D63-CA21-4FBA-9FB8-DB205681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BE20-2BB0-4A7C-99BC-708FAB2E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2224-DB15-4B09-BEB7-0F344BE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A5BA-FC8E-4A19-BF03-22BF492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876D-7C74-4F4B-9F89-FC28253A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81CE-766A-4797-95A8-E9B096BE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D6A-C567-45BA-8622-FD189AFD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EDA-5C9F-4D7A-AD6E-99DE01D2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7F9-04B8-4897-844A-FC6E2E4F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8EF-2CB9-4563-BE15-05D2AEAE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161-59CF-4EC4-A41A-E2AA90C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392-9F71-4254-9802-5D80F00C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278-BE3C-497F-81D6-A4845D90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8628-BF06-4CEE-A49E-397304D89D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A2B9-ABCE-4503-BEEB-3156D9F50E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9072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« Творчество И. Е. Репина-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      вершина русского и мирового 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  реалистического искусства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XIX</a:t>
            </a: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000" y="422064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нический проек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9 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уководител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аттарова Татьяна Анатолье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5892840"/>
            <a:ext cx="85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У «Средняя общеобразовательная школа с. Кокшайс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Иван Грозный и сын его Иван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     16 ноября 1581 года. 1885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4249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ечатлены драмат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менты российской исто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эту картину был налож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зурный запрет.  Э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язано с кровавы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бытиями убийств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ександр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казн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одовольцев в 1881 го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2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73000"/>
            <a:ext cx="84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пин прожил долгую жизнь, жизнь человека,  преданного своему делу. Его огромный живописный талант признавали все, но не все могли в полную меру оценить исторический, общественный смысл его искусства. Раньше других этот смысл почувствовал выдающийся репинский современник В.В. Стасов. Стасов оказался совершенно прав в главном и основном: творчество Репина было социально в том прямом смысле, в каком употребляла это понятие демократическая эстетика XIX века. Оно стремилось не только выразить глубокие умонастроения эпохи подобное желание было свойственно всякому большому искусству и до Репина и после, но и показать причины, рождающие такие умонастроения, показать социальную действительность своего времени, показать  разные стороны жизни пореформенной России. Не раз заявляя о своей верности заветам революционных демократов, в первую очередь - эстетическим взглядам Н.Г. Чернышевского, художник постоянно жил тревогами и надеждами передовой русской интеллигенции, ее желанием связать свое дело с борьбой против социального гнета и неравенства. Все это и определило важное место репинских произведений в мировом наследии реалистической живописи XIX 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Мастер русской живописи, «Белый город», 2007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Знаменитые русские художники, издатель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Азбука», 2001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Искусство. Книга для учителя, 3-я часть, Моск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Просвещение», 1989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3000" spc="-1" strike="noStrike">
                <a:solidFill>
                  <a:srgbClr val="336699"/>
                </a:solidFill>
                <a:latin typeface="Verdana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Постановка проблем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зучить жизнь и творчество художни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) изучить биографию художни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выявить особенности творчества художника, ка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удожника  реали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тоды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) изучение литературы п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нной тем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поиск информации в Интернет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) анализ кар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5640" y="1628640"/>
            <a:ext cx="4572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дился будущий художник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густа 1844 года в город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угуеве на Украине, в семь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енного поселенца. Ра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наружив склонность 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сованию и получив 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ю местных живописце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е, но довольно увере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выки владения кистью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андашом, в 19  лет юнош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ет в Петербург с надежд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упить в Академию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удож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1640" y="62514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лья Ефимович Репин (1844-193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Факты из биограф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628280"/>
            <a:ext cx="8109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863 году поступил в рисовальную школу, в Петербург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го учителем становится И.Н. Крамской. Затем ст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удентом Академии художеств. В 1871 г. получи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олотую медаль за блестящее исполнение карт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Воскрешение дочери Иаира». Репин путешествует п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рижу, после возвращения в 1876 г. получил з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адемика. («Садко») С 1894- 1907 гг. руководи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адемической мастерской; с 1898 занимал дол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тора Высшего художественного училища при А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901 – награжден орденом Почетного легиона; избр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леном нескольких академий. Последние годы провел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ляндии. Похоронен 29 сентября 1930 г. Куокк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лянд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7"/>
          <p:cNvSpPr/>
          <p:nvPr/>
        </p:nvSpPr>
        <p:spPr>
          <a:xfrm>
            <a:off x="468360" y="6035760"/>
            <a:ext cx="40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Воскрешение дочери Иаир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129280" y="6108840"/>
            <a:ext cx="18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Садко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5280" cy="3876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3105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475920"/>
            <a:ext cx="8001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Не ждали. 1884- 1888 г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417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знь революцио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ссии отражена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ине «Не ждали». О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вящена революционно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вижению народ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прос о смысл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ческой жизн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центральным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южете карт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924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Проводы новобранца.1879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тличие от своего знаменитого современника В.В. Верещагина, участника русско-турецкой войны, посвятившего ей большой цикл батальных полотен, Репин не писал боевых сцен. Военная эпопея оборачивается в его глазах эпизодами трудного крестьянского существования. Таково, например, большое жанровое полотно «Проводы новобранца» (1879). В нем есть правда человеческих чувств, достоверность изображаемого крестьянского бы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96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Бурлаки на Волге. 1870- 187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3280" y="1752120"/>
            <a:ext cx="4176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пин выступил новато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тина стала символ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мократизма. Худож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образил бесчеловеч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ществования бурлак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янущих груженую барж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тив течения. Ше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раскаленному песку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палящим солнцем. В то ж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ремя он увлекся кажд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ом в отд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расивые, силь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мудрые люди, подлин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рои внушающие уваж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46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Запорожцы. 1880- 1891 гг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417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орожцы пишут письм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урецкому хану. Карт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вящена смех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катистый хохот, подоб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лнам от брошенного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ду камня (рука писца н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магой), нарастает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гурах, расположен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круг стола, и постепен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ихает на перифер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31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5:09:11Z</dcterms:created>
  <dc:creator>Student6</dc:creator>
  <dc:description/>
  <dc:language>en-US</dc:language>
  <cp:lastModifiedBy>Татьяна</cp:lastModifiedBy>
  <dcterms:modified xsi:type="dcterms:W3CDTF">2023-02-01T13:56:09Z</dcterms:modified>
  <cp:revision>61</cp:revision>
  <dc:subject/>
  <dc:title>                    « Творчество И. Е. Репина-       вершина русского и мирового    реалистического искусства XIX века»</dc:title>
</cp:coreProperties>
</file>