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47D-EAB1-422B-9EE0-F6F5C0EF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48C-307F-4510-8BE8-BE01498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F26-7FD1-4A6F-975D-E6C6B42E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DD3-5D51-426E-B9B0-8ACE38AE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8FED-242D-49F7-B602-AC74F262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F383-A0FE-438F-99A0-04008569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C34-3114-472D-8D4E-3CDC965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4FF-E96D-4257-BA8E-998FEAE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86D9-8FBC-47AA-8497-36623F1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CA16-F30D-4DFC-A6D2-3782632B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07B2-8FD5-47C6-A142-F55DE05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224-1BFC-4926-9018-1B22E35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4F5-1BC8-40EF-A064-3039957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0C1-3ABF-4E6E-BBC3-F394DDE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B085-4F31-49BB-BB83-55C30CB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3F3-EB15-432D-BE88-CADEB56E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228-D123-4D06-BEB7-AD5A5F6C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E40-2CB6-459B-9E03-ADAFCA5F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156-4992-4FAE-943B-695EFDF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565-2A01-4028-8382-347F619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578-678F-45FD-9773-47E6A2E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DDA-75F5-46DD-B1CA-8743D3F0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FA4-E11F-4F60-9A60-F90A58A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0A5-15BA-4937-92D3-73928E9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EF63-2282-4052-A5A5-7294603B7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857-AF0C-42FF-BC27-E4D07F38D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« Творчество И. Е. Репина-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    вершина русского и мирового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 реалистического искусства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XIX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422064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нический проек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9 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уководител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аттаров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5892840"/>
            <a:ext cx="85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У «Средняя общеобразовательная школа с. Кокшайс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ван Грозный и сын его Иван</a:t>
            </a:r>
            <a:br>
              <a:rPr sz="3200"/>
            </a:b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     16 ноября 1581 года. 1885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4249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ечатлены драмат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менты российской ис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у картину был налож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зурный запрет.  Эт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язано с кровав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ытиями убийств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ександр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ка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одовольцев в 1881 го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73000"/>
            <a:ext cx="84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прожил долгую жизнь, жизнь человека,  преданного своему делу. Его огромный живописный талант признавали все, но не все могли в полную меру оценить исторический, общественный смысл его искусства. Раньше других этот смысл почувствовал выдающийся репинский современник В.В. Стасов. Стасов оказался совершенно прав в главном и основном: творчество Репина было социально в том прямом смысле, в каком употребляла это понятие демократическая эстетика XIX века. Оно стремилось не только выразить глубокие умонастроения эпохи подобное желание было свойственно всякому большому искусству и до Репина и после, но и показать причины, рождающие такие умонастроения, показать социальную действительность своего времени, показать  разные стороны жизни пореформенной России. Не раз заявляя о своей верности заветам революционных демократов, в первую очередь - эстетическим взглядам Н.Г. Чернышевского, художник постоянно жил тревогами и надеждами передовой русской интеллигенции, ее желанием связать свое дело с борьбой против социального гнета и неравенства. Все это и определило важное место репинских произведений в мировом наследии реалистической живописи XIX 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Мастер русской живописи, «Белый город», 200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Знаменитые русские художники, изда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збука», 200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кусство. Книга для учителя, 3-я часть, Моск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росвещение», 1989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336699"/>
                </a:solidFill>
                <a:latin typeface="Verdana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остановка проблем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зучить жизнь и творчество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ить биографию художни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выявить особенности творчества художника, к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удожника  реали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) изучение литературы 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ной тем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поиск информации в Интерне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анализ кар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5640" y="1628640"/>
            <a:ext cx="457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будущий художник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густа 1844 года в город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угуеве на Украине, в семь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енного поселенца. Р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наружив склонность 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сованию и получив 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ю местных живописце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, но довольно увере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выки владения кистью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андашом, в 19  лет юнош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ет в Петербург с наде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упить в Академ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удож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1640" y="6251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лья Ефимович Репин (1844-193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Факты из биограф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62828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863 году поступил в рисовальную школу, в Петербург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учителем становится И.Н. Крамской. Затем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удентом Академии художеств. В 1871 г. получи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лотую медаль за блестящее исполнение карт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оскрешение дочери Иаира». Репин путешествует п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ижу, после возвращения в 1876 г. получил з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ка. («Садко») С 1894- 1907 гг. руководи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адемической мастерской; с 1898 занимал дол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тора Высшего художественного училища при А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01 – награжден орденом Почетного легиона; избр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леном нескольких академий. Последние годы провел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и. Похоронен 29 сентября 1930 г. Куокк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лянд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468360" y="6035760"/>
            <a:ext cx="40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Воскрешение дочери Иаир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129280" y="6108840"/>
            <a:ext cx="18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адк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5280" cy="38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475920"/>
            <a:ext cx="8001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Не ждали. 1884- 1888 г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знь революцио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и отражена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е «Не ждали». 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революцион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ижению народ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 о смысл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ческой жизн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центральным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южете 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2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роводы новобранца.1879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своего знаменитого современника В.В. Верещагина, участника русско-турецкой войны, посвятившего ей большой цикл батальных полотен, Репин не писал боевых сцен. Военная эпопея оборачивается в его глазах эпизодами трудного крестьянского существования. Таково, например, большое жанровое полотно «Проводы новобранца» (1879). В нем есть правда человеческих чувств, достоверность изображаемого крестьянского бы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Бурлаки на Волге. 1870- 187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3280" y="1752120"/>
            <a:ext cx="4176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пин выступил новато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ина стала симво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мократизма. Худо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образил бесчеловеч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ществования бурлак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янущих груженую барж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тив течения. Ше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раскаленному песк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палящим солнцем. В то ж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я он увлекся кажд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ом в отд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расивые, си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мудрые люди, подли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рои внушающие уваж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6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Запорожцы. 1880- 1891 гг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417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рожцы пишут пись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рецкому хану. Карт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вящена смех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катистый хохот, подоб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лнам от брошенного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ду камня (рука писца н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магой), нарастает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гурах, расположен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круг стола, и постепе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ихает на перифе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5:09:11Z</dcterms:created>
  <dc:creator>Student6</dc:creator>
  <dc:description/>
  <dc:language>en-US</dc:language>
  <cp:lastModifiedBy>Татьяна</cp:lastModifiedBy>
  <dcterms:modified xsi:type="dcterms:W3CDTF">2023-02-01T13:56:09Z</dcterms:modified>
  <cp:revision>61</cp:revision>
  <dc:subject/>
  <dc:title>                    « Творчество И. Е. Репина-       вершина русского и мирового    реалистического искусства XIX века»</dc:title>
</cp:coreProperties>
</file>