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2C43-D50B-49ED-878B-FD3D047F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78A8-A5E7-4DEC-94F6-A15ECD1A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DEE7-712F-4F3E-BB62-E458BA49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6287-D4B7-43C1-83E2-922ABC29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C00D-D756-46B7-B303-9F50332A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A56E-7D5D-41D4-8C2E-39502D88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7123-792E-4B2E-BE20-ED565FE7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CA62-D71A-456B-8742-4F302FFF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ABF7-2132-4F0C-AF28-A8EB4BF8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4E97-A1C4-4077-8093-BFF4EEE4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6FA1-2CBC-4179-9293-488B6E9C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8886-A886-4DAF-A742-F1FA3D68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DBB4-D184-4C30-BFCB-5890D265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39BD-E5AC-43C1-AB54-05AC8538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5005-93B9-42E0-825A-26B1B62A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8296-2DB6-4C50-A0E1-2FF9DA47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16BE-07BF-4931-8211-69BCA8C4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7756-9A9A-4CF7-93CB-816EC3AE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3AAA-0BF6-44CF-96A4-F159511C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1916-6369-4959-AB62-17E2D7F5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D327-FD38-40C1-B4F3-1996C166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A164-71DB-4A35-9B44-77FAFEA2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EB3D-F7C9-437D-BD59-5042E5C8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9321-93B6-4D21-BB49-74D0C4F6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F4A5-7B07-4553-879F-A19CD11886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0AE2-599B-4B3C-8FFE-DBA040A2F9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990720"/>
            <a:ext cx="83534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800" spc="-1" strike="noStrike">
                <a:solidFill>
                  <a:srgbClr val="336699"/>
                </a:solidFill>
                <a:latin typeface="Verdana"/>
              </a:rPr>
              <a:t>« Творчество И. Е. Репина-</a:t>
            </a:r>
            <a:br>
              <a:rPr sz="2800"/>
            </a:br>
            <a:r>
              <a:rPr b="1" lang="ru-RU" sz="2800" spc="-1" strike="noStrike">
                <a:solidFill>
                  <a:srgbClr val="336699"/>
                </a:solidFill>
                <a:latin typeface="Verdana"/>
              </a:rPr>
              <a:t>      вершина русского и мирового </a:t>
            </a:r>
            <a:br>
              <a:rPr sz="2800"/>
            </a:br>
            <a:r>
              <a:rPr b="1" lang="ru-RU" sz="2800" spc="-1" strike="noStrike">
                <a:solidFill>
                  <a:srgbClr val="336699"/>
                </a:solidFill>
                <a:latin typeface="Verdana"/>
              </a:rPr>
              <a:t>  реалистического искусства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XIX</a:t>
            </a:r>
            <a:r>
              <a:rPr b="1" lang="ru-RU" sz="2800" spc="-1" strike="noStrike">
                <a:solidFill>
                  <a:srgbClr val="336699"/>
                </a:solidFill>
                <a:latin typeface="Verdana"/>
              </a:rPr>
              <a:t> века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000" y="4220640"/>
            <a:ext cx="8351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енический проек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9 клас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уководитель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аттарова Татьяна Анатольев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39640" y="5892840"/>
            <a:ext cx="859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У «Средняя общеобразовательная школа с. Кокшайск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6156360" y="242100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Иван Грозный и сын его Иван</a:t>
            </a:r>
            <a:br>
              <a:rPr sz="3200"/>
            </a:b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     16 ноября 1581 года. 1885 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4249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ечатлены драматическ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менты российской истор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эту картину был наложе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нзурный запрет.  Эт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вязано с кровавы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бытиями убийств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ександра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казн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одовольцев в 1881 год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321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73000"/>
            <a:ext cx="846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пин прожил долгую жизнь, жизнь человека,  преданного своему делу. Его огромный живописный талант признавали все, но не все могли в полную меру оценить исторический, общественный смысл его искусства. Раньше других этот смысл почувствовал выдающийся репинский современник В.В. Стасов. Стасов оказался совершенно прав в главном и основном: творчество Репина было социально в том прямом смысле, в каком употребляла это понятие демократическая эстетика XIX века. Оно стремилось не только выразить глубокие умонастроения эпохи подобное желание было свойственно всякому большому искусству и до Репина и после, но и показать причины, рождающие такие умонастроения, показать социальную действительность своего времени, показать  разные стороны жизни пореформенной России. Не раз заявляя о своей верности заветам революционных демократов, в первую очередь - эстетическим взглядам Н.Г. Чернышевского, художник постоянно жил тревогами и надеждами передовой русской интеллигенции, ее желанием связать свое дело с борьбой против социального гнета и неравенства. Все это и определило важное место репинских произведений в мировом наследии реалистической живописи XIX ве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Мастер русской живописи, «Белый город», 2007 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Знаменитые русские художники, издательс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Азбука», 2001 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Искусство. Книга для учителя, 3-я часть, Моск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Просвещение», 1989 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ru-RU" sz="3000" spc="-1" strike="noStrike">
                <a:solidFill>
                  <a:srgbClr val="336699"/>
                </a:solidFill>
                <a:latin typeface="Verdana"/>
              </a:rPr>
              <a:t>Спасибо за внимание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Постановка проблемы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300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изучить жизнь и творчество художник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дачи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1) изучить биографию художник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) выявить особенности творчества художника, ка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удожника  реалис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етоды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1) изучение литературы п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нной тем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) поиск информации в Интернет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) анализ карти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Историческая спр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95640" y="1628640"/>
            <a:ext cx="4572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дился будущий художник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густа 1844 года в город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угуеве на Украине, в семь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енного поселенца. Ра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наружив склонность 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исованию и получив с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мощью местных живописце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вые, но довольно уверен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выки владения кистью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андашом, в 19  лет юнош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дет в Петербург с надежд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тупить в Академию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удожест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701640" y="6251400"/>
            <a:ext cx="42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лья Ефимович Репин (1844-193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311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Факты из биограф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628280"/>
            <a:ext cx="8109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1863 году поступил в рисовальную школу, в Петербург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го учителем становится И.Н. Крамской. Затем ста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удентом Академии художеств. В 1871 г. получи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олотую медаль за блестящее исполнение карти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Воскрешение дочери Иаира». Репин путешествует п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рижу, после возвращения в 1876 г. получил з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кадемика. («Садко») С 1894- 1907 гг. руководи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кадемической мастерской; с 1898 занимал дол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ктора Высшего художественного училища при АХ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1901 – награжден орденом Почетного легиона; избра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леном нескольких академий. Последние годы провел 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инляндии. Похоронен 29 сентября 1930 г. Куоккал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инлянд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7"/>
          <p:cNvSpPr/>
          <p:nvPr/>
        </p:nvSpPr>
        <p:spPr>
          <a:xfrm>
            <a:off x="468360" y="6035760"/>
            <a:ext cx="40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«Воскрешение дочери Иаир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129280" y="6108840"/>
            <a:ext cx="18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«Садко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9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35280" cy="3876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2"/>
          <a:stretch/>
        </p:blipFill>
        <p:spPr>
          <a:xfrm>
            <a:off x="5219640" y="1773360"/>
            <a:ext cx="31053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475920"/>
            <a:ext cx="8001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Не ждали. 1884- 1888 г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3280" y="1752480"/>
            <a:ext cx="4176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изнь революционн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ссии отражена 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ине «Не ждали». Он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вящена революционном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вижению народни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прос о смысл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ловеческой жизн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вляется центральным 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южете карти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392436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Проводы новобранца.1879 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58920" y="1557000"/>
            <a:ext cx="403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отличие от своего знаменитого современника В.В. Верещагина, участника русско-турецкой войны, посвятившего ей большой цикл батальных полотен, Репин не писал боевых сцен. Военная эпопея оборачивается в его глазах эпизодами трудного крестьянского существования. Таково, например, большое жанровое полотно «Проводы новобранца» (1879). В нем есть правда человеческих чувств, достоверность изображаемого крестьянского бы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968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Бурлаки на Волге. 1870- 187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3280" y="1752120"/>
            <a:ext cx="4176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пин выступил новатор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ртина стала символом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мократизма. Художн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образил бесчеловеч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уществования бурлаков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янущих груженую баржу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тив течения. Ше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 раскаленному песку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 палящим солнцем. В то ж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ремя он увлекся кажды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арактером в отдель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красивые, сильны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мудрые люди, подлинны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ерои внушающие уваже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4464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800" spc="-1" strike="noStrike">
                <a:solidFill>
                  <a:srgbClr val="336699"/>
                </a:solidFill>
                <a:latin typeface="Verdana"/>
              </a:rPr>
              <a:t>Запорожцы. 1880- 1891 гг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3280" y="1752480"/>
            <a:ext cx="4176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орожцы пишут письм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урецкому хану. Карти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вящена смех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катистый хохот, подоб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лнам от брошенного 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ду камня (рука писца на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умагой), нарастает 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игурах, расположенны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круг стола, и постепен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тихает на перифер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и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319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5:09:11Z</dcterms:created>
  <dc:creator>Student6</dc:creator>
  <dc:description/>
  <dc:language>en-US</dc:language>
  <cp:lastModifiedBy>Татьяна</cp:lastModifiedBy>
  <dcterms:modified xsi:type="dcterms:W3CDTF">2023-02-01T13:56:09Z</dcterms:modified>
  <cp:revision>61</cp:revision>
  <dc:subject/>
  <dc:title>                    « Творчество И. Е. Репина-       вершина русского и мирового    реалистического искусства XIX века»</dc:title>
</cp:coreProperties>
</file>