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2A5-3C8D-4214-9AE7-8DC94037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6A4-0DE0-4161-9562-CF6774C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27E-1B93-41E7-B74F-C6A41000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46F-17FF-4AE4-B9BA-5E483B5B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63F4-8D0D-4398-AE92-E28E57C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1EED-E6E6-4EA5-A460-332009F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608D-291B-4FAB-9737-1D47F375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AF22-D022-4916-A0D4-CA109024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F6A9-6867-428C-A591-DD4E6CE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58BB-4356-4D28-B595-E8297FF4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1DC6-6985-4C0E-ACA2-9AA16EB9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21F-A792-401D-9F71-B9118497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D6B2-F2CD-48B0-A6FB-5842287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DCC7-389B-4DA0-875D-820F15E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3245-E06E-41B2-AA73-D1582FBD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64F6-E6F4-42C1-A762-33FB7400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1A34-DCB7-4B1A-8C41-373FF890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C73-0A57-4B72-9245-8C26A152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092-2FBA-4D42-A421-F51684F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DB3-4DDB-4D7F-985E-2EE32F8E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710-27D6-4670-9C54-1B8C0112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620-7A96-456C-B11B-133C5BD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02E-D1B2-4E9B-A41C-793E0A1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1DB-45FA-415B-B262-8D85CAA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64D8-6B9F-4DE2-ABE6-1AEAC8E3AF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5E62-8428-4144-BBAD-E6161C9BA7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Мастер русской живописи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Михаил Врубел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3441240"/>
            <a:ext cx="691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ческий проект ,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Саттаров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880200" y="596916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с, Кокшай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ие Михаила Врубеля давно уже стало драгоценным достоянием русской культуры. Однако немного найдется художников, творчество которых рождало бы столь противоположные, а на первый взгляд – взаимно исключающие оценки. Его называли великим исследователем и аналитиком предметной формы, – и визионером, творцом искусства близкого по природе к ночным сновидениям. На основе вечных, непреходящих образов русского и мирового искусства Врубель творит свой миф, величественный и трагический. Художник возвеличивает тайны человеческого ду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енова М.Д., "ЭНЦИКЛОПЕДИЯ ДЛЯ ДЕТЕЙ. ТОМ 7. ИСКУССТВО. ", Москва, издательский центр "Аванта+", 199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нова, Андреева, Ардашникова, Гофман, Зингер и др., "ГОСУДАРСТВЕННАЯ ТРЕТЬЯКОВСКАЯ ГАЛЕРЕЯ. ПУТЕВОДИТЕЛЬ", Москва, издательство "Авангард", 1997 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пацкая Л.А., РУССКАЯ ХУДОЖЕСТВЕННАЯ КУЛЬТУРА, Москва "Гуманитарный издательский центр ВЛАДОС", 1997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а русской живописи. «Белый город», 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 // www. silverage. ru/paint/vrubel/vrubel_bio. 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 // www. wroubel. 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учить творчество художника, его в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усскую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Выявить особенности творчества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Дать анализ известных картин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Поиск информации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Изучение литературы по данной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нализ работ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ил Александрович Вруб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504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писец, график, худ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, иллюстратор кни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ульптор, мастер декор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ого искусства. Вруб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аву считают «отц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ого модерна. Он б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истом, ав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нровых, религиоз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фологических ком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095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734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56- 1910- годы жизни М.Вруб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5 марта 1856 года в Омске. С 5 лет начал рисовать. Окончив в 1874 году гимназию,   поступил на юридический факультет Петербургского университета, посещал вечерние классы Академии художеств. В 1880  поступил в Академию, где его учителями были выдающиеся люди, И.Е. Репин и П.П. Чистя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 Врубель у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апреля  1910 года в Санкт-Петербурге. Его торжественно хоронила Академия художеств, речь над могилой произнес Александр Б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ночи. 190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4106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лижается ночь. Веет прохладой от темных просторов древней скифской степи, где гуляет ве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земля, кони, одинокая фигура будто напоены жаром ушедшего дня. Багровые цветы чертополоха, рыжий конь - все будто несет следы ушедшего солнца. Отчизна пращу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одят лошади на фоне сумрачного неба, бескрайние дали тают во мгле, царит атмосфера первозданности,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08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мон (сидящий). 189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5640" y="1557000"/>
            <a:ext cx="4178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худож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ет образ Дем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убель пытался как мо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 объять эту тем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лощая её в скульптуре, график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писи. Фигура ю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тана с мощным торсо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чальным темным лицом помещ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добие фантаст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чивого пейзажа. Маз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есённые мастер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коративны, уподобляют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ной мозаике или витраж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енному из прозра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яющих смальт. Они лишены поко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собственной энерг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23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мон летящий. 18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75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 пронизан предчувствием гибели, обреченности. Это последний, отчаянный полет над горами. Демон почти задевает вершины своим телом. Колорит картины мрачен. В декабре 1901 года картина была закончена. Но вскоре он опять стал переписывать свое полотно, не прекращая работы даже на выставках в Москве и особенно в Петербурге, где картина была в феврале – марте 190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33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н. 18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4920" y="1483920"/>
            <a:ext cx="4899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сидит, согнувшись, около кривой березки, и все тело его срослось с землей, слилось с влажным воздухом. Фактура его сильного тела сливается с землей, травами, воздухом и водой. Здесь и изобразительно-поэтическое олицетворение образа эллинской мифологии и его необычайная русиф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311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евна  лебедь. 190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6360" y="1412640"/>
            <a:ext cx="34578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ревна лебедь- герои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ы «Царь Салтан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нной Н. Римски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саковым по сказ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Пушкина. Ее рол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е исполня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 Забела- Врубель, 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жника. Врубель пис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временно и 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ы. Ему удался об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–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рный в модер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03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6:56:07Z</dcterms:created>
  <dc:creator>Student6</dc:creator>
  <dc:description/>
  <dc:language>en-US</dc:language>
  <cp:lastModifiedBy>Татьяна</cp:lastModifiedBy>
  <dcterms:modified xsi:type="dcterms:W3CDTF">2023-02-01T14:02:03Z</dcterms:modified>
  <cp:revision>47</cp:revision>
  <dc:subject/>
  <dc:title>       «Мастер русской живописи:                  Михаил Врубель»</dc:title>
</cp:coreProperties>
</file>