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D7D0-A00A-4B0E-9608-F3B25F084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A119-3577-4CFB-AB57-D4C0CBEE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610C-6799-4D64-8BD8-46C59821D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4347-3D31-448D-A974-FBB92F211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2945-EA18-4D21-BC4F-447361F32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F626-8FFB-4096-9C43-0D5B618D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E4A2-95AF-4B87-824C-3DDFE86A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3886-1EC1-40A4-96B0-782ED8A8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660E-E838-4CED-A904-8BAECEC4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1DFF-0BC2-46E3-97DE-6FD01329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F03A-1E04-4844-A7A9-1741778D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C3FF-7AAD-4083-AEE6-F1F79957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F740-CEE8-4D9D-A50B-EC72A0F2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3A1F-9B66-4A59-8867-E24B39B0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7B486-84CA-46CE-ACC0-27391C1A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CC41-3A21-4C0B-8330-D1BEACFCE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459E-00EC-4DF4-ADA9-F24FFB104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A58A-5480-41CE-8F49-EB89DD59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AFCF-0697-49CA-91D5-4CB8EEF2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BC7A-CA0F-4A9D-A3C1-8F429343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1BAA-2BCB-4283-A022-9D1889B6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E565-71BB-4C6E-A169-F4A0E563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D6A5-4763-421F-AC3D-2CB43CC6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8AB0-84C5-453A-9E2A-2E4EFF30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999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9FC3-4039-4755-BB87-11C8D906BE0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7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999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1FFB-5FAF-425E-A0CE-204D65B4CD5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Мастер русской живописи: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      Михаил Врубель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32000" y="3441240"/>
            <a:ext cx="6912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ический проект , 9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ководитель: Саттарова Татья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тол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880200" y="5969160"/>
            <a:ext cx="703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У «Средняя общеобразовательная школа с, Кокшайс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ключ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следие Михаила Врубеля давно уже стало драгоценным достоянием русской культуры. Однако немного найдется художников, творчество которых рождало бы столь противоположные, а на первый взгляд – взаимно исключающие оценки. Его называли великим исследователем и аналитиком предметной формы, – и визионером, творцом искусства близкого по природе к ночным сновидениям. На основе вечных, непреходящих образов русского и мирового искусства Врубель творит свой миф, величественный и трагический. Художник возвеличивает тайны человеческого дух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точник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сенова М.Д., "ЭНЦИКЛОПЕДИЯ ДЛЯ ДЕТЕЙ. ТОМ 7. ИСКУССТВО. ", Москва, издательский центр "Аванта+", 1999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ленова, Андреева, Ардашникова, Гофман, Зингер и др., "ГОСУДАРСТВЕННАЯ ТРЕТЬЯКОВСКАЯ ГАЛЕРЕЯ. ПУТЕВОДИТЕЛЬ", Москва, издательство "Авангард", 1997 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пацкая Л.А., РУССКАЯ ХУДОЖЕСТВЕННАЯ КУЛЬТУРА, Москва "Гуманитарный издательский центр ВЛАДОС", 1997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тера русской живописи. «Белый город», 2007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 // www. silverage. ru/paint/vrubel/vrubel_bio. 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 // www. wroubel. ru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3200" spc="-1" strike="noStrike">
                <a:solidFill>
                  <a:srgbClr val="6666cc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ели и зада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9999"/>
                </a:solidFill>
                <a:latin typeface="Arial"/>
              </a:rPr>
              <a:t>Цель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зучить творчество художника, его вкл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усскую живо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99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Выявить особенности творчества худож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Дать анализ известных картин худож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99"/>
                </a:solidFill>
                <a:latin typeface="Arial"/>
              </a:rPr>
              <a:t>Методы исслед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Поиск информации в интерне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Изучение литературы по данной т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Анализ работ худож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ихаил Александрович Врубе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780000" y="1599840"/>
            <a:ext cx="5040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вописец, график, худож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атра, иллюстратор кни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ульптор, мастер декоратив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кладного искусства. Вруб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праву считают «отцо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сского модерна. Он бы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третистом, автор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анровых, религиозных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фологических компози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309564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торическая справ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483920"/>
            <a:ext cx="73472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56- 1910- годы жизни М.Врубе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ился 5 марта 1856 года в Омске. С 5 лет начал рисовать. Окончив в 1874 году гимназию,   поступил на юридический факультет Петербургского университета, посещал вечерние классы Академии художеств. В 1880  поступил в Академию, где его учителями были выдающиеся люди, И.Е. Репин и П.П. Чистя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хаил Врубель уме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апреля  1910 года в Санкт-Петербурге. Его торжественно хоронила Академия художеств, речь над могилой произнес Александр Бл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 ночи. 1900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00720" y="1628280"/>
            <a:ext cx="410688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ближается ночь. Веет прохладой от темных просторов древней скифской степи, где гуляет вет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земля, кони, одинокая фигура будто напоены жаром ушедшего дня. Багровые цветы чертополоха, рыжий конь - все будто несет следы ушедшего солнца. Отчизна пращу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родят лошади на фоне сумрачного неба, бескрайние дали тают во мгле, царит атмосфера первозданности, прир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40813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емон (сидящий). 1890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355640" y="1557000"/>
            <a:ext cx="4178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ое место в творчестве худож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нимает образ Демо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рубель пытался как мож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о объять эту тему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площая её в скульптуре, графике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ивописи. Фигура ю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итана с мощным торсом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чальным темным лицом помещ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одобие фантастиче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менчивого пейзажа. Мазк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несённые мастеро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коративны, уподобляют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ветной мозаике или витражу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ставленному из прозрач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яющих смальт. Они лишены поко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ладают собственной энерги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403236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емон летящий. 1899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858920" y="1413000"/>
            <a:ext cx="36752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 пронизан предчувствием гибели, обреченности. Это последний, отчаянный полет над горами. Демон почти задевает вершины своим телом. Колорит картины мрачен. В декабре 1901 года картина была закончена. Но вскоре он опять стал переписывать свое полотно, не прекращая работы даже на выставках в Москве и особенно в Петербурге, где картина была в феврале – марте 1902 г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41338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н. 1899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634920" y="1483920"/>
            <a:ext cx="48992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сидит, согнувшись, около кривой березки, и все тело его срослось с землей, слилось с влажным воздухом. Фактура его сильного тела сливается с землей, травами, воздухом и водой. Здесь и изобразительно-поэтическое олицетворение образа эллинской мифологии и его необычайная русификац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331164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аревна  лебедь. 1900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76360" y="1412640"/>
            <a:ext cx="34578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аревна лебедь- герои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ы «Царь Салтан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исанной Н. Римским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саковым по сказ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 Пушкина. Ее роль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новке исполня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. Забела- Врубель, ж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удожника. Врубель пис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овременно и портр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ны. Ему удался обра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нщины – птиц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улярный в модер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41036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06:56:07Z</dcterms:created>
  <dc:creator>Student6</dc:creator>
  <dc:description/>
  <dc:language>en-US</dc:language>
  <cp:lastModifiedBy>Татьяна</cp:lastModifiedBy>
  <dcterms:modified xsi:type="dcterms:W3CDTF">2023-02-01T14:02:03Z</dcterms:modified>
  <cp:revision>47</cp:revision>
  <dc:subject/>
  <dc:title>       «Мастер русской живописи:                  Михаил Врубель»</dc:title>
</cp:coreProperties>
</file>