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A05-8A96-43DA-8516-F41C2B3C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F2A-4461-4A71-863A-C3D3D070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466-FCCF-4EBD-90B0-65A409AC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176-E79E-47A5-BEFE-FC4BC3B4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B8A0-0449-4EE6-A1D5-7A90F389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323A-349F-40B7-89F1-9B2F47E0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5582-4069-4415-B754-EB1A2EB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E01E-276F-4FFA-8E12-72A0B8B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C702-76C8-4F7B-9989-A9742888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6F15-999C-4E5A-AB79-57850B2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7B0-D0D7-4DA9-B684-CA61A475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ADC-1AC6-476A-9032-90A48FD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FDBC-6099-4C96-8D0B-D554BBF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0B2C-025C-4D71-AF17-B1FF5EB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FB8-8141-4447-A8ED-389EBD93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507-F361-4A76-8694-301BDE72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12F3-6EEC-406F-A9B6-35849367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85C-6E00-44E8-AF29-83CE36F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2E9-06D5-4595-B4B2-30965F3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318-669E-4B66-BD5E-F1046EDD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BB2-1E93-4F23-9328-A169F7B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665-8008-49B7-B880-72DF9B7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DC4-8F76-4591-85B4-4AEC072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D66-6BFD-47A5-8BF4-BA6BFA0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61E7-FEA8-495B-8175-483F584A04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DD6B-B9B9-4357-AB7C-80F78E2F84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Мастер русской живописи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Михаил Врубел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3441240"/>
            <a:ext cx="691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ческий проект ,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Саттаров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80200" y="596916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с, Кокшай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ие Михаила Врубеля давно уже стало драгоценным достоянием русской культуры. Однако немного найдется художников, творчество которых рождало бы столь противоположные, а на первый взгляд – взаимно исключающие оценки. Его называли великим исследователем и аналитиком предметной формы, – и визионером, творцом искусства близкого по природе к ночным сновидениям. На основе вечных, непреходящих образов русского и мирового искусства Врубель творит свой миф, величественный и трагический. Художник возвеличивает тайны человеческого ду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енова М.Д., "ЭНЦИКЛОПЕДИЯ ДЛЯ ДЕТЕЙ. ТОМ 7. ИСКУССТВО. ", Москва, издательский центр "Аванта+", 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нова, Андреева, Ардашникова, Гофман, Зингер и др., "ГОСУДАРСТВЕННАЯ ТРЕТЬЯКОВСКАЯ ГАЛЕРЕЯ. ПУТЕВОДИТЕЛЬ", Москва, издательство "Авангард", 1997 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пацкая Л.А., РУССКАЯ ХУДОЖЕСТВЕННАЯ КУЛЬТУРА, Москва "Гуманитарный издательский центр ВЛАДОС", 1997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а русской живописи. «Белый город»,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 // www. silverage. ru/paint/vrubel/vrubel_bio.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 // www. wroubel. 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учить творчество художника, его в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сскую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Выявить особенности творчества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Дать анализ известных картин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оиск информации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Изучение литературы по данной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нализ работ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ил Александрович Вруб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504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ец, график, худ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, иллюстратор кн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льптор, мастер декор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ого искусства. Вруб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аву считают «отц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ого модерна. Он б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истом, ав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нровых, религиоз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фологических ком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095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734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6- 1910- годы жизни М.Вруб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5 марта 1856 года в Омске. С 5 лет начал рисовать. Окончив в 1874 году гимназию,   поступил на юридический факультет Петербургского университета, посещал вечерние классы Академии художеств. В 1880  поступил в Академию, где его учителями были выдающиеся люди, И.Е. Репин и П.П. Чистя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Врубель у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преля  1910 года в Санкт-Петербурге. Его торжественно хоронила Академия художеств, речь над могилой произнес Александр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ночи. 19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4106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лижается ночь. Веет прохладой от темных просторов древней скифской степи, где гуляет ве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земля, кони, одинокая фигура будто напоены жаром ушедшего дня. Багровые цветы чертополоха, рыжий конь - все будто несет следы ушедшего солнца. Отчизна пращу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дят лошади на фоне сумрачного неба, бескрайние дали тают во мгле, царит атмосфера первозданности,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8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мон (сидящий). 189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5640" y="1557000"/>
            <a:ext cx="4178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худож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образ Дем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убель пытался как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 объять эту те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лощая её в скульптуре, график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писи. Фигура ю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тана с мощным торс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альным темным лицом помещ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добие фантаст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чивого пейзажа. Маз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есённые масте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оративны, уподобляют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ной мозаике или витраж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енному из прозра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яющих смальт. Они лишены поко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собственной энерг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мон летящий. 18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75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 пронизан предчувствием гибели, обреченности. Это последний, отчаянный полет над горами. Демон почти задевает вершины своим телом. Колорит картины мрачен. В декабре 1901 года картина была закончена. Но вскоре он опять стал переписывать свое полотно, не прекращая работы даже на выставках в Москве и особенно в Петербурге, где картина была в феврале – марте 190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33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. 18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899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сидит, согнувшись, около кривой березки, и все тело его срослось с землей, слилось с влажным воздухом. Фактура его сильного тела сливается с землей, травами, воздухом и водой. Здесь и изобразительно-поэтическое олицетворение образа эллинской мифологии и его необычайная русиф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31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евна  лебедь. 19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6360" y="1412640"/>
            <a:ext cx="3457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ревна лебедь- герои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ы «Царь Салтан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ной Н. Римски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саковым по ска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Пушкина. Ее рол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е исполня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 Забела- Врубель,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ника. Врубель пис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временно и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ы. Ему удался об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–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рный в моде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03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6:56:07Z</dcterms:created>
  <dc:creator>Student6</dc:creator>
  <dc:description/>
  <dc:language>en-US</dc:language>
  <cp:lastModifiedBy>Татьяна</cp:lastModifiedBy>
  <dcterms:modified xsi:type="dcterms:W3CDTF">2023-02-01T14:02:03Z</dcterms:modified>
  <cp:revision>47</cp:revision>
  <dc:subject/>
  <dc:title>       «Мастер русской живописи:                  Михаил Врубель»</dc:title>
</cp:coreProperties>
</file>