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6.png" ContentType="image/png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8A35-7246-4362-96EA-013C73056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249C-B591-4E4E-9604-5FF8485E73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9330-2C79-4141-B18A-00F4A52251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8A83-9D56-424D-B8E4-3D269663DD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15E7-06D6-461B-BB0C-4D7D6EBEBD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03A7-DA71-47E8-876B-F44A3079B1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809-D92B-4C17-8ED3-5F31DC0F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6AE-D943-4E4E-B12E-DB43328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B29-F304-4B88-AB8A-FCC5857D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6AC-548B-4410-A04E-371AF2A6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7C8F-D452-4DDF-9C6C-1B029E81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01F5-38A8-4041-A257-11C1181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330A-189E-406E-BEAD-778628F2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EF6C-F2DE-499C-BAC4-4698DE64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1277-FBD9-49F7-88CD-B898B89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812B-1FAA-45FB-BD0D-E509B50D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DF80-2E48-45F6-802C-7675914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F73-82C1-43CB-B6CE-15906495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DE30-D5F0-405B-9022-F6D18E62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2F40-D9A3-4811-920D-73A7188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BB0B-2897-4B80-8FB4-A833C60F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FC89-F7A8-465B-B433-47C2F6EE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4DFF-3BCA-4391-9D49-9C7EA3D4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92A-688D-4478-9CC8-479D7914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ABA-95F5-4E1A-9E64-179FE2A9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F0B-88A9-4603-A1AC-14792155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E3B-0667-4A24-A4D1-5B5A60D3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62D-9024-4ABF-B996-F84CC9D7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1CD-E55C-402D-BC5C-8DDB5EB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DC1-4D53-4F60-AC53-512E39D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2014-D9CE-41A1-9508-F197857FA4C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6CBD-5827-4289-B4FC-2C8BEA99B98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28600" y="-61920"/>
            <a:ext cx="5181480" cy="665316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3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93758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51175208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52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blokada"/>
          <p:cNvPicPr/>
          <p:nvPr/>
        </p:nvPicPr>
        <p:blipFill>
          <a:blip r:embed="rId1"/>
          <a:stretch/>
        </p:blipFill>
        <p:spPr>
          <a:xfrm>
            <a:off x="457200" y="343080"/>
            <a:ext cx="8077320" cy="60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By+ccET.wmv" descr=""/>
          <p:cNvPicPr/>
          <p:nvPr/>
        </p:nvPicPr>
        <p:blipFill>
          <a:blip r:embed="rId1"/>
          <a:stretch/>
        </p:blipFill>
        <p:spPr>
          <a:xfrm>
            <a:off x="3048120" y="2811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Мальчишки ленинградцы.mp3.mp4" descr=""/>
          <p:cNvPicPr/>
          <p:nvPr/>
        </p:nvPicPr>
        <p:blipFill>
          <a:blip r:embed="rId2"/>
          <a:stretch/>
        </p:blipFill>
        <p:spPr>
          <a:xfrm>
            <a:off x="1600200" y="1249200"/>
            <a:ext cx="64389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4453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775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9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3670cae477c5c9d39163c0a31fdac8a1_full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05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5" descr="img_1_12_0_4"/>
          <p:cNvPicPr/>
          <p:nvPr/>
        </p:nvPicPr>
        <p:blipFill>
          <a:blip r:embed="rId2"/>
          <a:stretch/>
        </p:blipFill>
        <p:spPr>
          <a:xfrm>
            <a:off x="380880" y="384120"/>
            <a:ext cx="8305920" cy="609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261035759_40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0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Gendel_Sarabanda_-_Gendel_Saraband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411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tretch/>
        </p:blipFill>
        <p:spPr>
          <a:xfrm>
            <a:off x="717480" y="1295280"/>
            <a:ext cx="76644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1263410919"/>
          <p:cNvPicPr/>
          <p:nvPr/>
        </p:nvPicPr>
        <p:blipFill>
          <a:blip r:embed="rId1"/>
          <a:stretch/>
        </p:blipFill>
        <p:spPr>
          <a:xfrm>
            <a:off x="914400" y="533520"/>
            <a:ext cx="7408800" cy="556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34275"/>
          <p:cNvPicPr/>
          <p:nvPr/>
        </p:nvPicPr>
        <p:blipFill>
          <a:blip r:embed="rId2"/>
          <a:stretch/>
        </p:blipFill>
        <p:spPr>
          <a:xfrm>
            <a:off x="762120" y="228600"/>
            <a:ext cx="7696080" cy="632448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9" name="leningr4.mp3" descr=""/>
          <p:cNvPicPr/>
          <p:nvPr/>
        </p:nvPicPr>
        <p:blipFill>
          <a:blip r:embed="rId4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istorya"/>
          <p:cNvPicPr/>
          <p:nvPr/>
        </p:nvPicPr>
        <p:blipFill>
          <a:blip r:embed="rId5"/>
          <a:stretch/>
        </p:blipFill>
        <p:spPr>
          <a:xfrm>
            <a:off x="685800" y="228600"/>
            <a:ext cx="7848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609480" y="1143000"/>
            <a:ext cx="78487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Из 3,5 миллионо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ленинградце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 живых осталос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600 тысяч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blokada_off"/>
          <p:cNvPicPr/>
          <p:nvPr/>
        </p:nvPicPr>
        <p:blipFill>
          <a:blip r:embed="rId1"/>
          <a:srcRect l="0" t="0" r="0" b="9092"/>
          <a:stretch/>
        </p:blipFill>
        <p:spPr>
          <a:xfrm>
            <a:off x="1752480" y="457200"/>
            <a:ext cx="5619960" cy="540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318558439937.mp4" descr=""/>
          <p:cNvPicPr/>
          <p:nvPr/>
        </p:nvPicPr>
        <p:blipFill>
          <a:blip r:embed="rId2"/>
          <a:stretch/>
        </p:blipFill>
        <p:spPr>
          <a:xfrm>
            <a:off x="1523880" y="2278080"/>
            <a:ext cx="6096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02"/>
          <p:cNvPicPr/>
          <p:nvPr/>
        </p:nvPicPr>
        <p:blipFill>
          <a:blip r:embed="rId1"/>
          <a:stretch/>
        </p:blipFill>
        <p:spPr>
          <a:xfrm>
            <a:off x="2220840" y="304920"/>
            <a:ext cx="4645080" cy="617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811760"/>
          </a:xfrm>
          <a:prstGeom prst="rect">
            <a:avLst/>
          </a:prstGeom>
          <a:ln w="0">
            <a:noFill/>
          </a:ln>
        </p:spPr>
      </p:pic>
      <p:pic>
        <p:nvPicPr>
          <p:cNvPr id="126" name="ленинград2.mp3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Тверицкое_кладбище_Ярославль01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0720" y="324000"/>
            <a:ext cx="824256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_16019546"/>
          <p:cNvPicPr/>
          <p:nvPr/>
        </p:nvPicPr>
        <p:blipFill>
          <a:blip r:embed="rId2"/>
          <a:stretch/>
        </p:blipFill>
        <p:spPr>
          <a:xfrm>
            <a:off x="838080" y="152388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465120" y="682560"/>
            <a:ext cx="791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videoplayback.mp4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45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10.mp3" descr=""/>
          <p:cNvPicPr/>
          <p:nvPr/>
        </p:nvPicPr>
        <p:blipFill>
          <a:blip r:embed="rId1"/>
          <a:stretch/>
        </p:blipFill>
        <p:spPr>
          <a:xfrm>
            <a:off x="78487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артинки по запросу &quot;Плакаты о блокаде Ленинграда&quot;&quot;"/>
          <p:cNvPicPr/>
          <p:nvPr/>
        </p:nvPicPr>
        <p:blipFill>
          <a:blip r:embed="rId2"/>
          <a:stretch/>
        </p:blipFill>
        <p:spPr>
          <a:xfrm>
            <a:off x="2209680" y="-17640"/>
            <a:ext cx="4724640" cy="68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53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00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4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pic1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WordArt 8"/>
          <p:cNvSpPr txBox="1"/>
          <p:nvPr/>
        </p:nvSpPr>
        <p:spPr>
          <a:xfrm>
            <a:off x="533520" y="57150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Мужество!  Воля! Сила духа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borka_Nevsky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V_evakuaziju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5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pic8"/>
          <p:cNvPicPr/>
          <p:nvPr/>
        </p:nvPicPr>
        <p:blipFill>
          <a:blip r:embed="rId1"/>
          <a:stretch/>
        </p:blipFill>
        <p:spPr>
          <a:xfrm>
            <a:off x="2349360" y="228600"/>
            <a:ext cx="444528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48492267_0_3884_bd97a39c_XL"/>
          <p:cNvPicPr/>
          <p:nvPr/>
        </p:nvPicPr>
        <p:blipFill>
          <a:blip r:embed="rId1"/>
          <a:stretch/>
        </p:blipFill>
        <p:spPr>
          <a:xfrm>
            <a:off x="1447920" y="430200"/>
            <a:ext cx="6248160" cy="599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10-27T07:53:2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