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6.png" ContentType="image/png"/>
  <Override PartName="/ppt/media/image6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7403-3E7D-41BB-B147-5925F428D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3673-2A80-40C6-8D97-F7D03C91CA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447B-995A-477D-AEAC-0CE0F4C099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8F2A-755E-456F-9E7B-526B9761D7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E07E-23AC-49FE-829B-79F6A8256A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EC03-95E5-40FC-9FB7-6D62E33D59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51C-D76E-4279-9002-776D3368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008-2D73-40DE-B75A-87930C98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408-19F7-464B-BFB1-68A7EF06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6BC-9474-4973-9115-2CC27677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405E-A18F-445D-B0A0-AE5DC7D8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CD9F-BF1D-4DF7-A20C-47B642B1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994B-2329-4A88-882E-B79940DC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893D-A5EF-4246-AA58-79D9A9A1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C2DF-3541-49C4-8773-FE1B0549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C3C6-3414-4D09-8D7D-0D6A786B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7031-EE4E-4C34-AE2D-1CA022D5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426-AA10-4350-9A8C-6E0DBDD2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796B-8ADC-406C-81F4-0CDB0A27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932C-4E98-4232-A636-E97E070C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AE79-04D8-4D9E-8AA4-06F80942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F70F-6165-4832-90F9-00299FB9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C3D-3082-445D-988F-5CA4376E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061-EE29-41B7-84C0-1F831917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9A6-CDA6-40F8-AF09-64179948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0C1-C0A7-492A-9DB8-BAA84B72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888-7A16-4550-A22F-2CA4DBF3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0B7-1C79-4EA6-A070-63BE46FA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32A-9C94-47FF-B30C-6C4ECE0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AE9-CC22-4C08-90F6-5547F22C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C183-8377-48A6-B4E1-9326930C1E3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8CE3-7E57-4A74-83B4-DF7F108F65E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28600" y="-61920"/>
            <a:ext cx="5181480" cy="665316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3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93758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151175208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525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blokada"/>
          <p:cNvPicPr/>
          <p:nvPr/>
        </p:nvPicPr>
        <p:blipFill>
          <a:blip r:embed="rId1"/>
          <a:stretch/>
        </p:blipFill>
        <p:spPr>
          <a:xfrm>
            <a:off x="457200" y="343080"/>
            <a:ext cx="8077320" cy="60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By+ccET.wmv" descr=""/>
          <p:cNvPicPr/>
          <p:nvPr/>
        </p:nvPicPr>
        <p:blipFill>
          <a:blip r:embed="rId1"/>
          <a:stretch/>
        </p:blipFill>
        <p:spPr>
          <a:xfrm>
            <a:off x="3048120" y="2811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Мальчишки ленинградцы.mp3.mp4" descr=""/>
          <p:cNvPicPr/>
          <p:nvPr/>
        </p:nvPicPr>
        <p:blipFill>
          <a:blip r:embed="rId2"/>
          <a:stretch/>
        </p:blipFill>
        <p:spPr>
          <a:xfrm>
            <a:off x="1600200" y="1249200"/>
            <a:ext cx="64389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4453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775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9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3670cae477c5c9d39163c0a31fdac8a1_full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05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5" descr="img_1_12_0_4"/>
          <p:cNvPicPr/>
          <p:nvPr/>
        </p:nvPicPr>
        <p:blipFill>
          <a:blip r:embed="rId2"/>
          <a:stretch/>
        </p:blipFill>
        <p:spPr>
          <a:xfrm>
            <a:off x="380880" y="384120"/>
            <a:ext cx="8305920" cy="609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261035759_40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0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Gendel_Sarabanda_-_Gendel_Sarabanda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7411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tretch/>
        </p:blipFill>
        <p:spPr>
          <a:xfrm>
            <a:off x="717480" y="1295280"/>
            <a:ext cx="76644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1263410919"/>
          <p:cNvPicPr/>
          <p:nvPr/>
        </p:nvPicPr>
        <p:blipFill>
          <a:blip r:embed="rId1"/>
          <a:stretch/>
        </p:blipFill>
        <p:spPr>
          <a:xfrm>
            <a:off x="914400" y="533520"/>
            <a:ext cx="7408800" cy="556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34275"/>
          <p:cNvPicPr/>
          <p:nvPr/>
        </p:nvPicPr>
        <p:blipFill>
          <a:blip r:embed="rId2"/>
          <a:stretch/>
        </p:blipFill>
        <p:spPr>
          <a:xfrm>
            <a:off x="762120" y="228600"/>
            <a:ext cx="7696080" cy="632448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2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9" name="leningr4.mp3" descr=""/>
          <p:cNvPicPr/>
          <p:nvPr/>
        </p:nvPicPr>
        <p:blipFill>
          <a:blip r:embed="rId4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istorya"/>
          <p:cNvPicPr/>
          <p:nvPr/>
        </p:nvPicPr>
        <p:blipFill>
          <a:blip r:embed="rId5"/>
          <a:stretch/>
        </p:blipFill>
        <p:spPr>
          <a:xfrm>
            <a:off x="685800" y="228600"/>
            <a:ext cx="7848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609480" y="1143000"/>
            <a:ext cx="78487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Из 3,5 миллионо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ленинградце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 живых осталос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600 тысяч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blokada_off"/>
          <p:cNvPicPr/>
          <p:nvPr/>
        </p:nvPicPr>
        <p:blipFill>
          <a:blip r:embed="rId1"/>
          <a:srcRect l="0" t="0" r="0" b="9092"/>
          <a:stretch/>
        </p:blipFill>
        <p:spPr>
          <a:xfrm>
            <a:off x="1752480" y="457200"/>
            <a:ext cx="5619960" cy="540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318558439937.mp4" descr=""/>
          <p:cNvPicPr/>
          <p:nvPr/>
        </p:nvPicPr>
        <p:blipFill>
          <a:blip r:embed="rId2"/>
          <a:stretch/>
        </p:blipFill>
        <p:spPr>
          <a:xfrm>
            <a:off x="1523880" y="2278080"/>
            <a:ext cx="6096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002"/>
          <p:cNvPicPr/>
          <p:nvPr/>
        </p:nvPicPr>
        <p:blipFill>
          <a:blip r:embed="rId1"/>
          <a:stretch/>
        </p:blipFill>
        <p:spPr>
          <a:xfrm>
            <a:off x="2220840" y="304920"/>
            <a:ext cx="4645080" cy="617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811760"/>
          </a:xfrm>
          <a:prstGeom prst="rect">
            <a:avLst/>
          </a:prstGeom>
          <a:ln w="0">
            <a:noFill/>
          </a:ln>
        </p:spPr>
      </p:pic>
      <p:pic>
        <p:nvPicPr>
          <p:cNvPr id="126" name="ленинград2.mp3" descr=""/>
          <p:cNvPicPr/>
          <p:nvPr/>
        </p:nvPicPr>
        <p:blipFill>
          <a:blip r:embed="rId3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Тверицкое_кладбище_Ярославль01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50720" y="324000"/>
            <a:ext cx="824256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_16019546"/>
          <p:cNvPicPr/>
          <p:nvPr/>
        </p:nvPicPr>
        <p:blipFill>
          <a:blip r:embed="rId2"/>
          <a:stretch/>
        </p:blipFill>
        <p:spPr>
          <a:xfrm>
            <a:off x="838080" y="1523880"/>
            <a:ext cx="7467840" cy="4981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465120" y="682560"/>
            <a:ext cx="791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videoplayback.mp4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45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10.mp3" descr=""/>
          <p:cNvPicPr/>
          <p:nvPr/>
        </p:nvPicPr>
        <p:blipFill>
          <a:blip r:embed="rId1"/>
          <a:stretch/>
        </p:blipFill>
        <p:spPr>
          <a:xfrm>
            <a:off x="784872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артинки по запросу &quot;Плакаты о блокаде Ленинграда&quot;&quot;"/>
          <p:cNvPicPr/>
          <p:nvPr/>
        </p:nvPicPr>
        <p:blipFill>
          <a:blip r:embed="rId2"/>
          <a:stretch/>
        </p:blipFill>
        <p:spPr>
          <a:xfrm>
            <a:off x="2209680" y="-17640"/>
            <a:ext cx="4724640" cy="689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953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00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4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pic1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WordArt 8"/>
          <p:cNvSpPr txBox="1"/>
          <p:nvPr/>
        </p:nvSpPr>
        <p:spPr>
          <a:xfrm>
            <a:off x="533520" y="57150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Мужество!  Воля! Сила духа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Uborka_Nevsky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V_evakuaziju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5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pic8"/>
          <p:cNvPicPr/>
          <p:nvPr/>
        </p:nvPicPr>
        <p:blipFill>
          <a:blip r:embed="rId1"/>
          <a:stretch/>
        </p:blipFill>
        <p:spPr>
          <a:xfrm>
            <a:off x="2349360" y="228600"/>
            <a:ext cx="444528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48492267_0_3884_bd97a39c_XL"/>
          <p:cNvPicPr/>
          <p:nvPr/>
        </p:nvPicPr>
        <p:blipFill>
          <a:blip r:embed="rId1"/>
          <a:stretch/>
        </p:blipFill>
        <p:spPr>
          <a:xfrm>
            <a:off x="1447920" y="430200"/>
            <a:ext cx="6248160" cy="599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10-27T07:53:2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