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106-9DAC-46B5-A8A8-0BE5532B8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F584-E285-4648-BF37-C28220C382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D21-70AB-4EA3-9D69-F7464B2A08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B56D-F1D8-46C8-999E-253668BC70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AD8-3916-497C-922A-1F9E55AA2F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3B72-3567-4D18-802A-4CADC21567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41E-596F-4AC6-8D01-18300C08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0DA-8FEF-4DE5-9B08-C6B5FCB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A92-270F-4341-9305-637230EF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B58-2689-471C-93C8-6C3CF5E3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6685-8AC6-4696-A11F-CD3DEF4B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373E-9072-4876-8D80-1DCBB08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9A42-F9E8-4961-A215-89EF4A3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05AB-5628-4B16-B7A1-BC6A0F8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8A7E-28AB-4C13-967C-985D726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803-6C60-408E-B5A6-23AB5D4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7092-A85D-4BA9-A4B9-B11D268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59F-915C-47DB-A3E3-6CC8F1F5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495-0B00-4273-BEF7-4E2DBAD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83AB-E514-4641-823B-942BA19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4527-2DF6-432A-979B-A9232F5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5791-86CB-4BDF-8697-99C3943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8EC2-1C52-4728-8BCA-C75A6E89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C27-F810-49FD-A8CE-A5EE0C71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C39-30A1-4023-A622-611348E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D0E-D481-46D8-89CD-9E80B0D1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A3D-5DF1-4EE7-8EF2-42051A0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41A-2493-4B1B-9067-85896CF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958-38D8-4576-91B7-52C4D33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150-1414-4218-BFA5-967AEF4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B459-527C-4051-83F7-5E1BEF1A079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0F2-E545-4A33-ABAE-6750C6342EC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5181480" cy="66531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3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93758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51175208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blokada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By+ccET.wmv" descr=""/>
          <p:cNvPicPr/>
          <p:nvPr/>
        </p:nvPicPr>
        <p:blipFill>
          <a:blip r:embed="rId1"/>
          <a:stretch/>
        </p:blipFill>
        <p:spPr>
          <a:xfrm>
            <a:off x="3048120" y="2811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Мальчишки ленинградцы.mp3.mp4" descr=""/>
          <p:cNvPicPr/>
          <p:nvPr/>
        </p:nvPicPr>
        <p:blipFill>
          <a:blip r:embed="rId2"/>
          <a:stretch/>
        </p:blipFill>
        <p:spPr>
          <a:xfrm>
            <a:off x="1600200" y="1249200"/>
            <a:ext cx="64389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4453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775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9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3670cae477c5c9d39163c0a31fdac8a1_full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0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5" descr="img_1_12_0_4"/>
          <p:cNvPicPr/>
          <p:nvPr/>
        </p:nvPicPr>
        <p:blipFill>
          <a:blip r:embed="rId2"/>
          <a:stretch/>
        </p:blipFill>
        <p:spPr>
          <a:xfrm>
            <a:off x="380880" y="384120"/>
            <a:ext cx="8305920" cy="609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61035759_40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0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Gendel_Sarabanda_-_Gendel_Saraband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411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717480" y="1295280"/>
            <a:ext cx="76644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1263410919"/>
          <p:cNvPicPr/>
          <p:nvPr/>
        </p:nvPicPr>
        <p:blipFill>
          <a:blip r:embed="rId1"/>
          <a:stretch/>
        </p:blipFill>
        <p:spPr>
          <a:xfrm>
            <a:off x="914400" y="533520"/>
            <a:ext cx="7408800" cy="556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34275"/>
          <p:cNvPicPr/>
          <p:nvPr/>
        </p:nvPicPr>
        <p:blipFill>
          <a:blip r:embed="rId2"/>
          <a:stretch/>
        </p:blipFill>
        <p:spPr>
          <a:xfrm>
            <a:off x="762120" y="228600"/>
            <a:ext cx="7696080" cy="63244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leningr4.mp3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istorya"/>
          <p:cNvPicPr/>
          <p:nvPr/>
        </p:nvPicPr>
        <p:blipFill>
          <a:blip r:embed="rId5"/>
          <a:stretch/>
        </p:blipFill>
        <p:spPr>
          <a:xfrm>
            <a:off x="685800" y="2286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609480" y="11430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3,5 миллионо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енинградце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живых осталос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600 тыся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blokada_off"/>
          <p:cNvPicPr/>
          <p:nvPr/>
        </p:nvPicPr>
        <p:blipFill>
          <a:blip r:embed="rId1"/>
          <a:srcRect l="0" t="0" r="0" b="9092"/>
          <a:stretch/>
        </p:blipFill>
        <p:spPr>
          <a:xfrm>
            <a:off x="1752480" y="457200"/>
            <a:ext cx="5619960" cy="540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318558439937.mp4" descr=""/>
          <p:cNvPicPr/>
          <p:nvPr/>
        </p:nvPicPr>
        <p:blipFill>
          <a:blip r:embed="rId2"/>
          <a:stretch/>
        </p:blipFill>
        <p:spPr>
          <a:xfrm>
            <a:off x="1523880" y="2278080"/>
            <a:ext cx="6096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02"/>
          <p:cNvPicPr/>
          <p:nvPr/>
        </p:nvPicPr>
        <p:blipFill>
          <a:blip r:embed="rId1"/>
          <a:stretch/>
        </p:blipFill>
        <p:spPr>
          <a:xfrm>
            <a:off x="2220840" y="304920"/>
            <a:ext cx="464508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811760"/>
          </a:xfrm>
          <a:prstGeom prst="rect">
            <a:avLst/>
          </a:prstGeom>
          <a:ln w="0">
            <a:noFill/>
          </a:ln>
        </p:spPr>
      </p:pic>
      <p:pic>
        <p:nvPicPr>
          <p:cNvPr id="126" name="ленинград2.mp3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Тверицкое_кладбище_Ярославль01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_16019546"/>
          <p:cNvPicPr/>
          <p:nvPr/>
        </p:nvPicPr>
        <p:blipFill>
          <a:blip r:embed="rId2"/>
          <a:stretch/>
        </p:blipFill>
        <p:spPr>
          <a:xfrm>
            <a:off x="838080" y="152388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65120" y="68256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videoplayback.mp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10.mp3" descr=""/>
          <p:cNvPicPr/>
          <p:nvPr/>
        </p:nvPicPr>
        <p:blipFill>
          <a:blip r:embed="rId1"/>
          <a:stretch/>
        </p:blipFill>
        <p:spPr>
          <a:xfrm>
            <a:off x="78487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ртинки по запросу &quot;Плакаты о блокаде Ленинграда&quot;&quot;"/>
          <p:cNvPicPr/>
          <p:nvPr/>
        </p:nvPicPr>
        <p:blipFill>
          <a:blip r:embed="rId2"/>
          <a:stretch/>
        </p:blipFill>
        <p:spPr>
          <a:xfrm>
            <a:off x="2209680" y="-17640"/>
            <a:ext cx="4724640" cy="68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53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00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4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ic1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WordArt 8"/>
          <p:cNvSpPr txBox="1"/>
          <p:nvPr/>
        </p:nvSpPr>
        <p:spPr>
          <a:xfrm>
            <a:off x="533520" y="57150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ужество!  Воля! Сила духа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borka_Nevsky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V_evakuaziju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5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ic8"/>
          <p:cNvPicPr/>
          <p:nvPr/>
        </p:nvPicPr>
        <p:blipFill>
          <a:blip r:embed="rId1"/>
          <a:stretch/>
        </p:blipFill>
        <p:spPr>
          <a:xfrm>
            <a:off x="2349360" y="228600"/>
            <a:ext cx="444528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48492267_0_3884_bd97a39c_XL"/>
          <p:cNvPicPr/>
          <p:nvPr/>
        </p:nvPicPr>
        <p:blipFill>
          <a:blip r:embed="rId1"/>
          <a:stretch/>
        </p:blipFill>
        <p:spPr>
          <a:xfrm>
            <a:off x="1447920" y="430200"/>
            <a:ext cx="6248160" cy="599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10-27T07:53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