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9C13-90B1-4E9C-9563-FB6D38CC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E2A9-DF3C-4FF3-9887-2C30DBE9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D9A78-102F-4933-A4F3-6E084718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FAACB-A663-4F34-8D22-EEBA2497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D9A61-D6CE-48CD-AFFB-E98473D0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FFBED-FE70-4B33-AA56-64D9C7BE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0C9B8-0A82-4E5A-8230-B58409B2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22260-A1FD-4828-80C0-11A948DD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A46B4-7CDE-4586-99DA-A869166B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8EDB2-9BF1-4D7C-B542-56CA7FA5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DA18A-3DAE-4158-AEC3-F90D88DD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C9AFC-B621-44FD-98CB-F74F6292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4B62-A98F-4669-9189-E45CB6D1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8ED32-54F1-4385-B495-0F2AB12A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F1C8F-ADB0-43C9-A7D4-0B35BA34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0D852-882E-4097-B51A-DB45BA66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937AC-9C51-4ACE-9465-E40EF6E7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33CA4-7F80-4FB8-BE3B-49AE605E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1EF0D-93E7-49B6-851F-B5C813BB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0A6FE-563F-4017-9481-4B85F365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5FA67-F33E-48A8-A3CE-6C5BA068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CE8E3-A25B-4028-92E1-745B4B70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6322D-4D76-43B0-9E31-E71E7266A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029F-D569-429C-9092-EACC3064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239C4-A6E2-4DA1-A5EC-6BB62059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1DAF0-9840-411B-A404-9B162C0C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B3F43-62E1-4C65-84AA-909118AD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49649-3CCE-4806-A37D-51E9CC57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F34B9-FB5B-41E5-B60A-2D8911E5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5F660-85CE-4FC9-BF91-20431D9C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4D2C7-E4D8-4DE0-98E5-BC14076B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2D7A1-D50F-457D-A863-5CEA1C12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39905-BC8C-4A3C-A316-144B3F3E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ACA6F-10D0-4E75-9BE3-78717E07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D950-9550-4C0E-9CA0-5EA29324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97851-D04D-4A5B-AC93-70C549F9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5018E-8D16-40C2-8739-4BE5EFA8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F3237-B6B0-4EDB-ABC4-2F85367E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12CD1-30C6-4AFD-BF34-FE427302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2487F-3700-4A91-84C6-2E3D7E4C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0DECF-7A48-4667-8773-876AB54D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4AAE6-D707-4177-95C1-EBE9FA9A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B3F05-49F2-49B2-8E82-D97EA728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71F67-AF6A-4202-A020-BF98DF1A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71946-71F1-4BAA-9BCB-A06E272F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B09F-BBF8-42C5-ABBF-F49DC2C8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5F06A-A0CE-408B-8EFF-26B6EEB8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9BFDE-B31C-4AE6-9220-14E3BA4E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A481C9-39FF-43C2-BBE4-D78E07F0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4FFC2-A4C4-4628-8023-3F119F19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09A79-FEF7-4F63-8B2A-4B8E9F2F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DECF8B-7294-4404-A73E-5CCEBC54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E20D88-587A-48E9-8D1D-1EAF803E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453FC7-11D8-4886-BA8A-0EC2161A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73909B-C5B4-4F3F-A424-5AA38995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C2A35D-4A06-4F26-9177-40F606F0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22C0-1E62-4515-B86B-4EFCC553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44A478-E795-4377-9177-B7F6AB63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B39356-FF16-436B-8C5F-87B108C2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413B2A-78F4-4B25-A8C9-4D308102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F036CA-71F3-4038-9D39-C59138A4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1F36C5-6517-4D22-9F02-ACEC9913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08317A-DB14-4592-9AC9-64F9D33E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D147BD-BDB2-4F97-8F9A-547A9A8B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E32B77-A3B8-431F-B703-BBE6958C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2588B8-6268-4251-8687-FF38E979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E57E60-3CCF-4031-A9E7-482C6D0D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BD42-9317-4D4A-A1F6-2D1748CD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CD8A0F-0E28-476C-B06D-A98A8671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B571F6-AD5D-4A1B-8AE3-A563FC94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E4F746-9BB2-4091-A544-0DDCB1E6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646D81-6012-45ED-A549-80CB77E2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49E78C-04DA-4A20-A997-CFE4648F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C51253-3546-4F3A-A607-12B8CD4E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A0E415-81BD-4137-A512-3182BBA3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9123BE-4A11-4159-AB91-FE67723F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839906-A84E-4CF3-86B1-14F74379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2FEC-949E-45ED-925C-12F2BE8C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7C11-51AA-4083-B3DE-D35390BC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589B-8E98-4305-8FA0-C01C6AB8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EA92-B136-4C00-825B-CE7FE597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0B52-08EF-414C-B636-32DB9BFC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8724-99EE-46CF-9841-C7EB9226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F114-E805-449A-BC17-0CDED0E3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C568-97C7-4576-AA14-575689F5A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5B89-C8B8-4792-9DB5-1D6D3FD6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0F9B8-4FB3-4971-92DD-C336570E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96B6F-7381-42CF-8C89-4DF2FD6F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772E9-F406-4F29-B0DC-F581C913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97883-329B-4B11-9193-EB0EE462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CA0B9-9060-4ECE-9CF1-11E0A8CE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1622-B82E-4FF9-9482-886A48B8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565D6-4C8B-47D9-9115-5F970EEA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9A630-F68E-4F1D-8104-5E2337A5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47EFB-757C-4234-A955-AE4ADCDD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56AEF-E451-4B68-951C-8FF4DBB0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E6264-9EAF-425C-98F7-1BF92D52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1711C-5A20-470C-8134-6076A449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82B02-AC60-4C3B-A4B2-A71F9882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E473E-77EE-40D4-8DC9-A7EF6268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B3995-1507-4B41-8A75-4C51B4B5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F5AA1-3C38-436E-BCA0-DDFB2745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96D8-62B0-4757-8E5C-A6FF7928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AB55E-8B4A-4CF8-8075-D1215D16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354F8-969F-4D60-B3E0-86D30C75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5156A-C319-4DE2-A969-C8867E32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F01AD-8887-4CCB-BB78-3EC60DDC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F8A21-601C-453A-B7BF-A9E607A2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DB300-372D-4BA1-8D6D-1413F3CA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36295-12CC-4E56-9927-B7A132AC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F870F-EA3B-41E4-A7BC-811A4210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69B7C-4B40-42B9-88AB-04F89A24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43C09-5055-4077-95C9-8082E2CD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99C6-30EF-4415-8535-261281F3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16B32-8ACA-4A79-9FAD-927B1403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EE6A4-B9C0-47F6-A823-7CEB7C35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6548C-43A1-40FB-95F0-E2002958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BF728-AE9B-4AB6-9E7F-B8F6779B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07945-8A9F-45FA-8813-DDFD41DB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90B5F-E2FE-41D6-ADCB-90F80AAF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373BE-43C2-42B9-B1B9-66ACC018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06681-4B7F-49F2-88BA-62133872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76F5F-6D43-4E82-87E5-EDA164B1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88C05-FE0B-493E-BA17-0CBEA613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8BCB-14BC-43CD-9DC9-E37C88A8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76E5D-5CFF-48CF-8394-17BBAE41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B9113-22FA-4E62-9EA8-1AFC48B1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FE774-F7A7-4B3B-8A2D-3DF674B5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D0D37-8B90-44B9-BB3B-6333327A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E8938-4B3F-4020-BA27-359C928E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D7A1C-1C08-4052-9DF8-2D13908C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5F325-7296-46D6-876E-7E804F7A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40B63-9C31-4C1B-BCAE-63D5F5AF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3960E-CC82-4FC8-BFF1-DCE66D27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19496-67F8-4CF7-9361-0B0EF5CF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F1EE-8A19-4083-AC85-B345F11F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5D38B-9EDD-46DD-A403-822977A3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5B36C-2F90-4CE3-B05F-93925DF6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96229-8C0B-4552-9A2F-E97C9E48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AEBE8-B8EE-4C81-AACD-7BE43E12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49334-960E-4081-8DEA-CC7F0A96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94E72-CC02-454D-8F37-16D4246D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B144F-73E7-42C7-8E85-08C14CFC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022AF-C923-4103-9347-0E8E636F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2A16D-36F9-4074-8A2D-FF6D9D17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B5777-584C-418C-AED4-5E53478C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54A4-8F12-4EA6-8F9D-DD24F2D1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DB769-6636-40D9-81FE-D5F375F1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58806-77D5-4D8D-BDC4-78E2DED7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658EA-FE6A-4892-8421-16279C73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32B1A-6D43-42BD-AE02-280CD032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D8CC2-09FA-441F-85CB-09DF1C60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E2E80-1C25-491F-87DC-C534A48F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EA462-87A6-45E6-9189-AA7FFF9E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B38A8-56D3-4638-B959-B9BBF342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2897B-986B-47A0-B926-94924E2C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DAE73-1AC5-4B01-AA4D-0DB9D674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B966-46B7-4D29-B3D2-8F64A47A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D8401-F8C8-4A0A-A112-5FC59645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8CB79-DF75-44F2-82EA-C2DA033C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26E0B-0446-4B02-A0D5-9CF27035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7C4B7-0CA4-4EC8-8FF7-6E1058AB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96BC2-55AD-4814-A45E-4E37F478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22AC0-F2AE-43C2-B04B-CE7894DB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F7883-8527-4CA2-9FBE-FDF3F625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74099-8A34-482E-BE92-80B591A0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75DF5-9CF1-4CDE-96B4-CC8E7936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FA935-6C9D-469F-9C79-E079286E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A36E-9531-4912-A55E-A6099F9748CC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44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44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TextBox 11"/>
          <p:cNvSpPr/>
          <p:nvPr/>
        </p:nvSpPr>
        <p:spPr>
          <a:xfrm>
            <a:off x="849240" y="9050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2"/>
          <p:cNvSpPr/>
          <p:nvPr/>
        </p:nvSpPr>
        <p:spPr>
          <a:xfrm>
            <a:off x="7634160" y="28274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traight Connector 18"/>
          <p:cNvSpPr/>
          <p:nvPr/>
        </p:nvSpPr>
        <p:spPr>
          <a:xfrm>
            <a:off x="1278000" y="414036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F6B9-C504-4DCD-97CC-D77F646FDDCA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4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3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4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8" name="TextBox 11"/>
          <p:cNvSpPr/>
          <p:nvPr/>
        </p:nvSpPr>
        <p:spPr>
          <a:xfrm>
            <a:off x="878040" y="8967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2"/>
          <p:cNvSpPr/>
          <p:nvPr/>
        </p:nvSpPr>
        <p:spPr>
          <a:xfrm>
            <a:off x="7650000" y="2608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25"/>
          <p:cNvSpPr/>
          <p:nvPr/>
        </p:nvSpPr>
        <p:spPr>
          <a:xfrm>
            <a:off x="1278000" y="34290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1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2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3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25F5-E1FE-4D77-8467-B4D02521D2EE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543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54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7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Straight Connector 14"/>
          <p:cNvSpPr/>
          <p:nvPr/>
        </p:nvSpPr>
        <p:spPr>
          <a:xfrm>
            <a:off x="1278000" y="342900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4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5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6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7784-4F0B-49E7-B54F-1E7B474765FD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5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3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5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8" name="Straight Connector 13"/>
          <p:cNvSpPr/>
          <p:nvPr/>
        </p:nvSpPr>
        <p:spPr>
          <a:xfrm>
            <a:off x="1278000" y="235440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61BF-D60E-41A1-825D-70307D8E2BDC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64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2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64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7" name="Straight Connector 13"/>
          <p:cNvSpPr/>
          <p:nvPr/>
        </p:nvSpPr>
        <p:spPr>
          <a:xfrm>
            <a:off x="6245280" y="906480"/>
            <a:ext cx="0" cy="496872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0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1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2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92B0-1FB3-41EB-B5BC-22D4192B536C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" name="Picture 7" descr="SD-PanelTitle-R1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Rectangle 10"/>
            <p:cNvGrpSpPr/>
            <p:nvPr/>
          </p:nvGrpSpPr>
          <p:grpSpPr>
            <a:xfrm>
              <a:off x="1511640" y="1511640"/>
              <a:ext cx="6126480" cy="3840480"/>
              <a:chOff x="1511640" y="1511640"/>
              <a:chExt cx="6126480" cy="3840480"/>
            </a:xfrm>
          </p:grpSpPr>
          <p:pic>
            <p:nvPicPr>
              <p:cNvPr id="51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1511640" y="1511640"/>
                <a:ext cx="6126480" cy="384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1515240" y="1519920"/>
                <a:ext cx="6112800" cy="381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" name="Picture 11" descr="HDRibbonTitle-UniformTrim.png"/>
            <p:cNvPicPr/>
            <p:nvPr/>
          </p:nvPicPr>
          <p:blipFill>
            <a:blip r:embed="rId5"/>
            <a:srcRect l="0" t="0" r="47963" b="0"/>
            <a:stretch/>
          </p:blipFill>
          <p:spPr>
            <a:xfrm>
              <a:off x="0" y="3128400"/>
              <a:ext cx="166392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2" descr="HDRibbonTitle-UniformTrim.png"/>
            <p:cNvPicPr/>
            <p:nvPr/>
          </p:nvPicPr>
          <p:blipFill>
            <a:blip r:embed="rId6"/>
            <a:srcRect l="0" t="0" r="47963" b="0"/>
            <a:stretch/>
          </p:blipFill>
          <p:spPr>
            <a:xfrm>
              <a:off x="7480080" y="3128400"/>
              <a:ext cx="1663920" cy="61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Straight Connector 14"/>
          <p:cNvSpPr/>
          <p:nvPr/>
        </p:nvSpPr>
        <p:spPr>
          <a:xfrm>
            <a:off x="2019240" y="3471840"/>
            <a:ext cx="511344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065640" y="5054760"/>
            <a:ext cx="672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922040" y="5054760"/>
            <a:ext cx="40640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816240" y="5054760"/>
            <a:ext cx="414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121E-4A50-4D6E-8170-EE388BADF156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98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10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Straight Connector 6"/>
          <p:cNvSpPr/>
          <p:nvPr/>
        </p:nvSpPr>
        <p:spPr>
          <a:xfrm>
            <a:off x="1278000" y="235584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19A3-2A43-467F-94ED-00F5B8D1FDF1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47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149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1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Straight Connector 30"/>
          <p:cNvSpPr/>
          <p:nvPr/>
        </p:nvSpPr>
        <p:spPr>
          <a:xfrm>
            <a:off x="1278000" y="359892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4A4A-F8A7-4FA0-AAA3-77A12FBFCAE6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96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198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0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Straight Connector 7"/>
          <p:cNvSpPr/>
          <p:nvPr/>
        </p:nvSpPr>
        <p:spPr>
          <a:xfrm>
            <a:off x="1278000" y="235584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7C10-7BAE-4E5E-8D42-C993C3625523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245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6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247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9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Straight Connector 40"/>
          <p:cNvSpPr/>
          <p:nvPr/>
        </p:nvSpPr>
        <p:spPr>
          <a:xfrm>
            <a:off x="1278000" y="23544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2757-19DF-4400-9414-BABB169F8FBC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294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5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296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8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Straight Connector 13"/>
          <p:cNvSpPr/>
          <p:nvPr/>
        </p:nvSpPr>
        <p:spPr>
          <a:xfrm>
            <a:off x="1278000" y="23544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448F-E9A8-4A5D-8ADB-1A46918F6B6E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343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4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34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7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Straight Connector 15"/>
          <p:cNvSpPr/>
          <p:nvPr/>
        </p:nvSpPr>
        <p:spPr>
          <a:xfrm>
            <a:off x="1278000" y="2913120"/>
            <a:ext cx="23335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2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3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4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C1A6-889D-48AB-B09A-DC2EFCDEEDBF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3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3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3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Straight Connector 14"/>
          <p:cNvSpPr/>
          <p:nvPr/>
        </p:nvSpPr>
        <p:spPr>
          <a:xfrm>
            <a:off x="1278000" y="414036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63D8-137D-4F4D-ACF2-71B474803EDB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300"/>
            </a:br>
            <a:r>
              <a:rPr b="1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нятие об обособлении. Обособленные члены предложения</a:t>
            </a:r>
            <a:endParaRPr b="0" lang="en-US" sz="43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3203280" y="3068280"/>
            <a:ext cx="4895640" cy="25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рок русского языка     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 8 классе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Из двух предложений постройте одно с обособленным членом. </a:t>
            </a: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Times New Roman"/>
              <a:buAutoNum type="arabicPeriod"/>
              <a:tabLst>
                <a:tab algn="l" pos="179280"/>
                <a:tab algn="l" pos="6303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3200" spc="-1" strike="noStrike">
                <a:solidFill>
                  <a:srgbClr val="262626"/>
                </a:solidFill>
                <a:latin typeface="Times New Roman"/>
                <a:ea typeface="Arial Unicode MS"/>
              </a:rPr>
              <a:t>На вершине гор лежали густые облака. Они не позволяли различать верхние их очертания.</a:t>
            </a:r>
            <a:endParaRPr b="0" lang="en-US" sz="3200" spc="-1" strike="noStrike">
              <a:solidFill>
                <a:srgbClr val="262626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Times New Roman"/>
              <a:buAutoNum type="arabicPeriod"/>
              <a:tabLst>
                <a:tab algn="l" pos="179280"/>
                <a:tab algn="l" pos="6303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3200" spc="-1" strike="noStrike">
                <a:solidFill>
                  <a:srgbClr val="262626"/>
                </a:solidFill>
                <a:latin typeface="Times New Roman"/>
                <a:ea typeface="Arial Unicode MS"/>
              </a:rPr>
              <a:t>Свежий ветер подгонял лодку рыбака. Дувший с моря ветер подгонял лодку. </a:t>
            </a:r>
            <a:endParaRPr b="0" lang="en-US" sz="32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«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v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» - это я знал                      «+» - новая информация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«-»  - я думал иначе          «!»  - обратить особое внимание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«?» -  непонятная информация</a:t>
            </a:r>
            <a:br>
              <a:rPr sz="2400"/>
            </a:b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17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Arial Unicode MS"/>
              </a:rPr>
              <a:t>1. Что такое обособление?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17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Arial Unicode MS"/>
              </a:rPr>
              <a:t>2. Какие члены предложения называются обособленными?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17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Arial Unicode MS"/>
              </a:rPr>
              <a:t>3. Какие члены предложения могут быть обособленными?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17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Arial Unicode MS"/>
              </a:rPr>
              <a:t>4. Как выделяются обособленные члены в речи и на письме?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17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Arial Unicode MS"/>
              </a:rPr>
              <a:t>5. Как подчёркиваются обособленные члены предложения?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17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262626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17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639720" y="184428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47,   упражнение 290, </a:t>
            </a: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карточку: выписать из литературных произведений 5 предложений с обособленными членами, знаки препинания не ставить.</a:t>
            </a: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1176480" y="2490480"/>
            <a:ext cx="67989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2" descr="https://im0-tub-ru.yandex.net/i?id=b4d46505ea434a20c5a0accb2161316f-l&amp;n=13"/>
          <p:cNvPicPr/>
          <p:nvPr/>
        </p:nvPicPr>
        <p:blipFill>
          <a:blip r:embed="rId1"/>
          <a:stretch/>
        </p:blipFill>
        <p:spPr>
          <a:xfrm>
            <a:off x="250920" y="536400"/>
            <a:ext cx="835344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02920" y="922320"/>
            <a:ext cx="6799320" cy="13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Спишите предложение, расставив знаки препинания. Выполните синтаксический и пунктуационный разбор.</a:t>
            </a:r>
            <a:endParaRPr b="0" lang="en-US" sz="32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181818"/>
                </a:solidFill>
                <a:latin typeface="Calibri"/>
                <a:ea typeface="Calibri"/>
              </a:rPr>
              <a:t>Мне хотелось увидеть всех животных разом  обезьян  зубров жирафов  львов медведей. </a:t>
            </a: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Сказка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pic>
        <p:nvPicPr>
          <p:cNvPr id="694" name="Объект 6" descr="Изображение выглядит как текст, коллекция картинок, автомат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1619280" y="2492280"/>
            <a:ext cx="590544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 «Толкового словаря» С.И. Ожегова: </a:t>
            </a:r>
            <a:endParaRPr b="0" lang="en-US" sz="32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бособить, -блю, -бишь; -бленный;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1. Выделить из общего, создав особое от других положение.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2.  В грамматике: интонационно (на письме - запятыми или тире) выделить какой-н. смысловой отрезок внутри предложения.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3. Выделиться из общего, занять особое, изолированное положение.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нятие об обособлении. Обособленные члены предложения</a:t>
            </a:r>
            <a:endParaRPr b="0" lang="en-US" sz="32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262626"/>
                </a:solidFill>
                <a:uFillTx/>
                <a:latin typeface="Times New Roman"/>
                <a:ea typeface="Times New Roman"/>
              </a:rPr>
              <a:t>узнать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: что такое обособление второстепенных членов предложения, как они выделяются при письме и устной речи;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262626"/>
                </a:solidFill>
                <a:uFillTx/>
                <a:latin typeface="Times New Roman"/>
                <a:ea typeface="Times New Roman"/>
              </a:rPr>
              <a:t>понимать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: какую роль играют в тексте обособленные члены предложения</a:t>
            </a:r>
            <a:r>
              <a:rPr b="0" lang="ru-RU" sz="2000" spc="-1" strike="noStrike" u="sng">
                <a:solidFill>
                  <a:srgbClr val="262626"/>
                </a:solidFill>
                <a:uFillTx/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262626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262626"/>
                </a:solidFill>
                <a:uFillTx/>
                <a:latin typeface="Times New Roman"/>
                <a:ea typeface="Times New Roman"/>
              </a:rPr>
              <a:t>уметь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: интонационно грамотно произносить обособленные члены предложения, находить в тексте и выделять на письме эти смысловые отрезки.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особление –это выделение</a:t>
            </a:r>
            <a:endParaRPr b="0" lang="en-US" sz="36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1.Цветок, показавшийся из-под снега, разбудил самые глубокие и тайные чувства моей души.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2.Мы шли, утопая в песке.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Обособленными могут быть только  второстепенные члены предложения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бособленные члены предложения – это такие члены предложения, которые выделяются по смыслу (придают добавочное значение) и интонационно.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а письме выделяются запятыми. В устной речи – паузами.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176480" y="922320"/>
            <a:ext cx="6798960" cy="13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ервичное закрепление  нового материала.</a:t>
            </a:r>
            <a:br>
              <a:rPr sz="2400"/>
            </a:br>
            <a:r>
              <a:rPr b="0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сставьте знаки препинания, подчеркните обособленные члены предложения, вставьте пропущенные безударные гласные в корне слова. </a:t>
            </a:r>
            <a:br>
              <a:rPr sz="1800"/>
            </a:b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 пыльной дороге  т..нулись скр..пучие телеги наполненные чёрным виноградом.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воздухе ст..ял морозный блеск захватывающий при дыхании горло.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Щурясь от ветра я гл..жу в эту тёмную даль.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Он бежал сломя голову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 чем сходство данных текстов?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Какой текст, на ваш взгляд,  более удачный?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С помощью чего это достигается?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1176120" y="2487600"/>
            <a:ext cx="333828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Garamond"/>
              </a:rPr>
              <a:t> 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оре уснуло в дали. Оно слилось там с  южным небом и крепко спит.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644720" y="2487600"/>
            <a:ext cx="333684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оре, огромное, лениво вздыхающее у берега, уснуло в дали, облитой голубым сиянием луны. Мягкое и серебристое, оно слилось там с синим южным небом и крепко спит.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1T11:58:23Z</dcterms:created>
  <dc:creator>Пользователь</dc:creator>
  <dc:description/>
  <dc:language>en-US</dc:language>
  <cp:lastModifiedBy>Каравацкий Никита Игоревич</cp:lastModifiedBy>
  <dcterms:modified xsi:type="dcterms:W3CDTF">2022-02-21T18:49:41Z</dcterms:modified>
  <cp:revision>93</cp:revision>
  <dc:subject/>
  <dc:title>Урок русского язы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d0000000000010243100207f6000400038000</vt:lpwstr>
  </property>
</Properties>
</file>