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5C7-C0F1-4CB1-A81E-B13740C1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479-15B5-4285-862D-84F902E9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7F12-9541-4EF2-ADD2-AB36F7F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501E5-D50E-43F2-800D-9299B00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07CC-205F-4F75-8FDE-CF0BD9E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3A478-E611-4A1B-9FA9-82FC57B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E917D-1A88-4329-8F5C-8620CA8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4EF3-6E6B-4CC4-92ED-82CC9BB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7FC3-69B8-4F11-9A8C-5F2DF4C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FA977-B5BB-4BA9-80FD-FD193E27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83BB9-EF62-4309-910F-42D9EF03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96B9D-218E-4CB9-A489-A89D6A36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F70-5158-4C08-B905-B0A9DA0B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46B0B-4FB9-4B68-B53E-0E6E975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CF100-2A4C-44DF-ABF6-C7F417B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D0BDE-F5D0-4B1C-A782-44F45C5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9712-F689-40CB-AE47-81A30B5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D8868-0AA6-4412-A863-F4B3A174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3B0B4-CF9F-486C-9F12-BADCC90D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A290E-A091-45A6-BC60-F0F5FB5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D5F1B-50F2-4A5B-B2CF-12B339A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61739-5799-47C3-BCB2-CE52B44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61DF7-BC16-40DD-8703-C6112353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A46-8ACC-4414-B440-7CE17DAB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116ED-C891-4755-A711-7FAE7EC5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A9B46-F99C-466D-90FC-7CC3A72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6EA7E-94E6-470B-BDDB-8E8CD6E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1D19-AE87-4AB5-B8E5-C4E3A2D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DD4BE-D8E3-4BE5-9944-54F80FB1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5B1CA-C7B1-4F25-913C-71233ED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5C283-3F03-45D5-87C0-DD63B6B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15610-8C4E-4B9B-8EF7-E56D4BA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B7EA1-C742-4E8A-82C8-DAB56D1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4DC2A-BA79-4BCE-A66F-485D49FE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56E5-1E6C-4EDC-8C7D-87FE8820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36743-95A1-4842-958E-A6B0CDD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BCE66-A2CA-4B17-8097-357EC64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33977-13E5-4DA1-B928-C623547F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5EE8-967B-42E6-8312-B6A7BCC7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A2FA8-21DB-40C6-94E1-15CF1415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D297F-3CFF-4084-8FBD-C31A724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7801F-220F-4625-AF98-680A55E8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B2EEA-22FB-438D-8FBF-50D014A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BB228-8B7C-4239-A40C-982CC73E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7304C-3CFC-4B0B-9AC1-BAE3970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ACB-0901-493E-AE72-D5F7DFF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D1402-FEC2-4135-AB46-C77D993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73C38-7801-47F8-9E2C-79144F3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EB478-F053-421A-ABEE-A5C1870C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0AC9C-76B5-4AB8-AF0B-ADEACADE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51E1F-2936-462C-93DD-D2A00A45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333E5-4603-4EBD-B7C8-4E70C4A2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490F6-76FD-4EB3-89B5-6F280206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790D6-868A-4556-9C98-852DBBD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50CC0-483D-4091-8AA1-D284203F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CEBBF-A8D5-471A-B803-979AEC49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42D3-EAE2-4DC1-917E-73F8351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C505E-FD78-4ABA-9271-680B3ED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E88BB-E233-4057-9CE1-D7FB123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1E3EB-9857-402B-A362-F23B56B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BEB92-DC2D-4520-89C9-F7BA8841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AE06B-BCBB-480C-958B-E62D743D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58FBD-BC7B-4F4B-84CE-77DB2281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18D43-3BE1-4C69-B393-4F740A94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4866E-36BC-4C5C-B603-A19ECD7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E07F1-1D77-46F2-B1F9-A1C7694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0FDF6-1CDF-4481-9D78-4BFAC226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22A-836B-49C8-9C74-142A014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5E8A6-ED54-4BE1-B9DE-C3B45C8E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F8723-FD65-492C-AD62-F9DAE72C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32788-E028-4E69-A38E-FA1EBAB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B0C17-8265-4D5C-ACE7-2805234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5B8AF-355D-4DBB-8B32-F3CE43A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31F1D-2032-4CDA-889B-9F713FC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59D5E-4743-4648-A4D4-0AC9FF2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2B2ED-9605-4069-808D-F0E35CFF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637E5-D90D-47B4-A59F-EACAB7C9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7267-7BAB-49EB-92B1-A2C4E4D1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1D9-22A1-417A-A94A-EE47DC8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D4C4-8645-4D08-9012-2161B50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089-F74B-4C30-AA3F-0DA7CD2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C12-91BB-419D-AD7E-EDA3F60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C5D-CFFD-408B-9CBF-9462730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EBB-69AD-4BB6-BD57-0545E72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159C-1134-486C-BB23-291E31D0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8D6B-EA17-4CCB-95D1-DC32AF90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AA56-7E65-45BE-AE9A-B85D6FE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3E9B-19DD-4D09-9E5E-9D7AD3B6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3EE3-E103-4D31-81CA-904EF43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219C-864D-42C2-AD1E-8A34DEB1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3DE6-C47F-4C34-8930-69520E37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764-CBC6-45A7-A05D-FBF4A66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C6DF-090E-4A66-BC05-5B6916E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32B3-E6AA-4528-8BA0-5401D3C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60EA-652F-4DA8-896D-C9D7A91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27E9-096E-4E51-926D-AFC67E6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B91C-9BB2-433D-9989-968DBE7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C509-5684-4257-A50D-3AA66DF3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B58B-A1BB-4AE8-8AE4-5B5C02FB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2851-4734-4AFB-8526-CF392725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2701-52FC-400F-80D1-C45DDE6D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7A4B-ABA4-4313-B509-43DDB351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FB3-A0B9-45C4-97E2-7E7026B4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73D0-279B-4EE8-8899-C6342EB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FCDB-B969-4D44-9BD9-6734B13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DB44-5A1E-4A2D-BB2B-E1FD214E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7FC1-F306-44AB-8120-42997D3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B551-0576-49CA-9FEF-906B7E9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F581-B918-4DF7-ACD0-35154B9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A60B-05F9-40AF-8446-28FC319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7B4F-37AC-4A6C-8234-DFEE9805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38F1-BE89-4D9A-8347-0FA7C19F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E13C-3993-40E5-A51D-6AB3CAC6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B51-9A11-4A47-8AD2-FD8D407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23A1-1418-40A3-BD68-D90C406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577A9-E608-4920-AD54-FBA6349C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ADC4-0987-4D4B-AF45-960BEA3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5DE4-50F2-41A6-8356-2A9DF20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BEEE-C7DE-4518-9A03-D98733F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7F76-7B26-4465-9C8F-D630361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F66C-1B8F-4D4E-9090-8B471C2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2D5D-4BEC-4919-97C3-6211053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EA5B-A0EA-4C06-801E-E6034BCF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85BC-4E78-45DF-A17E-0D157D0F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F34-7CAB-44C6-91C8-17C2994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AD04-3D1B-41E7-A5E4-24463FB0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28DD-E370-4514-B587-7BFB95E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238F-1C87-4485-922C-D32378D6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22FD-40AE-4D5C-B59B-0E83B7F0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5A0B-E36A-48A7-90FB-E518B32F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4C87-2025-48F1-97D0-38DECF6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3EF1-B6EB-45A8-9293-0AC63D8F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7D5F-F58C-4E47-B26D-BF41B6C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729A-A097-41B5-BFDB-B1128D5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ED0E-B5F9-4EE0-AB1C-2E74212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376-40F4-4A20-86C6-EBC115E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C1E8-83D3-4B83-AC7B-260393D8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F2CA-5D90-41F3-AEFB-1EA35ECD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4E60-7E0A-4379-A0BB-6730C9B0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B0D65-B787-4B80-870C-805859F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D10A0-792A-4145-8E21-56BE20B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3661-E35E-4513-8729-AA5BCAD0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4AEE-08B2-4363-B182-B174398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3967-72B2-410C-B333-8E25396A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05ECC-F0EF-492C-A1DA-69E20328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7E4A-DA8E-4650-8EA9-B9A96AE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67D-A164-4EB1-B952-B06D7C6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7980-0EE2-4C41-86DB-5C3DD2A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8739-F8B0-4CB0-A69C-A0E92BA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62B3-2E96-4E26-A12C-347561E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1B73-D982-4CCB-9C6B-A41E5C99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E135-9A81-4162-AB2F-415995CC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1AFC-031A-4743-83CA-D5858445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41EB2-A633-470E-BCA1-BA21D67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B1EF-4C96-4858-B754-22FBF55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045A1-7B1B-4F0C-8CAD-7F852DD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D719-3F68-406D-AB50-0C0C8B7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B79-B36F-4879-9822-0CF2492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FD5FE-DF21-42EE-BEF1-5FB3D405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2CF3-43FF-41F2-B9FC-D8B47E1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6F94-1136-4A93-A8CD-A01EA7B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AB22-6BC4-4A09-8C84-611068E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B66A-0C70-4DB1-BB5C-7C112B62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BF1E5-DF72-4631-BB0D-6B64BDE1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2F87-A9B8-48BF-8A19-86E7BF44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F3626-381E-439F-BE43-865E8D15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B7D76-5C02-43A0-A72C-64F6167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05076-0772-47EB-9F47-012033C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C87-9684-42FB-819A-80452FFF4A7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70D-6620-49AA-87DB-18DD52F255F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9F1-E578-4D09-AE7D-152B45ECFAA5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9C9-B762-4944-856C-FB8F4093DC5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3A1E-B92E-4D8B-B5F8-5BE207030204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8E30-9CC7-4D48-BE8B-A99E25D10B19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106C-A563-4EF6-A4B2-82893A78EEE4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E960-527E-4ACB-8DAF-EE38A35C78B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8395-D20A-4A73-B092-5CBA3CFB65DB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EDC-8368-42FA-85DB-28F4AD0FCCB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8A7-740F-47C4-BCA7-051672D26B8F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EB6-5D7C-453F-A953-A0D2CCD3AD9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34D3-0836-4776-A595-3488014AFBC9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DCD-FC6C-4707-81D3-D62D6BB70C3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43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203280" y="3068280"/>
            <a:ext cx="489564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рок русского языка     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8 классе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Из двух предложений постройте одно с обособленным членом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На вершине гор лежали густые облака. Они не позволяли различать верхние их очертания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Свежий ветер подгонял лодку рыбака. Дувший с моря ветер подгонял лодку.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v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» - это я знал                      «+» - новая информац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-»  - я думал иначе          «!»  - обратить особое внима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?» -  непонятная информация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1. Что такое обособлени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2. Какие члены предложения называются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3. Какие члены предложения могут быть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4. Как выделяются обособленные члены в речи и на письм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5. Как подчёркиваются обособленные члены предложения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39720" y="1844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47,   упражнение 290,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карточку: выписать из литературных произведений 5 предложений с обособленными членами, знаки препинания не ставить.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1176480" y="2490480"/>
            <a:ext cx="6798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https://im0-tub-ru.yandex.net/i?id=b4d46505ea434a20c5a0accb2161316f-l&amp;n=13"/>
          <p:cNvPicPr/>
          <p:nvPr/>
        </p:nvPicPr>
        <p:blipFill>
          <a:blip r:embed="rId1"/>
          <a:stretch/>
        </p:blipFill>
        <p:spPr>
          <a:xfrm>
            <a:off x="250920" y="536400"/>
            <a:ext cx="83534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02920" y="92232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Спишите предложение, расставив знаки препинания. Выполните синтаксический и пунктуационный разбор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Мне хотелось увидеть всех животных разом  обезьян  зубров жирафов  львов медведей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Сказка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4" name="Объект 6" descr="Изображение выглядит как текст, коллекция картинок, автомат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1619280" y="2492280"/>
            <a:ext cx="59054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«Толкового словаря» С.И. Ожегова: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ить, -блю, -бишь; -бленный;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Выделить из общего, создав особое от других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 В грамматике: интонационно (на письме - запятыми или тире) выделить какой-н. смысловой отрезок внутри предложения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Выделиться из общего, занять особое, изолированное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зн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что такое обособление второстепенных членов предложения, как они выделяются при письме и устной речи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поним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какую роль играют в тексте обособленные члены предложени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ме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интонационно грамотно произносить обособленные члены предложения, находить в тексте и выделять на письме эти смысловые отрезки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собление –это выделение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Цветок, показавшийся из-под снега, разбудил самые глубокие и тайные чувства моей души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Мы шли, утопая в песк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бособленными могут быть только  второстепенные члены предлож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ленные члены предложения – это такие члены предложения, которые выделяются по смыслу (придают добавочное значение) и интонационн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письме выделяются запятыми. В устной речи – паузами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6480" y="922320"/>
            <a:ext cx="679896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вичное закрепление  нового материала.</a:t>
            </a:r>
            <a:br>
              <a:rPr sz="24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ставьте знаки препинания, подчеркните обособленные члены предложения, вставьте пропущенные безударные гласные в корне слова. 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пыльной дороге  т..нулись скр..пучие телеги наполненные чёрным виноградом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воздухе ст..ял морозный блеск захватывающий при дыхании горл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Щурясь от ветра я гл..жу в эту тёмную даль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Он бежал сломя голову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чем сходство данных текстов?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ой текст, на ваш взгляд,  более удачный?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С помощью чего это достигается?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176120" y="2487600"/>
            <a:ext cx="3338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 уснуло в дали. Оно слилось там с 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2487600"/>
            <a:ext cx="3336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, огромное, лениво вздыхающее у берега, уснуло в дали, облитой голубым сиянием луны. Мягкое и серебристое, оно слилось там с синим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1:58:23Z</dcterms:created>
  <dc:creator>Пользователь</dc:creator>
  <dc:description/>
  <dc:language>en-US</dc:language>
  <cp:lastModifiedBy>Каравацкий Никита Игоревич</cp:lastModifiedBy>
  <dcterms:modified xsi:type="dcterms:W3CDTF">2022-02-21T18:49:41Z</dcterms:modified>
  <cp:revision>93</cp:revision>
  <dc:subject/>
  <dc:title>Урок русского язы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d0000000000010243100207f6000400038000</vt:lpwstr>
  </property>
</Properties>
</file>