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media/image9.png" ContentType="image/png"/>
  <Override PartName="/ppt/media/image10.jpeg" ContentType="image/jpe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E160F-F08B-4C84-832A-8D7D84827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6798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76480" y="4290120"/>
            <a:ext cx="6798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EF6C3-3C84-49A9-83B4-24415036F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B63480-A049-429C-8D6A-575E601D9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FA986A-2D56-4D5F-9560-95298DB2A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ubTitle"/>
          </p:nvPr>
        </p:nvSpPr>
        <p:spPr>
          <a:xfrm>
            <a:off x="1176480" y="915480"/>
            <a:ext cx="6798960" cy="604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35B7AE-3C79-4BC7-9AF9-C63465F68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117648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DA332B-D81C-44EF-83EE-8B83D4475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66056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AD23EE-EA14-4C68-8FD2-5B0D1C02B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1176480" y="4290120"/>
            <a:ext cx="6798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63FD58-4259-4B30-A15A-CD88274A1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6798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1176480" y="4290120"/>
            <a:ext cx="6798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CA729D-188D-4436-AADD-06FD6E484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117648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66056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F61095-FD1E-4434-B08C-655588251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3475440" y="249048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5774400" y="249048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1176480" y="429012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38" name="PlaceHolder 6"/>
          <p:cNvSpPr>
            <a:spLocks noGrp="1"/>
          </p:cNvSpPr>
          <p:nvPr>
            <p:ph/>
          </p:nvPr>
        </p:nvSpPr>
        <p:spPr>
          <a:xfrm>
            <a:off x="3475440" y="429012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39" name="PlaceHolder 7"/>
          <p:cNvSpPr>
            <a:spLocks noGrp="1"/>
          </p:cNvSpPr>
          <p:nvPr>
            <p:ph/>
          </p:nvPr>
        </p:nvSpPr>
        <p:spPr>
          <a:xfrm>
            <a:off x="5774400" y="429012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C33FB5-9C66-4CE7-93B4-AB28C3D29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0FD42E-4CB3-4793-A9FB-88F57167E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7648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056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8A1E1-11B5-4354-AA08-CDD41005C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092D99-3ABA-4729-9574-7CFBF9B70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AA64B4-FDDF-40F0-B159-51E4DF2F1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CE856A-2FA8-43FF-A215-D244BF35D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7D148F-11E9-45B0-8368-FA2E25A60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1176480" y="915480"/>
            <a:ext cx="6798960" cy="604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CD9A9A-C54C-42B6-A799-5017B147C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117648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272284-05CC-49FC-B014-FC8A103F1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66056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37C53F-1E6E-45C3-9BA5-C1ED6D6AA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1176480" y="4290120"/>
            <a:ext cx="6798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D14471-7558-487B-A8DE-A505A2784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6798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1176480" y="4290120"/>
            <a:ext cx="6798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8B06B6-E7FB-411D-B9D9-8619C2AAD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117648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66056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34CE0F-7A45-4A18-BFFF-E1AD55A68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75440" y="249048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774400" y="249048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76480" y="429012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75440" y="429012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774400" y="429012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31B39-8785-4960-8B99-CA2AC9118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475440" y="249048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5774400" y="249048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1176480" y="429012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/>
          </p:nvPr>
        </p:nvSpPr>
        <p:spPr>
          <a:xfrm>
            <a:off x="3475440" y="429012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90" name="PlaceHolder 7"/>
          <p:cNvSpPr>
            <a:spLocks noGrp="1"/>
          </p:cNvSpPr>
          <p:nvPr>
            <p:ph/>
          </p:nvPr>
        </p:nvSpPr>
        <p:spPr>
          <a:xfrm>
            <a:off x="5774400" y="429012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0E3069-5469-4872-AF31-60972A10E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B0E59B-588B-4459-89CB-8F64E60D6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887ACE-DFF7-4A85-BB8E-A235C9F05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083C02-4D1A-4BAD-9D45-AB6840440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05F64D-E434-40D6-AA32-29745B768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BC113B-191B-4D24-963C-B223733A7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1176480" y="915480"/>
            <a:ext cx="6798960" cy="604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99F7F6-19FE-4055-BE4F-CE07282B2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117648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3FD784-51CB-451E-ADFE-C39BBDA3B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6056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07BB35-6B9A-4801-95C6-E838C9753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1176480" y="4290120"/>
            <a:ext cx="6798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E3729A-D8F9-44C6-B87C-B42399080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03041-7BE6-40BC-B168-7E3857D19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6798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1176480" y="4290120"/>
            <a:ext cx="6798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5E259A-1C82-48EB-8BD0-44F9A7472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117648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6056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FB841E-52B1-4BFB-892C-6B3AF2C5C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475440" y="249048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774400" y="249048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1176480" y="429012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475440" y="429012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5774400" y="429012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1F4DE7-F911-447B-A304-13267126F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6694E6-4D1C-48D8-894D-BF80A8774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subTitle"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CDCFA8-9F2C-4AA0-B6E9-023A0DB67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B7FD3E-424A-421B-8AAD-24E56F165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5951ED-FC09-40E4-9359-963CEB59B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87A1FA-F843-4C37-982C-C23F36AF0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ubTitle"/>
          </p:nvPr>
        </p:nvSpPr>
        <p:spPr>
          <a:xfrm>
            <a:off x="1176480" y="915480"/>
            <a:ext cx="6798960" cy="604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DF843D-947C-49D2-98DB-AE263AE93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117648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E228A2-1D6D-48C5-A7C3-9865BF97D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1F696-3FB6-43A8-86F2-4D660DB85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66056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540574-19B5-41B7-89B5-AFB094B9C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1176480" y="4290120"/>
            <a:ext cx="6798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6B851A-B0D3-41A8-8BE3-40833FB2F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6798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1176480" y="4290120"/>
            <a:ext cx="6798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71C301-8A50-4BBA-A3D6-F1DF65FB7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117648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466056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9A9335-F45A-4371-9559-5FFCA6704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3475440" y="249048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5774400" y="249048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/>
          </p:nvPr>
        </p:nvSpPr>
        <p:spPr>
          <a:xfrm>
            <a:off x="1176480" y="429012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89" name="PlaceHolder 6"/>
          <p:cNvSpPr>
            <a:spLocks noGrp="1"/>
          </p:cNvSpPr>
          <p:nvPr>
            <p:ph/>
          </p:nvPr>
        </p:nvSpPr>
        <p:spPr>
          <a:xfrm>
            <a:off x="3475440" y="429012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90" name="PlaceHolder 7"/>
          <p:cNvSpPr>
            <a:spLocks noGrp="1"/>
          </p:cNvSpPr>
          <p:nvPr>
            <p:ph/>
          </p:nvPr>
        </p:nvSpPr>
        <p:spPr>
          <a:xfrm>
            <a:off x="5774400" y="429012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BAA29B-2B8F-4478-A656-ECA79A6B0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F49CE71-A124-444C-AC02-D1C446FF1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 type="subTitle"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6689C62-6427-4A2C-BFA2-E4FDFF030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6A76BCD-C7C6-4FBD-A050-184611B69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292AD92-0CDE-4697-BFD2-0805CD49B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AB19595-0430-46BA-AD78-0DCBF4D7A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A298E-B619-4338-B5B6-C6695F31F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ubTitle"/>
          </p:nvPr>
        </p:nvSpPr>
        <p:spPr>
          <a:xfrm>
            <a:off x="1176480" y="915480"/>
            <a:ext cx="6798960" cy="604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D4CBD4A-80F4-43BC-851C-EF799FF44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117648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4EC3347-6004-4CAF-8A5B-03DA020D1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466056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459F3DB-459B-4B0B-8BD7-B88E9F73C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1176480" y="4290120"/>
            <a:ext cx="6798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A4E7FCF-A3A9-4D66-A506-68BC603B1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6798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1176480" y="4290120"/>
            <a:ext cx="6798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24A9E08-B228-41D8-ADC5-E9B9831E8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117648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/>
          </p:nvPr>
        </p:nvSpPr>
        <p:spPr>
          <a:xfrm>
            <a:off x="466056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DD76403-5342-49C6-8F1D-4C4ABFFBA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3475440" y="249048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774400" y="249048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37" name="PlaceHolder 5"/>
          <p:cNvSpPr>
            <a:spLocks noGrp="1"/>
          </p:cNvSpPr>
          <p:nvPr>
            <p:ph/>
          </p:nvPr>
        </p:nvSpPr>
        <p:spPr>
          <a:xfrm>
            <a:off x="1176480" y="429012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38" name="PlaceHolder 6"/>
          <p:cNvSpPr>
            <a:spLocks noGrp="1"/>
          </p:cNvSpPr>
          <p:nvPr>
            <p:ph/>
          </p:nvPr>
        </p:nvSpPr>
        <p:spPr>
          <a:xfrm>
            <a:off x="3475440" y="429012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39" name="PlaceHolder 7"/>
          <p:cNvSpPr>
            <a:spLocks noGrp="1"/>
          </p:cNvSpPr>
          <p:nvPr>
            <p:ph/>
          </p:nvPr>
        </p:nvSpPr>
        <p:spPr>
          <a:xfrm>
            <a:off x="5774400" y="429012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B6D4BFB-C5E4-485F-AA3D-B998DCEF4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7E6C6ED-D0AB-4A46-8406-0BD60E32F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301DD2B-186F-4AAF-A602-C0BBA5F1B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904DCA3-042C-4215-84E7-A4B869E0A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9AD61-5CED-4662-8F2A-5668E1686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EE1B4B2-67F8-4577-B648-7666D837C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CE7C11A-ED79-4150-810C-207262432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1176480" y="915480"/>
            <a:ext cx="6798960" cy="604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A828F33-C615-457A-84F7-0D8408762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117648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711CC78-675E-4CB7-96E5-02F024C4A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66056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73DCCDC-B3A2-471F-8542-9C5D04F63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1176480" y="4290120"/>
            <a:ext cx="6798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2654214-AE50-4532-9E21-1FD120E5C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6798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1176480" y="4290120"/>
            <a:ext cx="6798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81067A3-1397-4A50-8429-38395CFA3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117648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466056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6901DC4-4CCF-4E56-8518-87E634A00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3475440" y="249048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5774400" y="249048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1176480" y="429012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3475440" y="429012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5774400" y="429012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B861E43-D8B9-4650-8947-DFDA77C95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DEB58-A64A-48E0-9FAA-E9E571872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176480" y="915480"/>
            <a:ext cx="6798960" cy="604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93B70-C6A2-4D0C-8808-83BE81B89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17648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548C1-F7DB-497B-8D7C-F03A4A5AC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D35F5-DD6D-45F0-B05C-D20FD8C76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6056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B2565-A319-43AA-A732-1AD750DE3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176480" y="4290120"/>
            <a:ext cx="6798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82F37-9DE8-4580-848D-554C76C2F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6798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1176480" y="4290120"/>
            <a:ext cx="6798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D3CF2-40F1-438C-88A1-A1513464D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17648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6056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3FF34-729A-4616-AE58-51A9D3771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475440" y="249048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774400" y="249048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1176480" y="429012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475440" y="429012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5774400" y="429012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1AADA-56FA-4C1C-B102-939B25A10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14CC72-C1E0-4122-8488-30ADA886D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2DA853-21FE-46D1-AF95-59EE13A33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9A4630-0873-4E0A-87AC-CDA5D7500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FE6CD9-0A95-4869-9750-41C5B9B79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99D0E3-922E-413F-A379-1692BA965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0D895-1660-4A15-9301-38CFC1B31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176480" y="915480"/>
            <a:ext cx="6798960" cy="604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027C29-019C-4DCE-BAF3-7C54B7D36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17648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F234ED-0A34-464B-88DB-C3B791BA3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66056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92D426-37BC-451B-AFDB-E34B8D2CC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176480" y="4290120"/>
            <a:ext cx="6798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94E0D3-C824-4737-95A9-726FD9A61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6798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1176480" y="4290120"/>
            <a:ext cx="6798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13F3CF-4242-4224-ADEB-CB3BC637D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17648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66056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55742C-CF16-4A54-811E-DDD8F4314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475440" y="249048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774400" y="249048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1176480" y="429012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475440" y="429012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5774400" y="429012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4019B2-6DCA-46E3-94C3-1EC2B30EB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F6BA0C-BE3A-4EB1-920F-F1A8D90B1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4835E4-10B2-4BAA-8725-109B4921A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926A15-CB4F-4484-958F-B56665B3C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52D18-405B-4B47-A6EB-B984ED3FA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CB8ADE-4C8C-4E32-8275-F2CC53548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AFBD30-3D1C-4E18-93E8-4BE428976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1176480" y="915480"/>
            <a:ext cx="6798960" cy="604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271EC3-8BB0-4D61-8866-1DC0435D5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17648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623737-B5A2-4EC9-A1E7-0E01A6E3E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6056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3F1466-F0B2-45D4-863E-01D66D4AA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176480" y="4290120"/>
            <a:ext cx="6798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0865CD-C0BA-4162-8008-C7CE79C14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6798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1176480" y="4290120"/>
            <a:ext cx="6798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F0B0C5-60C0-4566-8385-08FFC0970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117648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6056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52E665-6B88-4C0D-8A64-C4E972BA4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475440" y="249048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5774400" y="249048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1176480" y="429012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475440" y="429012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5774400" y="429012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68DBC5-76CB-42A9-8F85-260DE1602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0180E9-6EB2-463E-B2B3-CDD07D4D5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521CE-1FE3-4A07-9741-08C29754F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706D77-841F-4499-9179-73A3F7679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123B1C-A450-41C5-9F12-D819C157A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E3F69B-9A93-4A05-BA4D-B76B30EE6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FEE6A4-928E-4D82-B511-0B05C20A2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1176480" y="915480"/>
            <a:ext cx="6798960" cy="604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B9B6BE-9DC8-42F5-996F-70859F904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117648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35B648-55F6-4FDB-9157-5E69C352A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6056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7E665C-21DD-430E-9628-65F610493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1176480" y="4290120"/>
            <a:ext cx="6798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B233F1-7A59-4D25-9991-DEDA88C9C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6798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1176480" y="4290120"/>
            <a:ext cx="6798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098223-CE96-4337-940D-EC82CC2EC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17648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6056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4D7592-3B00-4B79-B68B-B35340DFB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76480" y="915480"/>
            <a:ext cx="6798960" cy="604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F8E79-6966-4EB9-985F-46AFF1FDF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475440" y="249048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5774400" y="249048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1176480" y="429012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475440" y="429012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5774400" y="429012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ABB118-3922-4245-8C55-96613BF4C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863F53-6C0E-4E85-8BD6-C1D047356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34AF5F-4221-45C2-8C46-0EE0802DC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BAEC04-F070-47BC-8770-05F095F2B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D5471B-C5CF-4236-A330-74D27ACC8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E7D4FA-5D34-4622-B271-184E898DB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1176480" y="915480"/>
            <a:ext cx="6798960" cy="604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3D1972-E22F-48D4-971B-B28F015C7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117648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B1CFE8-7F2A-45FC-9320-EF9D1C094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6056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7089E1-2692-418A-B617-DDB9C8EA4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1176480" y="4290120"/>
            <a:ext cx="6798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13C3AC-BFA7-4914-888C-5120608A6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7648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33BC5-4EFD-4F6B-8D5E-40FB4B954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6798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1176480" y="4290120"/>
            <a:ext cx="6798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8E3A01-8554-4214-98D7-1BC67E2D7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117648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6056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594FE9-B56F-43D9-B4A9-1B704E580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475440" y="249048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5774400" y="249048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1176480" y="429012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475440" y="429012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5774400" y="429012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E52F45-91E7-4258-8802-BDECE4D18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5ED80A-08CB-4544-8882-99CEEA869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ED6229-6F65-4C7A-BE35-BBA4FA137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292996-18C9-4D05-92AF-49854E4D4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DF46D8-F4BB-44DE-9C41-26D15210B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7DF174-00EC-4927-98E3-81AFB8648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1176480" y="915480"/>
            <a:ext cx="6798960" cy="604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2A6BF5-019C-48AC-B871-0664B0C2E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117648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56CAB9-E7C2-498B-96B7-84474755B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056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40858-F08B-46EC-AB0F-8D67D0648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66056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5D93D4-8D1A-44C4-AF5A-1F3FDD4AB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1176480" y="4290120"/>
            <a:ext cx="6798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EC5BDA-8CCB-4425-BD17-691056C35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6798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1176480" y="4290120"/>
            <a:ext cx="6798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380AC9-2A54-4C49-AB73-E3F63657B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117648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66056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60DED9-1DA0-42F2-8B85-CA4365F39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475440" y="249048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5774400" y="249048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1176480" y="429012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475440" y="429012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5774400" y="429012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7AD6F1-6651-4A22-8289-783A4EDEB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708B25-9E80-4FF1-B9E5-039776C93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subTitle"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5A594C-8ABC-4012-B5D5-E8043061A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90F9CA-ABAC-4648-A50D-BE13A6BD0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8E06A2-BEE0-44A2-945F-A72E086A3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9C65BB-4A08-4870-A031-065F53C96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76480" y="4290120"/>
            <a:ext cx="6798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B37D5-9825-402A-A979-DDCAB113B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ubTitle"/>
          </p:nvPr>
        </p:nvSpPr>
        <p:spPr>
          <a:xfrm>
            <a:off x="1176480" y="915480"/>
            <a:ext cx="6798960" cy="604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5BB2EF-C89A-49BA-AC7A-87BE5AAE0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117648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6FDFC2-4E93-4A42-BBA5-52EDDFE94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66056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B39869-1746-4A6A-A458-EE8418969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1176480" y="4290120"/>
            <a:ext cx="6798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BD4D89-FDA5-48DB-831F-972F766D3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6798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1176480" y="4290120"/>
            <a:ext cx="6798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545E07-EA1F-47B8-BBC1-A996459B8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117648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66056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FB3322-8246-46B7-998F-FC705943B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475440" y="249048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5774400" y="249048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1176480" y="429012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89" name="PlaceHolder 6"/>
          <p:cNvSpPr>
            <a:spLocks noGrp="1"/>
          </p:cNvSpPr>
          <p:nvPr>
            <p:ph/>
          </p:nvPr>
        </p:nvSpPr>
        <p:spPr>
          <a:xfrm>
            <a:off x="3475440" y="429012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90" name="PlaceHolder 7"/>
          <p:cNvSpPr>
            <a:spLocks noGrp="1"/>
          </p:cNvSpPr>
          <p:nvPr>
            <p:ph/>
          </p:nvPr>
        </p:nvSpPr>
        <p:spPr>
          <a:xfrm>
            <a:off x="5774400" y="429012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4A8C6A-FD97-42D1-BDB8-8582342A4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21D12D-C152-4DA5-8788-BA299D8A6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4C1C2C-3226-4244-8DDE-F222C93F6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A6649B-E3B9-463F-96BC-D55A3D40B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09.xml"/><Relationship Id="rId8" Type="http://schemas.openxmlformats.org/officeDocument/2006/relationships/slideLayout" Target="../slideLayouts/slideLayout110.xml"/><Relationship Id="rId9" Type="http://schemas.openxmlformats.org/officeDocument/2006/relationships/slideLayout" Target="../slideLayouts/slideLayout111.xml"/><Relationship Id="rId10" Type="http://schemas.openxmlformats.org/officeDocument/2006/relationships/slideLayout" Target="../slideLayouts/slideLayout112.xml"/><Relationship Id="rId11" Type="http://schemas.openxmlformats.org/officeDocument/2006/relationships/slideLayout" Target="../slideLayouts/slideLayout113.xml"/><Relationship Id="rId12" Type="http://schemas.openxmlformats.org/officeDocument/2006/relationships/slideLayout" Target="../slideLayouts/slideLayout114.xml"/><Relationship Id="rId13" Type="http://schemas.openxmlformats.org/officeDocument/2006/relationships/slideLayout" Target="../slideLayouts/slideLayout115.xml"/><Relationship Id="rId14" Type="http://schemas.openxmlformats.org/officeDocument/2006/relationships/slideLayout" Target="../slideLayouts/slideLayout116.xml"/><Relationship Id="rId15" Type="http://schemas.openxmlformats.org/officeDocument/2006/relationships/slideLayout" Target="../slideLayouts/slideLayout117.xml"/><Relationship Id="rId16" Type="http://schemas.openxmlformats.org/officeDocument/2006/relationships/slideLayout" Target="../slideLayouts/slideLayout118.xml"/><Relationship Id="rId17" Type="http://schemas.openxmlformats.org/officeDocument/2006/relationships/slideLayout" Target="../slideLayouts/slideLayout119.xml"/><Relationship Id="rId18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33.xml"/><Relationship Id="rId8" Type="http://schemas.openxmlformats.org/officeDocument/2006/relationships/slideLayout" Target="../slideLayouts/slideLayout134.xml"/><Relationship Id="rId9" Type="http://schemas.openxmlformats.org/officeDocument/2006/relationships/slideLayout" Target="../slideLayouts/slideLayout135.xml"/><Relationship Id="rId10" Type="http://schemas.openxmlformats.org/officeDocument/2006/relationships/slideLayout" Target="../slideLayouts/slideLayout136.xml"/><Relationship Id="rId11" Type="http://schemas.openxmlformats.org/officeDocument/2006/relationships/slideLayout" Target="../slideLayouts/slideLayout137.xml"/><Relationship Id="rId12" Type="http://schemas.openxmlformats.org/officeDocument/2006/relationships/slideLayout" Target="../slideLayouts/slideLayout138.xml"/><Relationship Id="rId13" Type="http://schemas.openxmlformats.org/officeDocument/2006/relationships/slideLayout" Target="../slideLayouts/slideLayout139.xml"/><Relationship Id="rId14" Type="http://schemas.openxmlformats.org/officeDocument/2006/relationships/slideLayout" Target="../slideLayouts/slideLayout140.xml"/><Relationship Id="rId15" Type="http://schemas.openxmlformats.org/officeDocument/2006/relationships/slideLayout" Target="../slideLayouts/slideLayout141.xml"/><Relationship Id="rId16" Type="http://schemas.openxmlformats.org/officeDocument/2006/relationships/slideLayout" Target="../slideLayouts/slideLayout142.xml"/><Relationship Id="rId17" Type="http://schemas.openxmlformats.org/officeDocument/2006/relationships/slideLayout" Target="../slideLayouts/slideLayout143.xml"/><Relationship Id="rId18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45.xml"/><Relationship Id="rId8" Type="http://schemas.openxmlformats.org/officeDocument/2006/relationships/slideLayout" Target="../slideLayouts/slideLayout146.xml"/><Relationship Id="rId9" Type="http://schemas.openxmlformats.org/officeDocument/2006/relationships/slideLayout" Target="../slideLayouts/slideLayout147.xml"/><Relationship Id="rId10" Type="http://schemas.openxmlformats.org/officeDocument/2006/relationships/slideLayout" Target="../slideLayouts/slideLayout148.xml"/><Relationship Id="rId11" Type="http://schemas.openxmlformats.org/officeDocument/2006/relationships/slideLayout" Target="../slideLayouts/slideLayout149.xml"/><Relationship Id="rId12" Type="http://schemas.openxmlformats.org/officeDocument/2006/relationships/slideLayout" Target="../slideLayouts/slideLayout150.xml"/><Relationship Id="rId13" Type="http://schemas.openxmlformats.org/officeDocument/2006/relationships/slideLayout" Target="../slideLayouts/slideLayout151.xml"/><Relationship Id="rId14" Type="http://schemas.openxmlformats.org/officeDocument/2006/relationships/slideLayout" Target="../slideLayouts/slideLayout152.xml"/><Relationship Id="rId15" Type="http://schemas.openxmlformats.org/officeDocument/2006/relationships/slideLayout" Target="../slideLayouts/slideLayout153.xml"/><Relationship Id="rId16" Type="http://schemas.openxmlformats.org/officeDocument/2006/relationships/slideLayout" Target="../slideLayouts/slideLayout154.xml"/><Relationship Id="rId17" Type="http://schemas.openxmlformats.org/officeDocument/2006/relationships/slideLayout" Target="../slideLayouts/slideLayout155.xml"/><Relationship Id="rId18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57.xml"/><Relationship Id="rId8" Type="http://schemas.openxmlformats.org/officeDocument/2006/relationships/slideLayout" Target="../slideLayouts/slideLayout158.xml"/><Relationship Id="rId9" Type="http://schemas.openxmlformats.org/officeDocument/2006/relationships/slideLayout" Target="../slideLayouts/slideLayout159.xml"/><Relationship Id="rId10" Type="http://schemas.openxmlformats.org/officeDocument/2006/relationships/slideLayout" Target="../slideLayouts/slideLayout160.xml"/><Relationship Id="rId11" Type="http://schemas.openxmlformats.org/officeDocument/2006/relationships/slideLayout" Target="../slideLayouts/slideLayout161.xml"/><Relationship Id="rId12" Type="http://schemas.openxmlformats.org/officeDocument/2006/relationships/slideLayout" Target="../slideLayouts/slideLayout162.xml"/><Relationship Id="rId13" Type="http://schemas.openxmlformats.org/officeDocument/2006/relationships/slideLayout" Target="../slideLayouts/slideLayout163.xml"/><Relationship Id="rId14" Type="http://schemas.openxmlformats.org/officeDocument/2006/relationships/slideLayout" Target="../slideLayouts/slideLayout164.xml"/><Relationship Id="rId15" Type="http://schemas.openxmlformats.org/officeDocument/2006/relationships/slideLayout" Target="../slideLayouts/slideLayout165.xml"/><Relationship Id="rId16" Type="http://schemas.openxmlformats.org/officeDocument/2006/relationships/slideLayout" Target="../slideLayouts/slideLayout166.xml"/><Relationship Id="rId17" Type="http://schemas.openxmlformats.org/officeDocument/2006/relationships/slideLayout" Target="../slideLayouts/slideLayout167.xml"/><Relationship Id="rId18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73.xml"/><Relationship Id="rId8" Type="http://schemas.openxmlformats.org/officeDocument/2006/relationships/slideLayout" Target="../slideLayouts/slideLayout74.xml"/><Relationship Id="rId9" Type="http://schemas.openxmlformats.org/officeDocument/2006/relationships/slideLayout" Target="../slideLayouts/slideLayout75.xml"/><Relationship Id="rId10" Type="http://schemas.openxmlformats.org/officeDocument/2006/relationships/slideLayout" Target="../slideLayouts/slideLayout76.xml"/><Relationship Id="rId11" Type="http://schemas.openxmlformats.org/officeDocument/2006/relationships/slideLayout" Target="../slideLayouts/slideLayout77.xml"/><Relationship Id="rId12" Type="http://schemas.openxmlformats.org/officeDocument/2006/relationships/slideLayout" Target="../slideLayouts/slideLayout78.xml"/><Relationship Id="rId13" Type="http://schemas.openxmlformats.org/officeDocument/2006/relationships/slideLayout" Target="../slideLayouts/slideLayout79.xml"/><Relationship Id="rId14" Type="http://schemas.openxmlformats.org/officeDocument/2006/relationships/slideLayout" Target="../slideLayouts/slideLayout80.xml"/><Relationship Id="rId15" Type="http://schemas.openxmlformats.org/officeDocument/2006/relationships/slideLayout" Target="../slideLayouts/slideLayout81.xml"/><Relationship Id="rId16" Type="http://schemas.openxmlformats.org/officeDocument/2006/relationships/slideLayout" Target="../slideLayouts/slideLayout82.xml"/><Relationship Id="rId17" Type="http://schemas.openxmlformats.org/officeDocument/2006/relationships/slideLayout" Target="../slideLayouts/slideLayout83.xml"/><Relationship Id="rId18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85.xml"/><Relationship Id="rId8" Type="http://schemas.openxmlformats.org/officeDocument/2006/relationships/slideLayout" Target="../slideLayouts/slideLayout86.xml"/><Relationship Id="rId9" Type="http://schemas.openxmlformats.org/officeDocument/2006/relationships/slideLayout" Target="../slideLayouts/slideLayout87.xml"/><Relationship Id="rId10" Type="http://schemas.openxmlformats.org/officeDocument/2006/relationships/slideLayout" Target="../slideLayouts/slideLayout88.xml"/><Relationship Id="rId11" Type="http://schemas.openxmlformats.org/officeDocument/2006/relationships/slideLayout" Target="../slideLayouts/slideLayout89.xml"/><Relationship Id="rId12" Type="http://schemas.openxmlformats.org/officeDocument/2006/relationships/slideLayout" Target="../slideLayouts/slideLayout90.xml"/><Relationship Id="rId13" Type="http://schemas.openxmlformats.org/officeDocument/2006/relationships/slideLayout" Target="../slideLayouts/slideLayout91.xml"/><Relationship Id="rId14" Type="http://schemas.openxmlformats.org/officeDocument/2006/relationships/slideLayout" Target="../slideLayouts/slideLayout92.xml"/><Relationship Id="rId15" Type="http://schemas.openxmlformats.org/officeDocument/2006/relationships/slideLayout" Target="../slideLayouts/slideLayout93.xml"/><Relationship Id="rId16" Type="http://schemas.openxmlformats.org/officeDocument/2006/relationships/slideLayout" Target="../slideLayouts/slideLayout94.xml"/><Relationship Id="rId17" Type="http://schemas.openxmlformats.org/officeDocument/2006/relationships/slideLayout" Target="../slideLayouts/slideLayout95.xml"/><Relationship Id="rId18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"/>
          <p:cNvGrpSpPr/>
          <p:nvPr/>
        </p:nvGrpSpPr>
        <p:grpSpPr>
          <a:xfrm>
            <a:off x="0" y="0"/>
            <a:ext cx="9151920" cy="6858000"/>
            <a:chOff x="0" y="0"/>
            <a:chExt cx="9151920" cy="6858000"/>
          </a:xfrm>
        </p:grpSpPr>
        <p:pic>
          <p:nvPicPr>
            <p:cNvPr id="1" name="Picture 7" descr="SD-PanelContent.png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3640" cy="6858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" name="Rectangle 8"/>
            <p:cNvGrpSpPr/>
            <p:nvPr/>
          </p:nvGrpSpPr>
          <p:grpSpPr>
            <a:xfrm>
              <a:off x="548640" y="536400"/>
              <a:ext cx="8058960" cy="5772960"/>
              <a:chOff x="548640" y="536400"/>
              <a:chExt cx="8058960" cy="5772960"/>
            </a:xfrm>
          </p:grpSpPr>
          <p:pic>
            <p:nvPicPr>
              <p:cNvPr id="3" name="Rectangl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548640" y="536400"/>
                <a:ext cx="8058960" cy="5772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" name=""/>
              <p:cNvSpPr/>
              <p:nvPr/>
            </p:nvSpPr>
            <p:spPr>
              <a:xfrm>
                <a:off x="553680" y="542520"/>
                <a:ext cx="8039520" cy="575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" name="Picture 9" descr="HDRibbonContent-UniformTrim.png"/>
            <p:cNvPicPr/>
            <p:nvPr/>
          </p:nvPicPr>
          <p:blipFill>
            <a:blip r:embed="rId5"/>
            <a:srcRect l="0" t="0" r="14236" b="0"/>
            <a:stretch/>
          </p:blipFill>
          <p:spPr>
            <a:xfrm>
              <a:off x="0" y="3128400"/>
              <a:ext cx="685440" cy="60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" name="Picture 10" descr="HDRibbonContent-UniformTrim.png"/>
            <p:cNvPicPr/>
            <p:nvPr/>
          </p:nvPicPr>
          <p:blipFill>
            <a:blip r:embed="rId6"/>
            <a:srcRect l="0" t="0" r="14236" b="0"/>
            <a:stretch/>
          </p:blipFill>
          <p:spPr>
            <a:xfrm>
              <a:off x="8466480" y="3128400"/>
              <a:ext cx="685440" cy="606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7432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1" marL="71316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2" marL="115200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3" marL="1481040" indent="-1641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4" marL="1919880" indent="-1641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5" marL="1919880" indent="-1641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6" marL="1919880" indent="-1641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6356520" y="5961240"/>
            <a:ext cx="114912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1176120" y="5961240"/>
            <a:ext cx="510516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580160" y="5961240"/>
            <a:ext cx="39528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1F443-71FC-4840-8BC8-17AE571C0B5C}" type="slidenum">
              <a:rPr b="0" lang="ru-RU" sz="10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0" name="Group 6"/>
          <p:cNvGrpSpPr/>
          <p:nvPr/>
        </p:nvGrpSpPr>
        <p:grpSpPr>
          <a:xfrm>
            <a:off x="0" y="0"/>
            <a:ext cx="9151920" cy="6858000"/>
            <a:chOff x="0" y="0"/>
            <a:chExt cx="9151920" cy="6858000"/>
          </a:xfrm>
        </p:grpSpPr>
        <p:pic>
          <p:nvPicPr>
            <p:cNvPr id="441" name="Picture 7" descr="SD-PanelContent.png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3640" cy="6858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42" name="Rectangle 8"/>
            <p:cNvGrpSpPr/>
            <p:nvPr/>
          </p:nvGrpSpPr>
          <p:grpSpPr>
            <a:xfrm>
              <a:off x="548640" y="536400"/>
              <a:ext cx="8058960" cy="5772960"/>
              <a:chOff x="548640" y="536400"/>
              <a:chExt cx="8058960" cy="5772960"/>
            </a:xfrm>
          </p:grpSpPr>
          <p:pic>
            <p:nvPicPr>
              <p:cNvPr id="443" name="Rectangl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548640" y="536400"/>
                <a:ext cx="8058960" cy="5772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4" name=""/>
              <p:cNvSpPr/>
              <p:nvPr/>
            </p:nvSpPr>
            <p:spPr>
              <a:xfrm>
                <a:off x="553680" y="542520"/>
                <a:ext cx="8039520" cy="575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45" name="Picture 9" descr="HDRibbonContent-UniformTrim.png"/>
            <p:cNvPicPr/>
            <p:nvPr/>
          </p:nvPicPr>
          <p:blipFill>
            <a:blip r:embed="rId5"/>
            <a:srcRect l="0" t="0" r="14236" b="0"/>
            <a:stretch/>
          </p:blipFill>
          <p:spPr>
            <a:xfrm>
              <a:off x="0" y="3128400"/>
              <a:ext cx="685440" cy="60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6" name="Picture 10" descr="HDRibbonContent-UniformTrim.png"/>
            <p:cNvPicPr/>
            <p:nvPr/>
          </p:nvPicPr>
          <p:blipFill>
            <a:blip r:embed="rId6"/>
            <a:srcRect l="0" t="0" r="14236" b="0"/>
            <a:stretch/>
          </p:blipFill>
          <p:spPr>
            <a:xfrm>
              <a:off x="8466480" y="3128400"/>
              <a:ext cx="685440" cy="606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7" name="TextBox 11"/>
          <p:cNvSpPr/>
          <p:nvPr/>
        </p:nvSpPr>
        <p:spPr>
          <a:xfrm>
            <a:off x="849240" y="9050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“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Box 12"/>
          <p:cNvSpPr/>
          <p:nvPr/>
        </p:nvSpPr>
        <p:spPr>
          <a:xfrm>
            <a:off x="7634160" y="28274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Straight Connector 18"/>
          <p:cNvSpPr/>
          <p:nvPr/>
        </p:nvSpPr>
        <p:spPr>
          <a:xfrm>
            <a:off x="1278000" y="4140360"/>
            <a:ext cx="6595920" cy="0"/>
          </a:xfrm>
          <a:prstGeom prst="line">
            <a:avLst/>
          </a:prstGeom>
          <a:ln cap="rnd" w="15840">
            <a:solidFill>
              <a:srgbClr val="8399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7432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1" marL="71316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2" marL="115200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3" marL="1481040" indent="-1641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4" marL="1919880" indent="-1641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5" marL="1919880" indent="-1641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6" marL="1919880" indent="-1641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 type="dt" idx="28"/>
          </p:nvPr>
        </p:nvSpPr>
        <p:spPr>
          <a:xfrm>
            <a:off x="6356520" y="5961240"/>
            <a:ext cx="114912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 type="ftr" idx="29"/>
          </p:nvPr>
        </p:nvSpPr>
        <p:spPr>
          <a:xfrm>
            <a:off x="1176120" y="5961240"/>
            <a:ext cx="510516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 type="sldNum" idx="30"/>
          </p:nvPr>
        </p:nvSpPr>
        <p:spPr>
          <a:xfrm>
            <a:off x="7580160" y="5961240"/>
            <a:ext cx="39528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0B7BE-B1EA-4EC3-B01C-519942D80C40}" type="slidenum">
              <a:rPr b="0" lang="ru-RU" sz="10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7"/>
    <p:sldLayoutId id="2147483767" r:id="rId8"/>
    <p:sldLayoutId id="2147483768" r:id="rId9"/>
    <p:sldLayoutId id="2147483769" r:id="rId10"/>
    <p:sldLayoutId id="2147483770" r:id="rId11"/>
    <p:sldLayoutId id="2147483771" r:id="rId12"/>
    <p:sldLayoutId id="2147483772" r:id="rId13"/>
    <p:sldLayoutId id="2147483773" r:id="rId14"/>
    <p:sldLayoutId id="2147483774" r:id="rId15"/>
    <p:sldLayoutId id="2147483775" r:id="rId16"/>
    <p:sldLayoutId id="2147483776" r:id="rId17"/>
    <p:sldLayoutId id="2147483777" r:id="rId18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1" name="Group 6"/>
          <p:cNvGrpSpPr/>
          <p:nvPr/>
        </p:nvGrpSpPr>
        <p:grpSpPr>
          <a:xfrm>
            <a:off x="0" y="0"/>
            <a:ext cx="9151920" cy="6858000"/>
            <a:chOff x="0" y="0"/>
            <a:chExt cx="9151920" cy="6858000"/>
          </a:xfrm>
        </p:grpSpPr>
        <p:pic>
          <p:nvPicPr>
            <p:cNvPr id="492" name="Picture 7" descr="SD-PanelContent.png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3640" cy="6858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93" name="Rectangle 8"/>
            <p:cNvGrpSpPr/>
            <p:nvPr/>
          </p:nvGrpSpPr>
          <p:grpSpPr>
            <a:xfrm>
              <a:off x="548640" y="536400"/>
              <a:ext cx="8058960" cy="5772960"/>
              <a:chOff x="548640" y="536400"/>
              <a:chExt cx="8058960" cy="5772960"/>
            </a:xfrm>
          </p:grpSpPr>
          <p:pic>
            <p:nvPicPr>
              <p:cNvPr id="494" name="Rectangl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548640" y="536400"/>
                <a:ext cx="8058960" cy="5772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95" name=""/>
              <p:cNvSpPr/>
              <p:nvPr/>
            </p:nvSpPr>
            <p:spPr>
              <a:xfrm>
                <a:off x="553680" y="542520"/>
                <a:ext cx="8039520" cy="575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96" name="Picture 9" descr="HDRibbonContent-UniformTrim.png"/>
            <p:cNvPicPr/>
            <p:nvPr/>
          </p:nvPicPr>
          <p:blipFill>
            <a:blip r:embed="rId5"/>
            <a:srcRect l="0" t="0" r="14236" b="0"/>
            <a:stretch/>
          </p:blipFill>
          <p:spPr>
            <a:xfrm>
              <a:off x="0" y="3128400"/>
              <a:ext cx="685440" cy="60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7" name="Picture 10" descr="HDRibbonContent-UniformTrim.png"/>
            <p:cNvPicPr/>
            <p:nvPr/>
          </p:nvPicPr>
          <p:blipFill>
            <a:blip r:embed="rId6"/>
            <a:srcRect l="0" t="0" r="14236" b="0"/>
            <a:stretch/>
          </p:blipFill>
          <p:spPr>
            <a:xfrm>
              <a:off x="8466480" y="3128400"/>
              <a:ext cx="685440" cy="606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8" name="TextBox 11"/>
          <p:cNvSpPr/>
          <p:nvPr/>
        </p:nvSpPr>
        <p:spPr>
          <a:xfrm>
            <a:off x="878040" y="8967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Box 12"/>
          <p:cNvSpPr/>
          <p:nvPr/>
        </p:nvSpPr>
        <p:spPr>
          <a:xfrm>
            <a:off x="7650000" y="2608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Straight Connector 25"/>
          <p:cNvSpPr/>
          <p:nvPr/>
        </p:nvSpPr>
        <p:spPr>
          <a:xfrm>
            <a:off x="1278000" y="3429000"/>
            <a:ext cx="6595920" cy="0"/>
          </a:xfrm>
          <a:prstGeom prst="line">
            <a:avLst/>
          </a:prstGeom>
          <a:ln cap="rnd" w="15840">
            <a:solidFill>
              <a:srgbClr val="8399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7432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1" marL="71316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2" marL="115200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3" marL="1481040" indent="-1641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4" marL="1919880" indent="-1641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5" marL="1919880" indent="-1641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6" marL="1919880" indent="-1641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31"/>
          </p:nvPr>
        </p:nvSpPr>
        <p:spPr>
          <a:xfrm>
            <a:off x="6356520" y="5961240"/>
            <a:ext cx="114912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32"/>
          </p:nvPr>
        </p:nvSpPr>
        <p:spPr>
          <a:xfrm>
            <a:off x="1176120" y="5961240"/>
            <a:ext cx="510516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33"/>
          </p:nvPr>
        </p:nvSpPr>
        <p:spPr>
          <a:xfrm>
            <a:off x="7580160" y="5961240"/>
            <a:ext cx="39528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8A3A0-3FFE-4DFF-A1D6-A87733E3F728}" type="slidenum">
              <a:rPr b="0" lang="ru-RU" sz="10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2" name="Group 6"/>
          <p:cNvGrpSpPr/>
          <p:nvPr/>
        </p:nvGrpSpPr>
        <p:grpSpPr>
          <a:xfrm>
            <a:off x="0" y="0"/>
            <a:ext cx="9151920" cy="6858000"/>
            <a:chOff x="0" y="0"/>
            <a:chExt cx="9151920" cy="6858000"/>
          </a:xfrm>
        </p:grpSpPr>
        <p:pic>
          <p:nvPicPr>
            <p:cNvPr id="543" name="Picture 7" descr="SD-PanelContent.png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3640" cy="6858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44" name="Rectangle 8"/>
            <p:cNvGrpSpPr/>
            <p:nvPr/>
          </p:nvGrpSpPr>
          <p:grpSpPr>
            <a:xfrm>
              <a:off x="548640" y="536400"/>
              <a:ext cx="8058960" cy="5772960"/>
              <a:chOff x="548640" y="536400"/>
              <a:chExt cx="8058960" cy="5772960"/>
            </a:xfrm>
          </p:grpSpPr>
          <p:pic>
            <p:nvPicPr>
              <p:cNvPr id="545" name="Rectangl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548640" y="536400"/>
                <a:ext cx="8058960" cy="5772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6" name=""/>
              <p:cNvSpPr/>
              <p:nvPr/>
            </p:nvSpPr>
            <p:spPr>
              <a:xfrm>
                <a:off x="553680" y="542520"/>
                <a:ext cx="8039520" cy="575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7" name="Picture 9" descr="HDRibbonContent-UniformTrim.png"/>
            <p:cNvPicPr/>
            <p:nvPr/>
          </p:nvPicPr>
          <p:blipFill>
            <a:blip r:embed="rId5"/>
            <a:srcRect l="0" t="0" r="14236" b="0"/>
            <a:stretch/>
          </p:blipFill>
          <p:spPr>
            <a:xfrm>
              <a:off x="0" y="3128400"/>
              <a:ext cx="685440" cy="60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8" name="Picture 10" descr="HDRibbonContent-UniformTrim.png"/>
            <p:cNvPicPr/>
            <p:nvPr/>
          </p:nvPicPr>
          <p:blipFill>
            <a:blip r:embed="rId6"/>
            <a:srcRect l="0" t="0" r="14236" b="0"/>
            <a:stretch/>
          </p:blipFill>
          <p:spPr>
            <a:xfrm>
              <a:off x="8466480" y="3128400"/>
              <a:ext cx="685440" cy="606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9" name="Straight Connector 14"/>
          <p:cNvSpPr/>
          <p:nvPr/>
        </p:nvSpPr>
        <p:spPr>
          <a:xfrm>
            <a:off x="1278000" y="3429000"/>
            <a:ext cx="6607080" cy="0"/>
          </a:xfrm>
          <a:prstGeom prst="line">
            <a:avLst/>
          </a:prstGeom>
          <a:ln cap="rnd" w="15840">
            <a:solidFill>
              <a:srgbClr val="8399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7432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1" marL="71316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2" marL="115200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3" marL="1481040" indent="-1641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4" marL="1919880" indent="-1641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5" marL="1919880" indent="-1641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6" marL="1919880" indent="-1641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 type="dt" idx="34"/>
          </p:nvPr>
        </p:nvSpPr>
        <p:spPr>
          <a:xfrm>
            <a:off x="6356520" y="5961240"/>
            <a:ext cx="114912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 type="ftr" idx="35"/>
          </p:nvPr>
        </p:nvSpPr>
        <p:spPr>
          <a:xfrm>
            <a:off x="1176120" y="5961240"/>
            <a:ext cx="510516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 type="sldNum" idx="36"/>
          </p:nvPr>
        </p:nvSpPr>
        <p:spPr>
          <a:xfrm>
            <a:off x="7580160" y="5961240"/>
            <a:ext cx="39528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8D70F-6B5B-41DD-B92E-4BE6A23903A7}" type="slidenum">
              <a:rPr b="0" lang="ru-RU" sz="10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7"/>
    <p:sldLayoutId id="2147483793" r:id="rId8"/>
    <p:sldLayoutId id="2147483794" r:id="rId9"/>
    <p:sldLayoutId id="2147483795" r:id="rId10"/>
    <p:sldLayoutId id="2147483796" r:id="rId11"/>
    <p:sldLayoutId id="2147483797" r:id="rId12"/>
    <p:sldLayoutId id="2147483798" r:id="rId13"/>
    <p:sldLayoutId id="2147483799" r:id="rId14"/>
    <p:sldLayoutId id="2147483800" r:id="rId15"/>
    <p:sldLayoutId id="2147483801" r:id="rId16"/>
    <p:sldLayoutId id="2147483802" r:id="rId17"/>
    <p:sldLayoutId id="2147483803" r:id="rId18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1" name="Group 6"/>
          <p:cNvGrpSpPr/>
          <p:nvPr/>
        </p:nvGrpSpPr>
        <p:grpSpPr>
          <a:xfrm>
            <a:off x="0" y="0"/>
            <a:ext cx="9151920" cy="6858000"/>
            <a:chOff x="0" y="0"/>
            <a:chExt cx="9151920" cy="6858000"/>
          </a:xfrm>
        </p:grpSpPr>
        <p:pic>
          <p:nvPicPr>
            <p:cNvPr id="592" name="Picture 7" descr="SD-PanelContent.png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3640" cy="6858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93" name="Rectangle 8"/>
            <p:cNvGrpSpPr/>
            <p:nvPr/>
          </p:nvGrpSpPr>
          <p:grpSpPr>
            <a:xfrm>
              <a:off x="548640" y="536400"/>
              <a:ext cx="8058960" cy="5772960"/>
              <a:chOff x="548640" y="536400"/>
              <a:chExt cx="8058960" cy="5772960"/>
            </a:xfrm>
          </p:grpSpPr>
          <p:pic>
            <p:nvPicPr>
              <p:cNvPr id="594" name="Rectangl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548640" y="536400"/>
                <a:ext cx="8058960" cy="5772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5" name=""/>
              <p:cNvSpPr/>
              <p:nvPr/>
            </p:nvSpPr>
            <p:spPr>
              <a:xfrm>
                <a:off x="553680" y="542520"/>
                <a:ext cx="8039520" cy="575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96" name="Picture 9" descr="HDRibbonContent-UniformTrim.png"/>
            <p:cNvPicPr/>
            <p:nvPr/>
          </p:nvPicPr>
          <p:blipFill>
            <a:blip r:embed="rId5"/>
            <a:srcRect l="0" t="0" r="14236" b="0"/>
            <a:stretch/>
          </p:blipFill>
          <p:spPr>
            <a:xfrm>
              <a:off x="0" y="3128400"/>
              <a:ext cx="685440" cy="60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7" name="Picture 10" descr="HDRibbonContent-UniformTrim.png"/>
            <p:cNvPicPr/>
            <p:nvPr/>
          </p:nvPicPr>
          <p:blipFill>
            <a:blip r:embed="rId6"/>
            <a:srcRect l="0" t="0" r="14236" b="0"/>
            <a:stretch/>
          </p:blipFill>
          <p:spPr>
            <a:xfrm>
              <a:off x="8466480" y="3128400"/>
              <a:ext cx="685440" cy="606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98" name="Straight Connector 13"/>
          <p:cNvSpPr/>
          <p:nvPr/>
        </p:nvSpPr>
        <p:spPr>
          <a:xfrm>
            <a:off x="1278000" y="2354400"/>
            <a:ext cx="6607080" cy="0"/>
          </a:xfrm>
          <a:prstGeom prst="line">
            <a:avLst/>
          </a:prstGeom>
          <a:ln cap="rnd" w="15840">
            <a:solidFill>
              <a:srgbClr val="8399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7432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1" marL="71316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2" marL="115200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3" marL="1481040" indent="-1641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4" marL="1919880" indent="-1641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5" marL="1919880" indent="-1641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6" marL="1919880" indent="-1641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 type="dt" idx="37"/>
          </p:nvPr>
        </p:nvSpPr>
        <p:spPr>
          <a:xfrm>
            <a:off x="6356520" y="5961240"/>
            <a:ext cx="114912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 type="ftr" idx="38"/>
          </p:nvPr>
        </p:nvSpPr>
        <p:spPr>
          <a:xfrm>
            <a:off x="1176120" y="5961240"/>
            <a:ext cx="510516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 type="sldNum" idx="39"/>
          </p:nvPr>
        </p:nvSpPr>
        <p:spPr>
          <a:xfrm>
            <a:off x="7580160" y="5961240"/>
            <a:ext cx="39528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AAEB3-C979-4102-A34B-42F3D58A76B5}" type="slidenum">
              <a:rPr b="0" lang="ru-RU" sz="10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7"/>
    <p:sldLayoutId id="2147483806" r:id="rId8"/>
    <p:sldLayoutId id="2147483807" r:id="rId9"/>
    <p:sldLayoutId id="2147483808" r:id="rId10"/>
    <p:sldLayoutId id="2147483809" r:id="rId11"/>
    <p:sldLayoutId id="2147483810" r:id="rId12"/>
    <p:sldLayoutId id="2147483811" r:id="rId13"/>
    <p:sldLayoutId id="2147483812" r:id="rId14"/>
    <p:sldLayoutId id="2147483813" r:id="rId15"/>
    <p:sldLayoutId id="2147483814" r:id="rId16"/>
    <p:sldLayoutId id="2147483815" r:id="rId17"/>
    <p:sldLayoutId id="2147483816" r:id="rId18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0" name="Group 6"/>
          <p:cNvGrpSpPr/>
          <p:nvPr/>
        </p:nvGrpSpPr>
        <p:grpSpPr>
          <a:xfrm>
            <a:off x="0" y="0"/>
            <a:ext cx="9151920" cy="6858000"/>
            <a:chOff x="0" y="0"/>
            <a:chExt cx="9151920" cy="6858000"/>
          </a:xfrm>
        </p:grpSpPr>
        <p:pic>
          <p:nvPicPr>
            <p:cNvPr id="641" name="Picture 7" descr="SD-PanelContent.png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3640" cy="6858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42" name="Rectangle 8"/>
            <p:cNvGrpSpPr/>
            <p:nvPr/>
          </p:nvGrpSpPr>
          <p:grpSpPr>
            <a:xfrm>
              <a:off x="548640" y="536400"/>
              <a:ext cx="8058960" cy="5772960"/>
              <a:chOff x="548640" y="536400"/>
              <a:chExt cx="8058960" cy="5772960"/>
            </a:xfrm>
          </p:grpSpPr>
          <p:pic>
            <p:nvPicPr>
              <p:cNvPr id="643" name="Rectangl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548640" y="536400"/>
                <a:ext cx="8058960" cy="5772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44" name=""/>
              <p:cNvSpPr/>
              <p:nvPr/>
            </p:nvSpPr>
            <p:spPr>
              <a:xfrm>
                <a:off x="553680" y="542520"/>
                <a:ext cx="8039520" cy="575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645" name="Picture 9" descr="HDRibbonContent-UniformTrim.png"/>
            <p:cNvPicPr/>
            <p:nvPr/>
          </p:nvPicPr>
          <p:blipFill>
            <a:blip r:embed="rId5"/>
            <a:srcRect l="0" t="0" r="14236" b="0"/>
            <a:stretch/>
          </p:blipFill>
          <p:spPr>
            <a:xfrm>
              <a:off x="0" y="3128400"/>
              <a:ext cx="685440" cy="60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6" name="Picture 10" descr="HDRibbonContent-UniformTrim.png"/>
            <p:cNvPicPr/>
            <p:nvPr/>
          </p:nvPicPr>
          <p:blipFill>
            <a:blip r:embed="rId6"/>
            <a:srcRect l="0" t="0" r="14236" b="0"/>
            <a:stretch/>
          </p:blipFill>
          <p:spPr>
            <a:xfrm>
              <a:off x="8466480" y="3128400"/>
              <a:ext cx="685440" cy="606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47" name="Straight Connector 13"/>
          <p:cNvSpPr/>
          <p:nvPr/>
        </p:nvSpPr>
        <p:spPr>
          <a:xfrm>
            <a:off x="6245280" y="906480"/>
            <a:ext cx="0" cy="4968720"/>
          </a:xfrm>
          <a:prstGeom prst="line">
            <a:avLst/>
          </a:prstGeom>
          <a:ln cap="rnd" w="15840">
            <a:solidFill>
              <a:srgbClr val="8399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7432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1" marL="71316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2" marL="115200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3" marL="1481040" indent="-1641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4" marL="1919880" indent="-1641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5" marL="1919880" indent="-1641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6" marL="1919880" indent="-1641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40"/>
          </p:nvPr>
        </p:nvSpPr>
        <p:spPr>
          <a:xfrm>
            <a:off x="6356520" y="5961240"/>
            <a:ext cx="114912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41"/>
          </p:nvPr>
        </p:nvSpPr>
        <p:spPr>
          <a:xfrm>
            <a:off x="1176120" y="5961240"/>
            <a:ext cx="510516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42"/>
          </p:nvPr>
        </p:nvSpPr>
        <p:spPr>
          <a:xfrm>
            <a:off x="7580160" y="5961240"/>
            <a:ext cx="39528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C9F78-7B8E-4AF3-8561-DE2EE6913906}" type="slidenum">
              <a:rPr b="0" lang="ru-RU" sz="10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7"/>
    <p:sldLayoutId id="2147483819" r:id="rId8"/>
    <p:sldLayoutId id="2147483820" r:id="rId9"/>
    <p:sldLayoutId id="2147483821" r:id="rId10"/>
    <p:sldLayoutId id="2147483822" r:id="rId11"/>
    <p:sldLayoutId id="2147483823" r:id="rId12"/>
    <p:sldLayoutId id="2147483824" r:id="rId13"/>
    <p:sldLayoutId id="2147483825" r:id="rId14"/>
    <p:sldLayoutId id="2147483826" r:id="rId15"/>
    <p:sldLayoutId id="2147483827" r:id="rId16"/>
    <p:sldLayoutId id="2147483828" r:id="rId17"/>
    <p:sldLayoutId id="2147483829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17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49" name="Picture 7" descr="SD-PanelTitle-R1.png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3640" cy="6858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0" name="Rectangle 10"/>
            <p:cNvGrpSpPr/>
            <p:nvPr/>
          </p:nvGrpSpPr>
          <p:grpSpPr>
            <a:xfrm>
              <a:off x="1511640" y="1511640"/>
              <a:ext cx="6126480" cy="3840480"/>
              <a:chOff x="1511640" y="1511640"/>
              <a:chExt cx="6126480" cy="3840480"/>
            </a:xfrm>
          </p:grpSpPr>
          <p:pic>
            <p:nvPicPr>
              <p:cNvPr id="51" name="Rectangle 10" descr=""/>
              <p:cNvPicPr/>
              <p:nvPr/>
            </p:nvPicPr>
            <p:blipFill>
              <a:blip r:embed="rId4"/>
              <a:stretch/>
            </p:blipFill>
            <p:spPr>
              <a:xfrm>
                <a:off x="1511640" y="1511640"/>
                <a:ext cx="6126480" cy="3840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2" name=""/>
              <p:cNvSpPr/>
              <p:nvPr/>
            </p:nvSpPr>
            <p:spPr>
              <a:xfrm>
                <a:off x="1515240" y="1519920"/>
                <a:ext cx="6112800" cy="381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3" name="Picture 11" descr="HDRibbonTitle-UniformTrim.png"/>
            <p:cNvPicPr/>
            <p:nvPr/>
          </p:nvPicPr>
          <p:blipFill>
            <a:blip r:embed="rId5"/>
            <a:srcRect l="0" t="0" r="47963" b="0"/>
            <a:stretch/>
          </p:blipFill>
          <p:spPr>
            <a:xfrm>
              <a:off x="0" y="3128400"/>
              <a:ext cx="1663920" cy="612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Picture 12" descr="HDRibbonTitle-UniformTrim.png"/>
            <p:cNvPicPr/>
            <p:nvPr/>
          </p:nvPicPr>
          <p:blipFill>
            <a:blip r:embed="rId6"/>
            <a:srcRect l="0" t="0" r="47963" b="0"/>
            <a:stretch/>
          </p:blipFill>
          <p:spPr>
            <a:xfrm>
              <a:off x="7480080" y="3128400"/>
              <a:ext cx="1663920" cy="612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Straight Connector 14"/>
          <p:cNvSpPr/>
          <p:nvPr/>
        </p:nvSpPr>
        <p:spPr>
          <a:xfrm>
            <a:off x="2019240" y="3471840"/>
            <a:ext cx="5113440" cy="0"/>
          </a:xfrm>
          <a:prstGeom prst="line">
            <a:avLst/>
          </a:prstGeom>
          <a:ln cap="rnd" w="15840">
            <a:solidFill>
              <a:srgbClr val="8399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7432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1" marL="71316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2" marL="115200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3" marL="1481040" indent="-1641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4" marL="1919880" indent="-1641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5" marL="1919880" indent="-1641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6" marL="1919880" indent="-1641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6065640" y="5054760"/>
            <a:ext cx="67284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1922040" y="5054760"/>
            <a:ext cx="406404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816240" y="5054760"/>
            <a:ext cx="41436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FF427-3BC7-4E83-9944-DC7E94E30F47}" type="slidenum">
              <a:rPr b="0" lang="ru-RU" sz="10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" name="Group 6"/>
          <p:cNvGrpSpPr/>
          <p:nvPr/>
        </p:nvGrpSpPr>
        <p:grpSpPr>
          <a:xfrm>
            <a:off x="0" y="0"/>
            <a:ext cx="9151920" cy="6858000"/>
            <a:chOff x="0" y="0"/>
            <a:chExt cx="9151920" cy="6858000"/>
          </a:xfrm>
        </p:grpSpPr>
        <p:pic>
          <p:nvPicPr>
            <p:cNvPr id="98" name="Picture 7" descr="SD-PanelContent.png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3640" cy="6858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9" name="Rectangle 8"/>
            <p:cNvGrpSpPr/>
            <p:nvPr/>
          </p:nvGrpSpPr>
          <p:grpSpPr>
            <a:xfrm>
              <a:off x="548640" y="536400"/>
              <a:ext cx="8058960" cy="5772960"/>
              <a:chOff x="548640" y="536400"/>
              <a:chExt cx="8058960" cy="5772960"/>
            </a:xfrm>
          </p:grpSpPr>
          <p:pic>
            <p:nvPicPr>
              <p:cNvPr id="100" name="Rectangl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548640" y="536400"/>
                <a:ext cx="8058960" cy="5772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1" name=""/>
              <p:cNvSpPr/>
              <p:nvPr/>
            </p:nvSpPr>
            <p:spPr>
              <a:xfrm>
                <a:off x="553680" y="542520"/>
                <a:ext cx="8039520" cy="575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02" name="Picture 9" descr="HDRibbonContent-UniformTrim.png"/>
            <p:cNvPicPr/>
            <p:nvPr/>
          </p:nvPicPr>
          <p:blipFill>
            <a:blip r:embed="rId5"/>
            <a:srcRect l="0" t="0" r="14236" b="0"/>
            <a:stretch/>
          </p:blipFill>
          <p:spPr>
            <a:xfrm>
              <a:off x="0" y="3128400"/>
              <a:ext cx="685440" cy="60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Picture 10" descr="HDRibbonContent-UniformTrim.png"/>
            <p:cNvPicPr/>
            <p:nvPr/>
          </p:nvPicPr>
          <p:blipFill>
            <a:blip r:embed="rId6"/>
            <a:srcRect l="0" t="0" r="14236" b="0"/>
            <a:stretch/>
          </p:blipFill>
          <p:spPr>
            <a:xfrm>
              <a:off x="8466480" y="3128400"/>
              <a:ext cx="685440" cy="606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4" name="Straight Connector 6"/>
          <p:cNvSpPr/>
          <p:nvPr/>
        </p:nvSpPr>
        <p:spPr>
          <a:xfrm>
            <a:off x="1278000" y="2355840"/>
            <a:ext cx="6595920" cy="0"/>
          </a:xfrm>
          <a:prstGeom prst="line">
            <a:avLst/>
          </a:prstGeom>
          <a:ln cap="rnd" w="15840">
            <a:solidFill>
              <a:srgbClr val="8399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7432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1" marL="71316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2" marL="115200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3" marL="1481040" indent="-1641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4" marL="1919880" indent="-1641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5" marL="1919880" indent="-1641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6" marL="1919880" indent="-1641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dt" idx="7"/>
          </p:nvPr>
        </p:nvSpPr>
        <p:spPr>
          <a:xfrm>
            <a:off x="6356520" y="5961240"/>
            <a:ext cx="114912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ftr" idx="8"/>
          </p:nvPr>
        </p:nvSpPr>
        <p:spPr>
          <a:xfrm>
            <a:off x="1176120" y="5961240"/>
            <a:ext cx="510516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sldNum" idx="9"/>
          </p:nvPr>
        </p:nvSpPr>
        <p:spPr>
          <a:xfrm>
            <a:off x="7580160" y="5961240"/>
            <a:ext cx="39528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F91C2-534F-4D6A-95FD-B95BC409F66C}" type="slidenum">
              <a:rPr b="0" lang="ru-RU" sz="10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Group 6"/>
          <p:cNvGrpSpPr/>
          <p:nvPr/>
        </p:nvGrpSpPr>
        <p:grpSpPr>
          <a:xfrm>
            <a:off x="0" y="0"/>
            <a:ext cx="9151920" cy="6858000"/>
            <a:chOff x="0" y="0"/>
            <a:chExt cx="9151920" cy="6858000"/>
          </a:xfrm>
        </p:grpSpPr>
        <p:pic>
          <p:nvPicPr>
            <p:cNvPr id="147" name="Picture 7" descr="SD-PanelContent.png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3640" cy="6858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48" name="Rectangle 8"/>
            <p:cNvGrpSpPr/>
            <p:nvPr/>
          </p:nvGrpSpPr>
          <p:grpSpPr>
            <a:xfrm>
              <a:off x="548640" y="536400"/>
              <a:ext cx="8058960" cy="5772960"/>
              <a:chOff x="548640" y="536400"/>
              <a:chExt cx="8058960" cy="5772960"/>
            </a:xfrm>
          </p:grpSpPr>
          <p:pic>
            <p:nvPicPr>
              <p:cNvPr id="149" name="Rectangl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548640" y="536400"/>
                <a:ext cx="8058960" cy="5772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"/>
              <p:cNvSpPr/>
              <p:nvPr/>
            </p:nvSpPr>
            <p:spPr>
              <a:xfrm>
                <a:off x="553680" y="542520"/>
                <a:ext cx="8039520" cy="575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51" name="Picture 9" descr="HDRibbonContent-UniformTrim.png"/>
            <p:cNvPicPr/>
            <p:nvPr/>
          </p:nvPicPr>
          <p:blipFill>
            <a:blip r:embed="rId5"/>
            <a:srcRect l="0" t="0" r="14236" b="0"/>
            <a:stretch/>
          </p:blipFill>
          <p:spPr>
            <a:xfrm>
              <a:off x="0" y="3128400"/>
              <a:ext cx="685440" cy="60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0" descr="HDRibbonContent-UniformTrim.png"/>
            <p:cNvPicPr/>
            <p:nvPr/>
          </p:nvPicPr>
          <p:blipFill>
            <a:blip r:embed="rId6"/>
            <a:srcRect l="0" t="0" r="14236" b="0"/>
            <a:stretch/>
          </p:blipFill>
          <p:spPr>
            <a:xfrm>
              <a:off x="8466480" y="3128400"/>
              <a:ext cx="685440" cy="606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Straight Connector 30"/>
          <p:cNvSpPr/>
          <p:nvPr/>
        </p:nvSpPr>
        <p:spPr>
          <a:xfrm>
            <a:off x="1278000" y="3598920"/>
            <a:ext cx="6595920" cy="0"/>
          </a:xfrm>
          <a:prstGeom prst="line">
            <a:avLst/>
          </a:prstGeom>
          <a:ln cap="rnd" w="15840">
            <a:solidFill>
              <a:srgbClr val="8399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7432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1" marL="71316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2" marL="115200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3" marL="1481040" indent="-1641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4" marL="1919880" indent="-1641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5" marL="1919880" indent="-1641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6" marL="1919880" indent="-1641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6356520" y="5961240"/>
            <a:ext cx="114912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1176120" y="5961240"/>
            <a:ext cx="510516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7580160" y="5961240"/>
            <a:ext cx="39528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9453B-6492-4408-A221-6B93E47A7C49}" type="slidenum">
              <a:rPr b="0" lang="ru-RU" sz="10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5" name="Group 6"/>
          <p:cNvGrpSpPr/>
          <p:nvPr/>
        </p:nvGrpSpPr>
        <p:grpSpPr>
          <a:xfrm>
            <a:off x="0" y="0"/>
            <a:ext cx="9151920" cy="6858000"/>
            <a:chOff x="0" y="0"/>
            <a:chExt cx="9151920" cy="6858000"/>
          </a:xfrm>
        </p:grpSpPr>
        <p:pic>
          <p:nvPicPr>
            <p:cNvPr id="196" name="Picture 7" descr="SD-PanelContent.png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3640" cy="6858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97" name="Rectangle 8"/>
            <p:cNvGrpSpPr/>
            <p:nvPr/>
          </p:nvGrpSpPr>
          <p:grpSpPr>
            <a:xfrm>
              <a:off x="548640" y="536400"/>
              <a:ext cx="8058960" cy="5772960"/>
              <a:chOff x="548640" y="536400"/>
              <a:chExt cx="8058960" cy="5772960"/>
            </a:xfrm>
          </p:grpSpPr>
          <p:pic>
            <p:nvPicPr>
              <p:cNvPr id="198" name="Rectangl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548640" y="536400"/>
                <a:ext cx="8058960" cy="5772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9" name=""/>
              <p:cNvSpPr/>
              <p:nvPr/>
            </p:nvSpPr>
            <p:spPr>
              <a:xfrm>
                <a:off x="553680" y="542520"/>
                <a:ext cx="8039520" cy="575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00" name="Picture 9" descr="HDRibbonContent-UniformTrim.png"/>
            <p:cNvPicPr/>
            <p:nvPr/>
          </p:nvPicPr>
          <p:blipFill>
            <a:blip r:embed="rId5"/>
            <a:srcRect l="0" t="0" r="14236" b="0"/>
            <a:stretch/>
          </p:blipFill>
          <p:spPr>
            <a:xfrm>
              <a:off x="0" y="3128400"/>
              <a:ext cx="685440" cy="60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1" name="Picture 10" descr="HDRibbonContent-UniformTrim.png"/>
            <p:cNvPicPr/>
            <p:nvPr/>
          </p:nvPicPr>
          <p:blipFill>
            <a:blip r:embed="rId6"/>
            <a:srcRect l="0" t="0" r="14236" b="0"/>
            <a:stretch/>
          </p:blipFill>
          <p:spPr>
            <a:xfrm>
              <a:off x="8466480" y="3128400"/>
              <a:ext cx="685440" cy="606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2" name="Straight Connector 7"/>
          <p:cNvSpPr/>
          <p:nvPr/>
        </p:nvSpPr>
        <p:spPr>
          <a:xfrm>
            <a:off x="1278000" y="2355840"/>
            <a:ext cx="6595920" cy="0"/>
          </a:xfrm>
          <a:prstGeom prst="line">
            <a:avLst/>
          </a:prstGeom>
          <a:ln cap="rnd" w="15840">
            <a:solidFill>
              <a:srgbClr val="8399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7432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1" marL="71316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2" marL="115200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3" marL="1481040" indent="-1641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4" marL="1919880" indent="-1641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5" marL="1919880" indent="-1641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6" marL="1919880" indent="-1641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dt" idx="13"/>
          </p:nvPr>
        </p:nvSpPr>
        <p:spPr>
          <a:xfrm>
            <a:off x="6356520" y="5961240"/>
            <a:ext cx="114912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 type="ftr" idx="14"/>
          </p:nvPr>
        </p:nvSpPr>
        <p:spPr>
          <a:xfrm>
            <a:off x="1176120" y="5961240"/>
            <a:ext cx="510516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 type="sldNum" idx="15"/>
          </p:nvPr>
        </p:nvSpPr>
        <p:spPr>
          <a:xfrm>
            <a:off x="7580160" y="5961240"/>
            <a:ext cx="39528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4EEEE-4DC3-4E41-8B7F-693F5DB7DEB3}" type="slidenum">
              <a:rPr b="0" lang="ru-RU" sz="10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4" name="Group 6"/>
          <p:cNvGrpSpPr/>
          <p:nvPr/>
        </p:nvGrpSpPr>
        <p:grpSpPr>
          <a:xfrm>
            <a:off x="0" y="0"/>
            <a:ext cx="9151920" cy="6858000"/>
            <a:chOff x="0" y="0"/>
            <a:chExt cx="9151920" cy="6858000"/>
          </a:xfrm>
        </p:grpSpPr>
        <p:pic>
          <p:nvPicPr>
            <p:cNvPr id="245" name="Picture 7" descr="SD-PanelContent.png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3640" cy="6858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46" name="Rectangle 8"/>
            <p:cNvGrpSpPr/>
            <p:nvPr/>
          </p:nvGrpSpPr>
          <p:grpSpPr>
            <a:xfrm>
              <a:off x="548640" y="536400"/>
              <a:ext cx="8058960" cy="5772960"/>
              <a:chOff x="548640" y="536400"/>
              <a:chExt cx="8058960" cy="5772960"/>
            </a:xfrm>
          </p:grpSpPr>
          <p:pic>
            <p:nvPicPr>
              <p:cNvPr id="247" name="Rectangl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548640" y="536400"/>
                <a:ext cx="8058960" cy="5772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8" name=""/>
              <p:cNvSpPr/>
              <p:nvPr/>
            </p:nvSpPr>
            <p:spPr>
              <a:xfrm>
                <a:off x="553680" y="542520"/>
                <a:ext cx="8039520" cy="575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49" name="Picture 9" descr="HDRibbonContent-UniformTrim.png"/>
            <p:cNvPicPr/>
            <p:nvPr/>
          </p:nvPicPr>
          <p:blipFill>
            <a:blip r:embed="rId5"/>
            <a:srcRect l="0" t="0" r="14236" b="0"/>
            <a:stretch/>
          </p:blipFill>
          <p:spPr>
            <a:xfrm>
              <a:off x="0" y="3128400"/>
              <a:ext cx="685440" cy="60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0" name="Picture 10" descr="HDRibbonContent-UniformTrim.png"/>
            <p:cNvPicPr/>
            <p:nvPr/>
          </p:nvPicPr>
          <p:blipFill>
            <a:blip r:embed="rId6"/>
            <a:srcRect l="0" t="0" r="14236" b="0"/>
            <a:stretch/>
          </p:blipFill>
          <p:spPr>
            <a:xfrm>
              <a:off x="8466480" y="3128400"/>
              <a:ext cx="685440" cy="606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1" name="Straight Connector 40"/>
          <p:cNvSpPr/>
          <p:nvPr/>
        </p:nvSpPr>
        <p:spPr>
          <a:xfrm>
            <a:off x="1278000" y="2354400"/>
            <a:ext cx="6595920" cy="0"/>
          </a:xfrm>
          <a:prstGeom prst="line">
            <a:avLst/>
          </a:prstGeom>
          <a:ln cap="rnd" w="15840">
            <a:solidFill>
              <a:srgbClr val="8399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7432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1" marL="71316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2" marL="115200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3" marL="1481040" indent="-1641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4" marL="1919880" indent="-1641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5" marL="1919880" indent="-1641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6" marL="1919880" indent="-1641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dt" idx="16"/>
          </p:nvPr>
        </p:nvSpPr>
        <p:spPr>
          <a:xfrm>
            <a:off x="6356520" y="5961240"/>
            <a:ext cx="114912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 type="ftr" idx="17"/>
          </p:nvPr>
        </p:nvSpPr>
        <p:spPr>
          <a:xfrm>
            <a:off x="1176120" y="5961240"/>
            <a:ext cx="510516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 type="sldNum" idx="18"/>
          </p:nvPr>
        </p:nvSpPr>
        <p:spPr>
          <a:xfrm>
            <a:off x="7580160" y="5961240"/>
            <a:ext cx="39528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81CBB-EE5C-4F60-ABE6-618C23F99DD8}" type="slidenum">
              <a:rPr b="0" lang="ru-RU" sz="10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3" name="Group 6"/>
          <p:cNvGrpSpPr/>
          <p:nvPr/>
        </p:nvGrpSpPr>
        <p:grpSpPr>
          <a:xfrm>
            <a:off x="0" y="0"/>
            <a:ext cx="9151920" cy="6858000"/>
            <a:chOff x="0" y="0"/>
            <a:chExt cx="9151920" cy="6858000"/>
          </a:xfrm>
        </p:grpSpPr>
        <p:pic>
          <p:nvPicPr>
            <p:cNvPr id="294" name="Picture 7" descr="SD-PanelContent.png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3640" cy="6858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95" name="Rectangle 8"/>
            <p:cNvGrpSpPr/>
            <p:nvPr/>
          </p:nvGrpSpPr>
          <p:grpSpPr>
            <a:xfrm>
              <a:off x="548640" y="536400"/>
              <a:ext cx="8058960" cy="5772960"/>
              <a:chOff x="548640" y="536400"/>
              <a:chExt cx="8058960" cy="5772960"/>
            </a:xfrm>
          </p:grpSpPr>
          <p:pic>
            <p:nvPicPr>
              <p:cNvPr id="296" name="Rectangl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548640" y="536400"/>
                <a:ext cx="8058960" cy="5772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7" name=""/>
              <p:cNvSpPr/>
              <p:nvPr/>
            </p:nvSpPr>
            <p:spPr>
              <a:xfrm>
                <a:off x="553680" y="542520"/>
                <a:ext cx="8039520" cy="575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98" name="Picture 9" descr="HDRibbonContent-UniformTrim.png"/>
            <p:cNvPicPr/>
            <p:nvPr/>
          </p:nvPicPr>
          <p:blipFill>
            <a:blip r:embed="rId5"/>
            <a:srcRect l="0" t="0" r="14236" b="0"/>
            <a:stretch/>
          </p:blipFill>
          <p:spPr>
            <a:xfrm>
              <a:off x="0" y="3128400"/>
              <a:ext cx="685440" cy="60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9" name="Picture 10" descr="HDRibbonContent-UniformTrim.png"/>
            <p:cNvPicPr/>
            <p:nvPr/>
          </p:nvPicPr>
          <p:blipFill>
            <a:blip r:embed="rId6"/>
            <a:srcRect l="0" t="0" r="14236" b="0"/>
            <a:stretch/>
          </p:blipFill>
          <p:spPr>
            <a:xfrm>
              <a:off x="8466480" y="3128400"/>
              <a:ext cx="685440" cy="606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0" name="Straight Connector 13"/>
          <p:cNvSpPr/>
          <p:nvPr/>
        </p:nvSpPr>
        <p:spPr>
          <a:xfrm>
            <a:off x="1278000" y="2354400"/>
            <a:ext cx="6595920" cy="0"/>
          </a:xfrm>
          <a:prstGeom prst="line">
            <a:avLst/>
          </a:prstGeom>
          <a:ln cap="rnd" w="15840">
            <a:solidFill>
              <a:srgbClr val="8399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7432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1" marL="71316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2" marL="115200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3" marL="1481040" indent="-1641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4" marL="1919880" indent="-1641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5" marL="1919880" indent="-1641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6" marL="1919880" indent="-1641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dt" idx="19"/>
          </p:nvPr>
        </p:nvSpPr>
        <p:spPr>
          <a:xfrm>
            <a:off x="6356520" y="5961240"/>
            <a:ext cx="114912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ftr" idx="20"/>
          </p:nvPr>
        </p:nvSpPr>
        <p:spPr>
          <a:xfrm>
            <a:off x="1176120" y="5961240"/>
            <a:ext cx="510516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 type="sldNum" idx="21"/>
          </p:nvPr>
        </p:nvSpPr>
        <p:spPr>
          <a:xfrm>
            <a:off x="7580160" y="5961240"/>
            <a:ext cx="39528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9B6F9-F0AF-4A2C-A5AE-CA2F8C98799D}" type="slidenum">
              <a:rPr b="0" lang="ru-RU" sz="10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7"/>
    <p:sldLayoutId id="2147483728" r:id="rId8"/>
    <p:sldLayoutId id="2147483729" r:id="rId9"/>
    <p:sldLayoutId id="2147483730" r:id="rId10"/>
    <p:sldLayoutId id="2147483731" r:id="rId11"/>
    <p:sldLayoutId id="2147483732" r:id="rId12"/>
    <p:sldLayoutId id="2147483733" r:id="rId13"/>
    <p:sldLayoutId id="2147483734" r:id="rId14"/>
    <p:sldLayoutId id="2147483735" r:id="rId15"/>
    <p:sldLayoutId id="2147483736" r:id="rId16"/>
    <p:sldLayoutId id="2147483737" r:id="rId17"/>
    <p:sldLayoutId id="2147483738" r:id="rId18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2" name="Group 6"/>
          <p:cNvGrpSpPr/>
          <p:nvPr/>
        </p:nvGrpSpPr>
        <p:grpSpPr>
          <a:xfrm>
            <a:off x="0" y="0"/>
            <a:ext cx="9151920" cy="6858000"/>
            <a:chOff x="0" y="0"/>
            <a:chExt cx="9151920" cy="6858000"/>
          </a:xfrm>
        </p:grpSpPr>
        <p:pic>
          <p:nvPicPr>
            <p:cNvPr id="343" name="Picture 7" descr="SD-PanelContent.png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3640" cy="6858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44" name="Rectangle 8"/>
            <p:cNvGrpSpPr/>
            <p:nvPr/>
          </p:nvGrpSpPr>
          <p:grpSpPr>
            <a:xfrm>
              <a:off x="548640" y="536400"/>
              <a:ext cx="8058960" cy="5772960"/>
              <a:chOff x="548640" y="536400"/>
              <a:chExt cx="8058960" cy="5772960"/>
            </a:xfrm>
          </p:grpSpPr>
          <p:pic>
            <p:nvPicPr>
              <p:cNvPr id="345" name="Rectangl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548640" y="536400"/>
                <a:ext cx="8058960" cy="5772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46" name=""/>
              <p:cNvSpPr/>
              <p:nvPr/>
            </p:nvSpPr>
            <p:spPr>
              <a:xfrm>
                <a:off x="553680" y="542520"/>
                <a:ext cx="8039520" cy="575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47" name="Picture 9" descr="HDRibbonContent-UniformTrim.png"/>
            <p:cNvPicPr/>
            <p:nvPr/>
          </p:nvPicPr>
          <p:blipFill>
            <a:blip r:embed="rId5"/>
            <a:srcRect l="0" t="0" r="14236" b="0"/>
            <a:stretch/>
          </p:blipFill>
          <p:spPr>
            <a:xfrm>
              <a:off x="0" y="3128400"/>
              <a:ext cx="685440" cy="60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8" name="Picture 10" descr="HDRibbonContent-UniformTrim.png"/>
            <p:cNvPicPr/>
            <p:nvPr/>
          </p:nvPicPr>
          <p:blipFill>
            <a:blip r:embed="rId6"/>
            <a:srcRect l="0" t="0" r="14236" b="0"/>
            <a:stretch/>
          </p:blipFill>
          <p:spPr>
            <a:xfrm>
              <a:off x="8466480" y="3128400"/>
              <a:ext cx="685440" cy="606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9" name="Straight Connector 15"/>
          <p:cNvSpPr/>
          <p:nvPr/>
        </p:nvSpPr>
        <p:spPr>
          <a:xfrm>
            <a:off x="1278000" y="2913120"/>
            <a:ext cx="2333520" cy="0"/>
          </a:xfrm>
          <a:prstGeom prst="line">
            <a:avLst/>
          </a:prstGeom>
          <a:ln cap="rnd" w="15840">
            <a:solidFill>
              <a:srgbClr val="8399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7432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1" marL="71316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2" marL="115200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3" marL="1481040" indent="-1641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4" marL="1919880" indent="-1641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5" marL="1919880" indent="-1641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6" marL="1919880" indent="-1641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 type="dt" idx="22"/>
          </p:nvPr>
        </p:nvSpPr>
        <p:spPr>
          <a:xfrm>
            <a:off x="6356520" y="5961240"/>
            <a:ext cx="114912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 type="ftr" idx="23"/>
          </p:nvPr>
        </p:nvSpPr>
        <p:spPr>
          <a:xfrm>
            <a:off x="1176120" y="5961240"/>
            <a:ext cx="510516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 type="sldNum" idx="24"/>
          </p:nvPr>
        </p:nvSpPr>
        <p:spPr>
          <a:xfrm>
            <a:off x="7580160" y="5961240"/>
            <a:ext cx="39528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F540C-F5DE-48D3-89B4-F40FD58A8AAE}" type="slidenum">
              <a:rPr b="0" lang="ru-RU" sz="10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7"/>
    <p:sldLayoutId id="2147483741" r:id="rId8"/>
    <p:sldLayoutId id="2147483742" r:id="rId9"/>
    <p:sldLayoutId id="2147483743" r:id="rId10"/>
    <p:sldLayoutId id="2147483744" r:id="rId11"/>
    <p:sldLayoutId id="2147483745" r:id="rId12"/>
    <p:sldLayoutId id="2147483746" r:id="rId13"/>
    <p:sldLayoutId id="2147483747" r:id="rId14"/>
    <p:sldLayoutId id="2147483748" r:id="rId15"/>
    <p:sldLayoutId id="2147483749" r:id="rId16"/>
    <p:sldLayoutId id="2147483750" r:id="rId17"/>
    <p:sldLayoutId id="2147483751" r:id="rId18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1" name="Group 6"/>
          <p:cNvGrpSpPr/>
          <p:nvPr/>
        </p:nvGrpSpPr>
        <p:grpSpPr>
          <a:xfrm>
            <a:off x="0" y="0"/>
            <a:ext cx="9151920" cy="6858000"/>
            <a:chOff x="0" y="0"/>
            <a:chExt cx="9151920" cy="6858000"/>
          </a:xfrm>
        </p:grpSpPr>
        <p:pic>
          <p:nvPicPr>
            <p:cNvPr id="392" name="Picture 7" descr="SD-PanelContent.png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3640" cy="6858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3" name="Rectangle 8"/>
            <p:cNvGrpSpPr/>
            <p:nvPr/>
          </p:nvGrpSpPr>
          <p:grpSpPr>
            <a:xfrm>
              <a:off x="548640" y="536400"/>
              <a:ext cx="8058960" cy="5772960"/>
              <a:chOff x="548640" y="536400"/>
              <a:chExt cx="8058960" cy="5772960"/>
            </a:xfrm>
          </p:grpSpPr>
          <p:pic>
            <p:nvPicPr>
              <p:cNvPr id="394" name="Rectangl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548640" y="536400"/>
                <a:ext cx="8058960" cy="5772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5" name=""/>
              <p:cNvSpPr/>
              <p:nvPr/>
            </p:nvSpPr>
            <p:spPr>
              <a:xfrm>
                <a:off x="553680" y="542520"/>
                <a:ext cx="8039520" cy="575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96" name="Picture 9" descr="HDRibbonContent-UniformTrim.png"/>
            <p:cNvPicPr/>
            <p:nvPr/>
          </p:nvPicPr>
          <p:blipFill>
            <a:blip r:embed="rId5"/>
            <a:srcRect l="0" t="0" r="14236" b="0"/>
            <a:stretch/>
          </p:blipFill>
          <p:spPr>
            <a:xfrm>
              <a:off x="0" y="3128400"/>
              <a:ext cx="685440" cy="60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7" name="Picture 10" descr="HDRibbonContent-UniformTrim.png"/>
            <p:cNvPicPr/>
            <p:nvPr/>
          </p:nvPicPr>
          <p:blipFill>
            <a:blip r:embed="rId6"/>
            <a:srcRect l="0" t="0" r="14236" b="0"/>
            <a:stretch/>
          </p:blipFill>
          <p:spPr>
            <a:xfrm>
              <a:off x="8466480" y="3128400"/>
              <a:ext cx="685440" cy="606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98" name="Straight Connector 14"/>
          <p:cNvSpPr/>
          <p:nvPr/>
        </p:nvSpPr>
        <p:spPr>
          <a:xfrm>
            <a:off x="1278000" y="4140360"/>
            <a:ext cx="6607080" cy="0"/>
          </a:xfrm>
          <a:prstGeom prst="line">
            <a:avLst/>
          </a:prstGeom>
          <a:ln cap="rnd" w="15840">
            <a:solidFill>
              <a:srgbClr val="8399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7432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1" marL="71316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2" marL="115200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3" marL="1481040" indent="-1641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4" marL="1919880" indent="-1641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5" marL="1919880" indent="-1641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6" marL="1919880" indent="-1641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 type="dt" idx="25"/>
          </p:nvPr>
        </p:nvSpPr>
        <p:spPr>
          <a:xfrm>
            <a:off x="6356520" y="5961240"/>
            <a:ext cx="114912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 type="ftr" idx="26"/>
          </p:nvPr>
        </p:nvSpPr>
        <p:spPr>
          <a:xfrm>
            <a:off x="1176120" y="5961240"/>
            <a:ext cx="510516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 type="sldNum" idx="27"/>
          </p:nvPr>
        </p:nvSpPr>
        <p:spPr>
          <a:xfrm>
            <a:off x="7580160" y="5961240"/>
            <a:ext cx="39528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186B7-4961-495C-A765-802F9475DB17}" type="slidenum">
              <a:rPr b="0" lang="ru-RU" sz="10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4300"/>
            </a:br>
            <a:r>
              <a:rPr b="1" lang="ru-RU" sz="43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нятие об обособлении. Обособленные члены предложения</a:t>
            </a:r>
            <a:endParaRPr b="0" lang="en-US" sz="43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90" name=""/>
          <p:cNvSpPr txBox="1"/>
          <p:nvPr/>
        </p:nvSpPr>
        <p:spPr>
          <a:xfrm>
            <a:off x="3203280" y="3068280"/>
            <a:ext cx="4895640" cy="25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Урок русского языка      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    </a:t>
            </a:r>
            <a:r>
              <a:rPr b="0" lang="ru-RU" sz="2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в 8 классе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Arial Unicode MS"/>
              </a:rPr>
              <a:t>Из двух предложений постройте одно с обособленным членом. </a:t>
            </a:r>
            <a:endParaRPr b="0" lang="en-US" sz="28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709" name=""/>
          <p:cNvSpPr txBox="1"/>
          <p:nvPr/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Times New Roman"/>
              <a:buAutoNum type="arabicPeriod"/>
              <a:tabLst>
                <a:tab algn="l" pos="179280"/>
                <a:tab algn="l" pos="6303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ru-RU" sz="3200" spc="-1" strike="noStrike">
                <a:solidFill>
                  <a:srgbClr val="262626"/>
                </a:solidFill>
                <a:latin typeface="Times New Roman"/>
                <a:ea typeface="Arial Unicode MS"/>
              </a:rPr>
              <a:t>На вершине гор лежали густые облака. Они не позволяли различать верхние их очертания.</a:t>
            </a:r>
            <a:endParaRPr b="0" lang="en-US" sz="3200" spc="-1" strike="noStrike">
              <a:solidFill>
                <a:srgbClr val="262626"/>
              </a:solidFill>
              <a:latin typeface="Garamond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Times New Roman"/>
              <a:buAutoNum type="arabicPeriod"/>
              <a:tabLst>
                <a:tab algn="l" pos="179280"/>
                <a:tab algn="l" pos="6303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ru-RU" sz="3200" spc="-1" strike="noStrike">
                <a:solidFill>
                  <a:srgbClr val="262626"/>
                </a:solidFill>
                <a:latin typeface="Times New Roman"/>
                <a:ea typeface="Arial Unicode MS"/>
              </a:rPr>
              <a:t>Свежий ветер подгонял лодку рыбака. Дувший с моря ветер подгонял лодку. </a:t>
            </a:r>
            <a:endParaRPr b="0" lang="en-US" sz="3200" spc="-1" strike="noStrike">
              <a:solidFill>
                <a:srgbClr val="262626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Calibri"/>
              </a:rPr>
              <a:t>«</a:t>
            </a:r>
            <a:r>
              <a:rPr b="1" lang="en-US" sz="2000" spc="-1" strike="noStrike">
                <a:solidFill>
                  <a:srgbClr val="c00000"/>
                </a:solidFill>
                <a:latin typeface="Times New Roman"/>
                <a:ea typeface="Calibri"/>
              </a:rPr>
              <a:t>v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Calibri"/>
              </a:rPr>
              <a:t>» - это я знал                      «+» - новая информация </a:t>
            </a:r>
            <a:br>
              <a:rPr sz="2000"/>
            </a:b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Calibri"/>
              </a:rPr>
              <a:t>«-»  - я думал иначе          «!»  - обратить особое внимание</a:t>
            </a:r>
            <a:br>
              <a:rPr sz="2000"/>
            </a:b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Calibri"/>
              </a:rPr>
              <a:t>«?» -  непонятная информация</a:t>
            </a:r>
            <a:br>
              <a:rPr sz="2400"/>
            </a:br>
            <a:endParaRPr b="0" lang="en-US" sz="2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711" name=""/>
          <p:cNvSpPr txBox="1"/>
          <p:nvPr/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68560" indent="-26856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17928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262626"/>
                </a:solidFill>
                <a:latin typeface="Times New Roman"/>
                <a:ea typeface="Arial Unicode MS"/>
              </a:rPr>
              <a:t>1. Что такое обособление?</a:t>
            </a:r>
            <a:endParaRPr b="0" lang="en-US" sz="2000" spc="-1" strike="noStrike">
              <a:solidFill>
                <a:srgbClr val="262626"/>
              </a:solidFill>
              <a:latin typeface="Garamond"/>
            </a:endParaRPr>
          </a:p>
          <a:p>
            <a:pPr marL="268560" indent="-26856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17928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262626"/>
                </a:solidFill>
                <a:latin typeface="Times New Roman"/>
                <a:ea typeface="Arial Unicode MS"/>
              </a:rPr>
              <a:t>2. Какие члены предложения называются обособленными?</a:t>
            </a:r>
            <a:endParaRPr b="0" lang="en-US" sz="2000" spc="-1" strike="noStrike">
              <a:solidFill>
                <a:srgbClr val="262626"/>
              </a:solidFill>
              <a:latin typeface="Garamond"/>
            </a:endParaRPr>
          </a:p>
          <a:p>
            <a:pPr marL="268560" indent="-26856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17928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262626"/>
                </a:solidFill>
                <a:latin typeface="Times New Roman"/>
                <a:ea typeface="Arial Unicode MS"/>
              </a:rPr>
              <a:t>3. Какие члены предложения могут быть обособленными?</a:t>
            </a:r>
            <a:endParaRPr b="0" lang="en-US" sz="2000" spc="-1" strike="noStrike">
              <a:solidFill>
                <a:srgbClr val="262626"/>
              </a:solidFill>
              <a:latin typeface="Garamond"/>
            </a:endParaRPr>
          </a:p>
          <a:p>
            <a:pPr marL="268560" indent="-26856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17928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262626"/>
                </a:solidFill>
                <a:latin typeface="Times New Roman"/>
                <a:ea typeface="Arial Unicode MS"/>
              </a:rPr>
              <a:t>4. Как выделяются обособленные члены в речи и на письме?</a:t>
            </a:r>
            <a:endParaRPr b="0" lang="en-US" sz="2000" spc="-1" strike="noStrike">
              <a:solidFill>
                <a:srgbClr val="262626"/>
              </a:solidFill>
              <a:latin typeface="Garamond"/>
            </a:endParaRPr>
          </a:p>
          <a:p>
            <a:pPr marL="268560" indent="-26856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17928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262626"/>
                </a:solidFill>
                <a:latin typeface="Times New Roman"/>
                <a:ea typeface="Arial Unicode MS"/>
              </a:rPr>
              <a:t>5. Как подчёркиваются обособленные члены предложения?</a:t>
            </a:r>
            <a:endParaRPr b="0" lang="en-US" sz="2000" spc="-1" strike="noStrike">
              <a:solidFill>
                <a:srgbClr val="262626"/>
              </a:solidFill>
              <a:latin typeface="Garamond"/>
            </a:endParaRPr>
          </a:p>
          <a:p>
            <a:pPr marL="268560" indent="-26856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17928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2000" spc="-1" strike="noStrike">
                <a:solidFill>
                  <a:srgbClr val="262626"/>
                </a:solidFill>
                <a:latin typeface="Times New Roman"/>
                <a:ea typeface="Arial Unicode MS"/>
              </a:rPr>
              <a:t> </a:t>
            </a:r>
            <a:endParaRPr b="0" lang="en-US" sz="2000" spc="-1" strike="noStrike">
              <a:solidFill>
                <a:srgbClr val="262626"/>
              </a:solidFill>
              <a:latin typeface="Garamond"/>
            </a:endParaRPr>
          </a:p>
          <a:p>
            <a:pPr marL="268560" indent="-26856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17928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262626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омашнее задание</a:t>
            </a: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713" name=""/>
          <p:cNvSpPr txBox="1"/>
          <p:nvPr/>
        </p:nvSpPr>
        <p:spPr>
          <a:xfrm>
            <a:off x="639720" y="184428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Garamond"/>
              </a:rPr>
              <a:t>   </a:t>
            </a:r>
            <a:r>
              <a:rPr b="0" lang="ru-RU" sz="2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.47,   упражнение 290, </a:t>
            </a:r>
            <a:endParaRPr b="0" lang="en-US" sz="2800" spc="-1" strike="noStrike">
              <a:solidFill>
                <a:srgbClr val="262626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делать карточку: выписать из литературных произведений 5 предложений с обособленными членами, знаки препинания не ставить.</a:t>
            </a:r>
            <a:endParaRPr b="0" lang="en-US" sz="2800" spc="-1" strike="noStrike">
              <a:solidFill>
                <a:srgbClr val="262626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pic>
        <p:nvPicPr>
          <p:cNvPr id="715" name="" descr=""/>
          <p:cNvPicPr/>
          <p:nvPr/>
        </p:nvPicPr>
        <p:blipFill>
          <a:blip r:embed="rId1"/>
          <a:stretch/>
        </p:blipFill>
        <p:spPr>
          <a:xfrm>
            <a:off x="1176480" y="2490480"/>
            <a:ext cx="6798960" cy="344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6" name="Picture 2" descr="https://im0-tub-ru.yandex.net/i?id=b4d46505ea434a20c5a0accb2161316f-l&amp;n=13"/>
          <p:cNvPicPr/>
          <p:nvPr/>
        </p:nvPicPr>
        <p:blipFill>
          <a:blip r:embed="rId1"/>
          <a:stretch/>
        </p:blipFill>
        <p:spPr>
          <a:xfrm>
            <a:off x="250920" y="536400"/>
            <a:ext cx="8353440" cy="585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1402920" y="922320"/>
            <a:ext cx="6799320" cy="130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Garamond"/>
              </a:rPr>
              <a:t>Спишите предложение, расставив знаки препинания. Выполните синтаксический и пунктуационный разбор.</a:t>
            </a:r>
            <a:endParaRPr b="0" lang="en-US" sz="32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92" name=""/>
          <p:cNvSpPr txBox="1"/>
          <p:nvPr/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181818"/>
                </a:solidFill>
                <a:latin typeface="Calibri"/>
                <a:ea typeface="Calibri"/>
              </a:rPr>
              <a:t>Мне хотелось увидеть всех животных разом  обезьян  зубров жирафов  львов медведей. </a:t>
            </a:r>
            <a:endParaRPr b="0" lang="en-US" sz="2800" spc="-1" strike="noStrike">
              <a:solidFill>
                <a:srgbClr val="262626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Garamond"/>
              </a:rPr>
              <a:t>Сказка</a:t>
            </a: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pic>
        <p:nvPicPr>
          <p:cNvPr id="694" name="Объект 6" descr="Изображение выглядит как текст, коллекция картинок, автомат&#10;&#10;Автоматически созданное описание"/>
          <p:cNvPicPr/>
          <p:nvPr/>
        </p:nvPicPr>
        <p:blipFill>
          <a:blip r:embed="rId1"/>
          <a:stretch/>
        </p:blipFill>
        <p:spPr>
          <a:xfrm>
            <a:off x="1619280" y="2492280"/>
            <a:ext cx="5905440" cy="34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з «Толкового словаря» С.И. Ожегова: </a:t>
            </a:r>
            <a:endParaRPr b="0" lang="en-US" sz="32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96" name=""/>
          <p:cNvSpPr txBox="1"/>
          <p:nvPr/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обособить, -блю, -бишь; -бленный; 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1. Выделить из общего, создав особое от других положение. 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2.  В грамматике: интонационно (на письме - запятыми или тире) выделить какой-н. смысловой отрезок внутри предложения. 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3. Выделиться из общего, занять особое, изолированное положение. 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нятие об обособлении. Обособленные члены предложения</a:t>
            </a:r>
            <a:endParaRPr b="0" lang="en-US" sz="32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98" name=""/>
          <p:cNvSpPr txBox="1"/>
          <p:nvPr/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 u="sng">
                <a:solidFill>
                  <a:srgbClr val="262626"/>
                </a:solidFill>
                <a:uFillTx/>
                <a:latin typeface="Times New Roman"/>
                <a:ea typeface="Times New Roman"/>
              </a:rPr>
              <a:t>узнать</a:t>
            </a:r>
            <a:r>
              <a:rPr b="0" lang="ru-RU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: что такое обособление второстепенных членов предложения, как они выделяются при письме и устной речи;</a:t>
            </a:r>
            <a:endParaRPr b="0" lang="en-US" sz="2000" spc="-1" strike="noStrike">
              <a:solidFill>
                <a:srgbClr val="262626"/>
              </a:solidFill>
              <a:latin typeface="Garamond"/>
            </a:endParaRPr>
          </a:p>
          <a:p>
            <a:pPr marL="2858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 u="sng">
                <a:solidFill>
                  <a:srgbClr val="262626"/>
                </a:solidFill>
                <a:uFillTx/>
                <a:latin typeface="Times New Roman"/>
                <a:ea typeface="Times New Roman"/>
              </a:rPr>
              <a:t>понимать</a:t>
            </a:r>
            <a:r>
              <a:rPr b="0" lang="ru-RU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: какую роль играют в тексте обособленные члены предложения</a:t>
            </a:r>
            <a:r>
              <a:rPr b="0" lang="ru-RU" sz="2000" spc="-1" strike="noStrike" u="sng">
                <a:solidFill>
                  <a:srgbClr val="262626"/>
                </a:solidFill>
                <a:uFillTx/>
                <a:latin typeface="Times New Roman"/>
                <a:ea typeface="Times New Roman"/>
              </a:rPr>
              <a:t>;</a:t>
            </a:r>
            <a:endParaRPr b="0" lang="en-US" sz="2000" spc="-1" strike="noStrike">
              <a:solidFill>
                <a:srgbClr val="262626"/>
              </a:solidFill>
              <a:latin typeface="Garamond"/>
            </a:endParaRPr>
          </a:p>
          <a:p>
            <a:pPr marL="2858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 u="sng">
                <a:solidFill>
                  <a:srgbClr val="262626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ru-RU" sz="2000" spc="-1" strike="noStrike" u="sng">
                <a:solidFill>
                  <a:srgbClr val="262626"/>
                </a:solidFill>
                <a:uFillTx/>
                <a:latin typeface="Times New Roman"/>
                <a:ea typeface="Times New Roman"/>
              </a:rPr>
              <a:t>уметь</a:t>
            </a:r>
            <a:r>
              <a:rPr b="0" lang="ru-RU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: интонационно грамотно произносить обособленные члены предложения, находить в тексте и выделять на письме эти смысловые отрезки.</a:t>
            </a:r>
            <a:endParaRPr b="0" lang="en-US" sz="2000" spc="-1" strike="noStrike">
              <a:solidFill>
                <a:srgbClr val="262626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бособление –это выделение</a:t>
            </a:r>
            <a:endParaRPr b="0" lang="en-US" sz="36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700" name=""/>
          <p:cNvSpPr txBox="1"/>
          <p:nvPr/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1.Цветок, показавшийся из-под снега, разбудил самые глубокие и тайные чувства моей души. 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2.Мы шли, утопая в песке. 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Arial Unicode MS"/>
              </a:rPr>
              <a:t>Обособленными могут быть только  второстепенные члены предложения</a:t>
            </a: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Arial Unicode MS"/>
              </a:rPr>
              <a:t>.</a:t>
            </a:r>
            <a:br>
              <a:rPr sz="2800"/>
            </a:br>
            <a:endParaRPr b="0" lang="en-US" sz="28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702" name=""/>
          <p:cNvSpPr txBox="1"/>
          <p:nvPr/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Обособленные члены предложения – это такие члены предложения, которые выделяются по смыслу (придают добавочное значение) и интонационно. 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На письме выделяются запятыми. В устной речи – паузами.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1176480" y="922320"/>
            <a:ext cx="6798960" cy="130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Первичное закрепление  нового материала.</a:t>
            </a:r>
            <a:br>
              <a:rPr sz="2400"/>
            </a:br>
            <a:r>
              <a:rPr b="0" lang="ru-RU" sz="1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Расставьте знаки препинания, подчеркните обособленные члены предложения, вставьте пропущенные безударные гласные в корне слова. </a:t>
            </a:r>
            <a:br>
              <a:rPr sz="1800"/>
            </a:br>
            <a:endParaRPr b="0" lang="en-US" sz="18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704" name=""/>
          <p:cNvSpPr txBox="1"/>
          <p:nvPr/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По пыльной дороге  т..нулись скр..пучие телеги наполненные чёрным виноградом. 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В воздухе ст..ял морозный блеск захватывающий при дыхании горло. 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Щурясь от ветра я гл..жу в эту тёмную даль. 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 Он бежал сломя голову.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 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В чем сходство данных текстов? </a:t>
            </a:r>
            <a:br>
              <a:rPr sz="2400"/>
            </a:b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Какой текст, на ваш взгляд,  более удачный?</a:t>
            </a:r>
            <a:br>
              <a:rPr sz="2400"/>
            </a:b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 С помощью чего это достигается?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706" name=""/>
          <p:cNvSpPr txBox="1"/>
          <p:nvPr/>
        </p:nvSpPr>
        <p:spPr>
          <a:xfrm>
            <a:off x="1176120" y="2487600"/>
            <a:ext cx="3338280" cy="344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Garamond"/>
              </a:rPr>
              <a:t>  </a:t>
            </a:r>
            <a:r>
              <a:rPr b="0" lang="ru-RU" sz="2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Море уснуло в дали. Оно слилось там с  южным небом и крепко спит. 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707" name=""/>
          <p:cNvSpPr txBox="1"/>
          <p:nvPr/>
        </p:nvSpPr>
        <p:spPr>
          <a:xfrm>
            <a:off x="4644720" y="2487600"/>
            <a:ext cx="3336840" cy="344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Море, огромное, лениво вздыхающее у берега, уснуло в дали, облитой голубым сиянием луны. Мягкое и серебристое, оно слилось там с синим южным небом и крепко спит. 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7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7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11T11:58:23Z</dcterms:created>
  <dc:creator>Пользователь</dc:creator>
  <dc:description/>
  <dc:language>en-US</dc:language>
  <cp:lastModifiedBy>Каравацкий Никита Игоревич</cp:lastModifiedBy>
  <dcterms:modified xsi:type="dcterms:W3CDTF">2022-02-21T18:49:41Z</dcterms:modified>
  <cp:revision>93</cp:revision>
  <dc:subject/>
  <dc:title>Урок русского язык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2c0d0000000000010243100207f6000400038000</vt:lpwstr>
  </property>
</Properties>
</file>