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CC9F-6E73-4564-8D79-D0B7201A0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AB1D-6F89-40AD-A9FD-08DD0FCB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2944-4765-427E-81BD-D703807BC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5D84-9249-4D7C-9C5A-640963365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A944-5207-41BE-9918-9F204215E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5CD3-FDB8-4B83-B973-E83EF841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BF6C-EC22-4693-B7BF-A7EFA097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FA14-1E08-4A36-8611-8B362726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BCDC-43E2-4B6B-A15D-1563ED70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DF35-BD7F-457D-B933-9D706ED3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5322-4808-488C-9EC0-F554C0FE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94DF-144A-40D8-856F-75D3C5D7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F593-EF29-4AF0-B4B5-22A0FD88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61FF-48E9-4C05-9CCE-C8509EF1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95B1-FCCC-4D71-94B4-5E798F1D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FC8C-DBEF-4A49-953A-15275FEC7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55A9-E999-4ECF-A4D8-908A2BE7A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2D69B-005E-4C3B-8911-7D36CD218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B0A1C-B1C5-4171-BEFD-25D3795C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B508F-BDCC-4474-9A5C-1606ADD8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3647F-B434-4922-98C4-070D062A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C6823-B17B-4CA7-9E6F-8E591675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14CD-4F66-4088-8AE5-CC33D045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CF8C7-0BBC-414A-8B39-92B54BC2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A0880-10B8-43A4-A98B-44664656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051C0-9CA5-4C48-8DAC-77B34FBF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BB646-A925-4ACA-AE4B-8D22E6ED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E4C5B-443D-4A36-AAAD-93F2AE8A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8EBE0-B04B-495D-8C3A-EC6919684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55F1A-4592-428E-89F8-F4CF1BE62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ECDEF-4093-42C6-B9AC-30CF162B6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81C96-30E9-4D67-8A5F-EB66958D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176E8-8FDE-49E2-91D5-CB5F378A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7EB1-CA25-4F2E-BD24-FEC4A549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7CECA-2EF9-41D5-BF3F-B95BCD17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9656F-20AD-4C9C-B0B3-5E739435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D4C33-4CD8-4B53-BDEA-3740FFB8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54B80-F214-4F2D-87F9-E4250CE8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155C9-A779-42F2-8EC3-55E15F49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C2C9D-23A3-4D0A-8E3B-1EE3411B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4AD1B-81AB-40B6-8240-2D835FE0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C7CD4-274C-4808-8F30-2FF763ABC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514E4-DF92-4F45-98E2-4221A80BF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4CD97-AACB-4A03-927C-2F541A438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6F27-EFAB-4D1B-9579-D7F75C43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34C47-8ADF-4EF2-AB1F-70CC6937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4BDBF-0734-41AD-991F-FD56CFC3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009AE-C517-46A4-B55B-E3B04FBD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6CC83-A70F-445D-B7DD-E859BCCE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D9141-40B7-42FE-94B4-C73C5D67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E8A78-C4A3-483E-B23E-52995012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E0EB3-1E14-411E-A80A-ECF0AB09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5A883-A9A4-469F-BE1C-4E9AA84E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C2C41-48F4-4FB0-8421-2AD34935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E77BC-990E-4C4A-BEB2-7240B2F5A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F4D5-CB60-4182-940B-BC72E400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47FA0-FF64-48F6-ACE4-748C06B0C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783F-328F-4767-8654-F3F8EF04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060C-F9A8-4B75-A72B-8E8AF63A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307B-2185-4271-B403-348F07D0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7C78-B30C-4ACC-B564-F96395FF9E4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A96C-C1A9-4252-A948-D5D0AE33FF5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834E-ACA4-4FE8-9ABE-BA308A20F01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1D8C-1968-478A-8293-DF38F02AD98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cubicBezTo>
                  <a:pt x="2296005" y="0"/>
                  <a:pt x="2324605" y="28600"/>
                  <a:pt x="2324605" y="63880"/>
                </a:cubicBezTo>
                <a:lnTo>
                  <a:pt x="2324605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2F5C-76C8-4BC1-B243-F409B80AF43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1"/>
          <p:cNvSpPr/>
          <p:nvPr/>
        </p:nvSpPr>
        <p:spPr>
          <a:xfrm>
            <a:off x="1497960" y="3801960"/>
            <a:ext cx="6357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23232"/>
                </a:solidFill>
                <a:latin typeface="Lucida Sans Unicode"/>
              </a:rPr>
              <a:t>Техника безопас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23232"/>
                </a:solidFill>
                <a:latin typeface="Lucida Sans Unicode"/>
              </a:rPr>
              <a:t>на урока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23232"/>
                </a:solidFill>
                <a:latin typeface="Lucida Sans Unicode"/>
              </a:rPr>
              <a:t> </a:t>
            </a:r>
            <a:r>
              <a:rPr b="0" lang="ru-RU" sz="4400" spc="-1" strike="noStrike">
                <a:solidFill>
                  <a:srgbClr val="323232"/>
                </a:solidFill>
                <a:latin typeface="Lucida Sans Unicode"/>
              </a:rPr>
              <a:t>физической культу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2" descr="http://volna.org/wp-content/uploads/2014/11/pocliednii_klassnyi_chas_v_5_klassie8.png"/>
          <p:cNvPicPr/>
          <p:nvPr/>
        </p:nvPicPr>
        <p:blipFill>
          <a:blip r:embed="rId1"/>
          <a:stretch/>
        </p:blipFill>
        <p:spPr>
          <a:xfrm>
            <a:off x="2987640" y="692280"/>
            <a:ext cx="3240000" cy="2423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1"/>
          <p:cNvSpPr/>
          <p:nvPr/>
        </p:nvSpPr>
        <p:spPr>
          <a:xfrm>
            <a:off x="1042920" y="509760"/>
            <a:ext cx="70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Первая помощь при травма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Box 2"/>
          <p:cNvSpPr/>
          <p:nvPr/>
        </p:nvSpPr>
        <p:spPr>
          <a:xfrm>
            <a:off x="406440" y="1268280"/>
            <a:ext cx="159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ывих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Прямая со стрелкой 3"/>
          <p:cNvCxnSpPr/>
          <p:nvPr/>
        </p:nvCxnSpPr>
        <p:spPr>
          <a:xfrm flipV="1">
            <a:off x="2050560" y="1483560"/>
            <a:ext cx="1008720" cy="738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80" name="Прямая со стрелкой 5"/>
          <p:cNvCxnSpPr/>
          <p:nvPr/>
        </p:nvCxnSpPr>
        <p:spPr>
          <a:xfrm>
            <a:off x="2050560" y="1773000"/>
            <a:ext cx="1008720" cy="2163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281" name="TextBox 6"/>
          <p:cNvSpPr/>
          <p:nvPr/>
        </p:nvSpPr>
        <p:spPr>
          <a:xfrm>
            <a:off x="3341520" y="1123920"/>
            <a:ext cx="416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чины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дение, сильный уда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7"/>
          <p:cNvSpPr/>
          <p:nvPr/>
        </p:nvSpPr>
        <p:spPr>
          <a:xfrm>
            <a:off x="3456000" y="1773360"/>
            <a:ext cx="56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имптом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сильная боль, опухоль сустава, невозможность  двигать конечностью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Box 8"/>
          <p:cNvSpPr/>
          <p:nvPr/>
        </p:nvSpPr>
        <p:spPr>
          <a:xfrm>
            <a:off x="327240" y="2708280"/>
            <a:ext cx="281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ервая помощ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Прямая со стрелкой 9"/>
          <p:cNvCxnSpPr/>
          <p:nvPr/>
        </p:nvCxnSpPr>
        <p:spPr>
          <a:xfrm>
            <a:off x="3276360" y="2997000"/>
            <a:ext cx="719640" cy="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285" name="TextBox 12"/>
          <p:cNvSpPr/>
          <p:nvPr/>
        </p:nvSpPr>
        <p:spPr>
          <a:xfrm>
            <a:off x="3920400" y="2708280"/>
            <a:ext cx="458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ксация поврежденной конечност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одвиж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Box 14"/>
          <p:cNvSpPr/>
          <p:nvPr/>
        </p:nvSpPr>
        <p:spPr>
          <a:xfrm>
            <a:off x="398160" y="3860640"/>
            <a:ext cx="19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нимание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7" name="Прямая со стрелкой 15"/>
          <p:cNvCxnSpPr/>
          <p:nvPr/>
        </p:nvCxnSpPr>
        <p:spPr>
          <a:xfrm>
            <a:off x="2411280" y="4292640"/>
            <a:ext cx="937440" cy="2894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88" name="Прямая со стрелкой 16"/>
          <p:cNvCxnSpPr/>
          <p:nvPr/>
        </p:nvCxnSpPr>
        <p:spPr>
          <a:xfrm flipV="1">
            <a:off x="2411280" y="4005000"/>
            <a:ext cx="937440" cy="1447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89" name="Прямая со стрелкой 17"/>
          <p:cNvCxnSpPr/>
          <p:nvPr/>
        </p:nvCxnSpPr>
        <p:spPr>
          <a:xfrm>
            <a:off x="2339640" y="4436640"/>
            <a:ext cx="577080" cy="793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290" name="TextBox 24"/>
          <p:cNvSpPr/>
          <p:nvPr/>
        </p:nvSpPr>
        <p:spPr>
          <a:xfrm>
            <a:off x="3342240" y="3645000"/>
            <a:ext cx="49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их – это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ойкое смеще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ц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стей, входящих в один суста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25"/>
          <p:cNvSpPr/>
          <p:nvPr/>
        </p:nvSpPr>
        <p:spPr>
          <a:xfrm>
            <a:off x="3342960" y="4365720"/>
            <a:ext cx="499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ывихе верхней конечност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у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еобходим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двесить на косынк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Box 26"/>
          <p:cNvSpPr/>
          <p:nvPr/>
        </p:nvSpPr>
        <p:spPr>
          <a:xfrm>
            <a:off x="2332800" y="5300640"/>
            <a:ext cx="6153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ывихе сустава нижней конечност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адавшего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еобходимо уложи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носил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роч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оставить в медицинское учрежд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1"/>
          <p:cNvSpPr/>
          <p:nvPr/>
        </p:nvSpPr>
        <p:spPr>
          <a:xfrm>
            <a:off x="852480" y="43668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Первая помощь при травма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Box 2"/>
          <p:cNvSpPr/>
          <p:nvPr/>
        </p:nvSpPr>
        <p:spPr>
          <a:xfrm>
            <a:off x="404280" y="1341360"/>
            <a:ext cx="205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ерело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5" name="Прямая со стрелкой 3"/>
          <p:cNvCxnSpPr/>
          <p:nvPr/>
        </p:nvCxnSpPr>
        <p:spPr>
          <a:xfrm flipV="1">
            <a:off x="2556000" y="1483920"/>
            <a:ext cx="1008720" cy="118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96" name="Прямая со стрелкой 4"/>
          <p:cNvCxnSpPr/>
          <p:nvPr/>
        </p:nvCxnSpPr>
        <p:spPr>
          <a:xfrm>
            <a:off x="2556000" y="1844640"/>
            <a:ext cx="1008720" cy="2167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297" name="TextBox 9"/>
          <p:cNvSpPr/>
          <p:nvPr/>
        </p:nvSpPr>
        <p:spPr>
          <a:xfrm>
            <a:off x="3773520" y="1123920"/>
            <a:ext cx="416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чины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дение, сильный уда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Box 10"/>
          <p:cNvSpPr/>
          <p:nvPr/>
        </p:nvSpPr>
        <p:spPr>
          <a:xfrm>
            <a:off x="3652200" y="1628640"/>
            <a:ext cx="479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имптомы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кая боль, припухлость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воподтек в области травмы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возможность совершать движ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Box 11"/>
          <p:cNvSpPr/>
          <p:nvPr/>
        </p:nvSpPr>
        <p:spPr>
          <a:xfrm>
            <a:off x="254160" y="2781360"/>
            <a:ext cx="281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ервая помощ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0" name="Прямая со стрелкой 12"/>
          <p:cNvCxnSpPr/>
          <p:nvPr/>
        </p:nvCxnSpPr>
        <p:spPr>
          <a:xfrm>
            <a:off x="3276360" y="3068280"/>
            <a:ext cx="864360" cy="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301" name="TextBox 14"/>
          <p:cNvSpPr/>
          <p:nvPr/>
        </p:nvSpPr>
        <p:spPr>
          <a:xfrm>
            <a:off x="4208040" y="2852640"/>
            <a:ext cx="369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ть неподвижность 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ожить шин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Box 15"/>
          <p:cNvSpPr/>
          <p:nvPr/>
        </p:nvSpPr>
        <p:spPr>
          <a:xfrm>
            <a:off x="398160" y="4076640"/>
            <a:ext cx="19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нимание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Прямая со стрелкой 16"/>
          <p:cNvCxnSpPr/>
          <p:nvPr/>
        </p:nvCxnSpPr>
        <p:spPr>
          <a:xfrm flipV="1">
            <a:off x="2484360" y="4220640"/>
            <a:ext cx="936000" cy="1454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04" name="Прямая со стрелкой 18"/>
          <p:cNvCxnSpPr/>
          <p:nvPr/>
        </p:nvCxnSpPr>
        <p:spPr>
          <a:xfrm>
            <a:off x="2484360" y="4508280"/>
            <a:ext cx="1008720" cy="2163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05" name="Прямая со стрелкой 19"/>
          <p:cNvCxnSpPr/>
          <p:nvPr/>
        </p:nvCxnSpPr>
        <p:spPr>
          <a:xfrm>
            <a:off x="2339640" y="4652640"/>
            <a:ext cx="864360" cy="577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306" name="TextBox 22"/>
          <p:cNvSpPr/>
          <p:nvPr/>
        </p:nvSpPr>
        <p:spPr>
          <a:xfrm>
            <a:off x="3557880" y="3716280"/>
            <a:ext cx="46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ин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олж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хватить не менее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м 2 сустава выше и ниже перело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Box 23"/>
          <p:cNvSpPr/>
          <p:nvPr/>
        </p:nvSpPr>
        <p:spPr>
          <a:xfrm>
            <a:off x="3632040" y="4508640"/>
            <a:ext cx="43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 шину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еобходим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длож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ягкую прокладк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Box 24"/>
          <p:cNvSpPr/>
          <p:nvPr/>
        </p:nvSpPr>
        <p:spPr>
          <a:xfrm>
            <a:off x="3126240" y="5300640"/>
            <a:ext cx="531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адавшего следует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рочн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едицинское учрежд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Прямоугольник 1"/>
          <p:cNvSpPr/>
          <p:nvPr/>
        </p:nvSpPr>
        <p:spPr>
          <a:xfrm>
            <a:off x="957240" y="33336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Первая помощь при травма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2"/>
          <p:cNvSpPr/>
          <p:nvPr/>
        </p:nvSpPr>
        <p:spPr>
          <a:xfrm>
            <a:off x="469800" y="1197000"/>
            <a:ext cx="14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Ушиб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" name="Прямая со стрелкой 3"/>
          <p:cNvCxnSpPr/>
          <p:nvPr/>
        </p:nvCxnSpPr>
        <p:spPr>
          <a:xfrm flipV="1">
            <a:off x="1979640" y="1340640"/>
            <a:ext cx="1008720" cy="723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12" name="Прямая со стрелкой 5"/>
          <p:cNvCxnSpPr/>
          <p:nvPr/>
        </p:nvCxnSpPr>
        <p:spPr>
          <a:xfrm>
            <a:off x="1979640" y="1628640"/>
            <a:ext cx="937440" cy="2167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313" name="TextBox 7"/>
          <p:cNvSpPr/>
          <p:nvPr/>
        </p:nvSpPr>
        <p:spPr>
          <a:xfrm>
            <a:off x="3125520" y="1123920"/>
            <a:ext cx="416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чины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дение, сильный уда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Box 8"/>
          <p:cNvSpPr/>
          <p:nvPr/>
        </p:nvSpPr>
        <p:spPr>
          <a:xfrm>
            <a:off x="3034080" y="1628640"/>
            <a:ext cx="568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имптомы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, припухлость, кровоподтек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большое нарушение функц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Box 9"/>
          <p:cNvSpPr/>
          <p:nvPr/>
        </p:nvSpPr>
        <p:spPr>
          <a:xfrm>
            <a:off x="327240" y="2637000"/>
            <a:ext cx="281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ервая помощ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6" name="Прямая со стрелкой 10"/>
          <p:cNvCxnSpPr/>
          <p:nvPr/>
        </p:nvCxnSpPr>
        <p:spPr>
          <a:xfrm>
            <a:off x="3276360" y="2923920"/>
            <a:ext cx="864360" cy="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317" name="TextBox 13"/>
          <p:cNvSpPr/>
          <p:nvPr/>
        </p:nvSpPr>
        <p:spPr>
          <a:xfrm>
            <a:off x="4284720" y="2565360"/>
            <a:ext cx="46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место ушиб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ледует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ложи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хол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Box 15"/>
          <p:cNvSpPr/>
          <p:nvPr/>
        </p:nvSpPr>
        <p:spPr>
          <a:xfrm>
            <a:off x="398160" y="3716280"/>
            <a:ext cx="19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нимание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Box 16"/>
          <p:cNvSpPr/>
          <p:nvPr/>
        </p:nvSpPr>
        <p:spPr>
          <a:xfrm>
            <a:off x="684360" y="414972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0" name="Прямая со стрелкой 17"/>
          <p:cNvCxnSpPr/>
          <p:nvPr/>
        </p:nvCxnSpPr>
        <p:spPr>
          <a:xfrm>
            <a:off x="2555640" y="4005000"/>
            <a:ext cx="937080" cy="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21" name="Прямая со стрелкой 18"/>
          <p:cNvCxnSpPr/>
          <p:nvPr/>
        </p:nvCxnSpPr>
        <p:spPr>
          <a:xfrm>
            <a:off x="2410920" y="4149360"/>
            <a:ext cx="1008720" cy="4323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22" name="Прямая со стрелкой 19"/>
          <p:cNvCxnSpPr/>
          <p:nvPr/>
        </p:nvCxnSpPr>
        <p:spPr>
          <a:xfrm>
            <a:off x="2266560" y="4365360"/>
            <a:ext cx="865800" cy="6483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323" name="TextBox 25"/>
          <p:cNvSpPr/>
          <p:nvPr/>
        </p:nvSpPr>
        <p:spPr>
          <a:xfrm>
            <a:off x="3559320" y="3645000"/>
            <a:ext cx="493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адавшей части тел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еобходим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озвышенн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лож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Box 26"/>
          <p:cNvSpPr/>
          <p:nvPr/>
        </p:nvSpPr>
        <p:spPr>
          <a:xfrm>
            <a:off x="3629520" y="4437000"/>
            <a:ext cx="470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кой и неподвиж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Box 28"/>
          <p:cNvSpPr/>
          <p:nvPr/>
        </p:nvSpPr>
        <p:spPr>
          <a:xfrm>
            <a:off x="3201120" y="5013360"/>
            <a:ext cx="31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ожи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угу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вязк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Прямоугольник 1"/>
          <p:cNvSpPr/>
          <p:nvPr/>
        </p:nvSpPr>
        <p:spPr>
          <a:xfrm>
            <a:off x="1835280" y="1557360"/>
            <a:ext cx="5616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облюдайте правила безопасности на уроке физической культуры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179280" y="453960"/>
            <a:ext cx="88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Безопасность на уро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физической культуры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это знание и выполнение правил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Box 2"/>
          <p:cNvSpPr/>
          <p:nvPr/>
        </p:nvSpPr>
        <p:spPr>
          <a:xfrm>
            <a:off x="1794600" y="2411280"/>
            <a:ext cx="6266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 урокам физической культу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допускаю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щиеся, прошедшие инструкта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технике безопасност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учащиеся, имеющие допуск врач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сновная и подготовитель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ппа здоровья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C:\Users\user\Desktop\ф4.jpg"/>
          <p:cNvPicPr/>
          <p:nvPr/>
        </p:nvPicPr>
        <p:blipFill>
          <a:blip r:embed="rId1"/>
          <a:stretch/>
        </p:blipFill>
        <p:spPr>
          <a:xfrm>
            <a:off x="2627280" y="3645000"/>
            <a:ext cx="3962520" cy="2643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25" name="TextBox 2"/>
          <p:cNvSpPr/>
          <p:nvPr/>
        </p:nvSpPr>
        <p:spPr>
          <a:xfrm>
            <a:off x="1788480" y="692280"/>
            <a:ext cx="680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 уроках физической культу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обходимо знать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онок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чало урок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по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портивном зал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Выход из зала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льк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провождении учител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C:\Users\user\Desktop\ф5.jpg"/>
          <p:cNvPicPr/>
          <p:nvPr/>
        </p:nvPicPr>
        <p:blipFill>
          <a:blip r:embed="rId1"/>
          <a:stretch/>
        </p:blipFill>
        <p:spPr>
          <a:xfrm>
            <a:off x="2484360" y="3645000"/>
            <a:ext cx="4626000" cy="2601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27" name="TextBox 3"/>
          <p:cNvSpPr/>
          <p:nvPr/>
        </p:nvSpPr>
        <p:spPr>
          <a:xfrm>
            <a:off x="1713240" y="826920"/>
            <a:ext cx="70095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Запрещает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вать жевательную резинку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ьзоваться мобильным телефоно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вольно брать спортивный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инвентарь из спортивного за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3"/>
          <p:cNvSpPr/>
          <p:nvPr/>
        </p:nvSpPr>
        <p:spPr>
          <a:xfrm>
            <a:off x="2238480" y="1273320"/>
            <a:ext cx="463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ны, ссадины, порез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Box 4"/>
          <p:cNvSpPr/>
          <p:nvPr/>
        </p:nvSpPr>
        <p:spPr>
          <a:xfrm>
            <a:off x="5879160" y="3271680"/>
            <a:ext cx="28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ровотеч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Box 5"/>
          <p:cNvSpPr/>
          <p:nvPr/>
        </p:nvSpPr>
        <p:spPr>
          <a:xfrm>
            <a:off x="4918320" y="4890960"/>
            <a:ext cx="151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шиб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Box 6"/>
          <p:cNvSpPr/>
          <p:nvPr/>
        </p:nvSpPr>
        <p:spPr>
          <a:xfrm>
            <a:off x="1123920" y="3271680"/>
            <a:ext cx="16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ывих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Box 7"/>
          <p:cNvSpPr/>
          <p:nvPr/>
        </p:nvSpPr>
        <p:spPr>
          <a:xfrm>
            <a:off x="1915920" y="4890960"/>
            <a:ext cx="22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Lucida Sans Unicode"/>
              </a:rPr>
              <a:t>Перело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Овал 1"/>
          <p:cNvSpPr/>
          <p:nvPr/>
        </p:nvSpPr>
        <p:spPr>
          <a:xfrm>
            <a:off x="3398760" y="2421000"/>
            <a:ext cx="2138400" cy="187308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иды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рав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Прямая со стрелкой 3"/>
          <p:cNvCxnSpPr/>
          <p:nvPr/>
        </p:nvCxnSpPr>
        <p:spPr>
          <a:xfrm flipH="1">
            <a:off x="2750760" y="3563640"/>
            <a:ext cx="526320" cy="108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235" name="Прямая со стрелкой 5"/>
          <p:cNvCxnSpPr/>
          <p:nvPr/>
        </p:nvCxnSpPr>
        <p:spPr>
          <a:xfrm flipV="1">
            <a:off x="4468320" y="1856520"/>
            <a:ext cx="1080" cy="49284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236" name="Прямая со стрелкой 12"/>
          <p:cNvCxnSpPr>
            <a:endCxn id="229" idx="1"/>
          </p:cNvCxnSpPr>
          <p:nvPr/>
        </p:nvCxnSpPr>
        <p:spPr>
          <a:xfrm>
            <a:off x="5651280" y="3563640"/>
            <a:ext cx="230760" cy="108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237" name="Прямая со стрелкой 14"/>
          <p:cNvCxnSpPr/>
          <p:nvPr/>
        </p:nvCxnSpPr>
        <p:spPr>
          <a:xfrm>
            <a:off x="3779640" y="4365360"/>
            <a:ext cx="1080" cy="52596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238" name="Прямая со стрелкой 16"/>
          <p:cNvCxnSpPr/>
          <p:nvPr/>
        </p:nvCxnSpPr>
        <p:spPr>
          <a:xfrm>
            <a:off x="5219280" y="4365360"/>
            <a:ext cx="1080" cy="52596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2"/>
          <p:cNvSpPr/>
          <p:nvPr/>
        </p:nvSpPr>
        <p:spPr>
          <a:xfrm>
            <a:off x="1400400" y="1114560"/>
            <a:ext cx="654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сновные причины травматизм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3"/>
          <p:cNvSpPr/>
          <p:nvPr/>
        </p:nvSpPr>
        <p:spPr>
          <a:xfrm>
            <a:off x="486360" y="2205000"/>
            <a:ext cx="8034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удовлетворительная подготов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 занятий, оборудования, инвентар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Неблагоприятные погодные услов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Обувь и одежда, несоответствующ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годе и виду заняти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Отсутствие страховки и самостраховк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C:\Users\user\Desktop\ф6.jpg"/>
          <p:cNvPicPr/>
          <p:nvPr/>
        </p:nvPicPr>
        <p:blipFill>
          <a:blip r:embed="rId1"/>
          <a:stretch/>
        </p:blipFill>
        <p:spPr>
          <a:xfrm>
            <a:off x="3693960" y="4365720"/>
            <a:ext cx="1906920" cy="1915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42" name="TextBox 2"/>
          <p:cNvSpPr/>
          <p:nvPr/>
        </p:nvSpPr>
        <p:spPr>
          <a:xfrm>
            <a:off x="691200" y="907920"/>
            <a:ext cx="7938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5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достаточная тренированность 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ксирование нагрузк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Пренебрежительное отношение к разминк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Низкая поведенческая культура учащих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есоблюдение дисциплины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Отсутствие медицинского сопровождения 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ушение медицинских требова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395280" y="47628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Первая помощь при травма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Box 2"/>
          <p:cNvSpPr/>
          <p:nvPr/>
        </p:nvSpPr>
        <p:spPr>
          <a:xfrm>
            <a:off x="488880" y="1406520"/>
            <a:ext cx="441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Раны, ссадины, порез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" name="Прямая со стрелкой 4"/>
          <p:cNvCxnSpPr>
            <a:stCxn id="244" idx="3"/>
          </p:cNvCxnSpPr>
          <p:nvPr/>
        </p:nvCxnSpPr>
        <p:spPr>
          <a:xfrm flipV="1">
            <a:off x="4923000" y="1476000"/>
            <a:ext cx="397440" cy="1929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46" name="Прямая со стрелкой 6"/>
          <p:cNvCxnSpPr/>
          <p:nvPr/>
        </p:nvCxnSpPr>
        <p:spPr>
          <a:xfrm>
            <a:off x="4858920" y="1953720"/>
            <a:ext cx="793080" cy="3596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247" name="TextBox 7"/>
          <p:cNvSpPr/>
          <p:nvPr/>
        </p:nvSpPr>
        <p:spPr>
          <a:xfrm>
            <a:off x="5721840" y="1052640"/>
            <a:ext cx="316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чи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падение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исправный инвентарь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ение дисципли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Box 9"/>
          <p:cNvSpPr/>
          <p:nvPr/>
        </p:nvSpPr>
        <p:spPr>
          <a:xfrm>
            <a:off x="5721120" y="2133720"/>
            <a:ext cx="306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имптомы: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ение целост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жного покр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Прямоугольник 10"/>
          <p:cNvSpPr/>
          <p:nvPr/>
        </p:nvSpPr>
        <p:spPr>
          <a:xfrm>
            <a:off x="468360" y="306864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ервая помощ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Прямая со стрелкой 11"/>
          <p:cNvCxnSpPr/>
          <p:nvPr/>
        </p:nvCxnSpPr>
        <p:spPr>
          <a:xfrm>
            <a:off x="3779640" y="3357360"/>
            <a:ext cx="865800" cy="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51" name="Прямая со стрелкой 13"/>
          <p:cNvCxnSpPr/>
          <p:nvPr/>
        </p:nvCxnSpPr>
        <p:spPr>
          <a:xfrm>
            <a:off x="3634920" y="3538080"/>
            <a:ext cx="918360" cy="1818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252" name="TextBox 18"/>
          <p:cNvSpPr/>
          <p:nvPr/>
        </p:nvSpPr>
        <p:spPr>
          <a:xfrm>
            <a:off x="5015520" y="3191040"/>
            <a:ext cx="21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ботка ра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Box 19"/>
          <p:cNvSpPr/>
          <p:nvPr/>
        </p:nvSpPr>
        <p:spPr>
          <a:xfrm>
            <a:off x="5015520" y="3719520"/>
            <a:ext cx="27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Наложение повяз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Box 20"/>
          <p:cNvSpPr/>
          <p:nvPr/>
        </p:nvSpPr>
        <p:spPr>
          <a:xfrm>
            <a:off x="470880" y="4365720"/>
            <a:ext cx="19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нимание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Прямая со стрелкой 21"/>
          <p:cNvCxnSpPr/>
          <p:nvPr/>
        </p:nvCxnSpPr>
        <p:spPr>
          <a:xfrm>
            <a:off x="2627280" y="4652640"/>
            <a:ext cx="937440" cy="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56" name="Прямая со стрелкой 22"/>
          <p:cNvCxnSpPr/>
          <p:nvPr/>
        </p:nvCxnSpPr>
        <p:spPr>
          <a:xfrm>
            <a:off x="2555640" y="4869000"/>
            <a:ext cx="937080" cy="2894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57" name="Прямая со стрелкой 23"/>
          <p:cNvCxnSpPr/>
          <p:nvPr/>
        </p:nvCxnSpPr>
        <p:spPr>
          <a:xfrm>
            <a:off x="2484000" y="5157360"/>
            <a:ext cx="864360" cy="577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258" name="TextBox 29"/>
          <p:cNvSpPr/>
          <p:nvPr/>
        </p:nvSpPr>
        <p:spPr>
          <a:xfrm>
            <a:off x="3635280" y="4365720"/>
            <a:ext cx="49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одо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ну промыва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е следует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30"/>
          <p:cNvSpPr/>
          <p:nvPr/>
        </p:nvSpPr>
        <p:spPr>
          <a:xfrm>
            <a:off x="3635280" y="4869000"/>
            <a:ext cx="532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е прикладыва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ране нестерильные предметы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Box 33"/>
          <p:cNvSpPr/>
          <p:nvPr/>
        </p:nvSpPr>
        <p:spPr>
          <a:xfrm>
            <a:off x="3345480" y="5661000"/>
            <a:ext cx="539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глубокой ране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роч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о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адавшего в медицинское учреждение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1"/>
          <p:cNvSpPr/>
          <p:nvPr/>
        </p:nvSpPr>
        <p:spPr>
          <a:xfrm>
            <a:off x="755640" y="40464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Первая помощь при травма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475200" y="1268280"/>
            <a:ext cx="26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ровотеч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Прямая со стрелкой 3"/>
          <p:cNvCxnSpPr/>
          <p:nvPr/>
        </p:nvCxnSpPr>
        <p:spPr>
          <a:xfrm flipV="1">
            <a:off x="3348000" y="1412640"/>
            <a:ext cx="1008720" cy="118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264" name="TextBox 7"/>
          <p:cNvSpPr/>
          <p:nvPr/>
        </p:nvSpPr>
        <p:spPr>
          <a:xfrm>
            <a:off x="4369680" y="981000"/>
            <a:ext cx="32425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чины: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езы, падения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лкновения пр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ении упражн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Прямая со стрелкой 8"/>
          <p:cNvCxnSpPr/>
          <p:nvPr/>
        </p:nvCxnSpPr>
        <p:spPr>
          <a:xfrm>
            <a:off x="3276360" y="1773000"/>
            <a:ext cx="864360" cy="4323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266" name="TextBox 11"/>
          <p:cNvSpPr/>
          <p:nvPr/>
        </p:nvSpPr>
        <p:spPr>
          <a:xfrm>
            <a:off x="4280760" y="2060640"/>
            <a:ext cx="428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имптомы: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вяные выделения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ловокружение, потеря сознания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б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Box 12"/>
          <p:cNvSpPr/>
          <p:nvPr/>
        </p:nvSpPr>
        <p:spPr>
          <a:xfrm>
            <a:off x="543240" y="3068640"/>
            <a:ext cx="281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ервая помощ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8" name="Прямая со стрелкой 13"/>
          <p:cNvCxnSpPr/>
          <p:nvPr/>
        </p:nvCxnSpPr>
        <p:spPr>
          <a:xfrm>
            <a:off x="3564000" y="3428640"/>
            <a:ext cx="792720" cy="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269" name="TextBox 15"/>
          <p:cNvSpPr/>
          <p:nvPr/>
        </p:nvSpPr>
        <p:spPr>
          <a:xfrm>
            <a:off x="4425840" y="3141720"/>
            <a:ext cx="3551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режденную часть те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поднять, наложить тугу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язку или жг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ри сильном кровотечени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Прямоугольник 16"/>
          <p:cNvSpPr/>
          <p:nvPr/>
        </p:nvSpPr>
        <p:spPr>
          <a:xfrm>
            <a:off x="613800" y="4365720"/>
            <a:ext cx="19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нимание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1" name="Прямая со стрелкой 17"/>
          <p:cNvCxnSpPr/>
          <p:nvPr/>
        </p:nvCxnSpPr>
        <p:spPr>
          <a:xfrm>
            <a:off x="2700000" y="4723920"/>
            <a:ext cx="935640" cy="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72" name="Прямая со стрелкой 18"/>
          <p:cNvCxnSpPr/>
          <p:nvPr/>
        </p:nvCxnSpPr>
        <p:spPr>
          <a:xfrm>
            <a:off x="2700360" y="4941720"/>
            <a:ext cx="1008720" cy="4327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73" name="Прямая со стрелкой 19"/>
          <p:cNvCxnSpPr/>
          <p:nvPr/>
        </p:nvCxnSpPr>
        <p:spPr>
          <a:xfrm>
            <a:off x="2484360" y="5157720"/>
            <a:ext cx="1224720" cy="10087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274" name="TextBox 21"/>
          <p:cNvSpPr/>
          <p:nvPr/>
        </p:nvSpPr>
        <p:spPr>
          <a:xfrm>
            <a:off x="3849480" y="4508640"/>
            <a:ext cx="403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гут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олж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ходится на тел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е боле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,5 – 2 час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24"/>
          <p:cNvSpPr/>
          <p:nvPr/>
        </p:nvSpPr>
        <p:spPr>
          <a:xfrm>
            <a:off x="3719160" y="5300640"/>
            <a:ext cx="506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крепи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писку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датой и времен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ожения жгу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Box 27"/>
          <p:cNvSpPr/>
          <p:nvPr/>
        </p:nvSpPr>
        <p:spPr>
          <a:xfrm>
            <a:off x="3776040" y="6021360"/>
            <a:ext cx="428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адавшего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роч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о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едицинское учрежд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9T15:24:36Z</dcterms:created>
  <dc:creator>Goncharova</dc:creator>
  <dc:description/>
  <dc:language>en-US</dc:language>
  <cp:lastModifiedBy>1234567890</cp:lastModifiedBy>
  <dcterms:modified xsi:type="dcterms:W3CDTF">2023-02-01T12:50:19Z</dcterms:modified>
  <cp:revision>8</cp:revision>
  <dc:subject/>
  <dc:title>Слайд 1</dc:title>
</cp:coreProperties>
</file>