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25D-7851-4BD1-BE2B-AF736C45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868-172A-40F2-A1C2-C2ABC9B7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86B-7C3D-418D-999F-B729C574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D3D-FA72-4D9C-8BB4-00C44988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865-984C-40F3-9CEB-7F47AAD1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5931-13BB-4E0B-8A1B-4F4DF67B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3EA1-DF22-4CBD-8FAC-16B1C69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E481-AEB2-4AAB-9E52-F83C6169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EAE3-E9BB-4225-8CC3-AB1F5C5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919-7446-4BDE-88FE-88756885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1758-6156-4F1C-931A-53E8B659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76C-7690-435D-B04F-730B4DE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396B-C445-49B2-B27F-685272B3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285F-78AB-48EF-BD3E-5B0111E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F52-2343-4716-80BB-0C57BA5F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D8E-5CD2-42E6-A431-2FD94D8C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4B62-3299-4781-AA7D-3143C02C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96C4-F918-4257-9AD8-30323E5B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02EF-5576-4BA6-9840-F66A802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BB72-38E9-48A9-A08A-B65E2375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331B-2BF2-43F8-9091-35BD5884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D1CA-D2E1-4ABA-A5F3-92C7EB9F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26E-4D4A-4516-9257-E5495A1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C812-6174-4DBA-9366-BF294E41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C522-79D6-4AA4-99E5-709C592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8656-BA36-4E10-9E91-03BB866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BC3F-8547-4DFA-A5E9-71B7B76E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71A6-E99C-49A5-B20F-5833ACA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E303-0485-43EC-ACE8-2EFAD653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A3D3-AF47-4546-B2AE-B19E794D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BD7A-7F13-43BC-BEEF-7EF1618A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55E62-5298-4CC1-A351-CB440EC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2B2D-5A79-48CC-B7EA-721CB549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74A-4BE1-425C-B7B8-9C85773E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2686-7F20-482B-8CD5-1C2228A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8CC9-4345-4B4A-974E-EDA39098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349F-1CFF-470F-8BF6-439BEABD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9988-1930-4D5B-B346-CDF47AE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55F6-C198-4971-A791-F243AF14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89FE-0D8E-4229-B0E3-FC1E0E9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6F7D-FEED-428E-80A6-1B4DCF3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13E5-F3A6-4D80-8025-FCDD7368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B75D-19ED-4181-B6E2-D9FA09C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53F6-C9CA-41CA-9C5E-CCE00573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2F2-BC64-4ABF-94A3-A3726329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2879-6B0F-47DC-B2A0-B1F091E2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489A-8BDD-4C67-BB4C-3D26A85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EF00-B195-4BC9-99DB-D0F3D12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9621-40D7-47A6-B204-EDAED039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281A-35B4-4951-87E4-B3C26E02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3D2B-0A71-41BE-BF76-F39F918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8BD7-6023-4006-BCD2-65E561D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4311-A819-44EF-85AB-4CED93F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47A5-A08F-46A1-BC3C-31806A9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4EC3-75A2-4E5D-971B-C01066AE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063-CC4C-4352-BD5A-0015264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3D5B1-6851-4F5B-AADC-430E662B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160-6F84-4C29-ACE3-428EC9C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A6D-80CB-4669-9110-E63C529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D9E-D52F-4247-875A-5C21B75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C0CC-51C4-44AE-B53F-57CF3E4AF3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27C-8C95-45B2-B8B7-C9EDE910BF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0C6-DFC3-4F0D-B2BA-37FD685870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6EB-4D5D-4C48-9FB7-A81957837E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239E-5A49-4E78-8662-BE778B70B0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497960" y="3801960"/>
            <a:ext cx="63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на урок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 </a:t>
            </a:r>
            <a:r>
              <a:rPr b="0" lang="ru-RU" sz="4400" spc="-1" strike="noStrike">
                <a:solidFill>
                  <a:srgbClr val="323232"/>
                </a:solidFill>
                <a:latin typeface="Lucida Sans Unicode"/>
              </a:rPr>
              <a:t>физической куль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volna.org/wp-content/uploads/2014/11/pocliednii_klassnyi_chas_v_5_klassie8.png"/>
          <p:cNvPicPr/>
          <p:nvPr/>
        </p:nvPicPr>
        <p:blipFill>
          <a:blip r:embed="rId1"/>
          <a:stretch/>
        </p:blipFill>
        <p:spPr>
          <a:xfrm>
            <a:off x="2987640" y="692280"/>
            <a:ext cx="3240000" cy="24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1042920" y="5097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406440" y="126828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их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Прямая со стрелкой 3"/>
          <p:cNvCxnSpPr/>
          <p:nvPr/>
        </p:nvCxnSpPr>
        <p:spPr>
          <a:xfrm flipV="1">
            <a:off x="2050560" y="1483560"/>
            <a:ext cx="1008720" cy="73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0" name="Прямая со стрелкой 5"/>
          <p:cNvCxnSpPr/>
          <p:nvPr/>
        </p:nvCxnSpPr>
        <p:spPr>
          <a:xfrm>
            <a:off x="2050560" y="1773000"/>
            <a:ext cx="1008720" cy="216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81" name="TextBox 6"/>
          <p:cNvSpPr/>
          <p:nvPr/>
        </p:nvSpPr>
        <p:spPr>
          <a:xfrm>
            <a:off x="3341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3456000" y="1773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ильная боль, опухоль сустава, невозможность  двигать конечностью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27240" y="270828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9"/>
          <p:cNvCxnSpPr/>
          <p:nvPr/>
        </p:nvCxnSpPr>
        <p:spPr>
          <a:xfrm>
            <a:off x="3276360" y="2997000"/>
            <a:ext cx="7196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85" name="TextBox 12"/>
          <p:cNvSpPr/>
          <p:nvPr/>
        </p:nvSpPr>
        <p:spPr>
          <a:xfrm>
            <a:off x="3920400" y="2708280"/>
            <a:ext cx="45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ксация поврежденно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дви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398160" y="38606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Прямая со стрелкой 15"/>
          <p:cNvCxnSpPr/>
          <p:nvPr/>
        </p:nvCxnSpPr>
        <p:spPr>
          <a:xfrm>
            <a:off x="2411280" y="4292640"/>
            <a:ext cx="937440" cy="28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8" name="Прямая со стрелкой 16"/>
          <p:cNvCxnSpPr/>
          <p:nvPr/>
        </p:nvCxnSpPr>
        <p:spPr>
          <a:xfrm flipV="1">
            <a:off x="2411280" y="4005000"/>
            <a:ext cx="937440" cy="144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89" name="Прямая со стрелкой 17"/>
          <p:cNvCxnSpPr/>
          <p:nvPr/>
        </p:nvCxnSpPr>
        <p:spPr>
          <a:xfrm>
            <a:off x="2339640" y="4436640"/>
            <a:ext cx="577080" cy="793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0" name="TextBox 24"/>
          <p:cNvSpPr/>
          <p:nvPr/>
        </p:nvSpPr>
        <p:spPr>
          <a:xfrm>
            <a:off x="3342240" y="3645000"/>
            <a:ext cx="49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их – э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ойкое смещ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ей, входящих в один суста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5"/>
          <p:cNvSpPr/>
          <p:nvPr/>
        </p:nvSpPr>
        <p:spPr>
          <a:xfrm>
            <a:off x="3342960" y="4365720"/>
            <a:ext cx="49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вихе верхне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весить на косы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2332800" y="5300640"/>
            <a:ext cx="615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улож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оси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 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852480" y="4366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404280" y="134136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ло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Прямая со стрелкой 3"/>
          <p:cNvCxnSpPr/>
          <p:nvPr/>
        </p:nvCxnSpPr>
        <p:spPr>
          <a:xfrm flipV="1">
            <a:off x="2556000" y="1483920"/>
            <a:ext cx="1008720" cy="118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Прямая со стрелкой 4"/>
          <p:cNvCxnSpPr/>
          <p:nvPr/>
        </p:nvCxnSpPr>
        <p:spPr>
          <a:xfrm>
            <a:off x="2556000" y="1844640"/>
            <a:ext cx="1008720" cy="2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7" name="TextBox 9"/>
          <p:cNvSpPr/>
          <p:nvPr/>
        </p:nvSpPr>
        <p:spPr>
          <a:xfrm>
            <a:off x="3773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3652200" y="1628640"/>
            <a:ext cx="479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ая боль, припухлост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подтек в области травм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совершать дви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254160" y="278136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Прямая со стрелкой 12"/>
          <p:cNvCxnSpPr/>
          <p:nvPr/>
        </p:nvCxnSpPr>
        <p:spPr>
          <a:xfrm>
            <a:off x="3276360" y="3068280"/>
            <a:ext cx="86436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1" name="TextBox 14"/>
          <p:cNvSpPr/>
          <p:nvPr/>
        </p:nvSpPr>
        <p:spPr>
          <a:xfrm>
            <a:off x="4208040" y="2852640"/>
            <a:ext cx="36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неподвижность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ить ш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398160" y="40766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Прямая со стрелкой 16"/>
          <p:cNvCxnSpPr/>
          <p:nvPr/>
        </p:nvCxnSpPr>
        <p:spPr>
          <a:xfrm flipV="1">
            <a:off x="2484360" y="4220640"/>
            <a:ext cx="936000" cy="14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4" name="Прямая со стрелкой 18"/>
          <p:cNvCxnSpPr/>
          <p:nvPr/>
        </p:nvCxnSpPr>
        <p:spPr>
          <a:xfrm>
            <a:off x="2484360" y="4508280"/>
            <a:ext cx="1008720" cy="216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5" name="Прямая со стрелкой 19"/>
          <p:cNvCxnSpPr/>
          <p:nvPr/>
        </p:nvCxnSpPr>
        <p:spPr>
          <a:xfrm>
            <a:off x="2339640" y="4652640"/>
            <a:ext cx="86436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6" name="TextBox 22"/>
          <p:cNvSpPr/>
          <p:nvPr/>
        </p:nvSpPr>
        <p:spPr>
          <a:xfrm>
            <a:off x="3557880" y="3716280"/>
            <a:ext cx="46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лж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хватить не мене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2 сустава выше и ниже перело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3"/>
          <p:cNvSpPr/>
          <p:nvPr/>
        </p:nvSpPr>
        <p:spPr>
          <a:xfrm>
            <a:off x="3632040" y="4508640"/>
            <a:ext cx="43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шин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ло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ую проклад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24"/>
          <p:cNvSpPr/>
          <p:nvPr/>
        </p:nvSpPr>
        <p:spPr>
          <a:xfrm>
            <a:off x="3126240" y="5300640"/>
            <a:ext cx="53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следу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957240" y="33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69800" y="119700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ши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Прямая со стрелкой 3"/>
          <p:cNvCxnSpPr/>
          <p:nvPr/>
        </p:nvCxnSpPr>
        <p:spPr>
          <a:xfrm flipV="1">
            <a:off x="1979640" y="1340640"/>
            <a:ext cx="100872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12" name="Прямая со стрелкой 5"/>
          <p:cNvCxnSpPr/>
          <p:nvPr/>
        </p:nvCxnSpPr>
        <p:spPr>
          <a:xfrm>
            <a:off x="1979640" y="1628640"/>
            <a:ext cx="937440" cy="2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13" name="TextBox 7"/>
          <p:cNvSpPr/>
          <p:nvPr/>
        </p:nvSpPr>
        <p:spPr>
          <a:xfrm>
            <a:off x="3125520" y="112392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дение, сильный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3034080" y="1628640"/>
            <a:ext cx="56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, припухлость, кровоподте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большое нарушение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327240" y="263700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/>
          <p:nvPr/>
        </p:nvCxnSpPr>
        <p:spPr>
          <a:xfrm>
            <a:off x="3276360" y="2923920"/>
            <a:ext cx="86436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17" name="TextBox 13"/>
          <p:cNvSpPr/>
          <p:nvPr/>
        </p:nvSpPr>
        <p:spPr>
          <a:xfrm>
            <a:off x="4284720" y="2565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о ушиб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едуе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ол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398160" y="371628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684360" y="414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Прямая со стрелкой 17"/>
          <p:cNvCxnSpPr/>
          <p:nvPr/>
        </p:nvCxnSpPr>
        <p:spPr>
          <a:xfrm>
            <a:off x="2555640" y="4005000"/>
            <a:ext cx="937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21" name="Прямая со стрелкой 18"/>
          <p:cNvCxnSpPr/>
          <p:nvPr/>
        </p:nvCxnSpPr>
        <p:spPr>
          <a:xfrm>
            <a:off x="2410920" y="4149360"/>
            <a:ext cx="100872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22" name="Прямая со стрелкой 19"/>
          <p:cNvCxnSpPr/>
          <p:nvPr/>
        </p:nvCxnSpPr>
        <p:spPr>
          <a:xfrm>
            <a:off x="2266560" y="4365360"/>
            <a:ext cx="865800" cy="648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23" name="TextBox 25"/>
          <p:cNvSpPr/>
          <p:nvPr/>
        </p:nvSpPr>
        <p:spPr>
          <a:xfrm>
            <a:off x="3559320" y="3645000"/>
            <a:ext cx="49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й части тел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вышен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3629520" y="4437000"/>
            <a:ext cx="47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кой и неподви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201120" y="50133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уг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яз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1835280" y="1557360"/>
            <a:ext cx="561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блюдайте правила безопасности на уроке физической культуры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79280" y="45396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Безопасность на уро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физической культуры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это знание и выполнение правил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794600" y="2411280"/>
            <a:ext cx="626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 урокам физическ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пуск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, прошедшие инструкт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хнике безопас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ащиеся, имеющие допуск вра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ная и подготовите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здоровь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user\Desktop\ф4.jpg"/>
          <p:cNvPicPr/>
          <p:nvPr/>
        </p:nvPicPr>
        <p:blipFill>
          <a:blip r:embed="rId1"/>
          <a:stretch/>
        </p:blipFill>
        <p:spPr>
          <a:xfrm>
            <a:off x="2627280" y="3645000"/>
            <a:ext cx="39625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TextBox 2"/>
          <p:cNvSpPr/>
          <p:nvPr/>
        </p:nvSpPr>
        <p:spPr>
          <a:xfrm>
            <a:off x="1788480" y="692280"/>
            <a:ext cx="68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 уроках физической куль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онок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у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о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ортивном за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ход из зал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провождении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user\Desktop\ф5.jpg"/>
          <p:cNvPicPr/>
          <p:nvPr/>
        </p:nvPicPr>
        <p:blipFill>
          <a:blip r:embed="rId1"/>
          <a:stretch/>
        </p:blipFill>
        <p:spPr>
          <a:xfrm>
            <a:off x="2484360" y="3645000"/>
            <a:ext cx="4626000" cy="260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7" name="TextBox 3"/>
          <p:cNvSpPr/>
          <p:nvPr/>
        </p:nvSpPr>
        <p:spPr>
          <a:xfrm>
            <a:off x="1713240" y="826920"/>
            <a:ext cx="7009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рещ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вать жевательную резин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ься мобильным телефон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вольно брать спортив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нвентарь из спортивного з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238480" y="1273320"/>
            <a:ext cx="46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5879160" y="327168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ровоте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4918320" y="489096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ши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1123920" y="327168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их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915920" y="489096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ло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Овал 1"/>
          <p:cNvSpPr/>
          <p:nvPr/>
        </p:nvSpPr>
        <p:spPr>
          <a:xfrm>
            <a:off x="3398760" y="2421000"/>
            <a:ext cx="2138400" cy="18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в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Прямая со стрелкой 3"/>
          <p:cNvCxnSpPr/>
          <p:nvPr/>
        </p:nvCxnSpPr>
        <p:spPr>
          <a:xfrm flipH="1">
            <a:off x="2750760" y="3563640"/>
            <a:ext cx="526320" cy="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5" name="Прямая со стрелкой 5"/>
          <p:cNvCxnSpPr/>
          <p:nvPr/>
        </p:nvCxnSpPr>
        <p:spPr>
          <a:xfrm flipV="1">
            <a:off x="4468320" y="1856520"/>
            <a:ext cx="1080" cy="4928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6" name="Прямая со стрелкой 12"/>
          <p:cNvCxnSpPr>
            <a:endCxn id="229" idx="1"/>
          </p:cNvCxnSpPr>
          <p:nvPr/>
        </p:nvCxnSpPr>
        <p:spPr>
          <a:xfrm>
            <a:off x="5651280" y="3563640"/>
            <a:ext cx="230760" cy="10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7" name="Прямая со стрелкой 14"/>
          <p:cNvCxnSpPr/>
          <p:nvPr/>
        </p:nvCxnSpPr>
        <p:spPr>
          <a:xfrm>
            <a:off x="3779640" y="4365360"/>
            <a:ext cx="1080" cy="525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8" name="Прямая со стрелкой 16"/>
          <p:cNvCxnSpPr/>
          <p:nvPr/>
        </p:nvCxnSpPr>
        <p:spPr>
          <a:xfrm>
            <a:off x="5219280" y="4365360"/>
            <a:ext cx="1080" cy="525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"/>
          <p:cNvSpPr/>
          <p:nvPr/>
        </p:nvSpPr>
        <p:spPr>
          <a:xfrm>
            <a:off x="1400400" y="111456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ичины травматиз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86360" y="2205000"/>
            <a:ext cx="803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овлетворительная подгот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 занятий, оборудования, инвентар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благоприятные погодные услов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бувь и одежда, несоответству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де и виду занят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тсутствие страховки и самострахов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ф6.jpg"/>
          <p:cNvPicPr/>
          <p:nvPr/>
        </p:nvPicPr>
        <p:blipFill>
          <a:blip r:embed="rId1"/>
          <a:stretch/>
        </p:blipFill>
        <p:spPr>
          <a:xfrm>
            <a:off x="3693960" y="4365720"/>
            <a:ext cx="1906920" cy="191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2" name="TextBox 2"/>
          <p:cNvSpPr/>
          <p:nvPr/>
        </p:nvSpPr>
        <p:spPr>
          <a:xfrm>
            <a:off x="691200" y="907920"/>
            <a:ext cx="7938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ая тренированность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ование нагруз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енебрежительное отношение к размин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изкая поведенческая культура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соблюдение дисциплины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Отсутствие медицинского сопровождения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медицински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9528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88880" y="1406520"/>
            <a:ext cx="44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ны, ссадины, поре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Прямая со стрелкой 4"/>
          <p:cNvCxnSpPr>
            <a:stCxn id="244" idx="3"/>
          </p:cNvCxnSpPr>
          <p:nvPr/>
        </p:nvCxnSpPr>
        <p:spPr>
          <a:xfrm flipV="1">
            <a:off x="4923000" y="1476000"/>
            <a:ext cx="397440" cy="1929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46" name="Прямая со стрелкой 6"/>
          <p:cNvCxnSpPr/>
          <p:nvPr/>
        </p:nvCxnSpPr>
        <p:spPr>
          <a:xfrm>
            <a:off x="4858920" y="1953720"/>
            <a:ext cx="793080" cy="35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5721840" y="1052640"/>
            <a:ext cx="31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аде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исправный инвентар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дисципл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5721120" y="2133720"/>
            <a:ext cx="30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цело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ого пок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468360" y="3068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Прямая со стрелкой 11"/>
          <p:cNvCxnSpPr/>
          <p:nvPr/>
        </p:nvCxnSpPr>
        <p:spPr>
          <a:xfrm>
            <a:off x="3779640" y="3357360"/>
            <a:ext cx="86580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1" name="Прямая со стрелкой 13"/>
          <p:cNvCxnSpPr/>
          <p:nvPr/>
        </p:nvCxnSpPr>
        <p:spPr>
          <a:xfrm>
            <a:off x="3634920" y="3538080"/>
            <a:ext cx="918360" cy="1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52" name="TextBox 18"/>
          <p:cNvSpPr/>
          <p:nvPr/>
        </p:nvSpPr>
        <p:spPr>
          <a:xfrm>
            <a:off x="5015520" y="31910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а р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5015520" y="371952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ожение повя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20"/>
          <p:cNvSpPr/>
          <p:nvPr/>
        </p:nvSpPr>
        <p:spPr>
          <a:xfrm>
            <a:off x="470880" y="4365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Прямая со стрелкой 21"/>
          <p:cNvCxnSpPr/>
          <p:nvPr/>
        </p:nvCxnSpPr>
        <p:spPr>
          <a:xfrm>
            <a:off x="2627280" y="4652640"/>
            <a:ext cx="937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6" name="Прямая со стрелкой 22"/>
          <p:cNvCxnSpPr/>
          <p:nvPr/>
        </p:nvCxnSpPr>
        <p:spPr>
          <a:xfrm>
            <a:off x="2555640" y="4869000"/>
            <a:ext cx="937080" cy="28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57" name="Прямая со стрелкой 23"/>
          <p:cNvCxnSpPr/>
          <p:nvPr/>
        </p:nvCxnSpPr>
        <p:spPr>
          <a:xfrm>
            <a:off x="2484000" y="5157360"/>
            <a:ext cx="864360" cy="57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58" name="TextBox 29"/>
          <p:cNvSpPr/>
          <p:nvPr/>
        </p:nvSpPr>
        <p:spPr>
          <a:xfrm>
            <a:off x="3635280" y="436572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д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у промыв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следуе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3635280" y="486900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рикладыв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ане нестерильные предмет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3"/>
          <p:cNvSpPr/>
          <p:nvPr/>
        </p:nvSpPr>
        <p:spPr>
          <a:xfrm>
            <a:off x="3345480" y="5661000"/>
            <a:ext cx="53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глубокой ране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в медицинское учреждение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4046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ервая помощь при травм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475200" y="126828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овоте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Прямая со стрелкой 3"/>
          <p:cNvCxnSpPr/>
          <p:nvPr/>
        </p:nvCxnSpPr>
        <p:spPr>
          <a:xfrm flipV="1">
            <a:off x="3348000" y="1412640"/>
            <a:ext cx="1008720" cy="118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4" name="TextBox 7"/>
          <p:cNvSpPr/>
          <p:nvPr/>
        </p:nvSpPr>
        <p:spPr>
          <a:xfrm>
            <a:off x="4369680" y="981000"/>
            <a:ext cx="3242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езы, пад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кновения п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и упражн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Прямая со стрелкой 8"/>
          <p:cNvCxnSpPr/>
          <p:nvPr/>
        </p:nvCxnSpPr>
        <p:spPr>
          <a:xfrm>
            <a:off x="3276360" y="1773000"/>
            <a:ext cx="864360" cy="43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6" name="TextBox 11"/>
          <p:cNvSpPr/>
          <p:nvPr/>
        </p:nvSpPr>
        <p:spPr>
          <a:xfrm>
            <a:off x="4280760" y="2060640"/>
            <a:ext cx="42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ы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яные выдел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окружение, потеря созна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543240" y="306864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ая помощ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Прямая со стрелкой 13"/>
          <p:cNvCxnSpPr/>
          <p:nvPr/>
        </p:nvCxnSpPr>
        <p:spPr>
          <a:xfrm>
            <a:off x="3564000" y="3428640"/>
            <a:ext cx="79272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69" name="TextBox 15"/>
          <p:cNvSpPr/>
          <p:nvPr/>
        </p:nvSpPr>
        <p:spPr>
          <a:xfrm>
            <a:off x="4425840" y="314172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жденную часть т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однять, наложить туг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язку или жг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 сильном кровотечен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6"/>
          <p:cNvSpPr/>
          <p:nvPr/>
        </p:nvSpPr>
        <p:spPr>
          <a:xfrm>
            <a:off x="613800" y="4365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Прямая со стрелкой 17"/>
          <p:cNvCxnSpPr/>
          <p:nvPr/>
        </p:nvCxnSpPr>
        <p:spPr>
          <a:xfrm>
            <a:off x="2700000" y="4723920"/>
            <a:ext cx="9356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72" name="Прямая со стрелкой 18"/>
          <p:cNvCxnSpPr/>
          <p:nvPr/>
        </p:nvCxnSpPr>
        <p:spPr>
          <a:xfrm>
            <a:off x="2700360" y="4941720"/>
            <a:ext cx="100872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73" name="Прямая со стрелкой 19"/>
          <p:cNvCxnSpPr/>
          <p:nvPr/>
        </p:nvCxnSpPr>
        <p:spPr>
          <a:xfrm>
            <a:off x="2484360" y="5157720"/>
            <a:ext cx="1224720" cy="1008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74" name="TextBox 21"/>
          <p:cNvSpPr/>
          <p:nvPr/>
        </p:nvSpPr>
        <p:spPr>
          <a:xfrm>
            <a:off x="3849480" y="4508640"/>
            <a:ext cx="40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гу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лж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ходится на те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– 2 ча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3719160" y="5300640"/>
            <a:ext cx="50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реп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писк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атой и вре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жения жгу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3776040" y="6021360"/>
            <a:ext cx="428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адавш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о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5:24:36Z</dcterms:created>
  <dc:creator>Goncharova</dc:creator>
  <dc:description/>
  <dc:language>en-US</dc:language>
  <cp:lastModifiedBy>1234567890</cp:lastModifiedBy>
  <dcterms:modified xsi:type="dcterms:W3CDTF">2023-02-01T12:50:19Z</dcterms:modified>
  <cp:revision>8</cp:revision>
  <dc:subject/>
  <dc:title>Слайд 1</dc:title>
</cp:coreProperties>
</file>