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06C-74A9-4B03-B6AE-F2E88B6C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597-9EAD-4FF6-A493-16AD558B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333-12E0-4751-9638-122E9205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7FF8-2CB6-441E-BDB8-27D837EA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D1E4-BA04-425C-821F-8B63AA6B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C9F4-E73C-499E-90FF-6E556516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999A-EED9-40BD-A11F-EB7F4374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7BD2-177A-4C60-B4DB-5EB5CFC1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F52C-A210-47B2-9D4E-854A6F20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A0FC-2CC0-4D6D-9BAB-D42F1F18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4BAB-5AA3-4282-A35E-0A083C74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F82-4E58-4340-B20B-78465728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EBD8-299B-4D91-872E-41E558A0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ADFA-3B2D-4573-8603-E55CCB0C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2F76-DA49-4B54-AEBC-2D956C19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AC6A-3107-48AF-8A8F-D3559584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A926-B5A2-49A0-B300-7BD415DF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B94D3-B9FE-4F06-A71C-94B1FA34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8B7CB-83FF-45C3-885D-8A877156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471ED-7E80-4514-B24C-F75C86D8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29B59-93CC-40A9-B173-35A40FEF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D0F38-5FD5-4AE0-ADF6-CE7DFFEB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BEDB-9D53-48CF-BFC7-BE6048EF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22EEB-CEBB-49D2-8DBB-D7023EF2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88DAE-658E-41C7-A45E-219DA14F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1C77C-65DD-443D-841C-46D8F79D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102DA-B553-4DCA-AA62-D90B77B9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535E0-523D-4320-9010-4596610C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98C76-3FDD-49D1-B43B-62A20B3D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7793C-4342-4987-AA99-73AD2D3D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92524-4760-4E57-825E-465F8C6A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412C1-FFB9-4DF6-8ECD-F65D7DA1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5C24E-F24D-4EE3-B8F6-9898378E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D22A-7B1E-4FD3-9E82-616AFE9E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FFE73-EBAE-4DEC-B1AD-B85470DE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847C1-A54B-46E3-8ECE-317BC271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CBEC1-27DE-4844-8EE7-4ECFA621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585CC-B5D6-40AF-B640-D17A79BA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55EC0-86CA-4B1C-8BEA-E0A06279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C96C0-18BA-44EF-8161-C7454441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41A7B-4BFA-4032-86E9-72A25303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B2EB8-E674-40DC-8200-9177AD55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1320B-4FEB-485E-AAF0-B3B48D51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8114F-1BC7-4CC2-AACC-E0F14D8A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C02-3F76-4BE4-9604-F599E190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D5D07-A744-4928-952E-F6CEFE10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0BC99-21B4-449F-BFA5-F7050FCE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D567F-87C5-4F6A-B6C9-61CB7810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80CDC-CDF8-4D1A-85C9-2AD0911B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EFAC7-8CA0-4E8A-B65B-88928F53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585D5-C925-4765-A65B-EA6E4365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E96FC-ADC9-4AE2-A377-7C8B4306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07533-5543-4B99-A28F-9E08D3EB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F8DA7-0165-45EB-88FD-94B53357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ADE61-EF4C-4FFA-8169-2C9EDE8C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8C0-A4D3-433A-BF9B-6D874A99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44A68-0923-4263-B93C-060602B8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A163-92BC-4D4D-9310-07863C9C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95B-855B-4423-941D-FAFAEAAD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DB3-D4B1-4AC4-B3E7-1B51B246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7A49-2CAA-4875-A105-A1A13E1B9DA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B367-A772-471A-8B0B-E4FF28DEB8E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6C33-E2C4-40C2-8503-6605175D867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D615-1EE0-4471-92F3-41164849152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D6AF-4A33-44EC-AF56-611CD9E1214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1497960" y="3801960"/>
            <a:ext cx="63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23232"/>
                </a:solidFill>
                <a:latin typeface="Lucida Sans Unicode"/>
              </a:rPr>
              <a:t>Техника безопас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23232"/>
                </a:solidFill>
                <a:latin typeface="Lucida Sans Unicode"/>
              </a:rPr>
              <a:t>на урок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23232"/>
                </a:solidFill>
                <a:latin typeface="Lucida Sans Unicode"/>
              </a:rPr>
              <a:t> </a:t>
            </a:r>
            <a:r>
              <a:rPr b="0" lang="ru-RU" sz="4400" spc="-1" strike="noStrike">
                <a:solidFill>
                  <a:srgbClr val="323232"/>
                </a:solidFill>
                <a:latin typeface="Lucida Sans Unicode"/>
              </a:rPr>
              <a:t>физической культу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2" descr="http://volna.org/wp-content/uploads/2014/11/pocliednii_klassnyi_chas_v_5_klassie8.png"/>
          <p:cNvPicPr/>
          <p:nvPr/>
        </p:nvPicPr>
        <p:blipFill>
          <a:blip r:embed="rId1"/>
          <a:stretch/>
        </p:blipFill>
        <p:spPr>
          <a:xfrm>
            <a:off x="2987640" y="692280"/>
            <a:ext cx="3240000" cy="24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1042920" y="50976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Первая помощь при травм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2"/>
          <p:cNvSpPr/>
          <p:nvPr/>
        </p:nvSpPr>
        <p:spPr>
          <a:xfrm>
            <a:off x="406440" y="1268280"/>
            <a:ext cx="15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ывих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Прямая со стрелкой 3"/>
          <p:cNvCxnSpPr/>
          <p:nvPr/>
        </p:nvCxnSpPr>
        <p:spPr>
          <a:xfrm flipV="1">
            <a:off x="2050560" y="1483560"/>
            <a:ext cx="1008720" cy="73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80" name="Прямая со стрелкой 5"/>
          <p:cNvCxnSpPr/>
          <p:nvPr/>
        </p:nvCxnSpPr>
        <p:spPr>
          <a:xfrm>
            <a:off x="2050560" y="1773000"/>
            <a:ext cx="1008720" cy="216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81" name="TextBox 6"/>
          <p:cNvSpPr/>
          <p:nvPr/>
        </p:nvSpPr>
        <p:spPr>
          <a:xfrm>
            <a:off x="3341520" y="1123920"/>
            <a:ext cx="41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чины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дение, сильный уда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3456000" y="177336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импто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сильная боль, опухоль сустава, невозможность  двигать конечностью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327240" y="2708280"/>
            <a:ext cx="28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вая помощ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Прямая со стрелкой 9"/>
          <p:cNvCxnSpPr/>
          <p:nvPr/>
        </p:nvCxnSpPr>
        <p:spPr>
          <a:xfrm>
            <a:off x="3276360" y="2997000"/>
            <a:ext cx="71964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85" name="TextBox 12"/>
          <p:cNvSpPr/>
          <p:nvPr/>
        </p:nvSpPr>
        <p:spPr>
          <a:xfrm>
            <a:off x="3920400" y="2708280"/>
            <a:ext cx="458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ксация поврежденной конеч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движ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14"/>
          <p:cNvSpPr/>
          <p:nvPr/>
        </p:nvSpPr>
        <p:spPr>
          <a:xfrm>
            <a:off x="398160" y="386064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Прямая со стрелкой 15"/>
          <p:cNvCxnSpPr/>
          <p:nvPr/>
        </p:nvCxnSpPr>
        <p:spPr>
          <a:xfrm>
            <a:off x="2411280" y="4292640"/>
            <a:ext cx="937440" cy="289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88" name="Прямая со стрелкой 16"/>
          <p:cNvCxnSpPr/>
          <p:nvPr/>
        </p:nvCxnSpPr>
        <p:spPr>
          <a:xfrm flipV="1">
            <a:off x="2411280" y="4005000"/>
            <a:ext cx="937440" cy="144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89" name="Прямая со стрелкой 17"/>
          <p:cNvCxnSpPr/>
          <p:nvPr/>
        </p:nvCxnSpPr>
        <p:spPr>
          <a:xfrm>
            <a:off x="2339640" y="4436640"/>
            <a:ext cx="577080" cy="793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90" name="TextBox 24"/>
          <p:cNvSpPr/>
          <p:nvPr/>
        </p:nvSpPr>
        <p:spPr>
          <a:xfrm>
            <a:off x="3342240" y="3645000"/>
            <a:ext cx="49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их – эт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ойкое смещ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ц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тей, входящих в один суста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25"/>
          <p:cNvSpPr/>
          <p:nvPr/>
        </p:nvSpPr>
        <p:spPr>
          <a:xfrm>
            <a:off x="3342960" y="4365720"/>
            <a:ext cx="49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вихе верхней конеч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весить на косын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26"/>
          <p:cNvSpPr/>
          <p:nvPr/>
        </p:nvSpPr>
        <p:spPr>
          <a:xfrm>
            <a:off x="2332800" y="5300640"/>
            <a:ext cx="615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вихе сустава нижней конеч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адавшег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 уложи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носи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оч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ставить 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852480" y="4366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Первая помощь при травм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404280" y="1341360"/>
            <a:ext cx="20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ело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Прямая со стрелкой 3"/>
          <p:cNvCxnSpPr/>
          <p:nvPr/>
        </p:nvCxnSpPr>
        <p:spPr>
          <a:xfrm flipV="1">
            <a:off x="2556000" y="1483920"/>
            <a:ext cx="1008720" cy="118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6" name="Прямая со стрелкой 4"/>
          <p:cNvCxnSpPr/>
          <p:nvPr/>
        </p:nvCxnSpPr>
        <p:spPr>
          <a:xfrm>
            <a:off x="2556000" y="1844640"/>
            <a:ext cx="1008720" cy="216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97" name="TextBox 9"/>
          <p:cNvSpPr/>
          <p:nvPr/>
        </p:nvSpPr>
        <p:spPr>
          <a:xfrm>
            <a:off x="3773520" y="1123920"/>
            <a:ext cx="41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чины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дение, сильный уда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Box 10"/>
          <p:cNvSpPr/>
          <p:nvPr/>
        </p:nvSpPr>
        <p:spPr>
          <a:xfrm>
            <a:off x="3652200" y="1628640"/>
            <a:ext cx="479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имптомы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кая боль, припухлость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воподтек в области травм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зможность совершать дви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Box 11"/>
          <p:cNvSpPr/>
          <p:nvPr/>
        </p:nvSpPr>
        <p:spPr>
          <a:xfrm>
            <a:off x="254160" y="2781360"/>
            <a:ext cx="28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вая помощ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Прямая со стрелкой 12"/>
          <p:cNvCxnSpPr/>
          <p:nvPr/>
        </p:nvCxnSpPr>
        <p:spPr>
          <a:xfrm>
            <a:off x="3276360" y="3068280"/>
            <a:ext cx="86436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01" name="TextBox 14"/>
          <p:cNvSpPr/>
          <p:nvPr/>
        </p:nvSpPr>
        <p:spPr>
          <a:xfrm>
            <a:off x="4208040" y="2852640"/>
            <a:ext cx="369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неподвижность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жить шин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398160" y="407664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Прямая со стрелкой 16"/>
          <p:cNvCxnSpPr/>
          <p:nvPr/>
        </p:nvCxnSpPr>
        <p:spPr>
          <a:xfrm flipV="1">
            <a:off x="2484360" y="4220640"/>
            <a:ext cx="936000" cy="145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4" name="Прямая со стрелкой 18"/>
          <p:cNvCxnSpPr/>
          <p:nvPr/>
        </p:nvCxnSpPr>
        <p:spPr>
          <a:xfrm>
            <a:off x="2484360" y="4508280"/>
            <a:ext cx="1008720" cy="216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5" name="Прямая со стрелкой 19"/>
          <p:cNvCxnSpPr/>
          <p:nvPr/>
        </p:nvCxnSpPr>
        <p:spPr>
          <a:xfrm>
            <a:off x="2339640" y="4652640"/>
            <a:ext cx="864360" cy="577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06" name="TextBox 22"/>
          <p:cNvSpPr/>
          <p:nvPr/>
        </p:nvSpPr>
        <p:spPr>
          <a:xfrm>
            <a:off x="3557880" y="3716280"/>
            <a:ext cx="46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лж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хватить не мене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2 сустава выше и ниже перело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23"/>
          <p:cNvSpPr/>
          <p:nvPr/>
        </p:nvSpPr>
        <p:spPr>
          <a:xfrm>
            <a:off x="3632040" y="4508640"/>
            <a:ext cx="43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шин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лож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гкую проклад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24"/>
          <p:cNvSpPr/>
          <p:nvPr/>
        </p:nvSpPr>
        <p:spPr>
          <a:xfrm>
            <a:off x="3126240" y="5300640"/>
            <a:ext cx="531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адавшего следуе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очн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1"/>
          <p:cNvSpPr/>
          <p:nvPr/>
        </p:nvSpPr>
        <p:spPr>
          <a:xfrm>
            <a:off x="957240" y="333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Первая помощь при травм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2"/>
          <p:cNvSpPr/>
          <p:nvPr/>
        </p:nvSpPr>
        <p:spPr>
          <a:xfrm>
            <a:off x="469800" y="119700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шиб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Прямая со стрелкой 3"/>
          <p:cNvCxnSpPr/>
          <p:nvPr/>
        </p:nvCxnSpPr>
        <p:spPr>
          <a:xfrm flipV="1">
            <a:off x="1979640" y="1340640"/>
            <a:ext cx="1008720" cy="72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12" name="Прямая со стрелкой 5"/>
          <p:cNvCxnSpPr/>
          <p:nvPr/>
        </p:nvCxnSpPr>
        <p:spPr>
          <a:xfrm>
            <a:off x="1979640" y="1628640"/>
            <a:ext cx="937440" cy="216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13" name="TextBox 7"/>
          <p:cNvSpPr/>
          <p:nvPr/>
        </p:nvSpPr>
        <p:spPr>
          <a:xfrm>
            <a:off x="3125520" y="1123920"/>
            <a:ext cx="41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чины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дение, сильный уда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8"/>
          <p:cNvSpPr/>
          <p:nvPr/>
        </p:nvSpPr>
        <p:spPr>
          <a:xfrm>
            <a:off x="3034080" y="1628640"/>
            <a:ext cx="56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имптомы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, припухлость, кровоподте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большое нарушение фун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9"/>
          <p:cNvSpPr/>
          <p:nvPr/>
        </p:nvSpPr>
        <p:spPr>
          <a:xfrm>
            <a:off x="327240" y="2637000"/>
            <a:ext cx="28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вая помощ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Прямая со стрелкой 10"/>
          <p:cNvCxnSpPr/>
          <p:nvPr/>
        </p:nvCxnSpPr>
        <p:spPr>
          <a:xfrm>
            <a:off x="3276360" y="2923920"/>
            <a:ext cx="86436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17" name="TextBox 13"/>
          <p:cNvSpPr/>
          <p:nvPr/>
        </p:nvSpPr>
        <p:spPr>
          <a:xfrm>
            <a:off x="4284720" y="256536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есто ушиб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ледует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хол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15"/>
          <p:cNvSpPr/>
          <p:nvPr/>
        </p:nvSpPr>
        <p:spPr>
          <a:xfrm>
            <a:off x="398160" y="371628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16"/>
          <p:cNvSpPr/>
          <p:nvPr/>
        </p:nvSpPr>
        <p:spPr>
          <a:xfrm>
            <a:off x="684360" y="4149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Прямая со стрелкой 17"/>
          <p:cNvCxnSpPr/>
          <p:nvPr/>
        </p:nvCxnSpPr>
        <p:spPr>
          <a:xfrm>
            <a:off x="2555640" y="4005000"/>
            <a:ext cx="93708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21" name="Прямая со стрелкой 18"/>
          <p:cNvCxnSpPr/>
          <p:nvPr/>
        </p:nvCxnSpPr>
        <p:spPr>
          <a:xfrm>
            <a:off x="2410920" y="4149360"/>
            <a:ext cx="1008720" cy="432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22" name="Прямая со стрелкой 19"/>
          <p:cNvCxnSpPr/>
          <p:nvPr/>
        </p:nvCxnSpPr>
        <p:spPr>
          <a:xfrm>
            <a:off x="2266560" y="4365360"/>
            <a:ext cx="865800" cy="648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23" name="TextBox 25"/>
          <p:cNvSpPr/>
          <p:nvPr/>
        </p:nvSpPr>
        <p:spPr>
          <a:xfrm>
            <a:off x="3559320" y="3645000"/>
            <a:ext cx="493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адавшей части тел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звышен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3629520" y="4437000"/>
            <a:ext cx="47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кой и неподвиж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28"/>
          <p:cNvSpPr/>
          <p:nvPr/>
        </p:nvSpPr>
        <p:spPr>
          <a:xfrm>
            <a:off x="3201120" y="5013360"/>
            <a:ext cx="31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ж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уг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вяз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1"/>
          <p:cNvSpPr/>
          <p:nvPr/>
        </p:nvSpPr>
        <p:spPr>
          <a:xfrm>
            <a:off x="1835280" y="1557360"/>
            <a:ext cx="5616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облюдайте правила безопасности на уроке физической культуры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179280" y="453960"/>
            <a:ext cx="88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Безопасность на уро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физической культуры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это знание и выполнение правил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1794600" y="2411280"/>
            <a:ext cx="6266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 урокам физической культ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опуска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щиеся, прошедшие инструкта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технике безопас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учащиеся, имеющие допуск врач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сновная и подготовитель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а здоровь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Users\user\Desktop\ф4.jpg"/>
          <p:cNvPicPr/>
          <p:nvPr/>
        </p:nvPicPr>
        <p:blipFill>
          <a:blip r:embed="rId1"/>
          <a:stretch/>
        </p:blipFill>
        <p:spPr>
          <a:xfrm>
            <a:off x="2627280" y="3645000"/>
            <a:ext cx="3962520" cy="2643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5" name="TextBox 2"/>
          <p:cNvSpPr/>
          <p:nvPr/>
        </p:nvSpPr>
        <p:spPr>
          <a:xfrm>
            <a:off x="1788480" y="692280"/>
            <a:ext cx="680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 уроках физической культ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 знат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онок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о уро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по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портивном зал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ыход из зала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льк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провождении учите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C:\Users\user\Desktop\ф5.jpg"/>
          <p:cNvPicPr/>
          <p:nvPr/>
        </p:nvPicPr>
        <p:blipFill>
          <a:blip r:embed="rId1"/>
          <a:stretch/>
        </p:blipFill>
        <p:spPr>
          <a:xfrm>
            <a:off x="2484360" y="3645000"/>
            <a:ext cx="4626000" cy="2601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7" name="TextBox 3"/>
          <p:cNvSpPr/>
          <p:nvPr/>
        </p:nvSpPr>
        <p:spPr>
          <a:xfrm>
            <a:off x="1713240" y="826920"/>
            <a:ext cx="7009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прещ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вать жевательную резинк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ться мобильным телефон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вольно брать спортивны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инвентарь из спортивного за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3"/>
          <p:cNvSpPr/>
          <p:nvPr/>
        </p:nvSpPr>
        <p:spPr>
          <a:xfrm>
            <a:off x="2238480" y="1273320"/>
            <a:ext cx="46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ны, ссадины, порез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5879160" y="327168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ровоте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4918320" y="489096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шиб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1123920" y="327168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вих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1915920" y="4890960"/>
            <a:ext cx="22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Перело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Овал 1"/>
          <p:cNvSpPr/>
          <p:nvPr/>
        </p:nvSpPr>
        <p:spPr>
          <a:xfrm>
            <a:off x="3398760" y="2421000"/>
            <a:ext cx="2138400" cy="18730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ав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Прямая со стрелкой 3"/>
          <p:cNvCxnSpPr/>
          <p:nvPr/>
        </p:nvCxnSpPr>
        <p:spPr>
          <a:xfrm flipH="1">
            <a:off x="2750760" y="3563640"/>
            <a:ext cx="526320" cy="108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35" name="Прямая со стрелкой 5"/>
          <p:cNvCxnSpPr/>
          <p:nvPr/>
        </p:nvCxnSpPr>
        <p:spPr>
          <a:xfrm flipV="1">
            <a:off x="4468320" y="1856520"/>
            <a:ext cx="1080" cy="49284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36" name="Прямая со стрелкой 12"/>
          <p:cNvCxnSpPr>
            <a:endCxn id="229" idx="1"/>
          </p:cNvCxnSpPr>
          <p:nvPr/>
        </p:nvCxnSpPr>
        <p:spPr>
          <a:xfrm>
            <a:off x="5651280" y="3563640"/>
            <a:ext cx="230760" cy="108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37" name="Прямая со стрелкой 14"/>
          <p:cNvCxnSpPr/>
          <p:nvPr/>
        </p:nvCxnSpPr>
        <p:spPr>
          <a:xfrm>
            <a:off x="3779640" y="4365360"/>
            <a:ext cx="1080" cy="5259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38" name="Прямая со стрелкой 16"/>
          <p:cNvCxnSpPr/>
          <p:nvPr/>
        </p:nvCxnSpPr>
        <p:spPr>
          <a:xfrm>
            <a:off x="5219280" y="4365360"/>
            <a:ext cx="1080" cy="5259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2"/>
          <p:cNvSpPr/>
          <p:nvPr/>
        </p:nvSpPr>
        <p:spPr>
          <a:xfrm>
            <a:off x="1400400" y="1114560"/>
            <a:ext cx="65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сновные причины травматизм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486360" y="2205000"/>
            <a:ext cx="8034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удовлетворительная подготов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 занятий, оборудования, инвентар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еблагоприятные погодные услов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бувь и одежда, несоответствующ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оде и виду занят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Отсутствие страховки и самострахов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Users\user\Desktop\ф6.jpg"/>
          <p:cNvPicPr/>
          <p:nvPr/>
        </p:nvPicPr>
        <p:blipFill>
          <a:blip r:embed="rId1"/>
          <a:stretch/>
        </p:blipFill>
        <p:spPr>
          <a:xfrm>
            <a:off x="3693960" y="4365720"/>
            <a:ext cx="1906920" cy="1915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2" name="TextBox 2"/>
          <p:cNvSpPr/>
          <p:nvPr/>
        </p:nvSpPr>
        <p:spPr>
          <a:xfrm>
            <a:off x="691200" y="907920"/>
            <a:ext cx="7938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статочная тренированность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ксирование нагруз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Пренебрежительное отношение к разминк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Низкая поведенческая культура учащих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есоблюдение дисциплины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Отсутствие медицинского сопровождения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ение медицинских требов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395280" y="476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Первая помощь при травм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2"/>
          <p:cNvSpPr/>
          <p:nvPr/>
        </p:nvSpPr>
        <p:spPr>
          <a:xfrm>
            <a:off x="488880" y="1406520"/>
            <a:ext cx="44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ны, ссадины, порез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Прямая со стрелкой 4"/>
          <p:cNvCxnSpPr>
            <a:stCxn id="244" idx="3"/>
          </p:cNvCxnSpPr>
          <p:nvPr/>
        </p:nvCxnSpPr>
        <p:spPr>
          <a:xfrm flipV="1">
            <a:off x="4923000" y="1476000"/>
            <a:ext cx="397440" cy="1929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46" name="Прямая со стрелкой 6"/>
          <p:cNvCxnSpPr/>
          <p:nvPr/>
        </p:nvCxnSpPr>
        <p:spPr>
          <a:xfrm>
            <a:off x="4858920" y="1953720"/>
            <a:ext cx="793080" cy="3596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47" name="TextBox 7"/>
          <p:cNvSpPr/>
          <p:nvPr/>
        </p:nvSpPr>
        <p:spPr>
          <a:xfrm>
            <a:off x="5721840" y="1052640"/>
            <a:ext cx="31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ч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падени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исправный инвентарь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дисципл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9"/>
          <p:cNvSpPr/>
          <p:nvPr/>
        </p:nvSpPr>
        <p:spPr>
          <a:xfrm>
            <a:off x="5721120" y="2133720"/>
            <a:ext cx="30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имптомы: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целост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жного покр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оугольник 10"/>
          <p:cNvSpPr/>
          <p:nvPr/>
        </p:nvSpPr>
        <p:spPr>
          <a:xfrm>
            <a:off x="468360" y="306864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вая помощ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Прямая со стрелкой 11"/>
          <p:cNvCxnSpPr/>
          <p:nvPr/>
        </p:nvCxnSpPr>
        <p:spPr>
          <a:xfrm>
            <a:off x="3779640" y="3357360"/>
            <a:ext cx="86580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51" name="Прямая со стрелкой 13"/>
          <p:cNvCxnSpPr/>
          <p:nvPr/>
        </p:nvCxnSpPr>
        <p:spPr>
          <a:xfrm>
            <a:off x="3634920" y="3538080"/>
            <a:ext cx="918360" cy="1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52" name="TextBox 18"/>
          <p:cNvSpPr/>
          <p:nvPr/>
        </p:nvSpPr>
        <p:spPr>
          <a:xfrm>
            <a:off x="5015520" y="319104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ботка ра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19"/>
          <p:cNvSpPr/>
          <p:nvPr/>
        </p:nvSpPr>
        <p:spPr>
          <a:xfrm>
            <a:off x="5015520" y="3719520"/>
            <a:ext cx="27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Наложение повяз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20"/>
          <p:cNvSpPr/>
          <p:nvPr/>
        </p:nvSpPr>
        <p:spPr>
          <a:xfrm>
            <a:off x="470880" y="436572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Прямая со стрелкой 21"/>
          <p:cNvCxnSpPr/>
          <p:nvPr/>
        </p:nvCxnSpPr>
        <p:spPr>
          <a:xfrm>
            <a:off x="2627280" y="4652640"/>
            <a:ext cx="93744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56" name="Прямая со стрелкой 22"/>
          <p:cNvCxnSpPr/>
          <p:nvPr/>
        </p:nvCxnSpPr>
        <p:spPr>
          <a:xfrm>
            <a:off x="2555640" y="4869000"/>
            <a:ext cx="937080" cy="289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57" name="Прямая со стрелкой 23"/>
          <p:cNvCxnSpPr/>
          <p:nvPr/>
        </p:nvCxnSpPr>
        <p:spPr>
          <a:xfrm>
            <a:off x="2484000" y="5157360"/>
            <a:ext cx="864360" cy="577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58" name="TextBox 29"/>
          <p:cNvSpPr/>
          <p:nvPr/>
        </p:nvSpPr>
        <p:spPr>
          <a:xfrm>
            <a:off x="3635280" y="436572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до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у промыва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 следует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30"/>
          <p:cNvSpPr/>
          <p:nvPr/>
        </p:nvSpPr>
        <p:spPr>
          <a:xfrm>
            <a:off x="3635280" y="4869000"/>
            <a:ext cx="53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 прикладыва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ране нестерильные предметы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33"/>
          <p:cNvSpPr/>
          <p:nvPr/>
        </p:nvSpPr>
        <p:spPr>
          <a:xfrm>
            <a:off x="3345480" y="5661000"/>
            <a:ext cx="53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глубокой ране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оч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адавшего в медицинское учреждение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755640" y="40464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Первая помощь при травм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475200" y="126828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ровоте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Прямая со стрелкой 3"/>
          <p:cNvCxnSpPr/>
          <p:nvPr/>
        </p:nvCxnSpPr>
        <p:spPr>
          <a:xfrm flipV="1">
            <a:off x="3348000" y="1412640"/>
            <a:ext cx="1008720" cy="118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64" name="TextBox 7"/>
          <p:cNvSpPr/>
          <p:nvPr/>
        </p:nvSpPr>
        <p:spPr>
          <a:xfrm>
            <a:off x="4369680" y="981000"/>
            <a:ext cx="3242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чины: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езы, падени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кновения пр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и упражн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Прямая со стрелкой 8"/>
          <p:cNvCxnSpPr/>
          <p:nvPr/>
        </p:nvCxnSpPr>
        <p:spPr>
          <a:xfrm>
            <a:off x="3276360" y="1773000"/>
            <a:ext cx="864360" cy="432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66" name="TextBox 11"/>
          <p:cNvSpPr/>
          <p:nvPr/>
        </p:nvSpPr>
        <p:spPr>
          <a:xfrm>
            <a:off x="4280760" y="2060640"/>
            <a:ext cx="42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имптомы: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вяные выделен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ловокружение, потеря сознан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б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543240" y="3068640"/>
            <a:ext cx="28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вая помощ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Прямая со стрелкой 13"/>
          <p:cNvCxnSpPr/>
          <p:nvPr/>
        </p:nvCxnSpPr>
        <p:spPr>
          <a:xfrm>
            <a:off x="3564000" y="3428640"/>
            <a:ext cx="79272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69" name="TextBox 15"/>
          <p:cNvSpPr/>
          <p:nvPr/>
        </p:nvSpPr>
        <p:spPr>
          <a:xfrm>
            <a:off x="4425840" y="3141720"/>
            <a:ext cx="355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режденную часть те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поднять, наложить тугу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язку или жг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ри сильном кровотечени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оугольник 16"/>
          <p:cNvSpPr/>
          <p:nvPr/>
        </p:nvSpPr>
        <p:spPr>
          <a:xfrm>
            <a:off x="613800" y="436572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Прямая со стрелкой 17"/>
          <p:cNvCxnSpPr/>
          <p:nvPr/>
        </p:nvCxnSpPr>
        <p:spPr>
          <a:xfrm>
            <a:off x="2700000" y="4723920"/>
            <a:ext cx="93564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72" name="Прямая со стрелкой 18"/>
          <p:cNvCxnSpPr/>
          <p:nvPr/>
        </p:nvCxnSpPr>
        <p:spPr>
          <a:xfrm>
            <a:off x="2700360" y="4941720"/>
            <a:ext cx="100872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73" name="Прямая со стрелкой 19"/>
          <p:cNvCxnSpPr/>
          <p:nvPr/>
        </p:nvCxnSpPr>
        <p:spPr>
          <a:xfrm>
            <a:off x="2484360" y="5157720"/>
            <a:ext cx="1224720" cy="1008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74" name="TextBox 21"/>
          <p:cNvSpPr/>
          <p:nvPr/>
        </p:nvSpPr>
        <p:spPr>
          <a:xfrm>
            <a:off x="3849480" y="4508640"/>
            <a:ext cx="403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гу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лж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ходится на те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 боле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5 – 2 ча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24"/>
          <p:cNvSpPr/>
          <p:nvPr/>
        </p:nvSpPr>
        <p:spPr>
          <a:xfrm>
            <a:off x="3719160" y="5300640"/>
            <a:ext cx="50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реп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писк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датой и времен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жения жгу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27"/>
          <p:cNvSpPr/>
          <p:nvPr/>
        </p:nvSpPr>
        <p:spPr>
          <a:xfrm>
            <a:off x="3776040" y="6021360"/>
            <a:ext cx="428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адавшег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оч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15:24:36Z</dcterms:created>
  <dc:creator>Goncharova</dc:creator>
  <dc:description/>
  <dc:language>en-US</dc:language>
  <cp:lastModifiedBy>1234567890</cp:lastModifiedBy>
  <dcterms:modified xsi:type="dcterms:W3CDTF">2023-02-01T12:50:19Z</dcterms:modified>
  <cp:revision>8</cp:revision>
  <dc:subject/>
  <dc:title>Слайд 1</dc:title>
</cp:coreProperties>
</file>