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26.png" ContentType="image/png"/>
  <Override PartName="/ppt/media/image1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A180-8A11-4225-ABE5-CD7D9AFD15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A2E1-E9EE-4036-87B9-DC9C63471B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71E9-1536-4DE2-B18D-9A160F37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BF21-DD02-45D1-B425-7F4D2C32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8FD5-4708-44B6-950A-15DC9D12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1D9B-8643-4FC2-840F-4DDAD26D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3762-2E3E-44A7-A408-002054FB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75F1-42BE-412C-8F94-D81C0028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61B0-23A8-425C-849D-3339DA51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8280-E875-4EC5-8E2B-D24D7130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2565-A89B-4A8E-B35E-FD2BC8AF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803F-20E3-45F1-9E6B-A80C9C9A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E428-21A8-4CE8-B239-EB9CFB9B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062-91C5-4D80-8975-63A3CEC4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EBD0-47D7-4BE5-BAC7-F646C038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30E2-EE27-4E0C-ADFD-95E383FC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D86E-E01A-4A09-B4F0-29BF07C0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A7E5-3929-46BD-900A-E1FD52FE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4EFF-9AC7-49AF-95B0-C77A6F035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19A9-C888-4D48-97E0-BF83BB1B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2E71-5A79-43F0-83BD-E20C2C0A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DAD8-91C8-4911-A3B8-62EAE2B3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7C2-E83C-4953-B1A8-67DE0B76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20B3-67A9-452B-A5DA-FB67B70F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A3F0-96D2-4C5C-B7F7-717A321F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2813-D875-4D5F-B9B4-0F0A516F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BB5C-FB1F-4527-9C0A-CF3FCCBDF9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svetofor4pq.gif"/>
          <p:cNvPicPr/>
          <p:nvPr/>
        </p:nvPicPr>
        <p:blipFill>
          <a:blip r:embed="rId3"/>
          <a:stretch/>
        </p:blipFill>
        <p:spPr>
          <a:xfrm>
            <a:off x="184320" y="214200"/>
            <a:ext cx="8799480" cy="642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959C-984A-466E-8DE8-B795399514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hyperlink" Target="http://darislovo.ru/wp-content/uploads/svetofor4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оугольник 4" descr=""/>
          <p:cNvPicPr/>
          <p:nvPr/>
        </p:nvPicPr>
        <p:blipFill>
          <a:blip r:embed="rId1"/>
          <a:stretch/>
        </p:blipFill>
        <p:spPr>
          <a:xfrm>
            <a:off x="2266920" y="2273400"/>
            <a:ext cx="4872240" cy="1963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5669640" y="5950080"/>
            <a:ext cx="299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Подготовила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воспита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Абакарова Г.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2934000" y="91764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игналы свето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3004560" y="1413000"/>
            <a:ext cx="320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имание: глядит в уп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нас трёхглазый светоф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елёный, жёлтый, красный гл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каждому даёт прик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2195640" y="306864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жёлтый свет горит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готовиться вели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еленый нам - идти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м счастливого пути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http://s017.radikal.ru/i408/1112/bf/6ba1eef0271b.gif"/>
          <p:cNvPicPr/>
          <p:nvPr/>
        </p:nvPicPr>
        <p:blipFill>
          <a:blip r:embed="rId1"/>
          <a:stretch/>
        </p:blipFill>
        <p:spPr>
          <a:xfrm>
            <a:off x="1116000" y="1413000"/>
            <a:ext cx="1911240" cy="20397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7" descr="http://anigifmy.ucoz.ru/image003.png"/>
          <p:cNvPicPr/>
          <p:nvPr/>
        </p:nvPicPr>
        <p:blipFill>
          <a:blip r:embed="rId2"/>
          <a:srcRect l="0" t="0" r="69883" b="0"/>
          <a:stretch/>
        </p:blipFill>
        <p:spPr>
          <a:xfrm>
            <a:off x="1547640" y="3789360"/>
            <a:ext cx="924120" cy="220968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8"/>
          <p:cNvSpPr/>
          <p:nvPr/>
        </p:nvSpPr>
        <p:spPr>
          <a:xfrm>
            <a:off x="2195640" y="458136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зажжётся красный, вдруг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ожди немного, друг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ропыгой вредно быть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до жизнью дорожит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9" descr="http://anigifmy.ucoz.ru/image003.png"/>
          <p:cNvPicPr/>
          <p:nvPr/>
        </p:nvPicPr>
        <p:blipFill>
          <a:blip r:embed="rId3"/>
          <a:srcRect l="34789" t="0" r="34472" b="0"/>
          <a:stretch/>
        </p:blipFill>
        <p:spPr>
          <a:xfrm>
            <a:off x="6659640" y="1197000"/>
            <a:ext cx="942840" cy="22096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0" descr="http://anigifmy.ucoz.ru/image003.png"/>
          <p:cNvPicPr/>
          <p:nvPr/>
        </p:nvPicPr>
        <p:blipFill>
          <a:blip r:embed="rId4"/>
          <a:srcRect l="69577" t="0" r="0" b="0"/>
          <a:stretch/>
        </p:blipFill>
        <p:spPr>
          <a:xfrm>
            <a:off x="6732720" y="3645000"/>
            <a:ext cx="933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С днём рождения, Светофор!"/>
          <p:cNvPicPr/>
          <p:nvPr/>
        </p:nvPicPr>
        <p:blipFill>
          <a:blip r:embed="rId1"/>
          <a:srcRect l="0" t="0" r="983" b="1389"/>
          <a:stretch/>
        </p:blipFill>
        <p:spPr>
          <a:xfrm>
            <a:off x="1042920" y="836640"/>
            <a:ext cx="7131240" cy="53290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2" descr="http://anigifmy.ucoz.ru/image003.png"/>
          <p:cNvPicPr/>
          <p:nvPr/>
        </p:nvPicPr>
        <p:blipFill>
          <a:blip r:embed="rId2"/>
          <a:srcRect l="0" t="0" r="69883" b="0"/>
          <a:stretch/>
        </p:blipFill>
        <p:spPr>
          <a:xfrm>
            <a:off x="179280" y="1268280"/>
            <a:ext cx="924120" cy="22100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3" descr="http://anigifmy.ucoz.ru/image003.png"/>
          <p:cNvPicPr/>
          <p:nvPr/>
        </p:nvPicPr>
        <p:blipFill>
          <a:blip r:embed="rId3"/>
          <a:srcRect l="34789" t="0" r="34472" b="0"/>
          <a:stretch/>
        </p:blipFill>
        <p:spPr>
          <a:xfrm>
            <a:off x="7956720" y="2781360"/>
            <a:ext cx="942840" cy="22096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http://anigifmy.ucoz.ru/image003.png"/>
          <p:cNvPicPr/>
          <p:nvPr/>
        </p:nvPicPr>
        <p:blipFill>
          <a:blip r:embed="rId4"/>
          <a:srcRect l="69577" t="0" r="0" b="0"/>
          <a:stretch/>
        </p:blipFill>
        <p:spPr>
          <a:xfrm>
            <a:off x="250920" y="4437000"/>
            <a:ext cx="9334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Как появился светофор?"/>
          <p:cNvPicPr/>
          <p:nvPr/>
        </p:nvPicPr>
        <p:blipFill>
          <a:blip r:embed="rId1"/>
          <a:stretch/>
        </p:blipFill>
        <p:spPr>
          <a:xfrm>
            <a:off x="1042920" y="692280"/>
            <a:ext cx="7197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extBox 1" descr=""/>
          <p:cNvPicPr/>
          <p:nvPr/>
        </p:nvPicPr>
        <p:blipFill>
          <a:blip r:embed="rId1"/>
          <a:stretch/>
        </p:blipFill>
        <p:spPr>
          <a:xfrm>
            <a:off x="2700360" y="676440"/>
            <a:ext cx="3840120" cy="738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" descr="http://darislovo.ru/wp-content/uploads/svetofor3-300x200.jpg"/>
          <p:cNvPicPr/>
          <p:nvPr/>
        </p:nvPicPr>
        <p:blipFill>
          <a:blip r:embed="rId2"/>
          <a:stretch/>
        </p:blipFill>
        <p:spPr>
          <a:xfrm>
            <a:off x="1042920" y="1341360"/>
            <a:ext cx="3313080" cy="2664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http://darislovo.ru/wp-content/uploads/svetofor4-300x20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3429000"/>
            <a:ext cx="3649680" cy="27687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4"/>
          <p:cNvSpPr/>
          <p:nvPr/>
        </p:nvSpPr>
        <p:spPr>
          <a:xfrm>
            <a:off x="4356000" y="1341360"/>
            <a:ext cx="36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Лондо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ит целое светофорное дерево. Это чтобы уж точно никто мимо не прошё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4427640" y="2230920"/>
            <a:ext cx="360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Таиланд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приимчивый бронзовый таиланде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аждой руке держит по светофорч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187280" y="4108680"/>
            <a:ext cx="3168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оссии памятники светофору находя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Новосибирске, Москве и Перми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едний — настоящий раритет, который до сих пор при желании может функционировать, как и в годы своей боевой молод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Прямоугольник 1" descr=""/>
          <p:cNvPicPr/>
          <p:nvPr/>
        </p:nvPicPr>
        <p:blipFill>
          <a:blip r:embed="rId1"/>
          <a:stretch/>
        </p:blipFill>
        <p:spPr>
          <a:xfrm>
            <a:off x="1908000" y="603360"/>
            <a:ext cx="5400720" cy="1103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Названы самые странные и необычные светофоры в мире. Фото - фото 1"/>
          <p:cNvPicPr/>
          <p:nvPr/>
        </p:nvPicPr>
        <p:blipFill>
          <a:blip r:embed="rId2"/>
          <a:srcRect l="26886" t="0" r="21040" b="0"/>
          <a:stretch/>
        </p:blipFill>
        <p:spPr>
          <a:xfrm>
            <a:off x="1042920" y="1484280"/>
            <a:ext cx="1728720" cy="2801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49" name="Прямоугольник 3"/>
          <p:cNvSpPr/>
          <p:nvPr/>
        </p:nvSpPr>
        <p:spPr>
          <a:xfrm>
            <a:off x="1042920" y="4437000"/>
            <a:ext cx="172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Himalaya"/>
              </a:rPr>
              <a:t>Этот светофор дарит  улыбки жителям британского Кембриджа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1) Крольчонок Miffy - Утрехт, Нидерланды."/>
          <p:cNvPicPr/>
          <p:nvPr/>
        </p:nvPicPr>
        <p:blipFill>
          <a:blip r:embed="rId3"/>
          <a:stretch/>
        </p:blipFill>
        <p:spPr>
          <a:xfrm>
            <a:off x="2987640" y="1484280"/>
            <a:ext cx="1541520" cy="278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51" name="Прямоугольник 5"/>
          <p:cNvSpPr/>
          <p:nvPr/>
        </p:nvSpPr>
        <p:spPr>
          <a:xfrm>
            <a:off x="2916360" y="4508640"/>
            <a:ext cx="158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рольчонок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iffy 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трехт, Нидерлан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2) Космические захватчики - Париж, Франция. "/>
          <p:cNvPicPr/>
          <p:nvPr/>
        </p:nvPicPr>
        <p:blipFill>
          <a:blip r:embed="rId4"/>
          <a:srcRect l="27002" t="0" r="41682" b="0"/>
          <a:stretch/>
        </p:blipFill>
        <p:spPr>
          <a:xfrm>
            <a:off x="4749840" y="1484280"/>
            <a:ext cx="1498680" cy="2808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53" name="Прямоугольник 7"/>
          <p:cNvSpPr/>
          <p:nvPr/>
        </p:nvSpPr>
        <p:spPr>
          <a:xfrm>
            <a:off x="4788000" y="4653000"/>
            <a:ext cx="142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смические захватчики - Париж, Фран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3 ) Ганс Христиан Андерсен - Оденсе, Дания."/>
          <p:cNvPicPr/>
          <p:nvPr/>
        </p:nvPicPr>
        <p:blipFill>
          <a:blip r:embed="rId5"/>
          <a:stretch/>
        </p:blipFill>
        <p:spPr>
          <a:xfrm>
            <a:off x="6516720" y="1557360"/>
            <a:ext cx="1589040" cy="2668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55" name="Прямоугольник 9"/>
          <p:cNvSpPr/>
          <p:nvPr/>
        </p:nvSpPr>
        <p:spPr>
          <a:xfrm>
            <a:off x="6588000" y="4581360"/>
            <a:ext cx="158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анс Христиан Андерсен - Оденсе, Д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4)| Сердце - Копенгаген, Дания."/>
          <p:cNvPicPr/>
          <p:nvPr/>
        </p:nvPicPr>
        <p:blipFill>
          <a:blip r:embed="rId1"/>
          <a:srcRect l="41040" t="0" r="14681" b="0"/>
          <a:stretch/>
        </p:blipFill>
        <p:spPr>
          <a:xfrm>
            <a:off x="1187280" y="692280"/>
            <a:ext cx="1843200" cy="310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7" name="Прямоугольник 2"/>
          <p:cNvSpPr/>
          <p:nvPr/>
        </p:nvSpPr>
        <p:spPr>
          <a:xfrm>
            <a:off x="1332000" y="4076640"/>
            <a:ext cx="148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ердце - Копенгаген Д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5) Виртуальная стена - Япония."/>
          <p:cNvPicPr/>
          <p:nvPr/>
        </p:nvPicPr>
        <p:blipFill>
          <a:blip r:embed="rId2"/>
          <a:srcRect l="8722" t="10800" r="17134" b="50324"/>
          <a:stretch/>
        </p:blipFill>
        <p:spPr>
          <a:xfrm>
            <a:off x="3419640" y="1125360"/>
            <a:ext cx="2958840" cy="20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9" name="Прямоугольник 4"/>
          <p:cNvSpPr/>
          <p:nvPr/>
        </p:nvSpPr>
        <p:spPr>
          <a:xfrm>
            <a:off x="3645360" y="3284640"/>
            <a:ext cx="241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иртуальная сте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лазерный светофор)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Япо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8) Смайлик - Рейкьявик."/>
          <p:cNvPicPr/>
          <p:nvPr/>
        </p:nvPicPr>
        <p:blipFill>
          <a:blip r:embed="rId3"/>
          <a:srcRect l="38880" t="0" r="12521" b="0"/>
          <a:stretch/>
        </p:blipFill>
        <p:spPr>
          <a:xfrm>
            <a:off x="6516720" y="907920"/>
            <a:ext cx="1654200" cy="255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1" name="Прямоугольник 6"/>
          <p:cNvSpPr/>
          <p:nvPr/>
        </p:nvSpPr>
        <p:spPr>
          <a:xfrm>
            <a:off x="6516720" y="364500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майлик - Рейкьяв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http://autopeople.ru/images/post/32/5432/1.jpg"/>
          <p:cNvPicPr/>
          <p:nvPr/>
        </p:nvPicPr>
        <p:blipFill>
          <a:blip r:embed="rId4"/>
          <a:stretch/>
        </p:blipFill>
        <p:spPr>
          <a:xfrm>
            <a:off x="3635280" y="4149720"/>
            <a:ext cx="2481480" cy="1569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3" name="Прямоугольник 8"/>
          <p:cNvSpPr/>
          <p:nvPr/>
        </p:nvSpPr>
        <p:spPr>
          <a:xfrm>
            <a:off x="3717000" y="5732640"/>
            <a:ext cx="23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Женский» светофор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Описание: Веселые светофоры - светофоры для наездников"/>
          <p:cNvPicPr/>
          <p:nvPr/>
        </p:nvPicPr>
        <p:blipFill>
          <a:blip r:embed="rId1"/>
          <a:srcRect l="28070" t="16473" r="28070" b="0"/>
          <a:stretch/>
        </p:blipFill>
        <p:spPr>
          <a:xfrm>
            <a:off x="1187280" y="692280"/>
            <a:ext cx="1524240" cy="2782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65" name="Прямоугольник 2"/>
          <p:cNvSpPr/>
          <p:nvPr/>
        </p:nvSpPr>
        <p:spPr>
          <a:xfrm>
            <a:off x="1116000" y="3573360"/>
            <a:ext cx="158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ветофор для наездников и их лошадей -Лонд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350451"/>
          <p:cNvPicPr/>
          <p:nvPr/>
        </p:nvPicPr>
        <p:blipFill>
          <a:blip r:embed="rId2"/>
          <a:stretch/>
        </p:blipFill>
        <p:spPr>
          <a:xfrm>
            <a:off x="3132000" y="765000"/>
            <a:ext cx="2087640" cy="2683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67" name="TextBox 5"/>
          <p:cNvSpPr/>
          <p:nvPr/>
        </p:nvSpPr>
        <p:spPr>
          <a:xfrm>
            <a:off x="3642840" y="3716280"/>
            <a:ext cx="10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конки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та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Необычные светофоры"/>
          <p:cNvPicPr/>
          <p:nvPr/>
        </p:nvPicPr>
        <p:blipFill>
          <a:blip r:embed="rId3"/>
          <a:stretch/>
        </p:blipFill>
        <p:spPr>
          <a:xfrm>
            <a:off x="2771640" y="4437000"/>
            <a:ext cx="1513080" cy="1736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69" name="Picture 8" descr="Необычные светофоры"/>
          <p:cNvPicPr/>
          <p:nvPr/>
        </p:nvPicPr>
        <p:blipFill>
          <a:blip r:embed="rId4"/>
          <a:srcRect l="38772" t="6788" r="7546" b="0"/>
          <a:stretch/>
        </p:blipFill>
        <p:spPr>
          <a:xfrm>
            <a:off x="7020000" y="3573360"/>
            <a:ext cx="1139760" cy="2605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70" name="Picture 10" descr="Необычные светофоры"/>
          <p:cNvPicPr/>
          <p:nvPr/>
        </p:nvPicPr>
        <p:blipFill>
          <a:blip r:embed="rId5"/>
          <a:stretch/>
        </p:blipFill>
        <p:spPr>
          <a:xfrm>
            <a:off x="4932360" y="4221000"/>
            <a:ext cx="1511280" cy="2016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71" name="Picture 12" descr="Необычные светофоры"/>
          <p:cNvPicPr/>
          <p:nvPr/>
        </p:nvPicPr>
        <p:blipFill>
          <a:blip r:embed="rId6"/>
          <a:stretch/>
        </p:blipFill>
        <p:spPr>
          <a:xfrm>
            <a:off x="5724360" y="692280"/>
            <a:ext cx="2160720" cy="2684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72" name="Picture 14" descr="http://s0.tchkcdn.com/82deb188e2716a9b150efb2f16e1daec/man/g2/c/390x0/w/0/1/5/5/2/12552/d67ca2a404eca5072321edec6846de2e_traffic_lights_8_rumodel.org_.jpg"/>
          <p:cNvPicPr/>
          <p:nvPr/>
        </p:nvPicPr>
        <p:blipFill>
          <a:blip r:embed="rId7"/>
          <a:srcRect l="0" t="0" r="57360" b="0"/>
          <a:stretch/>
        </p:blipFill>
        <p:spPr>
          <a:xfrm>
            <a:off x="1258920" y="4653000"/>
            <a:ext cx="1009440" cy="1557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1"/>
          <p:cNvSpPr/>
          <p:nvPr/>
        </p:nvSpPr>
        <p:spPr>
          <a:xfrm>
            <a:off x="2195640" y="37893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пора ребята прощатьс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вой пост возвращать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вам еще приду опя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правила помочь вам изучать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ребята не шалит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рожные правила лучше учите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свиданья говорю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х ребят благодар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http://kvadrat-ugra.ru/uploads/posts/2013-09/1378449055_svetofor.jpg"/>
          <p:cNvPicPr/>
          <p:nvPr/>
        </p:nvPicPr>
        <p:blipFill>
          <a:blip r:embed="rId1"/>
          <a:stretch/>
        </p:blipFill>
        <p:spPr>
          <a:xfrm>
            <a:off x="1116000" y="907920"/>
            <a:ext cx="2940120" cy="2490840"/>
          </a:xfrm>
          <a:prstGeom prst="rect">
            <a:avLst/>
          </a:prstGeom>
          <a:ln w="0">
            <a:noFill/>
          </a:ln>
        </p:spPr>
      </p:pic>
      <p:sp>
        <p:nvSpPr>
          <p:cNvPr id="175" name="WordArt 5"/>
          <p:cNvSpPr txBox="1"/>
          <p:nvPr/>
        </p:nvSpPr>
        <p:spPr>
          <a:xfrm>
            <a:off x="4356000" y="1197000"/>
            <a:ext cx="3456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28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solidFill>
                  <a:srgbClr val="ff3300"/>
                </a:soli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solidFill>
                <a:srgbClr val="ff3300"/>
              </a:soli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solidFill>
                  <a:srgbClr val="ff3300"/>
                </a:soli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solidFill>
                <a:srgbClr val="ff3300"/>
              </a:soli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solidFill>
                  <a:srgbClr val="ff3300"/>
                </a:soli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solidFill>
                <a:srgbClr val="ff3300"/>
              </a:soli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2195640" y="112536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1476360" y="1197000"/>
            <a:ext cx="2789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трёхглазый молодец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чего же он хитрец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то откуда ни поеде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мигнёт и тем, и эти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ет, как уладить спор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ноцветный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http://zlatschool45.ucoz.ru/pdd/72039451_j291158_1295616903.gif"/>
          <p:cNvPicPr/>
          <p:nvPr/>
        </p:nvPicPr>
        <p:blipFill>
          <a:blip r:embed="rId1"/>
          <a:stretch/>
        </p:blipFill>
        <p:spPr>
          <a:xfrm>
            <a:off x="4643280" y="1052640"/>
            <a:ext cx="3510000" cy="4852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://operz.net/uploads/posts/2013-04/thumbs/1365520437_1360734233_417409955.gif"/>
          <p:cNvPicPr/>
          <p:nvPr/>
        </p:nvPicPr>
        <p:blipFill>
          <a:blip r:embed="rId2"/>
          <a:srcRect l="7559" t="0" r="23143" b="0"/>
          <a:stretch/>
        </p:blipFill>
        <p:spPr>
          <a:xfrm>
            <a:off x="1116000" y="3429000"/>
            <a:ext cx="3960720" cy="26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1116000" y="1557360"/>
            <a:ext cx="329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ешь правила движен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начит, ты мой верный друг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о двоих нас малова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 меня девиз так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ужно, чтобы все ребя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тали дружными со мн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http://img0.liveinternet.ru/images/attach/c/8/99/850/99850242_large_01.jpg"/>
          <p:cNvPicPr/>
          <p:nvPr/>
        </p:nvPicPr>
        <p:blipFill>
          <a:blip r:embed="rId1"/>
          <a:srcRect l="0" t="0" r="0" b="9695"/>
          <a:stretch/>
        </p:blipFill>
        <p:spPr>
          <a:xfrm>
            <a:off x="4427640" y="692280"/>
            <a:ext cx="3752640" cy="4176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8" name="Picture 6" descr="http://kvadrat-ugra.ru/uploads/posts/2013-09/1378449055_svetofor.jpg"/>
          <p:cNvPicPr/>
          <p:nvPr/>
        </p:nvPicPr>
        <p:blipFill>
          <a:blip r:embed="rId2"/>
          <a:stretch/>
        </p:blipFill>
        <p:spPr>
          <a:xfrm>
            <a:off x="1116000" y="3645000"/>
            <a:ext cx="2940120" cy="2489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6"/>
          <p:cNvSpPr/>
          <p:nvPr/>
        </p:nvSpPr>
        <p:spPr>
          <a:xfrm>
            <a:off x="4723920" y="5013360"/>
            <a:ext cx="3053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кажу я вам, ребят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появился я когда-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стал помощником люд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 пешеходов и водите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3924360" y="1628640"/>
            <a:ext cx="44179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дут пешеходы в костюмах старинны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там, где идти им положен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доль стен тротуары проложе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пыта стучат по старинным камня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сь транспорт ещё – лошади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кучер старинный старинным кон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каз выкликает старинны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 «но-о-о говорит, то другое что-либ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транспорт идет, или транспорт сто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ть слушался он без ошиб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двигался транспорт не шибк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ую дорогу любой пешеход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йдя с тротуара, легко перейде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были в ту давнюю по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щё ни к чему светофо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www.magput.ru/pics/large/30970.jpg"/>
          <p:cNvPicPr/>
          <p:nvPr/>
        </p:nvPicPr>
        <p:blipFill>
          <a:blip r:embed="rId1"/>
          <a:srcRect l="0" t="0" r="0" b="6545"/>
          <a:stretch/>
        </p:blipFill>
        <p:spPr>
          <a:xfrm>
            <a:off x="1116000" y="1006560"/>
            <a:ext cx="3024360" cy="2003400"/>
          </a:xfrm>
          <a:prstGeom prst="rect">
            <a:avLst/>
          </a:prstGeom>
          <a:ln cap="sq" w="38160">
            <a:solidFill>
              <a:srgbClr val="0000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2" name="Picture 4" descr="https://encrypted-tbn1.gstatic.com/images?q=tbn:ANd9GcRPmNRO3Tu9yZhtbK_xS_KlVLsV6qI3CZsEpRuIhjfWIJIEM_K9"/>
          <p:cNvPicPr/>
          <p:nvPr/>
        </p:nvPicPr>
        <p:blipFill>
          <a:blip r:embed="rId2"/>
          <a:stretch/>
        </p:blipFill>
        <p:spPr>
          <a:xfrm>
            <a:off x="1403280" y="3429000"/>
            <a:ext cx="2376720" cy="2540160"/>
          </a:xfrm>
          <a:prstGeom prst="rect">
            <a:avLst/>
          </a:prstGeom>
          <a:ln cap="sq" w="38160">
            <a:solidFill>
              <a:srgbClr val="0000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3995640" y="3945600"/>
            <a:ext cx="4392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о как-т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 транспортом конным вдогон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рельсам проехала первая конка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сто пассажиров с поклаж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хали в том экипаж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ом пожалели трудяг-лошад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кто-то придумал трамвай для люд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ни зафырчали, по улицам мча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бус, троллейбус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мвай и такс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вся мостовая спешит – колеси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http://ekabu3.unistoreserve.ru/5437abe4f7c0794da42b1ccc"/>
          <p:cNvPicPr/>
          <p:nvPr/>
        </p:nvPicPr>
        <p:blipFill>
          <a:blip r:embed="rId1"/>
          <a:stretch/>
        </p:blipFill>
        <p:spPr>
          <a:xfrm>
            <a:off x="1116000" y="4149720"/>
            <a:ext cx="2867040" cy="1967040"/>
          </a:xfrm>
          <a:prstGeom prst="rect">
            <a:avLst/>
          </a:prstGeom>
          <a:ln cap="sq" w="38160">
            <a:solidFill>
              <a:srgbClr val="0000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5" name="Picture 5" descr="http://uincar.ru/files/images/article/pages/52-1412245182-michelin-sdelali-shiny-na-100-tysyach-km.jpg"/>
          <p:cNvPicPr/>
          <p:nvPr/>
        </p:nvPicPr>
        <p:blipFill>
          <a:blip r:embed="rId2"/>
          <a:stretch/>
        </p:blipFill>
        <p:spPr>
          <a:xfrm>
            <a:off x="1619280" y="692280"/>
            <a:ext cx="6064200" cy="3116160"/>
          </a:xfrm>
          <a:prstGeom prst="rect">
            <a:avLst/>
          </a:prstGeom>
          <a:ln cap="sq" w="38160">
            <a:solidFill>
              <a:srgbClr val="0000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1042920" y="790920"/>
            <a:ext cx="4033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ойти с тротуара всем страшн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 как же, скажите, проспект перей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 может, быть очередь тут завес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 может, кому-нибудь нам поруч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ней справедливо и строго следи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у же поручим мы этот дозор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от тут-то на помощь пришёл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етофор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http://shkolazhizni.ru/img/content/i66/66654.gif"/>
          <p:cNvPicPr/>
          <p:nvPr/>
        </p:nvPicPr>
        <p:blipFill>
          <a:blip r:embed="rId1"/>
          <a:stretch/>
        </p:blipFill>
        <p:spPr>
          <a:xfrm>
            <a:off x="5076720" y="836640"/>
            <a:ext cx="3030480" cy="1800360"/>
          </a:xfrm>
          <a:prstGeom prst="rect">
            <a:avLst/>
          </a:prstGeom>
          <a:ln cap="sq" w="38160">
            <a:solidFill>
              <a:srgbClr val="0000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8" name="Прямоугольник 3"/>
          <p:cNvSpPr/>
          <p:nvPr/>
        </p:nvSpPr>
        <p:spPr>
          <a:xfrm>
            <a:off x="3635280" y="2924280"/>
            <a:ext cx="4572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ый светофор появился 10 декабря 1868 года в Лондоне. Это были два семафорных крыла, которые управлялись вручную. Поднятые горизонтально, они означали сигнал «стоп». А опущенные под углом в 45 градусов — движение с осторожностью. В тёмное время суток использовался вращающийся газовый фонарь, с помощью которого подавались соответственно сигналы красного и зелёного цветов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этот светофор проработал около года. Потому что газовый фонарь взорвался, ранив полицейского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Первый светофор. 1868 год. Лондон. Источник фото: jalopnik.com"/>
          <p:cNvPicPr/>
          <p:nvPr/>
        </p:nvPicPr>
        <p:blipFill>
          <a:blip r:embed="rId2"/>
          <a:stretch/>
        </p:blipFill>
        <p:spPr>
          <a:xfrm>
            <a:off x="1332000" y="2997360"/>
            <a:ext cx="208764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1116000" y="4581360"/>
            <a:ext cx="482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тье желтое стекло добавили в 1920 году там же в Америке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ез два года такие светофоры были установлены в Париже и в Гамбург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через семь лет в Англии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svetofor2.jpg"/>
          <p:cNvPicPr/>
          <p:nvPr/>
        </p:nvPicPr>
        <p:blipFill>
          <a:blip r:embed="rId1"/>
          <a:stretch/>
        </p:blipFill>
        <p:spPr>
          <a:xfrm>
            <a:off x="1116000" y="620640"/>
            <a:ext cx="3146400" cy="417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img11.nnm.me/7/1/b/f/c/27dfebca618bba91b0a8d76af10.jpg"/>
          <p:cNvPicPr/>
          <p:nvPr/>
        </p:nvPicPr>
        <p:blipFill>
          <a:blip r:embed="rId2"/>
          <a:stretch/>
        </p:blipFill>
        <p:spPr>
          <a:xfrm>
            <a:off x="6012000" y="2146320"/>
            <a:ext cx="2160360" cy="41274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4"/>
          <p:cNvSpPr/>
          <p:nvPr/>
        </p:nvSpPr>
        <p:spPr>
          <a:xfrm>
            <a:off x="4284720" y="907920"/>
            <a:ext cx="381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ый электрический светофор с двумя круглыми электрическими сигналами (красного и зелёного цвета) появился в 1912 году в США в штате Юта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1116000" y="9810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ашей стране первый светофор установили зимой 1930 года в Ленинграде и в Москве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2268360" y="522936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ереводе с греческого языка светофор — «носитель света». Он регулирует движение с помощью световых сигн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first traffic light moscow"/>
          <p:cNvPicPr/>
          <p:nvPr/>
        </p:nvPicPr>
        <p:blipFill>
          <a:blip r:embed="rId1"/>
          <a:stretch/>
        </p:blipFill>
        <p:spPr>
          <a:xfrm>
            <a:off x="1042920" y="1916280"/>
            <a:ext cx="2297160" cy="31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7" name="Picture 4" descr="first traffic light moscow2"/>
          <p:cNvPicPr/>
          <p:nvPr/>
        </p:nvPicPr>
        <p:blipFill>
          <a:blip r:embed="rId2"/>
          <a:stretch/>
        </p:blipFill>
        <p:spPr>
          <a:xfrm>
            <a:off x="3497400" y="2349360"/>
            <a:ext cx="4530600" cy="24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8" name="Прямоугольник 5"/>
          <p:cNvSpPr/>
          <p:nvPr/>
        </p:nvSpPr>
        <p:spPr>
          <a:xfrm>
            <a:off x="3564000" y="170028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тьим городом России, где начал работать светофор, стал Ростов-на-Дон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2779560" y="7650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иды светоф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"/>
          <p:cNvSpPr/>
          <p:nvPr/>
        </p:nvSpPr>
        <p:spPr>
          <a:xfrm>
            <a:off x="4788000" y="2781360"/>
            <a:ext cx="351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шеходам для начал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жно знать лишь два сигнал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ый стой! – спокойно жд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зеленый – проход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1116000" y="2637000"/>
            <a:ext cx="336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цвета есть у светофор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понятны для шофер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ый свет – проезда н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тый – будь готов к пу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зеленый свет – ка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2843280" y="126828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 по улицам гул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жно правила нам зн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пройти дорогу ско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игналу светоф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http://images.vector-images.com/clp3/213035/clp1300531.jpg"/>
          <p:cNvPicPr/>
          <p:nvPr/>
        </p:nvPicPr>
        <p:blipFill>
          <a:blip r:embed="rId1"/>
          <a:srcRect l="12667" t="15167" r="11833" b="14333"/>
          <a:stretch/>
        </p:blipFill>
        <p:spPr>
          <a:xfrm>
            <a:off x="5867280" y="692280"/>
            <a:ext cx="2160720" cy="201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logoped18.ru/logopedist/semshchikova-tatyana/sensoriki-03.gif"/>
          <p:cNvPicPr/>
          <p:nvPr/>
        </p:nvPicPr>
        <p:blipFill>
          <a:blip r:embed="rId2"/>
          <a:stretch/>
        </p:blipFill>
        <p:spPr>
          <a:xfrm>
            <a:off x="971640" y="765000"/>
            <a:ext cx="1842840" cy="1798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http://cargofon.ru/wp-content/uploads/2013/08/semafor.jpg"/>
          <p:cNvPicPr/>
          <p:nvPr/>
        </p:nvPicPr>
        <p:blipFill>
          <a:blip r:embed="rId3"/>
          <a:srcRect l="20232" t="0" r="2511" b="0"/>
          <a:stretch/>
        </p:blipFill>
        <p:spPr>
          <a:xfrm>
            <a:off x="1332000" y="4221000"/>
            <a:ext cx="2519280" cy="1992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27" name="Picture 12" descr="http://scbist.com/zheldor/okzd_images/okzd_16_2.jpg"/>
          <p:cNvPicPr/>
          <p:nvPr/>
        </p:nvPicPr>
        <p:blipFill>
          <a:blip r:embed="rId4"/>
          <a:srcRect l="35440" t="6749" r="0" b="0"/>
          <a:stretch/>
        </p:blipFill>
        <p:spPr>
          <a:xfrm>
            <a:off x="6156360" y="4076640"/>
            <a:ext cx="2016000" cy="2184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15:55:50Z</dcterms:created>
  <dc:creator>Admin</dc:creator>
  <dc:description/>
  <dc:language>en-US</dc:language>
  <cp:lastModifiedBy>User</cp:lastModifiedBy>
  <dcterms:modified xsi:type="dcterms:W3CDTF">2023-02-01T11:02:25Z</dcterms:modified>
  <cp:revision>7</cp:revision>
  <dc:subject/>
  <dc:title>Слайд 1</dc:title>
</cp:coreProperties>
</file>