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8880" y="812880"/>
            <a:ext cx="71197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CAE15-8835-4486-B6B1-AD809EE944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37775-FC05-40A4-9751-BD6C5AC8E4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BBDD4-1B90-4BAA-8A64-23CB38CB7C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6DF8F-3DC1-4555-AC9E-425FF13B5B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CBD-667D-4E28-9EB2-AB9AE3FE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6A1-5780-4501-9C98-1289694B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1B3-801E-43F1-9484-B8F3270F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B2A-B344-457B-BEEA-E85A833D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D0AB-6983-4ED3-9533-431E6F9F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04A-8B28-4885-8B85-2E1C943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4882-61B5-4317-B1C7-FEC07BD5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BA40-BFAD-4EBF-B617-4311DE9F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57B5-94BA-4D9C-A263-228E6699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E18C-B6EB-4904-A944-E639F20A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D4A4-3BF1-4CC3-A0B9-D3D18DB1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462-6212-47FD-8B87-4FAA34E1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936B-0AA7-4361-B9FC-06B84E51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7F07-3750-4719-955D-F3AFA20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D23A-F264-48DB-A21D-688FD0F5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C6E7-03C3-42B7-AA20-B989DF14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B5C5-2FCD-44F3-AFE5-0A82DD3F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1BAB-2706-4793-94DF-AC4B5DA6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0431-B518-416B-9031-D6E76B0A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352F-668F-44F2-8F6D-3E1217A2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A11D-72E9-49A4-A779-5FCBB9C3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948D-2273-44EA-9198-0ACCA096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A3A-BF9E-4090-83B7-5DEF3BA5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718A-E752-4BE3-B122-6E36A52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A7A1-E13D-4193-916B-0F951CEF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AD73-5EAA-4A95-99FB-2D25451F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F109-28C0-4321-BE1B-F694FAF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0C4E-DA4B-4FFA-882D-5AB7002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A899-211C-4FD1-9293-36844977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A3CB-2E33-4F52-99DE-7460F65D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0986-5080-47DE-AA39-9069CB6C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0FF5-7DD1-4DC9-BE0B-E7D5486D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B7F2-A2D9-41A1-A71F-FFA33EB8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59E-8ADC-483C-93FF-2BBC10A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264B-3F24-49AA-8111-7B8296A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9B75-CDB6-40EC-B7D4-818989CD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FBE8-A371-4D3C-88DC-D5284724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8A3E-164A-4955-857D-444DEF6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0735-C6D2-4A35-A309-55E7EFA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F9F4-8160-4034-85A4-85787F6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B174F-EF37-401E-AB07-322026A7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49D2-00F1-4C81-B9DF-63ADF7CB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6807-B657-4B0F-9C70-A7791118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C2CAF-4F69-4E64-95F1-9C4EF0E6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FA0-1423-4975-892B-F58BF973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5B58-1F43-48A0-8313-62A3070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3EF4-DBFF-4C84-A1E4-93C4D769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F740-81D3-4B9D-A440-4319B0FD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9B5F1-2115-486C-98FD-75852D6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78C07-29C2-4C6E-9DD7-9B5E637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A3EA8-11AC-4756-9A58-85BC7D46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8B2D2-8F66-4F9D-9940-C76E2CE7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8919-D2D9-492C-ABE5-8DE80585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3AB65-80FA-4518-B69A-5301F49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1580-B3C7-4A9A-BFE9-E083AF91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399-90EB-4AE2-9D03-68D1E460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0D94E-02B4-4FFB-8C16-CF1B2F72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847BA-0EA8-44F0-908A-4151360C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AF1B-4B52-4E32-BCA1-43C105C6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3ACF-C273-4354-A9BA-09D249DA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31A81-2D51-4A87-96F6-C1CDDD47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2A292-1FBD-489B-AB56-266295B8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4A83C-0519-4D72-B7EA-05A267D1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398D5-7877-46E6-8679-D3048503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1CB8-F9A6-4175-A2C9-C899975E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8F87-185F-4E7D-8CAE-E5FFEFF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892-06D3-490E-96D9-04559A4F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F44A-D4DC-40D5-8C3E-61EBB98E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906C-E51D-46FD-9F60-314F8785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0C4E0-646E-4339-AC22-D31101AF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AE19F-CECF-4A9E-BCDE-0AD49BE0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9524E-D405-4F91-A754-2290644B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6088-1B09-490E-96E9-5FF48BBB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F1207-BF8B-4EC2-B89E-C51EB9D3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335B-401C-4511-85FE-85BEBD94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F23E-1758-4BFC-A82D-27AC85CB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8E83A-2261-44A4-AAD0-DF6E5A5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C4A-976F-42DA-8C76-D93E16E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E25D-BD5F-4E78-A475-0C4B1A8D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D63F9-269E-494A-8CED-20818BC7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896FB-8BA9-42C1-8FA7-D117D097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B2607-5763-412A-AE72-EF2C5C1B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7E9A-6A1B-458D-991B-204CA722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5558C-BE6F-4F5E-AB54-BCE8F733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E8D0C-339D-4A9C-B574-8C74DAA9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28C65-DD8D-47EF-ADD3-66FBA84C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C83D9-BD3E-46F1-9A96-CFD2997B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404FC-9883-4F1E-9602-2487C3A9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5E5-3203-4D80-A3AB-E0894C5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E858E-F2D9-41CD-964D-91604D06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61B2D-850C-4782-BA38-2BF9A216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3E0EB-C1BF-4858-A9B1-E2843B3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04729-C97D-46BB-A8D8-AD1B4FCB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9F0D4-BE80-41D4-A55A-802BFEA6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77EF7-C1C5-446D-AE7B-28520E45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ADFC4-8C09-4374-9DC4-95AC2B2F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288CD-736F-4898-A7FA-130AA0F406FF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385596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4680" y="4095720"/>
            <a:ext cx="10085400" cy="1581120"/>
            <a:chOff x="-4680" y="4095720"/>
            <a:chExt cx="10085400" cy="1581120"/>
          </a:xfrm>
        </p:grpSpPr>
        <p:sp>
          <p:nvSpPr>
            <p:cNvPr id="49" name="Полилиния 16"/>
            <p:cNvSpPr/>
            <p:nvPr/>
          </p:nvSpPr>
          <p:spPr>
            <a:xfrm>
              <a:off x="1865160" y="4095720"/>
              <a:ext cx="8207280" cy="402120"/>
            </a:xfrm>
            <a:custGeom>
              <a:avLst/>
              <a:gdLst>
                <a:gd name="textAreaLeft" fmla="*/ 0 w 8207280"/>
                <a:gd name="textAreaRight" fmla="*/ 8207640 w 820728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4329720"/>
              <a:ext cx="10027080" cy="650520"/>
            </a:xfrm>
            <a:custGeom>
              <a:avLst/>
              <a:gdLst>
                <a:gd name="textAreaLeft" fmla="*/ 0 w 10027080"/>
                <a:gd name="textAreaRight" fmla="*/ 10027440 w 1002708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1080" y="4126680"/>
              <a:ext cx="10079640" cy="1550160"/>
              <a:chOff x="1080" y="4126680"/>
              <a:chExt cx="10079640" cy="15501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126680"/>
                <a:ext cx="10079640" cy="155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41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4680" y="4120560"/>
              <a:ext cx="100796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6648A-F7D2-4312-B7D5-5E4E1E3ECF4B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4008600" y="24843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803760" y="24843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B6E8C-4362-4A09-8851-4C5CBD8BDE17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12566-1298-42DF-B081-30CE4DE545F9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794F3-CE35-42F4-8D0F-D320BC3AB4C3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E9FD0-6A8C-4F65-BEC0-1B65773F635F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C8BF8-AB4A-4056-9830-C3814366B1E0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9551880" y="41241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9345600" y="41241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51A52-B987-4669-B530-8BE09EBBACDB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03280" y="225360"/>
            <a:ext cx="90709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215040" y="71280"/>
            <a:ext cx="335916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554040" y="243000"/>
            <a:ext cx="90201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Современные электронные средства доставки никотина и  ответственность  перед законом за их употребление в учреждении образова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урадалиева А. Г.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 социальный педагог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М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Б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ОУ «СОШ №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» г.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Даг. Огн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5" descr="Купить вейп и электронные сигареты недорого в «СИГАРЕТА.РФ»"/>
          <p:cNvPicPr/>
          <p:nvPr/>
        </p:nvPicPr>
        <p:blipFill>
          <a:blip r:embed="rId1"/>
          <a:stretch/>
        </p:blipFill>
        <p:spPr>
          <a:xfrm>
            <a:off x="647640" y="819000"/>
            <a:ext cx="4105440" cy="187164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1" descr=""/>
          <p:cNvPicPr/>
          <p:nvPr/>
        </p:nvPicPr>
        <p:blipFill>
          <a:blip r:embed="rId2"/>
          <a:stretch/>
        </p:blipFill>
        <p:spPr>
          <a:xfrm>
            <a:off x="500040" y="208080"/>
            <a:ext cx="9082080" cy="6872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6" descr="Система нагревания табака GLO Hyper | отзывы"/>
          <p:cNvPicPr/>
          <p:nvPr/>
        </p:nvPicPr>
        <p:blipFill>
          <a:blip r:embed="rId3"/>
          <a:stretch/>
        </p:blipFill>
        <p:spPr>
          <a:xfrm>
            <a:off x="576360" y="3195720"/>
            <a:ext cx="4343400" cy="2173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7" descr="Купить Электр.однораз.сиг.HQD SUPER Ванильное мороженое 20мг (600 затяжек)  в интернет магазине"/>
          <p:cNvPicPr/>
          <p:nvPr/>
        </p:nvPicPr>
        <p:blipFill>
          <a:blip r:embed="rId4"/>
          <a:stretch/>
        </p:blipFill>
        <p:spPr>
          <a:xfrm>
            <a:off x="5111640" y="1539720"/>
            <a:ext cx="46040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9259920" cy="207792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7" descr="Электронная сигарета плюсы и минусы конструкции, из чего состоит"/>
          <p:cNvPicPr/>
          <p:nvPr/>
        </p:nvPicPr>
        <p:blipFill>
          <a:blip r:embed="rId2"/>
          <a:stretch/>
        </p:blipFill>
        <p:spPr>
          <a:xfrm>
            <a:off x="3887640" y="3267000"/>
            <a:ext cx="4969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480960" y="-55440"/>
            <a:ext cx="9169560" cy="2030400"/>
          </a:xfrm>
          <a:prstGeom prst="rect">
            <a:avLst/>
          </a:prstGeom>
          <a:ln w="0">
            <a:noFill/>
          </a:ln>
        </p:spPr>
      </p:pic>
      <p:pic>
        <p:nvPicPr>
          <p:cNvPr id="387" name="Содержимое 3" descr="Заправки на вейп — купить недорого новое и б/у на IZI"/>
          <p:cNvPicPr/>
          <p:nvPr/>
        </p:nvPicPr>
        <p:blipFill>
          <a:blip r:embed="rId2"/>
          <a:stretch/>
        </p:blipFill>
        <p:spPr>
          <a:xfrm>
            <a:off x="6048360" y="1755720"/>
            <a:ext cx="37450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60160" y="1539360"/>
            <a:ext cx="90882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«я не курю, а парю»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  Всемирная организация здравоохранения и законодательство развитых стран, в том числе России, процесс использования вейпов и электронных сигарет однозначно считает курение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Курить-парить не вредно, так как смесь для заправки электронного устройства безникотинова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14360" y="311040"/>
            <a:ext cx="94489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334800" y="-6480"/>
            <a:ext cx="9479160" cy="14083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15640" y="1321920"/>
            <a:ext cx="799308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Ч.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рушение установленного федеральны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запрета курения табака, потребления никотинсодержащей продукции или использования кальянов на отдельных территориях, в помещениях и на объектах, за исключением случаев, предусмотренных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астью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настоящей статьи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влечет наложение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административного штрафа на граждан в размере от пятисот до одной тысячи пятисот рубл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Ч.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Нарушение установленного федеральны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запрета курения табака, потребления никотинсодержащей продукции или использования кальянов на детских площадках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влечет наложение административного штрафа на граждан в размере от двух тысяч до трех тысяч рублей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Объект 7" descr=""/>
          <p:cNvPicPr/>
          <p:nvPr/>
        </p:nvPicPr>
        <p:blipFill>
          <a:blip r:embed="rId2"/>
          <a:stretch/>
        </p:blipFill>
        <p:spPr>
          <a:xfrm>
            <a:off x="8280360" y="4275000"/>
            <a:ext cx="1800360" cy="13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44000" y="603360"/>
            <a:ext cx="9791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и выявлении фактов употребления учащимися табачных изделий, никотинсодержащей продукции на территории образовательной организации города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 Учащемуся предлагается прекратить совершение правонаруше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 Учащемуся дополнительно разъясняются требования Федерального закона № 15-ФЗ в части запрета употребления табачных изделий, никотинсодержащей продукции на территории образовательных организац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 По данному факту представителем образовательной организации, выявившим нарушение, составляется акт о выявлении фактов употребления учащимися табачных изделий, никотинсодержащей продукции на территории образовательной организации (приложение 1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. Руководителем образовательной организации на основании составленного акта направляется уведомление (приложение 2) в УМВД России по г. Череповцу для принятия мер в соответствии с полномочиями, в комиссию по делам несовершеннолетних и защите их прав города для сведен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64640" y="890280"/>
            <a:ext cx="8883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Lucida Sans Unicode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гдану 17 лет, у него есть вейп, Богдан пришел в школу за младшим братом и хотел закурить  на крыльце школы, но  встретил социального педагога школы, которая  пресекла его попытку. Должен ли в этом случае педагог составлять какие-либо документы или достаточно устного предупреждения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785880" y="-23760"/>
            <a:ext cx="7119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5T17:58:15Z</dcterms:created>
  <dc:creator>user</dc:creator>
  <dc:description/>
  <dc:language>en-US</dc:language>
  <cp:lastModifiedBy>WiZaRd</cp:lastModifiedBy>
  <dcterms:modified xsi:type="dcterms:W3CDTF">2023-02-01T11:07:30Z</dcterms:modified>
  <cp:revision>45</cp:revision>
  <dc:subject/>
  <dc:title>Слайд 1</dc:title>
</cp:coreProperties>
</file>