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8880" y="812880"/>
            <a:ext cx="71197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BF4FE-A49E-4115-952B-4A0274E5DC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1F38B-0100-4AFB-BBE3-4AA039007A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6C9BE-7A02-49D3-94CD-F70C250B14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21DF3-DACC-4583-A3DF-459851E01F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2BE-7CE0-4B9F-8EAE-1C2DCF15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55B-1101-4479-8849-2A29194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168-4ED2-41C8-98A8-5A57F2AE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868-1A05-4D84-95FF-101A378E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EF92-9625-48F2-8672-597ED856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22D6-4053-40B0-9C06-E97B0AD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CEFA-6165-499C-9F12-2F3696D0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9721-782E-49BB-8655-22CAFA8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C581-3AF8-4890-A29D-C9FEA5F8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F45D-5EB5-42BA-ABDA-3C113D4C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1434-78B7-44B4-A505-570ADB56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4C5-FE17-4140-8A21-E0ED80DD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3A3E-934D-4221-B4D8-F85A5CC3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FC3-F41F-48E5-9510-38674CB2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1D0F-6001-4D2A-B709-5DAF0D2D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3FA4-9CD3-436E-9C32-AD4D1EE6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4F0C-C0AC-4764-9610-82A03E10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8082-A0A5-46D2-A1ED-F733A5F8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056E-35FC-452A-B19F-592012A3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D480-33F6-465A-8797-E8D52BC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4E5B-1D87-426B-AE37-A7BB2A2D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206D-502C-4CF3-B877-79A18AF9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5A5-7752-4A2C-B32A-5DB28E0B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94CC-6A7A-4161-BDB1-5EAC3C6A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91F7-E930-43DA-BC94-DCF35439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B6B8-58B1-4C7A-97D3-3CE88C19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23D5-B72B-4455-BDB6-FB70BD8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DFDE-4F86-4B3C-AB4D-507BE53B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624B-5C79-41AA-9598-7B3462A7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E500-7645-41C2-B000-4CCF47EC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B6AF-7ED5-45C4-9DF3-B5953B58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513F-DD62-47BC-8F87-8A6547EC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77F9-CCD0-47FF-B884-D92300A6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5F6-3427-41CB-91BC-FCC91B17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9266-3AF3-42AC-8852-C13280E8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FDCE6-2EC5-4FD2-AEF0-DDB8DAB7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5C93-EA1E-4147-BECC-98254695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24E2-BF0D-46A8-83AF-BFBE3C0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59ADC-940E-484B-BEF5-2DC5D53E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8E7E8-5033-458C-B74F-6D1920B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8643-95FD-416D-841E-CB14BCDA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978B-2A08-4968-B390-E02E34D1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569E9-747F-43CE-B83B-058FEA08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BF2FE-2163-4F75-BCE1-65785FAA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885-BC56-4C65-B122-84F32F9A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31EE-2AC6-4197-8695-26D9642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B594-4529-46B3-A682-8BEC2D01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A5837-E9E0-4532-8829-F6D8DB05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9CC5-E50F-48A4-9AEF-E1A7FC16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D3658-8DE0-4E62-A33F-02DD36D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899E-73AF-458B-A254-95F3EC73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CF32-311E-42BB-BF8B-98EB30F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9934C-EAB8-46D8-ADD4-F728D502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2A5FB-9C2B-4FD6-9054-3BBD1787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A347E-252C-4873-8136-18C900AE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A8B-FA0C-446D-A7DD-424BF588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C64A-96D6-4482-B593-A636DAFF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E0010-5680-4C4C-A7AA-60692BFC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3ED4A-58EF-4C46-AA6A-71C1BE3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2270D-4583-4963-888C-67C3563D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A896-6C74-4090-98D1-82244221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9BBC6-B751-4055-B801-46682E7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78984-1F86-4755-B840-A98B54A0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97AD8-7FA2-4396-80DD-577FF0E7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5ED1F-579E-405E-AE33-D69CB469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9C2B-2576-4ED5-89DA-4424534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ED4-B0E9-44B7-8A27-2E20E7A4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686E-92D3-459B-BA4B-12B2D4D6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1D283-4BBD-4725-B2CE-45F30C1E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A2FA-8E70-4D3A-BB66-399D87EB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CD06F-D398-493C-BE61-1A2E94F8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DB50F-0539-478C-AB3E-8685B8D9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3809E-865C-465F-8FB7-5C092225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EEF7F-2933-4EE6-8F8F-89F6D0B0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4CF8-9FB2-4964-B77F-B8155B73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DFF4-799B-4BE7-81CC-20EB13CA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669B3-1FAF-4A45-86A4-93F0508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498-6231-42CE-B6D0-B550B3D1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942D4-DB09-4A6E-A093-41948A70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759DE-4C17-4F1B-9568-99CB1E1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AEE93-2305-428E-BDD9-8C8BBF2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7C01-8792-43CF-BD9B-B6A3B125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E81EB-C66C-4329-ADFB-E362C1F1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319A9-1F29-433D-82A9-EE521014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FD7BD-9AB3-4995-B6AF-B359AC7A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457CF-F472-453F-AFA3-2F3EF9B6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39B1-148E-41E7-A103-049027EA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E1B4C-7F6E-42A0-98D6-89F259C0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FAF-BD97-434C-B8C4-087D018E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9B939-650A-40C7-ABE7-13E38E8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9CD7D-8EE9-44D6-BAD3-C94329B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3CB5-B9CD-4146-8F78-6F59A44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5552-CD82-4A70-9DFE-EC55433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7A34E-7F9A-4DEB-B252-8D690017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65792-A74D-4C05-A4CB-E498492C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C90C0-CB36-4D4C-B1B2-3E983E9B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286C3-D1FC-4F7D-BB3A-B89369D82A41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385596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4680" y="4095720"/>
            <a:ext cx="10085400" cy="1581120"/>
            <a:chOff x="-4680" y="4095720"/>
            <a:chExt cx="10085400" cy="1581120"/>
          </a:xfrm>
        </p:grpSpPr>
        <p:sp>
          <p:nvSpPr>
            <p:cNvPr id="49" name="Полилиния 16"/>
            <p:cNvSpPr/>
            <p:nvPr/>
          </p:nvSpPr>
          <p:spPr>
            <a:xfrm>
              <a:off x="1865160" y="4095720"/>
              <a:ext cx="8207280" cy="402120"/>
            </a:xfrm>
            <a:custGeom>
              <a:avLst/>
              <a:gdLst>
                <a:gd name="textAreaLeft" fmla="*/ 0 w 8207280"/>
                <a:gd name="textAreaRight" fmla="*/ 8207640 w 820728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4329720"/>
              <a:ext cx="10027080" cy="650520"/>
            </a:xfrm>
            <a:custGeom>
              <a:avLst/>
              <a:gdLst>
                <a:gd name="textAreaLeft" fmla="*/ 0 w 10027080"/>
                <a:gd name="textAreaRight" fmla="*/ 10027440 w 1002708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1080" y="4126680"/>
              <a:ext cx="10079640" cy="1550160"/>
              <a:chOff x="1080" y="4126680"/>
              <a:chExt cx="10079640" cy="15501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126680"/>
                <a:ext cx="10079640" cy="155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41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4680" y="4120560"/>
              <a:ext cx="100796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11991-CAD3-4D62-9EF3-54E29FCB63ED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4008600" y="24843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803760" y="24843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14EC7-8FB3-4717-A22A-A130B05BD4CD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1E300-4D78-4B92-9FFD-7524546ED5EC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3C86A-B1B7-4E9E-AF7C-B930C23CF4A7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79673-CD14-405E-AEE7-3AB969AAE9A5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0A27E-808E-496A-BCCA-2E4DB74B9BB3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9551880" y="41241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9345600" y="41241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A83AC-A2C9-44B2-BD2E-3C1309F7784E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03280" y="225360"/>
            <a:ext cx="90709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215040" y="71280"/>
            <a:ext cx="335916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554040" y="243000"/>
            <a:ext cx="90201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Современные электронные средства доставки никотина и  ответственность  перед законом за их употребление в учреждении образова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урадалиева А. Г.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 социальный педагог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М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Б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ОУ «СОШ №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» г.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Даг. Огн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5" descr="Купить вейп и электронные сигареты недорого в «СИГАРЕТА.РФ»"/>
          <p:cNvPicPr/>
          <p:nvPr/>
        </p:nvPicPr>
        <p:blipFill>
          <a:blip r:embed="rId1"/>
          <a:stretch/>
        </p:blipFill>
        <p:spPr>
          <a:xfrm>
            <a:off x="647640" y="819000"/>
            <a:ext cx="4105440" cy="187164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1" descr=""/>
          <p:cNvPicPr/>
          <p:nvPr/>
        </p:nvPicPr>
        <p:blipFill>
          <a:blip r:embed="rId2"/>
          <a:stretch/>
        </p:blipFill>
        <p:spPr>
          <a:xfrm>
            <a:off x="500040" y="208080"/>
            <a:ext cx="9082080" cy="6872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6" descr="Система нагревания табака GLO Hyper | отзывы"/>
          <p:cNvPicPr/>
          <p:nvPr/>
        </p:nvPicPr>
        <p:blipFill>
          <a:blip r:embed="rId3"/>
          <a:stretch/>
        </p:blipFill>
        <p:spPr>
          <a:xfrm>
            <a:off x="576360" y="3195720"/>
            <a:ext cx="4343400" cy="2173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7" descr="Купить Электр.однораз.сиг.HQD SUPER Ванильное мороженое 20мг (600 затяжек)  в интернет магазине"/>
          <p:cNvPicPr/>
          <p:nvPr/>
        </p:nvPicPr>
        <p:blipFill>
          <a:blip r:embed="rId4"/>
          <a:stretch/>
        </p:blipFill>
        <p:spPr>
          <a:xfrm>
            <a:off x="5111640" y="1539720"/>
            <a:ext cx="46040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9259920" cy="207792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7" descr="Электронная сигарета плюсы и минусы конструкции, из чего состоит"/>
          <p:cNvPicPr/>
          <p:nvPr/>
        </p:nvPicPr>
        <p:blipFill>
          <a:blip r:embed="rId2"/>
          <a:stretch/>
        </p:blipFill>
        <p:spPr>
          <a:xfrm>
            <a:off x="3887640" y="3267000"/>
            <a:ext cx="4969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480960" y="-55440"/>
            <a:ext cx="9169560" cy="2030400"/>
          </a:xfrm>
          <a:prstGeom prst="rect">
            <a:avLst/>
          </a:prstGeom>
          <a:ln w="0">
            <a:noFill/>
          </a:ln>
        </p:spPr>
      </p:pic>
      <p:pic>
        <p:nvPicPr>
          <p:cNvPr id="387" name="Содержимое 3" descr="Заправки на вейп — купить недорого новое и б/у на IZI"/>
          <p:cNvPicPr/>
          <p:nvPr/>
        </p:nvPicPr>
        <p:blipFill>
          <a:blip r:embed="rId2"/>
          <a:stretch/>
        </p:blipFill>
        <p:spPr>
          <a:xfrm>
            <a:off x="6048360" y="1755720"/>
            <a:ext cx="37450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60160" y="1539360"/>
            <a:ext cx="90882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«я не курю, а парю»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  Всемирная организация здравоохранения и законодательство развитых стран, в том числе России, процесс использования вейпов и электронных сигарет однозначно считает курение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Курить-парить не вредно, так как смесь для заправки электронного устройства безникотинова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14360" y="311040"/>
            <a:ext cx="94489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334800" y="-6480"/>
            <a:ext cx="9479160" cy="14083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15640" y="1321920"/>
            <a:ext cx="799308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Ч.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рушение установленного федеральны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запрета курения табака, потребления никотинсодержащей продукции или использования кальянов на отдельных территориях, в помещениях и на объектах, за исключением случаев, предусмотренных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астью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настоящей статьи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влечет наложение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административного штрафа на граждан в размере от пятисот до одной тысячи пятисот рубл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Ч.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Нарушение установленного федеральны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запрета курения табака, потребления никотинсодержащей продукции или использования кальянов на детских площадках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влечет наложение административного штрафа на граждан в размере от двух тысяч до трех тысяч рублей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Объект 7" descr=""/>
          <p:cNvPicPr/>
          <p:nvPr/>
        </p:nvPicPr>
        <p:blipFill>
          <a:blip r:embed="rId2"/>
          <a:stretch/>
        </p:blipFill>
        <p:spPr>
          <a:xfrm>
            <a:off x="8280360" y="4275000"/>
            <a:ext cx="1800360" cy="13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44000" y="603360"/>
            <a:ext cx="9791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и выявлении фактов употребления учащимися табачных изделий, никотинсодержащей продукции на территории образовательной организации города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 Учащемуся предлагается прекратить совершение правонаруше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 Учащемуся дополнительно разъясняются требования Федерального закона № 15-ФЗ в части запрета употребления табачных изделий, никотинсодержащей продукции на территории образовательных организац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 По данному факту представителем образовательной организации, выявившим нарушение, составляется акт о выявлении фактов употребления учащимися табачных изделий, никотинсодержащей продукции на территории образовательной организации (приложение 1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. Руководителем образовательной организации на основании составленного акта направляется уведомление (приложение 2) в УМВД России по г. Череповцу для принятия мер в соответствии с полномочиями, в комиссию по делам несовершеннолетних и защите их прав города для сведен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64640" y="890280"/>
            <a:ext cx="8883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Lucida Sans Unicode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гдану 17 лет, у него есть вейп, Богдан пришел в школу за младшим братом и хотел закурить  на крыльце школы, но  встретил социального педагога школы, которая  пресекла его попытку. Должен ли в этом случае педагог составлять какие-либо документы или достаточно устного предупреждения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785880" y="-23760"/>
            <a:ext cx="7119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5T17:58:15Z</dcterms:created>
  <dc:creator>user</dc:creator>
  <dc:description/>
  <dc:language>en-US</dc:language>
  <cp:lastModifiedBy>WiZaRd</cp:lastModifiedBy>
  <dcterms:modified xsi:type="dcterms:W3CDTF">2023-02-01T11:07:30Z</dcterms:modified>
  <cp:revision>45</cp:revision>
  <dc:subject/>
  <dc:title>Слайд 1</dc:title>
</cp:coreProperties>
</file>