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8880" y="812880"/>
            <a:ext cx="71197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CA750-2770-48C9-BC10-8FBF23B2CB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47D38-192A-4739-B637-02D7F25EE8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F851C-6352-4632-B460-DC39707022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2B28D-DA10-4976-B190-4D6994E359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220-FCDD-4229-A3C9-B284E1DA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097-7253-4E09-9342-3F868D41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158-A190-4777-B8AC-E8AB6FF0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232-87D7-44C6-BD67-CF7C422E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6A69-3B35-469D-B632-CD5B83C2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A5F6-1F52-4413-B8F9-FA3209D7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128-48DA-435E-8547-46D8F61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CAA3-3958-4478-8D12-738AB935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EBB8-D87F-4464-8D89-FBF3143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F964-C996-4E59-A383-D809D23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6089-FD9F-4565-B5D5-AFEB0CA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93E-BD16-401B-BF5C-7F5F409C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9F7A-A157-4F22-9C26-6822E5E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97D1-1586-4527-AF76-0955701F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A4CC-61C6-4EBE-BE14-639165D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AC6E-6128-4D7F-8DB5-ECAB9F6C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2DDC-9C49-49A1-879F-FBA9994A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98A4-AFB2-4066-B2C4-51708191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2F14-0B81-4795-BA44-63DB5C72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0F5B-DA0A-4C51-9860-005F0694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F113-A6EA-4820-A29E-5AECEF44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72B1-14CA-4A01-8428-DE683698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9AA-7953-4716-B533-872E732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880D-794B-40A0-AE8A-F785FB9A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5D7C-33DB-4245-8C49-69DCDFFB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0412-DF78-45AD-A074-975682A2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39855-1B21-4242-8F36-B6A89599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6081-CB64-4337-AB4E-09F5A3AC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735E-FFD3-4BB4-A89C-D17D9FA3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F86C-EDC4-4AD8-8955-242500AD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C146C-91ED-4656-A993-E0E8F5B9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F15B-E3FE-49C7-A38A-BB64C342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3E6B9-E365-4768-967D-79B122F7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35C-C317-418D-BBD4-C6B01C3D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D2647-9218-4CCA-B27C-875C360E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3A4E-31FC-4BFD-9DFA-4D6A4F43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441A-9DFC-4C18-9276-F306212E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DEB2-CB40-4A77-9B23-07F7206B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866F7-AA6B-4C90-B240-DEB0ABF6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A56F-80A9-4BA5-8362-1FEDA7AE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F4EF4-293B-4CB9-949D-E3367E2C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F217-2714-4A80-B4D4-5A4B03FB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4F75-031B-4119-BF0E-1572E55F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A26F-AB9B-4E1D-BA05-2C1D7319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12B-52EC-4B14-8677-4853637B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5D7CA-9B5E-4999-A632-87DED9BE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C7D73-A9CE-4671-A910-F7AC4BA1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24B3-9069-42F8-A79B-346E5806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368DE-B76E-4F9A-9711-9BF1E1BF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F44E-B59F-4BFF-87D5-EA43EA99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E10B5-5027-4319-AC95-BB9E8EAF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EB827-54E1-42C7-96A0-4A8828C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C357A-71BF-4222-83F6-A6E9DC2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5D820-FF17-46E5-9EB5-19659A68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EBAE-2917-414E-A669-9637DBB7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963-4E8D-443C-BC74-77EE7C23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AE4C-1388-4BB4-9993-DB490126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85270-90F8-4C35-B033-F70EECB1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0F24-D582-4F11-A32E-2383C4F1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3BD6C-73D5-4822-9D36-C5D8053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9F42B-1352-4645-AF24-C5DA1738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D6BE2-9B6F-4458-8D9C-F57EC14F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2A1C-E356-40CC-8671-21301CA6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A80D-46DF-4DDB-8C61-9657479A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BD2C1-C825-407F-8D94-806936B4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59DA-609C-4839-A687-07F372BF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E10-2074-4256-9685-2E3C7406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76C6C-F731-48AA-9ACE-E3AFEF62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50F6B-1914-442D-B77F-4677F0E6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1018F-41FA-4C50-A498-26ED6B3A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4AB2E-1F1A-40AD-A505-9E433073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A8AA2-4C90-4BD4-A621-A47FB1DE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43483-F540-466F-92D8-59555E2A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8CF2-B99B-4CF8-867F-9535A082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31B4-6611-4CC1-A961-F3425D3C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41391-B0AB-47B1-8562-6446246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45CC7-C589-45C2-8A67-0C993059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B37-DB9C-45FA-8839-EA396C52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0875E-2D78-468B-B119-F615BAD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1A6C-360F-47AA-A928-43671DD2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3EB5B-1FE5-46BF-8460-1EB89789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7E6A5-5D8C-4242-AA84-4733B3F6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F1857-D676-4E17-99C9-5A94B607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A41B2-E9FA-40F7-97F3-4E688B38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FBB3A-CE83-4074-95FA-3EDCD78E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CA1F8-1B69-41BB-A069-327A11E5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52687-5739-4869-A4F0-A7C849A9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DD4E5-0BEC-4A9B-A804-9BF4982B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291-5374-4E07-A8BB-BA7B6207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3280" y="226800"/>
            <a:ext cx="90741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FCDD-B0A0-4779-AC82-400F6A7D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9658-F79C-4C99-A59C-6628D7F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257D-26CD-474B-80CD-DA4CF926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4AB73-B37B-406B-95E5-87EE65F6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3280" y="3179880"/>
            <a:ext cx="90741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A559C-72BC-456E-9F6F-2D97829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22544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328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3040" y="3179880"/>
            <a:ext cx="44280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442D-02B2-483A-9E1E-5E7F48A9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156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122544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328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156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9840" y="3179880"/>
            <a:ext cx="29217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0BD91-FCFE-488E-A68C-7CE09EE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43DA4-D9FD-4851-BFB3-4E1C461D9192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385596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4680" y="4095720"/>
            <a:ext cx="10085400" cy="1581120"/>
            <a:chOff x="-4680" y="4095720"/>
            <a:chExt cx="10085400" cy="1581120"/>
          </a:xfrm>
        </p:grpSpPr>
        <p:sp>
          <p:nvSpPr>
            <p:cNvPr id="49" name="Полилиния 16"/>
            <p:cNvSpPr/>
            <p:nvPr/>
          </p:nvSpPr>
          <p:spPr>
            <a:xfrm>
              <a:off x="1865160" y="4095720"/>
              <a:ext cx="8207280" cy="402120"/>
            </a:xfrm>
            <a:custGeom>
              <a:avLst/>
              <a:gdLst>
                <a:gd name="textAreaLeft" fmla="*/ 0 w 8207280"/>
                <a:gd name="textAreaRight" fmla="*/ 8207640 w 820728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4329720"/>
              <a:ext cx="10027080" cy="650520"/>
            </a:xfrm>
            <a:custGeom>
              <a:avLst/>
              <a:gdLst>
                <a:gd name="textAreaLeft" fmla="*/ 0 w 10027080"/>
                <a:gd name="textAreaRight" fmla="*/ 10027440 w 10027080"/>
                <a:gd name="textAreaTop" fmla="*/ 0 h 650520"/>
                <a:gd name="textAreaBottom" fmla="*/ 650880 h 6505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1080" y="4126680"/>
              <a:ext cx="10079640" cy="1550160"/>
              <a:chOff x="1080" y="4126680"/>
              <a:chExt cx="10079640" cy="15501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126680"/>
                <a:ext cx="10079640" cy="155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4134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4680" y="4120560"/>
              <a:ext cx="100796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B81EF-BF9D-4B25-9EC6-F175B81EF1A5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4008600" y="24843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803760" y="24843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A7371-DAC1-4DF4-B8B6-487D50A3543A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09637-8100-47B8-B714-1E94101940E7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87E40-9181-4FAB-8070-D59A18A45370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600D6-C3CF-4408-8C0C-9432B494ECE3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26D58-6F6A-40F2-8FF5-40F213FA9BED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50800" y="4915080"/>
            <a:ext cx="5446800" cy="76176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534960" y="4910040"/>
            <a:ext cx="4068720" cy="77328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4784760"/>
            <a:ext cx="3762360" cy="903240"/>
            <a:chOff x="-12600" y="4784760"/>
            <a:chExt cx="3762360" cy="903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4784760"/>
              <a:ext cx="37623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06360" y="5310360"/>
              <a:ext cx="18748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4773600"/>
            <a:ext cx="3768840" cy="92088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9551880" y="41241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9345600" y="412416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80" y="0"/>
                </a:lnTo>
                <a:lnTo>
                  <a:pt x="21600" y="10800"/>
                </a:lnTo>
                <a:lnTo>
                  <a:pt x="11480" y="21600"/>
                </a:lnTo>
                <a:lnTo>
                  <a:pt x="0" y="21600"/>
                </a:lnTo>
                <a:lnTo>
                  <a:pt x="1012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226800"/>
            <a:ext cx="90741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3280" y="1225440"/>
            <a:ext cx="90741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416720" y="5299200"/>
            <a:ext cx="2116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828680" y="5299200"/>
            <a:ext cx="25909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532800" y="5299200"/>
            <a:ext cx="4032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41AE1-D4C7-46B0-8FC5-A6B8C308652C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503280" y="225360"/>
            <a:ext cx="90709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6215040" y="71280"/>
            <a:ext cx="335916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554040" y="243000"/>
            <a:ext cx="90201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Современные электронные средства доставки никотина и  ответственность  перед законом за их употребление в учреждении образова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Мурадалиева А. Г.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 социальный педагог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М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Б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ОУ «СОШ №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Microsoft YaHei"/>
              </a:rPr>
              <a:t>» г.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Даг. Огн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5" descr="Купить вейп и электронные сигареты недорого в «СИГАРЕТА.РФ»"/>
          <p:cNvPicPr/>
          <p:nvPr/>
        </p:nvPicPr>
        <p:blipFill>
          <a:blip r:embed="rId1"/>
          <a:stretch/>
        </p:blipFill>
        <p:spPr>
          <a:xfrm>
            <a:off x="647640" y="819000"/>
            <a:ext cx="4105440" cy="187164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1" descr=""/>
          <p:cNvPicPr/>
          <p:nvPr/>
        </p:nvPicPr>
        <p:blipFill>
          <a:blip r:embed="rId2"/>
          <a:stretch/>
        </p:blipFill>
        <p:spPr>
          <a:xfrm>
            <a:off x="500040" y="208080"/>
            <a:ext cx="9082080" cy="6872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6" descr="Система нагревания табака GLO Hyper | отзывы"/>
          <p:cNvPicPr/>
          <p:nvPr/>
        </p:nvPicPr>
        <p:blipFill>
          <a:blip r:embed="rId3"/>
          <a:stretch/>
        </p:blipFill>
        <p:spPr>
          <a:xfrm>
            <a:off x="576360" y="3195720"/>
            <a:ext cx="4343400" cy="21733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7" descr="Купить Электр.однораз.сиг.HQD SUPER Ванильное мороженое 20мг (600 затяжек)  в интернет магазине"/>
          <p:cNvPicPr/>
          <p:nvPr/>
        </p:nvPicPr>
        <p:blipFill>
          <a:blip r:embed="rId4"/>
          <a:stretch/>
        </p:blipFill>
        <p:spPr>
          <a:xfrm>
            <a:off x="5111640" y="1539720"/>
            <a:ext cx="46040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9259920" cy="207792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7" descr="Электронная сигарета плюсы и минусы конструкции, из чего состоит"/>
          <p:cNvPicPr/>
          <p:nvPr/>
        </p:nvPicPr>
        <p:blipFill>
          <a:blip r:embed="rId2"/>
          <a:stretch/>
        </p:blipFill>
        <p:spPr>
          <a:xfrm>
            <a:off x="3887640" y="3267000"/>
            <a:ext cx="4969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480960" y="-55440"/>
            <a:ext cx="9169560" cy="2030400"/>
          </a:xfrm>
          <a:prstGeom prst="rect">
            <a:avLst/>
          </a:prstGeom>
          <a:ln w="0">
            <a:noFill/>
          </a:ln>
        </p:spPr>
      </p:pic>
      <p:pic>
        <p:nvPicPr>
          <p:cNvPr id="387" name="Содержимое 3" descr="Заправки на вейп — купить недорого новое и б/у на IZI"/>
          <p:cNvPicPr/>
          <p:nvPr/>
        </p:nvPicPr>
        <p:blipFill>
          <a:blip r:embed="rId2"/>
          <a:stretch/>
        </p:blipFill>
        <p:spPr>
          <a:xfrm>
            <a:off x="6048360" y="1755720"/>
            <a:ext cx="37450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560160" y="1539360"/>
            <a:ext cx="90882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«я не курю, а парю»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  Всемирная организация здравоохранения и законодательство развитых стран, в том числе России, процесс использования вейпов и электронных сигарет однозначно считает курение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Курить-парить не вредно, так как смесь для заправки электронного устройства безникотинова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14360" y="311040"/>
            <a:ext cx="94489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334800" y="-6480"/>
            <a:ext cx="9479160" cy="14083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15640" y="1321920"/>
            <a:ext cx="7993080" cy="43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Ч.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рушение установленного федеральны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запрета курения табака, потребления никотинсодержащей продукции или использования кальянов на отдельных территориях, в помещениях и на объектах, за исключением случаев, предусмотренных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астью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настоящей статьи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влечет наложение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административного штрафа на граждан в размере от пятисот до одной тысячи пятисот рубле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buClr>
                <a:srgbClr val="2da2bf"/>
              </a:buClr>
              <a:buSzPct val="68000"/>
              <a:buFont typeface="Wingdings 3" charset="2"/>
              <a:buChar char="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Ч.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Нарушение установленного федеральны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запрета курения табака, потребления никотинсодержащей продукции или использования кальянов на детских площадках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влечет наложение административного штрафа на граждан в размере от двух тысяч до трех тысяч рублей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82600" indent="-28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Объект 7" descr=""/>
          <p:cNvPicPr/>
          <p:nvPr/>
        </p:nvPicPr>
        <p:blipFill>
          <a:blip r:embed="rId2"/>
          <a:stretch/>
        </p:blipFill>
        <p:spPr>
          <a:xfrm>
            <a:off x="8280360" y="4275000"/>
            <a:ext cx="1800360" cy="13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44000" y="603360"/>
            <a:ext cx="9791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и выявлении фактов употребления учащимися табачных изделий, никотинсодержащей продукции на территории образовательной организации города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 Учащемуся предлагается прекратить совершение правонаруше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 Учащемуся дополнительно разъясняются требования Федерального закона № 15-ФЗ в части запрета употребления табачных изделий, никотинсодержащей продукции на территории образовательных организац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 По данному факту представителем образовательной организации, выявившим нарушение, составляется акт о выявлении фактов употребления учащимися табачных изделий, никотинсодержащей продукции на территории образовательной организации (приложение 1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. Руководителем образовательной организации на основании составленного акта направляется уведомление (приложение 2) в УМВД России по г. Череповцу для принятия мер в соответствии с полномочиями, в комиссию по делам несовершеннолетних и защите их прав города для сведен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64640" y="890280"/>
            <a:ext cx="8883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Lucida Sans Unicode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огдану 17 лет, у него есть вейп, Богдан пришел в школу за младшим братом и хотел закурить  на крыльце школы, но  встретил социального педагога школы, которая  пресекла его попытку. Должен ли в этом случае педагог составлять какие-либо документы или достаточно устного предупреждения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785880" y="-23760"/>
            <a:ext cx="7119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5T17:58:15Z</dcterms:created>
  <dc:creator>user</dc:creator>
  <dc:description/>
  <dc:language>en-US</dc:language>
  <cp:lastModifiedBy>WiZaRd</cp:lastModifiedBy>
  <dcterms:modified xsi:type="dcterms:W3CDTF">2023-02-01T11:07:30Z</dcterms:modified>
  <cp:revision>45</cp:revision>
  <dc:subject/>
  <dc:title>Слайд 1</dc:title>
</cp:coreProperties>
</file>