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69C-DE7E-4718-BE65-23D017C9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F82-E81C-4212-B381-0F34A0AC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4B2-2E91-4C68-846C-7D335BA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2B5-1694-42C6-B54C-87B989A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27E-C8A4-4154-9721-4646E5A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4A7-517E-4276-9A0C-E6122B0B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A18-0366-49B0-9149-F65C9D3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DC4-CD42-4FAE-BD9C-0457D62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2CD-A9E4-4E69-89B2-FA66CE44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D9D-0A35-47D1-BDA0-0467F9C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BB8-7C6E-45E4-9EA2-54175B8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3E6-7F60-432B-A9CA-5E0FB9C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78C9-59A0-40A6-9FED-EED23B069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433440" y="549360"/>
            <a:ext cx="9942480" cy="381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453120" y="3786120"/>
            <a:ext cx="5072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9e32"/>
                </a:solidFill>
                <a:latin typeface="Calibri"/>
              </a:rPr>
              <a:t>Столярова  Елена Леонидовна</a:t>
            </a: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учитель – логопед  МБОУ лицей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9e32"/>
                </a:solidFill>
                <a:latin typeface="Calibri"/>
              </a:rPr>
              <a:t>им. академика Б.Н. Пе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219280" y="5786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9e32"/>
                </a:solidFill>
                <a:latin typeface="Calibri"/>
              </a:rPr>
              <a:t>г.Смолен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9" descr="14_1.png"/>
          <p:cNvPicPr/>
          <p:nvPr/>
        </p:nvPicPr>
        <p:blipFill>
          <a:blip r:embed="rId2"/>
          <a:stretch/>
        </p:blipFill>
        <p:spPr>
          <a:xfrm>
            <a:off x="357120" y="3000240"/>
            <a:ext cx="335772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318087131_341061_original_www.nevsepic.com.ua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71720" y="1393920"/>
            <a:ext cx="7072200" cy="5035320"/>
          </a:xfrm>
          <a:prstGeom prst="rect">
            <a:avLst/>
          </a:prstGeom>
          <a:ln w="57240">
            <a:solidFill>
              <a:srgbClr val="1d8b2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-291960" y="36360"/>
            <a:ext cx="99424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858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В стране </a:t>
            </a: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Драконии</a:t>
            </a: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 живут весёлые дракончики. Правит этой страной король Драко Смешливый. Каждый год он устраивает соревнования среди своих подданных на самого </a:t>
            </a:r>
            <a:br>
              <a:rPr sz="2800"/>
            </a:b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смекалистого и остроумного. Победителю вручают высокую награду – драконий  … . Что?</a:t>
            </a:r>
            <a:br>
              <a:rPr sz="2800"/>
            </a:br>
            <a:r>
              <a:rPr b="1" lang="ru-RU" sz="2800" spc="-1" strike="noStrike">
                <a:solidFill>
                  <a:srgbClr val="1d8b2f"/>
                </a:solidFill>
                <a:latin typeface="Comic Sans MS"/>
              </a:rPr>
              <a:t>    Разгадай кроссворд из загадок дракончиков. Призовой ответ прочти по печенью, которое они обож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18_1.png"/>
          <p:cNvPicPr/>
          <p:nvPr/>
        </p:nvPicPr>
        <p:blipFill>
          <a:blip r:embed="rId1"/>
          <a:stretch/>
        </p:blipFill>
        <p:spPr>
          <a:xfrm>
            <a:off x="5286240" y="1071720"/>
            <a:ext cx="385776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Группа 55" descr=""/>
          <p:cNvPicPr/>
          <p:nvPr/>
        </p:nvPicPr>
        <p:blipFill>
          <a:blip r:embed="rId1"/>
          <a:stretch/>
        </p:blipFill>
        <p:spPr>
          <a:xfrm>
            <a:off x="4853160" y="3352680"/>
            <a:ext cx="3889080" cy="1030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2"/>
          <p:cNvSpPr/>
          <p:nvPr/>
        </p:nvSpPr>
        <p:spPr>
          <a:xfrm>
            <a:off x="4929120" y="2500200"/>
            <a:ext cx="71460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  <a:effectLst>
            <a:outerShdw dist="114551" dir="27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Группа 50" descr=""/>
          <p:cNvPicPr/>
          <p:nvPr/>
        </p:nvPicPr>
        <p:blipFill>
          <a:blip r:embed="rId2"/>
          <a:stretch/>
        </p:blipFill>
        <p:spPr>
          <a:xfrm>
            <a:off x="4853160" y="1494000"/>
            <a:ext cx="3889080" cy="1029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071880" y="157176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  <a:effectLst>
            <a:outerShdw dist="114551" dir="27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307188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92880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1643040" y="2500200"/>
            <a:ext cx="71424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2357280" y="2500200"/>
            <a:ext cx="714600" cy="71460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92880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164304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2357280" y="4357800"/>
            <a:ext cx="71460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3071880" y="4357800"/>
            <a:ext cx="714240" cy="714240"/>
          </a:xfrm>
          <a:prstGeom prst="rect">
            <a:avLst/>
          </a:prstGeom>
          <a:solidFill>
            <a:srgbClr val="f8db62"/>
          </a:solidFill>
          <a:ln w="25560">
            <a:solidFill>
              <a:srgbClr val="b456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Группа 56" descr=""/>
          <p:cNvPicPr/>
          <p:nvPr/>
        </p:nvPicPr>
        <p:blipFill>
          <a:blip r:embed="rId3"/>
          <a:stretch/>
        </p:blipFill>
        <p:spPr>
          <a:xfrm>
            <a:off x="4853160" y="4280040"/>
            <a:ext cx="1742760" cy="103032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65"/>
          <p:cNvGrpSpPr/>
          <p:nvPr/>
        </p:nvGrpSpPr>
        <p:grpSpPr>
          <a:xfrm>
            <a:off x="3714480" y="286560"/>
            <a:ext cx="1285920" cy="1258920"/>
            <a:chOff x="3714480" y="286560"/>
            <a:chExt cx="1285920" cy="1258920"/>
          </a:xfrm>
        </p:grpSpPr>
        <p:pic>
          <p:nvPicPr>
            <p:cNvPr id="63" name="Рисунок 33" descr="da2ab91647c3.jpg"/>
            <p:cNvPicPr/>
            <p:nvPr/>
          </p:nvPicPr>
          <p:blipFill>
            <a:blip r:embed="rId4"/>
            <a:stretch/>
          </p:blipFill>
          <p:spPr>
            <a:xfrm rot="478200">
              <a:off x="3785760" y="36036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4" name="Прямоугольник 59"/>
            <p:cNvSpPr/>
            <p:nvPr/>
          </p:nvSpPr>
          <p:spPr>
            <a:xfrm rot="478200">
              <a:off x="3997080" y="64080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66"/>
          <p:cNvGrpSpPr/>
          <p:nvPr/>
        </p:nvGrpSpPr>
        <p:grpSpPr>
          <a:xfrm>
            <a:off x="3714480" y="1213920"/>
            <a:ext cx="1267560" cy="1239840"/>
            <a:chOff x="3714480" y="1213920"/>
            <a:chExt cx="1267560" cy="1239840"/>
          </a:xfrm>
        </p:grpSpPr>
        <p:pic>
          <p:nvPicPr>
            <p:cNvPr id="66" name="Рисунок 34" descr="da2ab91647c3.jpg"/>
            <p:cNvPicPr/>
            <p:nvPr/>
          </p:nvPicPr>
          <p:blipFill>
            <a:blip r:embed="rId5"/>
            <a:stretch/>
          </p:blipFill>
          <p:spPr>
            <a:xfrm rot="21188400">
              <a:off x="3776400" y="127800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7" name="Прямоугольник 61"/>
            <p:cNvSpPr/>
            <p:nvPr/>
          </p:nvSpPr>
          <p:spPr>
            <a:xfrm rot="21188400">
              <a:off x="3987720" y="156348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67"/>
          <p:cNvGrpSpPr/>
          <p:nvPr/>
        </p:nvGrpSpPr>
        <p:grpSpPr>
          <a:xfrm>
            <a:off x="3786120" y="2214720"/>
            <a:ext cx="1143000" cy="1110960"/>
            <a:chOff x="3786120" y="2214720"/>
            <a:chExt cx="1143000" cy="1110960"/>
          </a:xfrm>
        </p:grpSpPr>
        <p:pic>
          <p:nvPicPr>
            <p:cNvPr id="69" name="Рисунок 32" descr="da2ab91647c3.jpg"/>
            <p:cNvPicPr/>
            <p:nvPr/>
          </p:nvPicPr>
          <p:blipFill>
            <a:blip r:embed="rId6"/>
            <a:stretch/>
          </p:blipFill>
          <p:spPr>
            <a:xfrm>
              <a:off x="3786120" y="2214720"/>
              <a:ext cx="1143000" cy="1110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0" name="Прямоугольник 60"/>
            <p:cNvSpPr/>
            <p:nvPr/>
          </p:nvSpPr>
          <p:spPr>
            <a:xfrm>
              <a:off x="4000320" y="250020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68"/>
          <p:cNvGrpSpPr/>
          <p:nvPr/>
        </p:nvGrpSpPr>
        <p:grpSpPr>
          <a:xfrm>
            <a:off x="3714480" y="3143520"/>
            <a:ext cx="1253160" cy="1189440"/>
            <a:chOff x="3714480" y="3143520"/>
            <a:chExt cx="1253160" cy="1189440"/>
          </a:xfrm>
        </p:grpSpPr>
        <p:pic>
          <p:nvPicPr>
            <p:cNvPr id="72" name="Рисунок 29" descr="da2ab91647c3.jpg"/>
            <p:cNvPicPr/>
            <p:nvPr/>
          </p:nvPicPr>
          <p:blipFill>
            <a:blip r:embed="rId7"/>
            <a:stretch/>
          </p:blipFill>
          <p:spPr>
            <a:xfrm rot="235800">
              <a:off x="3751200" y="3182400"/>
              <a:ext cx="117972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3" name="Прямоугольник 62"/>
            <p:cNvSpPr/>
            <p:nvPr/>
          </p:nvSpPr>
          <p:spPr>
            <a:xfrm rot="235800">
              <a:off x="3966840" y="3463200"/>
              <a:ext cx="73836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70"/>
          <p:cNvGrpSpPr/>
          <p:nvPr/>
        </p:nvGrpSpPr>
        <p:grpSpPr>
          <a:xfrm>
            <a:off x="3715200" y="4071240"/>
            <a:ext cx="1264320" cy="1204560"/>
            <a:chOff x="3715200" y="4071240"/>
            <a:chExt cx="1264320" cy="1204560"/>
          </a:xfrm>
        </p:grpSpPr>
        <p:pic>
          <p:nvPicPr>
            <p:cNvPr id="75" name="Рисунок 30" descr="da2ab91647c3.jpg"/>
            <p:cNvPicPr/>
            <p:nvPr/>
          </p:nvPicPr>
          <p:blipFill>
            <a:blip r:embed="rId8"/>
            <a:stretch/>
          </p:blipFill>
          <p:spPr>
            <a:xfrm rot="21315600">
              <a:off x="3758760" y="4117680"/>
              <a:ext cx="117648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6" name="Прямоугольник 63"/>
            <p:cNvSpPr/>
            <p:nvPr/>
          </p:nvSpPr>
          <p:spPr>
            <a:xfrm rot="21315600">
              <a:off x="3978000" y="4403520"/>
              <a:ext cx="73512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69"/>
          <p:cNvGrpSpPr/>
          <p:nvPr/>
        </p:nvGrpSpPr>
        <p:grpSpPr>
          <a:xfrm>
            <a:off x="3714120" y="5072040"/>
            <a:ext cx="1198080" cy="1167840"/>
            <a:chOff x="3714120" y="5072040"/>
            <a:chExt cx="1198080" cy="1167840"/>
          </a:xfrm>
        </p:grpSpPr>
        <p:pic>
          <p:nvPicPr>
            <p:cNvPr id="78" name="Рисунок 31" descr="da2ab91647c3.jpg"/>
            <p:cNvPicPr/>
            <p:nvPr/>
          </p:nvPicPr>
          <p:blipFill>
            <a:blip r:embed="rId9"/>
            <a:stretch/>
          </p:blipFill>
          <p:spPr>
            <a:xfrm rot="174600">
              <a:off x="3741480" y="5100120"/>
              <a:ext cx="1143000" cy="1111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9" name="Прямоугольник 64"/>
            <p:cNvSpPr/>
            <p:nvPr/>
          </p:nvSpPr>
          <p:spPr>
            <a:xfrm rot="174600">
              <a:off x="3951000" y="5381280"/>
              <a:ext cx="714240" cy="500040"/>
            </a:xfrm>
            <a:prstGeom prst="rect">
              <a:avLst/>
            </a:prstGeom>
            <a:solidFill>
              <a:srgbClr val="f8db62"/>
            </a:solidFill>
            <a:ln w="25560">
              <a:solidFill>
                <a:srgbClr val="f8d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Рисунок 94" descr="8.png"/>
          <p:cNvPicPr/>
          <p:nvPr/>
        </p:nvPicPr>
        <p:blipFill>
          <a:blip r:embed="rId10"/>
          <a:stretch/>
        </p:blipFill>
        <p:spPr>
          <a:xfrm>
            <a:off x="6429240" y="184320"/>
            <a:ext cx="2214720" cy="129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95" descr="6.png"/>
          <p:cNvPicPr/>
          <p:nvPr/>
        </p:nvPicPr>
        <p:blipFill>
          <a:blip r:embed="rId11"/>
          <a:stretch/>
        </p:blipFill>
        <p:spPr>
          <a:xfrm>
            <a:off x="785880" y="214200"/>
            <a:ext cx="1382760" cy="244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96" descr="1.png"/>
          <p:cNvPicPr/>
          <p:nvPr/>
        </p:nvPicPr>
        <p:blipFill>
          <a:blip r:embed="rId12"/>
          <a:stretch/>
        </p:blipFill>
        <p:spPr>
          <a:xfrm>
            <a:off x="785880" y="5045040"/>
            <a:ext cx="1714320" cy="181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97" descr="3.png"/>
          <p:cNvPicPr/>
          <p:nvPr/>
        </p:nvPicPr>
        <p:blipFill>
          <a:blip r:embed="rId13"/>
          <a:stretch/>
        </p:blipFill>
        <p:spPr>
          <a:xfrm>
            <a:off x="6643800" y="4429080"/>
            <a:ext cx="1643040" cy="19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98"/>
          <p:cNvSpPr/>
          <p:nvPr/>
        </p:nvSpPr>
        <p:spPr>
          <a:xfrm>
            <a:off x="2574720" y="1571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hlinkClick r:id="rId14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9">
            <a:hlinkClick r:id="rId15" action="ppaction://hlinksldjump"/>
          </p:cNvPr>
          <p:cNvSpPr/>
          <p:nvPr/>
        </p:nvSpPr>
        <p:spPr>
          <a:xfrm>
            <a:off x="43164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hlinkClick r:id="rId16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0"/>
          <p:cNvSpPr/>
          <p:nvPr/>
        </p:nvSpPr>
        <p:spPr>
          <a:xfrm>
            <a:off x="328896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1"/>
          <p:cNvSpPr/>
          <p:nvPr/>
        </p:nvSpPr>
        <p:spPr>
          <a:xfrm>
            <a:off x="431640" y="4429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2"/>
          <p:cNvSpPr/>
          <p:nvPr/>
        </p:nvSpPr>
        <p:spPr>
          <a:xfrm rot="535800">
            <a:off x="4079160" y="2858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3"/>
          <p:cNvSpPr/>
          <p:nvPr/>
        </p:nvSpPr>
        <p:spPr>
          <a:xfrm rot="21217800">
            <a:off x="4003920" y="12139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4"/>
          <p:cNvSpPr/>
          <p:nvPr/>
        </p:nvSpPr>
        <p:spPr>
          <a:xfrm>
            <a:off x="4075200" y="221472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5"/>
          <p:cNvSpPr/>
          <p:nvPr/>
        </p:nvSpPr>
        <p:spPr>
          <a:xfrm rot="278400">
            <a:off x="4004640" y="31428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6"/>
          <p:cNvSpPr/>
          <p:nvPr/>
        </p:nvSpPr>
        <p:spPr>
          <a:xfrm rot="21337200">
            <a:off x="4042080" y="4092480"/>
            <a:ext cx="5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7"/>
          <p:cNvSpPr/>
          <p:nvPr/>
        </p:nvSpPr>
        <p:spPr>
          <a:xfrm rot="278400">
            <a:off x="4044240" y="5025960"/>
            <a:ext cx="6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8"/>
          <p:cNvSpPr/>
          <p:nvPr/>
        </p:nvSpPr>
        <p:spPr>
          <a:xfrm>
            <a:off x="3075840" y="13572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9"/>
          <p:cNvSpPr/>
          <p:nvPr/>
        </p:nvSpPr>
        <p:spPr>
          <a:xfrm>
            <a:off x="4933800" y="135720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0"/>
          <p:cNvSpPr/>
          <p:nvPr/>
        </p:nvSpPr>
        <p:spPr>
          <a:xfrm>
            <a:off x="5718960" y="13572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1"/>
          <p:cNvSpPr/>
          <p:nvPr/>
        </p:nvSpPr>
        <p:spPr>
          <a:xfrm>
            <a:off x="6291360" y="13572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2"/>
          <p:cNvSpPr/>
          <p:nvPr/>
        </p:nvSpPr>
        <p:spPr>
          <a:xfrm>
            <a:off x="7147800" y="1357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3"/>
          <p:cNvSpPr/>
          <p:nvPr/>
        </p:nvSpPr>
        <p:spPr>
          <a:xfrm>
            <a:off x="7862040" y="13572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4"/>
          <p:cNvSpPr/>
          <p:nvPr/>
        </p:nvSpPr>
        <p:spPr>
          <a:xfrm>
            <a:off x="933120" y="228600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5"/>
          <p:cNvSpPr/>
          <p:nvPr/>
        </p:nvSpPr>
        <p:spPr>
          <a:xfrm>
            <a:off x="171864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6"/>
          <p:cNvSpPr/>
          <p:nvPr/>
        </p:nvSpPr>
        <p:spPr>
          <a:xfrm>
            <a:off x="243324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7"/>
          <p:cNvSpPr/>
          <p:nvPr/>
        </p:nvSpPr>
        <p:spPr>
          <a:xfrm>
            <a:off x="3076200" y="2286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8"/>
          <p:cNvSpPr/>
          <p:nvPr/>
        </p:nvSpPr>
        <p:spPr>
          <a:xfrm>
            <a:off x="5004720" y="2286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9"/>
          <p:cNvSpPr/>
          <p:nvPr/>
        </p:nvSpPr>
        <p:spPr>
          <a:xfrm>
            <a:off x="4932720" y="3214800"/>
            <a:ext cx="6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0"/>
          <p:cNvSpPr/>
          <p:nvPr/>
        </p:nvSpPr>
        <p:spPr>
          <a:xfrm>
            <a:off x="5647320" y="3214800"/>
            <a:ext cx="66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1"/>
          <p:cNvSpPr/>
          <p:nvPr/>
        </p:nvSpPr>
        <p:spPr>
          <a:xfrm>
            <a:off x="643356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2"/>
          <p:cNvSpPr/>
          <p:nvPr/>
        </p:nvSpPr>
        <p:spPr>
          <a:xfrm>
            <a:off x="779076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3"/>
          <p:cNvSpPr/>
          <p:nvPr/>
        </p:nvSpPr>
        <p:spPr>
          <a:xfrm>
            <a:off x="7147800" y="32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4"/>
          <p:cNvSpPr/>
          <p:nvPr/>
        </p:nvSpPr>
        <p:spPr>
          <a:xfrm>
            <a:off x="1075680" y="414324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5"/>
          <p:cNvSpPr/>
          <p:nvPr/>
        </p:nvSpPr>
        <p:spPr>
          <a:xfrm>
            <a:off x="1718640" y="41432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6"/>
          <p:cNvSpPr/>
          <p:nvPr/>
        </p:nvSpPr>
        <p:spPr>
          <a:xfrm>
            <a:off x="2361600" y="41432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7"/>
          <p:cNvSpPr/>
          <p:nvPr/>
        </p:nvSpPr>
        <p:spPr>
          <a:xfrm>
            <a:off x="3147120" y="41432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8"/>
          <p:cNvSpPr/>
          <p:nvPr/>
        </p:nvSpPr>
        <p:spPr>
          <a:xfrm>
            <a:off x="5004720" y="41432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9"/>
          <p:cNvSpPr/>
          <p:nvPr/>
        </p:nvSpPr>
        <p:spPr>
          <a:xfrm>
            <a:off x="5718600" y="41432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Управляющая кнопка: далее 132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17" name="Управляющая кнопка: далее 132" descr=""/>
            <p:cNvPicPr/>
            <p:nvPr/>
          </p:nvPicPr>
          <p:blipFill>
            <a:blip r:embed="rId17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2.png"/>
          <p:cNvPicPr/>
          <p:nvPr/>
        </p:nvPicPr>
        <p:blipFill>
          <a:blip r:embed="rId1"/>
          <a:stretch/>
        </p:blipFill>
        <p:spPr>
          <a:xfrm>
            <a:off x="6215040" y="2857680"/>
            <a:ext cx="2444760" cy="33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У неё два брюшка и четыре ушка.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Ты её узнаешь, если слоги переставиш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009800" y="2928960"/>
            <a:ext cx="209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ду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864880" y="2928960"/>
            <a:ext cx="12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018320" y="2928960"/>
            <a:ext cx="11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Управляющая кнопка: в начало 11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25" name="Управляющая кнопка: в начало 11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486 0.13645 E">
                                      <p:cBhvr>
                                        <p:cTn id="28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26549E-006 L 0.12518 0.13367 E">
                                      <p:cBhvr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3.26549E-006 L 0.0033 0.13367 E">
                                      <p:cBhvr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7.png"/>
          <p:cNvPicPr/>
          <p:nvPr/>
        </p:nvPicPr>
        <p:blipFill>
          <a:blip r:embed="rId1"/>
          <a:stretch/>
        </p:blipFill>
        <p:spPr>
          <a:xfrm>
            <a:off x="587520" y="214200"/>
            <a:ext cx="18874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814392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556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Сколько по ней не иди –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удет бежать впереди.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Прочти нообор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64780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218400" y="2928960"/>
            <a:ext cx="55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64788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2195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79088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62200" y="2928960"/>
            <a:ext cx="77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Управляющая кнопка: в начало 9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36" name="Управляющая кнопка: в начало 9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66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3.26549E-006 L -0.30191 0.13367 E">
                                      <p:cBhvr>
                                        <p:cTn id="347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-0.175 0.13367 E">
                                      <p:cBhvr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-0.04948 0.13367 E">
                                      <p:cBhvr>
                                        <p:cTn id="35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3.26549E-006 L 0.08385 0.13367 E">
                                      <p:cBhvr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3.26549E-006 L 0.1967 0.13367 E">
                                      <p:cBhvr>
                                        <p:cTn id="359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3.26549E-006 L 0.31129 0.13367 E">
                                      <p:cBhvr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4.png"/>
          <p:cNvPicPr/>
          <p:nvPr/>
        </p:nvPicPr>
        <p:blipFill>
          <a:blip r:embed="rId1"/>
          <a:stretch/>
        </p:blipFill>
        <p:spPr>
          <a:xfrm>
            <a:off x="6296040" y="142920"/>
            <a:ext cx="28479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0132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Без крыльев летят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ез ног бегут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без паруса плывут…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Ух ты, прочти через букв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7905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361520" y="2928960"/>
            <a:ext cx="64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862280" y="29289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432520" y="29289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933280" y="2928960"/>
            <a:ext cx="77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503880" y="29289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07664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647960" y="2928960"/>
            <a:ext cx="74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5218560" y="2928960"/>
            <a:ext cx="62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5719680" y="2928960"/>
            <a:ext cx="7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291360" y="29289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Управляющая кнопка: в начало 14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52" name="Управляющая кнопка: в начало 14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22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15747 0.15726 E">
                                      <p:cBhvr>
                                        <p:cTn id="450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26549E-006 L 0.10504 0.15471 E">
                                      <p:cBhvr>
                                        <p:cTn id="453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3.26549E-006 L 0.05035 0.15471 E">
                                      <p:cBhvr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3.26549E-006 L -0.01024 0.15471 E">
                                      <p:cBhvr>
                                        <p:cTn id="459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26549E-006 L -0.07344 0.15471 E">
                                      <p:cBhvr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3.26549E-006 L -0.13438 0.15471 E">
                                      <p:cBhvr>
                                        <p:cTn id="465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5.png"/>
          <p:cNvPicPr/>
          <p:nvPr/>
        </p:nvPicPr>
        <p:blipFill>
          <a:blip r:embed="rId1"/>
          <a:stretch/>
        </p:blipFill>
        <p:spPr>
          <a:xfrm>
            <a:off x="571680" y="3071880"/>
            <a:ext cx="247788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57276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-Маленькая, кругленькая,с хвостиком,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а всех останавливает. </a:t>
            </a:r>
            <a:br>
              <a:rPr sz="3600"/>
            </a:br>
            <a:r>
              <a:rPr b="1" lang="ru-RU" sz="3600" spc="-1" strike="noStrike">
                <a:solidFill>
                  <a:srgbClr val="1d8b2f"/>
                </a:solidFill>
                <a:latin typeface="Comic Sans MS"/>
              </a:rPr>
              <a:t>Вот она кака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506760" y="3071880"/>
            <a:ext cx="121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508640" y="3071880"/>
            <a:ext cx="12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п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5576400" y="3071880"/>
            <a:ext cx="17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d8b2f"/>
                </a:solidFill>
                <a:latin typeface="Arial"/>
              </a:rPr>
              <a:t>т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7348320" y="3286080"/>
            <a:ext cx="38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d8b2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649760" y="328608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d8b2f"/>
                </a:solidFill>
                <a:latin typeface="Arial"/>
              </a:rPr>
              <a:t>_ 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в начало 8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62" name="Управляющая кнопка: в начало 8" descr=""/>
            <p:cNvPicPr/>
            <p:nvPr/>
          </p:nvPicPr>
          <p:blipFill>
            <a:blip r:embed="rId2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4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64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14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64)"/>
                                      </p:to>
                                    </p:set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kartinki24_ru_fantasy_dracons_0004.png"/>
          <p:cNvPicPr/>
          <p:nvPr/>
        </p:nvPicPr>
        <p:blipFill>
          <a:blip r:embed="rId1"/>
          <a:stretch/>
        </p:blipFill>
        <p:spPr>
          <a:xfrm>
            <a:off x="5078520" y="3643200"/>
            <a:ext cx="4065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5" name=""/>
          <p:cNvSpPr txBox="1"/>
          <p:nvPr/>
        </p:nvSpPr>
        <p:spPr>
          <a:xfrm>
            <a:off x="0" y="157176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[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электронный ресурс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]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режим доступа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/www.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lenagold.ru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 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/www.yandex.ru /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картинки и фотографии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http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: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 //www.google.ru /</a:t>
            </a: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картинки и фотографии</a:t>
            </a:r>
            <a:r>
              <a:rPr b="1" i="1" lang="en-US" sz="2800" spc="-1" strike="noStrike">
                <a:solidFill>
                  <a:srgbClr val="1d8b2f"/>
                </a:solidFill>
                <a:latin typeface="Calibri"/>
                <a:ea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8b2f"/>
                </a:solidFill>
                <a:latin typeface="Calibri"/>
                <a:ea typeface="Arial"/>
              </a:rPr>
              <a:t>Дата обращения 12.02.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00"/>
              </a:spcBef>
              <a:buClr>
                <a:srgbClr val="1d8b2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6" descr=""/>
          <p:cNvPicPr/>
          <p:nvPr/>
        </p:nvPicPr>
        <p:blipFill>
          <a:blip r:embed="rId2"/>
          <a:stretch/>
        </p:blipFill>
        <p:spPr>
          <a:xfrm>
            <a:off x="512640" y="-128520"/>
            <a:ext cx="4815000" cy="1512720"/>
          </a:xfrm>
          <a:prstGeom prst="rect">
            <a:avLst/>
          </a:prstGeom>
          <a:ln w="0">
            <a:noFill/>
          </a:ln>
        </p:spPr>
      </p:pic>
      <p:grpSp>
        <p:nvGrpSpPr>
          <p:cNvPr id="167" name="Управляющая кнопка: настраиваемая 8"/>
          <p:cNvGrpSpPr/>
          <p:nvPr/>
        </p:nvGrpSpPr>
        <p:grpSpPr>
          <a:xfrm>
            <a:off x="8096400" y="6308640"/>
            <a:ext cx="1199880" cy="774720"/>
            <a:chOff x="8096400" y="6308640"/>
            <a:chExt cx="1199880" cy="774720"/>
          </a:xfrm>
        </p:grpSpPr>
        <p:pic>
          <p:nvPicPr>
            <p:cNvPr id="168" name="Управляющая кнопка: настраиваемая 8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096400" y="6308640"/>
              <a:ext cx="1199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143920" y="6357960"/>
              <a:ext cx="785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5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5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45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0:30:10Z</dcterms:created>
  <dc:creator>Elena</dc:creator>
  <dc:description/>
  <dc:language>en-US</dc:language>
  <cp:lastModifiedBy>Елена</cp:lastModifiedBy>
  <dcterms:modified xsi:type="dcterms:W3CDTF">2023-02-01T11:32:44Z</dcterms:modified>
  <cp:revision>44</cp:revision>
  <dc:subject/>
  <dc:title>Слайд 1</dc:title>
</cp:coreProperties>
</file>