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1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A51B-F757-414B-B628-68A2F0FA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8417-463C-46F7-BE12-C92852D2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0C55-47B1-4E4F-89B2-DCC041FA8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BBA3-2B31-464E-AB39-3C4721F7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F5A4-4091-4D17-95F9-9EC156C1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FAAC-A5FF-4D96-A3F9-63201DE0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33E9-B2AA-408F-B131-9F4D3B78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A1BA-5277-495F-AE00-A4C1BAD1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E56A-AB17-4D03-B3BB-385705B8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6BBA-3A68-47B1-B33C-AC28ECEC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F959-43C2-4CA6-BBC3-BC7A0845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EC64-66EB-40F9-909B-E5779778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8782-8284-43B3-8E16-06E9064E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BEC0-A292-49E7-8CEA-8733C3DA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4FB1-9FF3-4A79-B2E9-2E0BEC23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0171-8575-4A8D-AB29-8E5DE48EA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F2C7-AF36-4E10-9330-C11A24AE7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53F9E-585B-4DF6-A3BD-6C24EB7C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4DDF9-1541-4D6F-935B-F2C27EEE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DDF2A-8C52-4859-B63F-FDFB3F28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9DDB5-92C1-4ADE-976E-A98AF4EC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D7E9C-700F-413C-9F2F-5E6EE5D2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12F0-D6AC-4EA0-B9BB-C8D40E35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800BE-448E-49EE-A494-CE1D5C73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6F61C-70BC-4DE8-813C-79371400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259DF-E4ED-4E72-800E-1CF61805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EA6C4-BCBA-4476-8E47-A3C389C7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CB4B2-726B-4677-874D-BEA893CD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F17AF-0EBD-42E7-9B3B-40600F355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5C271-B376-49E8-8E4A-E297B607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99CED-7A18-4266-9785-B2340ED9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7E3EA-F673-444D-A188-9DF07D48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CF05D-FC7B-49C9-84A2-8D4563B2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79F6-AD32-444F-8F00-829287CA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217F1-B8B9-4A4B-8D01-D48B3D50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2603F-3583-4CA7-A0A6-4E8BC3E4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319E1-2A04-42DD-A042-2ECDC71B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61159-D9ED-433C-AFAD-21471395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C2F34-719A-495E-88B5-2D0D6DA8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C8B95-B2CB-4B37-B77D-2F0A3494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57A15-E120-4129-BC8C-B186BC22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31373-B737-4E50-9131-3733D1F60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8BAA1-CF62-4384-8522-BECA6EC17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C1308-5487-4625-BB84-02970323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A12F-6478-4941-BA4C-C3E07003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3CA86-460A-4EB8-8C6F-6D15F9CE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05108-7267-447C-9E3B-AA357B9C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105C6-C68E-4215-BCA0-837A757C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97CFC-4C19-4B08-9436-E86AC056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FC53F-D7F0-4AC3-9674-4EBEB87E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C059C-8F2A-4724-A0EA-96E77CA6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4B994-8805-437C-B8E2-0315495F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C5578-68CF-4661-A419-01AEFBA2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AACFD-2592-497C-9F0C-0050DC68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30310-F242-4451-B01E-D46E624E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EE36-7E5B-4079-9AA2-140C4DF5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1ECF4-9F93-4D19-B35D-B87BC255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0380-BFED-4D11-BE18-CD97FFCD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ECAF-F11B-4166-9161-AFE07E79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8AC6-295B-4CD1-BCDC-DE44D5F9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B4A7-5AA2-4C51-ADA3-8A121021C386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1655-16E5-4D88-9EAF-6F51D37863F7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BF10-925C-4419-B937-ADF0F22CC73C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53BA-607C-474F-8274-B88F761F8D27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9FD6-0863-465B-A131-82DA8F9E1466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8.gif"/><Relationship Id="rId3" Type="http://schemas.openxmlformats.org/officeDocument/2006/relationships/image" Target="../media/image20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4.gif"/><Relationship Id="rId3" Type="http://schemas.openxmlformats.org/officeDocument/2006/relationships/image" Target="../media/image3.gif"/><Relationship Id="rId4" Type="http://schemas.openxmlformats.org/officeDocument/2006/relationships/image" Target="../media/image5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11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f5f5f"/>
                </a:solidFill>
                <a:latin typeface="Franklin Gothic Medium"/>
              </a:rPr>
              <a:t>ПРОБЛЕМНЫЕ СИТУАЦИИ НА УРОКАХ ОКРУЖАЮЩЕГО МИРА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522440" y="4844520"/>
            <a:ext cx="6400800" cy="1752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3231"/>
                </a:solidFill>
                <a:latin typeface="Franklin Gothic Book"/>
                <a:ea typeface="Tunga"/>
              </a:rPr>
              <a:t>АВТОР:</a:t>
            </a:r>
            <a:r>
              <a:rPr b="0" lang="ru-RU" sz="2800" spc="-1" strike="noStrike">
                <a:solidFill>
                  <a:srgbClr val="323231"/>
                </a:solidFill>
                <a:latin typeface="Franklin Gothic Book"/>
                <a:ea typeface="Tunga"/>
              </a:rPr>
              <a:t> </a:t>
            </a:r>
            <a:r>
              <a:rPr b="1" lang="ru-RU" sz="2400" spc="-1" strike="noStrike">
                <a:solidFill>
                  <a:srgbClr val="323231"/>
                </a:solidFill>
                <a:latin typeface="Franklin Gothic Book"/>
                <a:ea typeface="Tunga"/>
              </a:rPr>
              <a:t>АФАНАСЬЕВА Е.Л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69696"/>
                </a:solidFill>
                <a:latin typeface="Franklin Gothic Book"/>
                <a:ea typeface="Tunga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Franklin Gothic Book"/>
                <a:ea typeface="Tunga"/>
              </a:rPr>
              <a:t>УЧИТЕЛЬ НАЧАЛЬНЫХ КЛАССОВ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17" name="Picture 4" descr="37-2"/>
          <p:cNvPicPr/>
          <p:nvPr/>
        </p:nvPicPr>
        <p:blipFill>
          <a:blip r:embed="rId1"/>
          <a:stretch/>
        </p:blipFill>
        <p:spPr>
          <a:xfrm>
            <a:off x="468360" y="549360"/>
            <a:ext cx="1076400" cy="77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Рисунок21"/>
          <p:cNvPicPr/>
          <p:nvPr/>
        </p:nvPicPr>
        <p:blipFill>
          <a:blip r:embed="rId2"/>
          <a:stretch/>
        </p:blipFill>
        <p:spPr>
          <a:xfrm rot="21478800">
            <a:off x="7956360" y="260280"/>
            <a:ext cx="590400" cy="990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tree21"/>
          <p:cNvPicPr/>
          <p:nvPr/>
        </p:nvPicPr>
        <p:blipFill>
          <a:blip r:embed="rId3"/>
          <a:stretch/>
        </p:blipFill>
        <p:spPr>
          <a:xfrm>
            <a:off x="179280" y="414972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6"/>
          <p:cNvPicPr/>
          <p:nvPr/>
        </p:nvPicPr>
        <p:blipFill>
          <a:blip r:embed="rId4"/>
          <a:stretch/>
        </p:blipFill>
        <p:spPr>
          <a:xfrm>
            <a:off x="7885080" y="4508640"/>
            <a:ext cx="828720" cy="95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792920" cy="1461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5f5f"/>
                </a:solidFill>
                <a:latin typeface="Franklin Gothic Medium"/>
              </a:rPr>
              <a:t>ПРОБЛЕМНЫЕ СИТУАЦИИ НА УРОКАХ ОКРУЖАЮЩЕГО МИРА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98040" y="1557360"/>
            <a:ext cx="7520040" cy="3579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                 </a:t>
            </a:r>
            <a:r>
              <a:rPr b="1" lang="ru-RU" sz="1500" spc="-1" strike="noStrike">
                <a:solidFill>
                  <a:srgbClr val="000000"/>
                </a:solidFill>
                <a:latin typeface="Franklin Gothic Book"/>
              </a:rPr>
              <a:t>Цель и назначение проблемного обучения – преодолеть элементы   механического усвоения знаний в обучении, активизировать мыслительную деятельность учащихся и ознакомить их с методами научного исследования. Толчком к продуктивному мышлению служит проблемная ситуация. Средством создания любой проблемной ситуации в учебном 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Franklin Gothic Book"/>
              </a:rPr>
              <a:t>процессе являются учебные проблемы. 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Franklin Gothic Book"/>
              </a:rPr>
              <a:t>Учебные проблемы оказывают  положительное воздействие на эмоциональную сферу ребят. Ребятам нравится спорить, приятно решить проблему.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Franklin Gothic Book"/>
              </a:rPr>
              <a:t>Учебные проблемы создают благоприятные условия для развития коммуникативных способностей детей, развития индивидуальности и творческого мышления.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3" name="Picture 9" descr="Рисунок27"/>
          <p:cNvPicPr/>
          <p:nvPr/>
        </p:nvPicPr>
        <p:blipFill>
          <a:blip r:embed="rId1"/>
          <a:stretch/>
        </p:blipFill>
        <p:spPr>
          <a:xfrm>
            <a:off x="4427640" y="5734080"/>
            <a:ext cx="2190600" cy="9525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b15"/>
          <p:cNvPicPr/>
          <p:nvPr/>
        </p:nvPicPr>
        <p:blipFill>
          <a:blip r:embed="rId2"/>
          <a:stretch/>
        </p:blipFill>
        <p:spPr>
          <a:xfrm>
            <a:off x="179280" y="2276640"/>
            <a:ext cx="1009800" cy="7714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b15"/>
          <p:cNvPicPr/>
          <p:nvPr/>
        </p:nvPicPr>
        <p:blipFill>
          <a:blip r:embed="rId3"/>
          <a:stretch/>
        </p:blipFill>
        <p:spPr>
          <a:xfrm>
            <a:off x="7885080" y="5805360"/>
            <a:ext cx="1009800" cy="771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2" descr="21M2"/>
          <p:cNvPicPr/>
          <p:nvPr/>
        </p:nvPicPr>
        <p:blipFill>
          <a:blip r:embed="rId4"/>
          <a:stretch/>
        </p:blipFill>
        <p:spPr>
          <a:xfrm>
            <a:off x="7570800" y="189000"/>
            <a:ext cx="1573200" cy="1655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3" descr="Рисунок4"/>
          <p:cNvPicPr/>
          <p:nvPr/>
        </p:nvPicPr>
        <p:blipFill>
          <a:blip r:embed="rId5"/>
          <a:stretch/>
        </p:blipFill>
        <p:spPr>
          <a:xfrm>
            <a:off x="395280" y="5661000"/>
            <a:ext cx="790560" cy="800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4" descr="37R5"/>
          <p:cNvPicPr/>
          <p:nvPr/>
        </p:nvPicPr>
        <p:blipFill>
          <a:blip r:embed="rId6"/>
          <a:stretch/>
        </p:blipFill>
        <p:spPr>
          <a:xfrm>
            <a:off x="0" y="0"/>
            <a:ext cx="107964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26920" y="2017800"/>
            <a:ext cx="416592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Franklin Gothic Book"/>
              </a:rPr>
              <a:t>Проблемные вопросы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1.Можно ли сказать, что живая и неживая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природа и окружающий нас мир одно и тоже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2.Горшок с цветком – это объекты природы или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предметы окружающего нас мира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3.Может ли природа быть учителем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4.Смогут ли существовать на Земле водоросли и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если исчезнет солнце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5.Какой объект живой природы может стать для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природы лучшим другом или врагом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6.Верно ли, что вьюнок, цепляющийся за забор,-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это животное, а паутина паучка – растение?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34342"/>
                </a:solidFill>
                <a:latin typeface="Franklin Gothic Book"/>
              </a:rPr>
              <a:t>Проблемная задача: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1.Когда старое дерево сгниёт, образуется удобрение, а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когда камень разрушится, образуется песок. Какой вывод можно сделать об объектах живой и неживой природы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205240" y="1805040"/>
            <a:ext cx="3200400" cy="3713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Franklin Gothic Book"/>
              </a:rPr>
              <a:t>Проблемные задания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1.Докажи, что кактус, за которым не ухаживали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5 месяцев, - живой организм.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2.Определи: что общего у бабочки с камнем и чем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они отличаются.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3.Перед вами два пластмассовых стаканчика: с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водой и землей, блюдце и вата, семена пшеницы,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репчатый лук, морковь. Какие объекты живой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природы можно соединить с объектами неживой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природы, чтобы через 5(7)дней убедиться в том,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что растение – живой организм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34342"/>
                </a:solidFill>
                <a:latin typeface="Franklin Gothic Book"/>
              </a:rPr>
              <a:t>Проблемная задача: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2.Известно: почва, солнце, осадки – объекты неживой природы. Цветок, пчела и человек –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объекты живой природы. Какие из указанных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объектов зависят  друг от друга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Medium"/>
              </a:rPr>
              <a:t>ТЕМА УРОКА: </a:t>
            </a:r>
            <a:r>
              <a:rPr b="0" lang="ru-RU" sz="3600" spc="-1" strike="noStrike">
                <a:solidFill>
                  <a:srgbClr val="5f5f5f"/>
                </a:solidFill>
                <a:latin typeface="Franklin Gothic Medium"/>
              </a:rPr>
              <a:t>«ЖИВАЯ И НЕЖИВАЯ ПРИРОДА»</a:t>
            </a:r>
            <a:r>
              <a:rPr b="0" lang="ru-RU" sz="3600" spc="-1" strike="noStrike">
                <a:solidFill>
                  <a:srgbClr val="000000"/>
                </a:solidFill>
                <a:latin typeface="Franklin Gothic Medium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2" name="Picture 43" descr="p18-1"/>
          <p:cNvPicPr/>
          <p:nvPr/>
        </p:nvPicPr>
        <p:blipFill>
          <a:blip r:embed="rId1"/>
          <a:stretch/>
        </p:blipFill>
        <p:spPr>
          <a:xfrm>
            <a:off x="179280" y="2492280"/>
            <a:ext cx="685800" cy="1390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4" descr="s7"/>
          <p:cNvPicPr/>
          <p:nvPr/>
        </p:nvPicPr>
        <p:blipFill>
          <a:blip r:embed="rId2"/>
          <a:stretch/>
        </p:blipFill>
        <p:spPr>
          <a:xfrm>
            <a:off x="-757080" y="0"/>
            <a:ext cx="2857320" cy="952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5" descr="Рисунок5"/>
          <p:cNvPicPr/>
          <p:nvPr/>
        </p:nvPicPr>
        <p:blipFill>
          <a:blip r:embed="rId3"/>
          <a:stretch/>
        </p:blipFill>
        <p:spPr>
          <a:xfrm rot="21460200">
            <a:off x="0" y="5229000"/>
            <a:ext cx="1066680" cy="1095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6" descr="1FL"/>
          <p:cNvPicPr/>
          <p:nvPr/>
        </p:nvPicPr>
        <p:blipFill>
          <a:blip r:embed="rId4"/>
          <a:stretch/>
        </p:blipFill>
        <p:spPr>
          <a:xfrm>
            <a:off x="4572000" y="5734080"/>
            <a:ext cx="936720" cy="8334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8" descr="125"/>
          <p:cNvPicPr/>
          <p:nvPr/>
        </p:nvPicPr>
        <p:blipFill>
          <a:blip r:embed="rId5"/>
          <a:stretch/>
        </p:blipFill>
        <p:spPr>
          <a:xfrm>
            <a:off x="6516720" y="1268280"/>
            <a:ext cx="576360" cy="574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9" descr="k2-1"/>
          <p:cNvPicPr/>
          <p:nvPr/>
        </p:nvPicPr>
        <p:blipFill>
          <a:blip r:embed="rId6"/>
          <a:stretch/>
        </p:blipFill>
        <p:spPr>
          <a:xfrm>
            <a:off x="8077320" y="692280"/>
            <a:ext cx="1066680" cy="14000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0" descr="b15"/>
          <p:cNvPicPr/>
          <p:nvPr/>
        </p:nvPicPr>
        <p:blipFill>
          <a:blip r:embed="rId7"/>
          <a:stretch/>
        </p:blipFill>
        <p:spPr>
          <a:xfrm>
            <a:off x="7812000" y="587700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9640" y="1587600"/>
            <a:ext cx="3200400" cy="3713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Franklin Gothic Book"/>
              </a:rPr>
              <a:t>Проблемные вопросы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1.Почему термометр иногда называют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термоизмеритель или градусник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2.Можно ли уличным термометром измерить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температуру человеческого тела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3.Чем опасен медицинский термометр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4.Верно ли, что без термометра некоторые люди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могут стать плохими специалистами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5.В каком случае исправный водный термометр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покажет неверную температуру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6.Есть ли разница между термометрами, если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один висит в столовой, а другой – в сталеварном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цеху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7.Когда может произойти такое, что два одно-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классника, посмотрев на один и тот же  термо-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метр в одно и то же время, увидят разные показания температуры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788000" y="1432080"/>
            <a:ext cx="3200400" cy="3713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Franklin Gothic Book"/>
              </a:rPr>
              <a:t>Проблемные задачи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1.Осенью по радио метеорологи сообщили, что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температура воздуха +5С. Нина решила прове-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рить их сообщение. Она взяла комнатный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термометр и вышла на улицу. Подержав в руке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термометр 5 мин., она заметила, что столбик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показывал +20С.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Почему термометр показывал температуру выше,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чем было на самом деле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2.Лена очень любила свой красочный комнатный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термометр. Он ей во многом помогал. Коту Вась-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ке тоже нравился забавный прибор. Однажды,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проснувшись утром, Лена заметила, что всезнаю-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щий розовый ручеёк исчез из термометра.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Подумай, что случилось с термометром и чем он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помогал девочке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Medium"/>
              </a:rPr>
              <a:t>ТЕМА: </a:t>
            </a:r>
            <a:r>
              <a:rPr b="0" lang="ru-RU" sz="3600" spc="-1" strike="noStrike">
                <a:solidFill>
                  <a:srgbClr val="5f5f5f"/>
                </a:solidFill>
                <a:latin typeface="Franklin Gothic Medium"/>
              </a:rPr>
              <a:t>«ТЕРМОМЕТР»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2" name="Picture 8" descr="r2-2"/>
          <p:cNvPicPr/>
          <p:nvPr/>
        </p:nvPicPr>
        <p:blipFill>
          <a:blip r:embed="rId1"/>
          <a:stretch/>
        </p:blipFill>
        <p:spPr>
          <a:xfrm>
            <a:off x="7667640" y="33336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ani-bird_blue"/>
          <p:cNvPicPr/>
          <p:nvPr/>
        </p:nvPicPr>
        <p:blipFill>
          <a:blip r:embed="rId2"/>
          <a:stretch/>
        </p:blipFill>
        <p:spPr>
          <a:xfrm>
            <a:off x="1187280" y="404640"/>
            <a:ext cx="1238400" cy="990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1" descr="4-17"/>
          <p:cNvPicPr/>
          <p:nvPr/>
        </p:nvPicPr>
        <p:blipFill>
          <a:blip r:embed="rId3"/>
          <a:stretch/>
        </p:blipFill>
        <p:spPr>
          <a:xfrm>
            <a:off x="250920" y="530064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2" descr="b15"/>
          <p:cNvPicPr/>
          <p:nvPr/>
        </p:nvPicPr>
        <p:blipFill>
          <a:blip r:embed="rId4"/>
          <a:stretch/>
        </p:blipFill>
        <p:spPr>
          <a:xfrm>
            <a:off x="7812000" y="580536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2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2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2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2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2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2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95280" y="2017800"/>
            <a:ext cx="42480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34342"/>
                </a:solidFill>
                <a:latin typeface="Franklin Gothic Book"/>
              </a:rPr>
              <a:t>Проблемные вопросы: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1.Почему низкорослую чернику называют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кустарником, а высокий василёк (цикорий) травой.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2.Зачем нужно знать, из чего состоять растения?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3.Может ли быть на одной веточке цветок и плод?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4.Почему на лугу, где паслись козы, никогда не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цвели цветы?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5.Можно ли сказать, что люди, часами сидящие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перед растениями, работают?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34342"/>
                </a:solidFill>
                <a:latin typeface="Franklin Gothic Book"/>
              </a:rPr>
              <a:t>Проблемные задачи: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1.В корзине лежат редис и лук, яблоки и персик,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смородина и малина. Верно ли, что это растения, 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а не овощи? Кто, кроме биологов, мог их вырастить?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2.Плод и цветок хвастались друг перед другом своими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особенностями. Угадай, какими? Чем не может похвас-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таться цветок перед плодом, а плод перед цветком? 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932000" y="2017800"/>
            <a:ext cx="403236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8000"/>
                </a:solidFill>
                <a:latin typeface="Franklin Gothic Book"/>
              </a:rPr>
              <a:t>Проблемные задания: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1.Сравни стебель и корень. Что у них общего и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в чем различия?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2.Рассмотри клубень картофеля. Найди части 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растений. Чем клубень картофеля отличается от 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свёклы?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3.Рассмотри проросшие семена пшеницы и 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проросший репчатый лук. Найди корень и 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листья. Почему листья зеленые, а корешки 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белые? Почему корешки растут вниз, а 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листочки вверх? (Посади их в горшочки.)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4.Наблюдай за ростом растений. Проводи наблю-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дения через три дня, измеряя высоту растений 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линейкой. Объясни, почему у растений, посажен-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ных в одно и то же время разная быстрота роста?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Записывай в тетрадь дату появления новых листьев,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побегов. Сделай рисунки растений. Подумай, что у 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них общего и в чем отличие?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Medium"/>
              </a:rPr>
              <a:t>ТЕМА: </a:t>
            </a:r>
            <a:r>
              <a:rPr b="0" lang="ru-RU" sz="3600" spc="-1" strike="noStrike">
                <a:solidFill>
                  <a:srgbClr val="5f5f5f"/>
                </a:solidFill>
                <a:latin typeface="Franklin Gothic Medium"/>
              </a:rPr>
              <a:t>ЧАСТИ РАСТЕНИЙ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9" name="Picture 7" descr="B_Fly31"/>
          <p:cNvPicPr/>
          <p:nvPr/>
        </p:nvPicPr>
        <p:blipFill>
          <a:blip r:embed="rId1"/>
          <a:stretch/>
        </p:blipFill>
        <p:spPr>
          <a:xfrm rot="1090800">
            <a:off x="310680" y="228240"/>
            <a:ext cx="1716120" cy="1584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1" descr="Рисунок4"/>
          <p:cNvPicPr/>
          <p:nvPr/>
        </p:nvPicPr>
        <p:blipFill>
          <a:blip r:embed="rId2"/>
          <a:stretch/>
        </p:blipFill>
        <p:spPr>
          <a:xfrm>
            <a:off x="8101080" y="476280"/>
            <a:ext cx="790560" cy="799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2" descr="h71"/>
          <p:cNvPicPr/>
          <p:nvPr/>
        </p:nvPicPr>
        <p:blipFill>
          <a:blip r:embed="rId3"/>
          <a:stretch/>
        </p:blipFill>
        <p:spPr>
          <a:xfrm>
            <a:off x="3564000" y="5667480"/>
            <a:ext cx="1439640" cy="11905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3" descr="b15"/>
          <p:cNvPicPr/>
          <p:nvPr/>
        </p:nvPicPr>
        <p:blipFill>
          <a:blip r:embed="rId4"/>
          <a:stretch/>
        </p:blipFill>
        <p:spPr>
          <a:xfrm>
            <a:off x="7812000" y="5877000"/>
            <a:ext cx="1009800" cy="7714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4" descr="b15"/>
          <p:cNvPicPr/>
          <p:nvPr/>
        </p:nvPicPr>
        <p:blipFill>
          <a:blip r:embed="rId5"/>
          <a:stretch/>
        </p:blipFill>
        <p:spPr>
          <a:xfrm>
            <a:off x="324000" y="5805360"/>
            <a:ext cx="10094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2000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2000"/>
                                        <p:tgtEl>
                                          <p:spTgt spid="2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2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2000"/>
                                        <p:tgtEl>
                                          <p:spTgt spid="2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2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2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52360" y="1828800"/>
            <a:ext cx="38880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434342"/>
                </a:solidFill>
                <a:latin typeface="Franklin Gothic Book"/>
              </a:rPr>
              <a:t>Проблемные вопросы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1.Что приблизит наступление осени: затяжные 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летние дожди или изменения положения солнца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на небосклоне?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2.Почему поздней осенью календула загрустила,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а стройный одуванчик был спокоен? И стоило ли 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ей грустить7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3.Почему озеленители в сквере посадили вместе с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розами и пионами дуб, ведь у него нет красивых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цветов?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4.Почему за выращенное тобой растение, которое 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цветет и плодоносит, люди называют тебя био-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логом, а не цветоводом?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5.Можно ли задержать перелетных птиц, если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развесить везде утепленные птичьи домики?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34342"/>
                </a:solidFill>
                <a:latin typeface="Franklin Gothic Book"/>
              </a:rPr>
              <a:t>Проблемные задания: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1.Рассмотри плоды клена и березы. Сравни их размеры, найди семена и крылышки, с помо-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щью которых семена летают. Подумай, почему 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ранней весной на данной территории было боль-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ше всходов клена, а не березы, хотя семян у нее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намного больше, чем у клена?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2.Рассмртри внимательно плоды клена, березы и 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лопуха. Подумай, какие осенние изменения в 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природе радуют эти растения, а какие печалят?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3.Рассмотри и потрогай листья березы, клена, 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ольхи. Подумай, листья какого дерева лучше 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согреют растения зимой? 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Быстрее перегниют и обогатят почву?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Дольше сохранят влагу?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Medium"/>
              </a:rPr>
              <a:t>ТЕМА: </a:t>
            </a:r>
            <a:r>
              <a:rPr b="0" lang="ru-RU" sz="3600" spc="-1" strike="noStrike">
                <a:solidFill>
                  <a:srgbClr val="5f5f5f"/>
                </a:solidFill>
                <a:latin typeface="Franklin Gothic Medium"/>
              </a:rPr>
              <a:t>«ОСЕНЬ»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57" name="Picture 7" descr="j0356712"/>
          <p:cNvPicPr/>
          <p:nvPr/>
        </p:nvPicPr>
        <p:blipFill>
          <a:blip r:embed="rId1"/>
          <a:stretch/>
        </p:blipFill>
        <p:spPr>
          <a:xfrm>
            <a:off x="7343640" y="18900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6"/>
          <p:cNvPicPr/>
          <p:nvPr/>
        </p:nvPicPr>
        <p:blipFill>
          <a:blip r:embed="rId2"/>
          <a:stretch/>
        </p:blipFill>
        <p:spPr>
          <a:xfrm>
            <a:off x="1116000" y="404640"/>
            <a:ext cx="828720" cy="9525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9" descr="tree21"/>
          <p:cNvPicPr/>
          <p:nvPr/>
        </p:nvPicPr>
        <p:blipFill>
          <a:blip r:embed="rId3"/>
          <a:stretch/>
        </p:blipFill>
        <p:spPr>
          <a:xfrm>
            <a:off x="7715160" y="522936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" descr="Рисунок27"/>
          <p:cNvPicPr/>
          <p:nvPr/>
        </p:nvPicPr>
        <p:blipFill>
          <a:blip r:embed="rId4"/>
          <a:stretch/>
        </p:blipFill>
        <p:spPr>
          <a:xfrm>
            <a:off x="4140360" y="5661000"/>
            <a:ext cx="1685880" cy="9525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2" descr="6"/>
          <p:cNvPicPr/>
          <p:nvPr/>
        </p:nvPicPr>
        <p:blipFill>
          <a:blip r:embed="rId5"/>
          <a:stretch/>
        </p:blipFill>
        <p:spPr>
          <a:xfrm>
            <a:off x="179280" y="5589720"/>
            <a:ext cx="82872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2" dur="5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3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6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9" dur="2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8" dur="20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1" dur="2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2000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0" dur="2000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3" dur="2000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6" dur="2000"/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9" dur="2000"/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РЕКОМЕНДАЦИИ ПО ИСПОЛЬЗОВАНИЮ УЧЕБНЫХ ПРОБЛЕМ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95240" y="1433520"/>
            <a:ext cx="7521840" cy="357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♦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При построении проблемных уроков необходимо соблюдать дидактические принципы: научность и доступность, 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систематичность и последовательность, сознательность и 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активность учащихся при разрешении учебной проблемы.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♦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Планируя уроки, выбирать наиболее эффективное место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учебных проблем в процессе обучения.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♦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На уроке учитель должен быть внимательным к эмоциональному состоянию ученика при решении учебных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проблем, вовремя выяснить причины затруднения в 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разрешении проблемной ситуации и оказывать своевременную помощь. 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4" name="Picture 4" descr="flower03"/>
          <p:cNvPicPr/>
          <p:nvPr/>
        </p:nvPicPr>
        <p:blipFill>
          <a:blip r:embed="rId1"/>
          <a:stretch/>
        </p:blipFill>
        <p:spPr>
          <a:xfrm>
            <a:off x="179280" y="50133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11-4"/>
          <p:cNvPicPr/>
          <p:nvPr/>
        </p:nvPicPr>
        <p:blipFill>
          <a:blip r:embed="rId2"/>
          <a:stretch/>
        </p:blipFill>
        <p:spPr>
          <a:xfrm>
            <a:off x="7885080" y="5157720"/>
            <a:ext cx="1047960" cy="961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s7"/>
          <p:cNvPicPr/>
          <p:nvPr/>
        </p:nvPicPr>
        <p:blipFill>
          <a:blip r:embed="rId3"/>
          <a:stretch/>
        </p:blipFill>
        <p:spPr>
          <a:xfrm>
            <a:off x="3419640" y="0"/>
            <a:ext cx="2857320" cy="9525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b11"/>
          <p:cNvPicPr/>
          <p:nvPr/>
        </p:nvPicPr>
        <p:blipFill>
          <a:blip r:embed="rId4"/>
          <a:stretch/>
        </p:blipFill>
        <p:spPr>
          <a:xfrm>
            <a:off x="0" y="260280"/>
            <a:ext cx="79056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0:20:28Z</dcterms:created>
  <dc:creator/>
  <dc:description/>
  <dc:language>en-US</dc:language>
  <cp:lastModifiedBy>Елена</cp:lastModifiedBy>
  <dcterms:modified xsi:type="dcterms:W3CDTF">2023-02-01T11:31:07Z</dcterms:modified>
  <cp:revision>8</cp:revision>
  <dc:subject/>
  <dc:title>Слайд 1</dc:title>
</cp:coreProperties>
</file>