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2DD-DD0F-479C-A871-DB77A3FC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ED6-3BB5-464C-B27E-4D72A47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996-5E11-4BF0-BF7E-E071E59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5D6-1DAE-4269-996E-7F70D78A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9B48-E0F6-46D0-87FC-F033CF5F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DB7C-956C-4EC3-A55E-76983F3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513-9E79-4AEC-98C1-6B49708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5C4B-8DD5-4800-AED3-BD23BBA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7F19-CBB2-41BE-8AF0-EE652BBF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E721-8A3A-4221-B89E-C038B9B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76E9-56EF-472B-AA34-C4B1508C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E6E-127F-4013-B2E0-75C3FDF9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4068-BEF5-4771-A3E9-FCCE9BB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6A8-1E19-4F37-B929-3744E10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5B91-8A03-41D4-84EA-C6D4F32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CDEF-F16C-4B59-AEC9-23427ED7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95A-86A8-4EE9-9D9B-F9E9852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95FC-71A5-4C46-87E0-01C1F547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4547-E4D7-473B-98E9-EE865FD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BD6F-AF3E-409E-B4CE-A8996ABE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0524-C660-4ADF-9260-9D0686F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3A58-A42D-40C0-90D9-BEFA5F0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213-97B3-4CEC-B735-157B2E5F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2BE5-0BBB-495D-BA6F-D607828A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9E36-FE81-4A52-BD99-AE94C4A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040D-A681-4B37-BEB3-EAF7564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43C4-0F4C-41CC-BF72-5624480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BCCC-93E3-4BF0-AA20-D83EF5C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83FD-87C6-442A-AEC3-59E81AB5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6DF0-400C-47F4-9660-F1D548ED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E657-2238-4D19-93ED-BD34E814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81DA-6048-4778-91BC-BC4C32CA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1F46-E4D2-45C0-9551-142AF31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986-4F76-4EA2-B16C-54192D7B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D902-90B2-432B-A136-FD92AC6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6C13-0D42-47FA-9130-FC5D7AB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0271-7C10-4A0A-8C19-5C670B0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8FAE4-28C9-464B-B9F8-770F06F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EE05-6A52-4FBD-B50A-91C20CD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8E87-C697-4E71-A901-26017AF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3387-DF42-4E23-81B6-18A48EF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0AC7-AC02-495A-AEA4-76DE5093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00EA-57C0-4962-B4CD-196DF5F2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DD58-6CD6-4B5C-AB7D-AE3D5F1D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AA3-0176-400A-8F8E-BF5BAA1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EAF3-4FCB-41A9-ADEC-564105A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60BC-E395-4489-A1D3-D6E1A7C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41FE-9479-4675-AFF0-0FAC7EB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ADA10-6F7F-428A-8E7C-B857B90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38F4-2EE7-427F-9C69-2A31E2BA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33CE-40E9-4515-85D7-6B824E8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C99B0-9BB1-4A2D-B7AE-6463BE7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41DB-1BCC-410A-8789-927E4A4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1A6-9D01-48B7-8511-BBAA3C53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4100A-FF37-4EA9-8F83-8E8852FD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45F-1CC6-49A7-AA2A-9BB5C662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DF7F-CD8F-474B-B020-96C40D22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65F-6F3F-442C-A7BD-386F377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4DC-41F3-4D37-A12F-5156AFE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A94-5F89-4100-90F3-7B73B2E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5BD-86CA-4EF0-80FB-FA85BC81943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D06-5C11-4AFD-84DC-E553977AADF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3CE-D005-45F7-9FC9-FB5F1508448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B38-1384-4BF3-A618-84AE670D2106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916-202A-41D0-BB67-AD6257FB1F9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2440" y="4844520"/>
            <a:ext cx="6400800" cy="175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ВТОР:</a:t>
            </a:r>
            <a:r>
              <a:rPr b="0" lang="ru-RU" sz="2800" spc="-1" strike="noStrike">
                <a:solidFill>
                  <a:srgbClr val="323231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323231"/>
                </a:solidFill>
                <a:latin typeface="Franklin Gothic Book"/>
                <a:ea typeface="Tunga"/>
              </a:rPr>
              <a:t>АФАНАСЬЕВА Е.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Franklin Gothic Book"/>
                <a:ea typeface="Tung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Franklin Gothic Book"/>
                <a:ea typeface="Tunga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4" descr="37-2"/>
          <p:cNvPicPr/>
          <p:nvPr/>
        </p:nvPicPr>
        <p:blipFill>
          <a:blip r:embed="rId1"/>
          <a:stretch/>
        </p:blipFill>
        <p:spPr>
          <a:xfrm>
            <a:off x="468360" y="549360"/>
            <a:ext cx="1076400" cy="77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Рисунок21"/>
          <p:cNvPicPr/>
          <p:nvPr/>
        </p:nvPicPr>
        <p:blipFill>
          <a:blip r:embed="rId2"/>
          <a:stretch/>
        </p:blipFill>
        <p:spPr>
          <a:xfrm rot="21478800">
            <a:off x="7956360" y="26028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tree21"/>
          <p:cNvPicPr/>
          <p:nvPr/>
        </p:nvPicPr>
        <p:blipFill>
          <a:blip r:embed="rId3"/>
          <a:stretch/>
        </p:blipFill>
        <p:spPr>
          <a:xfrm>
            <a:off x="17928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6"/>
          <p:cNvPicPr/>
          <p:nvPr/>
        </p:nvPicPr>
        <p:blipFill>
          <a:blip r:embed="rId4"/>
          <a:stretch/>
        </p:blipFill>
        <p:spPr>
          <a:xfrm>
            <a:off x="7885080" y="450864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Franklin Gothic Medium"/>
              </a:rPr>
              <a:t>ПРОБЛЕМНЫЕ СИТУАЦИИ НА УРОКАХ ОКРУЖАЮЩЕГО МИР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98040" y="1557360"/>
            <a:ext cx="7520040" cy="357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Цель и назначение проблемного обучения – преодолеть элементы   механического усвоения знаний в обучении, активизировать мыслительную деятельность учащихся и ознакомить их с методами научного исследования. Толчком к продуктивному мышлению служит проблемная ситуация. Средством создания любой проблемной ситуации в учебном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процессе являются учебные проблемы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оказывают  положительное воздействие на эмоциональную сферу ребят. Ребятам нравится спорить, приятно решить проблему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Franklin Gothic Book"/>
              </a:rPr>
              <a:t>Учебные проблемы создают благоприятные условия для развития коммуникативных способностей детей, развития индивидуальности и творческого мышления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9" descr="Рисунок27"/>
          <p:cNvPicPr/>
          <p:nvPr/>
        </p:nvPicPr>
        <p:blipFill>
          <a:blip r:embed="rId1"/>
          <a:stretch/>
        </p:blipFill>
        <p:spPr>
          <a:xfrm>
            <a:off x="4427640" y="573408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b15"/>
          <p:cNvPicPr/>
          <p:nvPr/>
        </p:nvPicPr>
        <p:blipFill>
          <a:blip r:embed="rId2"/>
          <a:stretch/>
        </p:blipFill>
        <p:spPr>
          <a:xfrm>
            <a:off x="179280" y="2276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b15"/>
          <p:cNvPicPr/>
          <p:nvPr/>
        </p:nvPicPr>
        <p:blipFill>
          <a:blip r:embed="rId3"/>
          <a:stretch/>
        </p:blipFill>
        <p:spPr>
          <a:xfrm>
            <a:off x="7885080" y="580536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21M2"/>
          <p:cNvPicPr/>
          <p:nvPr/>
        </p:nvPicPr>
        <p:blipFill>
          <a:blip r:embed="rId4"/>
          <a:stretch/>
        </p:blipFill>
        <p:spPr>
          <a:xfrm>
            <a:off x="757080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Рисунок4"/>
          <p:cNvPicPr/>
          <p:nvPr/>
        </p:nvPicPr>
        <p:blipFill>
          <a:blip r:embed="rId5"/>
          <a:stretch/>
        </p:blipFill>
        <p:spPr>
          <a:xfrm>
            <a:off x="395280" y="5661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37R5"/>
          <p:cNvPicPr/>
          <p:nvPr/>
        </p:nvPicPr>
        <p:blipFill>
          <a:blip r:embed="rId6"/>
          <a:stretch/>
        </p:blipFill>
        <p:spPr>
          <a:xfrm>
            <a:off x="0" y="0"/>
            <a:ext cx="1079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6920" y="2017800"/>
            <a:ext cx="416592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Можно ли сказать, что живая и нежива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а и окружающий нас мир одно и тож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Горшок с цветком – это объекты природы и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едметы окружающего нас мир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Может ли природа быть учителе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Смогут ли существовать на Земле водоросли 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если исчезнет солнц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Какой объект живой природы может стать для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лучшим другом или враго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Верно ли, что вьюнок, цепляющийся за забор,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это животное, а паутина паучка – растение?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Когда старое дерево сгниёт, образуется удобрение, а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огда камень разрушится, образуется песок. Какой вывод можно сделать об объектах живой и неживой природ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05240" y="180504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Докажи, что кактус, за которым не ухаживали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 месяцев, - живой организм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Определи: что общего у бабочки с камнем и чем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ни отличаются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Перед вами два пластмассовых стаканчика: с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водой и землей, блюдце и вата, семена пшеницы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епчатый лук, морковь. Какие объекты живо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 можно соединить с объектами неживо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ироды, чтобы через 5(7)дней убедиться в том,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то растение – живой организм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42"/>
                </a:solidFill>
                <a:latin typeface="Franklin Gothic Book"/>
              </a:rPr>
              <a:t>Проблемная задача: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Известно: почва, солнце, осадки – объекты неживой природы. Цветок, пчела и человек –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ы живой природы. Какие из указанных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бъектов зависят  друг от друг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 УРОК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ЖИВАЯ И НЕЖИВАЯ ПРИРОДА»</a:t>
            </a: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2" name="Picture 43" descr="p18-1"/>
          <p:cNvPicPr/>
          <p:nvPr/>
        </p:nvPicPr>
        <p:blipFill>
          <a:blip r:embed="rId1"/>
          <a:stretch/>
        </p:blipFill>
        <p:spPr>
          <a:xfrm>
            <a:off x="179280" y="2492280"/>
            <a:ext cx="685800" cy="1390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4" descr="s7"/>
          <p:cNvPicPr/>
          <p:nvPr/>
        </p:nvPicPr>
        <p:blipFill>
          <a:blip r:embed="rId2"/>
          <a:stretch/>
        </p:blipFill>
        <p:spPr>
          <a:xfrm>
            <a:off x="-75708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5" descr="Рисунок5"/>
          <p:cNvPicPr/>
          <p:nvPr/>
        </p:nvPicPr>
        <p:blipFill>
          <a:blip r:embed="rId3"/>
          <a:stretch/>
        </p:blipFill>
        <p:spPr>
          <a:xfrm rot="21460200">
            <a:off x="0" y="5229000"/>
            <a:ext cx="1066680" cy="109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6" descr="1FL"/>
          <p:cNvPicPr/>
          <p:nvPr/>
        </p:nvPicPr>
        <p:blipFill>
          <a:blip r:embed="rId4"/>
          <a:stretch/>
        </p:blipFill>
        <p:spPr>
          <a:xfrm>
            <a:off x="4572000" y="5734080"/>
            <a:ext cx="936720" cy="833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8" descr="125"/>
          <p:cNvPicPr/>
          <p:nvPr/>
        </p:nvPicPr>
        <p:blipFill>
          <a:blip r:embed="rId5"/>
          <a:stretch/>
        </p:blipFill>
        <p:spPr>
          <a:xfrm>
            <a:off x="6516720" y="126828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9" descr="k2-1"/>
          <p:cNvPicPr/>
          <p:nvPr/>
        </p:nvPicPr>
        <p:blipFill>
          <a:blip r:embed="rId6"/>
          <a:stretch/>
        </p:blipFill>
        <p:spPr>
          <a:xfrm>
            <a:off x="8077320" y="692280"/>
            <a:ext cx="1066680" cy="1400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0" descr="b15"/>
          <p:cNvPicPr/>
          <p:nvPr/>
        </p:nvPicPr>
        <p:blipFill>
          <a:blip r:embed="rId7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158760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Franklin Gothic Book"/>
              </a:rPr>
              <a:t>Проблемные вопросы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Почему термометр иногда называют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измеритель или градусник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Можно ли уличным термометром измерить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у человеческого тела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3.Чем опасен медицинский термометр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4.Верно ли, что без термометра некоторые люд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огут стать плохими специалистами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5.В каком случае исправный водный термометр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жет неверную температур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6.Есть ли разница между термометрами, если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один висит в столовой, а другой – в сталеварном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цеху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7.Когда может произойти такое, что два одн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лассника, посмотрев на один и тот же  термо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метр в одно и то же время, увидят разные показания температуры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88000" y="143208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Franklin Gothic Book"/>
              </a:rPr>
              <a:t>Проблемные задач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1.Осенью по радио метеорологи сообщили, что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мпература воздуха +5С. Нина решила прове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рить их сообщение. Она взяла комнатный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и вышла на улицу. Подержав в руке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 5 мин., она заметила, что столбик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казывал +20С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чему термометр показывал температуру выше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чем было на самом деле?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2.Лена очень любила свой красочный комнатный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термометр. Он ей во многом помогал. Коту Вась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ке тоже нравился забавный прибор. Однажды,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роснувшись утром, Лена заметила, что всезнаю-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щий розовый ручеёк исчез из термометра.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думай, что случилось с термометром и чем он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Franklin Gothic Book"/>
              </a:rPr>
              <a:t>помогал девочке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ТЕРМОМЕТР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8" descr="r2-2"/>
          <p:cNvPicPr/>
          <p:nvPr/>
        </p:nvPicPr>
        <p:blipFill>
          <a:blip r:embed="rId1"/>
          <a:stretch/>
        </p:blipFill>
        <p:spPr>
          <a:xfrm>
            <a:off x="7667640" y="3333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ani-bird_blue"/>
          <p:cNvPicPr/>
          <p:nvPr/>
        </p:nvPicPr>
        <p:blipFill>
          <a:blip r:embed="rId2"/>
          <a:stretch/>
        </p:blipFill>
        <p:spPr>
          <a:xfrm>
            <a:off x="1187280" y="404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4-17"/>
          <p:cNvPicPr/>
          <p:nvPr/>
        </p:nvPicPr>
        <p:blipFill>
          <a:blip r:embed="rId3"/>
          <a:stretch/>
        </p:blipFill>
        <p:spPr>
          <a:xfrm>
            <a:off x="250920" y="53006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b15"/>
          <p:cNvPicPr/>
          <p:nvPr/>
        </p:nvPicPr>
        <p:blipFill>
          <a:blip r:embed="rId4"/>
          <a:stretch/>
        </p:blipFill>
        <p:spPr>
          <a:xfrm>
            <a:off x="7812000" y="580536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5280" y="2017800"/>
            <a:ext cx="424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34342"/>
                </a:solidFill>
                <a:latin typeface="Franklin Gothic Book"/>
              </a:rPr>
              <a:t>Проблемные вопросы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Почему низкорослую чернику называют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кустарником, а высокий василёк (цикорий) травой.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Зачем нужно знать, из чего состоять растен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Может ли быть на одной веточке цветок и плод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Почему на лугу, где паслись козы, никогда н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цвели цвет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5.Можно ли сказать, что люди, часами сидящие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еред растениями, работают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чи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В корзине лежат редис и лук, яблоки и персик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мородина и малина. Верно ли, что это растения,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а не овощи? Кто, кроме биологов, мог их вырастить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Плод и цветок хвастались друг перед другом своим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особенностями. Угадай, какими? Чем не может похвас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таться цветок перед плодом, а плод перед цветком?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32000" y="2017800"/>
            <a:ext cx="40323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Franklin Gothic Book"/>
              </a:rPr>
              <a:t>Проблемные задания: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1.Сравни стебель и корень. Что у них общего и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в чем различия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2.Рассмотри клубень картофеля. Найди част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растений. Чем клубень картофеля отличается от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свёклы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3.Рассмотри проросшие семена пшеницы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роросший репчатый лук. Найди корень 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ья. Почему листья зеленые, а корешки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белые? Почему корешки растут вниз, а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сточки вверх? (Посади их в горшочки.)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4.Наблюдай за ростом растений. Проводи наблю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дения через три дня, измеряя высоту растений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линейкой. Объясни, почему у растений, посажен-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ых в одно и то же время разная быстрота роста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Записывай в тетрадь дату появления новых листьев,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побегов. Сделай рисунки растений. Подумай, что у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Franklin Gothic Book"/>
              </a:rPr>
              <a:t>них общего и в чем отличие?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ЧАСТИ РАСТЕНИЙ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9" name="Picture 7" descr="B_Fly31"/>
          <p:cNvPicPr/>
          <p:nvPr/>
        </p:nvPicPr>
        <p:blipFill>
          <a:blip r:embed="rId1"/>
          <a:stretch/>
        </p:blipFill>
        <p:spPr>
          <a:xfrm rot="1090800">
            <a:off x="310680" y="228240"/>
            <a:ext cx="171612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Рисунок4"/>
          <p:cNvPicPr/>
          <p:nvPr/>
        </p:nvPicPr>
        <p:blipFill>
          <a:blip r:embed="rId2"/>
          <a:stretch/>
        </p:blipFill>
        <p:spPr>
          <a:xfrm>
            <a:off x="8101080" y="4762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h71"/>
          <p:cNvPicPr/>
          <p:nvPr/>
        </p:nvPicPr>
        <p:blipFill>
          <a:blip r:embed="rId3"/>
          <a:stretch/>
        </p:blipFill>
        <p:spPr>
          <a:xfrm>
            <a:off x="3564000" y="5667480"/>
            <a:ext cx="1439640" cy="1190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15"/>
          <p:cNvPicPr/>
          <p:nvPr/>
        </p:nvPicPr>
        <p:blipFill>
          <a:blip r:embed="rId4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b15"/>
          <p:cNvPicPr/>
          <p:nvPr/>
        </p:nvPicPr>
        <p:blipFill>
          <a:blip r:embed="rId5"/>
          <a:stretch/>
        </p:blipFill>
        <p:spPr>
          <a:xfrm>
            <a:off x="324000" y="580536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360" y="1828800"/>
            <a:ext cx="388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34342"/>
                </a:solidFill>
                <a:latin typeface="Franklin Gothic Book"/>
              </a:rPr>
              <a:t>Проблемные вопросы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Что приблизит наступление осени: затяжны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етние дожди или изменения положения солнца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 небосклоне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Почему поздней осенью календула загрустила,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а стройный одуванчик был спокоен? И стоило л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ей грустить7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Почему озеленители в сквере посадили вместе с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озами и пионами дуб, ведь у него нет красивых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ов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4.Почему за выращенное тобой растение, которо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цветет и плодоносит, люди называют тебя би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гом, а не цветоводом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5.Можно ли задержать перелетных птиц, если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звесить везде утепленные птичьи домики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34342"/>
                </a:solidFill>
                <a:latin typeface="Franklin Gothic Book"/>
              </a:rPr>
              <a:t>Проблемные задания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1.Рассмотри плоды клена и березы. Сравни их размеры, найди семена и крылышки, с помо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щью которых семена летают. Подумай, почему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ранней весной на данной территории было боль-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ше всходов клена, а не березы, хотя семян у нее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намного больше, чем у клена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2.Рассмртри внимательно плоды клена, березы и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лопуха. Подумай, какие осенние изменения в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природе радуют эти растения, а какие печалят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3.Рассмотри и потрогай листья березы, клена,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ольхи. Подумай, листья какого дерева лучше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согреют растения зимой? 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Быстрее перегниют и обогатят почв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Franklin Gothic Book"/>
              </a:rPr>
              <a:t>Дольше сохранят влагу?</a:t>
            </a: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ТЕМА: </a:t>
            </a:r>
            <a:r>
              <a:rPr b="0" lang="ru-RU" sz="3600" spc="-1" strike="noStrike">
                <a:solidFill>
                  <a:srgbClr val="5f5f5f"/>
                </a:solidFill>
                <a:latin typeface="Franklin Gothic Medium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Picture 7" descr="j0356712"/>
          <p:cNvPicPr/>
          <p:nvPr/>
        </p:nvPicPr>
        <p:blipFill>
          <a:blip r:embed="rId1"/>
          <a:stretch/>
        </p:blipFill>
        <p:spPr>
          <a:xfrm>
            <a:off x="7343640" y="18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6"/>
          <p:cNvPicPr/>
          <p:nvPr/>
        </p:nvPicPr>
        <p:blipFill>
          <a:blip r:embed="rId2"/>
          <a:stretch/>
        </p:blipFill>
        <p:spPr>
          <a:xfrm>
            <a:off x="1116000" y="4046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tree21"/>
          <p:cNvPicPr/>
          <p:nvPr/>
        </p:nvPicPr>
        <p:blipFill>
          <a:blip r:embed="rId3"/>
          <a:stretch/>
        </p:blipFill>
        <p:spPr>
          <a:xfrm>
            <a:off x="771516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Рисунок27"/>
          <p:cNvPicPr/>
          <p:nvPr/>
        </p:nvPicPr>
        <p:blipFill>
          <a:blip r:embed="rId4"/>
          <a:stretch/>
        </p:blipFill>
        <p:spPr>
          <a:xfrm>
            <a:off x="4140360" y="566100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6"/>
          <p:cNvPicPr/>
          <p:nvPr/>
        </p:nvPicPr>
        <p:blipFill>
          <a:blip r:embed="rId5"/>
          <a:stretch/>
        </p:blipFill>
        <p:spPr>
          <a:xfrm>
            <a:off x="179280" y="558972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КОМЕНДАЦИИ ПО ИСПОЛЬЗОВАНИЮ УЧЕБНЫХ ПРОБЛЕМ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95240" y="1433520"/>
            <a:ext cx="7521840" cy="357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и построении проблемных уроков необходимо соблюдать дидактические принципы: научность и доступность,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ность и последовательность, сознательность и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ь учащихся при разрешении учебной проблемы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ланируя уроки, выбирать наиболее эффективное место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облем в процессе обучения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уроке учитель должен быть внимательным к эмоциональному состоянию ученика при решении учебных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облем, вовремя выяснить причины затруднения в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и проблемной ситуации и оказывать своевременную помощь.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4" descr="flower03"/>
          <p:cNvPicPr/>
          <p:nvPr/>
        </p:nvPicPr>
        <p:blipFill>
          <a:blip r:embed="rId1"/>
          <a:stretch/>
        </p:blipFill>
        <p:spPr>
          <a:xfrm>
            <a:off x="179280" y="501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11-4"/>
          <p:cNvPicPr/>
          <p:nvPr/>
        </p:nvPicPr>
        <p:blipFill>
          <a:blip r:embed="rId2"/>
          <a:stretch/>
        </p:blipFill>
        <p:spPr>
          <a:xfrm>
            <a:off x="7885080" y="51577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s7"/>
          <p:cNvPicPr/>
          <p:nvPr/>
        </p:nvPicPr>
        <p:blipFill>
          <a:blip r:embed="rId3"/>
          <a:stretch/>
        </p:blipFill>
        <p:spPr>
          <a:xfrm>
            <a:off x="341964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11"/>
          <p:cNvPicPr/>
          <p:nvPr/>
        </p:nvPicPr>
        <p:blipFill>
          <a:blip r:embed="rId4"/>
          <a:stretch/>
        </p:blipFill>
        <p:spPr>
          <a:xfrm>
            <a:off x="0" y="260280"/>
            <a:ext cx="790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0:28Z</dcterms:created>
  <dc:creator/>
  <dc:description/>
  <dc:language>en-US</dc:language>
  <cp:lastModifiedBy>Елена</cp:lastModifiedBy>
  <dcterms:modified xsi:type="dcterms:W3CDTF">2023-02-01T11:31:07Z</dcterms:modified>
  <cp:revision>8</cp:revision>
  <dc:subject/>
  <dc:title>Слайд 1</dc:title>
</cp:coreProperties>
</file>