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5.gif" ContentType="image/gif"/>
  <Override PartName="/ppt/media/image4.gif" ContentType="image/gif"/>
  <Override PartName="/ppt/media/image23.gif" ContentType="image/gif"/>
  <Override PartName="/ppt/media/image22.gif" ContentType="image/gif"/>
  <Override PartName="/ppt/media/image21.gif" ContentType="image/gif"/>
  <Override PartName="/ppt/media/image19.gif" ContentType="image/gif"/>
  <Override PartName="/ppt/media/image1.gif" ContentType="image/gif"/>
  <Override PartName="/ppt/media/image3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11A7-2675-49C2-BED8-59FBA5AF6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3956-5327-471B-93A1-18B722D8B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8450-C962-4811-80B3-B390BEAB4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6DC9-7741-42C6-A1D3-5F2205677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A0228-E453-49E3-A0AF-DEE79A09C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51E4E-5A02-4382-B6D2-8D388D98C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51999-1F28-436E-BAD4-33C3A88B4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4B4E7-D92B-42E7-8DD8-03B73BAE5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6F784-63A0-4FB3-9D72-7CB962CF7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6E086-1242-499A-A1C0-302A21449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E276E-EC55-49C1-9DB1-DCDF6066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2317-04CE-4E43-BBEB-504C3F1CB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E1334-3778-4E2C-9AE9-68C0DA25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C8D15-C76D-41F9-81D8-2CB840D5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5FEA7-D5D4-4795-880F-99E31B52F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C4E72-F011-4719-8C75-578B056FA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BF735-5657-4D12-9D45-CF4A9D49C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28DB4-C9AE-44B0-911E-9AD7297F5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A0596-8BF5-484B-BF50-C9ED96C15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0DC84-9BAE-4BFC-A54A-5274E8FF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55A04-18B3-48F7-8781-9B573F0D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61DAC-389E-4B2C-8067-D7C4CCD5B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3DB3-3899-4DA6-9270-8FC334FA7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1D848-8BF4-4BB2-948C-F9877039A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0C895-C651-4ADC-A546-7561C9E1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DE2A4-706A-452F-857C-0B444BAE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DDC01-0291-4ABC-BF76-2EC81594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F3D72-9DDD-4852-9A4D-74F0204C7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9226E-1AD5-4FBC-A794-71B1C5963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33B2E-070A-4EB7-9920-CA01BE89A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62933-BD25-4FD1-9F35-A41917D79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EE2D6-6342-4C3B-BC23-0E78CFCA4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8817D-1ED9-4328-9B83-4E636A198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803B-0C05-4A94-8FBA-D92EC4E54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DDB66-1614-488E-AD88-BB1317AEC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CC1EA-06B7-4C47-BBBB-65134213D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4F862-0290-426B-80CC-E36C34EF7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41DFE-7F2A-4F39-887A-28C4CE4E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58103-A7ED-4D20-988C-01A4B992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8621F-1E2D-461C-B311-BA66F391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037CE-4D08-4352-9FBC-8BD793EE1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B2F04-63A8-4313-89E1-BE6E43A61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F0DCF-E3AD-4270-B71D-34CB899BB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C6F1D-DA61-4C70-8AB6-594D3CDDB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16C4-2D47-4D31-A38E-00BFEFABB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D4E25-AAEE-45D8-9456-B6CB2EF75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28300-B717-40F1-AD49-635B81E9B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C76AA-C427-47FF-BA4C-97CF75804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7E1FD-0064-4FB1-94B3-6DAB61F2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FE3B1-FD3E-44C5-B05E-14D5F1D80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E5C96-5286-4F27-AB89-DF6BA4D7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99A09-C1E9-44C3-B991-91F6FE45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AEEDD-9D2E-4C3B-8F36-90F147E8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DA059-5952-4383-881E-5E9CCF15B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1B375-7655-452F-9C7E-5B2258F63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2CD0-AF02-49CA-8CDA-EB2B669C5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4895B-C9CE-4326-B699-8CBA657F1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31BE-0BFE-4758-900D-689851A9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C413-1D68-46FF-B5A0-F1AE2D48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211B-417F-429F-A91F-16044D9C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8067A-5DCC-48A8-A55E-B0F3208D9D47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0E0ED-C028-4916-B0D1-5D50936B9D25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37930-CF35-47A1-ABD1-9E97C2A170B7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08315-3AE0-4898-894C-DA266FF241B8}" type="slidenum">
              <a:rPr b="0" lang="ru-RU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89152-9D4E-45F5-9DA5-8E71D4A64873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image" Target="../media/image15.gif"/><Relationship Id="rId7" Type="http://schemas.openxmlformats.org/officeDocument/2006/relationships/image" Target="../media/image6.gi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8.gif"/><Relationship Id="rId3" Type="http://schemas.openxmlformats.org/officeDocument/2006/relationships/image" Target="../media/image20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4.gif"/><Relationship Id="rId3" Type="http://schemas.openxmlformats.org/officeDocument/2006/relationships/image" Target="../media/image3.gif"/><Relationship Id="rId4" Type="http://schemas.openxmlformats.org/officeDocument/2006/relationships/image" Target="../media/image5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image" Target="../media/image11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 rot="19140000">
            <a:off x="817200" y="1729800"/>
            <a:ext cx="5648400" cy="120492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txBody>
          <a:bodyPr bIns="90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f5f5f"/>
                </a:solidFill>
                <a:latin typeface="Franklin Gothic Medium"/>
              </a:rPr>
              <a:t>ПРОБЛЕМНЫЕ СИТУАЦИИ НА УРОКАХ ОКРУЖАЮЩЕГО МИРА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522440" y="4844520"/>
            <a:ext cx="6400800" cy="1752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23231"/>
                </a:solidFill>
                <a:latin typeface="Franklin Gothic Book"/>
                <a:ea typeface="Tunga"/>
              </a:rPr>
              <a:t>АВТОР:</a:t>
            </a:r>
            <a:r>
              <a:rPr b="0" lang="ru-RU" sz="2800" spc="-1" strike="noStrike">
                <a:solidFill>
                  <a:srgbClr val="323231"/>
                </a:solidFill>
                <a:latin typeface="Franklin Gothic Book"/>
                <a:ea typeface="Tunga"/>
              </a:rPr>
              <a:t> </a:t>
            </a:r>
            <a:r>
              <a:rPr b="1" lang="ru-RU" sz="2400" spc="-1" strike="noStrike">
                <a:solidFill>
                  <a:srgbClr val="323231"/>
                </a:solidFill>
                <a:latin typeface="Franklin Gothic Book"/>
                <a:ea typeface="Tunga"/>
              </a:rPr>
              <a:t>АФАНАСЬЕВА Е.Л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69696"/>
                </a:solidFill>
                <a:latin typeface="Franklin Gothic Book"/>
                <a:ea typeface="Tunga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Franklin Gothic Book"/>
                <a:ea typeface="Tunga"/>
              </a:rPr>
              <a:t>УЧИТЕЛЬ НАЧАЛЬНЫХ КЛАССОВ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17" name="Picture 4" descr="37-2"/>
          <p:cNvPicPr/>
          <p:nvPr/>
        </p:nvPicPr>
        <p:blipFill>
          <a:blip r:embed="rId1"/>
          <a:stretch/>
        </p:blipFill>
        <p:spPr>
          <a:xfrm>
            <a:off x="468360" y="549360"/>
            <a:ext cx="1076400" cy="7714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Рисунок21"/>
          <p:cNvPicPr/>
          <p:nvPr/>
        </p:nvPicPr>
        <p:blipFill>
          <a:blip r:embed="rId2"/>
          <a:stretch/>
        </p:blipFill>
        <p:spPr>
          <a:xfrm rot="21478800">
            <a:off x="7956360" y="260280"/>
            <a:ext cx="590400" cy="9907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tree21"/>
          <p:cNvPicPr/>
          <p:nvPr/>
        </p:nvPicPr>
        <p:blipFill>
          <a:blip r:embed="rId3"/>
          <a:stretch/>
        </p:blipFill>
        <p:spPr>
          <a:xfrm>
            <a:off x="179280" y="414972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6"/>
          <p:cNvPicPr/>
          <p:nvPr/>
        </p:nvPicPr>
        <p:blipFill>
          <a:blip r:embed="rId4"/>
          <a:stretch/>
        </p:blipFill>
        <p:spPr>
          <a:xfrm>
            <a:off x="7885080" y="4508640"/>
            <a:ext cx="828720" cy="95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7792920" cy="14619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f5f5f"/>
                </a:solidFill>
                <a:latin typeface="Franklin Gothic Medium"/>
              </a:rPr>
              <a:t>ПРОБЛЕМНЫЕ СИТУАЦИИ НА УРОКАХ ОКРУЖАЮЩЕГО МИРА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98040" y="1557360"/>
            <a:ext cx="7520040" cy="3579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                   </a:t>
            </a:r>
            <a:r>
              <a:rPr b="1" lang="ru-RU" sz="1500" spc="-1" strike="noStrike">
                <a:solidFill>
                  <a:srgbClr val="000000"/>
                </a:solidFill>
                <a:latin typeface="Franklin Gothic Book"/>
              </a:rPr>
              <a:t>Цель и назначение проблемного обучения – преодолеть элементы   механического усвоения знаний в обучении, активизировать мыслительную деятельность учащихся и ознакомить их с методами научного исследования. Толчком к продуктивному мышлению служит проблемная ситуация. Средством создания любой проблемной ситуации в учебном 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Franklin Gothic Book"/>
              </a:rPr>
              <a:t>      </a:t>
            </a:r>
            <a:r>
              <a:rPr b="1" lang="ru-RU" sz="1500" spc="-1" strike="noStrike">
                <a:solidFill>
                  <a:srgbClr val="000000"/>
                </a:solidFill>
                <a:latin typeface="Franklin Gothic Book"/>
              </a:rPr>
              <a:t>процессе являются учебные проблемы. 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Franklin Gothic Book"/>
              </a:rPr>
              <a:t>      </a:t>
            </a:r>
            <a:r>
              <a:rPr b="1" lang="ru-RU" sz="1500" spc="-1" strike="noStrike">
                <a:solidFill>
                  <a:srgbClr val="000000"/>
                </a:solidFill>
                <a:latin typeface="Franklin Gothic Book"/>
              </a:rPr>
              <a:t>Учебные проблемы оказывают  положительное воздействие на эмоциональную сферу ребят. Ребятам нравится спорить, приятно решить проблему.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Franklin Gothic Book"/>
              </a:rPr>
              <a:t>      </a:t>
            </a:r>
            <a:r>
              <a:rPr b="1" lang="ru-RU" sz="1500" spc="-1" strike="noStrike">
                <a:solidFill>
                  <a:srgbClr val="000000"/>
                </a:solidFill>
                <a:latin typeface="Franklin Gothic Book"/>
              </a:rPr>
              <a:t>Учебные проблемы создают благоприятные условия для развития коммуникативных способностей детей, развития индивидуальности и творческого мышления.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23" name="Picture 9" descr="Рисунок27"/>
          <p:cNvPicPr/>
          <p:nvPr/>
        </p:nvPicPr>
        <p:blipFill>
          <a:blip r:embed="rId1"/>
          <a:stretch/>
        </p:blipFill>
        <p:spPr>
          <a:xfrm>
            <a:off x="4427640" y="5734080"/>
            <a:ext cx="2190600" cy="9525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0" descr="b15"/>
          <p:cNvPicPr/>
          <p:nvPr/>
        </p:nvPicPr>
        <p:blipFill>
          <a:blip r:embed="rId2"/>
          <a:stretch/>
        </p:blipFill>
        <p:spPr>
          <a:xfrm>
            <a:off x="179280" y="2276640"/>
            <a:ext cx="1009800" cy="7714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1" descr="b15"/>
          <p:cNvPicPr/>
          <p:nvPr/>
        </p:nvPicPr>
        <p:blipFill>
          <a:blip r:embed="rId3"/>
          <a:stretch/>
        </p:blipFill>
        <p:spPr>
          <a:xfrm>
            <a:off x="7885080" y="5805360"/>
            <a:ext cx="1009800" cy="7714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2" descr="21M2"/>
          <p:cNvPicPr/>
          <p:nvPr/>
        </p:nvPicPr>
        <p:blipFill>
          <a:blip r:embed="rId4"/>
          <a:stretch/>
        </p:blipFill>
        <p:spPr>
          <a:xfrm>
            <a:off x="7570800" y="189000"/>
            <a:ext cx="1573200" cy="16556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3" descr="Рисунок4"/>
          <p:cNvPicPr/>
          <p:nvPr/>
        </p:nvPicPr>
        <p:blipFill>
          <a:blip r:embed="rId5"/>
          <a:stretch/>
        </p:blipFill>
        <p:spPr>
          <a:xfrm>
            <a:off x="395280" y="5661000"/>
            <a:ext cx="790560" cy="8002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4" descr="37R5"/>
          <p:cNvPicPr/>
          <p:nvPr/>
        </p:nvPicPr>
        <p:blipFill>
          <a:blip r:embed="rId6"/>
          <a:stretch/>
        </p:blipFill>
        <p:spPr>
          <a:xfrm>
            <a:off x="0" y="0"/>
            <a:ext cx="1079640" cy="95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8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826920" y="2017800"/>
            <a:ext cx="416592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Franklin Gothic Book"/>
              </a:rPr>
              <a:t>Проблемные вопросы: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1.Можно ли сказать, что живая и неживая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природа и окружающий нас мир одно и тоже?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2.Горшок с цветком – это объекты природы или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предметы окружающего нас мира?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3.Может ли природа быть учителем?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4.Смогут ли существовать на Земле водоросли и 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    </a:t>
            </a: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если исчезнет солнце?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5.Какой объект живой природы может стать для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природы лучшим другом или врагом?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6.Верно ли, что вьюнок, цепляющийся за забор,-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это животное, а паутина паучка – растение? 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34342"/>
                </a:solidFill>
                <a:latin typeface="Franklin Gothic Book"/>
              </a:rPr>
              <a:t>Проблемная задача: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1.Когда старое дерево сгниёт, образуется удобрение, а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когда камень разрушится, образуется песок. Какой вывод можно сделать об объектах живой и неживой природы?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205240" y="1805040"/>
            <a:ext cx="3200400" cy="3713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Franklin Gothic Book"/>
              </a:rPr>
              <a:t>Проблемные задания: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1.Докажи, что кактус, за которым не ухаживали 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5 месяцев, - живой организм.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2.Определи: что общего у бабочки с камнем и чем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они отличаются.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3.Перед вами два пластмассовых стаканчика: с 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водой и землей, блюдце и вата, семена пшеницы,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репчатый лук, морковь. Какие объекты живой 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природы можно соединить с объектами неживой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природы, чтобы через 5(7)дней убедиться в том,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что растение – живой организм?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34342"/>
                </a:solidFill>
                <a:latin typeface="Franklin Gothic Book"/>
              </a:rPr>
              <a:t>Проблемная задача: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2.Известно: почва, солнце, осадки – объекты неживой природы. Цветок, пчела и человек –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объекты живой природы. Какие из указанных 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объектов зависят  друг от друга?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Franklin Gothic Medium"/>
              </a:rPr>
              <a:t>ТЕМА УРОКА: </a:t>
            </a:r>
            <a:r>
              <a:rPr b="0" lang="ru-RU" sz="3600" spc="-1" strike="noStrike">
                <a:solidFill>
                  <a:srgbClr val="5f5f5f"/>
                </a:solidFill>
                <a:latin typeface="Franklin Gothic Medium"/>
              </a:rPr>
              <a:t>«ЖИВАЯ И НЕЖИВАЯ ПРИРОДА»</a:t>
            </a:r>
            <a:r>
              <a:rPr b="0" lang="ru-RU" sz="3600" spc="-1" strike="noStrike">
                <a:solidFill>
                  <a:srgbClr val="000000"/>
                </a:solidFill>
                <a:latin typeface="Franklin Gothic Medium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32" name="Picture 43" descr="p18-1"/>
          <p:cNvPicPr/>
          <p:nvPr/>
        </p:nvPicPr>
        <p:blipFill>
          <a:blip r:embed="rId1"/>
          <a:stretch/>
        </p:blipFill>
        <p:spPr>
          <a:xfrm>
            <a:off x="179280" y="2492280"/>
            <a:ext cx="685800" cy="13906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4" descr="s7"/>
          <p:cNvPicPr/>
          <p:nvPr/>
        </p:nvPicPr>
        <p:blipFill>
          <a:blip r:embed="rId2"/>
          <a:stretch/>
        </p:blipFill>
        <p:spPr>
          <a:xfrm>
            <a:off x="-757080" y="0"/>
            <a:ext cx="2857320" cy="9525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5" descr="Рисунок5"/>
          <p:cNvPicPr/>
          <p:nvPr/>
        </p:nvPicPr>
        <p:blipFill>
          <a:blip r:embed="rId3"/>
          <a:stretch/>
        </p:blipFill>
        <p:spPr>
          <a:xfrm rot="21460200">
            <a:off x="0" y="5229000"/>
            <a:ext cx="1066680" cy="10951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6" descr="1FL"/>
          <p:cNvPicPr/>
          <p:nvPr/>
        </p:nvPicPr>
        <p:blipFill>
          <a:blip r:embed="rId4"/>
          <a:stretch/>
        </p:blipFill>
        <p:spPr>
          <a:xfrm>
            <a:off x="4572000" y="5734080"/>
            <a:ext cx="936720" cy="8334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8" descr="125"/>
          <p:cNvPicPr/>
          <p:nvPr/>
        </p:nvPicPr>
        <p:blipFill>
          <a:blip r:embed="rId5"/>
          <a:stretch/>
        </p:blipFill>
        <p:spPr>
          <a:xfrm>
            <a:off x="6516720" y="1268280"/>
            <a:ext cx="576360" cy="5749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9" descr="k2-1"/>
          <p:cNvPicPr/>
          <p:nvPr/>
        </p:nvPicPr>
        <p:blipFill>
          <a:blip r:embed="rId6"/>
          <a:stretch/>
        </p:blipFill>
        <p:spPr>
          <a:xfrm>
            <a:off x="8077320" y="692280"/>
            <a:ext cx="1066680" cy="14000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0" descr="b15"/>
          <p:cNvPicPr/>
          <p:nvPr/>
        </p:nvPicPr>
        <p:blipFill>
          <a:blip r:embed="rId7"/>
          <a:stretch/>
        </p:blipFill>
        <p:spPr>
          <a:xfrm>
            <a:off x="7812000" y="587700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2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2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2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2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2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22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2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2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2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23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3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3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9640" y="1587600"/>
            <a:ext cx="3200400" cy="3713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Franklin Gothic Book"/>
              </a:rPr>
              <a:t>Проблемные вопросы: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1.Почему термометр иногда называют 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термоизмеритель или градусник?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2.Можно ли уличным термометром измерить 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температуру человеческого тела?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3.Чем опасен медицинский термометр?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4.Верно ли, что без термометра некоторые люди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могут стать плохими специалистами?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5.В каком случае исправный водный термометр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покажет неверную температуру?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6.Есть ли разница между термометрами, если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один висит в столовой, а другой – в сталеварном 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цеху?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7.Когда может произойти такое, что два одно-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классника, посмотрев на один и тот же  термо-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метр в одно и то же время, увидят разные показания температуры?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788000" y="1432080"/>
            <a:ext cx="3200400" cy="3713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Franklin Gothic Book"/>
              </a:rPr>
              <a:t>Проблемные задачи: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1.Осенью по радио метеорологи сообщили, что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температура воздуха +5С. Нина решила прове-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рить их сообщение. Она взяла комнатный 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термометр и вышла на улицу. Подержав в руке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термометр 5 мин., она заметила, что столбик 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показывал +20С.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Почему термометр показывал температуру выше, 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чем было на самом деле?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2.Лена очень любила свой красочный комнатный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термометр. Он ей во многом помогал. Коту Вась-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ке тоже нравился забавный прибор. Однажды, 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проснувшись утром, Лена заметила, что всезнаю-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щий розовый ручеёк исчез из термометра.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Подумай, что случилось с термометром и чем он 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помогал девочке 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Franklin Gothic Medium"/>
              </a:rPr>
              <a:t>ТЕМА: </a:t>
            </a:r>
            <a:r>
              <a:rPr b="0" lang="ru-RU" sz="3600" spc="-1" strike="noStrike">
                <a:solidFill>
                  <a:srgbClr val="5f5f5f"/>
                </a:solidFill>
                <a:latin typeface="Franklin Gothic Medium"/>
              </a:rPr>
              <a:t>«ТЕРМОМЕТР»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42" name="Picture 8" descr="r2-2"/>
          <p:cNvPicPr/>
          <p:nvPr/>
        </p:nvPicPr>
        <p:blipFill>
          <a:blip r:embed="rId1"/>
          <a:stretch/>
        </p:blipFill>
        <p:spPr>
          <a:xfrm>
            <a:off x="7667640" y="333360"/>
            <a:ext cx="1095480" cy="10954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9" descr="ani-bird_blue"/>
          <p:cNvPicPr/>
          <p:nvPr/>
        </p:nvPicPr>
        <p:blipFill>
          <a:blip r:embed="rId2"/>
          <a:stretch/>
        </p:blipFill>
        <p:spPr>
          <a:xfrm>
            <a:off x="1187280" y="404640"/>
            <a:ext cx="1238400" cy="9907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1" descr="4-17"/>
          <p:cNvPicPr/>
          <p:nvPr/>
        </p:nvPicPr>
        <p:blipFill>
          <a:blip r:embed="rId3"/>
          <a:stretch/>
        </p:blipFill>
        <p:spPr>
          <a:xfrm>
            <a:off x="250920" y="5300640"/>
            <a:ext cx="942840" cy="11905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2" descr="b15"/>
          <p:cNvPicPr/>
          <p:nvPr/>
        </p:nvPicPr>
        <p:blipFill>
          <a:blip r:embed="rId4"/>
          <a:stretch/>
        </p:blipFill>
        <p:spPr>
          <a:xfrm>
            <a:off x="7812000" y="580536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2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2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2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2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2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2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2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2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2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24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395280" y="2017800"/>
            <a:ext cx="424800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434342"/>
                </a:solidFill>
                <a:latin typeface="Franklin Gothic Book"/>
              </a:rPr>
              <a:t>Проблемные вопросы:</a:t>
            </a: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1.Почему низкорослую чернику называют</a:t>
            </a:r>
            <a:endParaRPr b="1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кустарником, а высокий василёк (цикорий) травой.</a:t>
            </a:r>
            <a:endParaRPr b="1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2.Зачем нужно знать, из чего состоять растения?</a:t>
            </a:r>
            <a:endParaRPr b="1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3.Может ли быть на одной веточке цветок и плод?</a:t>
            </a:r>
            <a:endParaRPr b="1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4.Почему на лугу, где паслись козы, никогда не</a:t>
            </a:r>
            <a:endParaRPr b="1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цвели цветы?</a:t>
            </a:r>
            <a:endParaRPr b="1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5.Можно ли сказать, что люди, часами сидящие</a:t>
            </a:r>
            <a:endParaRPr b="1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перед растениями, работают?</a:t>
            </a:r>
            <a:endParaRPr b="1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434342"/>
                </a:solidFill>
                <a:latin typeface="Franklin Gothic Book"/>
              </a:rPr>
              <a:t>Проблемные задачи: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1.В корзине лежат редис и лук, яблоки и персик,</a:t>
            </a:r>
            <a:endParaRPr b="1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смородина и малина. Верно ли, что это растения, </a:t>
            </a:r>
            <a:endParaRPr b="1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а не овощи? Кто, кроме биологов, мог их вырастить?</a:t>
            </a:r>
            <a:endParaRPr b="1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2.Плод и цветок хвастались друг перед другом своими</a:t>
            </a:r>
            <a:endParaRPr b="1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особенностями. Угадай, какими? Чем не может похвас-</a:t>
            </a:r>
            <a:endParaRPr b="1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таться цветок перед плодом, а плод перед цветком? </a:t>
            </a:r>
            <a:endParaRPr b="1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932000" y="2017800"/>
            <a:ext cx="403236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8000"/>
                </a:solidFill>
                <a:latin typeface="Franklin Gothic Book"/>
              </a:rPr>
              <a:t>Проблемные задания:</a:t>
            </a: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1.Сравни стебель и корень. Что у них общего и</a:t>
            </a:r>
            <a:endParaRPr b="1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в чем различия?</a:t>
            </a:r>
            <a:endParaRPr b="1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2.Рассмотри клубень картофеля. Найди части </a:t>
            </a:r>
            <a:endParaRPr b="1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растений. Чем клубень картофеля отличается от </a:t>
            </a:r>
            <a:endParaRPr b="1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свёклы?</a:t>
            </a:r>
            <a:endParaRPr b="1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3.Рассмотри проросшие семена пшеницы и </a:t>
            </a:r>
            <a:endParaRPr b="1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проросший репчатый лук. Найди корень и </a:t>
            </a:r>
            <a:endParaRPr b="1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листья. Почему листья зеленые, а корешки </a:t>
            </a:r>
            <a:endParaRPr b="1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белые? Почему корешки растут вниз, а </a:t>
            </a:r>
            <a:endParaRPr b="1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листочки вверх? (Посади их в горшочки.)</a:t>
            </a:r>
            <a:endParaRPr b="1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4.Наблюдай за ростом растений. Проводи наблю-</a:t>
            </a:r>
            <a:endParaRPr b="1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дения через три дня, измеряя высоту растений </a:t>
            </a:r>
            <a:endParaRPr b="1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линейкой. Объясни, почему у растений, посажен-</a:t>
            </a:r>
            <a:endParaRPr b="1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ных в одно и то же время разная быстрота роста?</a:t>
            </a:r>
            <a:endParaRPr b="1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Записывай в тетрадь дату появления новых листьев,</a:t>
            </a:r>
            <a:endParaRPr b="1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побегов. Сделай рисунки растений. Подумай, что у </a:t>
            </a:r>
            <a:endParaRPr b="1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них общего и в чем отличие?</a:t>
            </a:r>
            <a:endParaRPr b="1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Franklin Gothic Medium"/>
              </a:rPr>
              <a:t>ТЕМА: </a:t>
            </a:r>
            <a:r>
              <a:rPr b="0" lang="ru-RU" sz="3600" spc="-1" strike="noStrike">
                <a:solidFill>
                  <a:srgbClr val="5f5f5f"/>
                </a:solidFill>
                <a:latin typeface="Franklin Gothic Medium"/>
              </a:rPr>
              <a:t>ЧАСТИ РАСТЕНИЙ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49" name="Picture 7" descr="B_Fly31"/>
          <p:cNvPicPr/>
          <p:nvPr/>
        </p:nvPicPr>
        <p:blipFill>
          <a:blip r:embed="rId1"/>
          <a:stretch/>
        </p:blipFill>
        <p:spPr>
          <a:xfrm rot="1090800">
            <a:off x="310680" y="228240"/>
            <a:ext cx="1716120" cy="15843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1" descr="Рисунок4"/>
          <p:cNvPicPr/>
          <p:nvPr/>
        </p:nvPicPr>
        <p:blipFill>
          <a:blip r:embed="rId2"/>
          <a:stretch/>
        </p:blipFill>
        <p:spPr>
          <a:xfrm>
            <a:off x="8101080" y="476280"/>
            <a:ext cx="790560" cy="7999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2" descr="h71"/>
          <p:cNvPicPr/>
          <p:nvPr/>
        </p:nvPicPr>
        <p:blipFill>
          <a:blip r:embed="rId3"/>
          <a:stretch/>
        </p:blipFill>
        <p:spPr>
          <a:xfrm>
            <a:off x="3564000" y="5667480"/>
            <a:ext cx="1439640" cy="11905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3" descr="b15"/>
          <p:cNvPicPr/>
          <p:nvPr/>
        </p:nvPicPr>
        <p:blipFill>
          <a:blip r:embed="rId4"/>
          <a:stretch/>
        </p:blipFill>
        <p:spPr>
          <a:xfrm>
            <a:off x="7812000" y="5877000"/>
            <a:ext cx="1009800" cy="7714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4" descr="b15"/>
          <p:cNvPicPr/>
          <p:nvPr/>
        </p:nvPicPr>
        <p:blipFill>
          <a:blip r:embed="rId5"/>
          <a:stretch/>
        </p:blipFill>
        <p:spPr>
          <a:xfrm>
            <a:off x="324000" y="5805360"/>
            <a:ext cx="100944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0" dur="2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3" dur="2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6" dur="2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9" dur="20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2" dur="20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5" dur="20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8" dur="2000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1" dur="2000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4" dur="2000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7" dur="2000"/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0" dur="2000"/>
                                        <p:tgtEl>
                                          <p:spTgt spid="2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3" dur="2000"/>
                                        <p:tgtEl>
                                          <p:spTgt spid="2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6" dur="2000"/>
                                        <p:tgtEl>
                                          <p:spTgt spid="2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9" dur="2000"/>
                                        <p:tgtEl>
                                          <p:spTgt spid="2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2" dur="2000"/>
                                        <p:tgtEl>
                                          <p:spTgt spid="2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5" dur="2000"/>
                                        <p:tgtEl>
                                          <p:spTgt spid="2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8" dur="2000"/>
                                        <p:tgtEl>
                                          <p:spTgt spid="2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1" dur="2000"/>
                                        <p:tgtEl>
                                          <p:spTgt spid="24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2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2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2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2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2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2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52360" y="1828800"/>
            <a:ext cx="388800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434342"/>
                </a:solidFill>
                <a:latin typeface="Franklin Gothic Book"/>
              </a:rPr>
              <a:t>Проблемные вопросы</a:t>
            </a:r>
            <a:endParaRPr b="1" lang="en-US" sz="17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1.Что приблизит наступление осени: затяжные </a:t>
            </a:r>
            <a:endParaRPr b="1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летние дожди или изменения положения солнца</a:t>
            </a:r>
            <a:endParaRPr b="1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на небосклоне?</a:t>
            </a:r>
            <a:endParaRPr b="1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2.Почему поздней осенью календула загрустила,</a:t>
            </a:r>
            <a:endParaRPr b="1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а стройный одуванчик был спокоен? И стоило ли </a:t>
            </a:r>
            <a:endParaRPr b="1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ей грустить7</a:t>
            </a:r>
            <a:endParaRPr b="1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3.Почему озеленители в сквере посадили вместе с</a:t>
            </a:r>
            <a:endParaRPr b="1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розами и пионами дуб, ведь у него нет красивых</a:t>
            </a:r>
            <a:endParaRPr b="1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цветов?</a:t>
            </a:r>
            <a:endParaRPr b="1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4.Почему за выращенное тобой растение, которое </a:t>
            </a:r>
            <a:endParaRPr b="1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цветет и плодоносит, люди называют тебя био-</a:t>
            </a:r>
            <a:endParaRPr b="1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логом, а не цветоводом?</a:t>
            </a:r>
            <a:endParaRPr b="1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5.Можно ли задержать перелетных птиц, если</a:t>
            </a:r>
            <a:endParaRPr b="1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развесить везде утепленные птичьи домики?</a:t>
            </a:r>
            <a:endParaRPr b="1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700520" y="1096920"/>
            <a:ext cx="3200400" cy="3713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434342"/>
                </a:solidFill>
                <a:latin typeface="Franklin Gothic Book"/>
              </a:rPr>
              <a:t>Проблемные задания: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305280" indent="-3052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1.Рассмотри плоды клена и березы. Сравни их размеры, найди семена и крылышки, с помо-</a:t>
            </a:r>
            <a:endParaRPr b="1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щью которых семена летают. Подумай, почему </a:t>
            </a:r>
            <a:endParaRPr b="1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ранней весной на данной территории было боль-</a:t>
            </a:r>
            <a:endParaRPr b="1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ше всходов клена, а не березы, хотя семян у нее</a:t>
            </a:r>
            <a:endParaRPr b="1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намного больше, чем у клена?</a:t>
            </a:r>
            <a:endParaRPr b="1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2.Рассмртри внимательно плоды клена, березы и </a:t>
            </a:r>
            <a:endParaRPr b="1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лопуха. Подумай, какие осенние изменения в </a:t>
            </a:r>
            <a:endParaRPr b="1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природе радуют эти растения, а какие печалят?</a:t>
            </a:r>
            <a:endParaRPr b="1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3.Рассмотри и потрогай листья березы, клена, </a:t>
            </a:r>
            <a:endParaRPr b="1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ольхи. Подумай, листья какого дерева лучше </a:t>
            </a:r>
            <a:endParaRPr b="1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согреют растения зимой? </a:t>
            </a:r>
            <a:endParaRPr b="1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Быстрее перегниют и обогатят почву?</a:t>
            </a:r>
            <a:endParaRPr b="1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Дольше сохранят влагу?</a:t>
            </a:r>
            <a:endParaRPr b="1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Franklin Gothic Medium"/>
              </a:rPr>
              <a:t>ТЕМА: </a:t>
            </a:r>
            <a:r>
              <a:rPr b="0" lang="ru-RU" sz="3600" spc="-1" strike="noStrike">
                <a:solidFill>
                  <a:srgbClr val="5f5f5f"/>
                </a:solidFill>
                <a:latin typeface="Franklin Gothic Medium"/>
              </a:rPr>
              <a:t>«ОСЕНЬ»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57" name="Picture 7" descr="j0356712"/>
          <p:cNvPicPr/>
          <p:nvPr/>
        </p:nvPicPr>
        <p:blipFill>
          <a:blip r:embed="rId1"/>
          <a:stretch/>
        </p:blipFill>
        <p:spPr>
          <a:xfrm>
            <a:off x="7343640" y="189000"/>
            <a:ext cx="1800360" cy="1800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8" descr="6"/>
          <p:cNvPicPr/>
          <p:nvPr/>
        </p:nvPicPr>
        <p:blipFill>
          <a:blip r:embed="rId2"/>
          <a:stretch/>
        </p:blipFill>
        <p:spPr>
          <a:xfrm>
            <a:off x="1116000" y="404640"/>
            <a:ext cx="828720" cy="9525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9" descr="tree21"/>
          <p:cNvPicPr/>
          <p:nvPr/>
        </p:nvPicPr>
        <p:blipFill>
          <a:blip r:embed="rId3"/>
          <a:stretch/>
        </p:blipFill>
        <p:spPr>
          <a:xfrm>
            <a:off x="7715160" y="522936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0" descr="Рисунок27"/>
          <p:cNvPicPr/>
          <p:nvPr/>
        </p:nvPicPr>
        <p:blipFill>
          <a:blip r:embed="rId4"/>
          <a:stretch/>
        </p:blipFill>
        <p:spPr>
          <a:xfrm>
            <a:off x="4140360" y="5661000"/>
            <a:ext cx="1685880" cy="9525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2" descr="6"/>
          <p:cNvPicPr/>
          <p:nvPr/>
        </p:nvPicPr>
        <p:blipFill>
          <a:blip r:embed="rId5"/>
          <a:stretch/>
        </p:blipFill>
        <p:spPr>
          <a:xfrm>
            <a:off x="179280" y="5589720"/>
            <a:ext cx="828720" cy="95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3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6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9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2" dur="5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5" dur="5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8" dur="5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1" dur="5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4" dur="5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7" dur="5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0" dur="5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3" dur="5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6" dur="5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9" dur="5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2" dur="5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5" dur="500"/>
                                        <p:tgtEl>
                                          <p:spTgt spid="2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0" dur="2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3" dur="2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6" dur="2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9" dur="20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2" dur="20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5" dur="200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8" dur="2000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1" dur="2000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4" dur="2000"/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7" dur="2000"/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0" dur="2000"/>
                                        <p:tgtEl>
                                          <p:spTgt spid="2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3" dur="2000"/>
                                        <p:tgtEl>
                                          <p:spTgt spid="2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6" dur="2000"/>
                                        <p:tgtEl>
                                          <p:spTgt spid="2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9" dur="2000"/>
                                        <p:tgtEl>
                                          <p:spTgt spid="2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РЕКОМЕНДАЦИИ ПО ИСПОЛЬЗОВАНИЮ УЧЕБНЫХ ПРОБЛЕМ: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795240" y="1433520"/>
            <a:ext cx="7521840" cy="3579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♦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При построении проблемных уроков необходимо соблюдать дидактические принципы: научность и доступность, </a:t>
            </a:r>
            <a:endParaRPr b="1" lang="en-US" sz="17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систематичность и последовательность, сознательность и </a:t>
            </a:r>
            <a:endParaRPr b="1" lang="en-US" sz="17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активность учащихся при разрешении учебной проблемы.</a:t>
            </a:r>
            <a:endParaRPr b="1" lang="en-US" sz="17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♦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Планируя уроки, выбирать наиболее эффективное место</a:t>
            </a:r>
            <a:endParaRPr b="1" lang="en-US" sz="17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учебных проблем в процессе обучения.</a:t>
            </a:r>
            <a:endParaRPr b="1" lang="en-US" sz="17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♦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На уроке учитель должен быть внимательным к эмоциональному состоянию ученика при решении учебных</a:t>
            </a:r>
            <a:endParaRPr b="1" lang="en-US" sz="17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проблем, вовремя выяснить причины затруднения в </a:t>
            </a:r>
            <a:endParaRPr b="1" lang="en-US" sz="17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разрешении проблемной ситуации и оказывать своевременную помощь. </a:t>
            </a:r>
            <a:endParaRPr b="1" lang="en-US" sz="17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4" name="Picture 4" descr="flower03"/>
          <p:cNvPicPr/>
          <p:nvPr/>
        </p:nvPicPr>
        <p:blipFill>
          <a:blip r:embed="rId1"/>
          <a:stretch/>
        </p:blipFill>
        <p:spPr>
          <a:xfrm>
            <a:off x="179280" y="501336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11-4"/>
          <p:cNvPicPr/>
          <p:nvPr/>
        </p:nvPicPr>
        <p:blipFill>
          <a:blip r:embed="rId2"/>
          <a:stretch/>
        </p:blipFill>
        <p:spPr>
          <a:xfrm>
            <a:off x="7885080" y="5157720"/>
            <a:ext cx="1047960" cy="9619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6" descr="s7"/>
          <p:cNvPicPr/>
          <p:nvPr/>
        </p:nvPicPr>
        <p:blipFill>
          <a:blip r:embed="rId3"/>
          <a:stretch/>
        </p:blipFill>
        <p:spPr>
          <a:xfrm>
            <a:off x="3419640" y="0"/>
            <a:ext cx="2857320" cy="9525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7" descr="b11"/>
          <p:cNvPicPr/>
          <p:nvPr/>
        </p:nvPicPr>
        <p:blipFill>
          <a:blip r:embed="rId4"/>
          <a:stretch/>
        </p:blipFill>
        <p:spPr>
          <a:xfrm>
            <a:off x="0" y="260280"/>
            <a:ext cx="79056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3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6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9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2" dur="5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8" dur="500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500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4" dur="500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0:20:28Z</dcterms:created>
  <dc:creator/>
  <dc:description/>
  <dc:language>en-US</dc:language>
  <cp:lastModifiedBy>Елена</cp:lastModifiedBy>
  <dcterms:modified xsi:type="dcterms:W3CDTF">2023-02-01T11:31:07Z</dcterms:modified>
  <cp:revision>8</cp:revision>
  <dc:subject/>
  <dc:title>Слайд 1</dc:title>
</cp:coreProperties>
</file>