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2.gif" ContentType="image/gif"/>
  <Override PartName="/ppt/media/image25.png" ContentType="image/png"/>
  <Override PartName="/ppt/media/image23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.jpeg" ContentType="image/jpeg"/>
  <Override PartName="/ppt/media/media24.wav" ContentType="audio/x-wav"/>
  <Override PartName="/ppt/media/image17.gif" ContentType="image/gif"/>
  <Override PartName="/ppt/media/image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C5F918-BC87-4834-8119-1E4D99A94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262C88-5B11-4EFB-A799-ED810F86E21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8282-1CDA-4EE9-BF94-A20418F3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AE1F-50CA-4A30-9FC9-C1BAE54B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FF8A-75B4-44F8-9B22-80390D24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AA1A-AC58-4657-AA0C-D17BA7F4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7D9E-FB1F-4F37-9134-DD5B54D7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7B32-6D59-4059-87D0-7EB29D5A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C820-5A58-42B2-A217-F95D3E7D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4D33-1A0E-46CB-92C0-517AE8BC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FC07-A1EE-4DD9-81BF-723CA2B0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3EC7-6EF8-42A3-9313-F98BE3CF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23DF-0DE5-42CA-B646-C7D82BEB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54AF-F128-4E86-A39C-4F1B04F0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EB4A-0581-4FEE-B28B-32E5F8CE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47B5-A87E-47E9-8B9C-5B2B80D8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2BA9-4D44-4E0A-A814-B2AEA83B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A530-1EBF-4018-A725-FE8B9B18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191E-046A-4AD2-B801-E7DC6090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4E753-8D2F-4FF8-A483-3D2B54BD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E8574-8BA2-44BB-9522-E3169FEB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4DB72-DDEB-45DB-9EF3-67F29C5C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11F3D-2FF2-440B-886F-E6580D82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A5566-C193-41F1-B87D-A192A7C9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530F-E57A-48A8-B567-126CCAC4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6B5EB-FDAE-4307-B7C6-99D28668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DF1FD-5F42-4BE9-B17D-D2CF0B41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D0EA1-CDFB-4F07-9F9D-5790AC32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87C0B-2AD1-4203-B196-C76A9CCF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D4DAF-F4AD-44D1-AE47-E76233EB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6624C-4A09-445A-8EEA-B7638E7C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527D4-FE5E-4CBC-8E65-9314F65B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5C99C-1919-4EC2-A54F-55B98009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32D93-2DCB-4A40-83B7-6D05D042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CF86A-510D-4D0F-8F37-15490A86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35C8-EC96-4877-BCE1-4B71001D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96FCA-21A4-4DFA-A640-7772ECD3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1A5F2-4423-4F63-8B27-AE1E77E3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9834B-8E1B-4C31-94F0-4F42999F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FB079-AEA5-4031-AA35-6199EB4D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B8834-FF64-438A-A7CC-96BE2693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EA249-66E7-4567-B26C-853D2BC8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02B67-1E44-45B5-8164-F887C6B4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C0848-8DF7-4D72-9E16-90211E9E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02BE6-198F-4891-9BD9-3235BA00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763-9F7B-44FC-88C1-5ED88C47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ECF5-D316-4B09-99F6-77B92FCA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F8EF-85FE-4EFA-8A49-FBC3A9C3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A903-D158-4853-BE30-FAF02FF0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6645-C642-40D6-BD10-7A786316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bff"/>
            </a:gs>
            <a:gs pos="100000">
              <a:srgbClr val="50767c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36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64832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36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6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D14071-B798-4F5C-8C84-04178A4C3E7B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bff"/>
            </a:gs>
            <a:gs pos="100000">
              <a:srgbClr val="50767c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9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50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1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EC6E83-A608-4D2C-9731-3F4DDF70FCFC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bff"/>
            </a:gs>
            <a:gs pos="100000">
              <a:srgbClr val="50767c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5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6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7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CFE41E-5BAC-4598-8053-FB9755DBE26D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bff"/>
            </a:gs>
            <a:gs pos="100000">
              <a:srgbClr val="50767c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41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142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3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12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525598-5F94-42C8-B673-B6B6B4C9CAF7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izvestia.ru/2144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kmrz.ru/catimg/72/72345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ruslania.com/pictures/big/9785170435913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kmrz.ru/catimg/75/75051.jpg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www.char.ru/books/p190520.jpg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forums.drom.ru/attachment.php?attachmentid=224300&amp;stc=1&amp;d=1213914883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www.fimka.net/_ld/13/50994.jpg" TargetMode="External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hippo.su/begemot/img/begemotic12.jpg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image" Target="../media/image23.gif"/><Relationship Id="rId10" Type="http://schemas.openxmlformats.org/officeDocument/2006/relationships/image" Target="../media/image23.gif"/><Relationship Id="rId11" Type="http://schemas.openxmlformats.org/officeDocument/2006/relationships/audio" Target="../media/media24.wav"/><Relationship Id="rId12" Type="http://schemas.microsoft.com/office/2007/relationships/media" Target="../media/media24.wav"/><Relationship Id="rId13" Type="http://schemas.openxmlformats.org/officeDocument/2006/relationships/image" Target="../media/image25.png"/><Relationship Id="rId14" Type="http://schemas.openxmlformats.org/officeDocument/2006/relationships/slide" Target="slide21.xml"/><Relationship Id="rId15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kinder-content.ucoz.ru/_ld/0/s2827113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120" cy="17712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97000"/>
          </a:bodyPr>
          <a:p>
            <a:pPr indent="0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000066"/>
                </a:solidFill>
                <a:latin typeface="Comic Sans MS"/>
              </a:rPr>
              <a:t>Литературное чтение</a:t>
            </a:r>
            <a:endParaRPr b="0" lang="ru-RU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640" y="2401920"/>
            <a:ext cx="5256360" cy="34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Тема: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Чебурашка» Э.Успенский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 класс 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3" name="Picture 7" descr="он же"/>
          <p:cNvPicPr/>
          <p:nvPr/>
        </p:nvPicPr>
        <p:blipFill>
          <a:blip r:embed="rId1"/>
          <a:stretch/>
        </p:blipFill>
        <p:spPr>
          <a:xfrm>
            <a:off x="5148000" y="2205000"/>
            <a:ext cx="3528000" cy="3695400"/>
          </a:xfrm>
          <a:prstGeom prst="rect">
            <a:avLst/>
          </a:prstGeom>
          <a:ln w="9525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Рисунок 3" descr="1254959182_krokodil_gena7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7640" y="0"/>
            <a:ext cx="867600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47000"/>
          </a:bodyPr>
          <a:p>
            <a:pPr indent="0">
              <a:lnSpc>
                <a:spcPct val="100000"/>
              </a:lnSpc>
              <a:buNone/>
            </a:pPr>
            <a:br>
              <a:rPr sz="5400"/>
            </a:br>
            <a:r>
              <a:rPr b="1" lang="ru-RU" sz="48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Эдуард Николаевич Успенский</a:t>
            </a:r>
            <a:endParaRPr b="0" lang="ru-RU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24280" y="908640"/>
            <a:ext cx="4419360" cy="49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    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5" descr="Картинка 7 из 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1143000"/>
            <a:ext cx="4320000" cy="507168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7"/>
          <p:cNvSpPr/>
          <p:nvPr/>
        </p:nvSpPr>
        <p:spPr>
          <a:xfrm>
            <a:off x="4572000" y="857160"/>
            <a:ext cx="421452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ногожанровый писа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исал сказки, детект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фантастические повести, пьесы, стихи, сценарии мульт- и кинофильмов, радиопостановок, делал переводы, сочинял комик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36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99000"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Успенский Эдуард Николаевич- </a:t>
            </a: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поэт, детский прозаик, драматург, сценарист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8357760" cy="51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одился 22 декабря 1937 года в Егорьевске Московской области в семье служащих.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1961 г. он окончил Московский авиационный институт, а затем 3 года проработал инженером. Но, еще учась в вузе, Успенский начал печататься. Он писал стихи и прозу. Его первый поэтический сборник “Смешной слоненок” увидел свет в 1965 г., а в 1966 г. была опубликована сказка “Крокодил Гена и его друзья”, которая принесла Успенскому громкую славу. С тех пор Успенский написал много стихотворений, веселых, озорных, во многом поучительных. А циклы его произведений о Крокодиле Гене и Чебурашке, о событиях в Простоквашино, о Вере и Анфисе послужили основой для создания мультфильмов, которые дети смотрят с большим интересом.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8229240" cy="935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6000"/>
          </a:bodyPr>
          <a:p>
            <a:pPr indent="0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02060"/>
                </a:solidFill>
                <a:latin typeface="Comic Sans MS"/>
              </a:rPr>
              <a:t>Книги  Эдуарда  Успенского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5" descr="Картинка 2 из 4846">
            <a:hlinkClick r:id="rId1"/>
          </p:cNvPr>
          <p:cNvPicPr/>
          <p:nvPr/>
        </p:nvPicPr>
        <p:blipFill>
          <a:blip r:embed="rId2"/>
          <a:stretch/>
        </p:blipFill>
        <p:spPr>
          <a:xfrm rot="20856600">
            <a:off x="1043640" y="3356640"/>
            <a:ext cx="2808000" cy="3204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Картинка 35 из 4846">
            <a:hlinkClick r:id="rId3"/>
          </p:cNvPr>
          <p:cNvPicPr/>
          <p:nvPr/>
        </p:nvPicPr>
        <p:blipFill>
          <a:blip r:embed="rId4"/>
          <a:stretch/>
        </p:blipFill>
        <p:spPr>
          <a:xfrm rot="21091800">
            <a:off x="196560" y="1407240"/>
            <a:ext cx="2093040" cy="2828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Картинка 27 из 4846">
            <a:hlinkClick r:id="rId5"/>
          </p:cNvPr>
          <p:cNvPicPr/>
          <p:nvPr/>
        </p:nvPicPr>
        <p:blipFill>
          <a:blip r:embed="rId6"/>
          <a:stretch/>
        </p:blipFill>
        <p:spPr>
          <a:xfrm rot="555000">
            <a:off x="6435360" y="1549080"/>
            <a:ext cx="1919880" cy="2733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Картинка 9 из 484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60000" y="1268640"/>
            <a:ext cx="2520000" cy="3240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Картинка 15 из 4846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20000" y="3429000"/>
            <a:ext cx="2520000" cy="3169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Картинка 1 из 139">
            <a:hlinkClick r:id="rId11"/>
          </p:cNvPr>
          <p:cNvPicPr/>
          <p:nvPr/>
        </p:nvPicPr>
        <p:blipFill>
          <a:blip r:embed="rId12"/>
          <a:stretch/>
        </p:blipFill>
        <p:spPr>
          <a:xfrm rot="433800">
            <a:off x="5580000" y="3465000"/>
            <a:ext cx="2448000" cy="306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3"/>
          <p:cNvSpPr/>
          <p:nvPr/>
        </p:nvSpPr>
        <p:spPr>
          <a:xfrm>
            <a:off x="428760" y="1785960"/>
            <a:ext cx="7500600" cy="2559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« ИСПОКОН  ВЕКА-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КНИГА  РАСТИТ ЧЕЛОВЕК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640" y="476640"/>
            <a:ext cx="7747920" cy="935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2060"/>
                </a:solidFill>
                <a:latin typeface="Comic Sans MS"/>
              </a:rPr>
              <a:t>Читайте  по  слогам,  затем  -  целым  словом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26352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Тро-пи-чес-ком – </a:t>
            </a: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тропическом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Гип-по-по-там –   </a:t>
            </a: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гиппопотам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От-пра-вил-ся –   </a:t>
            </a: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отправился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А-пель-си-на-ми – </a:t>
            </a: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апельсинами 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Пе-ре-дви-гать-ся  - </a:t>
            </a: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передвигаться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Пу-те-шест-ви-е –  </a:t>
            </a: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путешествие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Не-из-вест-ным –  </a:t>
            </a: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неизвестным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Соб-ствен-но-го –  </a:t>
            </a: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собственного  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214200"/>
            <a:ext cx="8229240" cy="59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3d0d53"/>
                </a:solidFill>
                <a:latin typeface="Constantia"/>
              </a:rPr>
              <a:t>Фрукт – фруктовый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3d0d53"/>
                </a:solidFill>
                <a:latin typeface="Constantia"/>
              </a:rPr>
              <a:t>Груз – погрузили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3d0d53"/>
                </a:solidFill>
                <a:latin typeface="Constantia"/>
              </a:rPr>
              <a:t>Брак – бракованную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3d0d53"/>
                </a:solidFill>
                <a:latin typeface="Constantia"/>
              </a:rPr>
              <a:t>Зверь – зверёк, звериный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3d0d53"/>
                </a:solidFill>
                <a:latin typeface="Constantia"/>
              </a:rPr>
              <a:t>Город - городской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928800" y="571320"/>
            <a:ext cx="6857640" cy="1186920"/>
          </a:xfrm>
          <a:prstGeom prst="rect">
            <a:avLst/>
          </a:prstGeom>
          <a:solidFill>
            <a:srgbClr val="ffffff"/>
          </a:solidFill>
          <a:ln>
            <a:solidFill>
              <a:srgbClr val="009d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chemeClr val="dk1"/>
                </a:solidFill>
                <a:latin typeface="Constantia"/>
              </a:rPr>
              <a:t>Гиппопотам, или обыкновенный бегемот</a:t>
            </a: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,— крупное, в основном травоядное, млекопитающ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" descr="Картинка 36 из 2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286000"/>
            <a:ext cx="6071760" cy="39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3"/>
          <p:cNvSpPr/>
          <p:nvPr/>
        </p:nvSpPr>
        <p:spPr>
          <a:xfrm>
            <a:off x="857160" y="428760"/>
            <a:ext cx="6929280" cy="942840"/>
          </a:xfrm>
          <a:prstGeom prst="rect">
            <a:avLst/>
          </a:prstGeom>
          <a:solidFill>
            <a:srgbClr val="ffffff"/>
          </a:solidFill>
          <a:ln>
            <a:solidFill>
              <a:srgbClr val="009d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chemeClr val="dk1"/>
                </a:solidFill>
                <a:latin typeface="Constantia"/>
              </a:rPr>
              <a:t>Тропический лес </a:t>
            </a:r>
            <a:r>
              <a:rPr b="0" lang="ru-RU" sz="2800" spc="-1" strike="noStrike">
                <a:solidFill>
                  <a:schemeClr val="dk1"/>
                </a:solidFill>
                <a:latin typeface="Constantia"/>
              </a:rPr>
              <a:t>— лес в жарком поясе земного ш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071360" y="1500120"/>
            <a:ext cx="6571800" cy="5143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3640" y="246600"/>
            <a:ext cx="7962840" cy="6613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4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ют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–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мещение на корабле</a:t>
            </a:r>
            <a:r>
              <a:rPr b="0" lang="ru-RU" sz="28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Уценённые товары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товары , которые стоят меньше прежней стоимости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Телефонная будк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будка с телефоном-автоматом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 </a:t>
            </a: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Бракованная игрушка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грушка с браком (царапина, трещина) изъян в игрушке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Чебурахнуться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– упасть или удариться с шумом 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360" y="1800"/>
            <a:ext cx="22824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6"/>
          <p:cNvSpPr/>
          <p:nvPr/>
        </p:nvSpPr>
        <p:spPr>
          <a:xfrm>
            <a:off x="500040" y="1643040"/>
            <a:ext cx="864360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ДОЛГОЖДАННЫЙ  ДАН  ЗВОН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НАЧИНАЕТСЯ  УР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C:\Documents and Settings\Admin\Мои документы\Мои рисунки\img064_hf.jpg"/>
          <p:cNvPicPr/>
          <p:nvPr/>
        </p:nvPicPr>
        <p:blipFill>
          <a:blip r:embed="rId1"/>
          <a:stretch/>
        </p:blipFill>
        <p:spPr>
          <a:xfrm>
            <a:off x="0" y="1052640"/>
            <a:ext cx="3131640" cy="52563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132000" y="1747440"/>
            <a:ext cx="5083200" cy="3978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Calibri"/>
              </a:rPr>
              <a:t>Какой фрагмент текста проиллюстрировал художник? 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39000"/>
          </a:bodyPr>
          <a:p>
            <a:pPr indent="0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f0000"/>
                </a:solidFill>
                <a:latin typeface="Arial Narrow"/>
                <a:ea typeface="Calibri"/>
              </a:rPr>
              <a:t>Дополни пословицы:</a:t>
            </a:r>
            <a:br>
              <a:rPr sz="4400"/>
            </a:br>
            <a:endParaRPr b="0" lang="ru-RU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755280"/>
            <a:ext cx="9143640" cy="5150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Calibri"/>
              </a:rPr>
              <a:t>Не имей 100 рублей, а имей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  <a:ea typeface="Calibri"/>
              </a:rPr>
              <a:t>100 друзей.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Calibri"/>
              </a:rPr>
              <a:t>Нет друга - ищи, а нашел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  <a:ea typeface="Calibri"/>
              </a:rPr>
              <a:t>– береги.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Calibri"/>
              </a:rPr>
              <a:t>Хочешь дружить – сам будь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  <a:ea typeface="Calibri"/>
              </a:rPr>
              <a:t>другом.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Calibri"/>
              </a:rPr>
              <a:t>Доброе братство -лучше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  <a:ea typeface="Calibri"/>
              </a:rPr>
              <a:t> богатства.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Облако 4"/>
          <p:cNvSpPr/>
          <p:nvPr/>
        </p:nvSpPr>
        <p:spPr>
          <a:xfrm>
            <a:off x="6929280" y="692640"/>
            <a:ext cx="1890720" cy="1367640"/>
          </a:xfrm>
          <a:prstGeom prst="cloud">
            <a:avLst/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236" name="Облако 5"/>
          <p:cNvSpPr/>
          <p:nvPr/>
        </p:nvSpPr>
        <p:spPr>
          <a:xfrm>
            <a:off x="6286680" y="2428920"/>
            <a:ext cx="2856960" cy="999720"/>
          </a:xfrm>
          <a:prstGeom prst="cloud">
            <a:avLst/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237" name="Облако 6"/>
          <p:cNvSpPr/>
          <p:nvPr/>
        </p:nvSpPr>
        <p:spPr>
          <a:xfrm>
            <a:off x="6500880" y="3571920"/>
            <a:ext cx="2642760" cy="1153080"/>
          </a:xfrm>
          <a:prstGeom prst="cloud">
            <a:avLst/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238" name="Облако 7"/>
          <p:cNvSpPr/>
          <p:nvPr/>
        </p:nvSpPr>
        <p:spPr>
          <a:xfrm>
            <a:off x="5715000" y="4786200"/>
            <a:ext cx="2385000" cy="1162440"/>
          </a:xfrm>
          <a:prstGeom prst="cloud">
            <a:avLst/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239" name="Облако 8"/>
          <p:cNvSpPr/>
          <p:nvPr/>
        </p:nvSpPr>
        <p:spPr>
          <a:xfrm>
            <a:off x="0" y="1484640"/>
            <a:ext cx="2195280" cy="1151640"/>
          </a:xfrm>
          <a:prstGeom prst="cloud">
            <a:avLst/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47 0 L 0.47847 0 E">
                                      <p:cBhvr>
                                        <p:cTn id="6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593 -0.01041 L 1.17534 -0.01041 E">
                                      <p:cBhvr>
                                        <p:cTn id="7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542 -0.00533 L 0.60243 -0.00533 E">
                                      <p:cBhvr>
                                        <p:cTn id="7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483 -0.01042 L 0.60052 -0.01042 E">
                                      <p:cBhvr>
                                        <p:cTn id="7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111 -0.00509 L 0.56111 -0.00509 E">
                                      <p:cBhvr>
                                        <p:cTn id="8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0" y="483840"/>
            <a:ext cx="8572320" cy="6248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Calibri"/>
              </a:rPr>
              <a:t>Не имей 100 рублей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  <a:ea typeface="Calibri"/>
              </a:rPr>
              <a:t>, а имей 100 друзей.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Calibri"/>
              </a:rPr>
              <a:t>Нет друга - ищи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  <a:ea typeface="Calibri"/>
              </a:rPr>
              <a:t>, а нашел – береги.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Calibri"/>
              </a:rPr>
              <a:t>Хочешь дружить –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  <a:ea typeface="Calibri"/>
              </a:rPr>
              <a:t>сам будь другом.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Calibri"/>
              </a:rPr>
              <a:t>Доброе братство -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  <a:ea typeface="Calibri"/>
              </a:rPr>
              <a:t>лучше богатства.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37"/>
          <p:cNvSpPr/>
          <p:nvPr/>
        </p:nvSpPr>
        <p:spPr>
          <a:xfrm>
            <a:off x="-36360" y="4869000"/>
            <a:ext cx="9196200" cy="2287080"/>
          </a:xfrm>
          <a:custGeom>
            <a:avLst/>
            <a:gdLst>
              <a:gd name="textAreaLeft" fmla="*/ 0 w 9196200"/>
              <a:gd name="textAreaRight" fmla="*/ 9196560 w 9196200"/>
              <a:gd name="textAreaTop" fmla="*/ 0 h 2287080"/>
              <a:gd name="textAreaBottom" fmla="*/ 2287440 h 2287080"/>
            </a:gdLst>
            <a:ahLst/>
            <a:rect l="textAreaLeft" t="textAreaTop" r="textAreaRight" b="textAreaBottom"/>
            <a:pathLst>
              <a:path w="5793" h="1296">
                <a:moveTo>
                  <a:pt x="0" y="1144"/>
                </a:moveTo>
                <a:cubicBezTo>
                  <a:pt x="5" y="1125"/>
                  <a:pt x="14" y="1107"/>
                  <a:pt x="16" y="1088"/>
                </a:cubicBezTo>
                <a:cubicBezTo>
                  <a:pt x="28" y="991"/>
                  <a:pt x="9" y="991"/>
                  <a:pt x="64" y="936"/>
                </a:cubicBezTo>
                <a:cubicBezTo>
                  <a:pt x="79" y="891"/>
                  <a:pt x="72" y="851"/>
                  <a:pt x="112" y="824"/>
                </a:cubicBezTo>
                <a:cubicBezTo>
                  <a:pt x="129" y="774"/>
                  <a:pt x="165" y="740"/>
                  <a:pt x="208" y="712"/>
                </a:cubicBezTo>
                <a:cubicBezTo>
                  <a:pt x="247" y="654"/>
                  <a:pt x="275" y="657"/>
                  <a:pt x="328" y="624"/>
                </a:cubicBezTo>
                <a:cubicBezTo>
                  <a:pt x="398" y="580"/>
                  <a:pt x="331" y="621"/>
                  <a:pt x="376" y="576"/>
                </a:cubicBezTo>
                <a:cubicBezTo>
                  <a:pt x="390" y="562"/>
                  <a:pt x="416" y="553"/>
                  <a:pt x="432" y="544"/>
                </a:cubicBezTo>
                <a:cubicBezTo>
                  <a:pt x="475" y="518"/>
                  <a:pt x="519" y="492"/>
                  <a:pt x="560" y="464"/>
                </a:cubicBezTo>
                <a:cubicBezTo>
                  <a:pt x="585" y="447"/>
                  <a:pt x="619" y="454"/>
                  <a:pt x="648" y="448"/>
                </a:cubicBezTo>
                <a:cubicBezTo>
                  <a:pt x="675" y="430"/>
                  <a:pt x="691" y="398"/>
                  <a:pt x="720" y="384"/>
                </a:cubicBezTo>
                <a:cubicBezTo>
                  <a:pt x="774" y="357"/>
                  <a:pt x="832" y="350"/>
                  <a:pt x="888" y="328"/>
                </a:cubicBezTo>
                <a:cubicBezTo>
                  <a:pt x="978" y="194"/>
                  <a:pt x="1157" y="184"/>
                  <a:pt x="1304" y="176"/>
                </a:cubicBezTo>
                <a:cubicBezTo>
                  <a:pt x="1336" y="165"/>
                  <a:pt x="1367" y="159"/>
                  <a:pt x="1400" y="152"/>
                </a:cubicBezTo>
                <a:cubicBezTo>
                  <a:pt x="1525" y="89"/>
                  <a:pt x="1608" y="81"/>
                  <a:pt x="1752" y="64"/>
                </a:cubicBezTo>
                <a:cubicBezTo>
                  <a:pt x="1795" y="59"/>
                  <a:pt x="1837" y="46"/>
                  <a:pt x="1880" y="40"/>
                </a:cubicBezTo>
                <a:cubicBezTo>
                  <a:pt x="2001" y="0"/>
                  <a:pt x="2207" y="41"/>
                  <a:pt x="2344" y="48"/>
                </a:cubicBezTo>
                <a:cubicBezTo>
                  <a:pt x="2373" y="58"/>
                  <a:pt x="2432" y="72"/>
                  <a:pt x="2432" y="72"/>
                </a:cubicBezTo>
                <a:cubicBezTo>
                  <a:pt x="2632" y="68"/>
                  <a:pt x="2807" y="61"/>
                  <a:pt x="3000" y="48"/>
                </a:cubicBezTo>
                <a:cubicBezTo>
                  <a:pt x="3073" y="24"/>
                  <a:pt x="3158" y="28"/>
                  <a:pt x="3232" y="24"/>
                </a:cubicBezTo>
                <a:cubicBezTo>
                  <a:pt x="3269" y="27"/>
                  <a:pt x="3308" y="23"/>
                  <a:pt x="3344" y="32"/>
                </a:cubicBezTo>
                <a:cubicBezTo>
                  <a:pt x="3355" y="35"/>
                  <a:pt x="3359" y="50"/>
                  <a:pt x="3368" y="56"/>
                </a:cubicBezTo>
                <a:cubicBezTo>
                  <a:pt x="3395" y="74"/>
                  <a:pt x="3456" y="101"/>
                  <a:pt x="3488" y="104"/>
                </a:cubicBezTo>
                <a:cubicBezTo>
                  <a:pt x="3568" y="111"/>
                  <a:pt x="3648" y="109"/>
                  <a:pt x="3728" y="112"/>
                </a:cubicBezTo>
                <a:cubicBezTo>
                  <a:pt x="3894" y="153"/>
                  <a:pt x="3907" y="146"/>
                  <a:pt x="4144" y="152"/>
                </a:cubicBezTo>
                <a:cubicBezTo>
                  <a:pt x="4197" y="178"/>
                  <a:pt x="4246" y="190"/>
                  <a:pt x="4304" y="200"/>
                </a:cubicBezTo>
                <a:cubicBezTo>
                  <a:pt x="4394" y="185"/>
                  <a:pt x="4380" y="184"/>
                  <a:pt x="4520" y="200"/>
                </a:cubicBezTo>
                <a:cubicBezTo>
                  <a:pt x="4534" y="202"/>
                  <a:pt x="4547" y="211"/>
                  <a:pt x="4560" y="216"/>
                </a:cubicBezTo>
                <a:cubicBezTo>
                  <a:pt x="4623" y="239"/>
                  <a:pt x="4686" y="259"/>
                  <a:pt x="4752" y="272"/>
                </a:cubicBezTo>
                <a:cubicBezTo>
                  <a:pt x="4804" y="324"/>
                  <a:pt x="4873" y="329"/>
                  <a:pt x="4944" y="336"/>
                </a:cubicBezTo>
                <a:cubicBezTo>
                  <a:pt x="4994" y="353"/>
                  <a:pt x="4943" y="329"/>
                  <a:pt x="4984" y="376"/>
                </a:cubicBezTo>
                <a:cubicBezTo>
                  <a:pt x="4995" y="389"/>
                  <a:pt x="5012" y="396"/>
                  <a:pt x="5024" y="408"/>
                </a:cubicBezTo>
                <a:cubicBezTo>
                  <a:pt x="5050" y="434"/>
                  <a:pt x="5069" y="469"/>
                  <a:pt x="5096" y="496"/>
                </a:cubicBezTo>
                <a:cubicBezTo>
                  <a:pt x="5107" y="528"/>
                  <a:pt x="5161" y="611"/>
                  <a:pt x="5192" y="632"/>
                </a:cubicBezTo>
                <a:cubicBezTo>
                  <a:pt x="5209" y="643"/>
                  <a:pt x="5230" y="646"/>
                  <a:pt x="5248" y="656"/>
                </a:cubicBezTo>
                <a:cubicBezTo>
                  <a:pt x="5267" y="667"/>
                  <a:pt x="5286" y="677"/>
                  <a:pt x="5304" y="688"/>
                </a:cubicBezTo>
                <a:cubicBezTo>
                  <a:pt x="5320" y="698"/>
                  <a:pt x="5352" y="720"/>
                  <a:pt x="5352" y="720"/>
                </a:cubicBezTo>
                <a:cubicBezTo>
                  <a:pt x="5398" y="790"/>
                  <a:pt x="5431" y="774"/>
                  <a:pt x="5504" y="792"/>
                </a:cubicBezTo>
                <a:cubicBezTo>
                  <a:pt x="5520" y="803"/>
                  <a:pt x="5536" y="813"/>
                  <a:pt x="5552" y="824"/>
                </a:cubicBezTo>
                <a:cubicBezTo>
                  <a:pt x="5660" y="896"/>
                  <a:pt x="5558" y="858"/>
                  <a:pt x="5624" y="880"/>
                </a:cubicBezTo>
                <a:cubicBezTo>
                  <a:pt x="5641" y="930"/>
                  <a:pt x="5659" y="986"/>
                  <a:pt x="5704" y="1016"/>
                </a:cubicBezTo>
                <a:cubicBezTo>
                  <a:pt x="5731" y="1098"/>
                  <a:pt x="5684" y="1083"/>
                  <a:pt x="5784" y="1096"/>
                </a:cubicBezTo>
                <a:cubicBezTo>
                  <a:pt x="5755" y="1296"/>
                  <a:pt x="5793" y="1164"/>
                  <a:pt x="5336" y="1168"/>
                </a:cubicBezTo>
                <a:cubicBezTo>
                  <a:pt x="4920" y="1172"/>
                  <a:pt x="4504" y="1156"/>
                  <a:pt x="4088" y="1152"/>
                </a:cubicBezTo>
                <a:cubicBezTo>
                  <a:pt x="3663" y="1119"/>
                  <a:pt x="3265" y="1140"/>
                  <a:pt x="2824" y="1144"/>
                </a:cubicBezTo>
                <a:cubicBezTo>
                  <a:pt x="1971" y="1141"/>
                  <a:pt x="1117" y="1141"/>
                  <a:pt x="264" y="1136"/>
                </a:cubicBezTo>
                <a:cubicBezTo>
                  <a:pt x="201" y="1136"/>
                  <a:pt x="0" y="1109"/>
                  <a:pt x="0" y="1096"/>
                </a:cubicBezTo>
              </a:path>
            </a:pathLst>
          </a:custGeom>
          <a:pattFill prst="openDmnd">
            <a:fgClr>
              <a:srgbClr val="00ff00"/>
            </a:fgClr>
            <a:bgClr>
              <a:srgbClr val="bfefb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2" descr="ddd0fc32575ct"/>
          <p:cNvPicPr/>
          <p:nvPr/>
        </p:nvPicPr>
        <p:blipFill>
          <a:blip r:embed="rId1"/>
          <a:stretch/>
        </p:blipFill>
        <p:spPr>
          <a:xfrm>
            <a:off x="2793960" y="1916280"/>
            <a:ext cx="3217680" cy="453672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4"/>
          <p:cNvSpPr/>
          <p:nvPr/>
        </p:nvSpPr>
        <p:spPr>
          <a:xfrm rot="16885200">
            <a:off x="172080" y="509220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684000"/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Oval 5"/>
          <p:cNvSpPr/>
          <p:nvPr/>
        </p:nvSpPr>
        <p:spPr>
          <a:xfrm>
            <a:off x="7236000" y="189000"/>
            <a:ext cx="1510920" cy="1510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AutoShape 6"/>
          <p:cNvSpPr/>
          <p:nvPr/>
        </p:nvSpPr>
        <p:spPr>
          <a:xfrm rot="16885200">
            <a:off x="172080" y="300456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171746"/>
              </a:gs>
              <a:gs pos="100000">
                <a:srgbClr val="333399"/>
              </a:gs>
            </a:gsLst>
            <a:lin ang="684000"/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AutoShape 7"/>
          <p:cNvSpPr/>
          <p:nvPr/>
        </p:nvSpPr>
        <p:spPr>
          <a:xfrm rot="16885200">
            <a:off x="172080" y="69948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009dd9"/>
              </a:gs>
              <a:gs pos="100000">
                <a:srgbClr val="4618f0"/>
              </a:gs>
            </a:gsLst>
            <a:lin ang="684000"/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AutoShape 8"/>
          <p:cNvSpPr/>
          <p:nvPr/>
        </p:nvSpPr>
        <p:spPr>
          <a:xfrm rot="552000">
            <a:off x="1763280" y="26028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009dd9"/>
              </a:gs>
              <a:gs pos="100000">
                <a:srgbClr val="4ee8f8"/>
              </a:gs>
            </a:gsLst>
            <a:lin ang="5946000"/>
          </a:gradFill>
          <a:ln w="9525">
            <a:solidFill>
              <a:srgbClr val="009d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AutoShape 9"/>
          <p:cNvSpPr/>
          <p:nvPr/>
        </p:nvSpPr>
        <p:spPr>
          <a:xfrm rot="552000">
            <a:off x="3995640" y="26028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6e74ee"/>
              </a:gs>
              <a:gs pos="100000">
                <a:srgbClr val="4ee8f8"/>
              </a:gs>
            </a:gsLst>
            <a:lin ang="5946000"/>
          </a:gradFill>
          <a:ln w="9525">
            <a:solidFill>
              <a:srgbClr val="009d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AutoShape 10"/>
          <p:cNvSpPr/>
          <p:nvPr/>
        </p:nvSpPr>
        <p:spPr>
          <a:xfrm rot="552000">
            <a:off x="6227640" y="26028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6e74ee"/>
              </a:gs>
              <a:gs pos="100000">
                <a:srgbClr val="0f6fc6"/>
              </a:gs>
            </a:gsLst>
            <a:lin ang="5946000"/>
          </a:gradFill>
          <a:ln w="9525">
            <a:solidFill>
              <a:srgbClr val="009d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AutoShape 11"/>
          <p:cNvSpPr/>
          <p:nvPr/>
        </p:nvSpPr>
        <p:spPr>
          <a:xfrm rot="6170400">
            <a:off x="7733520" y="77220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3366ff"/>
              </a:gs>
              <a:gs pos="50000">
                <a:srgbClr val="0f6fc6"/>
              </a:gs>
              <a:gs pos="100000">
                <a:srgbClr val="3366ff"/>
              </a:gs>
            </a:gsLst>
            <a:lin ang="11568000"/>
          </a:gradFill>
          <a:ln w="9525">
            <a:solidFill>
              <a:srgbClr val="009d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AutoShape 12"/>
          <p:cNvSpPr/>
          <p:nvPr/>
        </p:nvSpPr>
        <p:spPr>
          <a:xfrm rot="6170400">
            <a:off x="7733520" y="307548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ffffff"/>
              </a:gs>
              <a:gs pos="100000">
                <a:srgbClr val="4618f0"/>
              </a:gs>
            </a:gsLst>
            <a:lin ang="8868000"/>
          </a:gradFill>
          <a:ln w="9525">
            <a:solidFill>
              <a:srgbClr val="009d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AutoShape 13"/>
          <p:cNvSpPr/>
          <p:nvPr/>
        </p:nvSpPr>
        <p:spPr>
          <a:xfrm rot="6170400">
            <a:off x="7733520" y="530748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8868000"/>
          </a:gradFill>
          <a:ln w="9525">
            <a:solidFill>
              <a:srgbClr val="009d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AutoShape 14"/>
          <p:cNvSpPr/>
          <p:nvPr/>
        </p:nvSpPr>
        <p:spPr>
          <a:xfrm rot="11193600">
            <a:off x="6156360" y="587700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8490000"/>
          </a:gradFill>
          <a:ln w="9525">
            <a:solidFill>
              <a:srgbClr val="009d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rot="10800000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AutoShape 15"/>
          <p:cNvSpPr/>
          <p:nvPr/>
        </p:nvSpPr>
        <p:spPr>
          <a:xfrm rot="11193600">
            <a:off x="4067280" y="587700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8490000"/>
          </a:gradFill>
          <a:ln w="9525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rot="10800000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16" descr="arg-blue-left-tr"/>
          <p:cNvPicPr/>
          <p:nvPr/>
        </p:nvPicPr>
        <p:blipFill>
          <a:blip r:embed="rId2"/>
          <a:stretch/>
        </p:blipFill>
        <p:spPr>
          <a:xfrm>
            <a:off x="5940360" y="1341360"/>
            <a:ext cx="1190160" cy="1510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7" descr="ani-bird_red"/>
          <p:cNvPicPr/>
          <p:nvPr/>
        </p:nvPicPr>
        <p:blipFill>
          <a:blip r:embed="rId3"/>
          <a:stretch/>
        </p:blipFill>
        <p:spPr>
          <a:xfrm>
            <a:off x="2627280" y="2708280"/>
            <a:ext cx="1439640" cy="1152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9" descr="b13"/>
          <p:cNvPicPr/>
          <p:nvPr/>
        </p:nvPicPr>
        <p:blipFill>
          <a:blip r:embed="rId4"/>
          <a:stretch/>
        </p:blipFill>
        <p:spPr>
          <a:xfrm>
            <a:off x="2714760" y="5013360"/>
            <a:ext cx="1153800" cy="1234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3" descr="b13"/>
          <p:cNvPicPr/>
          <p:nvPr/>
        </p:nvPicPr>
        <p:blipFill>
          <a:blip r:embed="rId5"/>
          <a:stretch/>
        </p:blipFill>
        <p:spPr>
          <a:xfrm>
            <a:off x="7164360" y="5516640"/>
            <a:ext cx="1020240" cy="109188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28"/>
          <p:cNvSpPr/>
          <p:nvPr/>
        </p:nvSpPr>
        <p:spPr>
          <a:xfrm>
            <a:off x="5435640" y="2637000"/>
            <a:ext cx="3384360" cy="1223640"/>
          </a:xfrm>
          <a:prstGeom prst="wedgeRoundRectCallout">
            <a:avLst>
              <a:gd name="adj1" fmla="val -72329"/>
              <a:gd name="adj2" fmla="val -10958"/>
              <a:gd name="adj3" fmla="val 16667"/>
            </a:avLst>
          </a:prstGeom>
          <a:solidFill>
            <a:srgbClr val="ffff99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5508720" y="2781360"/>
            <a:ext cx="323964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Ребята, давайте жить друж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2" descr="B_Fly31"/>
          <p:cNvPicPr/>
          <p:nvPr/>
        </p:nvPicPr>
        <p:blipFill>
          <a:blip r:embed="rId6"/>
          <a:stretch/>
        </p:blipFill>
        <p:spPr>
          <a:xfrm rot="7629000">
            <a:off x="1287720" y="2536560"/>
            <a:ext cx="1142640" cy="1053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3" descr="B_Fly21"/>
          <p:cNvPicPr/>
          <p:nvPr/>
        </p:nvPicPr>
        <p:blipFill>
          <a:blip r:embed="rId7"/>
          <a:stretch/>
        </p:blipFill>
        <p:spPr>
          <a:xfrm rot="13641000">
            <a:off x="7138080" y="3600000"/>
            <a:ext cx="1368000" cy="1026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4" descr="B_Fly14"/>
          <p:cNvPicPr/>
          <p:nvPr/>
        </p:nvPicPr>
        <p:blipFill>
          <a:blip r:embed="rId8"/>
          <a:stretch/>
        </p:blipFill>
        <p:spPr>
          <a:xfrm>
            <a:off x="3059280" y="2565360"/>
            <a:ext cx="1441080" cy="14187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5" descr="b11"/>
          <p:cNvPicPr/>
          <p:nvPr/>
        </p:nvPicPr>
        <p:blipFill>
          <a:blip r:embed="rId9"/>
          <a:stretch/>
        </p:blipFill>
        <p:spPr>
          <a:xfrm>
            <a:off x="1187280" y="5516640"/>
            <a:ext cx="995040" cy="1007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6" descr="b11"/>
          <p:cNvPicPr/>
          <p:nvPr/>
        </p:nvPicPr>
        <p:blipFill>
          <a:blip r:embed="rId10"/>
          <a:stretch/>
        </p:blipFill>
        <p:spPr>
          <a:xfrm>
            <a:off x="5292720" y="5157720"/>
            <a:ext cx="995040" cy="100764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38"/>
          <p:cNvSpPr/>
          <p:nvPr/>
        </p:nvSpPr>
        <p:spPr>
          <a:xfrm rot="11193600">
            <a:off x="1692360" y="5877000"/>
            <a:ext cx="1347480" cy="901440"/>
          </a:xfrm>
          <a:prstGeom prst="cloudCallout">
            <a:avLst>
              <a:gd name="adj1" fmla="val -34227"/>
              <a:gd name="adj2" fmla="val 14093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16590000"/>
          </a:gradFill>
          <a:ln w="9525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rot="10800000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" descr="">
            <a:hlinkClick r:id="" action="ppaction://media"/>
          </p:cNvPr>
          <p:cNvPicPr/>
          <p:nvPr>
            <a:audioFile r:link="rId11"/>
            <p:extLst>
              <p:ext uri="{DAA4B4D4-6D71-4841-9C94-3DE7FCFB9230}">
                <p14:media r:embed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8839080" y="65530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41">
            <a:hlinkClick r:id="rId14" action="ppaction://hlinksldjump"/>
          </p:cNvPr>
          <p:cNvSpPr/>
          <p:nvPr/>
        </p:nvSpPr>
        <p:spPr>
          <a:xfrm>
            <a:off x="8244000" y="6308640"/>
            <a:ext cx="647280" cy="360000"/>
          </a:xfrm>
          <a:prstGeom prst="leftArrow">
            <a:avLst>
              <a:gd name="adj1" fmla="val 50000"/>
              <a:gd name="adj2" fmla="val 44934"/>
            </a:avLst>
          </a:prstGeom>
          <a:solidFill>
            <a:srgbClr val="8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4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1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18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4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18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6000"/>
                            </p:stCondLst>
                            <p:childTnLst>
                              <p:par>
                                <p:cTn id="192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1000"/>
                            </p:stCondLst>
                            <p:childTnLst>
                              <p:par>
                                <p:cTn id="20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3000"/>
                            </p:stCondLst>
                            <p:childTnLst>
                              <p:par>
                                <p:cTn id="206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2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5000"/>
                            </p:stCondLst>
                            <p:childTnLst>
                              <p:par>
                                <p:cTn id="211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2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7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8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9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1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5000"/>
                            </p:stCondLst>
                            <p:childTnLst>
                              <p:par>
                                <p:cTn id="24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7000"/>
                            </p:stCondLst>
                            <p:childTnLst>
                              <p:par>
                                <p:cTn id="251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252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1000"/>
                            </p:stCondLst>
                            <p:childTnLst>
                              <p:par>
                                <p:cTn id="25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3000"/>
                            </p:stCondLst>
                            <p:childTnLst>
                              <p:par>
                                <p:cTn id="259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26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7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8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Prev"/>
                    <p:cond delay="0" evt="onStopAudio"/>
                  </p:endCondLst>
                </p:cTn>
                <p:tgtEl>
                  <p:spTgt spid="267"/>
                </p:tgtEl>
              </p:cMediaNode>
            </p:audio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90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2060"/>
                </a:solidFill>
                <a:latin typeface="Comic Sans MS"/>
                <a:ea typeface="Calibri"/>
              </a:rPr>
              <a:t>Домашнее задание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7640" y="510840"/>
            <a:ext cx="7675920" cy="3978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omic Sans MS"/>
                <a:ea typeface="Calibri"/>
              </a:rPr>
              <a:t> 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1. Читать стр. 137 - 142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Нарисовать иллюстрацию к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отрывку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8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00066"/>
                </a:solidFill>
                <a:latin typeface="Comic Sans MS"/>
              </a:rPr>
              <a:t>До  новых  встреч!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7" descr="1pis7"/>
          <p:cNvPicPr/>
          <p:nvPr/>
        </p:nvPicPr>
        <p:blipFill>
          <a:blip r:embed="rId1"/>
          <a:stretch/>
        </p:blipFill>
        <p:spPr>
          <a:xfrm>
            <a:off x="457200" y="2160360"/>
            <a:ext cx="8229240" cy="3939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Заголовок 1"/>
          <p:cNvSpPr/>
          <p:nvPr/>
        </p:nvSpPr>
        <p:spPr>
          <a:xfrm>
            <a:off x="1285920" y="285840"/>
            <a:ext cx="5571720" cy="79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bIns="0" anchor="b">
            <a:normAutofit fontScale="6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Narrow"/>
                <a:ea typeface="Calibri"/>
              </a:rPr>
              <a:t>            </a:t>
            </a:r>
            <a:r>
              <a:rPr b="1" lang="ru-RU" sz="5400" spc="-1" strike="noStrike">
                <a:solidFill>
                  <a:srgbClr val="ff0000"/>
                </a:solidFill>
                <a:latin typeface="Arial Narrow"/>
                <a:ea typeface="Calibri"/>
              </a:rPr>
              <a:t>Чистоговорка.</a:t>
            </a:r>
            <a:br>
              <a:rPr sz="18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857160" y="1285920"/>
            <a:ext cx="657180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212121"/>
                </a:solidFill>
                <a:latin typeface="Constantia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212121"/>
                </a:solidFill>
                <a:latin typeface="Constanti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Говорим всегда краси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Смело и неторопли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Ясно, четко, говор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Потому что не спеш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Паузы мы соблюд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Звук ударный выделя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Хорошо мы говор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212121"/>
                </a:solidFill>
                <a:latin typeface="Constantia"/>
                <a:ea typeface="Times New Roman"/>
              </a:rPr>
              <a:t>Потому что не спеш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124640"/>
            <a:ext cx="8229240" cy="51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nstantia"/>
              </a:rPr>
              <a:t>«И в шутку и</a:t>
            </a:r>
            <a:endParaRPr b="0" lang="ru-RU" sz="8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8000" spc="-1" strike="noStrike">
                <a:solidFill>
                  <a:srgbClr val="000000"/>
                </a:solidFill>
                <a:latin typeface="Constantia"/>
              </a:rPr>
              <a:t>всерьёз»</a:t>
            </a:r>
            <a:endParaRPr b="0" lang="ru-RU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332640"/>
            <a:ext cx="8686440" cy="599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Он и весел, и не злобен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Пухлый милый чудачок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Вместе с ним хозяин Робин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И приятель Пятачок.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Это плюшевый проказник-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Медвежонок…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Прямоугольник 4"/>
          <p:cNvSpPr/>
          <p:nvPr/>
        </p:nvSpPr>
        <p:spPr>
          <a:xfrm>
            <a:off x="4286160" y="3929040"/>
            <a:ext cx="3714480" cy="1142640"/>
          </a:xfrm>
          <a:prstGeom prst="rect">
            <a:avLst/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2060"/>
                </a:solidFill>
                <a:latin typeface="Constantia"/>
              </a:rPr>
              <a:t>Винни-Пу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6" descr="Картинка 14 из 836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57280" y="1214280"/>
            <a:ext cx="4142880" cy="4576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8"/>
          <p:cNvSpPr/>
          <p:nvPr/>
        </p:nvSpPr>
        <p:spPr>
          <a:xfrm>
            <a:off x="1571760" y="1143000"/>
            <a:ext cx="571464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милый, странный д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ымянною игруш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когда - то в магази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 ждал он на витр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ождался. Стал извест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й сказкою чуде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меня, малыш, послуша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го большие уш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коричневого цве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любят все на све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ет каждая дворня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Гены - ..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9"/>
          <p:cNvSpPr/>
          <p:nvPr/>
        </p:nvSpPr>
        <p:spPr>
          <a:xfrm>
            <a:off x="4284000" y="5429160"/>
            <a:ext cx="3960000" cy="785520"/>
          </a:xfrm>
          <a:prstGeom prst="rect">
            <a:avLst/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2060"/>
                </a:solidFill>
                <a:latin typeface="Constantia"/>
              </a:rPr>
              <a:t>ЧЕБУРАШ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1784160"/>
            <a:ext cx="9143640" cy="3978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Calibri"/>
              </a:rPr>
              <a:t>       </a:t>
            </a: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Calibri"/>
              </a:rPr>
              <a:t>         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Calibri"/>
              </a:rPr>
              <a:t>Ч  е б у  р   а  ш   к   а</a:t>
            </a:r>
            <a:endParaRPr b="0" lang="ru-RU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C:\Documents and Settings\Admin\Рабочий стол\ч.jpg"/>
          <p:cNvPicPr/>
          <p:nvPr/>
        </p:nvPicPr>
        <p:blipFill>
          <a:blip r:embed="rId1"/>
          <a:stretch/>
        </p:blipFill>
        <p:spPr>
          <a:xfrm>
            <a:off x="1857240" y="357120"/>
            <a:ext cx="4357440" cy="371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Содержимое 3" descr="34608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667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604</TotalTime>
  <Application>LibreOffice/7.4.7.2$Linux_X86_64 LibreOffice_project/40$Build-2</Application>
  <AppVersion>15.0000</AppVersion>
  <Words>567</Words>
  <Paragraphs>10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23-02-01T11:39:34Z</dcterms:modified>
  <cp:revision>74</cp:revision>
  <dc:subject/>
  <dc:title>Эдуард  Успенский  -  детя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1</vt:r8>
  </property>
  <property fmtid="{D5CDD505-2E9C-101B-9397-08002B2CF9AE}" pid="4" name="PresentationFormat">
    <vt:lpwstr>Экран (4:3)</vt:lpwstr>
  </property>
  <property fmtid="{D5CDD505-2E9C-101B-9397-08002B2CF9AE}" pid="5" name="Slides">
    <vt:r8>25</vt:r8>
  </property>
</Properties>
</file>