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png" ContentType="image/png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.jpeg" ContentType="image/jpeg"/>
  <Override PartName="/ppt/media/media24.wav" ContentType="audio/x-wav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6923D-7BA5-49B2-995D-A385BC92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9B22B1-3522-4FE4-8A44-82C6773B3C0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B34-47EE-45BE-8C76-CA6ED79C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A9F-B5A4-4771-9598-EC081F4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167-CD28-400A-A680-2EF94280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327-5B3A-416E-987D-5854141E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72C0-EFF6-4CF9-BFC8-7A804367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D83D-8BA3-4884-9315-52778679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3506-2C90-4264-9E89-0471B7CD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E99A-7C7F-4C37-A479-08FE8C70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64C-990C-4119-A831-0E8EE129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2CE5-2173-4C12-BCBE-819AEB7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B1C4-0DAA-468B-B864-70B1DDD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A2D-FDC0-46FD-B55C-E229CAC7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7F3F-C5AC-445D-AAEA-FA595BFD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E233-4580-46CC-98EB-CEB4B65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F642-5F92-4BB5-AB26-B68534F9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8790-93EB-417D-A38C-0DF6EF0B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9C95-6B0D-48B4-A1A5-8DD33240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5D77-7BC6-4E3D-9A39-744660D6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E309-EB0A-44A2-9B06-66952760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AAA7-09AE-4640-94BD-0ECAC375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B1D1-37AA-45C2-86D6-086B1920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5669-010D-4F85-A4CC-E307CE43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68A-CDFA-4920-AF0E-D79D0E3C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E4F7-1472-4174-BB74-B8A15790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29DC-DB83-47D4-92B0-8C19D38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413E-F655-46AB-B6B5-5C4A8A3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DD77-E4B3-422A-9AEB-B52B9D3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2AD8-E6C9-4447-A542-E5AAD564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DB9A-7D5A-4F40-B899-7ED38D78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3220-BDE6-4D92-B75D-C0460D38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07DE-A0B7-4508-8E20-1F81A895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6D2F-9E68-4B3D-AD10-66609236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D39DE-3B14-49C3-A5AA-C3B037B2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F06-B642-4FF1-8AFF-D90DFB7E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4614-DEA0-4BD3-931A-4BFDBBD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0E4C-68F6-46E5-809A-2703476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2120-C443-47D5-919C-2449400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289D-96B3-4302-A039-B7CC300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2C14-B2A0-4D20-AB4E-D1BE88F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F3D5-7517-4DAE-8490-97C4EB7A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C552-B4E8-489E-8A0E-9DB09B50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17C19-1C38-4632-B2B1-E8ADADC3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D972-1751-446A-B06A-C9F64C93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C98-1FC2-4E2B-9E18-C824294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CB1-E8D4-42DC-BA5B-F3272E50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DD4-45BA-48FA-AEF4-AF679E4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9D6-7788-44FA-A264-0CDDE6F1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226-C63B-4990-900F-97C5E7A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6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5615D7-18D8-4CFD-81AB-5C6C3C2E8D7E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50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900425-3AE8-4777-A72B-9C3FFABAB34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1E5DB0-BD68-4752-A496-52B42856EDB5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1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2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3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6981D9-E9B0-45A2-B804-78D59B745D3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izvestia.ru/2144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mrz.ru/catimg/72/72345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uslania.com/pictures/big/9785170435913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kmrz.ru/catimg/75/75051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char.ru/books/p190520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forums.drom.ru/attachment.php?attachmentid=224300&amp;stc=1&amp;d=1213914883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fimka.net/_ld/13/50994.jpg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ippo.su/begemot/img/begemotic12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audio" Target="../media/media24.wav"/><Relationship Id="rId12" Type="http://schemas.microsoft.com/office/2007/relationships/media" Target="../media/media24.wav"/><Relationship Id="rId13" Type="http://schemas.openxmlformats.org/officeDocument/2006/relationships/image" Target="../media/image25.png"/><Relationship Id="rId14" Type="http://schemas.openxmlformats.org/officeDocument/2006/relationships/slide" Target="slide21.xml"/><Relationship Id="rId1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inder-content.ucoz.ru/_ld/0/s2827113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120" cy="17712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0066"/>
                </a:solidFill>
                <a:latin typeface="Comic Sans MS"/>
              </a:rPr>
              <a:t>Литературное чтение</a:t>
            </a:r>
            <a:endParaRPr b="0" lang="ru-RU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640" y="2401920"/>
            <a:ext cx="5256360" cy="34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ма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Чебурашка» Э.Успенски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 класс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7" descr="он же"/>
          <p:cNvPicPr/>
          <p:nvPr/>
        </p:nvPicPr>
        <p:blipFill>
          <a:blip r:embed="rId1"/>
          <a:stretch/>
        </p:blipFill>
        <p:spPr>
          <a:xfrm>
            <a:off x="5148000" y="2205000"/>
            <a:ext cx="3528000" cy="369540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1254959182_krokodil_gena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6760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7000"/>
          </a:bodyPr>
          <a:p>
            <a:pPr indent="0">
              <a:lnSpc>
                <a:spcPct val="100000"/>
              </a:lnSpc>
              <a:buNone/>
            </a:pPr>
            <a:br>
              <a:rPr sz="5400"/>
            </a:br>
            <a:r>
              <a:rPr b="1" lang="ru-RU" sz="4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Эдуард Николаевич Успенский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24280" y="908640"/>
            <a:ext cx="4419360" cy="49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   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5" descr="Картинка 7 из 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143000"/>
            <a:ext cx="4320000" cy="5071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4572000" y="857160"/>
            <a:ext cx="421452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ногожанровый пис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исал сказки, детект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нтастические повести, пьесы, стихи, сценарии мульт- и кинофильмов, радиопостановок, делал переводы, сочинял коми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Успенский Эдуард Николаевич- 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оэт, детский прозаик, драматург, сценарист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3577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ился 22 декабря 1937 года в Егорьевске Московской области в семье служащих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1961 г. он окончил Московский авиационный институт, а затем 3 года проработал инженером. Но, еще учась в вузе, Успенский начал печататься. Он писал стихи и прозу. Его первый поэтический сборник “Смешной слоненок” увидел свет в 1965 г., а в 1966 г. была опубликована сказка “Крокодил Гена и его друзья”, которая принесла Успенскому громкую славу. С тех пор Успенский написал много стихотворений, веселых, озорных, во многом поучительных. А циклы его произведений о Крокодиле Гене и Чебурашке, о событиях в Простоквашино, о Вере и Анфисе послужили основой для создания мультфильмов, которые дети смотрят с большим интересом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2060"/>
                </a:solidFill>
                <a:latin typeface="Comic Sans MS"/>
              </a:rPr>
              <a:t>Книги  Эдуарда  Успенского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Картинка 2 из 4846">
            <a:hlinkClick r:id="rId1"/>
          </p:cNvPr>
          <p:cNvPicPr/>
          <p:nvPr/>
        </p:nvPicPr>
        <p:blipFill>
          <a:blip r:embed="rId2"/>
          <a:stretch/>
        </p:blipFill>
        <p:spPr>
          <a:xfrm rot="20856600">
            <a:off x="1043640" y="3356640"/>
            <a:ext cx="2808000" cy="320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Картинка 35 из 4846">
            <a:hlinkClick r:id="rId3"/>
          </p:cNvPr>
          <p:cNvPicPr/>
          <p:nvPr/>
        </p:nvPicPr>
        <p:blipFill>
          <a:blip r:embed="rId4"/>
          <a:stretch/>
        </p:blipFill>
        <p:spPr>
          <a:xfrm rot="21091800">
            <a:off x="196560" y="1407240"/>
            <a:ext cx="2093040" cy="2828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Картинка 27 из 4846">
            <a:hlinkClick r:id="rId5"/>
          </p:cNvPr>
          <p:cNvPicPr/>
          <p:nvPr/>
        </p:nvPicPr>
        <p:blipFill>
          <a:blip r:embed="rId6"/>
          <a:stretch/>
        </p:blipFill>
        <p:spPr>
          <a:xfrm rot="555000">
            <a:off x="6435360" y="1549080"/>
            <a:ext cx="1919880" cy="273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Картинка 9 из 484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60000" y="1268640"/>
            <a:ext cx="252000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Картинка 15 из 484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0000" y="3429000"/>
            <a:ext cx="2520000" cy="316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Картинка 1 из 139">
            <a:hlinkClick r:id="rId11"/>
          </p:cNvPr>
          <p:cNvPicPr/>
          <p:nvPr/>
        </p:nvPicPr>
        <p:blipFill>
          <a:blip r:embed="rId12"/>
          <a:stretch/>
        </p:blipFill>
        <p:spPr>
          <a:xfrm rot="433800">
            <a:off x="5580000" y="3465000"/>
            <a:ext cx="2448000" cy="306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428760" y="1785960"/>
            <a:ext cx="7500600" cy="2559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« ИСПОКОН  ВЕКА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КНИГА  РАСТИТ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7747920" cy="93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Читайте  по  слогам,  затем  -  целым  слово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Тро-пи-чес-ком –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тропическо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Гип-по-по-там –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гиппопота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От-пра-вил-ся –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отправилс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А-пель-си-на-ми –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апельсинами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е-ре-дви-гать-ся  -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передвигатьс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у-те-шест-ви-е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путешестви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Не-из-вест-ным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неизвестны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Соб-ствен-но-го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собственного 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24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Фрукт – фруктовы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Груз – погрузили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Брак – бракованную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Зверь – зверёк, зверины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Город - городско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928800" y="571320"/>
            <a:ext cx="685764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chemeClr val="dk1"/>
                </a:solidFill>
                <a:latin typeface="Constantia"/>
              </a:rPr>
              <a:t>Гиппопотам, или обыкновенный бегемот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,— крупное, в основном травоядное, млекопитаю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Картинка 36 из 2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286000"/>
            <a:ext cx="607176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857160" y="428760"/>
            <a:ext cx="6929280" cy="94284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chemeClr val="dk1"/>
                </a:solidFill>
                <a:latin typeface="Constantia"/>
              </a:rPr>
              <a:t>Тропический лес </a:t>
            </a:r>
            <a:r>
              <a:rPr b="0" lang="ru-RU" sz="2800" spc="-1" strike="noStrike">
                <a:solidFill>
                  <a:schemeClr val="dk1"/>
                </a:solidFill>
                <a:latin typeface="Constantia"/>
              </a:rPr>
              <a:t>— лес в жарком поясе земного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71360" y="1500120"/>
            <a:ext cx="6571800" cy="514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246600"/>
            <a:ext cx="7962840" cy="661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ю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–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мещение на корабле</a:t>
            </a:r>
            <a:r>
              <a:rPr b="0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ценённые товар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товары , которые стоят меньше прежней стоимост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лефонная буд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будка с телефоном-автоматом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ракованная игрушк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грушка с браком (царапина, трещина) изъян в игрушке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Чебурахнуться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упасть или удариться с шумом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60" y="1800"/>
            <a:ext cx="2282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6"/>
          <p:cNvSpPr/>
          <p:nvPr/>
        </p:nvSpPr>
        <p:spPr>
          <a:xfrm>
            <a:off x="500040" y="1643040"/>
            <a:ext cx="86436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ОЛГОЖДАННЫЙ  ДАН  ЗВОН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ЧИНАЕТСЯ  У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Documents and Settings\Admin\Мои документы\Мои рисунки\img064_hf.jpg"/>
          <p:cNvPicPr/>
          <p:nvPr/>
        </p:nvPicPr>
        <p:blipFill>
          <a:blip r:embed="rId1"/>
          <a:stretch/>
        </p:blipFill>
        <p:spPr>
          <a:xfrm>
            <a:off x="0" y="1052640"/>
            <a:ext cx="3131640" cy="5256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132000" y="1747440"/>
            <a:ext cx="508320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Какой фрагмент текста проиллюстрировал художник?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39000"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Дополни пословицы:</a:t>
            </a:r>
            <a:br>
              <a:rPr sz="4400"/>
            </a:b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55280"/>
            <a:ext cx="9143640" cy="515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 имей 100 рублей, а имей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100 друзей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т друга - ищи, а нашел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– береги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Хочешь дружить – сам будь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друго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Доброе братство -лучше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 богатства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Облако 4"/>
          <p:cNvSpPr/>
          <p:nvPr/>
        </p:nvSpPr>
        <p:spPr>
          <a:xfrm>
            <a:off x="6929280" y="692640"/>
            <a:ext cx="1890720" cy="13676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6" name="Облако 5"/>
          <p:cNvSpPr/>
          <p:nvPr/>
        </p:nvSpPr>
        <p:spPr>
          <a:xfrm>
            <a:off x="6286680" y="2428920"/>
            <a:ext cx="2856960" cy="99972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7" name="Облако 6"/>
          <p:cNvSpPr/>
          <p:nvPr/>
        </p:nvSpPr>
        <p:spPr>
          <a:xfrm>
            <a:off x="6500880" y="3571920"/>
            <a:ext cx="2642760" cy="115308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8" name="Облако 7"/>
          <p:cNvSpPr/>
          <p:nvPr/>
        </p:nvSpPr>
        <p:spPr>
          <a:xfrm>
            <a:off x="5715000" y="4786200"/>
            <a:ext cx="2385000" cy="11624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9" name="Облако 8"/>
          <p:cNvSpPr/>
          <p:nvPr/>
        </p:nvSpPr>
        <p:spPr>
          <a:xfrm>
            <a:off x="0" y="1484640"/>
            <a:ext cx="2195280" cy="11516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0 L 0.47847 0 E">
                                      <p:cBhvr>
                                        <p:cTn id="6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93 -0.01041 L 1.17534 -0.01041 E">
                                      <p:cBhvr>
                                        <p:cTn id="7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542 -0.00533 L 0.60243 -0.00533 E">
                                      <p:cBhvr>
                                        <p:cTn id="7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483 -0.01042 L 0.60052 -0.01042 E">
                                      <p:cBhvr>
                                        <p:cTn id="7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11 -0.00509 L 0.56111 -0.00509 E">
                                      <p:cBhvr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483840"/>
            <a:ext cx="8572320" cy="624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 имей 100 рублей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, а имей 100 друзей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т друга - ищи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, а нашел – береги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Хочешь дружить –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сам будь друго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Доброе братство -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лучше богатства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37"/>
          <p:cNvSpPr/>
          <p:nvPr/>
        </p:nvSpPr>
        <p:spPr>
          <a:xfrm>
            <a:off x="-36360" y="4869000"/>
            <a:ext cx="9196200" cy="228708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080"/>
              <a:gd name="textAreaBottom" fmla="*/ 2287440 h 228708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pattFill prst="openDmnd">
            <a:fgClr>
              <a:srgbClr val="00ff00"/>
            </a:fgClr>
            <a:bgClr>
              <a:srgbClr val="bfefb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ddd0fc32575ct"/>
          <p:cNvPicPr/>
          <p:nvPr/>
        </p:nvPicPr>
        <p:blipFill>
          <a:blip r:embed="rId1"/>
          <a:stretch/>
        </p:blipFill>
        <p:spPr>
          <a:xfrm>
            <a:off x="2793960" y="1916280"/>
            <a:ext cx="3217680" cy="4536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4"/>
          <p:cNvSpPr/>
          <p:nvPr/>
        </p:nvSpPr>
        <p:spPr>
          <a:xfrm rot="16885200">
            <a:off x="172080" y="50922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7236000" y="189000"/>
            <a:ext cx="1510920" cy="1510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AutoShape 6"/>
          <p:cNvSpPr/>
          <p:nvPr/>
        </p:nvSpPr>
        <p:spPr>
          <a:xfrm rot="16885200">
            <a:off x="172080" y="300456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AutoShape 7"/>
          <p:cNvSpPr/>
          <p:nvPr/>
        </p:nvSpPr>
        <p:spPr>
          <a:xfrm rot="16885200">
            <a:off x="172080" y="699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9dd9"/>
              </a:gs>
              <a:gs pos="100000">
                <a:srgbClr val="4618f0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8"/>
          <p:cNvSpPr/>
          <p:nvPr/>
        </p:nvSpPr>
        <p:spPr>
          <a:xfrm rot="552000">
            <a:off x="176328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9dd9"/>
              </a:gs>
              <a:gs pos="100000">
                <a:srgbClr val="4ee8f8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AutoShape 9"/>
          <p:cNvSpPr/>
          <p:nvPr/>
        </p:nvSpPr>
        <p:spPr>
          <a:xfrm rot="552000">
            <a:off x="399564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AutoShape 10"/>
          <p:cNvSpPr/>
          <p:nvPr/>
        </p:nvSpPr>
        <p:spPr>
          <a:xfrm rot="552000">
            <a:off x="622764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6e74ee"/>
              </a:gs>
              <a:gs pos="100000">
                <a:srgbClr val="0f6fc6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AutoShape 11"/>
          <p:cNvSpPr/>
          <p:nvPr/>
        </p:nvSpPr>
        <p:spPr>
          <a:xfrm rot="6170400">
            <a:off x="7733520" y="7722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3366ff"/>
              </a:gs>
              <a:gs pos="50000">
                <a:srgbClr val="0f6fc6"/>
              </a:gs>
              <a:gs pos="100000">
                <a:srgbClr val="3366ff"/>
              </a:gs>
            </a:gsLst>
            <a:lin ang="115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AutoShape 12"/>
          <p:cNvSpPr/>
          <p:nvPr/>
        </p:nvSpPr>
        <p:spPr>
          <a:xfrm rot="6170400">
            <a:off x="7733520" y="3075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88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AutoShape 13"/>
          <p:cNvSpPr/>
          <p:nvPr/>
        </p:nvSpPr>
        <p:spPr>
          <a:xfrm rot="6170400">
            <a:off x="7733520" y="5307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8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AutoShape 14"/>
          <p:cNvSpPr/>
          <p:nvPr/>
        </p:nvSpPr>
        <p:spPr>
          <a:xfrm rot="11193600">
            <a:off x="615636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490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AutoShape 15"/>
          <p:cNvSpPr/>
          <p:nvPr/>
        </p:nvSpPr>
        <p:spPr>
          <a:xfrm rot="11193600">
            <a:off x="406728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8490000"/>
          </a:gradFill>
          <a:ln w="9525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160" cy="1510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39640" cy="1152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4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240" cy="109188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9"/>
              <a:gd name="adj2" fmla="val -10958"/>
              <a:gd name="adj3" fmla="val 16667"/>
            </a:avLst>
          </a:prstGeom>
          <a:solidFill>
            <a:srgbClr val="ffff9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508720" y="2781360"/>
            <a:ext cx="32396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давайте жить дру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2" descr="B_Fly31"/>
          <p:cNvPicPr/>
          <p:nvPr/>
        </p:nvPicPr>
        <p:blipFill>
          <a:blip r:embed="rId6"/>
          <a:stretch/>
        </p:blipFill>
        <p:spPr>
          <a:xfrm rot="7629000">
            <a:off x="1287720" y="2536560"/>
            <a:ext cx="1142640" cy="105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3" descr="B_Fly21"/>
          <p:cNvPicPr/>
          <p:nvPr/>
        </p:nvPicPr>
        <p:blipFill>
          <a:blip r:embed="rId7"/>
          <a:stretch/>
        </p:blipFill>
        <p:spPr>
          <a:xfrm rot="13641000">
            <a:off x="7138080" y="3600000"/>
            <a:ext cx="1368000" cy="102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080" cy="1418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040" cy="100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040" cy="100764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8"/>
          <p:cNvSpPr/>
          <p:nvPr/>
        </p:nvSpPr>
        <p:spPr>
          <a:xfrm rot="11193600">
            <a:off x="169236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6590000"/>
          </a:gradFill>
          <a:ln w="9525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embed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839080" y="6553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1">
            <a:hlinkClick r:id="rId14" action="ppaction://hlinksldjump"/>
          </p:cNvPr>
          <p:cNvSpPr/>
          <p:nvPr/>
        </p:nvSpPr>
        <p:spPr>
          <a:xfrm>
            <a:off x="8244000" y="6308640"/>
            <a:ext cx="647280" cy="360000"/>
          </a:xfrm>
          <a:prstGeom prst="leftArrow">
            <a:avLst>
              <a:gd name="adj1" fmla="val 50000"/>
              <a:gd name="adj2" fmla="val 44934"/>
            </a:avLst>
          </a:prstGeom>
          <a:solidFill>
            <a:srgbClr val="8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8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9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0"/>
                            </p:stCondLst>
                            <p:childTnLst>
                              <p:par>
                                <p:cTn id="2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5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2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6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Prev"/>
                    <p:cond delay="0" evt="onStopAudio"/>
                  </p:endCondLst>
                </p:cTn>
                <p:tgtEl>
                  <p:spTgt spid="267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90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  <a:ea typeface="Calibri"/>
              </a:rPr>
              <a:t>Домашнее задание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7640" y="510840"/>
            <a:ext cx="767592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  <a:ea typeface="Calibri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1. Читать стр. 137 - 142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Нарисовать иллюстрацию к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отрывку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0066"/>
                </a:solidFill>
                <a:latin typeface="Comic Sans MS"/>
              </a:rPr>
              <a:t>До  новых  встреч!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7" descr="1pis7"/>
          <p:cNvPicPr/>
          <p:nvPr/>
        </p:nvPicPr>
        <p:blipFill>
          <a:blip r:embed="rId1"/>
          <a:stretch/>
        </p:blipFill>
        <p:spPr>
          <a:xfrm>
            <a:off x="457200" y="2160360"/>
            <a:ext cx="8229240" cy="393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Заголовок 1"/>
          <p:cNvSpPr/>
          <p:nvPr/>
        </p:nvSpPr>
        <p:spPr>
          <a:xfrm>
            <a:off x="1285920" y="285840"/>
            <a:ext cx="557172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rmAutofit fontScale="6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            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Чистоговорка.</a:t>
            </a:r>
            <a:br>
              <a:rPr sz="1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857160" y="1285920"/>
            <a:ext cx="65718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Говорим всегда крас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Смело и неторопл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Ясно, четко, гово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отому что не спе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аузы мы соблюд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Звук ударный выдел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Хорошо мы гово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отому что не спе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«И в шутку и</a:t>
            </a:r>
            <a:endParaRPr b="0" lang="ru-RU" sz="8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всерьёз»</a:t>
            </a:r>
            <a:endParaRPr b="0" lang="ru-RU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686440" cy="59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н и весел, и не злобен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ухлый милый чудачок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месте с ним хозяин Робин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И приятель Пятачок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Это плюшевый проказник-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двежонок…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4286160" y="3929040"/>
            <a:ext cx="3714480" cy="1142640"/>
          </a:xfrm>
          <a:prstGeom prst="rect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Винни-П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Картинка 14 из 83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1214280"/>
            <a:ext cx="4142880" cy="4576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8"/>
          <p:cNvSpPr/>
          <p:nvPr/>
        </p:nvSpPr>
        <p:spPr>
          <a:xfrm>
            <a:off x="1571760" y="1143000"/>
            <a:ext cx="5714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милый, странный 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ымянною игруш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когда - то в магази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ждал он на витр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ждался. Стал извест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сказкою чуд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ня, малыш, послуш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большие 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оричневого ц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любят все на св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каждая дворня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ены - 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4284000" y="5429160"/>
            <a:ext cx="3960000" cy="785520"/>
          </a:xfrm>
          <a:prstGeom prst="rect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ЧЕБУРА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1784160"/>
            <a:ext cx="914364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Ч  е б у  р   а  ш   к   а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C:\Documents and Settings\Admin\Рабочий стол\ч.jpg"/>
          <p:cNvPicPr/>
          <p:nvPr/>
        </p:nvPicPr>
        <p:blipFill>
          <a:blip r:embed="rId1"/>
          <a:stretch/>
        </p:blipFill>
        <p:spPr>
          <a:xfrm>
            <a:off x="1857240" y="357120"/>
            <a:ext cx="4357440" cy="37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3" descr="34608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66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04</TotalTime>
  <Application>LibreOffice/7.4.7.2$Linux_X86_64 LibreOffice_project/40$Build-2</Application>
  <AppVersion>15.0000</AppVersion>
  <Words>567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3-02-01T11:39:34Z</dcterms:modified>
  <cp:revision>74</cp:revision>
  <dc:subject/>
  <dc:title>Эдуард  Успенский  -  детя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25</vt:r8>
  </property>
</Properties>
</file>