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75E-6CB2-4F14-B08D-C6CC2770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5F5-CE2A-4494-A3CF-6D95B7C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7D9-0757-4934-A1BA-5BA61E4A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F78-7158-49D6-9940-F456ABA2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35B-0D5A-4A0D-AE12-01FA5A81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8EE-D664-4BE4-8550-7E7B3FD7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862-91C6-4E1A-8CBE-9E3929B2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875-B66D-425D-8F49-5A0C2502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79C-C674-45E7-BFA3-55DA2053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396-4EEB-42C4-87F8-AF1FEF7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EA4-E9E2-4C3B-8516-CEA1617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ADA-FB80-4C4F-AD70-36C7346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F414-020B-44BB-84D5-8D45C6C0D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367640" y="1844640"/>
            <a:ext cx="673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Arial"/>
              </a:rPr>
              <a:t>Пернетақтам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Arial"/>
              </a:rPr>
              <a:t>таныс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J0099171"/>
          <p:cNvPicPr/>
          <p:nvPr/>
        </p:nvPicPr>
        <p:blipFill>
          <a:blip r:embed="rId1"/>
          <a:stretch/>
        </p:blipFill>
        <p:spPr>
          <a:xfrm rot="5400000">
            <a:off x="-2470320" y="2722320"/>
            <a:ext cx="62467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4"/>
          <p:cNvSpPr/>
          <p:nvPr/>
        </p:nvSpPr>
        <p:spPr>
          <a:xfrm>
            <a:off x="4861080" y="6308640"/>
            <a:ext cx="863280" cy="360360"/>
          </a:xfrm>
          <a:custGeom>
            <a:avLst/>
            <a:gdLst>
              <a:gd name="textAreaLeft" fmla="*/ 107640 w 863280"/>
              <a:gd name="textAreaRight" fmla="*/ 755640 w 86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5"/>
          <p:cNvSpPr/>
          <p:nvPr/>
        </p:nvSpPr>
        <p:spPr>
          <a:xfrm rot="10800000">
            <a:off x="3779640" y="6308280"/>
            <a:ext cx="936360" cy="358920"/>
          </a:xfrm>
          <a:custGeom>
            <a:avLst/>
            <a:gdLst>
              <a:gd name="textAreaLeft" fmla="*/ 117000 w 936360"/>
              <a:gd name="textAreaRight" fmla="*/ 819360 w 936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41672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ңа сабақты түсінді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539640" y="2565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ернетақта, оның атқараттын қызмет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468360" y="328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2) Сұрақтар, тапсырм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Қосымша  пернел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Ctrl 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Басқарушы 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пернетақтада  болдырмау әмірін растай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Tab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мәтінді оңға, ортаға, шеткері жылжытады және кестеге кесте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қосуға, меңзерді ұяшықтан ұяшыққа ауыстыр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Caps Lock 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әріптерді  бас әріптермен жаз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Num Lock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– сандық әріптерді түсіред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- пернетақтада енгізу әмірін растайтын батырма, жаңа парақ ашуғ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көмектесеті. Мәтінді жаңа жолдан бастай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-  Жүгіргіні  ағымдағы  жолдың басына апар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End-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Жүгіргіні ағымдағы жолдың соңына апар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Ctrl Home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-  Жүгіргіні ағымдағы парақтың басына апар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Ctrl End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-      Жүгіргіні ағымдағы парақтың соңына  апар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гіргінің  сол жағында  тұрған символдарды  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Backspace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ернесі жояды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гіргінің оң жағындағы символ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ернесі жо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Пернелердің   қызметтер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с орын (пробел)  - пернетақтаның төменгі жағындағы еш жазуы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оқ бұл  перне- сөздер арасында бос орын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лдыру үшін қолдан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4 – жұмыс терезесін жа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5 –  ағымдағы терезені кішірейт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10 -  ағымдағы терезені үлкейт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A -  ағымдағы терезедегі мәтін ерекшелен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N –  жаңа парақ а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C – мәтіннің көшірмесі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V –  мәтінді кері қайтару, көшірмені орнына қ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P -  баспаға шығару бетті шақ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меңзерді ағымдағы парақтың жоғары, төмен, оңға, солғ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п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–  бас әріпті ж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Alt – тілдерді ауыстыру. Мысалы: орыс тілі, қазақ тілі, ағылшын тіл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F12 –  ағымдағы құжат сақталы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Delete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–  мәтінді қиы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Insert –  мәтіннің көшірмесі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мәтіндерді толық оңға, солға, жоғары, төмен ерекшелейд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187280" y="3716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116000" y="378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755280" y="3716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111600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1403280" y="6237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332000" y="630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>
            <a:off x="899640" y="6237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1332000" y="594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kk-KZ" sz="4000" spc="-1" strike="noStrike">
                <a:solidFill>
                  <a:srgbClr val="333399"/>
                </a:solidFill>
                <a:latin typeface="Arial"/>
              </a:rPr>
              <a:t>Қорытынды</a:t>
            </a:r>
            <a:br>
              <a:rPr sz="4000"/>
            </a:b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«Ой жинақтау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11280" y="1989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 білуі тиіс:     Пернетақтадағы  қосымша пернелерді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тқаратын  жұмыс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ның меңгеруі тиі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Пернетақтаның  атқаратын қызметтерімен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пьютерге қосымша   жұмыстарын  жасауғ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латынын ,  т.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  өз деңгейінде бағала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573440" y="6237360"/>
            <a:ext cx="863640" cy="360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10800000">
            <a:off x="3492360" y="6237360"/>
            <a:ext cx="936720" cy="358560"/>
          </a:xfrm>
          <a:custGeom>
            <a:avLst/>
            <a:gdLst>
              <a:gd name="textAreaLeft" fmla="*/ 117000 w 936720"/>
              <a:gd name="textAreaRight" fmla="*/ 819720 w 936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Үй  </a:t>
            </a:r>
            <a:r>
              <a:rPr b="0" lang="kk-KZ" sz="4800" spc="-1" strike="noStrike">
                <a:solidFill>
                  <a:srgbClr val="000000"/>
                </a:solidFill>
                <a:latin typeface="Arial"/>
              </a:rPr>
              <a:t>тапсырмасы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63640" y="2133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ңа ақпараттық технологиял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573440" y="6237360"/>
            <a:ext cx="863640" cy="360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 rot="10800000">
            <a:off x="3492360" y="6237360"/>
            <a:ext cx="936720" cy="358560"/>
          </a:xfrm>
          <a:custGeom>
            <a:avLst/>
            <a:gdLst>
              <a:gd name="textAreaLeft" fmla="*/ 117000 w 936720"/>
              <a:gd name="textAreaRight" fmla="*/ 819720 w 936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5:05:03Z</dcterms:created>
  <dc:creator>Айдар</dc:creator>
  <dc:description/>
  <dc:language>en-US</dc:language>
  <cp:lastModifiedBy>Робототехника</cp:lastModifiedBy>
  <dcterms:modified xsi:type="dcterms:W3CDTF">2022-11-09T02:58:07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8000000000001024110</vt:lpwstr>
  </property>
</Properties>
</file>