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0A37-3546-4E6E-93CB-CA52D753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7BD-33ED-4EDE-A282-D723C392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FD11-8161-40A2-886F-B6994498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188-6CD0-419C-885F-0351AD82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1044-46DD-4F4D-BE09-BF368929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8DDB-0BC1-49A6-96AC-FD7B7587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E8CF-BC5A-4C9A-BC42-77AF3E49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5B8-469B-4C16-A440-486D13EA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065-2B4A-4CEA-B3D4-5125C68F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AD34-3100-4746-A11C-EA300F57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E50E-ED73-46EC-9F93-BF766DC5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066-1EE9-46FA-9AB3-025E7DF6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678F-161C-43DE-8BDC-F4980191A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1367640" y="1844640"/>
            <a:ext cx="673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000000"/>
                </a:solidFill>
                <a:latin typeface="Arial"/>
              </a:rPr>
              <a:t>Пернетақтамен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000000"/>
                </a:solidFill>
                <a:latin typeface="Arial"/>
              </a:rPr>
              <a:t>таныс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J0099171"/>
          <p:cNvPicPr/>
          <p:nvPr/>
        </p:nvPicPr>
        <p:blipFill>
          <a:blip r:embed="rId1"/>
          <a:stretch/>
        </p:blipFill>
        <p:spPr>
          <a:xfrm rot="5400000">
            <a:off x="-2470320" y="2722320"/>
            <a:ext cx="624672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7"/>
          <p:cNvSpPr/>
          <p:nvPr/>
        </p:nvSpPr>
        <p:spPr>
          <a:xfrm>
            <a:off x="466560" y="260280"/>
            <a:ext cx="0" cy="6264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4"/>
          <p:cNvSpPr/>
          <p:nvPr/>
        </p:nvSpPr>
        <p:spPr>
          <a:xfrm>
            <a:off x="4861080" y="6308640"/>
            <a:ext cx="863280" cy="360360"/>
          </a:xfrm>
          <a:custGeom>
            <a:avLst/>
            <a:gdLst>
              <a:gd name="textAreaLeft" fmla="*/ 107640 w 863280"/>
              <a:gd name="textAreaRight" fmla="*/ 755640 w 86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333399"/>
                </a:solidFill>
                <a:latin typeface="Arial"/>
              </a:rPr>
              <a:t>келес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25"/>
          <p:cNvSpPr/>
          <p:nvPr/>
        </p:nvSpPr>
        <p:spPr>
          <a:xfrm rot="10800000">
            <a:off x="3779640" y="6308280"/>
            <a:ext cx="936360" cy="358920"/>
          </a:xfrm>
          <a:custGeom>
            <a:avLst/>
            <a:gdLst>
              <a:gd name="textAreaLeft" fmla="*/ 117000 w 936360"/>
              <a:gd name="textAreaRight" fmla="*/ 819360 w 93636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333399"/>
                </a:solidFill>
                <a:latin typeface="Arial"/>
              </a:rPr>
              <a:t>кер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741672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ңа сабақты түсінді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4"/>
          <p:cNvSpPr/>
          <p:nvPr/>
        </p:nvSpPr>
        <p:spPr>
          <a:xfrm>
            <a:off x="539640" y="2565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Пернетақта, оның атқараттын қызметт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5"/>
          <p:cNvSpPr/>
          <p:nvPr/>
        </p:nvSpPr>
        <p:spPr>
          <a:xfrm>
            <a:off x="468360" y="328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2) Сұрақтар, тапсырма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Қосымша  пернел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Ctrl                 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Басқарушы  пер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пернетақтада  болдырмау әмірін растайтын пер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Tab-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 мәтінді оңға, ортаға, шеткері жылжытады және кестеге кестел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қосуға, меңзерді ұяшықтан ұяшыққа ауыстыратын пер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Caps Lock -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әріптерді  бас әріптермен жазатын пер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Num Lock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– сандық әріптерді түсіред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- пернетақтада енгізу әмірін растайтын батырма, жаңа парақ ашуғ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көмектесеті. Мәтінді жаңа жолдан бастай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-  Жүгіргіні  ағымдағы  жолдың басына апаратын пер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End-    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Жүгіргіні ағымдағы жолдың соңына апара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Ctrl Home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-  Жүгіргіні ағымдағы парақтың басына апара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Ctrl End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-      Жүгіргіні ағымдағы парақтың соңына  апара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үгіргінің  сол жағында  тұрған символдарды   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Backspace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пернесі жояды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үгіргінің оң жағындағы символ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пернесі жоя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Пернелердің   қызметтері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ос орын (пробел)  - пернетақтаның төменгі жағындағы еш жазуы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жоқ бұл  перне- сөздер арасында бос орын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алдыру үшін қолданы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Alt F4 – жұмыс терезесін жа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Alt F5 –  ағымдағы терезені кішірейт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Alt F10 -  ағымдағы терезені үлкейт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Ctrl A -  ағымдағы терезедегі мәтін ерекшелен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Ctrl N –  жаңа парақ аш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Ctrl C – мәтіннің көшірмесін 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Ctrl V –  мәтінді кері қайтару, көшірмені орнына қ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Ctrl P -  баспаға шығару бетті шақы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Ctrl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меңзерді ағымдағы парақтың жоғары, төмен, оңға, солғ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пар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Shift –  бас әріпті ж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Shift Alt – тілдерді ауыстыру. Мысалы: орыс тілі, қазақ тілі, ағылшын тіл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Shift F12 –  ағымдағы құжат сақталын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Shift Delete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–  мәтінді қиын 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Shift Insert –  мәтіннің көшірмесін 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Shift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мәтіндерді толық оңға, солға, жоғары, төмен ерекшелейд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187280" y="37162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116000" y="378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H="1">
            <a:off x="755280" y="37162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1116000" y="342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1403280" y="62373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1332000" y="630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H="1">
            <a:off x="899640" y="62373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 flipV="1">
            <a:off x="1332000" y="594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kk-KZ" sz="4000" spc="-1" strike="noStrike">
                <a:solidFill>
                  <a:srgbClr val="333399"/>
                </a:solidFill>
                <a:latin typeface="Arial"/>
              </a:rPr>
              <a:t>Қорытынды</a:t>
            </a:r>
            <a:br>
              <a:rPr sz="4000"/>
            </a:br>
            <a:r>
              <a:rPr b="1" lang="kk-KZ" sz="4000" spc="-1" strike="noStrike">
                <a:solidFill>
                  <a:srgbClr val="000000"/>
                </a:solidFill>
                <a:latin typeface="Arial"/>
              </a:rPr>
              <a:t>«Ой жинақтау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11280" y="19890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 білуі тиіс:     Пернетақтадағы  қосымша пернелердің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тқаратын  жұмыстар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ның меңгеруі тиі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Пернетақтаның  атқаратын қызметтерімен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омпьютерге қосымша   жұмыстарын  жасауғ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олатынын ,  т.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ларды  өз деңгейінде бағала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4573440" y="6237360"/>
            <a:ext cx="863640" cy="360360"/>
          </a:xfrm>
          <a:custGeom>
            <a:avLst/>
            <a:gdLst>
              <a:gd name="textAreaLeft" fmla="*/ 108000 w 863640"/>
              <a:gd name="textAreaRight" fmla="*/ 756000 w 863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333399"/>
                </a:solidFill>
                <a:latin typeface="Arial"/>
              </a:rPr>
              <a:t>келес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 rot="10800000">
            <a:off x="3492360" y="6237360"/>
            <a:ext cx="936720" cy="358560"/>
          </a:xfrm>
          <a:custGeom>
            <a:avLst/>
            <a:gdLst>
              <a:gd name="textAreaLeft" fmla="*/ 117000 w 936720"/>
              <a:gd name="textAreaRight" fmla="*/ 819720 w 936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333399"/>
                </a:solidFill>
                <a:latin typeface="Arial"/>
              </a:rPr>
              <a:t>кер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466560" y="260280"/>
            <a:ext cx="0" cy="6264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Үй  </a:t>
            </a:r>
            <a:r>
              <a:rPr b="0" lang="kk-KZ" sz="4800" spc="-1" strike="noStrike">
                <a:solidFill>
                  <a:srgbClr val="000000"/>
                </a:solidFill>
                <a:latin typeface="Arial"/>
              </a:rPr>
              <a:t>тапсырмасы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763640" y="21337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Жаңа ақпараттық технологияла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4573440" y="6237360"/>
            <a:ext cx="863640" cy="360360"/>
          </a:xfrm>
          <a:custGeom>
            <a:avLst/>
            <a:gdLst>
              <a:gd name="textAreaLeft" fmla="*/ 108000 w 863640"/>
              <a:gd name="textAreaRight" fmla="*/ 756000 w 863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333399"/>
                </a:solidFill>
                <a:latin typeface="Arial"/>
              </a:rPr>
              <a:t>келес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 rot="10800000">
            <a:off x="3492360" y="6237360"/>
            <a:ext cx="936720" cy="358560"/>
          </a:xfrm>
          <a:custGeom>
            <a:avLst/>
            <a:gdLst>
              <a:gd name="textAreaLeft" fmla="*/ 117000 w 936720"/>
              <a:gd name="textAreaRight" fmla="*/ 819720 w 936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333399"/>
                </a:solidFill>
                <a:latin typeface="Arial"/>
              </a:rPr>
              <a:t>кер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466560" y="260280"/>
            <a:ext cx="0" cy="6264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5:05:03Z</dcterms:created>
  <dc:creator>Айдар</dc:creator>
  <dc:description/>
  <dc:language>en-US</dc:language>
  <cp:lastModifiedBy>Робототехника</cp:lastModifiedBy>
  <dcterms:modified xsi:type="dcterms:W3CDTF">2022-11-09T02:58:07Z</dcterms:modified>
  <cp:revision>10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408000000000001024110</vt:lpwstr>
  </property>
</Properties>
</file>