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7.png" ContentType="image/png"/>
  <Override PartName="/ppt/media/image4.jpeg" ContentType="image/jpeg"/>
  <Override PartName="/ppt/media/image2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media/camera.wav" ContentType="audio/x-wav"/>
  <Override PartName="/ppt/media/image21.jpeg" ContentType="image/jpeg"/>
  <Override PartName="/ppt/media/image17.gif" ContentType="image/gif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241-8EAC-47A7-9404-99593BE2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A80-C2F8-4E8C-AC58-DE74C10C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6ED-9889-45AA-A19E-D52A286C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815-5FCC-4ECB-976A-7B8FB886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B9C1-D126-411E-8ABD-3D1A9FF0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6BF-6CAB-4EC9-9A42-3D68074F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A2DB-8673-4775-861C-FCA7FED8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AFAB-F56B-4E9C-8230-F9D9692C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270-4EE5-43C2-8995-46560EBA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EF16-4725-4139-8BB7-CD33CA3B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7A0C-4D5C-47E3-A02C-6AEEBB6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A7C-46B2-4764-8241-899318DA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7257-CA2F-406E-BF01-8F3BBD3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4582-775B-4E52-8517-A2444ABA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FA2C-4CE9-4B85-810C-19264B9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7F60-E78E-4721-A3E6-3DA6DB3E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D543-E744-44BB-B39B-AA6CF855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90A-BB8F-4779-B442-BE63454F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CFC-72F0-413B-BD09-94F53154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508-5CDD-4E09-8B13-4E98361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271-E3F2-4FC7-8790-EA4873F9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EF6-7CCD-4E62-9EBA-54930FA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790-108C-4C30-815A-CDA22A6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1B1-66B9-406B-B62D-D379D3E2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EA63-F9B6-4EDD-AF4A-9FDB1025D26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440" y="61560"/>
              <a:ext cx="3619800" cy="6130800"/>
              <a:chOff x="5410440" y="61560"/>
              <a:chExt cx="361980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8040"/>
                <a:ext cx="905760" cy="842760"/>
              </a:xfrm>
              <a:custGeom>
                <a:avLst/>
                <a:gdLst>
                  <a:gd name="textAreaLeft" fmla="*/ 0 w 905760"/>
                  <a:gd name="textAreaRight" fmla="*/ 906120 w 90576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902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636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160" y="124452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720" y="2931480"/>
                <a:ext cx="523440" cy="326700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000"/>
                  <a:gd name="textAreaBottom" fmla="*/ 3267000 h 32670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>
                <a:gd name="textAreaLeft" fmla="*/ 0 w 1997640"/>
                <a:gd name="textAreaRight" fmla="*/ 1998000 w 19976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>
                <a:gd name="textAreaLeft" fmla="*/ 0 w 1270800"/>
                <a:gd name="textAreaRight" fmla="*/ 1271160 w 12708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>
                <a:gd name="textAreaLeft" fmla="*/ 0 w 1758240"/>
                <a:gd name="textAreaRight" fmla="*/ 1758600 w 17582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59840"/>
                  <a:gd name="textAreaBottom" fmla="*/ 159840 h 1598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1280" y="303120"/>
              <a:ext cx="894600" cy="821160"/>
              <a:chOff x="565128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88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76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402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200" y="5261400"/>
              <a:ext cx="1059120" cy="833760"/>
              <a:chOff x="97020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2456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360" y="573912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5600"/>
                <a:ext cx="448920" cy="1285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6760"/>
              <a:ext cx="1689840" cy="1146600"/>
              <a:chOff x="375480" y="44676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5240"/>
                <a:ext cx="355320" cy="53028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280"/>
                  <a:gd name="textAreaBottom" fmla="*/ 530640 h 5302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04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376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1080" y="3712320"/>
              <a:ext cx="1155600" cy="1607760"/>
              <a:chOff x="73810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8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5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90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>
                <a:gd name="textAreaLeft" fmla="*/ 0 w 1367640"/>
                <a:gd name="textAreaRight" fmla="*/ 1368000 w 13676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882-ADC5-4ED3-9906-0A457A6792F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666880" y="990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352440" y="333360"/>
            <a:ext cx="6595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132000" y="1844640"/>
            <a:ext cx="316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762120" y="3645000"/>
            <a:ext cx="73389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на   новы й     л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4471920" cy="31892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43640" cy="30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Вошли они в царство чисел, дорога расходится в три стороны: в тупик, в пещеру к Змею Горынычу и в царство наук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2556000" y="3652920"/>
            <a:ext cx="4470120" cy="31906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08000" y="-31644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Около каждого пути</a:t>
            </a:r>
            <a:br>
              <a:rPr sz="4400"/>
            </a:b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стоит указатель, </a:t>
            </a:r>
            <a:br>
              <a:rPr sz="4400"/>
            </a:br>
            <a:r>
              <a:rPr b="0" lang="ru-RU" sz="4400" spc="-1" strike="noStrike">
                <a:solidFill>
                  <a:srgbClr val="000818"/>
                </a:solidFill>
                <a:latin typeface="Verdana"/>
              </a:rPr>
              <a:t>на котором написано: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1. Путь №1 – Дорога в тупик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2. Путь №2 – Дорога в пещеру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3. Путь №3 – Дорога в царство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000818"/>
                </a:solidFill>
                <a:latin typeface="Verdana"/>
              </a:rPr>
              <a:t>                                          наук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"/>
          <p:cNvPicPr/>
          <p:nvPr/>
        </p:nvPicPr>
        <p:blipFill>
          <a:blip r:embed="rId1"/>
          <a:stretch/>
        </p:blipFill>
        <p:spPr>
          <a:xfrm>
            <a:off x="250920" y="4653000"/>
            <a:ext cx="1490400" cy="1917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7524720" y="1871640"/>
            <a:ext cx="1230480" cy="1701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Но Баба-Яга все указатели перепутала. По какому же пути ехать, чтобы попасть в царство наук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ча Бабы-Яги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Нам с Кощеем вместе 250 лет. Я старше Кащея на 50 лет. Сколько лет каждому из нас?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aba"/>
          <p:cNvPicPr/>
          <p:nvPr/>
        </p:nvPicPr>
        <p:blipFill>
          <a:blip r:embed="rId1"/>
          <a:stretch/>
        </p:blipFill>
        <p:spPr>
          <a:xfrm>
            <a:off x="1692360" y="260280"/>
            <a:ext cx="5364000" cy="632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042920" y="98100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Из чисел: 576; 345; 970; 538; 4325; 8211; 1435; 960; 156230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выпишите те, которые делятся: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а) на 2;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б) на 5;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818"/>
                </a:solidFill>
                <a:latin typeface="Times New Roman"/>
                <a:ea typeface="Times New Roman"/>
              </a:rPr>
              <a:t>в) на10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Рисунок 2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4956120" cy="278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4"/>
          <p:cNvSpPr/>
          <p:nvPr/>
        </p:nvSpPr>
        <p:spPr>
          <a:xfrm>
            <a:off x="755640" y="449280"/>
            <a:ext cx="819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з чисел: 576; 345; 970; 538; 4325; 8211; 1435; 960; 15623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пишите те, которые делятся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600120" y="2629080"/>
            <a:ext cx="4572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) на 2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) на 5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) на10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2251080" y="2781360"/>
            <a:ext cx="586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76; 970; 538; 8211; 960; 156230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2282400" y="3535200"/>
            <a:ext cx="643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45; 970; 538; 4325; 1435; 960; 156230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369520" y="4221000"/>
            <a:ext cx="296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970; 960; 156230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rcRect l="0" t="23755" r="0" b="24801"/>
          <a:stretch/>
        </p:blipFill>
        <p:spPr>
          <a:xfrm>
            <a:off x="5035680" y="4748040"/>
            <a:ext cx="3716280" cy="191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уть выбрали правильно, но до дворца ещё нужно дойти. На пути река, мост через которую разведён. Чтобы свести мост надо в примере расставить знаки действий и скобки, чтобы получилось верное равенств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3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от задача не для робких!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ычитай, дели и множь,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люсы ставь, а так же скобки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ерим к финишу придёшь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771640" y="2997360"/>
            <a:ext cx="4043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 5  =  3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4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5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6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5  5  5   5  =  7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1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+5+5):5=3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-5):5=4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-5)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+5=5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5+5):5=6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(5+5):5+5=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24364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 это препятствие преодолели. Уже виден сказочный поезд, но путь закрыт только, если сумеешь решить примеры. Выручайт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190440" y="4508640"/>
            <a:ext cx="3373560" cy="224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17520" y="1337760"/>
            <a:ext cx="8167680" cy="12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„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еличие человека в его способности мыслить.“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(Блез Паскаль)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C:\Users\Computer\Desktop\Паскаль.jpg"/>
          <p:cNvPicPr/>
          <p:nvPr/>
        </p:nvPicPr>
        <p:blipFill>
          <a:blip r:embed="rId1"/>
          <a:stretch/>
        </p:blipFill>
        <p:spPr>
          <a:xfrm>
            <a:off x="225360" y="2408400"/>
            <a:ext cx="3498840" cy="2919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3778200" y="2426400"/>
            <a:ext cx="516096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Блез Паскаль – выдающийся математик, физик, механик, философ, литератор. Стоял у истоков основания математического анализа, теории вероятности и проективной геометрии, создал первую счетную машину, прототип современного калькулятора, сформулировал основной закон гидростатики, автор нескольких философских сочинений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5502240" cy="3543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395280" y="907920"/>
            <a:ext cx="860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ыразите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) 4 м 5 см в сантиметрах;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) 6085 м в километрах и метрах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) 4 м 5 см в сантиметрах;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) 6085 м в километрах и метрах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684360" y="333360"/>
            <a:ext cx="7775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ишите число, в котором 9 сотен 0 десятков 3 единицы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пишите число, в котором 7 тысяч 8 единиц 0 сотен 0 десятков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361800" algn="just">
              <a:lnSpc>
                <a:spcPct val="100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зовите наименьшее число, идущее после 1200, которое было бы кратно 9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следний замок открыт, путь свободен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27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ван Царевич с Серым Волком собирали в лесу малину. Иван Царевич собрал 1 кг 250г малины, а Серый Волк – на 300 г больше. Сколько граммов насобирали они вмес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"/>
          <p:cNvPicPr/>
          <p:nvPr/>
        </p:nvPicPr>
        <p:blipFill>
          <a:blip r:embed="rId1"/>
          <a:srcRect l="0" t="17241" r="0" b="17241"/>
          <a:stretch/>
        </p:blipFill>
        <p:spPr>
          <a:xfrm>
            <a:off x="5746680" y="4873680"/>
            <a:ext cx="3289320" cy="2155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4400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переди сказочный лес, полный загадок и чудес. Змей Горыныч его охраняет и тайны никому не открывает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972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думаете, ребята, сможем мы разгадать его тайну? Крепкие орешки он нам приготови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до вычислить степень числа быстро решить, все орешки по скорлупкам разлож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58920" y="404640"/>
          <a:ext cx="6553080" cy="4907160"/>
        </p:xfrm>
        <a:graphic>
          <a:graphicData uri="http://schemas.openxmlformats.org/drawingml/2006/table">
            <a:tbl>
              <a:tblPr/>
              <a:tblGrid>
                <a:gridCol w="3168720"/>
                <a:gridCol w="338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ОРЕШ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Скорлуп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+4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5+4)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58920" y="404640"/>
          <a:ext cx="6553080" cy="4907160"/>
        </p:xfrm>
        <a:graphic>
          <a:graphicData uri="http://schemas.openxmlformats.org/drawingml/2006/table">
            <a:tbl>
              <a:tblPr/>
              <a:tblGrid>
                <a:gridCol w="3168720"/>
                <a:gridCol w="338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ОРЕШ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Скорлупки»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*2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+4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8fde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5+4)</a:t>
                      </a:r>
                      <a:r>
                        <a:rPr b="0" lang="ru-RU" sz="4000" spc="-1" strike="noStrike" baseline="30000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cfef7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rcRect l="24012" t="0" r="13776" b="0"/>
          <a:stretch/>
        </p:blipFill>
        <p:spPr>
          <a:xfrm>
            <a:off x="3668760" y="4581360"/>
            <a:ext cx="5256000" cy="2125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4364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знал Змей Горыныч, что Иван Царевич с вашей помощью разгадал его коварство и погнался за ним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6160" y="3284280"/>
            <a:ext cx="8426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Чтобы победить его, надо решить задач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дракон1"/>
          <p:cNvPicPr/>
          <p:nvPr/>
        </p:nvPicPr>
        <p:blipFill>
          <a:blip r:embed="rId1"/>
          <a:stretch/>
        </p:blipFill>
        <p:spPr>
          <a:xfrm>
            <a:off x="2050920" y="189000"/>
            <a:ext cx="5280120" cy="647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66"/>
                </a:solidFill>
                <a:latin typeface="Verdana"/>
              </a:rPr>
              <a:t>У Змея Горыныча три головы и три хвоста. Одним ударом можно срубить либо одну голову, либо две головы, либо один хвост, либо два хвоста. 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голову – новая вырасте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хвост – два новых вырасту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два хвоста – голова вырастет</a:t>
            </a:r>
            <a:r>
              <a:rPr b="0" i="1" lang="ru-RU" sz="3600" spc="-1" strike="noStrike">
                <a:solidFill>
                  <a:srgbClr val="006666"/>
                </a:solidFill>
                <a:latin typeface="Verdana"/>
              </a:rPr>
              <a:t>, срубишь </a:t>
            </a:r>
            <a:r>
              <a:rPr b="0" i="1" lang="ru-RU" sz="3600" spc="-1" strike="noStrike">
                <a:solidFill>
                  <a:srgbClr val="0066ff"/>
                </a:solidFill>
                <a:latin typeface="Verdana"/>
              </a:rPr>
              <a:t>две головы – ничего не вырастет.</a:t>
            </a:r>
            <a:r>
              <a:rPr b="0" lang="ru-RU" sz="3800" spc="-1" strike="noStrike">
                <a:solidFill>
                  <a:srgbClr val="0066ff"/>
                </a:solidFill>
                <a:latin typeface="Verdana"/>
              </a:rPr>
              <a:t> </a:t>
            </a:r>
            <a:br>
              <a:rPr sz="38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За какое минимальное количество ударов можно победить Змея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т дракон побеждён и впереди уже виден дворец, над входом в который написаны волшебные слова, открывающие нам дверь в удивительный мир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5229360"/>
            <a:ext cx="7834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читаем же эти сло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766800" y="1071360"/>
            <a:ext cx="78375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Девиз урока</a:t>
            </a: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Думать – коллектив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Решать – оператив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Отвечать – доказательно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115920" y="7491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824364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«МАТЕМАТИКА – 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ЦАРИЦА НАУК»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890640" y="1285920"/>
            <a:ext cx="6765840" cy="226224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5" descr=""/>
          <p:cNvPicPr/>
          <p:nvPr/>
        </p:nvPicPr>
        <p:blipFill>
          <a:blip r:embed="rId2"/>
          <a:stretch/>
        </p:blipFill>
        <p:spPr>
          <a:xfrm>
            <a:off x="817560" y="1920960"/>
            <a:ext cx="6954840" cy="32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"/>
          <p:cNvPicPr/>
          <p:nvPr/>
        </p:nvPicPr>
        <p:blipFill>
          <a:blip r:embed="rId1"/>
          <a:stretch/>
        </p:blipFill>
        <p:spPr>
          <a:xfrm rot="1054800">
            <a:off x="485640" y="3673080"/>
            <a:ext cx="2281320" cy="2852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2781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ТР. 129, № 695, 710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2160" y="83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Рисунок 5" descr=""/>
          <p:cNvPicPr/>
          <p:nvPr/>
        </p:nvPicPr>
        <p:blipFill>
          <a:blip r:embed="rId2"/>
          <a:stretch/>
        </p:blipFill>
        <p:spPr>
          <a:xfrm rot="20318400">
            <a:off x="5176800" y="3673080"/>
            <a:ext cx="2631960" cy="26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755640" y="189000"/>
            <a:ext cx="80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443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место звёздочки поставить цифру так, чтобы получилось число кратное 3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5*12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2*331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*07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3*3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3*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7*8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60*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*1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76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*45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90360" indent="443160">
              <a:lnSpc>
                <a:spcPct val="100000"/>
              </a:lnSpc>
              <a:buClr>
                <a:srgbClr val="00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-28440" y="0"/>
            <a:ext cx="9623160" cy="7893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784520" y="1535040"/>
            <a:ext cx="558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25.10.2022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Классная работа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Признаки делимости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91a"/>
                </a:solidFill>
                <a:latin typeface="Times New Roman"/>
                <a:ea typeface="Times New Roman"/>
              </a:rPr>
              <a:t>Степень натурального числ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"/>
          <p:cNvPicPr/>
          <p:nvPr/>
        </p:nvPicPr>
        <p:blipFill>
          <a:blip r:embed="rId1"/>
          <a:stretch/>
        </p:blipFill>
        <p:spPr>
          <a:xfrm>
            <a:off x="3995640" y="3807000"/>
            <a:ext cx="4924440" cy="2769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284720" cy="317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537080" cy="53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66"/>
                </a:solidFill>
                <a:latin typeface="Verdana"/>
              </a:rPr>
              <a:t>Задумал Иван Царевич по свету походить, людей посмотреть, себя показать. Кликнул он Серого Волка.</a:t>
            </a: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3" descr="j0137619"/>
          <p:cNvPicPr/>
          <p:nvPr/>
        </p:nvPicPr>
        <p:blipFill>
          <a:blip r:embed="rId1"/>
          <a:stretch/>
        </p:blipFill>
        <p:spPr>
          <a:xfrm>
            <a:off x="5076720" y="1268280"/>
            <a:ext cx="4067280" cy="525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5336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Решите примеры и расшифруйте, о чем  подумал Иван Царевич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0" y="2349000"/>
            <a:ext cx="914400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50-9=    5) 400-29=   9) 300-15=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13) 238+3=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0-9=    6) 6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8=         10) 15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 14) 80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:4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90:90=  7) 108-36=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1) 327+9=   15) 18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=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4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=    8) 96:2=       12) 200-10=   16) 284+6=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Verdana"/>
              </a:rPr>
              <a:t>Таблица ответ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А=336   В=45   Е=290   Д=285   Л=190   М=21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О=48     Р=371     Ч=20    Ш=72    Х=1    У=241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роверь себ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50-9=241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9) 300-15=285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0-9=21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10) 15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=4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90:90=1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Х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1) 327+9=336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4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=48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2) 200-10=190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00-29=371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3) 238+3=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41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6) 6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8=48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4) 80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:4=20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7) 108-36=72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Ш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5) 18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=72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Ш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8) 96:2=48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16) 284+6=290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920000" cy="41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ff"/>
                </a:solidFill>
                <a:latin typeface="Verdana"/>
              </a:rPr>
              <a:t>УМ ХОРОШО </a:t>
            </a:r>
            <a:br>
              <a:rPr sz="8000"/>
            </a:br>
            <a:br>
              <a:rPr sz="8000"/>
            </a:br>
            <a:r>
              <a:rPr b="0" lang="ru-RU" sz="6000" spc="-1" strike="noStrike">
                <a:solidFill>
                  <a:srgbClr val="0066ff"/>
                </a:solidFill>
                <a:latin typeface="Verdana"/>
              </a:rPr>
              <a:t>– ДВА ЛУЧШЕ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09:35Z</dcterms:created>
  <dc:creator>noname</dc:creator>
  <dc:description/>
  <dc:language>en-US</dc:language>
  <cp:lastModifiedBy>Computer</cp:lastModifiedBy>
  <dcterms:modified xsi:type="dcterms:W3CDTF">2022-10-25T06:52:47Z</dcterms:modified>
  <cp:revision>37</cp:revision>
  <dc:subject/>
  <dc:title>Задумал Иван Царевич по свету походить, людей посмотреть, себя показать. Кликнул он Василису Прекрасную.</dc:title>
</cp:coreProperties>
</file>