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media/camera.wav" ContentType="audio/x-wav"/>
  <Override PartName="/ppt/media/image21.jpeg" ContentType="image/jpeg"/>
  <Override PartName="/ppt/media/image17.gif" ContentType="image/gif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87F-B734-462B-837B-14C1EAD1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655-6634-43E2-B601-8523336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36C-E28F-4BFA-A54A-66AFE6A8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F03-37C1-4124-97DC-43F57C60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B510-60A5-428C-BABF-8D7CCC0D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16FB-C436-40B0-B3E1-EE00F57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AF0A-3D46-4F4E-B2FD-5C57772E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DB77-140F-4BC8-8150-4090F4D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44C-791F-408A-96ED-9344EC13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CCBA-0AF0-4DF1-90FD-5D84FD41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878-4131-4ED9-AF66-6FE3C0C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46E-0F73-401E-A50C-D5A9634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C7F-3B24-4EE3-81FA-9462E72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A460-229B-4E7C-A192-E80386F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996-AC54-4075-8778-7A961DB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D557-F578-4175-BB66-A93F77A0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D0AE-883E-423F-BE8A-4C2117F4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764-706C-4207-80D5-9847EE4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9FC-F540-4219-96FC-F0A91033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09D-C187-485E-BF6C-D010EC8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BC3-BF27-456F-AACF-92A92C95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491-21D4-492E-9B06-ADBDD7F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CB5-E862-458E-95E9-6AD571D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66C-200C-4746-B3A1-5611087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3541-7975-4128-B301-BF02A2703D7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440" y="61560"/>
              <a:ext cx="3619800" cy="6130800"/>
              <a:chOff x="5410440" y="61560"/>
              <a:chExt cx="361980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040"/>
                <a:ext cx="905760" cy="84276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16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72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>
                <a:gd name="textAreaLeft" fmla="*/ 0 w 1997640"/>
                <a:gd name="textAreaRight" fmla="*/ 1998000 w 19976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>
                <a:gd name="textAreaLeft" fmla="*/ 0 w 1758240"/>
                <a:gd name="textAreaRight" fmla="*/ 1758600 w 17582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59840"/>
                  <a:gd name="textAreaBottom" fmla="*/ 159840 h 159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1280" y="303120"/>
              <a:ext cx="894600" cy="821160"/>
              <a:chOff x="565128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76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61400"/>
              <a:ext cx="1059120" cy="833760"/>
              <a:chOff x="97020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36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6760"/>
              <a:ext cx="1689840" cy="1146600"/>
              <a:chOff x="375480" y="44676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5240"/>
                <a:ext cx="355320" cy="530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04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37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1080" y="3712320"/>
              <a:ext cx="1155600" cy="1607760"/>
              <a:chOff x="73810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8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5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E5FE-22FD-4716-A8AA-88671290D1B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666880" y="990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352440" y="333360"/>
            <a:ext cx="6595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132000" y="184464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762120" y="3645000"/>
            <a:ext cx="73389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на   новы й     л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4471920" cy="3189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4364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Вошли они в царство чисел, дорога расходится в три стороны: в тупик, в пещеру к Змею Горынычу и в царство наук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2556000" y="3652920"/>
            <a:ext cx="4470120" cy="31906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08000" y="-31644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Около каждого пути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стоит указатель, 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на котором написано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1. Путь №1 – Дорога в тупик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2. Путь №2 – Дорога в пещеру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3. Путь №3 – Дорога в царство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                                          наук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250920" y="4653000"/>
            <a:ext cx="1490400" cy="1917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7524720" y="1871640"/>
            <a:ext cx="1230480" cy="1701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о Баба-Яга все указатели перепутала. По какому же пути ехать, чтобы попасть в царство наук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ча Бабы-Яги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Нам с Кощеем вместе 250 лет. Я старше Кащея на 50 лет. Сколько лет каждому из нас?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aba"/>
          <p:cNvPicPr/>
          <p:nvPr/>
        </p:nvPicPr>
        <p:blipFill>
          <a:blip r:embed="rId1"/>
          <a:stretch/>
        </p:blipFill>
        <p:spPr>
          <a:xfrm>
            <a:off x="1692360" y="260280"/>
            <a:ext cx="5364000" cy="632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042920" y="9810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а) на 2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б) на 5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) на10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956120" cy="278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4"/>
          <p:cNvSpPr/>
          <p:nvPr/>
        </p:nvSpPr>
        <p:spPr>
          <a:xfrm>
            <a:off x="755640" y="449280"/>
            <a:ext cx="819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600120" y="2629080"/>
            <a:ext cx="4572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) на 2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) на 5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) на10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251080" y="2781360"/>
            <a:ext cx="586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76; 970; 538; 8211; 960; 156230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2282400" y="3535200"/>
            <a:ext cx="643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45; 970; 538; 4325; 1435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369520" y="4221000"/>
            <a:ext cx="296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970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rcRect l="0" t="23755" r="0" b="24801"/>
          <a:stretch/>
        </p:blipFill>
        <p:spPr>
          <a:xfrm>
            <a:off x="5035680" y="4748040"/>
            <a:ext cx="3716280" cy="191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уть выбрали правильно, но до дворца ещё нужно дойти. На пути река, мост через которую разведён. Чтобы свести мост надо в примере расставить знаки действий и скобки, чтобы получилось верное равенств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т задача не для робких!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ычитай, дели и множь,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люсы ставь, а так же скобки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ерим к финишу придёшь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771640" y="2997360"/>
            <a:ext cx="4043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 5  =  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4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1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+5):5=3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-5):5=4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-5)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=5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):5=6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):5+5=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4364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 это препятствие преодолели. Уже виден сказочный поезд, но путь закрыт только, если сумеешь решить примеры. Выручайт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90440" y="4508640"/>
            <a:ext cx="3373560" cy="224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17520" y="1337760"/>
            <a:ext cx="8167680" cy="12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„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еличие человека в его способности мыслить.“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Блез Паскаль)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C:\Users\Computer\Desktop\Паскаль.jpg"/>
          <p:cNvPicPr/>
          <p:nvPr/>
        </p:nvPicPr>
        <p:blipFill>
          <a:blip r:embed="rId1"/>
          <a:stretch/>
        </p:blipFill>
        <p:spPr>
          <a:xfrm>
            <a:off x="225360" y="2408400"/>
            <a:ext cx="349884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3778200" y="2426400"/>
            <a:ext cx="516096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лез Паскаль – выдающийся математик, физик, механик, философ, литератор. Стоял у истоков основания математического анализа, теории вероятности и проективной геометрии, создал первую счетную машину, прототип современного калькулятора, сформулировал основной закон гидростатики, автор нескольких философских сочинений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5502240" cy="3543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95280" y="907920"/>
            <a:ext cx="860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разите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684360" y="333360"/>
            <a:ext cx="777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9 сотен 0 десятков 3 единицы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7 тысяч 8 единиц 0 сотен 0 десятков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зовите наименьшее число, идущее после 1200, которое было бы кратно 9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следний замок открыт, путь свободен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27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ван Царевич с Серым Волком собирали в лесу малину. Иван Царевич собрал 1 кг 250г малины, а Серый Волк – на 300 г больше. Сколько граммов насобирали они вмес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"/>
          <p:cNvPicPr/>
          <p:nvPr/>
        </p:nvPicPr>
        <p:blipFill>
          <a:blip r:embed="rId1"/>
          <a:srcRect l="0" t="17241" r="0" b="17241"/>
          <a:stretch/>
        </p:blipFill>
        <p:spPr>
          <a:xfrm>
            <a:off x="5746680" y="4873680"/>
            <a:ext cx="3289320" cy="2155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440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переди сказочный лес, полный загадок и чудес. Змей Горыныч его охраняет и тайны никому не открывает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972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думаете, ребята, сможем мы разгадать его тайну? Крепкие орешки он нам приготов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до вычислить степень числа быстро решить, все орешки по скорлупкам разлож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rcRect l="24012" t="0" r="13776" b="0"/>
          <a:stretch/>
        </p:blipFill>
        <p:spPr>
          <a:xfrm>
            <a:off x="3668760" y="4581360"/>
            <a:ext cx="5256000" cy="2125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4364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знал Змей Горыныч, что Иван Царевич с вашей помощью разгадал его коварство и погнался за ним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6160" y="3284280"/>
            <a:ext cx="8426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Чтобы победить его, надо решить задач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дракон1"/>
          <p:cNvPicPr/>
          <p:nvPr/>
        </p:nvPicPr>
        <p:blipFill>
          <a:blip r:embed="rId1"/>
          <a:stretch/>
        </p:blipFill>
        <p:spPr>
          <a:xfrm>
            <a:off x="2050920" y="189000"/>
            <a:ext cx="5280120" cy="64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Verdana"/>
              </a:rPr>
              <a:t>У Змея Горыныча три головы и три хвоста. Одним ударом можно срубить либо одну голову, либо две головы, либо один хвост, либо два хвоста. 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голову – новая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хвост – два новых вырасту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а хвоста – голова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е головы – ничего не вырастет.</a:t>
            </a:r>
            <a:r>
              <a:rPr b="0" lang="ru-RU" sz="3800" spc="-1" strike="noStrike">
                <a:solidFill>
                  <a:srgbClr val="0066ff"/>
                </a:solidFill>
                <a:latin typeface="Verdana"/>
              </a:rPr>
              <a:t> </a:t>
            </a:r>
            <a:br>
              <a:rPr sz="38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 какое минимальное количество ударов можно победить Зме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т дракон побеждён и впереди уже виден дворец, над входом в который написаны волшебные слова, открывающие нам дверь в удивительный мир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5229360"/>
            <a:ext cx="7834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читаем же эти сл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66800" y="1071360"/>
            <a:ext cx="78375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евиз урока</a:t>
            </a: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умать – коллек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Решать – опера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Отвечать – доказатель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24364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«МАТЕМАТИКА – 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ЦАРИЦА НАУК»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890640" y="1285920"/>
            <a:ext cx="6765840" cy="226224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2"/>
          <a:stretch/>
        </p:blipFill>
        <p:spPr>
          <a:xfrm>
            <a:off x="817560" y="1920960"/>
            <a:ext cx="6954840" cy="32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"/>
          <p:cNvPicPr/>
          <p:nvPr/>
        </p:nvPicPr>
        <p:blipFill>
          <a:blip r:embed="rId1"/>
          <a:stretch/>
        </p:blipFill>
        <p:spPr>
          <a:xfrm rot="1054800">
            <a:off x="485640" y="3673080"/>
            <a:ext cx="2281320" cy="2852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2781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ТР. 129, № 695, 71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83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 rot="20318400">
            <a:off x="5176800" y="3673080"/>
            <a:ext cx="2631960" cy="26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55640" y="189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443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место звёздочки поставить цифру так, чтобы получилось число кратное 3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5*12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2*331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*07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3*3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3*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*8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0*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*1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76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*45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-28440" y="0"/>
            <a:ext cx="9623160" cy="7893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784520" y="1535040"/>
            <a:ext cx="55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25.10.202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Классная работ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Признаки делимост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Степень натурального чис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3995640" y="3807000"/>
            <a:ext cx="4924440" cy="2769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84720" cy="317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537080" cy="53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Задумал Иван Царевич по свету походить, людей посмотреть, себя показать. Кликнул он Серого Волка.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3" descr="j0137619"/>
          <p:cNvPicPr/>
          <p:nvPr/>
        </p:nvPicPr>
        <p:blipFill>
          <a:blip r:embed="rId1"/>
          <a:stretch/>
        </p:blipFill>
        <p:spPr>
          <a:xfrm>
            <a:off x="5076720" y="1268280"/>
            <a:ext cx="4067280" cy="525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5336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Решите примеры и расшифруйте, о чем  подумал Иван Царевич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0" y="2349000"/>
            <a:ext cx="914400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50-9=    5) 400-29=   9) 300-15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0-9=    6) 6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8=         10) 15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 14) 80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:4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90:90=  7) 108-36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1) 327+9=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=    8) 96:2=       12) 200-10=   16) 284+6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Verdana"/>
              </a:rPr>
              <a:t>Таблица ответ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А=336   В=45   Е=290   Д=285   Л=190   М=21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О=48     Р=371     Ч=20    Ш=72    Х=1    У=241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50-9=241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9) 300-15=285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0-9=2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10) 15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=4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90:90=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1) 327+9=336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=48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2) 200-10=190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00-29=371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1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6) 6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=48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4) 80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:4=20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7) 108-36=72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72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) 96:2=48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6) 284+6=290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920000" cy="41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УМ ХОРОШО </a:t>
            </a:r>
            <a:br>
              <a:rPr sz="8000"/>
            </a:br>
            <a:br>
              <a:rPr sz="8000"/>
            </a:b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– ДВА ЛУЧШЕ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09:35Z</dcterms:created>
  <dc:creator>noname</dc:creator>
  <dc:description/>
  <dc:language>en-US</dc:language>
  <cp:lastModifiedBy>Computer</cp:lastModifiedBy>
  <dcterms:modified xsi:type="dcterms:W3CDTF">2022-10-25T06:52:47Z</dcterms:modified>
  <cp:revision>37</cp:revision>
  <dc:subject/>
  <dc:title>Задумал Иван Царевич по свету походить, людей посмотреть, себя показать. Кликнул он Василису Прекрасную.</dc:title>
</cp:coreProperties>
</file>