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16.gif" ContentType="image/gi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C96-23AA-4841-AC52-908CE153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E67-649A-41FC-A1F1-68CEF996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A81-D504-415E-807A-426FE3DD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B30-57F0-4461-B803-BCC90FDA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F963-12B3-4CF1-8B61-876F0914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91D9-57C9-42BB-9328-FC1913AC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4AFD-3D0A-4FCC-B7AC-626DABBF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7807-9DCD-46C6-A6F8-0010DE43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DA68-9B9F-49AD-BB00-C3EB0AA4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0816-6A58-4711-A1B9-D313582F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9D7C-3609-4EE6-A11E-28CB517C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187-1113-454D-B16C-007A4456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E0A9-6B55-44F4-9D3B-0C84631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DD9F-E154-47AE-9027-5448006A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23EE-1EFE-427D-A625-C61D3431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BE9C-ECEB-4AA1-ABB0-F301109F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9396-3941-4C8C-9EBB-327CA254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EC04-7BD4-47B9-9900-4B96FCA4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3D010-DD3C-4DF6-BD42-54515D37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5E00-462A-4A60-8CC9-4E97C75A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0472-56C2-48A9-9ADC-B17654B3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CDA5-C43B-4CD4-B1EC-71B3080A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C73-E888-46DD-B587-2CF0B93E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3E438-214B-4511-8CFE-E2326AD1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116C-238F-40AB-ABC5-BF634079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D5EF3-6E23-4FCF-8A87-2A3FEBEF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B923C-4898-4B6E-8A09-3BC7C6D6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94DFD-8D33-4DDC-B92B-ED305AAE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E283-691C-4481-9944-46C5A6FF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E729-D794-43DB-BF7F-79B2097A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3B85D-995F-41DC-88E0-90930E83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D46A-5083-4C5F-A4AD-B545717B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849E-2036-43DB-8F79-09CB0B27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024-96A8-4D05-9FC4-B970785F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6F963-27AF-4749-93C4-CC46D5E3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FE9F-0612-4840-8FA5-971528F6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4DE9-3A13-47BB-971C-3EDE77F4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2F58-E906-4809-8352-DF8536F6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04F5-50AF-451D-A112-1E56295A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64A82-8058-4EA8-B02C-D9A16942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7DA8-8387-4DBA-811D-F7BEAAE9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C4B2F-84B8-4CB7-92F1-4E44914B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3E39-CE79-4024-8D42-DB16AA1F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51FD0-54AA-46D1-96C8-A5D08516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17A-E857-4A52-91CA-EB2A83D4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03A5D-B21E-42E8-9278-07F80BA0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90F08-BC6A-4B2C-93D3-77810060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C86C8-EC8E-4A78-891B-D14454D9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751D6-6BB5-4F3D-8796-CB78EB63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56733-B0EB-4B79-A88C-96995E47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5F6CB-F2C3-46C9-A183-31AF64BA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4F9F4-D941-4B5F-9A2A-EE6720FD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62AE9-317A-442E-A072-0965F500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FE63C-8B1E-4604-A794-BE2E2FAB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A2BEA-D20E-447B-80B1-01AB6E7D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FDF-C314-457A-82D4-1709E705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EAC0A-CC66-4096-BA99-6977300D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80AFA-04C7-4177-B21D-B5EB36C1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73469-C883-4B76-A35C-886A305F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49AFF-4685-44AF-992B-8311C9D5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E56EC-B311-46C1-A5ED-66CC63DD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729B1-AC36-4D2C-8F88-3FBFFD38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F5037-8D49-44E9-8B9C-4FA20AE5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88AB8-8C2B-48C6-A29A-38D8DBFB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6438B-5E12-42FD-B639-C07127E0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5E4B0-5DEF-409B-B479-023E3BC9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AC8-ADF8-4999-B95F-4FE53B7E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D9D06-A409-4AD0-A1FE-3218183A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FF99E-08CC-4781-8008-4FBBF71F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B7282-6AFB-4448-BEA4-DDF1DC22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66B61-4563-4678-AE2C-DF75DA86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610B3-400E-4164-B89B-9B0EB995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05D81-AC77-48B4-936F-87517ED6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B1AD4-EC9D-4876-A0BE-A9ABEE05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F017B-7ED1-48DE-BF06-7BA1E9D9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4489F-10A1-458D-9CE3-20C81A08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FC5BF-DB24-4CBA-9522-4275C785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1A5-DD2A-4956-86F4-FB3C85D6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B61B6-EB3E-4D33-AD19-05A02834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9A783-073B-40C7-A66D-1C0B1024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F314E-A097-4AC1-9273-9EF032F6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516AE-C2C9-43EB-A760-4D746396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54435-2BCC-4AC6-9827-DF317435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A37-366B-4662-8006-FF70EA96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C6B4-2D0C-4FD0-8DA1-EE959D43E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7BB5-7F94-42DF-B023-7D657CEDAB3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B67A-FA6F-4DE5-9087-DC787D7C7ACB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1932-E0FB-4601-B83C-2CF8C869D52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03F3-09E6-440D-8C23-1D3EC152B3B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A3A3-0A74-44E3-93D6-A44AF82D674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AD23-4B6B-40AA-B8CD-1EF2947ECAEB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520" y="1800360"/>
            <a:ext cx="5867280" cy="17841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ccff99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Comic Sans MS"/>
              </a:rPr>
              <a:t>Минеральные удобр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85800" y="5700600"/>
            <a:ext cx="7238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абораторная работа «Распознавание важнейших минеральных удобрений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599840"/>
            <a:ext cx="7543800" cy="4530600"/>
          </a:xfrm>
          <a:prstGeom prst="rect">
            <a:avLst/>
          </a:prstGeom>
          <a:gradFill rotWithShape="0">
            <a:gsLst>
              <a:gs pos="0">
                <a:srgbClr val="954f7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ознакомьтесь с инструктивной картой «Алгоритм распознавания  минеральных удобрений». Выделите характерные реакции для распознавания ионов и катионов, входящих в состав удобр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Рассмотрите выданные вам минеральные удобрения. Определите на основе характерных реакций каждое из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оставьте уравнения проведенных реак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7EBE-E47B-4F11-8C4F-5F6FA91B0FEA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пробирки"/>
          <p:cNvPicPr/>
          <p:nvPr/>
        </p:nvPicPr>
        <p:blipFill>
          <a:blip r:embed="rId1"/>
          <a:stretch/>
        </p:blipFill>
        <p:spPr>
          <a:xfrm>
            <a:off x="7391520" y="304812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omic Sans MS"/>
              </a:rPr>
              <a:t>Экологические последствия, связанные с применением минеральных удобрений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96" name="Picture 9" descr="f_0983"/>
          <p:cNvPicPr/>
          <p:nvPr/>
        </p:nvPicPr>
        <p:blipFill>
          <a:blip r:embed="rId1"/>
          <a:stretch/>
        </p:blipFill>
        <p:spPr>
          <a:xfrm>
            <a:off x="2743200" y="1523880"/>
            <a:ext cx="1600200" cy="14526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C0F"/>
          <p:cNvPicPr/>
          <p:nvPr/>
        </p:nvPicPr>
        <p:blipFill>
          <a:blip r:embed="rId2"/>
          <a:stretch/>
        </p:blipFill>
        <p:spPr>
          <a:xfrm>
            <a:off x="5540400" y="1600200"/>
            <a:ext cx="2254320" cy="21891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f_0844"/>
          <p:cNvPicPr/>
          <p:nvPr/>
        </p:nvPicPr>
        <p:blipFill>
          <a:blip r:embed="rId3"/>
          <a:stretch/>
        </p:blipFill>
        <p:spPr>
          <a:xfrm>
            <a:off x="3886200" y="2438280"/>
            <a:ext cx="1643040" cy="1773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" descr="скорая"/>
          <p:cNvPicPr/>
          <p:nvPr/>
        </p:nvPicPr>
        <p:blipFill>
          <a:blip r:embed="rId4"/>
          <a:stretch/>
        </p:blipFill>
        <p:spPr>
          <a:xfrm>
            <a:off x="762120" y="4800600"/>
            <a:ext cx="1815840" cy="1600200"/>
          </a:xfrm>
          <a:prstGeom prst="rect">
            <a:avLst/>
          </a:prstGeom>
          <a:ln w="0">
            <a:noFill/>
          </a:ln>
        </p:spPr>
      </p:pic>
      <p:sp>
        <p:nvSpPr>
          <p:cNvPr id="400" name="Номер слайда 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476F-997B-47B9-BB8D-20B51CF52B62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7010280" y="1523880"/>
            <a:ext cx="198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опустимое суточное потребление нитратов для взрослого: человека - 5 мг/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4" descr="FOOP"/>
          <p:cNvPicPr/>
          <p:nvPr/>
        </p:nvPicPr>
        <p:blipFill>
          <a:blip r:embed="rId5"/>
          <a:stretch/>
        </p:blipFill>
        <p:spPr>
          <a:xfrm>
            <a:off x="6629400" y="4419720"/>
            <a:ext cx="838080" cy="1143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5"/>
          <p:cNvSpPr/>
          <p:nvPr/>
        </p:nvSpPr>
        <p:spPr>
          <a:xfrm>
            <a:off x="2666880" y="4724280"/>
            <a:ext cx="33530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 влиянием большой дозы нитратов наблюдается острое отравление (аллергический отек  легких, одышка, боли в области сердца, кашель, рвота и др.). Смертельная доза составляет 8-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152280" y="152388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и излишнем внесении в почву азотных удобрений в ней в избытке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капливаются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итрат- и нитрит-и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7"/>
          <p:cNvSpPr/>
          <p:nvPr/>
        </p:nvSpPr>
        <p:spPr>
          <a:xfrm>
            <a:off x="2209680" y="2286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8"/>
          <p:cNvSpPr/>
          <p:nvPr/>
        </p:nvSpPr>
        <p:spPr>
          <a:xfrm rot="5400000">
            <a:off x="2514600" y="365760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9"/>
          <p:cNvSpPr/>
          <p:nvPr/>
        </p:nvSpPr>
        <p:spPr>
          <a:xfrm>
            <a:off x="5562720" y="2514600"/>
            <a:ext cx="1447560" cy="457200"/>
          </a:xfrm>
          <a:prstGeom prst="rightArrow">
            <a:avLst>
              <a:gd name="adj1" fmla="val 50000"/>
              <a:gd name="adj2" fmla="val 79154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9" name="Picture 4" descr="&amp;Mcy;&amp;Icy;&amp;Kcy;&amp;Rcy;&amp;Ocy;&amp;Bcy;&amp;Icy;&amp;Ocy;&amp;Lcy;&amp;Ocy;&amp;Gcy;&amp;Icy;&amp;CHcy;&amp;IEcy;&amp;Scy;&amp;Kcy;&amp;Icy;&amp;IEcy; &amp;Ucy;&amp;Dcy;&amp;Ocy;&amp;Bcy;&amp;Rcy;&amp;IEcy;&amp;Ncy;&amp;Icy;&amp;YAcy; &amp;Acy;&amp;Zcy;&amp;Ocy;&amp;Tcy;&amp;Ocy;&amp;Vcy;&amp;Icy;&amp;Tcy; &amp;Icy; &amp;Fcy;&amp;Ocy;&amp;Scy;&amp;Fcy;&amp;Acy;&amp;Tcy;&amp;Ocy;&amp;Vcy;&amp;Icy;&amp;Tcy;: &amp;Ocy;&amp;Pcy;&amp;Icy;&amp;Scy;&amp;Acy;&amp;Ncy;&amp;Icy;&amp;IEcy;…"/>
          <p:cNvPicPr/>
          <p:nvPr/>
        </p:nvPicPr>
        <p:blipFill>
          <a:blip r:embed="rId1"/>
          <a:stretch/>
        </p:blipFill>
        <p:spPr>
          <a:xfrm>
            <a:off x="108000" y="496800"/>
            <a:ext cx="864072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Выводы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18960"/>
            <a:ext cx="8229600" cy="3886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Без удобрений, особенно в нечерноземной полосе, вырастить урожай невозможно. Требуется их постоянное внесение в поч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чень важно соблюдать нормы и проявлять экологическую культуру в использовании удобр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изводство минеральных удобрений – важнейшая задача химической промышленности. Особенно важно повышать качество удобрений, увеличивать долю концентрированных , комплексных, гранулированных удобр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E2FB-68FA-49B3-805B-8ADBF6985650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тюльпан"/>
          <p:cNvPicPr/>
          <p:nvPr/>
        </p:nvPicPr>
        <p:blipFill>
          <a:blip r:embed="rId2"/>
          <a:stretch/>
        </p:blipFill>
        <p:spPr>
          <a:xfrm>
            <a:off x="7543800" y="45720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img_florgumat_04"/>
          <p:cNvPicPr/>
          <p:nvPr/>
        </p:nvPicPr>
        <p:blipFill>
          <a:blip r:embed="rId3"/>
          <a:stretch/>
        </p:blipFill>
        <p:spPr>
          <a:xfrm>
            <a:off x="152280" y="5029200"/>
            <a:ext cx="2057400" cy="15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8588-AD9F-41E0-A88B-15FFCD359D6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838080"/>
            <a:ext cx="4191120" cy="914400"/>
          </a:xfrm>
          <a:prstGeom prst="rect">
            <a:avLst/>
          </a:prstGeom>
          <a:gradFill rotWithShape="0">
            <a:gsLst>
              <a:gs pos="0">
                <a:srgbClr val="954f72"/>
              </a:gs>
              <a:gs pos="50000">
                <a:srgbClr val="000000"/>
              </a:gs>
              <a:gs pos="100000">
                <a:srgbClr val="954f72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txBody>
          <a:bodyPr anchor="t">
            <a:normAutofit fontScale="91000"/>
          </a:bodyPr>
          <a:p>
            <a:pPr marL="155880" indent="-1558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omic Sans MS"/>
              </a:rPr>
              <a:t>макроэле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495320" y="838080"/>
            <a:ext cx="4419720" cy="914400"/>
          </a:xfrm>
          <a:prstGeom prst="rect">
            <a:avLst/>
          </a:prstGeom>
          <a:gradFill rotWithShape="0">
            <a:gsLst>
              <a:gs pos="0">
                <a:srgbClr val="954f72"/>
              </a:gs>
              <a:gs pos="50000">
                <a:srgbClr val="000000"/>
              </a:gs>
              <a:gs pos="100000">
                <a:srgbClr val="954f72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omic Sans MS"/>
              </a:rPr>
              <a:t>микроэле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1572-55A8-40ED-830A-A111AB94237C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2"/>
          <p:cNvSpPr/>
          <p:nvPr/>
        </p:nvSpPr>
        <p:spPr>
          <a:xfrm>
            <a:off x="5105520" y="3962520"/>
            <a:ext cx="3504960" cy="1904760"/>
          </a:xfrm>
          <a:prstGeom prst="wedgeEllipseCallout">
            <a:avLst>
              <a:gd name="adj1" fmla="val -26902"/>
              <a:gd name="adj2" fmla="val -174833"/>
            </a:avLst>
          </a:prstGeom>
          <a:gradFill rotWithShape="0">
            <a:gsLst>
              <a:gs pos="0">
                <a:srgbClr val="ffccff"/>
              </a:gs>
              <a:gs pos="50000">
                <a:srgbClr val="954f72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3300"/>
            </a:solidFill>
            <a:miter/>
          </a:ln>
          <a:effectLst>
            <a:outerShdw dist="107932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e, Mn, Cu, Zn, Cr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>
            <a:off x="457200" y="3962520"/>
            <a:ext cx="3733920" cy="1904760"/>
          </a:xfrm>
          <a:prstGeom prst="wedgeEllipseCallout">
            <a:avLst>
              <a:gd name="adj1" fmla="val 23722"/>
              <a:gd name="adj2" fmla="val -177833"/>
            </a:avLst>
          </a:prstGeom>
          <a:gradFill rotWithShape="0">
            <a:gsLst>
              <a:gs pos="0">
                <a:srgbClr val="ffccff"/>
              </a:gs>
              <a:gs pos="50000">
                <a:srgbClr val="954f72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3300"/>
            </a:solidFill>
            <a:miter/>
          </a:ln>
          <a:effectLst>
            <a:outerShdw dist="107932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, O, H, N, P, S, K, Ca,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Азотные удобрения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9140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C9F0-E5B1-4E9E-B1C3-7B0F0093207D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7430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3A2B-4888-4064-948F-2A7D075A70A1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Недостаток азота"/>
          <p:cNvPicPr/>
          <p:nvPr/>
        </p:nvPicPr>
        <p:blipFill>
          <a:blip r:embed="rId1"/>
          <a:stretch/>
        </p:blipFill>
        <p:spPr>
          <a:xfrm>
            <a:off x="457200" y="-1163520"/>
            <a:ext cx="6095880" cy="66499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9"/>
          <p:cNvSpPr/>
          <p:nvPr/>
        </p:nvSpPr>
        <p:spPr>
          <a:xfrm>
            <a:off x="1143000" y="5711760"/>
            <a:ext cx="75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300"/>
                </a:solidFill>
                <a:latin typeface="Arial"/>
              </a:rPr>
              <a:t>Пожелтевшие нижние листья  — признак недостатка аз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omic Sans MS"/>
              </a:rPr>
              <a:t>Экологические последствия, связанные с применением минеральных удобрений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0" name="Picture 9" descr="f_0983"/>
          <p:cNvPicPr/>
          <p:nvPr/>
        </p:nvPicPr>
        <p:blipFill>
          <a:blip r:embed="rId1"/>
          <a:stretch/>
        </p:blipFill>
        <p:spPr>
          <a:xfrm>
            <a:off x="2743200" y="1523880"/>
            <a:ext cx="1600200" cy="1452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0" descr="C0F"/>
          <p:cNvPicPr/>
          <p:nvPr/>
        </p:nvPicPr>
        <p:blipFill>
          <a:blip r:embed="rId2"/>
          <a:stretch/>
        </p:blipFill>
        <p:spPr>
          <a:xfrm>
            <a:off x="5540400" y="1600200"/>
            <a:ext cx="2254320" cy="21891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f_0844"/>
          <p:cNvPicPr/>
          <p:nvPr/>
        </p:nvPicPr>
        <p:blipFill>
          <a:blip r:embed="rId3"/>
          <a:stretch/>
        </p:blipFill>
        <p:spPr>
          <a:xfrm>
            <a:off x="3886200" y="2438280"/>
            <a:ext cx="1643040" cy="177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скорая"/>
          <p:cNvPicPr/>
          <p:nvPr/>
        </p:nvPicPr>
        <p:blipFill>
          <a:blip r:embed="rId4"/>
          <a:stretch/>
        </p:blipFill>
        <p:spPr>
          <a:xfrm>
            <a:off x="762120" y="4800600"/>
            <a:ext cx="1815840" cy="1600200"/>
          </a:xfrm>
          <a:prstGeom prst="rect">
            <a:avLst/>
          </a:prstGeom>
          <a:ln w="0">
            <a:noFill/>
          </a:ln>
        </p:spPr>
      </p:pic>
      <p:sp>
        <p:nvSpPr>
          <p:cNvPr id="364" name="Номер слайда 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24D1-1F67-411A-9B4E-A4E3C47BC10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7010280" y="1523880"/>
            <a:ext cx="198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опустимое суточное потребление нитратов для взрослого: человека - 5 мг/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4" descr="FOOP"/>
          <p:cNvPicPr/>
          <p:nvPr/>
        </p:nvPicPr>
        <p:blipFill>
          <a:blip r:embed="rId5"/>
          <a:stretch/>
        </p:blipFill>
        <p:spPr>
          <a:xfrm>
            <a:off x="6629400" y="4419720"/>
            <a:ext cx="838080" cy="1143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5"/>
          <p:cNvSpPr/>
          <p:nvPr/>
        </p:nvSpPr>
        <p:spPr>
          <a:xfrm>
            <a:off x="2666880" y="4724280"/>
            <a:ext cx="33530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 влиянием большой дозы нитратов наблюдается острое отравление (аллергический отек  легких, одышка, боли в области сердца, кашель, рвота и др.). Смертельная доза составляет 8-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152280" y="152388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и излишнем внесении в почву азотных удобрений в ней в избытке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капливаются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итрат- и нитрит-и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7"/>
          <p:cNvSpPr/>
          <p:nvPr/>
        </p:nvSpPr>
        <p:spPr>
          <a:xfrm>
            <a:off x="2209680" y="2286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8"/>
          <p:cNvSpPr/>
          <p:nvPr/>
        </p:nvSpPr>
        <p:spPr>
          <a:xfrm rot="5400000">
            <a:off x="2514600" y="365760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9"/>
          <p:cNvSpPr/>
          <p:nvPr/>
        </p:nvSpPr>
        <p:spPr>
          <a:xfrm>
            <a:off x="5562720" y="2514600"/>
            <a:ext cx="1447560" cy="457200"/>
          </a:xfrm>
          <a:prstGeom prst="rightArrow">
            <a:avLst>
              <a:gd name="adj1" fmla="val 50000"/>
              <a:gd name="adj2" fmla="val 79154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-17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Фосфорные удобрени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54f7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44546a"/>
                </a:solidFill>
                <a:uFillTx/>
                <a:latin typeface="Comic Sans MS"/>
              </a:rPr>
              <a:t>Фосфор 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Ускоряет развитие растений, стимулирует цветение и плодоношение, благоприятствует интенсивному нарастанию корневой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 недостатке фосфора наблюдается угнетенный рост (особенно у молодых растений), короткие и тонкие побеги, мелкие, преждевременно опадающие листья.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BFBB-BEC9-48FD-B7F7-24F4C20DAB98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Недостаток фосфора"/>
          <p:cNvPicPr/>
          <p:nvPr/>
        </p:nvPicPr>
        <p:blipFill>
          <a:blip r:embed="rId1"/>
          <a:stretch/>
        </p:blipFill>
        <p:spPr>
          <a:xfrm>
            <a:off x="4710240" y="969840"/>
            <a:ext cx="3879720" cy="41148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9"/>
          <p:cNvSpPr/>
          <p:nvPr/>
        </p:nvSpPr>
        <p:spPr>
          <a:xfrm>
            <a:off x="5715000" y="55627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300"/>
                </a:solidFill>
                <a:latin typeface="Arial"/>
              </a:rPr>
              <a:t>Признаки недостатка фосфора на листьях том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2"/>
          <a:stretch/>
        </p:blipFill>
        <p:spPr>
          <a:xfrm>
            <a:off x="533520" y="833400"/>
            <a:ext cx="4190760" cy="6024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5960" y="-8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Калийные удобрени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54f7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44546a"/>
                </a:solidFill>
                <a:uFillTx/>
                <a:latin typeface="Comic Sans MS"/>
              </a:rPr>
              <a:t>Калий 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Ускоряет процесс фотосинтеза, поддерживает необходимый водный режим в растениях, снижает поражаемость заболеваниями, способствует обмену веществ и образованию углеводов – накоплению крахмала в клубнях картофеля, сахарозы в сахарной свекле, повышает засухоустойчивость и морозостойкость раст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едостаток калия вызывает обычно задержку роста, а также развития бутонов или зачаточных соцвет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EA8B-02BC-451C-A07F-0BBD1D550191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Недостаток калия"/>
          <p:cNvPicPr/>
          <p:nvPr/>
        </p:nvPicPr>
        <p:blipFill>
          <a:blip r:embed="rId1"/>
          <a:stretch/>
        </p:blipFill>
        <p:spPr>
          <a:xfrm>
            <a:off x="5126040" y="99072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5638680" y="4876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300"/>
                </a:solidFill>
                <a:latin typeface="Arial"/>
              </a:rPr>
              <a:t>Пожелтение и отмирание кончиков листьев — признаки недостатка кал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2"/>
          <a:stretch/>
        </p:blipFill>
        <p:spPr>
          <a:xfrm>
            <a:off x="366840" y="990720"/>
            <a:ext cx="4779720" cy="6372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итательная ценность удобрени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gradFill rotWithShape="0">
            <a:gsLst>
              <a:gs pos="0">
                <a:srgbClr val="954f7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164160" indent="-1641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итательную ценность удобрений условно выражают через массовую долю в ни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азота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оксида фосфора (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V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) Р</a:t>
            </a:r>
            <a:r>
              <a:rPr b="1" i="1" lang="ru-RU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О</a:t>
            </a:r>
            <a:r>
              <a:rPr b="1" i="1" lang="ru-RU" sz="1800" spc="-1" strike="noStrike" baseline="-25000">
                <a:solidFill>
                  <a:srgbClr val="800000"/>
                </a:solidFill>
                <a:latin typeface="Arial"/>
              </a:rPr>
              <a:t>5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и оксида калия К</a:t>
            </a:r>
            <a:r>
              <a:rPr b="1" i="1" lang="ru-RU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Задача: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ассчитать питательную ценность натриевой селитры, двойного суперфосфата, хлорида ка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! Число атомов фосфора (калия) должно быть одинаковым в формуле удобрения и оксид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(Са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PO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2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)       P</a:t>
            </a:r>
            <a:r>
              <a:rPr b="1" lang="en-US" sz="2400" spc="-1" strike="noStrike" u="sng" baseline="-25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Cl          K</a:t>
            </a:r>
            <a:r>
              <a:rPr b="1" lang="en-US" sz="2400" spc="-1" strike="noStrike" u="sng" baseline="-25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0C76-95B5-4CB7-86AC-1EAD5E4158E3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калькулятор"/>
          <p:cNvPicPr/>
          <p:nvPr/>
        </p:nvPicPr>
        <p:blipFill>
          <a:blip r:embed="rId1"/>
          <a:stretch/>
        </p:blipFill>
        <p:spPr>
          <a:xfrm>
            <a:off x="7924680" y="914400"/>
            <a:ext cx="1038240" cy="1428840"/>
          </a:xfrm>
          <a:prstGeom prst="rect">
            <a:avLst/>
          </a:prstGeom>
          <a:ln w="0">
            <a:noFill/>
          </a:ln>
        </p:spPr>
      </p:pic>
      <p:sp>
        <p:nvSpPr>
          <p:cNvPr id="388" name="Line 5"/>
          <p:cNvSpPr/>
          <p:nvPr/>
        </p:nvSpPr>
        <p:spPr>
          <a:xfrm>
            <a:off x="3657600" y="49528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"/>
          <p:cNvSpPr/>
          <p:nvPr/>
        </p:nvSpPr>
        <p:spPr>
          <a:xfrm>
            <a:off x="1828800" y="548640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8" descr="img_florgumat_03"/>
          <p:cNvPicPr/>
          <p:nvPr/>
        </p:nvPicPr>
        <p:blipFill>
          <a:blip r:embed="rId2"/>
          <a:stretch/>
        </p:blipFill>
        <p:spPr>
          <a:xfrm>
            <a:off x="5943600" y="4800600"/>
            <a:ext cx="1689120" cy="17398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1-17T06:08:35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e0000000000010243100207f6000400038000</vt:lpwstr>
  </property>
  <property fmtid="{D5CDD505-2E9C-101B-9397-08002B2CF9AE}" pid="3" name="Version">
    <vt:r8>1</vt:r8>
  </property>
</Properties>
</file>