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16.gif" ContentType="image/gi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C90-897C-4A09-AD30-691AF33F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6A7-2CD9-4152-8CF8-A577C56E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D90-30A6-4B28-828D-802E7F30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DA2-2473-418B-B57D-C12239C4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D957-6435-4B74-8305-DA702DF8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290D-6FE0-48EF-AE42-316B45FC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D5C7-AB52-48DC-A55D-79079F47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9EBE-DE88-4569-8106-198F1639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B068-9B6E-408C-9542-6F21B11B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E552-BF39-4149-9A7D-F53001F1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351D-5CAB-49FB-A08C-0D29D20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71D-2B43-4E2F-A2A8-6A3F38F3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0BB5-BAB7-4F1F-B1EF-14836281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35D7-F7EE-4CD1-81B4-B328D6DF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D87-0914-4BB1-89B4-138E7B2F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B50B-49D3-4359-82B8-98B63497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32C4-633C-47B6-AAE1-F8B8DF30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D8F9-FD90-4656-A76D-68E0332E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D3AE-85AF-4C45-BC4C-289F1118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7E90-96DD-4848-873B-3B507972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14953-5346-4189-91E2-8C1AE437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1666-A2F2-4AA9-8F4F-F1A4AD5F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84A-08B4-441E-94F9-9E6F50B1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DAFD-D229-4079-AEBE-BD032527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B395-B377-458C-BF3A-8A9F72A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072B-1B25-4B18-9D5C-D5CF7B74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448D9-A367-4F9C-8809-845AEE18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57A7-F263-4AE9-A861-0116C4F3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71C5-9E7C-4BF6-B6B6-A1E2E860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9511-D026-4578-A776-6E72494B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6E53-DF91-433E-9D29-0BEB7CAF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41EA-3CA2-4BC0-A4DD-3491561D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3941-797A-4995-B08E-2816B75F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209-F537-437B-9DBC-A0423E48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5C676-0D98-4694-A254-FBD5909C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4251E-9C79-45E5-8C3F-613DFD16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633C-9123-49D2-902D-E954744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6330-C364-4E82-AD1B-18FF05D3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97A31-A213-4CD2-B4F2-3E38E1D7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62D7-949F-4650-B845-A820117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EAC2-5900-43B1-A1B8-5D5D31A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717B-8FF1-4C0D-895C-7740CC61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CEE8-614C-481A-9EA4-86F8D5AF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3DA84-C190-4C0A-B3BE-865BA5CF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D2E-F220-408D-8B4B-BC2551A1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12BCB-DBE7-4FDC-8E67-03DE3BF6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6386E-3C79-4817-B1EB-F14755C0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0959F-4C1B-449F-B893-6ABEC9FB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88791-BD3C-40D3-AD8B-88F89290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C2CB4-6931-4C94-9C8A-83142F2D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AF88B-F623-4A55-8C4F-8803BD0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1414D-3B58-416A-847B-18FF1F7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02258-7169-40E0-ACE8-F5A787C7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844AA-3696-4E0A-BA83-11FD65C1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E0EEF-61A3-4EF7-9927-2B66F428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E1A-1E80-4D22-A21C-1ED038F0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D5AD0-2837-451D-AAB9-2B0AE6BA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95D23-5F05-4B82-A935-0747E5AF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6B6D7-A562-40D9-9B0F-4B72231D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C4F72-BA25-4CF2-95B5-6BBD960A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7C9F-9B74-456B-B1AF-19BA1F6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E582-9630-46C7-B097-36688599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B0A1B-EEF2-4855-BA9F-233AD416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6969-ECD0-42D9-ADE9-1FB2759D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0825-97BA-47B7-95EA-330D7F8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878C5-E04E-4A5E-BFC0-DE8FC9B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441-D33C-4886-8D1D-B4C432BE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2E47-6ED8-4A78-B836-88BCD78B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EB5A-B436-4E85-A93F-D0E53F14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D7590-DB8F-4635-B7A7-734CEAE8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7E6F5-0359-4DBF-8CE1-AFC26AEF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9D05B-0F99-4A9B-97EC-5A7E1F4C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18B2-88FF-42DE-BBD6-F21A300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C618F-A21D-49E6-B3D6-48E87B94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3B9B2-CADB-438C-A744-E47A4731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DD69-BD7E-4516-B64D-B3914FCE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23DF5-85CA-4312-9835-18718BB3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842-B594-4092-A2E4-F8F1C05E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5501B-2D21-4FDE-8EAE-C2C7DBB4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329A3-2B1B-48AF-8F55-FFDB194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A5FD7-4EA9-427A-867D-7E0BFE40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05314-1595-44F1-AF92-B5579D7C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E7589-0607-418F-9DDB-647E064A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E95-CEE3-4CDF-BE95-92B6C02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6185-9553-496C-B1E8-9E9D6448E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4475-A7D2-4A80-B2D4-02DD6A265D4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CF4-3857-4F36-B980-EFBC257EF2FA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50D1-753F-403E-BEB7-F1AA91A30D8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6A31-E12E-46CD-87C9-1734236FB16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5D3E-423F-434E-B2D4-51E2B262910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052F-D786-40BC-9A24-321487CB74A8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520" y="1800360"/>
            <a:ext cx="5867280" cy="17841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ccff99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Минеральные удобр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5700600"/>
            <a:ext cx="723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абораторная работа «Распознавание важнейших минеральных удобрений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599840"/>
            <a:ext cx="7543800" cy="453060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ознакомьтесь с инструктивной картой «Алгоритм распознавания  минеральных удобрений». Выделите характерные реакции для распознавания ионов и катионов, входящих в состав удобр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Рассмотрите выданные вам минеральные удобрения. Определите на основе характерных реакций каждое из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оставьте уравнения проведенных ре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0E0-B920-4A08-AF93-1593A9DB7539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пробирки"/>
          <p:cNvPicPr/>
          <p:nvPr/>
        </p:nvPicPr>
        <p:blipFill>
          <a:blip r:embed="rId1"/>
          <a:stretch/>
        </p:blipFill>
        <p:spPr>
          <a:xfrm>
            <a:off x="7391520" y="304812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Экологические последствия, связанные с применением минеральных удобрений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96" name="Picture 9" descr="f_0983"/>
          <p:cNvPicPr/>
          <p:nvPr/>
        </p:nvPicPr>
        <p:blipFill>
          <a:blip r:embed="rId1"/>
          <a:stretch/>
        </p:blipFill>
        <p:spPr>
          <a:xfrm>
            <a:off x="2743200" y="1523880"/>
            <a:ext cx="1600200" cy="1452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C0F"/>
          <p:cNvPicPr/>
          <p:nvPr/>
        </p:nvPicPr>
        <p:blipFill>
          <a:blip r:embed="rId2"/>
          <a:stretch/>
        </p:blipFill>
        <p:spPr>
          <a:xfrm>
            <a:off x="5540400" y="1600200"/>
            <a:ext cx="2254320" cy="21891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f_0844"/>
          <p:cNvPicPr/>
          <p:nvPr/>
        </p:nvPicPr>
        <p:blipFill>
          <a:blip r:embed="rId3"/>
          <a:stretch/>
        </p:blipFill>
        <p:spPr>
          <a:xfrm>
            <a:off x="3886200" y="2438280"/>
            <a:ext cx="1643040" cy="1773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скорая"/>
          <p:cNvPicPr/>
          <p:nvPr/>
        </p:nvPicPr>
        <p:blipFill>
          <a:blip r:embed="rId4"/>
          <a:stretch/>
        </p:blipFill>
        <p:spPr>
          <a:xfrm>
            <a:off x="762120" y="4800600"/>
            <a:ext cx="1815840" cy="1600200"/>
          </a:xfrm>
          <a:prstGeom prst="rect">
            <a:avLst/>
          </a:prstGeom>
          <a:ln w="0">
            <a:noFill/>
          </a:ln>
        </p:spPr>
      </p:pic>
      <p:sp>
        <p:nvSpPr>
          <p:cNvPr id="400" name="Номер слайда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3838-2CC0-4667-85DE-EC02801AABF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7010280" y="1523880"/>
            <a:ext cx="198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пустимое суточное потребление нитратов для взрослого: человека - 5 мг/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4" descr="FOOP"/>
          <p:cNvPicPr/>
          <p:nvPr/>
        </p:nvPicPr>
        <p:blipFill>
          <a:blip r:embed="rId5"/>
          <a:stretch/>
        </p:blipFill>
        <p:spPr>
          <a:xfrm>
            <a:off x="6629400" y="441972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5"/>
          <p:cNvSpPr/>
          <p:nvPr/>
        </p:nvSpPr>
        <p:spPr>
          <a:xfrm>
            <a:off x="2666880" y="4724280"/>
            <a:ext cx="3353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 влиянием большой дозы нитратов наблюдается острое отравление (аллергический отек  легких, одышка, боли в области сердца, кашель, рвота и др.). Смертельная доза составляет 8-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152280" y="152388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и излишнем внесении в почву азотных удобрений в ней в избытк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капливаются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итрат- и нитрит-и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220968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8"/>
          <p:cNvSpPr/>
          <p:nvPr/>
        </p:nvSpPr>
        <p:spPr>
          <a:xfrm rot="5400000">
            <a:off x="2514600" y="365760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9"/>
          <p:cNvSpPr/>
          <p:nvPr/>
        </p:nvSpPr>
        <p:spPr>
          <a:xfrm>
            <a:off x="5562720" y="251460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9" name="Picture 4" descr="&amp;Mcy;&amp;Icy;&amp;Kcy;&amp;Rcy;&amp;Ocy;&amp;Bcy;&amp;Icy;&amp;Ocy;&amp;Lcy;&amp;Ocy;&amp;Gcy;&amp;Icy;&amp;CHcy;&amp;IEcy;&amp;Scy;&amp;Kcy;&amp;Icy;&amp;IEcy; &amp;Ucy;&amp;Dcy;&amp;Ocy;&amp;Bcy;&amp;Rcy;&amp;IEcy;&amp;Ncy;&amp;Icy;&amp;YAcy; &amp;Acy;&amp;Zcy;&amp;Ocy;&amp;Tcy;&amp;Ocy;&amp;Vcy;&amp;Icy;&amp;Tcy; &amp;Icy; &amp;Fcy;&amp;Ocy;&amp;Scy;&amp;Fcy;&amp;Acy;&amp;Tcy;&amp;Ocy;&amp;Vcy;&amp;Icy;&amp;Tcy;: &amp;Ocy;&amp;Pcy;&amp;Icy;&amp;Scy;&amp;Acy;&amp;Ncy;&amp;Icy;&amp;IEcy;…"/>
          <p:cNvPicPr/>
          <p:nvPr/>
        </p:nvPicPr>
        <p:blipFill>
          <a:blip r:embed="rId1"/>
          <a:stretch/>
        </p:blipFill>
        <p:spPr>
          <a:xfrm>
            <a:off x="108000" y="496800"/>
            <a:ext cx="864072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Выводы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18960"/>
            <a:ext cx="8229600" cy="3886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ез удобрений, особенно в нечерноземной полосе, вырастить урожай невозможно. Требуется их постоянное внесение в поч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чень важно соблюдать нормы и проявлять экологическую культуру в использовании удобр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изводство минеральных удобрений – важнейшая задача химической промышленности. Особенно важно повышать качество удобрений, увеличивать долю концентрированных , комплексных, гранулированных удобр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4AF7-07D0-403C-888C-B5C67BD0369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тюльпан"/>
          <p:cNvPicPr/>
          <p:nvPr/>
        </p:nvPicPr>
        <p:blipFill>
          <a:blip r:embed="rId2"/>
          <a:stretch/>
        </p:blipFill>
        <p:spPr>
          <a:xfrm>
            <a:off x="7543800" y="4572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img_florgumat_04"/>
          <p:cNvPicPr/>
          <p:nvPr/>
        </p:nvPicPr>
        <p:blipFill>
          <a:blip r:embed="rId3"/>
          <a:stretch/>
        </p:blipFill>
        <p:spPr>
          <a:xfrm>
            <a:off x="152280" y="5029200"/>
            <a:ext cx="2057400" cy="15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ECA5-5038-4123-B514-DC59F1026BD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838080"/>
            <a:ext cx="4191120" cy="91440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50000">
                <a:srgbClr val="000000"/>
              </a:gs>
              <a:gs pos="100000">
                <a:srgbClr val="954f72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txBody>
          <a:bodyPr anchor="t">
            <a:normAutofit fontScale="91000"/>
          </a:bodyPr>
          <a:p>
            <a:pPr marL="155880" indent="-1558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макроэле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495320" y="838080"/>
            <a:ext cx="4419720" cy="91440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50000">
                <a:srgbClr val="000000"/>
              </a:gs>
              <a:gs pos="100000">
                <a:srgbClr val="954f72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микроэле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D19-6D25-4D8C-B376-7ACC7149D54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5105520" y="3962520"/>
            <a:ext cx="3504960" cy="1904760"/>
          </a:xfrm>
          <a:prstGeom prst="wedgeEllipseCallout">
            <a:avLst>
              <a:gd name="adj1" fmla="val -26902"/>
              <a:gd name="adj2" fmla="val -174833"/>
            </a:avLst>
          </a:prstGeom>
          <a:gradFill rotWithShape="0">
            <a:gsLst>
              <a:gs pos="0">
                <a:srgbClr val="ffccff"/>
              </a:gs>
              <a:gs pos="50000">
                <a:srgbClr val="954f72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3300"/>
            </a:solidFill>
            <a:miter/>
          </a:ln>
          <a:effectLst>
            <a:outerShdw dist="107932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, Mn, Cu, Zn, Cr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>
            <a:off x="457200" y="3962520"/>
            <a:ext cx="3733920" cy="1904760"/>
          </a:xfrm>
          <a:prstGeom prst="wedgeEllipseCallout">
            <a:avLst>
              <a:gd name="adj1" fmla="val 23722"/>
              <a:gd name="adj2" fmla="val -177833"/>
            </a:avLst>
          </a:prstGeom>
          <a:gradFill rotWithShape="0">
            <a:gsLst>
              <a:gs pos="0">
                <a:srgbClr val="ffccff"/>
              </a:gs>
              <a:gs pos="50000">
                <a:srgbClr val="954f72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3300"/>
            </a:solidFill>
            <a:miter/>
          </a:ln>
          <a:effectLst>
            <a:outerShdw dist="107932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, O, H, N, P, S, K, Ca,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Азотные удобрения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140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EBEA-6AB5-4FFA-A51A-A7527664C97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6AC1-AE58-46C6-80DD-0D34379E8F0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Недостаток азота"/>
          <p:cNvPicPr/>
          <p:nvPr/>
        </p:nvPicPr>
        <p:blipFill>
          <a:blip r:embed="rId1"/>
          <a:stretch/>
        </p:blipFill>
        <p:spPr>
          <a:xfrm>
            <a:off x="457200" y="-1163520"/>
            <a:ext cx="6095880" cy="6649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9"/>
          <p:cNvSpPr/>
          <p:nvPr/>
        </p:nvSpPr>
        <p:spPr>
          <a:xfrm>
            <a:off x="1143000" y="5711760"/>
            <a:ext cx="75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0"/>
                </a:solidFill>
                <a:latin typeface="Arial"/>
              </a:rPr>
              <a:t>Пожелтевшие нижние листья  — признак недостатка аз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Экологические последствия, связанные с применением минеральных удобрений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0" name="Picture 9" descr="f_0983"/>
          <p:cNvPicPr/>
          <p:nvPr/>
        </p:nvPicPr>
        <p:blipFill>
          <a:blip r:embed="rId1"/>
          <a:stretch/>
        </p:blipFill>
        <p:spPr>
          <a:xfrm>
            <a:off x="2743200" y="1523880"/>
            <a:ext cx="1600200" cy="1452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C0F"/>
          <p:cNvPicPr/>
          <p:nvPr/>
        </p:nvPicPr>
        <p:blipFill>
          <a:blip r:embed="rId2"/>
          <a:stretch/>
        </p:blipFill>
        <p:spPr>
          <a:xfrm>
            <a:off x="5540400" y="1600200"/>
            <a:ext cx="2254320" cy="2189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f_0844"/>
          <p:cNvPicPr/>
          <p:nvPr/>
        </p:nvPicPr>
        <p:blipFill>
          <a:blip r:embed="rId3"/>
          <a:stretch/>
        </p:blipFill>
        <p:spPr>
          <a:xfrm>
            <a:off x="3886200" y="2438280"/>
            <a:ext cx="1643040" cy="177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скорая"/>
          <p:cNvPicPr/>
          <p:nvPr/>
        </p:nvPicPr>
        <p:blipFill>
          <a:blip r:embed="rId4"/>
          <a:stretch/>
        </p:blipFill>
        <p:spPr>
          <a:xfrm>
            <a:off x="762120" y="4800600"/>
            <a:ext cx="1815840" cy="1600200"/>
          </a:xfrm>
          <a:prstGeom prst="rect">
            <a:avLst/>
          </a:prstGeom>
          <a:ln w="0">
            <a:noFill/>
          </a:ln>
        </p:spPr>
      </p:pic>
      <p:sp>
        <p:nvSpPr>
          <p:cNvPr id="364" name="Номер слайда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0C5-7764-4625-B34E-1CDE601C1E8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7010280" y="1523880"/>
            <a:ext cx="198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пустимое суточное потребление нитратов для взрослого: человека - 5 мг/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4" descr="FOOP"/>
          <p:cNvPicPr/>
          <p:nvPr/>
        </p:nvPicPr>
        <p:blipFill>
          <a:blip r:embed="rId5"/>
          <a:stretch/>
        </p:blipFill>
        <p:spPr>
          <a:xfrm>
            <a:off x="6629400" y="441972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5"/>
          <p:cNvSpPr/>
          <p:nvPr/>
        </p:nvSpPr>
        <p:spPr>
          <a:xfrm>
            <a:off x="2666880" y="4724280"/>
            <a:ext cx="3353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 влиянием большой дозы нитратов наблюдается острое отравление (аллергический отек  легких, одышка, боли в области сердца, кашель, рвота и др.). Смертельная доза составляет 8-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152280" y="152388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и излишнем внесении в почву азотных удобрений в ней в избытк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капливаются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итрат- и нитрит-и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7"/>
          <p:cNvSpPr/>
          <p:nvPr/>
        </p:nvSpPr>
        <p:spPr>
          <a:xfrm>
            <a:off x="220968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8"/>
          <p:cNvSpPr/>
          <p:nvPr/>
        </p:nvSpPr>
        <p:spPr>
          <a:xfrm rot="5400000">
            <a:off x="2514600" y="365760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9"/>
          <p:cNvSpPr/>
          <p:nvPr/>
        </p:nvSpPr>
        <p:spPr>
          <a:xfrm>
            <a:off x="5562720" y="251460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-17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Фосфорные удобр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44546a"/>
                </a:solidFill>
                <a:uFillTx/>
                <a:latin typeface="Comic Sans MS"/>
              </a:rPr>
              <a:t>Фосфор 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Ускоряет развитие растений, стимулирует цветение и плодоношение, благоприятствует интенсивному нарастанию корневой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 недостатке фосфора наблюдается угнетенный рост (особенно у молодых растений), короткие и тонкие побеги, мелкие, преждевременно опадающие листья.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8E25-32DC-476A-A533-42B4E78A9E9D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Недостаток фосфора"/>
          <p:cNvPicPr/>
          <p:nvPr/>
        </p:nvPicPr>
        <p:blipFill>
          <a:blip r:embed="rId1"/>
          <a:stretch/>
        </p:blipFill>
        <p:spPr>
          <a:xfrm>
            <a:off x="4710240" y="969840"/>
            <a:ext cx="3879720" cy="41148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9"/>
          <p:cNvSpPr/>
          <p:nvPr/>
        </p:nvSpPr>
        <p:spPr>
          <a:xfrm>
            <a:off x="5715000" y="55627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0"/>
                </a:solidFill>
                <a:latin typeface="Arial"/>
              </a:rPr>
              <a:t>Признаки недостатка фосфора на листьях том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533520" y="833400"/>
            <a:ext cx="4190760" cy="6024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5960" y="-8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Калийные удобр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44546a"/>
                </a:solidFill>
                <a:uFillTx/>
                <a:latin typeface="Comic Sans MS"/>
              </a:rPr>
              <a:t>Калий 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Ускоряет процесс фотосинтеза, поддерживает необходимый водный режим в растениях, снижает поражаемость заболеваниями, способствует обмену веществ и образованию углеводов – накоплению крахмала в клубнях картофеля, сахарозы в сахарной свекле, повышает засухоустойчивость и морозостойкость раст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едостаток калия вызывает обычно задержку роста, а также развития бутонов или зачаточных соцвет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BCC2-F180-4529-8DC4-EE5416EEE1C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Недостаток калия"/>
          <p:cNvPicPr/>
          <p:nvPr/>
        </p:nvPicPr>
        <p:blipFill>
          <a:blip r:embed="rId1"/>
          <a:stretch/>
        </p:blipFill>
        <p:spPr>
          <a:xfrm>
            <a:off x="5126040" y="99072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5638680" y="4876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0"/>
                </a:solidFill>
                <a:latin typeface="Arial"/>
              </a:rPr>
              <a:t>Пожелтение и отмирание кончиков листьев — признаки недостатка кал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2"/>
          <a:stretch/>
        </p:blipFill>
        <p:spPr>
          <a:xfrm>
            <a:off x="366840" y="990720"/>
            <a:ext cx="4779720" cy="6372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итательная ценность удобрен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тательную ценность удобрений условно выражают через массовую долю в н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зота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ксида фосфора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V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) Р</a:t>
            </a:r>
            <a:r>
              <a:rPr b="1" i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</a:t>
            </a:r>
            <a:r>
              <a:rPr b="1" i="1" lang="ru-RU" sz="1800" spc="-1" strike="noStrike" baseline="-25000">
                <a:solidFill>
                  <a:srgbClr val="800000"/>
                </a:solidFill>
                <a:latin typeface="Arial"/>
              </a:rPr>
              <a:t>5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и оксида калия К</a:t>
            </a:r>
            <a:r>
              <a:rPr b="1" i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Задача: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ассчитать питательную ценность натриевой селитры, двойного суперфосфата, хлорида ка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! Число атомов фосфора (калия) должно быть одинаковым в формуле удобрения и оксид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(Са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P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2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)       P</a:t>
            </a:r>
            <a:r>
              <a:rPr b="1" lang="en-US" sz="2400" spc="-1" strike="noStrike" u="sng" baseline="-25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Cl          K</a:t>
            </a:r>
            <a:r>
              <a:rPr b="1" lang="en-US" sz="2400" spc="-1" strike="noStrike" u="sng" baseline="-25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355A-5C33-43EF-A78A-5760C8214FF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калькулятор"/>
          <p:cNvPicPr/>
          <p:nvPr/>
        </p:nvPicPr>
        <p:blipFill>
          <a:blip r:embed="rId1"/>
          <a:stretch/>
        </p:blipFill>
        <p:spPr>
          <a:xfrm>
            <a:off x="7924680" y="914400"/>
            <a:ext cx="103824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Line 5"/>
          <p:cNvSpPr/>
          <p:nvPr/>
        </p:nvSpPr>
        <p:spPr>
          <a:xfrm>
            <a:off x="3657600" y="49528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1828800" y="54864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img_florgumat_03"/>
          <p:cNvPicPr/>
          <p:nvPr/>
        </p:nvPicPr>
        <p:blipFill>
          <a:blip r:embed="rId2"/>
          <a:stretch/>
        </p:blipFill>
        <p:spPr>
          <a:xfrm>
            <a:off x="5943600" y="4800600"/>
            <a:ext cx="1689120" cy="17398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1-17T06:08:35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e0000000000010243100207f6000400038000</vt:lpwstr>
  </property>
  <property fmtid="{D5CDD505-2E9C-101B-9397-08002B2CF9AE}" pid="3" name="Version">
    <vt:r8>1</vt:r8>
  </property>
</Properties>
</file>