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16.gif" ContentType="image/gi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AD5-96B1-459C-8F3B-77EB6357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D91-3276-444A-9F82-CE8034D1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557-BB2F-4E2D-8B29-F2609E20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8B0-BC7E-4A1E-9A13-D981B3F8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4B02-836A-4ED9-8585-5128A109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A8D6-C84B-45C7-99F2-2A1BEE3F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7839-6F23-4584-A81B-15814118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0827-CF5C-4B63-BF27-FE3850CF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3F03-4571-44B8-8FBC-21FAEF4D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E8B7-D928-4E0F-9263-30CE5149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21F3-6ABB-44FA-B0BB-C80B9F1B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624-A101-4CC5-A590-A5F23A6F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05DA-355D-4B45-BE27-A0471DF5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B6BB-2B81-40DC-844D-4B26F088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5BD0-7B83-4D50-AE91-942A0097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019F-8039-4EB5-AD7B-142C1C56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A2B7-1947-4577-86FC-15814033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3D1FB-34B6-40A4-859F-35E05EF5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E328A-C8B0-4E6C-A544-7C39B248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62CE1-C1A4-4978-8F32-C0DF5CE2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100CD-6ABB-49AC-8CBF-F6463F38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EE33-2BB9-4B30-ADCB-85E4A8A5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98E9-C428-46A7-BAF8-B458B316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D6478-D665-4430-917A-7F804496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AC76F-34FE-4334-91E9-8D74A68F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55AF5-EB3F-419C-A94E-04FF5F34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DA509-08AD-4BF5-A993-7BA09EEA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2088-7ABD-4500-97AD-6AC50138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86D97-0FE6-474D-83F1-C4C6729D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7F34F-8629-4419-8DD5-0B98937B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60517-DF76-420F-BD01-ABFBEDAF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6AAA8-7966-4D30-8BB9-730C0981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9F369-0820-4157-9F86-8CFC60D2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107-50EC-4753-A3A0-39E29FE4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0071B-617E-4E32-9439-C9B8090D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E6020-B2F6-4DFF-A0B7-692A29B2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4D03-4474-4540-800E-A7033AD7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5F9B-FD87-44D6-9F48-2BE6CA2E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97223-6D0D-4560-8F7A-92D26AEE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48F77-C0DB-4412-871F-DBE7530D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4172E-3042-4F3E-8DA1-019F017F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A5C0F-8515-4654-B83C-E7444CA4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25F28-A74C-494D-85CB-6823628E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9E6A2-41AB-49C7-AF4A-3B5DE134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74F-10EC-4850-B658-321029BB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C603A6-3214-4957-9814-8836CEB2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2C511-A3C5-405A-A01A-3005E88C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905FE-54BB-45E6-A83D-BE7263FF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8F33C-5D89-40FC-9CF6-89702FBD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1253F-C6F5-494A-BA13-71C66EC5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101F5-F345-442F-9963-40713CC2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3F284-7A62-435B-BA10-C5F23E18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0527B-58AB-4439-BFAB-E08A4E34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67B1A-EDEC-4B04-9115-F041256B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62B99-C13D-4494-8722-87049BB3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802-73F5-44A0-A2DE-27540E57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5F776-59E7-400C-A636-80C5B6A0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54EEE-86C3-4F3C-A1DD-1A7FC0D2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4048D-0E72-4B03-B6C8-F189AF90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E205C-594B-4500-952E-DF755489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FC35E-E8E3-4986-A1C7-91AB88CF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5A5D2-EDFE-4E30-A1BF-9E42BCFA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17F27-55DC-45C8-93B7-89C59D5C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AB467-785D-4580-88B8-355B6AE2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47589-5EB0-49E7-8FE3-76B25E87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38131-B5CA-4C94-AF46-1465B7D5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6F1-9BE4-4934-B344-5C35803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9CE91-EEC4-41C1-9187-D321DCB9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E1A41-5DB6-41CD-B144-7B4DE9A6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3110C-AF72-4326-A26C-C669565D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ED198-D53E-4185-A97F-3CD50B33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A9B12-A291-4BFF-85B1-CEC78C6E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D9246-8E9F-4A08-A16E-549317CE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D27F9-AE52-4904-9294-7FDC0292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67BDD-CB59-4A68-BE7F-DA3C02BE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F1830-5817-40A4-80EB-F3C378AA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EB612-E276-4D23-A2CB-E828D737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EF6-E8E3-41A6-9B7A-0DB02D60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1A47D-FAD0-4B0B-BF26-3F8D256E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670F8-074F-4A0E-A983-626BCC58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B955E-2575-4D7D-8237-AE48DC22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A600E-AC01-475A-9701-176110C8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2548F-CAF8-4FF1-BE9A-2C57EF5A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D89-71BF-4F69-B461-9A90C2A3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561F-819E-4818-AB07-FFD1D302DD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1B8B-8CF3-483B-8183-A29C893F278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742B-2F6F-4B72-BF67-F45FD3BD34F7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E9CA-34A1-432D-885B-CBDD24704AF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C028-4D00-4645-B664-6D1D8C61A07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B7E7-FFE1-4273-AD18-029D94785E6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ECD4-90A3-402D-88E7-8F417114CA7E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520" y="1800360"/>
            <a:ext cx="5867280" cy="17841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ccff99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Comic Sans MS"/>
              </a:rPr>
              <a:t>Минеральные удобр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685800" y="5700600"/>
            <a:ext cx="7238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абораторная работа «Распознавание важнейших минеральных удобрений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599840"/>
            <a:ext cx="7543800" cy="4530600"/>
          </a:xfrm>
          <a:prstGeom prst="rect">
            <a:avLst/>
          </a:prstGeom>
          <a:gradFill rotWithShape="0">
            <a:gsLst>
              <a:gs pos="0">
                <a:srgbClr val="954f7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Познакомьтесь с инструктивной картой «Алгоритм распознавания  минеральных удобрений». Выделите характерные реакции для распознавания ионов и катионов, входящих в состав удобр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Рассмотрите выданные вам минеральные удобрения. Определите на основе характерных реакций каждое из 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Составьте уравнения проведенных реак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CB78-2F61-4D98-912E-1ECFF2B7B98C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пробирки"/>
          <p:cNvPicPr/>
          <p:nvPr/>
        </p:nvPicPr>
        <p:blipFill>
          <a:blip r:embed="rId1"/>
          <a:stretch/>
        </p:blipFill>
        <p:spPr>
          <a:xfrm>
            <a:off x="7391520" y="304812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omic Sans MS"/>
              </a:rPr>
              <a:t>Экологические последствия, связанные с применением минеральных удобрений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96" name="Picture 9" descr="f_0983"/>
          <p:cNvPicPr/>
          <p:nvPr/>
        </p:nvPicPr>
        <p:blipFill>
          <a:blip r:embed="rId1"/>
          <a:stretch/>
        </p:blipFill>
        <p:spPr>
          <a:xfrm>
            <a:off x="2743200" y="1523880"/>
            <a:ext cx="1600200" cy="14526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C0F"/>
          <p:cNvPicPr/>
          <p:nvPr/>
        </p:nvPicPr>
        <p:blipFill>
          <a:blip r:embed="rId2"/>
          <a:stretch/>
        </p:blipFill>
        <p:spPr>
          <a:xfrm>
            <a:off x="5540400" y="1600200"/>
            <a:ext cx="2254320" cy="21891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2" descr="f_0844"/>
          <p:cNvPicPr/>
          <p:nvPr/>
        </p:nvPicPr>
        <p:blipFill>
          <a:blip r:embed="rId3"/>
          <a:stretch/>
        </p:blipFill>
        <p:spPr>
          <a:xfrm>
            <a:off x="3886200" y="2438280"/>
            <a:ext cx="1643040" cy="1773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3" descr="скорая"/>
          <p:cNvPicPr/>
          <p:nvPr/>
        </p:nvPicPr>
        <p:blipFill>
          <a:blip r:embed="rId4"/>
          <a:stretch/>
        </p:blipFill>
        <p:spPr>
          <a:xfrm>
            <a:off x="762120" y="4800600"/>
            <a:ext cx="1815840" cy="1600200"/>
          </a:xfrm>
          <a:prstGeom prst="rect">
            <a:avLst/>
          </a:prstGeom>
          <a:ln w="0">
            <a:noFill/>
          </a:ln>
        </p:spPr>
      </p:pic>
      <p:sp>
        <p:nvSpPr>
          <p:cNvPr id="400" name="Номер слайда 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6387-425A-4957-9F73-769F75DDA4CA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1"/>
          <p:cNvSpPr/>
          <p:nvPr/>
        </p:nvSpPr>
        <p:spPr>
          <a:xfrm>
            <a:off x="7010280" y="1523880"/>
            <a:ext cx="198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опустимое суточное потребление нитратов для взрослого: человека - 5 мг/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4" descr="FOOP"/>
          <p:cNvPicPr/>
          <p:nvPr/>
        </p:nvPicPr>
        <p:blipFill>
          <a:blip r:embed="rId5"/>
          <a:stretch/>
        </p:blipFill>
        <p:spPr>
          <a:xfrm>
            <a:off x="6629400" y="4419720"/>
            <a:ext cx="838080" cy="1143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5"/>
          <p:cNvSpPr/>
          <p:nvPr/>
        </p:nvSpPr>
        <p:spPr>
          <a:xfrm>
            <a:off x="2666880" y="4724280"/>
            <a:ext cx="33530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д влиянием большой дозы нитратов наблюдается острое отравление (аллергический отек  легких, одышка, боли в области сердца, кашель, рвота и др.). Смертельная доза составляет 8-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152280" y="152388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и излишнем внесении в почву азотных удобрений в ней в избытке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капливаются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итрат- и нитрит-и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7"/>
          <p:cNvSpPr/>
          <p:nvPr/>
        </p:nvSpPr>
        <p:spPr>
          <a:xfrm>
            <a:off x="2209680" y="2286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8"/>
          <p:cNvSpPr/>
          <p:nvPr/>
        </p:nvSpPr>
        <p:spPr>
          <a:xfrm rot="5400000">
            <a:off x="2514600" y="3657600"/>
            <a:ext cx="1524240" cy="4572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9"/>
          <p:cNvSpPr/>
          <p:nvPr/>
        </p:nvSpPr>
        <p:spPr>
          <a:xfrm>
            <a:off x="5562720" y="2514600"/>
            <a:ext cx="1447560" cy="457200"/>
          </a:xfrm>
          <a:prstGeom prst="rightArrow">
            <a:avLst>
              <a:gd name="adj1" fmla="val 50000"/>
              <a:gd name="adj2" fmla="val 79154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09" name="Picture 4" descr="&amp;Mcy;&amp;Icy;&amp;Kcy;&amp;Rcy;&amp;Ocy;&amp;Bcy;&amp;Icy;&amp;Ocy;&amp;Lcy;&amp;Ocy;&amp;Gcy;&amp;Icy;&amp;CHcy;&amp;IEcy;&amp;Scy;&amp;Kcy;&amp;Icy;&amp;IEcy; &amp;Ucy;&amp;Dcy;&amp;Ocy;&amp;Bcy;&amp;Rcy;&amp;IEcy;&amp;Ncy;&amp;Icy;&amp;YAcy; &amp;Acy;&amp;Zcy;&amp;Ocy;&amp;Tcy;&amp;Ocy;&amp;Vcy;&amp;Icy;&amp;Tcy; &amp;Icy; &amp;Fcy;&amp;Ocy;&amp;Scy;&amp;Fcy;&amp;Acy;&amp;Tcy;&amp;Ocy;&amp;Vcy;&amp;Icy;&amp;Tcy;: &amp;Ocy;&amp;Pcy;&amp;Icy;&amp;Scy;&amp;Acy;&amp;Ncy;&amp;Icy;&amp;IEcy;…"/>
          <p:cNvPicPr/>
          <p:nvPr/>
        </p:nvPicPr>
        <p:blipFill>
          <a:blip r:embed="rId1"/>
          <a:stretch/>
        </p:blipFill>
        <p:spPr>
          <a:xfrm>
            <a:off x="108000" y="496800"/>
            <a:ext cx="864072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Выводы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218960"/>
            <a:ext cx="8229600" cy="3886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Без удобрений, особенно в нечерноземной полосе, вырастить урожай невозможно. Требуется их постоянное внесение в поч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чень важно соблюдать нормы и проявлять экологическую культуру в использовании удобр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оизводство минеральных удобрений – важнейшая задача химической промышленности. Особенно важно повышать качество удобрений, увеличивать долю концентрированных , комплексных, гранулированных удобр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3D71-C317-43AF-8604-22A40701876E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5" descr="тюльпан"/>
          <p:cNvPicPr/>
          <p:nvPr/>
        </p:nvPicPr>
        <p:blipFill>
          <a:blip r:embed="rId2"/>
          <a:stretch/>
        </p:blipFill>
        <p:spPr>
          <a:xfrm>
            <a:off x="7543800" y="45720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img_florgumat_04"/>
          <p:cNvPicPr/>
          <p:nvPr/>
        </p:nvPicPr>
        <p:blipFill>
          <a:blip r:embed="rId3"/>
          <a:stretch/>
        </p:blipFill>
        <p:spPr>
          <a:xfrm>
            <a:off x="152280" y="5029200"/>
            <a:ext cx="2057400" cy="15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8693-5A8B-417D-A875-FD65F34A0675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838080"/>
            <a:ext cx="4191120" cy="914400"/>
          </a:xfrm>
          <a:prstGeom prst="rect">
            <a:avLst/>
          </a:prstGeom>
          <a:gradFill rotWithShape="0">
            <a:gsLst>
              <a:gs pos="0">
                <a:srgbClr val="954f72"/>
              </a:gs>
              <a:gs pos="50000">
                <a:srgbClr val="000000"/>
              </a:gs>
              <a:gs pos="100000">
                <a:srgbClr val="954f72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txBody>
          <a:bodyPr anchor="t">
            <a:normAutofit fontScale="91000"/>
          </a:bodyPr>
          <a:p>
            <a:pPr marL="155880" indent="-1558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omic Sans MS"/>
              </a:rPr>
              <a:t>макроэле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495320" y="838080"/>
            <a:ext cx="4419720" cy="914400"/>
          </a:xfrm>
          <a:prstGeom prst="rect">
            <a:avLst/>
          </a:prstGeom>
          <a:gradFill rotWithShape="0">
            <a:gsLst>
              <a:gs pos="0">
                <a:srgbClr val="954f72"/>
              </a:gs>
              <a:gs pos="50000">
                <a:srgbClr val="000000"/>
              </a:gs>
              <a:gs pos="100000">
                <a:srgbClr val="954f72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omic Sans MS"/>
              </a:rPr>
              <a:t>микроэле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9365-6FE8-4E65-871A-EDCC5138473B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2"/>
          <p:cNvSpPr/>
          <p:nvPr/>
        </p:nvSpPr>
        <p:spPr>
          <a:xfrm>
            <a:off x="5105520" y="3962520"/>
            <a:ext cx="3504960" cy="1904760"/>
          </a:xfrm>
          <a:prstGeom prst="wedgeEllipseCallout">
            <a:avLst>
              <a:gd name="adj1" fmla="val -26902"/>
              <a:gd name="adj2" fmla="val -174833"/>
            </a:avLst>
          </a:prstGeom>
          <a:gradFill rotWithShape="0">
            <a:gsLst>
              <a:gs pos="0">
                <a:srgbClr val="ffccff"/>
              </a:gs>
              <a:gs pos="50000">
                <a:srgbClr val="954f72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3300"/>
            </a:solidFill>
            <a:miter/>
          </a:ln>
          <a:effectLst>
            <a:outerShdw dist="107932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e, Mn, Cu, Zn, Cr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3"/>
          <p:cNvSpPr/>
          <p:nvPr/>
        </p:nvSpPr>
        <p:spPr>
          <a:xfrm>
            <a:off x="457200" y="3962520"/>
            <a:ext cx="3733920" cy="1904760"/>
          </a:xfrm>
          <a:prstGeom prst="wedgeEllipseCallout">
            <a:avLst>
              <a:gd name="adj1" fmla="val 23722"/>
              <a:gd name="adj2" fmla="val -177833"/>
            </a:avLst>
          </a:prstGeom>
          <a:gradFill rotWithShape="0">
            <a:gsLst>
              <a:gs pos="0">
                <a:srgbClr val="ffccff"/>
              </a:gs>
              <a:gs pos="50000">
                <a:srgbClr val="954f72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3300"/>
            </a:solidFill>
            <a:miter/>
          </a:ln>
          <a:effectLst>
            <a:outerShdw dist="107932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, O, H, N, P, S, K, Ca, 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Азотные удобрения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9140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8680-451F-4521-AC55-7BD6C5216FA9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0" y="7430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678C-878A-4DD7-B16B-990A0B441736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8" descr="Недостаток азота"/>
          <p:cNvPicPr/>
          <p:nvPr/>
        </p:nvPicPr>
        <p:blipFill>
          <a:blip r:embed="rId1"/>
          <a:stretch/>
        </p:blipFill>
        <p:spPr>
          <a:xfrm>
            <a:off x="457200" y="-1163520"/>
            <a:ext cx="6095880" cy="66499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9"/>
          <p:cNvSpPr/>
          <p:nvPr/>
        </p:nvSpPr>
        <p:spPr>
          <a:xfrm>
            <a:off x="1143000" y="5711760"/>
            <a:ext cx="75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300"/>
                </a:solidFill>
                <a:latin typeface="Arial"/>
              </a:rPr>
              <a:t>Пожелтевшие нижние листья  — признак недостатка аз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Comic Sans MS"/>
              </a:rPr>
              <a:t>Экологические последствия, связанные с применением минеральных удобрений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60" name="Picture 9" descr="f_0983"/>
          <p:cNvPicPr/>
          <p:nvPr/>
        </p:nvPicPr>
        <p:blipFill>
          <a:blip r:embed="rId1"/>
          <a:stretch/>
        </p:blipFill>
        <p:spPr>
          <a:xfrm>
            <a:off x="2743200" y="1523880"/>
            <a:ext cx="1600200" cy="1452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0" descr="C0F"/>
          <p:cNvPicPr/>
          <p:nvPr/>
        </p:nvPicPr>
        <p:blipFill>
          <a:blip r:embed="rId2"/>
          <a:stretch/>
        </p:blipFill>
        <p:spPr>
          <a:xfrm>
            <a:off x="5540400" y="1600200"/>
            <a:ext cx="2254320" cy="21891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f_0844"/>
          <p:cNvPicPr/>
          <p:nvPr/>
        </p:nvPicPr>
        <p:blipFill>
          <a:blip r:embed="rId3"/>
          <a:stretch/>
        </p:blipFill>
        <p:spPr>
          <a:xfrm>
            <a:off x="3886200" y="2438280"/>
            <a:ext cx="1643040" cy="177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скорая"/>
          <p:cNvPicPr/>
          <p:nvPr/>
        </p:nvPicPr>
        <p:blipFill>
          <a:blip r:embed="rId4"/>
          <a:stretch/>
        </p:blipFill>
        <p:spPr>
          <a:xfrm>
            <a:off x="762120" y="4800600"/>
            <a:ext cx="1815840" cy="1600200"/>
          </a:xfrm>
          <a:prstGeom prst="rect">
            <a:avLst/>
          </a:prstGeom>
          <a:ln w="0">
            <a:noFill/>
          </a:ln>
        </p:spPr>
      </p:pic>
      <p:sp>
        <p:nvSpPr>
          <p:cNvPr id="364" name="Номер слайда 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5324-E8C3-473B-905E-8AD908DB40DC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7010280" y="1523880"/>
            <a:ext cx="198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опустимое суточное потребление нитратов для взрослого: человека - 5 мг/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4" descr="FOOP"/>
          <p:cNvPicPr/>
          <p:nvPr/>
        </p:nvPicPr>
        <p:blipFill>
          <a:blip r:embed="rId5"/>
          <a:stretch/>
        </p:blipFill>
        <p:spPr>
          <a:xfrm>
            <a:off x="6629400" y="4419720"/>
            <a:ext cx="838080" cy="11430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5"/>
          <p:cNvSpPr/>
          <p:nvPr/>
        </p:nvSpPr>
        <p:spPr>
          <a:xfrm>
            <a:off x="2666880" y="4724280"/>
            <a:ext cx="33530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д влиянием большой дозы нитратов наблюдается острое отравление (аллергический отек  легких, одышка, боли в области сердца, кашель, рвота и др.). Смертельная доза составляет 8-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152280" y="152388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и излишнем внесении в почву азотных удобрений в ней в избытке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капливаются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итрат- и нитрит-и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7"/>
          <p:cNvSpPr/>
          <p:nvPr/>
        </p:nvSpPr>
        <p:spPr>
          <a:xfrm>
            <a:off x="2209680" y="2286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8"/>
          <p:cNvSpPr/>
          <p:nvPr/>
        </p:nvSpPr>
        <p:spPr>
          <a:xfrm rot="5400000">
            <a:off x="2514600" y="3657600"/>
            <a:ext cx="1524240" cy="4572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9"/>
          <p:cNvSpPr/>
          <p:nvPr/>
        </p:nvSpPr>
        <p:spPr>
          <a:xfrm>
            <a:off x="5562720" y="2514600"/>
            <a:ext cx="1447560" cy="457200"/>
          </a:xfrm>
          <a:prstGeom prst="rightArrow">
            <a:avLst>
              <a:gd name="adj1" fmla="val 50000"/>
              <a:gd name="adj2" fmla="val 79154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-17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Фосфорные удобрени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54f7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u="sng">
                <a:solidFill>
                  <a:srgbClr val="44546a"/>
                </a:solidFill>
                <a:uFillTx/>
                <a:latin typeface="Comic Sans MS"/>
              </a:rPr>
              <a:t>Фосфор 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Ускоряет развитие растений, стимулирует цветение и плодоношение, благоприятствует интенсивному нарастанию корневой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 недостатке фосфора наблюдается угнетенный рост (особенно у молодых растений), короткие и тонкие побеги, мелкие, преждевременно опадающие листья.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2C81-B44E-4699-8C78-9E0EB2D6D5F4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Недостаток фосфора"/>
          <p:cNvPicPr/>
          <p:nvPr/>
        </p:nvPicPr>
        <p:blipFill>
          <a:blip r:embed="rId1"/>
          <a:stretch/>
        </p:blipFill>
        <p:spPr>
          <a:xfrm>
            <a:off x="4710240" y="969840"/>
            <a:ext cx="3879720" cy="41148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9"/>
          <p:cNvSpPr/>
          <p:nvPr/>
        </p:nvSpPr>
        <p:spPr>
          <a:xfrm>
            <a:off x="5715000" y="55627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300"/>
                </a:solidFill>
                <a:latin typeface="Arial"/>
              </a:rPr>
              <a:t>Признаки недостатка фосфора на листьях том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" descr=""/>
          <p:cNvPicPr/>
          <p:nvPr/>
        </p:nvPicPr>
        <p:blipFill>
          <a:blip r:embed="rId2"/>
          <a:stretch/>
        </p:blipFill>
        <p:spPr>
          <a:xfrm>
            <a:off x="533520" y="833400"/>
            <a:ext cx="4190760" cy="6024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5960" y="-8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Калийные удобрени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54f7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44546a"/>
                </a:solidFill>
                <a:uFillTx/>
                <a:latin typeface="Comic Sans MS"/>
              </a:rPr>
              <a:t>Калий 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Ускоряет процесс фотосинтеза, поддерживает необходимый водный режим в растениях, снижает поражаемость заболеваниями, способствует обмену веществ и образованию углеводов – накоплению крахмала в клубнях картофеля, сахарозы в сахарной свекле, повышает засухоустойчивость и морозостойкость раст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едостаток калия вызывает обычно задержку роста, а также развития бутонов или зачаточных соцвет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EAA9-8EEF-42EE-977D-CDAE900DCE6B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Недостаток калия"/>
          <p:cNvPicPr/>
          <p:nvPr/>
        </p:nvPicPr>
        <p:blipFill>
          <a:blip r:embed="rId1"/>
          <a:stretch/>
        </p:blipFill>
        <p:spPr>
          <a:xfrm>
            <a:off x="5126040" y="99072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5638680" y="48769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300"/>
                </a:solidFill>
                <a:latin typeface="Arial"/>
              </a:rPr>
              <a:t>Пожелтение и отмирание кончиков листьев — признаки недостатка кал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2"/>
          <a:stretch/>
        </p:blipFill>
        <p:spPr>
          <a:xfrm>
            <a:off x="366840" y="990720"/>
            <a:ext cx="4779720" cy="6372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итательная ценность удобрений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gradFill rotWithShape="0">
            <a:gsLst>
              <a:gs pos="0">
                <a:srgbClr val="954f7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164160" indent="-1641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итательную ценность удобрений условно выражают через массовую долю в ни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азота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оксида фосфора (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V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) Р</a:t>
            </a:r>
            <a:r>
              <a:rPr b="1" i="1" lang="ru-RU" sz="1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О</a:t>
            </a:r>
            <a:r>
              <a:rPr b="1" i="1" lang="ru-RU" sz="1800" spc="-1" strike="noStrike" baseline="-25000">
                <a:solidFill>
                  <a:srgbClr val="800000"/>
                </a:solidFill>
                <a:latin typeface="Arial"/>
              </a:rPr>
              <a:t>5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и оксида калия К</a:t>
            </a:r>
            <a:r>
              <a:rPr b="1" i="1" lang="ru-RU" sz="1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Задача: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ассчитать питательную ценность натриевой селитры, двойного суперфосфата, хлорида кал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! Число атомов фосфора (калия) должно быть одинаковым в формуле удобрения и оксид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(Са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PO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2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)       P</a:t>
            </a:r>
            <a:r>
              <a:rPr b="1" lang="en-US" sz="2400" spc="-1" strike="noStrike" u="sng" baseline="-25000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Cl          K</a:t>
            </a:r>
            <a:r>
              <a:rPr b="1" lang="en-US" sz="2400" spc="-1" strike="noStrike" u="sng" baseline="-25000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6316-CB4C-46C5-82B9-38D5D15A1847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калькулятор"/>
          <p:cNvPicPr/>
          <p:nvPr/>
        </p:nvPicPr>
        <p:blipFill>
          <a:blip r:embed="rId1"/>
          <a:stretch/>
        </p:blipFill>
        <p:spPr>
          <a:xfrm>
            <a:off x="7924680" y="914400"/>
            <a:ext cx="1038240" cy="1428840"/>
          </a:xfrm>
          <a:prstGeom prst="rect">
            <a:avLst/>
          </a:prstGeom>
          <a:ln w="0">
            <a:noFill/>
          </a:ln>
        </p:spPr>
      </p:pic>
      <p:sp>
        <p:nvSpPr>
          <p:cNvPr id="388" name="Line 5"/>
          <p:cNvSpPr/>
          <p:nvPr/>
        </p:nvSpPr>
        <p:spPr>
          <a:xfrm>
            <a:off x="3657600" y="495288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"/>
          <p:cNvSpPr/>
          <p:nvPr/>
        </p:nvSpPr>
        <p:spPr>
          <a:xfrm>
            <a:off x="1828800" y="548640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8" descr="img_florgumat_03"/>
          <p:cNvPicPr/>
          <p:nvPr/>
        </p:nvPicPr>
        <p:blipFill>
          <a:blip r:embed="rId2"/>
          <a:stretch/>
        </p:blipFill>
        <p:spPr>
          <a:xfrm>
            <a:off x="5943600" y="4800600"/>
            <a:ext cx="1689120" cy="17398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1-17T06:08:35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e0000000000010243100207f6000400038000</vt:lpwstr>
  </property>
  <property fmtid="{D5CDD505-2E9C-101B-9397-08002B2CF9AE}" pid="3" name="Version">
    <vt:r8>1</vt:r8>
  </property>
</Properties>
</file>