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9.gif" ContentType="image/gif"/>
  <Override PartName="/ppt/media/image8.jpeg" ContentType="image/jpeg"/>
  <Override PartName="/ppt/media/image10.jpeg" ContentType="image/jpeg"/>
  <Override PartName="/ppt/media/image12.gif" ContentType="image/gif"/>
  <Override PartName="/ppt/media/image7.gif" ContentType="image/gif"/>
  <Override PartName="/ppt/media/image5.jpeg" ContentType="image/jpeg"/>
  <Override PartName="/ppt/media/image6.gif" ContentType="image/gif"/>
  <Override PartName="/ppt/media/image11.jpeg" ContentType="image/jpeg"/>
  <Override PartName="/ppt/media/image20.jpeg" ContentType="image/jpeg"/>
  <Override PartName="/ppt/media/image17.gif" ContentType="image/gif"/>
  <Override PartName="/ppt/media/image18.png" ContentType="image/png"/>
  <Override PartName="/ppt/media/image15.gif" ContentType="image/gif"/>
  <Override PartName="/ppt/media/image14.jpeg" ContentType="image/jpeg"/>
  <Override PartName="/ppt/media/image4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2.png" ContentType="image/png"/>
  <Override PartName="/ppt/media/image22.gif" ContentType="image/gif"/>
  <Override PartName="/ppt/media/image3.png" ContentType="image/png"/>
  <Override PartName="/ppt/media/image2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D334-5ABB-452B-9194-9A5CC128BC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CB67-B520-45F2-9DA6-13B7B776D9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07CC-6646-45D1-90C6-1D5E2663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0FD5-4E35-4FC7-B85B-293D8660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CE72-B584-40B3-88BD-48E1671C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2CC6-BE94-4F72-8E90-912EA913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EBEE-09A0-4820-A0F0-F39A2A52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0481-37E8-4DC4-85CB-3588A8F1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5635-15FA-4738-8AE9-C6627781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97F9-C67C-4A57-AC8E-1030C65A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81C5-E86C-4CFF-BA4C-FB41A6EC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ABF2-01FF-4F21-9AAB-DEC39915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A66F-BB66-4F39-BB2E-F4EBB5FD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311D-B85E-4A92-AFF1-DF4238A3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E6A7-F4E7-46B3-A90C-96B8FD16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846C-060B-47D7-942F-590B01B8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D3F6-1F9A-4AB6-9641-C24F5A6C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88DA-3518-4F16-AD2D-86A3B7CD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1038-3887-439A-801E-E792CFC4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C1C1-303C-4DE4-9F95-4D9D6875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12F0-575A-41EF-9589-C29DE87E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B04-CC73-41EB-8F02-A97CF233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5639-945E-4013-9BD5-D244683E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D860-6F16-4860-BD82-35D1C02B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08DE-8F30-46AF-A9D8-E851F793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7A44-62B2-41ED-895F-2104C042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E54C-D0DF-4E24-BCD2-7A60F2D67B7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6C7C-645A-4460-83F6-F54CFD94FBF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29040" y="-1473120"/>
            <a:ext cx="6984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86920" y="6857640"/>
            <a:ext cx="6409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Рисунок 7" descr="Картинка 1095 из 8030"/>
          <p:cNvPicPr/>
          <p:nvPr/>
        </p:nvPicPr>
        <p:blipFill>
          <a:blip r:embed="rId2"/>
          <a:stretch/>
        </p:blipFill>
        <p:spPr>
          <a:xfrm>
            <a:off x="146160" y="152280"/>
            <a:ext cx="4047840" cy="4462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995640" y="1989000"/>
            <a:ext cx="44769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ФИЛАКТИКА</a:t>
            </a:r>
            <a:endParaRPr b="1" lang="en-US" sz="18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УИЦИДОВ СРЕДИ</a:t>
            </a:r>
            <a:endParaRPr b="1" lang="en-US" sz="18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ДРОСТКОВ</a:t>
            </a:r>
            <a:endParaRPr b="1" lang="en-US" sz="18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618920" y="1143000"/>
            <a:ext cx="7296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66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ccff"/>
                </a:solidFill>
                <a:latin typeface="Arial"/>
              </a:rPr>
              <a:t>Обнимайтес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! Не менее четырех, а лучше восьми раз в день. В проявлениях родительской ласки "взрослые" подростки порой нуждаются чаще, чем крохотные карапуз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" descr="\\MICROSOF-05BCCC\User (D)\Семейная\Ирина\Анимашки\0_1ac07_864c3346_S.gif"/>
          <p:cNvPicPr/>
          <p:nvPr/>
        </p:nvPicPr>
        <p:blipFill>
          <a:blip r:embed="rId2"/>
          <a:stretch/>
        </p:blipFill>
        <p:spPr>
          <a:xfrm>
            <a:off x="0" y="0"/>
            <a:ext cx="1643040" cy="20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364000" y="4076640"/>
            <a:ext cx="3022920" cy="223056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p:transition spd="slow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377964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7943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66ccff"/>
                </a:solidFill>
                <a:latin typeface="Arial"/>
              </a:rPr>
              <a:t>Станьте старшим другом для своего ребенка, внимательным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66ccff"/>
                </a:solidFill>
                <a:latin typeface="Arial"/>
              </a:rPr>
              <a:t>и мудрым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от простой совет может быть ключом к настоящей душевной близости с подростком, а значит, и к защите, его от деструктивных влияний современного мир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\\MICROSOF-05BCCC\User (D)\Семейная\Ирина\Анимашки\c6ece0df89c8.gif"/>
          <p:cNvPicPr/>
          <p:nvPr/>
        </p:nvPicPr>
        <p:blipFill>
          <a:blip r:embed="rId2"/>
          <a:stretch/>
        </p:blipFill>
        <p:spPr>
          <a:xfrm>
            <a:off x="0" y="0"/>
            <a:ext cx="1403280" cy="1844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\\MICROSOF-05BCCC\User (D)\Семейная\Ирина\Анимашки\155.gif"/>
          <p:cNvPicPr/>
          <p:nvPr/>
        </p:nvPicPr>
        <p:blipFill>
          <a:blip r:embed="rId3"/>
          <a:stretch/>
        </p:blipFill>
        <p:spPr>
          <a:xfrm>
            <a:off x="5786280" y="4724280"/>
            <a:ext cx="267336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28800" y="1143000"/>
            <a:ext cx="7696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Наградой вам будут доверие, уважение и любов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А это так важн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5" descr="\\MICROSOF-05BCCC\User (D)\Семейная\Ирина\Анимашки\13 (1).gif"/>
          <p:cNvPicPr/>
          <p:nvPr/>
        </p:nvPicPr>
        <p:blipFill>
          <a:blip r:embed="rId2"/>
          <a:stretch/>
        </p:blipFill>
        <p:spPr>
          <a:xfrm>
            <a:off x="2987640" y="2928960"/>
            <a:ext cx="360036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28440" y="-3690720"/>
            <a:ext cx="11412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5840" y="1267920"/>
            <a:ext cx="857232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 нарушением межличностных отношений, «одиночки»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Злоупотребляющие алкоголем, отличающиеся девиантным поведение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 затяжным депрессивным состояние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верхкритичные к себе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традающие от недавно испытавших унижений или трагических утрат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еживающие за несоответствие между ожидавшимися успехами и реальными достижениям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з социально-неблагополучных семе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з семей, в которых были случаи суицид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19" descr="\\MICROSOF-05BCCC\User (D)\Семейная\Ирина\Анимашки\people17.gif"/>
          <p:cNvPicPr/>
          <p:nvPr/>
        </p:nvPicPr>
        <p:blipFill>
          <a:blip r:embed="rId2"/>
          <a:stretch/>
        </p:blipFill>
        <p:spPr>
          <a:xfrm>
            <a:off x="6948360" y="4869000"/>
            <a:ext cx="2016360" cy="1726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237960" y="189000"/>
            <a:ext cx="85820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 "группе риска" относятся подростки:</a:t>
            </a:r>
            <a:endParaRPr b="1" lang="en-US" sz="18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-3779640"/>
            <a:ext cx="250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799308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теря аппетита или импульсивное обжорство, бессонница или повышена сонливость в течение длительного времен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Частые жалобы на соматические недомога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еобычно пренебрежительное отношение к своему внешнему виду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стоянное чувство одиночества, бесполезности, вины или гру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ход от контактов, изоляция от друзей и семь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груженность в размышления о смер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тсутствие планов на будущее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незапные приступы гнева, зачастую возникающие из-за мелоч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4000" y="189000"/>
            <a:ext cx="856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знаки эмоциональных нарушений:</a:t>
            </a:r>
            <a:endParaRPr b="1" lang="en-US" sz="18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92720" y="5229360"/>
            <a:ext cx="2664000" cy="136836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259920"/>
            <a:ext cx="8137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Развитие подрост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начало поиска себя, своего уникального «Я». Это путь становления индивидуаль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сихологии этот период времени называют периодом «брожения» психики, за  ним наступает период достаточной уверенности и равновесия. Этот период почти всегда бывает болезненным, это время проблем между детьми и родител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Поддержка семьи  вашему ребенку сейчас очень важна. Ему как никогда нужны ваше тепло и забота, понимание и доверие.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4" descr="\\MICROSOF-05BCCC\User (D)\Семейная\Ирина\Анимашки\gallery_2_391_6820.gif"/>
          <p:cNvPicPr/>
          <p:nvPr/>
        </p:nvPicPr>
        <p:blipFill>
          <a:blip r:embed="rId2"/>
          <a:stretch/>
        </p:blipFill>
        <p:spPr>
          <a:xfrm>
            <a:off x="7093080" y="4581360"/>
            <a:ext cx="1439640" cy="1857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\\MICROSOF-05BCCC\User (D)\Семейная\Ирина\Анимашки\gallery_2_391_1303.gif"/>
          <p:cNvPicPr/>
          <p:nvPr/>
        </p:nvPicPr>
        <p:blipFill>
          <a:blip r:embed="rId3"/>
          <a:stretch/>
        </p:blipFill>
        <p:spPr>
          <a:xfrm>
            <a:off x="0" y="620640"/>
            <a:ext cx="1428840" cy="1571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50920" y="4653000"/>
            <a:ext cx="1600200" cy="2001960"/>
          </a:xfrm>
          <a:prstGeom prst="rect">
            <a:avLst/>
          </a:prstGeom>
          <a:ln w="12600">
            <a:solidFill>
              <a:srgbClr val="99ccff"/>
            </a:solidFill>
            <a:miter/>
          </a:ln>
        </p:spPr>
      </p:pic>
    </p:spTree>
  </p:cSld>
  <p:transition spd="slow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5640" y="-3779640"/>
            <a:ext cx="103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69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42920" y="1125360"/>
            <a:ext cx="712944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 профилактике </a:t>
            </a:r>
            <a:endParaRPr b="1" i="1" lang="en-US" sz="40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ИПРЕССИЙ у подростков </a:t>
            </a:r>
            <a:endParaRPr b="1" i="1" lang="en-US" sz="40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ажную роль играют </a:t>
            </a:r>
            <a:endParaRPr b="1" i="1" lang="en-US" sz="40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ОДИТЕЛИ!</a:t>
            </a:r>
            <a:endParaRPr b="1" i="1" lang="en-US" sz="40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5" descr="C:\Users\6920\Desktop\942071130fbb857d792c087e7687d792.gif"/>
          <p:cNvPicPr/>
          <p:nvPr/>
        </p:nvPicPr>
        <p:blipFill>
          <a:blip r:embed="rId2"/>
          <a:stretch/>
        </p:blipFill>
        <p:spPr>
          <a:xfrm>
            <a:off x="324000" y="0"/>
            <a:ext cx="1439640" cy="1871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364000" y="4365720"/>
            <a:ext cx="3384720" cy="2065320"/>
          </a:xfrm>
          <a:prstGeom prst="rect">
            <a:avLst/>
          </a:prstGeom>
          <a:ln w="15840">
            <a:solidFill>
              <a:srgbClr val="99ccff"/>
            </a:solidFill>
            <a:miter/>
          </a:ln>
        </p:spPr>
      </p:pic>
    </p:spTree>
  </p:cSld>
  <p:transition spd="slow"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-3806640"/>
            <a:ext cx="250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6000" y="1413000"/>
            <a:ext cx="802800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ccff"/>
                </a:solidFill>
                <a:latin typeface="Arial"/>
              </a:rPr>
              <a:t>Разговаривайте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 ребенком, задавайте ему вопросы о его состоянии, ведите беседы о будущем, </a:t>
            </a:r>
            <a:r>
              <a:rPr b="1" lang="ru-RU" sz="3000" spc="-1" strike="noStrike">
                <a:solidFill>
                  <a:srgbClr val="66ccff"/>
                </a:solidFill>
                <a:latin typeface="Arial"/>
              </a:rPr>
              <a:t>стройте планы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Займитесь с ребенком новыми делами, введите </a:t>
            </a:r>
            <a:r>
              <a:rPr b="1" lang="ru-RU" sz="3000" spc="-1" strike="noStrike">
                <a:solidFill>
                  <a:srgbClr val="66ccff"/>
                </a:solidFill>
                <a:latin typeface="Arial"/>
              </a:rPr>
              <a:t>разнообразие в обыденную жизн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16000" y="189000"/>
            <a:ext cx="3816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ЭТОМУ:</a:t>
            </a:r>
            <a:endParaRPr b="1" lang="en-US" sz="40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3" name="Рисунок 1" descr="http://im5-tub.yandex.net/i?id=88198637-12"/>
          <p:cNvPicPr/>
          <p:nvPr/>
        </p:nvPicPr>
        <p:blipFill>
          <a:blip r:embed="rId2"/>
          <a:stretch/>
        </p:blipFill>
        <p:spPr>
          <a:xfrm>
            <a:off x="5580000" y="4221000"/>
            <a:ext cx="3095640" cy="2232360"/>
          </a:xfrm>
          <a:prstGeom prst="rect">
            <a:avLst/>
          </a:prstGeom>
          <a:ln w="15840">
            <a:solidFill>
              <a:srgbClr val="99ccff"/>
            </a:solidFill>
            <a:miter/>
          </a:ln>
        </p:spPr>
      </p:pic>
      <p:pic>
        <p:nvPicPr>
          <p:cNvPr id="114" name="Picture 13" descr="\\MICROSOF-05BCCC\User (D)\Семейная\Ирина\Анимашки\gallery_2_391_4173.gif"/>
          <p:cNvPicPr/>
          <p:nvPr/>
        </p:nvPicPr>
        <p:blipFill>
          <a:blip r:embed="rId3"/>
          <a:stretch/>
        </p:blipFill>
        <p:spPr>
          <a:xfrm>
            <a:off x="0" y="836640"/>
            <a:ext cx="125892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-3877920"/>
            <a:ext cx="73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52280"/>
            <a:ext cx="788508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ростку необходимо соблюдать </a:t>
            </a: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режим дн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дно из самых важных качеств, которым должны обладать родители подростка – </a:t>
            </a: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наблюдательнос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16" descr="\\MICROSOF-05BCCC\User (D)\Семейная\Ирина\Анимашки\gallery_2_391_8617.gif"/>
          <p:cNvPicPr/>
          <p:nvPr/>
        </p:nvPicPr>
        <p:blipFill>
          <a:blip r:embed="rId2"/>
          <a:stretch/>
        </p:blipFill>
        <p:spPr>
          <a:xfrm>
            <a:off x="0" y="0"/>
            <a:ext cx="1428840" cy="2276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435640" y="4365720"/>
            <a:ext cx="2938320" cy="19429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p:transition spd="slow"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377964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7640" y="981000"/>
            <a:ext cx="73677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ccff"/>
                </a:solidFill>
                <a:latin typeface="Arial"/>
              </a:rPr>
              <a:t>Не осуждайт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ребенка, не критикуйте, </a:t>
            </a:r>
            <a:r>
              <a:rPr b="1" lang="ru-RU" sz="3000" spc="-1" strike="noStrike">
                <a:solidFill>
                  <a:srgbClr val="66ccff"/>
                </a:solidFill>
                <a:latin typeface="Arial"/>
              </a:rPr>
              <a:t>поддерживайт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любые успехи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азрешайте конфликты мирным путем. Не давайте волю слезам, крикам, угрозам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3" descr="\\MICROSOF-05BCCC\User (D)\Семейная\Ирина\Анимашки\gallery_2_391_5809.gif"/>
          <p:cNvPicPr/>
          <p:nvPr/>
        </p:nvPicPr>
        <p:blipFill>
          <a:blip r:embed="rId2"/>
          <a:stretch/>
        </p:blipFill>
        <p:spPr>
          <a:xfrm>
            <a:off x="0" y="0"/>
            <a:ext cx="1643040" cy="1916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867280" y="3933720"/>
            <a:ext cx="2575080" cy="242280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p:transition spd="slow"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11280" y="1557360"/>
            <a:ext cx="83534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7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Чаще используйте </a:t>
            </a:r>
            <a:r>
              <a:rPr b="1" lang="ru-RU" sz="2700" spc="-1" strike="noStrike">
                <a:solidFill>
                  <a:srgbClr val="66ccff"/>
                </a:solidFill>
                <a:latin typeface="Arial"/>
              </a:rPr>
              <a:t>приветливые фразы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. Например: "Мне хорошо с тобой", "Я рада тебя видеть", "Мне нравится, как ты...", "Я по тебе соскучилась", "Давай (посидим, поделаем...) вместе", "Ты, конечно, справишься", "Как хорошо, что ты у нас есть"..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3" descr="\\MICROSOF-05BCCC\User (D)\Семейная\Ирина\Анимашки\64 (1).gif"/>
          <p:cNvPicPr/>
          <p:nvPr/>
        </p:nvPicPr>
        <p:blipFill>
          <a:blip r:embed="rId2"/>
          <a:stretch/>
        </p:blipFill>
        <p:spPr>
          <a:xfrm>
            <a:off x="0" y="0"/>
            <a:ext cx="2268360" cy="16286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2" descr="http://www.sad1972.ru/images/risunok2.png"/>
          <p:cNvPicPr/>
          <p:nvPr/>
        </p:nvPicPr>
        <p:blipFill>
          <a:blip r:embed="rId3"/>
          <a:stretch/>
        </p:blipFill>
        <p:spPr>
          <a:xfrm>
            <a:off x="5076720" y="4365720"/>
            <a:ext cx="3240360" cy="2087640"/>
          </a:xfrm>
          <a:prstGeom prst="rect">
            <a:avLst/>
          </a:prstGeom>
          <a:ln w="15840">
            <a:solidFill>
              <a:srgbClr val="99ccff"/>
            </a:solidFill>
            <a:miter/>
          </a:ln>
        </p:spPr>
      </p:pic>
    </p:spTree>
  </p:cSld>
  <p:transition spd="slow"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11:02:16Z</dcterms:created>
  <dc:creator>Zver</dc:creator>
  <dc:description/>
  <dc:language>en-US</dc:language>
  <cp:lastModifiedBy>Завуч</cp:lastModifiedBy>
  <dcterms:modified xsi:type="dcterms:W3CDTF">2012-02-21T09:06:41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91049</vt:lpwstr>
  </property>
</Properties>
</file>