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20.jpeg" ContentType="image/jpeg"/>
  <Override PartName="/ppt/media/image17.gif" ContentType="image/gif"/>
  <Override PartName="/ppt/media/image18.png" ContentType="image/png"/>
  <Override PartName="/ppt/media/image15.gif" ContentType="image/gif"/>
  <Override PartName="/ppt/media/image14.jpeg" ContentType="image/jpeg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A24-2E20-42D9-B63D-3E557D0E0D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4A4-F94A-4A61-9D86-D9F6287D51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200-C81C-4A94-AEE8-91047428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5A5-FC5D-44D5-A8B7-ACF6BCD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44B-3279-4ABD-B5A2-F28EC1E3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737-A871-4827-91D2-FF36B6BF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8371-BD08-467C-BE75-89832895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A55C-99E4-4FAF-8628-40A5DA4B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CED5-48CB-496F-A6DB-42EF64D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84EF-BF2A-47C1-8061-E82D92B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10C8-0CD5-43EA-8D70-3770472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033-CDB4-4108-A4E4-E1F6CB61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DED-77BC-40DC-9BB8-ECAE8EA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A83-B687-4360-9A40-795C92B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219-B88E-483E-82F3-94C48B5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11DD-BC57-4693-9CB9-325FB05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A15-FF93-4DC3-9C4F-477769A4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8D0F-0D12-4EDA-9163-25E0C02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F111-1F39-4795-97C1-98444F52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CB4-D58E-4E60-B728-0F4E9B2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738-FF58-420D-A80A-DB32165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667-0670-471E-9772-BFAB7CB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D39-CA47-4CC3-AF83-3F22FB48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8B5-B4AD-46E4-8F76-D0A8E1E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AEA-F019-4B88-9AE0-04D3227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B6F-348D-4F12-95AE-0175DC48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768-842F-445C-B93E-FF9F3F0C45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6197-6DB4-4800-A5BE-6F4489C2DC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9040" y="-147312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6857640"/>
            <a:ext cx="640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146160" y="152280"/>
            <a:ext cx="4047840" cy="446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1989000"/>
            <a:ext cx="44769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ФИЛАКТИКА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ИЦИДОВ СРЕДИ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РОСТКОВ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18920" y="1143000"/>
            <a:ext cx="7296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Обнимайтес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! Не менее четырех, а лучше восьми раз в день. В проявлениях родительской ласки "взрослые" подростки порой нуждаются чаще, чем крохотные карапу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0" y="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022920" cy="223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943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Станьте старшим другом для своего ребенка, внимательным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и мудры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т простой совет может быть ключом к настоящей душевной близости с подростком, а значит, и к защите, его от деструктивных влияний современного ми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0" y="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\\MICROSOF-05BCCC\User (D)\Семейная\Ирина\Анимашки\155.gif"/>
          <p:cNvPicPr/>
          <p:nvPr/>
        </p:nvPicPr>
        <p:blipFill>
          <a:blip r:embed="rId3"/>
          <a:stretch/>
        </p:blipFill>
        <p:spPr>
          <a:xfrm>
            <a:off x="5786280" y="4724280"/>
            <a:ext cx="2673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2987640" y="292896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440" y="-3690720"/>
            <a:ext cx="1141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267920"/>
            <a:ext cx="857232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нарушением межличностных отношений, «одиночки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лоупотребляющие алкоголем, отличающиеся девиантным поведе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тяжным депрессивным состоя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ерхкритичные к себ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адающие от недавно испытавших унижений или трагических утрат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живающие за несоответствие между ожидавшимися успехами и реальными достижен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оциально-неблагополучных сем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емей, в которых были случаи суици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6948360" y="4869000"/>
            <a:ext cx="2016360" cy="172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7960" y="189000"/>
            <a:ext cx="858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"группе риска" относятся подростки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779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теря аппетита или импульсивное обжорство, бессонница или повышена сонливость в течение длительного време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астые жалобы на соматические недомог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обычно пренебрежительное отношение к своему внешнему ви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ое чувство одиночества, бесполезности, вины или гру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ход от контактов, изоляция от друзей и семь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груженность в размышления о смер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сутствие планов на будуще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незапные приступы гнева, зачастую возникающие из-за мелоч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89000"/>
            <a:ext cx="85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наки эмоциональных нарушений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2664000" cy="1368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259920"/>
            <a:ext cx="8137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Развитие подрост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начало поиска себя, своего уникального «Я». Это путь становления индивидуа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сихологии этот период времени называют периодом «брожения» психики, за  ним наступает период достаточной уверенности и равновесия. Этот период почти всегда бывает болезненным, это время проблем между детьми и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Поддержка семьи  вашему ребенку сейчас очень важна. Ему как никогда нужны ваше тепло и забота, понимание и доверие.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\\MICROSOF-05BCCC\User (D)\Семейная\Ирина\Анимашки\gallery_2_391_6820.gif"/>
          <p:cNvPicPr/>
          <p:nvPr/>
        </p:nvPicPr>
        <p:blipFill>
          <a:blip r:embed="rId2"/>
          <a:stretch/>
        </p:blipFill>
        <p:spPr>
          <a:xfrm>
            <a:off x="7093080" y="4581360"/>
            <a:ext cx="1439640" cy="18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\\MICROSOF-05BCCC\User (D)\Семейная\Ирина\Анимашки\gallery_2_391_1303.gif"/>
          <p:cNvPicPr/>
          <p:nvPr/>
        </p:nvPicPr>
        <p:blipFill>
          <a:blip r:embed="rId3"/>
          <a:stretch/>
        </p:blipFill>
        <p:spPr>
          <a:xfrm>
            <a:off x="0" y="620640"/>
            <a:ext cx="142884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1600200" cy="2001960"/>
          </a:xfrm>
          <a:prstGeom prst="rect">
            <a:avLst/>
          </a:prstGeom>
          <a:ln w="1260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-3779640"/>
            <a:ext cx="103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69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920" y="1125360"/>
            <a:ext cx="7129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ПРЕССИЙ у подростков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жную роль играют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ИТЕЛИ!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C:\Users\6920\Desktop\942071130fbb857d792c087e7687d792.gif"/>
          <p:cNvPicPr/>
          <p:nvPr/>
        </p:nvPicPr>
        <p:blipFill>
          <a:blip r:embed="rId2"/>
          <a:stretch/>
        </p:blipFill>
        <p:spPr>
          <a:xfrm>
            <a:off x="324000" y="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3384720" cy="206532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806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02800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говаривайте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ребенком, задавайте ему вопросы о его состоянии, ведите беседы о будущем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стройте план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ймитесь с ребенком новыми делами, введите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нообразие в обыденную жиз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6000" y="189000"/>
            <a:ext cx="38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ТОМУ:</a:t>
            </a:r>
            <a:endParaRPr b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Рисунок 1" descr="http://im5-tub.yandex.net/i?id=88198637-12"/>
          <p:cNvPicPr/>
          <p:nvPr/>
        </p:nvPicPr>
        <p:blipFill>
          <a:blip r:embed="rId2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  <p:pic>
        <p:nvPicPr>
          <p:cNvPr id="114" name="Picture 13" descr="\\MICROSOF-05BCCC\User (D)\Семейная\Ирина\Анимашки\gallery_2_391_4173.gif"/>
          <p:cNvPicPr/>
          <p:nvPr/>
        </p:nvPicPr>
        <p:blipFill>
          <a:blip r:embed="rId3"/>
          <a:stretch/>
        </p:blipFill>
        <p:spPr>
          <a:xfrm>
            <a:off x="0" y="836640"/>
            <a:ext cx="12589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-3877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88508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ростку необходимо соблюдать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режим дн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 из самых важных качеств, которым должны обладать родители подростка –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блюдательнос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0" y="0"/>
            <a:ext cx="1428840" cy="227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35640" y="4365720"/>
            <a:ext cx="2938320" cy="19429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981000"/>
            <a:ext cx="7367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Не осужд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ребенка, не критикуйте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поддержив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любые успех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\\MICROSOF-05BCCC\User (D)\Семейная\Ирина\Анимашки\gallery_2_391_5809.gif"/>
          <p:cNvPicPr/>
          <p:nvPr/>
        </p:nvPicPr>
        <p:blipFill>
          <a:blip r:embed="rId2"/>
          <a:stretch/>
        </p:blipFill>
        <p:spPr>
          <a:xfrm>
            <a:off x="0" y="0"/>
            <a:ext cx="1643040" cy="1916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2575080" cy="242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557360"/>
            <a:ext cx="835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Чаще используйте </a:t>
            </a:r>
            <a:r>
              <a:rPr b="1" lang="ru-RU" sz="2700" spc="-1" strike="noStrike">
                <a:solidFill>
                  <a:srgbClr val="66ccff"/>
                </a:solidFill>
                <a:latin typeface="Arial"/>
              </a:rPr>
              <a:t>приветливые фразы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0" y="0"/>
            <a:ext cx="2268360" cy="1628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http://www.sad1972.ru/images/risunok2.png"/>
          <p:cNvPicPr/>
          <p:nvPr/>
        </p:nvPicPr>
        <p:blipFill>
          <a:blip r:embed="rId3"/>
          <a:stretch/>
        </p:blipFill>
        <p:spPr>
          <a:xfrm>
            <a:off x="5076720" y="4365720"/>
            <a:ext cx="3240360" cy="208764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Завуч</cp:lastModifiedBy>
  <dcterms:modified xsi:type="dcterms:W3CDTF">2012-02-21T09:06:41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