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F5B-1F1F-4D92-AA0D-C5AAB375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0D0-9EF2-4FE7-9CF2-81E5B3E4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335-E4F5-43DD-9425-54A229DF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3B7-5E79-45FA-B8A6-9D3BEB60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52C2-8180-440F-977A-B376960E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2930-73A1-4969-9A3E-FC75577D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F275-1739-4293-A124-7453C268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78B9-4876-4D70-AF85-F6D17275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042B-522A-42AD-99F3-A672DC2F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BF10-1AFF-442A-9A9D-FAED50A1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1039-9CC4-4F6F-BB59-E679E6AE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8B1-B3D7-4793-8D36-6627F9BE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DFEC-FC41-4488-91B7-D151376C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DD24-D1ED-4A36-8573-3DB4F2C6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4415-512D-4C58-9FBE-38CD55D9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89C1-2784-45D1-9584-655FFFBB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6070-BA73-4122-A8F3-89CD368F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627FD-C3B5-485D-8B9D-B6B49145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C1BD7-9479-41AB-80D6-9A8CE830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CF25A-B87B-43D5-9640-AFF2CA65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334A-8106-4F2E-9C38-9B144938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73671-60CB-491F-B3DC-63830F8E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EAB-AD49-4A53-A871-0BE3CD6D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0B4D2-25B6-4BAF-993E-03A9F6D0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32A7B-2835-4BC4-BAD8-FCC99D83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13C78-C5CC-4AC5-9F96-9AC8FDEF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E2850-3AD8-4AD3-8AF5-2EE879E9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52A1-1416-4478-8D48-5AEFA071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F8213-BF53-4570-BC4E-9EDAB210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8F7C-B1B3-4116-AE88-D8FE62EF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20D1D-3992-497B-8D2A-AC8C537F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49754-C549-413A-AEF9-6FC73EBD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04F5-4814-4351-830A-71762B71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097-4307-4839-A100-64ED374E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98B4D-0560-465F-83E4-243BFDB8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2AFC3-CDA6-459E-A5CC-A62977A3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17E0C-1DDD-4894-8F00-67DB59C4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9AA04-047B-48D1-B808-F3AE8476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7BA4D-F4B8-4AA0-891C-3504E976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11A1D-2463-48C6-A2FA-DA6C44B4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0C3FE-FFF7-4845-956A-A30D91F3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BA029-2F02-4195-9174-157770AD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B878A-49D2-4F9F-8135-409335AC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A6ECA-3299-4D20-BDA0-F2CEE002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E4B-C9E7-45B2-BC16-81DAA339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2A522-68BE-4857-A4B7-8140CA37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AFF77-CFA9-4800-BF4C-A653296F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8E2DA-D31B-4E9F-8FDF-2B07BCE4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FA1C7-ADB3-4338-BC27-8CFC3CA9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3FE36-2592-4B04-8667-15F8A4EE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29868-0B99-4665-BE30-540D06FB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ACF05-1B59-4312-A4AA-5CC3D659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E9E6-6756-4247-B4BB-B84639A5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CD7F7-B5AF-40FA-998B-CF1275B4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B58D5-E3AF-4C6F-90B3-A68855B6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6A6-6F2B-4940-9EA8-E251AC0C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3ABC8-5283-4B09-9892-3270992E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D518C-7409-40D7-8B51-41AA0350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17F2B-17E7-4A0C-ADDD-0372E916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DC667-0F01-49AB-9B0B-CD5CE801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AD196-DF4B-4B34-9BEA-C616842E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9A3DF-4DA9-4BF7-A48E-C627F63A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0C2ED-2EEA-47EA-ACFB-A068CF5D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993D3-7DA4-485D-A6EF-4FB19C9C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999A4-204D-4EEF-A4A4-DF5908DE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FE396-B681-4DE4-A0D9-4891BA22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905-24B3-4BF6-9AE4-C2DBAEBE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46AFF-4389-4BE0-BCFF-307C962A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FB410-906B-456A-B3CA-6187815C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AEA22-4144-4972-84D1-B880099A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89E-29AB-45F4-830B-A6520D92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5CF-4DA1-4624-856F-CF9B3D97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0C66-A7C0-4B4B-A780-A5B5DAD35AE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4F18-803C-46F2-8C38-1691A640769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F01F-4A5C-4754-9AF0-F776AD69DD4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AB68-C6D6-439B-8743-586D2EDC965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A446-2240-4096-96AB-44A3408901E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7A95-93B8-4618-B5FA-3C07D3BBCF2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4" descr=""/>
          <p:cNvPicPr/>
          <p:nvPr/>
        </p:nvPicPr>
        <p:blipFill>
          <a:blip r:embed="rId1"/>
          <a:stretch/>
        </p:blipFill>
        <p:spPr>
          <a:xfrm>
            <a:off x="3481560" y="3333600"/>
            <a:ext cx="5046480" cy="16653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42960" y="10717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Английский язы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торой класс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Где находитс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2"/>
          <p:cNvSpPr/>
          <p:nvPr/>
        </p:nvSpPr>
        <p:spPr>
          <a:xfrm>
            <a:off x="1127520" y="1413000"/>
            <a:ext cx="1838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i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f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5310720" y="1557360"/>
            <a:ext cx="271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aw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ardrob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0" descr="http://i16.beon.ru/41/84/898441/72/26934672/0_14f85_10ef4adf_XL.jpeg"/>
          <p:cNvPicPr/>
          <p:nvPr/>
        </p:nvPicPr>
        <p:blipFill>
          <a:blip r:embed="rId1"/>
          <a:stretch/>
        </p:blipFill>
        <p:spPr>
          <a:xfrm>
            <a:off x="4788000" y="2492280"/>
            <a:ext cx="3959280" cy="2975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I:\2.МАРИНА\фотки\симба\IMG_2643.JPG"/>
          <p:cNvPicPr/>
          <p:nvPr/>
        </p:nvPicPr>
        <p:blipFill>
          <a:blip r:embed="rId2"/>
          <a:stretch/>
        </p:blipFill>
        <p:spPr>
          <a:xfrm>
            <a:off x="324000" y="184464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9"/>
          <p:cNvSpPr/>
          <p:nvPr/>
        </p:nvSpPr>
        <p:spPr>
          <a:xfrm>
            <a:off x="3858120" y="692280"/>
            <a:ext cx="11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://grandwallpapers.net/photo/novogodnii-kotenok-1280x800.jpg"/>
          <p:cNvPicPr/>
          <p:nvPr/>
        </p:nvPicPr>
        <p:blipFill>
          <a:blip r:embed="rId1"/>
          <a:srcRect l="4872" t="12985" r="10775" b="6472"/>
          <a:stretch/>
        </p:blipFill>
        <p:spPr>
          <a:xfrm>
            <a:off x="5003640" y="2781360"/>
            <a:ext cx="3624480" cy="2160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:\2.МАРИНА\фотки\симба\IMG_3352.JPG"/>
          <p:cNvPicPr/>
          <p:nvPr/>
        </p:nvPicPr>
        <p:blipFill>
          <a:blip r:embed="rId2"/>
          <a:stretch/>
        </p:blipFill>
        <p:spPr>
          <a:xfrm>
            <a:off x="539640" y="1844640"/>
            <a:ext cx="3908520" cy="29322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6"/>
          <p:cNvSpPr/>
          <p:nvPr/>
        </p:nvSpPr>
        <p:spPr>
          <a:xfrm>
            <a:off x="4001040" y="692280"/>
            <a:ext cx="85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http://s47.radikal.ru/i115/1011/05/52d4d64757c5t.jpg"/>
          <p:cNvPicPr/>
          <p:nvPr/>
        </p:nvPicPr>
        <p:blipFill>
          <a:blip r:embed="rId1"/>
          <a:stretch/>
        </p:blipFill>
        <p:spPr>
          <a:xfrm>
            <a:off x="2843280" y="404640"/>
            <a:ext cx="3438360" cy="47628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3432600" y="4941720"/>
            <a:ext cx="22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und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http://pik4ers.ucoz.net/_ph/2/559748391.jpg"/>
          <p:cNvPicPr/>
          <p:nvPr/>
        </p:nvPicPr>
        <p:blipFill>
          <a:blip r:embed="rId1"/>
          <a:srcRect l="19470" t="0" r="10775" b="0"/>
          <a:stretch/>
        </p:blipFill>
        <p:spPr>
          <a:xfrm>
            <a:off x="2411280" y="549360"/>
            <a:ext cx="4505400" cy="40320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3362760" y="4797360"/>
            <a:ext cx="267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behi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2649960" y="620640"/>
            <a:ext cx="39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ere is a c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10" descr="http://i16.beon.ru/41/84/898441/72/26934672/0_14f85_10ef4adf_XL.jpeg"/>
          <p:cNvPicPr/>
          <p:nvPr/>
        </p:nvPicPr>
        <p:blipFill>
          <a:blip r:embed="rId1"/>
          <a:stretch/>
        </p:blipFill>
        <p:spPr>
          <a:xfrm>
            <a:off x="539640" y="1844640"/>
            <a:ext cx="2521080" cy="1893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http://grandwallpapers.net/photo/novogodnii-kotenok-1280x800.jpg"/>
          <p:cNvPicPr/>
          <p:nvPr/>
        </p:nvPicPr>
        <p:blipFill>
          <a:blip r:embed="rId2"/>
          <a:srcRect l="4872" t="12985" r="10775" b="6472"/>
          <a:stretch/>
        </p:blipFill>
        <p:spPr>
          <a:xfrm>
            <a:off x="3419640" y="1268280"/>
            <a:ext cx="3624120" cy="2160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http://s47.radikal.ru/i115/1011/05/52d4d64757c5t.jpg"/>
          <p:cNvPicPr/>
          <p:nvPr/>
        </p:nvPicPr>
        <p:blipFill>
          <a:blip r:embed="rId3"/>
          <a:stretch/>
        </p:blipFill>
        <p:spPr>
          <a:xfrm>
            <a:off x="3203640" y="3489480"/>
            <a:ext cx="1927080" cy="2668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http://pik4ers.ucoz.net/_ph/2/559748391.jpg"/>
          <p:cNvPicPr/>
          <p:nvPr/>
        </p:nvPicPr>
        <p:blipFill>
          <a:blip r:embed="rId4"/>
          <a:srcRect l="19470" t="0" r="10775" b="0"/>
          <a:stretch/>
        </p:blipFill>
        <p:spPr>
          <a:xfrm>
            <a:off x="5580000" y="3500280"/>
            <a:ext cx="28162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Furnitu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7" name="Содержимое 5" descr="516.jpg"/>
          <p:cNvPicPr/>
          <p:nvPr/>
        </p:nvPicPr>
        <p:blipFill>
          <a:blip r:embed="rId1"/>
          <a:stretch/>
        </p:blipFill>
        <p:spPr>
          <a:xfrm>
            <a:off x="1285920" y="2143080"/>
            <a:ext cx="6858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http://www.re-e.ru/images/prez/5.JPG"/>
          <p:cNvPicPr/>
          <p:nvPr/>
        </p:nvPicPr>
        <p:blipFill>
          <a:blip r:embed="rId1"/>
          <a:stretch/>
        </p:blipFill>
        <p:spPr>
          <a:xfrm>
            <a:off x="324000" y="476280"/>
            <a:ext cx="85960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0" descr="http://www.kupi-krovat.ru/images/catalog_common/102025giant.jpg"/>
          <p:cNvPicPr/>
          <p:nvPr/>
        </p:nvPicPr>
        <p:blipFill>
          <a:blip r:embed="rId1"/>
          <a:stretch/>
        </p:blipFill>
        <p:spPr>
          <a:xfrm>
            <a:off x="1835280" y="1413000"/>
            <a:ext cx="5473440" cy="35114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7"/>
          <p:cNvSpPr/>
          <p:nvPr/>
        </p:nvSpPr>
        <p:spPr>
          <a:xfrm>
            <a:off x="4180680" y="5013360"/>
            <a:ext cx="216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sof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www.s-baby.ru/upload/1229.jpg"/>
          <p:cNvPicPr/>
          <p:nvPr/>
        </p:nvPicPr>
        <p:blipFill>
          <a:blip r:embed="rId1"/>
          <a:stretch/>
        </p:blipFill>
        <p:spPr>
          <a:xfrm>
            <a:off x="1908000" y="907920"/>
            <a:ext cx="5029200" cy="42195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2786040" y="50007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be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http://www.meb4u.ru/img/11750.jpg"/>
          <p:cNvPicPr/>
          <p:nvPr/>
        </p:nvPicPr>
        <p:blipFill>
          <a:blip r:embed="rId1"/>
          <a:stretch/>
        </p:blipFill>
        <p:spPr>
          <a:xfrm>
            <a:off x="2843280" y="476280"/>
            <a:ext cx="3641760" cy="49687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3007440" y="530064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wardrob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img-fotki.yandex.ru/get/5803/jlipeiton.3d0/0_5bdf2_176775c4_XL"/>
          <p:cNvPicPr/>
          <p:nvPr/>
        </p:nvPicPr>
        <p:blipFill>
          <a:blip r:embed="rId1"/>
          <a:srcRect l="0" t="10586" r="0" b="13818"/>
          <a:stretch/>
        </p:blipFill>
        <p:spPr>
          <a:xfrm>
            <a:off x="1979640" y="1123920"/>
            <a:ext cx="5238720" cy="39607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3"/>
          <p:cNvSpPr/>
          <p:nvPr/>
        </p:nvSpPr>
        <p:spPr>
          <a:xfrm>
            <a:off x="3432240" y="5084640"/>
            <a:ext cx="23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Arial"/>
              </a:rPr>
              <a:t>a tab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3"/>
          <p:cNvSpPr/>
          <p:nvPr/>
        </p:nvSpPr>
        <p:spPr>
          <a:xfrm>
            <a:off x="4945320" y="479736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Arial"/>
              </a:rPr>
              <a:t>a chai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6" descr="http://bimbo-toys.ru/img/p/164-325-thickbox.jpg"/>
          <p:cNvPicPr/>
          <p:nvPr/>
        </p:nvPicPr>
        <p:blipFill>
          <a:blip r:embed="rId1"/>
          <a:stretch/>
        </p:blipFill>
        <p:spPr>
          <a:xfrm>
            <a:off x="2556000" y="1052640"/>
            <a:ext cx="403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2987640" y="5157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draw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6" descr="http://s017.radikal.ru/i425/1111/e1/4f19b692d85b.jpg"/>
          <p:cNvPicPr/>
          <p:nvPr/>
        </p:nvPicPr>
        <p:blipFill>
          <a:blip r:embed="rId1"/>
          <a:stretch/>
        </p:blipFill>
        <p:spPr>
          <a:xfrm>
            <a:off x="2195640" y="692280"/>
            <a:ext cx="47624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m</dc:creator>
  <dc:description/>
  <dc:language>en-US</dc:language>
  <cp:lastModifiedBy>hm</cp:lastModifiedBy>
  <dcterms:modified xsi:type="dcterms:W3CDTF">2022-11-17T06:34:06Z</dcterms:modified>
  <cp:revision>36</cp:revision>
  <dc:subject/>
  <dc:title>Слайд 1</dc:title>
</cp:coreProperties>
</file>