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225F-62DD-4274-9353-DB1FA976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045-6F39-4450-AB78-DCD78ED8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9B01-2476-49EC-B527-A8DB9E33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48D3-F03E-42FC-9EE7-1AD552FE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9CE6-866F-4685-B50D-01E1028F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CDB6-88D2-4EC8-A8EF-5F8702D5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B9EC-5A00-46EF-B519-967F40B1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B851-8A8C-4A88-80D7-338C4024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C1B1-9248-44FB-819E-B1FD29D5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B18A-1EEA-4101-A288-36A7BE60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1950-B5B7-4C66-8B12-3A00F46A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EA77-00A2-4498-86A8-E12D6C8A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0A09-856A-4507-9689-CA1FA653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FCB4-360E-470B-A171-A6C98C45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D702-0372-438A-855B-EA4633D5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0C56-4518-44C5-BC97-CC21A6F1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33A4-1E8D-4E5D-A67D-017306F1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17760-8D66-47CA-B9DB-CA375E08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1C7D8-72AD-490E-9334-D4E70BCE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4FB7F-CF65-4FDC-A35C-74AF197A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E4D8E-BF7B-4C68-A3DE-4107B5D3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C8749-6115-46D3-85F6-D6B3AB3E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888-668E-4185-A625-E34A7DF4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82D31-D8D4-432F-BD3B-4F955D81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A5800-17EE-461E-82EA-DB2D15A4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E7F91-4704-466A-8357-27A3A785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5631E-A101-4AC4-B8A3-20867EF9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83487-3811-421C-BDC1-D62E54F6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5C2EE-E5CF-4462-B633-6A79300A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C62D-6156-4BB4-9A68-D4292D56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3DFF7-AEF4-4703-A3C8-87497618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0A73B-12FD-4EB1-955B-22DDAF7A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078D6-B51B-4BD1-996C-A19D783B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0CD9-872A-4B13-85C6-3D615A96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F9146-8CE3-4354-A36D-4DF618B4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DA4E1-0959-4FE1-AB23-B99C50C2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47862-92F6-4ABF-8406-00742A63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87E9E-E3A2-4310-9941-F12F225D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90927-3747-42BC-8B64-EEBD89D6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FDCE3-B95B-4F05-A473-C5CA152D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05962-7195-4731-B025-B9BDA051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ECE4F-9608-4CDB-AAAD-78A9FB21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0F458-9079-4454-9C04-3C9B34EA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3DCBE-02EF-4A38-87B1-EABE8224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F0AB-C072-4429-AEDB-26A078FB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D706E-EB55-4CFA-90D2-971748F4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1D04E-08CF-40BE-A509-6FBF4C3F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2462E-5D62-4509-881C-12306957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94CCB-1755-42DB-A0A4-AFBB12F3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B0739-C682-44A2-84E3-BB53D920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7DB1D-59E2-49A8-8031-CFC336A8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AAD71-7F7C-4DB9-940A-E1C5E22D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EFF20-DEBF-438C-AD07-D49CB6B6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E3AA3-1D89-4602-9206-CDFF9E84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77145-24FD-4314-8F0F-6774DAA0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2843-B0FB-4773-B987-656E4046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5DC4F-6931-4B96-9A93-AB768832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EA634-D558-40FC-B9BA-692F1C7B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7D93E-F553-4944-9ECA-E69CC396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961CB-1BD3-4575-99F0-9CDF3EC8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F9FF4-FE43-4AE6-88FB-50CEC7E4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BE234-8C10-45F7-B864-4F4DD9AA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80D8D-5E48-4A8D-B234-90EB0B94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F069C-EE37-46C8-8674-5BD9CC45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52763-E3BD-4534-B6A5-847FD5BD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B2710-88C8-400E-AC40-78152A1D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9D50-6600-474B-865A-DEC0915B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BDA5F-8CE7-4453-BADF-8A0240DF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17ED9-BFB0-4CA2-9762-07828842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904E8-92C9-4A43-A42B-69DA98CC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871F-0BB3-4140-842D-3A3C9EFA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BF47-3818-4CCA-97E4-32A6BA98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7584-96A1-4F0C-985F-830C4353FFF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28E3-9FD9-4243-8FF3-94B7366CB0F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A164-B12F-4D14-A3C9-E8D29C4C065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191D-6609-4E73-B8D2-31381165523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EE8C-A67B-43EE-B5FA-4517F050E83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1966-E64E-49BD-B25C-A2856489526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4" descr=""/>
          <p:cNvPicPr/>
          <p:nvPr/>
        </p:nvPicPr>
        <p:blipFill>
          <a:blip r:embed="rId1"/>
          <a:stretch/>
        </p:blipFill>
        <p:spPr>
          <a:xfrm>
            <a:off x="3481560" y="3333600"/>
            <a:ext cx="5046480" cy="16653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42960" y="10717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Английский язык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торой класс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Где находитс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2"/>
          <p:cNvSpPr/>
          <p:nvPr/>
        </p:nvSpPr>
        <p:spPr>
          <a:xfrm>
            <a:off x="1127520" y="1413000"/>
            <a:ext cx="1838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i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f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5310720" y="1557360"/>
            <a:ext cx="271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o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raw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ardrob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0" descr="http://i16.beon.ru/41/84/898441/72/26934672/0_14f85_10ef4adf_XL.jpeg"/>
          <p:cNvPicPr/>
          <p:nvPr/>
        </p:nvPicPr>
        <p:blipFill>
          <a:blip r:embed="rId1"/>
          <a:stretch/>
        </p:blipFill>
        <p:spPr>
          <a:xfrm>
            <a:off x="4788000" y="2492280"/>
            <a:ext cx="3959280" cy="2975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1" descr="I:\2.МАРИНА\фотки\симба\IMG_2643.JPG"/>
          <p:cNvPicPr/>
          <p:nvPr/>
        </p:nvPicPr>
        <p:blipFill>
          <a:blip r:embed="rId2"/>
          <a:stretch/>
        </p:blipFill>
        <p:spPr>
          <a:xfrm>
            <a:off x="324000" y="184464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9"/>
          <p:cNvSpPr/>
          <p:nvPr/>
        </p:nvSpPr>
        <p:spPr>
          <a:xfrm>
            <a:off x="3858120" y="692280"/>
            <a:ext cx="111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http://grandwallpapers.net/photo/novogodnii-kotenok-1280x800.jpg"/>
          <p:cNvPicPr/>
          <p:nvPr/>
        </p:nvPicPr>
        <p:blipFill>
          <a:blip r:embed="rId1"/>
          <a:srcRect l="4872" t="12985" r="10775" b="6472"/>
          <a:stretch/>
        </p:blipFill>
        <p:spPr>
          <a:xfrm>
            <a:off x="5003640" y="2781360"/>
            <a:ext cx="3624480" cy="2160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:\2.МАРИНА\фотки\симба\IMG_3352.JPG"/>
          <p:cNvPicPr/>
          <p:nvPr/>
        </p:nvPicPr>
        <p:blipFill>
          <a:blip r:embed="rId2"/>
          <a:stretch/>
        </p:blipFill>
        <p:spPr>
          <a:xfrm>
            <a:off x="539640" y="1844640"/>
            <a:ext cx="3908520" cy="29322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6"/>
          <p:cNvSpPr/>
          <p:nvPr/>
        </p:nvSpPr>
        <p:spPr>
          <a:xfrm>
            <a:off x="4001040" y="692280"/>
            <a:ext cx="85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6" descr="http://s47.radikal.ru/i115/1011/05/52d4d64757c5t.jpg"/>
          <p:cNvPicPr/>
          <p:nvPr/>
        </p:nvPicPr>
        <p:blipFill>
          <a:blip r:embed="rId1"/>
          <a:stretch/>
        </p:blipFill>
        <p:spPr>
          <a:xfrm>
            <a:off x="2843280" y="404640"/>
            <a:ext cx="3438360" cy="4762800"/>
          </a:xfrm>
          <a:prstGeom prst="rect">
            <a:avLst/>
          </a:prstGeom>
          <a:ln w="0">
            <a:noFill/>
          </a:ln>
        </p:spPr>
      </p:pic>
      <p:sp>
        <p:nvSpPr>
          <p:cNvPr id="281" name="TextBox 6"/>
          <p:cNvSpPr/>
          <p:nvPr/>
        </p:nvSpPr>
        <p:spPr>
          <a:xfrm>
            <a:off x="3432600" y="4941720"/>
            <a:ext cx="22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unde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8" descr="http://pik4ers.ucoz.net/_ph/2/559748391.jpg"/>
          <p:cNvPicPr/>
          <p:nvPr/>
        </p:nvPicPr>
        <p:blipFill>
          <a:blip r:embed="rId1"/>
          <a:srcRect l="19470" t="0" r="10775" b="0"/>
          <a:stretch/>
        </p:blipFill>
        <p:spPr>
          <a:xfrm>
            <a:off x="2411280" y="549360"/>
            <a:ext cx="4505400" cy="40320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5"/>
          <p:cNvSpPr/>
          <p:nvPr/>
        </p:nvSpPr>
        <p:spPr>
          <a:xfrm>
            <a:off x="3362760" y="4797360"/>
            <a:ext cx="267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behi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2649960" y="620640"/>
            <a:ext cx="390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ere is a c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10" descr="http://i16.beon.ru/41/84/898441/72/26934672/0_14f85_10ef4adf_XL.jpeg"/>
          <p:cNvPicPr/>
          <p:nvPr/>
        </p:nvPicPr>
        <p:blipFill>
          <a:blip r:embed="rId1"/>
          <a:stretch/>
        </p:blipFill>
        <p:spPr>
          <a:xfrm>
            <a:off x="539640" y="1844640"/>
            <a:ext cx="2521080" cy="1893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http://grandwallpapers.net/photo/novogodnii-kotenok-1280x800.jpg"/>
          <p:cNvPicPr/>
          <p:nvPr/>
        </p:nvPicPr>
        <p:blipFill>
          <a:blip r:embed="rId2"/>
          <a:srcRect l="4872" t="12985" r="10775" b="6472"/>
          <a:stretch/>
        </p:blipFill>
        <p:spPr>
          <a:xfrm>
            <a:off x="3419640" y="1268280"/>
            <a:ext cx="3624120" cy="2160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http://s47.radikal.ru/i115/1011/05/52d4d64757c5t.jpg"/>
          <p:cNvPicPr/>
          <p:nvPr/>
        </p:nvPicPr>
        <p:blipFill>
          <a:blip r:embed="rId3"/>
          <a:stretch/>
        </p:blipFill>
        <p:spPr>
          <a:xfrm>
            <a:off x="3203640" y="3489480"/>
            <a:ext cx="1927080" cy="2668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http://pik4ers.ucoz.net/_ph/2/559748391.jpg"/>
          <p:cNvPicPr/>
          <p:nvPr/>
        </p:nvPicPr>
        <p:blipFill>
          <a:blip r:embed="rId4"/>
          <a:srcRect l="19470" t="0" r="10775" b="0"/>
          <a:stretch/>
        </p:blipFill>
        <p:spPr>
          <a:xfrm>
            <a:off x="5580000" y="3500280"/>
            <a:ext cx="28162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Franklin Gothic Book"/>
              </a:rPr>
              <a:t>Furnitur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7" name="Содержимое 5" descr="516.jpg"/>
          <p:cNvPicPr/>
          <p:nvPr/>
        </p:nvPicPr>
        <p:blipFill>
          <a:blip r:embed="rId1"/>
          <a:stretch/>
        </p:blipFill>
        <p:spPr>
          <a:xfrm>
            <a:off x="1285920" y="2143080"/>
            <a:ext cx="6858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http://www.re-e.ru/images/prez/5.JPG"/>
          <p:cNvPicPr/>
          <p:nvPr/>
        </p:nvPicPr>
        <p:blipFill>
          <a:blip r:embed="rId1"/>
          <a:stretch/>
        </p:blipFill>
        <p:spPr>
          <a:xfrm>
            <a:off x="324000" y="476280"/>
            <a:ext cx="85960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0" descr="http://www.kupi-krovat.ru/images/catalog_common/102025giant.jpg"/>
          <p:cNvPicPr/>
          <p:nvPr/>
        </p:nvPicPr>
        <p:blipFill>
          <a:blip r:embed="rId1"/>
          <a:stretch/>
        </p:blipFill>
        <p:spPr>
          <a:xfrm>
            <a:off x="1835280" y="1413000"/>
            <a:ext cx="5473440" cy="35114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7"/>
          <p:cNvSpPr/>
          <p:nvPr/>
        </p:nvSpPr>
        <p:spPr>
          <a:xfrm>
            <a:off x="4180680" y="5013360"/>
            <a:ext cx="216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sof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http://www.s-baby.ru/upload/1229.jpg"/>
          <p:cNvPicPr/>
          <p:nvPr/>
        </p:nvPicPr>
        <p:blipFill>
          <a:blip r:embed="rId1"/>
          <a:stretch/>
        </p:blipFill>
        <p:spPr>
          <a:xfrm>
            <a:off x="1908000" y="907920"/>
            <a:ext cx="5029200" cy="42195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3"/>
          <p:cNvSpPr/>
          <p:nvPr/>
        </p:nvSpPr>
        <p:spPr>
          <a:xfrm>
            <a:off x="2786040" y="50007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be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http://www.meb4u.ru/img/11750.jpg"/>
          <p:cNvPicPr/>
          <p:nvPr/>
        </p:nvPicPr>
        <p:blipFill>
          <a:blip r:embed="rId1"/>
          <a:stretch/>
        </p:blipFill>
        <p:spPr>
          <a:xfrm>
            <a:off x="2843280" y="476280"/>
            <a:ext cx="3641760" cy="496872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3007440" y="530064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wardrob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http://img-fotki.yandex.ru/get/5803/jlipeiton.3d0/0_5bdf2_176775c4_XL"/>
          <p:cNvPicPr/>
          <p:nvPr/>
        </p:nvPicPr>
        <p:blipFill>
          <a:blip r:embed="rId1"/>
          <a:srcRect l="0" t="10586" r="0" b="13818"/>
          <a:stretch/>
        </p:blipFill>
        <p:spPr>
          <a:xfrm>
            <a:off x="1979640" y="1123920"/>
            <a:ext cx="5238720" cy="39607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3"/>
          <p:cNvSpPr/>
          <p:nvPr/>
        </p:nvSpPr>
        <p:spPr>
          <a:xfrm>
            <a:off x="3432240" y="5084640"/>
            <a:ext cx="23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Arial"/>
              </a:rPr>
              <a:t>a tab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3"/>
          <p:cNvSpPr/>
          <p:nvPr/>
        </p:nvSpPr>
        <p:spPr>
          <a:xfrm>
            <a:off x="4945320" y="479736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Arial"/>
              </a:rPr>
              <a:t>a chai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16" descr="http://bimbo-toys.ru/img/p/164-325-thickbox.jpg"/>
          <p:cNvPicPr/>
          <p:nvPr/>
        </p:nvPicPr>
        <p:blipFill>
          <a:blip r:embed="rId1"/>
          <a:stretch/>
        </p:blipFill>
        <p:spPr>
          <a:xfrm>
            <a:off x="2556000" y="1052640"/>
            <a:ext cx="4032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3"/>
          <p:cNvSpPr/>
          <p:nvPr/>
        </p:nvSpPr>
        <p:spPr>
          <a:xfrm>
            <a:off x="2987640" y="515772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draw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6" descr="http://s017.radikal.ru/i425/1111/e1/4f19b692d85b.jpg"/>
          <p:cNvPicPr/>
          <p:nvPr/>
        </p:nvPicPr>
        <p:blipFill>
          <a:blip r:embed="rId1"/>
          <a:stretch/>
        </p:blipFill>
        <p:spPr>
          <a:xfrm>
            <a:off x="2195640" y="692280"/>
            <a:ext cx="47624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m</dc:creator>
  <dc:description/>
  <dc:language>en-US</dc:language>
  <cp:lastModifiedBy>hm</cp:lastModifiedBy>
  <dcterms:modified xsi:type="dcterms:W3CDTF">2022-11-17T06:34:06Z</dcterms:modified>
  <cp:revision>36</cp:revision>
  <dc:subject/>
  <dc:title>Слайд 1</dc:title>
</cp:coreProperties>
</file>