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08D-1696-476B-8107-DB9A755E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41B-359E-4CC0-8AA4-1EF520F6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211-25DD-4B11-948B-8AE4E252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AB6-3DB4-4E46-92AA-3195DEF1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38EE-6DF6-46A0-B6EA-24369C6F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EA7B-ADBC-4BE9-AFA3-EDFD8819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C65-10E4-4E7F-8A46-37390F4E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3FB3-0E2C-42AF-BFDE-A04DD0EB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C223-4FCE-4B50-ACFC-F9A47552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746A-A783-47C0-BB5C-CDB28D3B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A9CB-DFDC-42D8-AFC1-EFE27256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371-D5AC-4B32-9AC9-27219477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69FA-C391-47D3-879F-276EA5A7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A87C-6712-431F-9E75-F76CA47E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D991-D8F7-4A70-91B8-E8C09CA1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B19D-F52C-4204-A2D6-921BFA2B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AAD3-558F-44D8-A0FA-EF71B7FA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9939-8663-4043-9464-D4B97367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107E-1249-4FDB-A691-1E3F93B4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D6D46-97B8-41A5-B4CF-037490D5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24F5-AC60-4E38-99B6-7F899ED3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91EF-F1B0-431A-9B5E-9B9D6139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51E-68E0-48DD-A1C2-9826C9FD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201B-EC81-4554-8BE6-560B75AA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D2D0-B872-4608-ADCF-EE02DCA5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F844-E998-4C47-9A72-E0B84DF7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F168-A88F-42CE-9967-EC7D1B59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6299-9E1E-4C8D-B997-5D94F8F2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BE30-BFCD-4FA1-9DAF-93D61D22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97C5-F1F5-4773-90A0-5D856035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EF32-8FD7-4BF0-ADAF-0F755191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2A72-0E44-4BA9-A1C3-CD9A3644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D4F2A-9B4D-4A11-8A9C-FEAF9769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33B-83C3-4431-BA6F-0D37C4C5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8586-2447-41E0-838F-02EDF559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5BAF-8206-4F3E-83AC-9F2F27D6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D6A3-82F6-496C-88D5-6F8AAE8D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D9AD-F956-4D92-A1E6-72369FDC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E2DD-01DD-4D07-A99D-BD34BE1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CDD7-2639-4495-921A-77D1D68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B9F2A-01BD-4D34-BED3-B2FCA864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990B-0A55-4695-96D0-DEAE6394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223B-5C6F-4C2D-B15E-2D0D0C66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F222-D2B4-4E02-9E58-3E01DFFE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9AA-483A-4CFE-84FA-54B1F1A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30A7E-35F9-4077-85C7-F0D3751E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EBBE-31DC-4E41-AC7C-6655E45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FDEEA-6305-4C8F-92DB-FBAFFD08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5D189-49B7-4EDE-9A74-2D31E1A8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A1111-D3E8-41DC-B09F-63E492B4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BDE28-07B5-4C46-AF25-449D008C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2EDBF-2F64-413E-A6E2-B00F5DB1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8F63A-58CF-4B14-BD3C-19160B2A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75916-206F-4E83-9146-2B157CBD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8A350-8669-4335-8647-975E8B29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E31-4204-4F37-B024-86BFDFC4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8C61-407C-4270-BE5E-77002B77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58008-84DD-45CC-9610-944FA977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D2EF-B5D4-4247-810D-D5553B2D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69BA-7E00-49BE-8918-0C29A96C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CCEF7-C306-4B7E-9ABE-121D92DE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A19D-45C9-4ADE-AE26-D4532F5E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DC04-4147-4D11-8D1E-E2C309A3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C4317-AC97-46C0-8080-F7861857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57CEA-BCDE-4B04-979C-91248E92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9EAE4-4039-4554-B03E-21569D28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3D2-E00C-421F-B360-CBCFFEF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08F47-D2E1-4D7C-9F81-0E826B07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0EEE8-0999-41D7-9090-91DCEDE4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DBCA5-64CB-432B-A540-B99232FD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6A0-E540-4E51-A999-115DD1A0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498-E7F8-4CDB-828A-EC6CE8B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968B-B876-470D-B9E6-773FC3C457F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6C77-CA7D-4DBD-8053-BB439EF305F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0728-E2F1-41E3-804F-8584B4A549E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12E3-F369-4FC7-A36A-3411F77ACFB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E950-F91D-4820-8F5A-8F304FCDA94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71FB-2792-4EE0-B82F-FFA5A9D437A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4" descr=""/>
          <p:cNvPicPr/>
          <p:nvPr/>
        </p:nvPicPr>
        <p:blipFill>
          <a:blip r:embed="rId1"/>
          <a:stretch/>
        </p:blipFill>
        <p:spPr>
          <a:xfrm>
            <a:off x="3481560" y="3333600"/>
            <a:ext cx="5046480" cy="1665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42960" y="10717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нглийский язы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торой клас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Где находитс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1127520" y="1413000"/>
            <a:ext cx="1838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f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310720" y="1557360"/>
            <a:ext cx="271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aw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rdrob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" descr="http://i16.beon.ru/41/84/898441/72/26934672/0_14f85_10ef4adf_XL.jpeg"/>
          <p:cNvPicPr/>
          <p:nvPr/>
        </p:nvPicPr>
        <p:blipFill>
          <a:blip r:embed="rId1"/>
          <a:stretch/>
        </p:blipFill>
        <p:spPr>
          <a:xfrm>
            <a:off x="4788000" y="2492280"/>
            <a:ext cx="3959280" cy="2975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I:\2.МАРИНА\фотки\симба\IMG_2643.JPG"/>
          <p:cNvPicPr/>
          <p:nvPr/>
        </p:nvPicPr>
        <p:blipFill>
          <a:blip r:embed="rId2"/>
          <a:stretch/>
        </p:blipFill>
        <p:spPr>
          <a:xfrm>
            <a:off x="324000" y="184464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3858120" y="692280"/>
            <a:ext cx="11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grandwallpapers.net/photo/novogodnii-kotenok-1280x800.jpg"/>
          <p:cNvPicPr/>
          <p:nvPr/>
        </p:nvPicPr>
        <p:blipFill>
          <a:blip r:embed="rId1"/>
          <a:srcRect l="4872" t="12985" r="10775" b="6472"/>
          <a:stretch/>
        </p:blipFill>
        <p:spPr>
          <a:xfrm>
            <a:off x="5003640" y="2781360"/>
            <a:ext cx="3624480" cy="2160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:\2.МАРИНА\фотки\симба\IMG_3352.JPG"/>
          <p:cNvPicPr/>
          <p:nvPr/>
        </p:nvPicPr>
        <p:blipFill>
          <a:blip r:embed="rId2"/>
          <a:stretch/>
        </p:blipFill>
        <p:spPr>
          <a:xfrm>
            <a:off x="539640" y="1844640"/>
            <a:ext cx="3908520" cy="29322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4001040" y="69228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http://s47.radikal.ru/i115/1011/05/52d4d64757c5t.jpg"/>
          <p:cNvPicPr/>
          <p:nvPr/>
        </p:nvPicPr>
        <p:blipFill>
          <a:blip r:embed="rId1"/>
          <a:stretch/>
        </p:blipFill>
        <p:spPr>
          <a:xfrm>
            <a:off x="2843280" y="404640"/>
            <a:ext cx="3438360" cy="47628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3432600" y="4941720"/>
            <a:ext cx="22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und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http://pik4ers.ucoz.net/_ph/2/559748391.jpg"/>
          <p:cNvPicPr/>
          <p:nvPr/>
        </p:nvPicPr>
        <p:blipFill>
          <a:blip r:embed="rId1"/>
          <a:srcRect l="19470" t="0" r="10775" b="0"/>
          <a:stretch/>
        </p:blipFill>
        <p:spPr>
          <a:xfrm>
            <a:off x="2411280" y="549360"/>
            <a:ext cx="4505400" cy="4032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3362760" y="4797360"/>
            <a:ext cx="26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ehi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2649960" y="620640"/>
            <a:ext cx="39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ere is a c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0" descr="http://i16.beon.ru/41/84/898441/72/26934672/0_14f85_10ef4adf_XL.jpeg"/>
          <p:cNvPicPr/>
          <p:nvPr/>
        </p:nvPicPr>
        <p:blipFill>
          <a:blip r:embed="rId1"/>
          <a:stretch/>
        </p:blipFill>
        <p:spPr>
          <a:xfrm>
            <a:off x="539640" y="1844640"/>
            <a:ext cx="2521080" cy="1893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ttp://grandwallpapers.net/photo/novogodnii-kotenok-1280x800.jpg"/>
          <p:cNvPicPr/>
          <p:nvPr/>
        </p:nvPicPr>
        <p:blipFill>
          <a:blip r:embed="rId2"/>
          <a:srcRect l="4872" t="12985" r="10775" b="6472"/>
          <a:stretch/>
        </p:blipFill>
        <p:spPr>
          <a:xfrm>
            <a:off x="3419640" y="1268280"/>
            <a:ext cx="3624120" cy="2160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http://s47.radikal.ru/i115/1011/05/52d4d64757c5t.jpg"/>
          <p:cNvPicPr/>
          <p:nvPr/>
        </p:nvPicPr>
        <p:blipFill>
          <a:blip r:embed="rId3"/>
          <a:stretch/>
        </p:blipFill>
        <p:spPr>
          <a:xfrm>
            <a:off x="3203640" y="3489480"/>
            <a:ext cx="1927080" cy="2668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http://pik4ers.ucoz.net/_ph/2/559748391.jpg"/>
          <p:cNvPicPr/>
          <p:nvPr/>
        </p:nvPicPr>
        <p:blipFill>
          <a:blip r:embed="rId4"/>
          <a:srcRect l="19470" t="0" r="10775" b="0"/>
          <a:stretch/>
        </p:blipFill>
        <p:spPr>
          <a:xfrm>
            <a:off x="5580000" y="3500280"/>
            <a:ext cx="2816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Furnitu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Содержимое 5" descr="516.jpg"/>
          <p:cNvPicPr/>
          <p:nvPr/>
        </p:nvPicPr>
        <p:blipFill>
          <a:blip r:embed="rId1"/>
          <a:stretch/>
        </p:blipFill>
        <p:spPr>
          <a:xfrm>
            <a:off x="1285920" y="2143080"/>
            <a:ext cx="6858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http://www.re-e.ru/images/prez/5.JPG"/>
          <p:cNvPicPr/>
          <p:nvPr/>
        </p:nvPicPr>
        <p:blipFill>
          <a:blip r:embed="rId1"/>
          <a:stretch/>
        </p:blipFill>
        <p:spPr>
          <a:xfrm>
            <a:off x="324000" y="476280"/>
            <a:ext cx="8596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0" descr="http://www.kupi-krovat.ru/images/catalog_common/102025giant.jpg"/>
          <p:cNvPicPr/>
          <p:nvPr/>
        </p:nvPicPr>
        <p:blipFill>
          <a:blip r:embed="rId1"/>
          <a:stretch/>
        </p:blipFill>
        <p:spPr>
          <a:xfrm>
            <a:off x="1835280" y="1413000"/>
            <a:ext cx="5473440" cy="3511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4180680" y="501336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sof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www.s-baby.ru/upload/1229.jpg"/>
          <p:cNvPicPr/>
          <p:nvPr/>
        </p:nvPicPr>
        <p:blipFill>
          <a:blip r:embed="rId1"/>
          <a:stretch/>
        </p:blipFill>
        <p:spPr>
          <a:xfrm>
            <a:off x="1908000" y="907920"/>
            <a:ext cx="5029200" cy="42195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2786040" y="50007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be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www.meb4u.ru/img/11750.jpg"/>
          <p:cNvPicPr/>
          <p:nvPr/>
        </p:nvPicPr>
        <p:blipFill>
          <a:blip r:embed="rId1"/>
          <a:stretch/>
        </p:blipFill>
        <p:spPr>
          <a:xfrm>
            <a:off x="2843280" y="476280"/>
            <a:ext cx="3641760" cy="49687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3007440" y="530064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wardrob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img-fotki.yandex.ru/get/5803/jlipeiton.3d0/0_5bdf2_176775c4_XL"/>
          <p:cNvPicPr/>
          <p:nvPr/>
        </p:nvPicPr>
        <p:blipFill>
          <a:blip r:embed="rId1"/>
          <a:srcRect l="0" t="10586" r="0" b="13818"/>
          <a:stretch/>
        </p:blipFill>
        <p:spPr>
          <a:xfrm>
            <a:off x="1979640" y="1123920"/>
            <a:ext cx="5238720" cy="39607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3432240" y="508464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a tab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3"/>
          <p:cNvSpPr/>
          <p:nvPr/>
        </p:nvSpPr>
        <p:spPr>
          <a:xfrm>
            <a:off x="4945320" y="479736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a chai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6" descr="http://bimbo-toys.ru/img/p/164-325-thickbox.jpg"/>
          <p:cNvPicPr/>
          <p:nvPr/>
        </p:nvPicPr>
        <p:blipFill>
          <a:blip r:embed="rId1"/>
          <a:stretch/>
        </p:blipFill>
        <p:spPr>
          <a:xfrm>
            <a:off x="2556000" y="1052640"/>
            <a:ext cx="403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2987640" y="5157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draw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6" descr="http://s017.radikal.ru/i425/1111/e1/4f19b692d85b.jpg"/>
          <p:cNvPicPr/>
          <p:nvPr/>
        </p:nvPicPr>
        <p:blipFill>
          <a:blip r:embed="rId1"/>
          <a:stretch/>
        </p:blipFill>
        <p:spPr>
          <a:xfrm>
            <a:off x="2195640" y="692280"/>
            <a:ext cx="4762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m</dc:creator>
  <dc:description/>
  <dc:language>en-US</dc:language>
  <cp:lastModifiedBy>hm</cp:lastModifiedBy>
  <dcterms:modified xsi:type="dcterms:W3CDTF">2022-11-17T06:34:06Z</dcterms:modified>
  <cp:revision>36</cp:revision>
  <dc:subject/>
  <dc:title>Слайд 1</dc:title>
</cp:coreProperties>
</file>