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866-0D0A-464C-A640-A4A75E79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CF1-5C1C-44B8-AC3A-941C0326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FD7-8AD5-44B9-A1D3-AABCF705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266-5DFA-4EC4-B501-34E491BD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9F43-5B4A-4562-9E1D-C6B00FE2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9366-95C0-4B5D-AAD7-1059A4D2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30E8-3A5D-46D6-9F81-31CD4E95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AE42-1798-463E-87C9-F6D7ECFF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FBD3-6BB7-41B0-B16A-7D43F7A1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4E7A-B8BC-4538-BD5A-65BB0596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AB21-F97D-4132-B3D9-F3A63A1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6F2-4214-4785-8FCA-CBD2CFED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531B-9525-4EC0-9296-654753DF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08CD-97D1-478D-A57C-6140F16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041C-5F33-4A1C-B5B4-B6CFF536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F209-5999-4CF8-A6BF-92941380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229E-FDB7-4758-AB08-512E875B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069CE-3FF0-404D-BC99-F721679A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2815A-C08E-4444-AD85-D77E4895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7ADC6-113D-4D01-ABBF-3CBA958C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7BB8F-C3B7-4B5E-BBD6-E9955D89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683F8-F8D2-43B3-B3EE-BEFEF0BD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28A-E9EF-469C-AB8B-78CF7626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AB74F-709F-48D2-B732-46301C7F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CE0E9-8FF4-4C89-9946-3A4DD812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21031-3ACF-47A2-8BDB-137A92B4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2AE45-369A-4B35-BC92-ACD6D648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B8B51-673B-42DA-9E89-6A8BC4D5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AE9D0-1EB9-4049-8602-C0C8A5DF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F2D9C-2D89-4FAF-BA7C-278C506E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3FC54-3AE1-4442-A6AE-CD894142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2AAA-E818-4BA9-9E91-8FD8CAF6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3E36-20A6-41CA-8434-7D248DB5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82B-4DA5-4C7D-8A7E-7F5310FE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77FAE-17EB-4835-ACF3-77D93CBE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82383-4727-453E-BA06-8680345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E734B-4315-4015-8943-F1ECF11D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6310A-83E9-4B51-8DB4-A516EF11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71DC3-6077-4E13-9CAE-12778824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73EA-D90C-455A-882F-2FEC5C2A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7BC78-DD4F-4C89-88DA-A1DF5150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F79C-ED2F-4D95-92D9-3C74368F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1DB3-A899-4CFA-BA73-CB7F9BE6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8054-CF14-4520-BC86-2967CE25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BFE-03F4-4927-8DE2-BF7DF401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86279-2AF4-4564-8182-FC0E576B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3EB64-FFA3-4032-80C0-3F93B1CA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E7DF7-C3A4-4A8F-85D7-7641FB2F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FFE0-1169-4937-8D48-34CCF983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14C24-772A-4E38-BABC-FCA38E30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395BB-8A85-4262-8A3E-5E96BB6F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67973-A9B6-4B6B-8DB8-640E425C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3DE77-A720-4BEC-8AE4-7032EF6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5545B-BD1B-4726-95E1-29A625E1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F03F-B119-41E6-A76A-D2402C69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F50-1D9D-4C0F-99FF-5480D035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A413-05D3-4416-8CD7-7BBE9EEA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AAC-E92A-4DEC-BEC5-DA9935B1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945-F778-440F-B3C6-660255A3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3A4-996A-4AA5-8F92-CF6E9C6A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BA07-B6F9-4456-A692-1CFBC0B7A2E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B416-CEF2-45C7-B59E-6C7830A5590B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702E-232B-4141-8764-D321A95FDFE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D5E1-19E6-455F-975B-FF01E9EB8ED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3537-A194-4986-A220-48E7561101D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miles.33b.ru/smile.45126.html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Eggs/Hen&apos;s-egg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5" descr="C:\Users\4-111-Воспитатель\Desktop\питание1.jpg"/>
          <p:cNvPicPr/>
          <p:nvPr/>
        </p:nvPicPr>
        <p:blipFill>
          <a:blip r:embed="rId1"/>
          <a:stretch/>
        </p:blipFill>
        <p:spPr>
          <a:xfrm>
            <a:off x="-12600" y="1260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63280" y="22050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Здоровое питание -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здоровый образ жизни!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71640" y="785520"/>
            <a:ext cx="763272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ы и минералы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родукты, содержащие основные необходимые витамины и минеральные вещества, обязательно должны присутствовать в рационе  для правильного функционирования и развития организм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Продукты, богатые </a:t>
            </a:r>
            <a:r>
              <a:rPr b="1" lang="ru-RU" sz="20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ом А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морков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ладкий перец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еленый лук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щавель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шпинат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елен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лоды черноплодной рябины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, шиповника и облепих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7" name="Picture 4" descr="00012430"/>
          <p:cNvPicPr/>
          <p:nvPr/>
        </p:nvPicPr>
        <p:blipFill>
          <a:blip r:embed="rId1"/>
          <a:stretch/>
        </p:blipFill>
        <p:spPr>
          <a:xfrm>
            <a:off x="5148360" y="3357720"/>
            <a:ext cx="367344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447920" y="714240"/>
            <a:ext cx="769608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d2d"/>
                </a:solidFill>
                <a:latin typeface="Century Gothic"/>
              </a:rPr>
              <a:t>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ы и минерал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дукты-источники витамина С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елень петрушки и укроп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омидоры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черная и красная смородин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красный болгарский перец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цитрусовые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картофель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итамин Е содержится в следующих продуктах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ечен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яйц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ророщенные зерна пшеницы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овсяная и гречневая крупы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9" name="Picture 4" descr="10"/>
          <p:cNvPicPr/>
          <p:nvPr/>
        </p:nvPicPr>
        <p:blipFill>
          <a:blip r:embed="rId1"/>
          <a:stretch/>
        </p:blipFill>
        <p:spPr>
          <a:xfrm>
            <a:off x="5292720" y="4292640"/>
            <a:ext cx="302436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457280" y="713880"/>
            <a:ext cx="768672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ы и минерал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дукты, богатые витаминами группы В: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хлеб грубого помол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молоко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ворог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ечен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ыр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яйц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капуста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яблоки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миндал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омидоры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бобовые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1" name="Picture 5" descr="11"/>
          <p:cNvPicPr/>
          <p:nvPr/>
        </p:nvPicPr>
        <p:blipFill>
          <a:blip r:embed="rId1"/>
          <a:stretch/>
        </p:blipFill>
        <p:spPr>
          <a:xfrm>
            <a:off x="5651640" y="1989000"/>
            <a:ext cx="2950920" cy="19065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00012495"/>
          <p:cNvPicPr/>
          <p:nvPr/>
        </p:nvPicPr>
        <p:blipFill>
          <a:blip r:embed="rId2"/>
          <a:stretch/>
        </p:blipFill>
        <p:spPr>
          <a:xfrm>
            <a:off x="34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c600"/>
                </a:solidFill>
                <a:latin typeface="Century Gothic"/>
              </a:rPr>
              <a:t>Распределение суточного рацион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Завтрак-2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торой завтрак-15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ед-3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лдник-15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Ужин-2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49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ru-RU" sz="4900" spc="-1" strike="noStrike">
                <a:solidFill>
                  <a:srgbClr val="4a6300"/>
                </a:solidFill>
                <a:latin typeface="Century Gothic"/>
              </a:rPr>
              <a:t>Причины нарушения веса 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66320" y="2534760"/>
            <a:ext cx="7543800" cy="27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о продуктов пит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ультура пит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ежим пит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сбалансированная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зическая активность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ете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459" name="Line 5"/>
          <p:cNvSpPr/>
          <p:nvPr/>
        </p:nvSpPr>
        <p:spPr>
          <a:xfrm>
            <a:off x="5486400" y="2743200"/>
            <a:ext cx="3505320" cy="2666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Line 6"/>
          <p:cNvSpPr/>
          <p:nvPr/>
        </p:nvSpPr>
        <p:spPr>
          <a:xfrm flipH="1">
            <a:off x="5409720" y="2666880"/>
            <a:ext cx="3581640" cy="2819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4"/>
          <p:cNvSpPr/>
          <p:nvPr/>
        </p:nvSpPr>
        <p:spPr>
          <a:xfrm flipH="1">
            <a:off x="1619280" y="1628640"/>
            <a:ext cx="488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48960" y="6282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Режим пит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066680" y="1981080"/>
          <a:ext cx="6828120" cy="4130640"/>
        </p:xfrm>
        <a:graphic>
          <a:graphicData uri="http://schemas.openxmlformats.org/drawingml/2006/table">
            <a:tbl>
              <a:tblPr/>
              <a:tblGrid>
                <a:gridCol w="2510640"/>
                <a:gridCol w="4098960"/>
                <a:gridCol w="2188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именование раци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ервая с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ервый завт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.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торой завт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.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лд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ж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.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4" name="Rectangle 119"/>
          <p:cNvSpPr/>
          <p:nvPr/>
        </p:nvSpPr>
        <p:spPr>
          <a:xfrm>
            <a:off x="1762200" y="44265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12"/>
          <p:cNvSpPr/>
          <p:nvPr/>
        </p:nvSpPr>
        <p:spPr>
          <a:xfrm>
            <a:off x="1042920" y="2133720"/>
            <a:ext cx="2952720" cy="3816360"/>
          </a:xfrm>
          <a:prstGeom prst="bevel">
            <a:avLst>
              <a:gd name="adj" fmla="val 12500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достаточ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треб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итаминов, белк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кроэлемент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4427640" y="4005360"/>
            <a:ext cx="108108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AutoShape 14"/>
          <p:cNvSpPr/>
          <p:nvPr/>
        </p:nvSpPr>
        <p:spPr>
          <a:xfrm>
            <a:off x="6804000" y="1989000"/>
            <a:ext cx="1728720" cy="1584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6443640" y="4005360"/>
            <a:ext cx="237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нижение иммунете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болезнь ил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лез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AutoShape 16"/>
          <p:cNvSpPr/>
          <p:nvPr/>
        </p:nvSpPr>
        <p:spPr>
          <a:xfrm rot="18066000">
            <a:off x="5404680" y="1667160"/>
            <a:ext cx="143964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гру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\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med">
    <p:wheel spokes="8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4948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4c600"/>
                </a:solidFill>
                <a:latin typeface="Century Gothic"/>
              </a:rPr>
              <a:t>Спасибо за внимание!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72" name="Picture 6" descr="f25886907d824ca74bd839bd2fd4b2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65760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роблема здоровья – проблема питания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1" name="Picture 8" descr="j0240719"/>
          <p:cNvPicPr/>
          <p:nvPr/>
        </p:nvPicPr>
        <p:blipFill>
          <a:blip r:embed="rId1"/>
          <a:stretch/>
        </p:blipFill>
        <p:spPr>
          <a:xfrm>
            <a:off x="1187280" y="1700280"/>
            <a:ext cx="2660760" cy="41767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851280" y="1844640"/>
            <a:ext cx="420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Здоровое и рациональное питание должно являться неотъемлемой частью повседневной жизни и способствовать крепкому физиологическому, психическому и социальному здоровью человек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Основные принципы здорового питания студент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206000" y="1980720"/>
            <a:ext cx="7340760" cy="19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итание  должно быть оптимальным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итание  должно быть сбалансированны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2411280" y="3357720"/>
            <a:ext cx="381024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/>
          <p:cNvSpPr/>
          <p:nvPr/>
        </p:nvSpPr>
        <p:spPr>
          <a:xfrm>
            <a:off x="611280" y="3213000"/>
            <a:ext cx="2555640" cy="1008000"/>
          </a:xfrm>
          <a:prstGeom prst="flowChartTerminator">
            <a:avLst/>
          </a:prstGeom>
          <a:gradFill rotWithShape="0">
            <a:gsLst>
              <a:gs pos="0">
                <a:srgbClr val="94c600"/>
              </a:gs>
              <a:gs pos="50000">
                <a:srgbClr val="445c00"/>
              </a:gs>
              <a:gs pos="100000">
                <a:srgbClr val="94c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достаточ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итатель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щест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5580000" y="2060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теря вниман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5580000" y="3284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лабость и переутомляем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5580000" y="4581360"/>
            <a:ext cx="3241800" cy="79092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худшение памяти 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боты моз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5580000" y="573408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егкий доступ к вирус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 инфекцион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болевания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3492360" y="3213000"/>
            <a:ext cx="1657440" cy="1224000"/>
          </a:xfrm>
          <a:custGeom>
            <a:avLst/>
            <a:gdLst>
              <a:gd name="textAreaLeft" fmla="*/ 258840 w 1657440"/>
              <a:gd name="textAreaRight" fmla="*/ 1542240 w 1657440"/>
              <a:gd name="textAreaTop" fmla="*/ 444600 h 1224000"/>
              <a:gd name="textAreaBottom" fmla="*/ 779400 h 1224000"/>
            </a:gdLst>
            <a:ahLst/>
            <a:rect l="textAreaLeft" t="textAreaTop" r="textAreaRight" b="textAreaBottom"/>
            <a:pathLst>
              <a:path w="21600" h="21600">
                <a:moveTo>
                  <a:pt x="16105" y="0"/>
                </a:moveTo>
                <a:lnTo>
                  <a:pt x="16105" y="7846"/>
                </a:lnTo>
                <a:lnTo>
                  <a:pt x="3375" y="7846"/>
                </a:lnTo>
                <a:lnTo>
                  <a:pt x="3375" y="13754"/>
                </a:lnTo>
                <a:lnTo>
                  <a:pt x="16105" y="13754"/>
                </a:lnTo>
                <a:lnTo>
                  <a:pt x="16105" y="21600"/>
                </a:lnTo>
                <a:lnTo>
                  <a:pt x="21600" y="10800"/>
                </a:lnTo>
                <a:lnTo>
                  <a:pt x="16105" y="0"/>
                </a:lnTo>
                <a:close/>
              </a:path>
              <a:path w="21600" h="21600">
                <a:moveTo>
                  <a:pt x="1350" y="7846"/>
                </a:moveTo>
                <a:lnTo>
                  <a:pt x="1350" y="13754"/>
                </a:lnTo>
                <a:lnTo>
                  <a:pt x="2700" y="13754"/>
                </a:lnTo>
                <a:lnTo>
                  <a:pt x="2700" y="7846"/>
                </a:lnTo>
                <a:lnTo>
                  <a:pt x="1350" y="7846"/>
                </a:lnTo>
                <a:close/>
              </a:path>
              <a:path w="21600" h="21600">
                <a:moveTo>
                  <a:pt x="0" y="7846"/>
                </a:moveTo>
                <a:lnTo>
                  <a:pt x="0" y="13754"/>
                </a:lnTo>
                <a:lnTo>
                  <a:pt x="675" y="13754"/>
                </a:lnTo>
                <a:lnTo>
                  <a:pt x="675" y="7846"/>
                </a:lnTo>
                <a:lnTo>
                  <a:pt x="0" y="7846"/>
                </a:lnTo>
                <a:close/>
              </a:path>
            </a:pathLst>
          </a:custGeom>
          <a:solidFill>
            <a:srgbClr val="e68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8120" y="333360"/>
            <a:ext cx="82933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Не соблюдение основ здорового питания студентом приводит ..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357120" y="-579600"/>
            <a:ext cx="817560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ми элементами здорового питания  являю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a94a"/>
                </a:solidFill>
                <a:latin typeface="Arial"/>
                <a:ea typeface="Times New Roman"/>
              </a:rPr>
              <a:t>белки, жиры, углеводы, витамины, макро и микроэлементы</a:t>
            </a:r>
            <a:r>
              <a:rPr b="0" lang="ru-RU" sz="2800" spc="-1" strike="noStrike">
                <a:solidFill>
                  <a:srgbClr val="ffa94a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5" descr="http://stat.gogo.mn/images/advice/formation-dieteticien.jpg"/>
          <p:cNvPicPr/>
          <p:nvPr/>
        </p:nvPicPr>
        <p:blipFill>
          <a:blip r:embed="rId1"/>
          <a:stretch/>
        </p:blipFill>
        <p:spPr>
          <a:xfrm>
            <a:off x="2604960" y="2595600"/>
            <a:ext cx="3679920" cy="368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447920" y="549000"/>
            <a:ext cx="769608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                 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Белк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амыми ценными  являются рыбный и молочный белок, который лучше всего усваивается организмом. На втором месте по качеству - мясной белок, на третьем – белок растительного происхожд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Ежедневно человек должен получать 75-90 г белка, из них 40-55 г животного происхождения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В рационе молодого человека обязательно должны присутствовать следующие продукты:</a:t>
            </a: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молоко или кисломолочные напитки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творог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ыр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рыба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мясные продукты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яйца</a:t>
            </a:r>
            <a:r>
              <a:rPr b="0" lang="ru-RU" sz="18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36" name="Picture 4" descr="2"/>
          <p:cNvPicPr/>
          <p:nvPr/>
        </p:nvPicPr>
        <p:blipFill>
          <a:blip r:embed="rId2"/>
          <a:stretch/>
        </p:blipFill>
        <p:spPr>
          <a:xfrm>
            <a:off x="6248520" y="4495680"/>
            <a:ext cx="2247840" cy="1690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2"/>
          <p:cNvPicPr/>
          <p:nvPr/>
        </p:nvPicPr>
        <p:blipFill>
          <a:blip r:embed="rId3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2"/>
          <p:cNvPicPr/>
          <p:nvPr/>
        </p:nvPicPr>
        <p:blipFill>
          <a:blip r:embed="rId4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2"/>
          <p:cNvPicPr/>
          <p:nvPr/>
        </p:nvPicPr>
        <p:blipFill>
          <a:blip r:embed="rId5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969840" y="603360"/>
            <a:ext cx="792504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            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Жиры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Необходимые жиры содержатся не только в привычных для нас «жирных» продуктах – масле, сметане, сале и т.д. Мясо, молоко и рыба – источники скрытых жиров. Животные жиры усваиваются хуже растительных и не содержат важные для организма жирные кислоты и жирорастворимые витамины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Норма потребления жиров - 80-90 г в сутки, 30% суточного рацион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Ежедневно молодой человек должен получать: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ливочное масло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растительное масло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метану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1"/>
          <a:stretch/>
        </p:blipFill>
        <p:spPr>
          <a:xfrm>
            <a:off x="4932360" y="3860640"/>
            <a:ext cx="316404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845964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                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Углеводы</a:t>
            </a:r>
            <a:r>
              <a:rPr b="1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Углеводы необходимы для пополнения энергетических запасов организма. Наиболее полезны сложные углеводы, содержащие не перевариваемые пищевые волокн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уточная норма углеводов в рационе  - 300-400 г, из них на долю простых должно приходиться не более 100 г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Необходимые продукты в меню студента:</a:t>
            </a: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хлеб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крупы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картофель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мед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ухофрукты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ахар</a:t>
            </a:r>
            <a:r>
              <a:rPr b="0" lang="ru-RU" sz="18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3" name="Picture 4" descr="00011370"/>
          <p:cNvPicPr/>
          <p:nvPr/>
        </p:nvPicPr>
        <p:blipFill>
          <a:blip r:embed="rId1"/>
          <a:stretch/>
        </p:blipFill>
        <p:spPr>
          <a:xfrm>
            <a:off x="4356000" y="3500280"/>
            <a:ext cx="31687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39280" y="2428920"/>
            <a:ext cx="76899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авильный рост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азвитие костного скелета, зубов, мышечной, нервной ткан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нимают активное участие в процессах кроветворения, выработке различных ферментов и гормон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714240" y="620640"/>
            <a:ext cx="7715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неральные вещества входят в состав всех клеток и тканей и обеспечивают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53:20Z</dcterms:created>
  <dc:creator>Bill Geic</dc:creator>
  <dc:description/>
  <dc:language>en-US</dc:language>
  <cp:lastModifiedBy>Пользователь Windows</cp:lastModifiedBy>
  <dcterms:modified xsi:type="dcterms:W3CDTF">2021-12-15T10:03:54Z</dcterms:modified>
  <cp:revision>21</cp:revision>
  <dc:subject/>
  <dc:title>Здоровое питание и мой ребенок</dc:title>
</cp:coreProperties>
</file>