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8F6-B309-4434-81E2-F5B9CB58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44D-6CB0-4888-997D-5EB0C6B4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2E8-10DA-4314-91EC-CA0D046C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6E6-F796-4FD1-AEC6-0FF02A2E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F26F-C7E5-4E00-A7AA-F229B48D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0A86-C9FD-4F9D-B01A-66E5B378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D91F-D3EC-452E-A82D-3BD8AE84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F351-F860-4FC3-B257-80AD6E1E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D74F-CF6F-4815-BD23-102C73E3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C1C8-03BB-43AE-82F2-84AD57C3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BBC0-29E3-453F-90EC-CFAF6ECB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4D9-510E-46DB-AC75-2DB4DA7D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9B45-A506-4837-AB1E-ABBC4D4F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22EE-64E1-44BF-998F-B0A2B302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7B47-E84A-4857-9041-E96DF3EC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0625-7979-4D77-B7A5-D26AB67C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9A0D-C75F-4FC7-8FB2-4DA9ACB4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34A2B-DB70-46E7-877F-3970EDF4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14019-328D-414E-8AC8-B148A733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984A5-26E9-462A-A7CE-6B8D1593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B0B94-3A6A-49CC-8C78-CAA68299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55610-5FD8-4939-B0A3-61789CAA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0B1-BD6A-4940-ADB8-E9981409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036D5-E39C-437F-B633-86662381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CB233-466E-4182-8F5F-642D048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5EF65-5183-4E70-A08E-74D3160F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03FCD-E063-4962-9532-631A413B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BB9BF-7BD8-4464-9FBC-AD57B8D3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EAB48-D9B4-49DC-B570-260C594C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AD6BC-721E-45D9-A24D-ED93BCDA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16E7E-D73C-4DC5-A083-792D7708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5CA0-9AA1-4B78-B158-4CDA9A0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8982-95B2-4439-B21F-DB3BA7A5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FBE-C93F-43FA-8F6B-E4F57FEF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7F3D-616C-43B7-80E4-1A45C896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BE9F-7D39-48FF-9F98-D7AA990F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7C052-8166-4330-AEB4-1995B823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25CBE-4A79-49C7-9E0C-19301B6F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8041-2FC7-4997-B914-26F1E9A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ECBF-EF5D-4983-B8B0-C0584B55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DE52-6D2E-4BC9-AA9E-99F14D4C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4F4EE-327D-4143-B120-1EA2F880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C2710-817B-4190-A9C5-694AB3AB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F48D7-5A96-4752-85CB-926ECA25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2B1-7018-463F-927A-3759B066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C67D5-1F5E-402C-9A4C-506DD4E6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946EA-C1D7-4B90-9936-C773EDE1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DB289-D895-4BB9-BEA3-A2F47335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6C80A-6463-49BA-A926-041129DD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31335-0704-45B0-ADD2-B028069B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066E-6983-4074-8F04-5C0FD6F3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0E5B9-1616-440A-BE4D-67A7A0C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BAA44-2BA6-472B-A545-90583835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E930F-6399-492C-BF80-FAD8B012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1F02-30FD-4C91-A110-BE45A10D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BC0-8BCD-4BE1-BD82-EA900C3D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C16B6-29F0-4602-BBA9-E73E4DE2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494-17D8-4AA3-8F7D-DD1ACE32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3C2-9213-47B2-9824-29D7ECE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34B-B4DC-4494-8EDB-8BA8ACF8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D90B-C5FF-42A4-BFA0-EC373DC39B6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466E-04A0-4A17-935B-D20B0B63CDE6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EAD8-78F9-4913-9350-D8C431188EED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E0E7-88C9-4EA8-A90E-74066B7FAC1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D4A4-0EB3-481C-A0F3-49E48A4DBB5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miles.33b.ru/smile.45126.html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Eggs/Hen&apos;s-egg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5" descr="C:\Users\4-111-Воспитатель\Desktop\питание1.jpg"/>
          <p:cNvPicPr/>
          <p:nvPr/>
        </p:nvPicPr>
        <p:blipFill>
          <a:blip r:embed="rId1"/>
          <a:stretch/>
        </p:blipFill>
        <p:spPr>
          <a:xfrm>
            <a:off x="-12600" y="1260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63280" y="22050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Здоровое питание -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entury Gothic"/>
              </a:rPr>
              <a:t>здоровый образ жизни!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71640" y="785520"/>
            <a:ext cx="763272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ы и минералы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родукты, содержащие основные необходимые витамины и минеральные вещества, обязательно должны присутствовать в рационе  для правильного функционирования и развития организм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Продукты, богатые </a:t>
            </a:r>
            <a:r>
              <a:rPr b="1" lang="ru-RU" sz="20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ом А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морков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ладкий перец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еленый лук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щавель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шпинат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елен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лоды черноплодной рябины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, шиповника и облепих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7" name="Picture 4" descr="00012430"/>
          <p:cNvPicPr/>
          <p:nvPr/>
        </p:nvPicPr>
        <p:blipFill>
          <a:blip r:embed="rId1"/>
          <a:stretch/>
        </p:blipFill>
        <p:spPr>
          <a:xfrm>
            <a:off x="5148360" y="3357720"/>
            <a:ext cx="367344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447920" y="714240"/>
            <a:ext cx="769608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d2d"/>
                </a:solidFill>
                <a:latin typeface="Century Gothic"/>
              </a:rPr>
              <a:t>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ы и минерал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дукты-источники витамина С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елень петрушки и укроп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омидоры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черная и красная смородин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красный болгарский перец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цитрусовые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картофель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итамин Е содержится в следующих продуктах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ечен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яйц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ророщенные зерна пшеницы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овсяная и гречневая крупы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9" name="Picture 4" descr="10"/>
          <p:cNvPicPr/>
          <p:nvPr/>
        </p:nvPicPr>
        <p:blipFill>
          <a:blip r:embed="rId1"/>
          <a:stretch/>
        </p:blipFill>
        <p:spPr>
          <a:xfrm>
            <a:off x="5292720" y="4292640"/>
            <a:ext cx="302436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457280" y="713880"/>
            <a:ext cx="768672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Витамины и минерал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дукты, богатые витаминами группы В: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хлеб грубого помол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молоко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ворог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ечен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ыр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яйца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капуста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яблоки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миндаль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помидоры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бобовые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1" name="Picture 5" descr="11"/>
          <p:cNvPicPr/>
          <p:nvPr/>
        </p:nvPicPr>
        <p:blipFill>
          <a:blip r:embed="rId1"/>
          <a:stretch/>
        </p:blipFill>
        <p:spPr>
          <a:xfrm>
            <a:off x="5651640" y="1989000"/>
            <a:ext cx="2950920" cy="19065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00012495"/>
          <p:cNvPicPr/>
          <p:nvPr/>
        </p:nvPicPr>
        <p:blipFill>
          <a:blip r:embed="rId2"/>
          <a:stretch/>
        </p:blipFill>
        <p:spPr>
          <a:xfrm>
            <a:off x="34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c600"/>
                </a:solidFill>
                <a:latin typeface="Century Gothic"/>
              </a:rPr>
              <a:t>Распределение суточного рацион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Завтрак-2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торой завтрак-15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ед-3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лдник-15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Ужин-2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49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ru-RU" sz="4900" spc="-1" strike="noStrike">
                <a:solidFill>
                  <a:srgbClr val="4a6300"/>
                </a:solidFill>
                <a:latin typeface="Century Gothic"/>
              </a:rPr>
              <a:t>Причины нарушения веса 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66320" y="2534760"/>
            <a:ext cx="7543800" cy="27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о продуктов пит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ультура пит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ежим пит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сбалансированная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зическая активность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ете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459" name="Line 5"/>
          <p:cNvSpPr/>
          <p:nvPr/>
        </p:nvSpPr>
        <p:spPr>
          <a:xfrm>
            <a:off x="5486400" y="2743200"/>
            <a:ext cx="3505320" cy="2666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Line 6"/>
          <p:cNvSpPr/>
          <p:nvPr/>
        </p:nvSpPr>
        <p:spPr>
          <a:xfrm flipH="1">
            <a:off x="5409720" y="2666880"/>
            <a:ext cx="3581640" cy="2819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4"/>
          <p:cNvSpPr/>
          <p:nvPr/>
        </p:nvSpPr>
        <p:spPr>
          <a:xfrm flipH="1">
            <a:off x="1619280" y="1628640"/>
            <a:ext cx="488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48960" y="6282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Режим пит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066680" y="1981080"/>
          <a:ext cx="6828120" cy="4130640"/>
        </p:xfrm>
        <a:graphic>
          <a:graphicData uri="http://schemas.openxmlformats.org/drawingml/2006/table">
            <a:tbl>
              <a:tblPr/>
              <a:tblGrid>
                <a:gridCol w="2510640"/>
                <a:gridCol w="4098960"/>
                <a:gridCol w="2188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именование раци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ервая с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ервый завт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.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торой завт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.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лд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ж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71685a"/>
                      </a:solidFill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.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1685a"/>
                      </a:solidFill>
                    </a:lnR>
                    <a:lnT w="5760">
                      <a:solidFill>
                        <a:srgbClr val="71685a"/>
                      </a:solidFill>
                    </a:lnT>
                    <a:lnB w="5760">
                      <a:solidFill>
                        <a:srgbClr val="71685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4" name="Rectangle 119"/>
          <p:cNvSpPr/>
          <p:nvPr/>
        </p:nvSpPr>
        <p:spPr>
          <a:xfrm>
            <a:off x="1762200" y="44265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12"/>
          <p:cNvSpPr/>
          <p:nvPr/>
        </p:nvSpPr>
        <p:spPr>
          <a:xfrm>
            <a:off x="1042920" y="2133720"/>
            <a:ext cx="2952720" cy="3816360"/>
          </a:xfrm>
          <a:prstGeom prst="bevel">
            <a:avLst>
              <a:gd name="adj" fmla="val 12500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достаточ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треб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итаминов, белк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кроэлемент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4427640" y="4005360"/>
            <a:ext cx="108108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AutoShape 14"/>
          <p:cNvSpPr/>
          <p:nvPr/>
        </p:nvSpPr>
        <p:spPr>
          <a:xfrm>
            <a:off x="6804000" y="1989000"/>
            <a:ext cx="1728720" cy="1584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6443640" y="4005360"/>
            <a:ext cx="237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нижение иммунете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болезнь ил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лез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AutoShape 16"/>
          <p:cNvSpPr/>
          <p:nvPr/>
        </p:nvSpPr>
        <p:spPr>
          <a:xfrm rot="18066000">
            <a:off x="5404680" y="1667160"/>
            <a:ext cx="143964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гру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\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med">
    <p:wheel spokes="8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4948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4c600"/>
                </a:solidFill>
                <a:latin typeface="Century Gothic"/>
              </a:rPr>
              <a:t>Спасибо за внимание!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72" name="Picture 6" descr="f25886907d824ca74bd839bd2fd4b2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65760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роблема здоровья – проблема питания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1" name="Picture 8" descr="j0240719"/>
          <p:cNvPicPr/>
          <p:nvPr/>
        </p:nvPicPr>
        <p:blipFill>
          <a:blip r:embed="rId1"/>
          <a:stretch/>
        </p:blipFill>
        <p:spPr>
          <a:xfrm>
            <a:off x="1187280" y="1700280"/>
            <a:ext cx="2660760" cy="41767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851280" y="1844640"/>
            <a:ext cx="420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Здоровое и рациональное питание должно являться неотъемлемой частью повседневной жизни и способствовать крепкому физиологическому, психическому и социальному здоровью человек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Основные принципы здорового питания студент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206000" y="1980720"/>
            <a:ext cx="7340760" cy="19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итание  должно быть оптимальным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итание  должно быть сбалансированны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2411280" y="3357720"/>
            <a:ext cx="381024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/>
          <p:cNvSpPr/>
          <p:nvPr/>
        </p:nvSpPr>
        <p:spPr>
          <a:xfrm>
            <a:off x="611280" y="3213000"/>
            <a:ext cx="2555640" cy="1008000"/>
          </a:xfrm>
          <a:prstGeom prst="flowChartTerminator">
            <a:avLst/>
          </a:prstGeom>
          <a:gradFill rotWithShape="0">
            <a:gsLst>
              <a:gs pos="0">
                <a:srgbClr val="94c600"/>
              </a:gs>
              <a:gs pos="50000">
                <a:srgbClr val="445c00"/>
              </a:gs>
              <a:gs pos="100000">
                <a:srgbClr val="94c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достаточ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итатель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щест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5580000" y="2060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теря вниман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5580000" y="3284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лабость и переутомляем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5580000" y="4581360"/>
            <a:ext cx="3241800" cy="79092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худшение памяти 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боты моз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5580000" y="573408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ffa94a"/>
              </a:gs>
              <a:gs pos="50000">
                <a:srgbClr val="764e22"/>
              </a:gs>
              <a:gs pos="100000">
                <a:srgbClr val="ffa9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егкий доступ к вирус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 инфекцион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болевания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3492360" y="3213000"/>
            <a:ext cx="1657440" cy="1224000"/>
          </a:xfrm>
          <a:custGeom>
            <a:avLst/>
            <a:gdLst>
              <a:gd name="textAreaLeft" fmla="*/ 258840 w 1657440"/>
              <a:gd name="textAreaRight" fmla="*/ 1542240 w 1657440"/>
              <a:gd name="textAreaTop" fmla="*/ 444600 h 1224000"/>
              <a:gd name="textAreaBottom" fmla="*/ 779400 h 1224000"/>
            </a:gdLst>
            <a:ahLst/>
            <a:rect l="textAreaLeft" t="textAreaTop" r="textAreaRight" b="textAreaBottom"/>
            <a:pathLst>
              <a:path w="21600" h="21600">
                <a:moveTo>
                  <a:pt x="16105" y="0"/>
                </a:moveTo>
                <a:lnTo>
                  <a:pt x="16105" y="7846"/>
                </a:lnTo>
                <a:lnTo>
                  <a:pt x="3375" y="7846"/>
                </a:lnTo>
                <a:lnTo>
                  <a:pt x="3375" y="13754"/>
                </a:lnTo>
                <a:lnTo>
                  <a:pt x="16105" y="13754"/>
                </a:lnTo>
                <a:lnTo>
                  <a:pt x="16105" y="21600"/>
                </a:lnTo>
                <a:lnTo>
                  <a:pt x="21600" y="10800"/>
                </a:lnTo>
                <a:lnTo>
                  <a:pt x="16105" y="0"/>
                </a:lnTo>
                <a:close/>
              </a:path>
              <a:path w="21600" h="21600">
                <a:moveTo>
                  <a:pt x="1350" y="7846"/>
                </a:moveTo>
                <a:lnTo>
                  <a:pt x="1350" y="13754"/>
                </a:lnTo>
                <a:lnTo>
                  <a:pt x="2700" y="13754"/>
                </a:lnTo>
                <a:lnTo>
                  <a:pt x="2700" y="7846"/>
                </a:lnTo>
                <a:lnTo>
                  <a:pt x="1350" y="7846"/>
                </a:lnTo>
                <a:close/>
              </a:path>
              <a:path w="21600" h="21600">
                <a:moveTo>
                  <a:pt x="0" y="7846"/>
                </a:moveTo>
                <a:lnTo>
                  <a:pt x="0" y="13754"/>
                </a:lnTo>
                <a:lnTo>
                  <a:pt x="675" y="13754"/>
                </a:lnTo>
                <a:lnTo>
                  <a:pt x="675" y="7846"/>
                </a:lnTo>
                <a:lnTo>
                  <a:pt x="0" y="7846"/>
                </a:lnTo>
                <a:close/>
              </a:path>
            </a:pathLst>
          </a:custGeom>
          <a:solidFill>
            <a:srgbClr val="e682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8120" y="333360"/>
            <a:ext cx="82933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Не соблюдение основ здорового питания студентом приводит ..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357120" y="-579600"/>
            <a:ext cx="817560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ми элементами здорового питания  являю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a94a"/>
                </a:solidFill>
                <a:latin typeface="Arial"/>
                <a:ea typeface="Times New Roman"/>
              </a:rPr>
              <a:t>белки, жиры, углеводы, витамины, макро и микроэлементы</a:t>
            </a:r>
            <a:r>
              <a:rPr b="0" lang="ru-RU" sz="2800" spc="-1" strike="noStrike">
                <a:solidFill>
                  <a:srgbClr val="ffa94a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5" descr="http://stat.gogo.mn/images/advice/formation-dieteticien.jpg"/>
          <p:cNvPicPr/>
          <p:nvPr/>
        </p:nvPicPr>
        <p:blipFill>
          <a:blip r:embed="rId1"/>
          <a:stretch/>
        </p:blipFill>
        <p:spPr>
          <a:xfrm>
            <a:off x="2604960" y="2595600"/>
            <a:ext cx="3679920" cy="368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447920" y="549000"/>
            <a:ext cx="769608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                 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Белк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амыми ценными  являются рыбный и молочный белок, который лучше всего усваивается организмом. На втором месте по качеству - мясной белок, на третьем – белок растительного происхожд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Ежедневно человек должен получать 75-90 г белка, из них 40-55 г животного происхождения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В рационе молодого человека обязательно должны присутствовать следующие продукты:</a:t>
            </a: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молоко или кисломолочные напитки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творог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ыр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рыба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мясные продукты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яйца</a:t>
            </a:r>
            <a:r>
              <a:rPr b="0" lang="ru-RU" sz="18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36" name="Picture 4" descr="2"/>
          <p:cNvPicPr/>
          <p:nvPr/>
        </p:nvPicPr>
        <p:blipFill>
          <a:blip r:embed="rId2"/>
          <a:stretch/>
        </p:blipFill>
        <p:spPr>
          <a:xfrm>
            <a:off x="6248520" y="4495680"/>
            <a:ext cx="2247840" cy="1690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2"/>
          <p:cNvPicPr/>
          <p:nvPr/>
        </p:nvPicPr>
        <p:blipFill>
          <a:blip r:embed="rId3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2"/>
          <p:cNvPicPr/>
          <p:nvPr/>
        </p:nvPicPr>
        <p:blipFill>
          <a:blip r:embed="rId4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2"/>
          <p:cNvPicPr/>
          <p:nvPr/>
        </p:nvPicPr>
        <p:blipFill>
          <a:blip r:embed="rId5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969840" y="603360"/>
            <a:ext cx="792504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            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Жиры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Необходимые жиры содержатся не только в привычных для нас «жирных» продуктах – масле, сметане, сале и т.д. Мясо, молоко и рыба – источники скрытых жиров. Животные жиры усваиваются хуже растительных и не содержат важные для организма жирные кислоты и жирорастворимые витамины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Норма потребления жиров - 80-90 г в сутки, 30% суточного рацион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Ежедневно молодой человек должен получать: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ливочное масло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растительное масло ;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сметану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1"/>
          <a:stretch/>
        </p:blipFill>
        <p:spPr>
          <a:xfrm>
            <a:off x="4932360" y="3860640"/>
            <a:ext cx="316404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845964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                                       </a:t>
            </a:r>
            <a:r>
              <a:rPr b="1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Углеводы</a:t>
            </a:r>
            <a:r>
              <a:rPr b="1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Углеводы необходимы для пополнения энергетических запасов организма. Наиболее полезны сложные углеводы, содержащие не перевариваемые пищевые волокн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уточная норма углеводов в рационе  - 300-400 г, из них на долю простых должно приходиться не более 100 г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Необходимые продукты в меню студента:</a:t>
            </a: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хлеб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крупы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картофель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мед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ухофрукты 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сахар</a:t>
            </a:r>
            <a:r>
              <a:rPr b="0" lang="ru-RU" sz="18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3" name="Picture 4" descr="00011370"/>
          <p:cNvPicPr/>
          <p:nvPr/>
        </p:nvPicPr>
        <p:blipFill>
          <a:blip r:embed="rId1"/>
          <a:stretch/>
        </p:blipFill>
        <p:spPr>
          <a:xfrm>
            <a:off x="4356000" y="3500280"/>
            <a:ext cx="31687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39280" y="2428920"/>
            <a:ext cx="76899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авильный рост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азвитие костного скелета, зубов, мышечной, нервной ткан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нимают активное участие в процессах кроветворения, выработке различных ферментов и гормон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714240" y="620640"/>
            <a:ext cx="7715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неральные вещества входят в состав всех клеток и тканей и обеспечивают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53:20Z</dcterms:created>
  <dc:creator>Bill Geic</dc:creator>
  <dc:description/>
  <dc:language>en-US</dc:language>
  <cp:lastModifiedBy>Пользователь Windows</cp:lastModifiedBy>
  <dcterms:modified xsi:type="dcterms:W3CDTF">2021-12-15T10:03:54Z</dcterms:modified>
  <cp:revision>21</cp:revision>
  <dc:subject/>
  <dc:title>Здоровое питание и мой ребенок</dc:title>
</cp:coreProperties>
</file>