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B06-709E-4927-BB2B-B72D1D33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740-659E-4166-8502-CBCD7321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ACA-8C7D-4323-97FC-1E6BA953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9F8-24E6-4F78-8A59-FE9E0B28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6735-DF2A-4041-B23C-20247994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5BA8-A495-4EF6-BBEE-66C2F484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6F76-29E3-436C-9E3B-405363E0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D775-BFA3-4279-8463-0A5F8182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6B97-912A-481B-A5F9-6722A976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79AA-7FF1-4F62-993D-203BD9F9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8FB4-5425-4544-8230-0494F48C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74E-B4DC-48C7-BFC1-4C1E5374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8274-50DE-4940-ADCE-0A1379A6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1357-0A6B-4831-AA85-CB79BA51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6C2C-D471-4613-B810-B13D3CF6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53CA-EE10-49AA-ABED-9CF3DF21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8779-4389-493B-9FF6-DE86E583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C60B2-AABE-4A9F-B3BD-93745B7F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104E2-D171-4845-9599-9985594C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4FD00-3363-475D-B3D2-CCC7AA40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97C6C-17EF-42FF-9CA8-C3159871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ECB55-CB8A-43CC-9D0D-68A368AC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3CE-359D-4036-9660-2974A098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4F21D-7B16-4997-BA1E-900239DA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3A46B-7CB1-44FB-8ED5-67D7E469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DC876-1870-4A2A-9EBD-599E7772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2CA0D-09C2-4D90-9775-B75B4A21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F3AA6-38A3-4679-B400-41F50F01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594FB-812F-43E7-8202-90CD873D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003A1-E171-4F99-B087-8E55A6EC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B6414-2FF4-4391-A0DD-F00818B8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B8190-8EF3-4A04-A5BF-C39AAD58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1AC2-9806-43F5-83B9-82F34D27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C4F-A196-474A-917A-9F62FE39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7A6A-4C8E-4C43-BCF9-42FEA576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A54A-CE13-4676-9838-64DADD84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66FB5-6375-4C39-BC8A-37BE2399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3871C-B1BC-4C77-BD92-96EA30FC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4781E-E5B0-4BF4-B6F9-856A0134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BF14C-0984-4615-B97A-9A66FB52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997B7-5004-407A-9EFC-364F839E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CBA13-C443-4238-816D-56C0FA6F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727E-460E-4F62-836C-32DD22B3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F31E8-900A-45DA-8B04-2E1B815E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A7A-C9F2-4273-A043-C2048FA5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6538C-16F3-4A5A-A3E0-DF0B442A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E5392-CBF2-4A64-B4B8-B7BA26D1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B4E1-39C0-4215-B9DC-7EF394B8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3C7AB-C8BD-44B0-B8AB-EFF627BF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595A3-0550-4958-8DD4-2EAA7335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7F097-F060-4FC7-B189-30769AC5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B78BE-C769-4E29-97A3-8B62FCBE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B777D-0B97-4FD3-9387-18B33FEA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46599-F614-4311-A82E-377D4A5F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48644-F9FA-491E-8C90-5487F772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2AA-760F-43A2-B6D9-F4706C3A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C7F09-E48D-4D0E-ABE1-35D16BAF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D99-8D8C-4C53-8EDE-D4A3F83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E93-5F3D-4BB4-A8DD-7363955B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75F-161D-4DF6-A7A9-9352BD83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E085-21D1-455E-9160-B54E1EFC73D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CE1C-FC65-40F5-9A14-B6049EB1D390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FE51-AC55-45D3-BBEA-4EB63B18F76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15CA-8918-4DB1-965D-E97B7501D779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C548-6643-49DB-8188-E5998216DA6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miles.33b.ru/smile.45126.html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Eggs/Hen&apos;s-egg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5" descr="C:\Users\4-111-Воспитатель\Desktop\питание1.jpg"/>
          <p:cNvPicPr/>
          <p:nvPr/>
        </p:nvPicPr>
        <p:blipFill>
          <a:blip r:embed="rId1"/>
          <a:stretch/>
        </p:blipFill>
        <p:spPr>
          <a:xfrm>
            <a:off x="-12600" y="1260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63280" y="22050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Здоровое питание -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здоровый образ жизни!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71640" y="785520"/>
            <a:ext cx="763272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  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Витамины и минералы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родукты, содержащие основные необходимые витамины и минеральные вещества, обязательно должны присутствовать в рационе  для правильного функционирования и развития организм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Продукты, богатые </a:t>
            </a:r>
            <a:r>
              <a:rPr b="1" lang="ru-RU" sz="2000" spc="-1" strike="noStrike" u="sng">
                <a:solidFill>
                  <a:srgbClr val="3e3d2d"/>
                </a:solidFill>
                <a:uFillTx/>
                <a:latin typeface="Century Gothic"/>
              </a:rPr>
              <a:t>витамином А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морков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сладкий перец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еленый лук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щавель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шпинат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елен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лоды черноплодной рябины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, шиповника и облепих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7" name="Picture 4" descr="00012430"/>
          <p:cNvPicPr/>
          <p:nvPr/>
        </p:nvPicPr>
        <p:blipFill>
          <a:blip r:embed="rId1"/>
          <a:stretch/>
        </p:blipFill>
        <p:spPr>
          <a:xfrm>
            <a:off x="5148360" y="3357720"/>
            <a:ext cx="367344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447920" y="714240"/>
            <a:ext cx="769608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d2d"/>
                </a:solidFill>
                <a:latin typeface="Century Gothic"/>
              </a:rPr>
              <a:t>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Витамины и минерал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дукты-источники витамина С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елень петрушки и укроп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омидоры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черная и красная смородин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красный болгарский перец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цитрусовые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картофель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итамин Е содержится в следующих продуктах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ечен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яйц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ророщенные зерна пшеницы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овсяная и гречневая крупы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9" name="Picture 4" descr="10"/>
          <p:cNvPicPr/>
          <p:nvPr/>
        </p:nvPicPr>
        <p:blipFill>
          <a:blip r:embed="rId1"/>
          <a:stretch/>
        </p:blipFill>
        <p:spPr>
          <a:xfrm>
            <a:off x="5292720" y="4292640"/>
            <a:ext cx="302436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457280" y="713880"/>
            <a:ext cx="768672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Витамины и минерал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дукты, богатые витаминами группы В: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хлеб грубого помол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молоко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творог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ечен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сыр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яйц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капуста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яблоки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миндал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омидоры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бобовые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51" name="Picture 5" descr="11"/>
          <p:cNvPicPr/>
          <p:nvPr/>
        </p:nvPicPr>
        <p:blipFill>
          <a:blip r:embed="rId1"/>
          <a:stretch/>
        </p:blipFill>
        <p:spPr>
          <a:xfrm>
            <a:off x="5651640" y="1989000"/>
            <a:ext cx="2950920" cy="19065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00012495"/>
          <p:cNvPicPr/>
          <p:nvPr/>
        </p:nvPicPr>
        <p:blipFill>
          <a:blip r:embed="rId2"/>
          <a:stretch/>
        </p:blipFill>
        <p:spPr>
          <a:xfrm>
            <a:off x="34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c600"/>
                </a:solidFill>
                <a:latin typeface="Century Gothic"/>
              </a:rPr>
              <a:t>Распределение суточного рацион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Завтрак-2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торой завтрак-15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ед-3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лдник-15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Ужин-2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49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ru-RU" sz="4900" spc="-1" strike="noStrike">
                <a:solidFill>
                  <a:srgbClr val="4a6300"/>
                </a:solidFill>
                <a:latin typeface="Century Gothic"/>
              </a:rPr>
              <a:t>Причины нарушения веса 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66320" y="2534760"/>
            <a:ext cx="7543800" cy="27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о продуктов пит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ультура пит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ежим пит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сбалансированная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зическая активность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ете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5580000" y="299736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459" name="Line 5"/>
          <p:cNvSpPr/>
          <p:nvPr/>
        </p:nvSpPr>
        <p:spPr>
          <a:xfrm>
            <a:off x="5486400" y="2743200"/>
            <a:ext cx="3505320" cy="2666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Line 6"/>
          <p:cNvSpPr/>
          <p:nvPr/>
        </p:nvSpPr>
        <p:spPr>
          <a:xfrm flipH="1">
            <a:off x="5409720" y="2666880"/>
            <a:ext cx="3581640" cy="2819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4"/>
          <p:cNvSpPr/>
          <p:nvPr/>
        </p:nvSpPr>
        <p:spPr>
          <a:xfrm flipH="1">
            <a:off x="1619280" y="1628640"/>
            <a:ext cx="488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48960" y="6282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Режим пит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066680" y="1981080"/>
          <a:ext cx="6828120" cy="4130640"/>
        </p:xfrm>
        <a:graphic>
          <a:graphicData uri="http://schemas.openxmlformats.org/drawingml/2006/table">
            <a:tbl>
              <a:tblPr/>
              <a:tblGrid>
                <a:gridCol w="2510640"/>
                <a:gridCol w="4098960"/>
                <a:gridCol w="2188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именование раци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ервая с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ервый завтр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.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торой завтр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.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е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лд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ж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.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4" name="Rectangle 119"/>
          <p:cNvSpPr/>
          <p:nvPr/>
        </p:nvSpPr>
        <p:spPr>
          <a:xfrm>
            <a:off x="1762200" y="44265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AutoShape 12"/>
          <p:cNvSpPr/>
          <p:nvPr/>
        </p:nvSpPr>
        <p:spPr>
          <a:xfrm>
            <a:off x="1042920" y="2133720"/>
            <a:ext cx="2952720" cy="3816360"/>
          </a:xfrm>
          <a:prstGeom prst="bevel">
            <a:avLst>
              <a:gd name="adj" fmla="val 12500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достаточ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треб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итаминов, белк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кроэлемент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4427640" y="4005360"/>
            <a:ext cx="1081080" cy="115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AutoShape 14"/>
          <p:cNvSpPr/>
          <p:nvPr/>
        </p:nvSpPr>
        <p:spPr>
          <a:xfrm>
            <a:off x="6804000" y="1989000"/>
            <a:ext cx="1728720" cy="1584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6443640" y="4005360"/>
            <a:ext cx="237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нижение иммунете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болезнь ил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олез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AutoShape 16"/>
          <p:cNvSpPr/>
          <p:nvPr/>
        </p:nvSpPr>
        <p:spPr>
          <a:xfrm rot="18066000">
            <a:off x="5404680" y="1667160"/>
            <a:ext cx="143964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гру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\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med">
    <p:wheel spokes="8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49484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4c600"/>
                </a:solidFill>
                <a:latin typeface="Century Gothic"/>
              </a:rPr>
              <a:t>Спасибо за внимание!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72" name="Picture 6" descr="f25886907d824ca74bd839bd2fd4b2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65760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роблема здоровья – проблема питания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1" name="Picture 8" descr="j0240719"/>
          <p:cNvPicPr/>
          <p:nvPr/>
        </p:nvPicPr>
        <p:blipFill>
          <a:blip r:embed="rId1"/>
          <a:stretch/>
        </p:blipFill>
        <p:spPr>
          <a:xfrm>
            <a:off x="1187280" y="1700280"/>
            <a:ext cx="2660760" cy="41767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851280" y="1844640"/>
            <a:ext cx="420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Здоровое и рациональное питание должно являться неотъемлемой частью повседневной жизни и способствовать крепкому физиологическому, психическому и социальному здоровью человек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Основные принципы здорового питания студент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206000" y="1980720"/>
            <a:ext cx="7340760" cy="19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итание  должно быть оптимальным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итание  должно быть сбалансированны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2411280" y="3357720"/>
            <a:ext cx="3810240" cy="2638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/>
          <p:cNvSpPr/>
          <p:nvPr/>
        </p:nvSpPr>
        <p:spPr>
          <a:xfrm>
            <a:off x="611280" y="3213000"/>
            <a:ext cx="2555640" cy="1008000"/>
          </a:xfrm>
          <a:prstGeom prst="flowChartTerminator">
            <a:avLst/>
          </a:prstGeom>
          <a:gradFill rotWithShape="0">
            <a:gsLst>
              <a:gs pos="0">
                <a:srgbClr val="94c600"/>
              </a:gs>
              <a:gs pos="50000">
                <a:srgbClr val="445c00"/>
              </a:gs>
              <a:gs pos="100000">
                <a:srgbClr val="94c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достаточ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итатель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щест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5580000" y="2060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ffa94a"/>
              </a:gs>
              <a:gs pos="50000">
                <a:srgbClr val="764e22"/>
              </a:gs>
              <a:gs pos="100000">
                <a:srgbClr val="ffa9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теря внимания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5580000" y="3284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ffa94a"/>
              </a:gs>
              <a:gs pos="50000">
                <a:srgbClr val="764e22"/>
              </a:gs>
              <a:gs pos="100000">
                <a:srgbClr val="ffa9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лабость и переутомляем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5580000" y="4581360"/>
            <a:ext cx="3241800" cy="790920"/>
          </a:xfrm>
          <a:prstGeom prst="flowChartTerminator">
            <a:avLst/>
          </a:prstGeom>
          <a:gradFill rotWithShape="0">
            <a:gsLst>
              <a:gs pos="0">
                <a:srgbClr val="ffa94a"/>
              </a:gs>
              <a:gs pos="50000">
                <a:srgbClr val="764e22"/>
              </a:gs>
              <a:gs pos="100000">
                <a:srgbClr val="ffa9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худшение памяти 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боты моз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5580000" y="573408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ffa94a"/>
              </a:gs>
              <a:gs pos="50000">
                <a:srgbClr val="764e22"/>
              </a:gs>
              <a:gs pos="100000">
                <a:srgbClr val="ffa9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Легкий доступ к вирусн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 инфекционн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болевания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3492360" y="3213000"/>
            <a:ext cx="1657440" cy="1224000"/>
          </a:xfrm>
          <a:custGeom>
            <a:avLst/>
            <a:gdLst>
              <a:gd name="textAreaLeft" fmla="*/ 258840 w 1657440"/>
              <a:gd name="textAreaRight" fmla="*/ 1542240 w 1657440"/>
              <a:gd name="textAreaTop" fmla="*/ 444600 h 1224000"/>
              <a:gd name="textAreaBottom" fmla="*/ 779400 h 1224000"/>
            </a:gdLst>
            <a:ahLst/>
            <a:rect l="textAreaLeft" t="textAreaTop" r="textAreaRight" b="textAreaBottom"/>
            <a:pathLst>
              <a:path w="21600" h="21600">
                <a:moveTo>
                  <a:pt x="16105" y="0"/>
                </a:moveTo>
                <a:lnTo>
                  <a:pt x="16105" y="7846"/>
                </a:lnTo>
                <a:lnTo>
                  <a:pt x="3375" y="7846"/>
                </a:lnTo>
                <a:lnTo>
                  <a:pt x="3375" y="13754"/>
                </a:lnTo>
                <a:lnTo>
                  <a:pt x="16105" y="13754"/>
                </a:lnTo>
                <a:lnTo>
                  <a:pt x="16105" y="21600"/>
                </a:lnTo>
                <a:lnTo>
                  <a:pt x="21600" y="10800"/>
                </a:lnTo>
                <a:lnTo>
                  <a:pt x="16105" y="0"/>
                </a:lnTo>
                <a:close/>
              </a:path>
              <a:path w="21600" h="21600">
                <a:moveTo>
                  <a:pt x="1350" y="7846"/>
                </a:moveTo>
                <a:lnTo>
                  <a:pt x="1350" y="13754"/>
                </a:lnTo>
                <a:lnTo>
                  <a:pt x="2700" y="13754"/>
                </a:lnTo>
                <a:lnTo>
                  <a:pt x="2700" y="7846"/>
                </a:lnTo>
                <a:lnTo>
                  <a:pt x="1350" y="7846"/>
                </a:lnTo>
                <a:close/>
              </a:path>
              <a:path w="21600" h="21600">
                <a:moveTo>
                  <a:pt x="0" y="7846"/>
                </a:moveTo>
                <a:lnTo>
                  <a:pt x="0" y="13754"/>
                </a:lnTo>
                <a:lnTo>
                  <a:pt x="675" y="13754"/>
                </a:lnTo>
                <a:lnTo>
                  <a:pt x="675" y="7846"/>
                </a:lnTo>
                <a:lnTo>
                  <a:pt x="0" y="7846"/>
                </a:lnTo>
                <a:close/>
              </a:path>
            </a:pathLst>
          </a:custGeom>
          <a:solidFill>
            <a:srgbClr val="e68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8120" y="333360"/>
            <a:ext cx="82933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Не соблюдение основ здорового питания студентом приводит ...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357120" y="-579600"/>
            <a:ext cx="817560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ми элементами здорового питания  являю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a94a"/>
                </a:solidFill>
                <a:latin typeface="Arial"/>
                <a:ea typeface="Times New Roman"/>
              </a:rPr>
              <a:t>белки, жиры, углеводы, витамины, макро и микроэлементы</a:t>
            </a:r>
            <a:r>
              <a:rPr b="0" lang="ru-RU" sz="2800" spc="-1" strike="noStrike">
                <a:solidFill>
                  <a:srgbClr val="ffa94a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5" descr="http://stat.gogo.mn/images/advice/formation-dieteticien.jpg"/>
          <p:cNvPicPr/>
          <p:nvPr/>
        </p:nvPicPr>
        <p:blipFill>
          <a:blip r:embed="rId1"/>
          <a:stretch/>
        </p:blipFill>
        <p:spPr>
          <a:xfrm>
            <a:off x="2604960" y="2595600"/>
            <a:ext cx="3679920" cy="368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447920" y="549000"/>
            <a:ext cx="769608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                       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Белк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амыми ценными  являются рыбный и молочный белок, который лучше всего усваивается организмом. На втором месте по качеству - мясной белок, на третьем – белок растительного происхожд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Ежедневно человек должен получать 75-90 г белка, из них 40-55 г животного происхождения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В рационе молодого человека обязательно должны присутствовать следующие продукты:</a:t>
            </a: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молоко или кисломолочные напитки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творог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ыр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рыба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мясные продукты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яйца</a:t>
            </a:r>
            <a:r>
              <a:rPr b="0" lang="ru-RU" sz="18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36" name="Picture 4" descr="2"/>
          <p:cNvPicPr/>
          <p:nvPr/>
        </p:nvPicPr>
        <p:blipFill>
          <a:blip r:embed="rId2"/>
          <a:stretch/>
        </p:blipFill>
        <p:spPr>
          <a:xfrm>
            <a:off x="6248520" y="4495680"/>
            <a:ext cx="2247840" cy="1690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2"/>
          <p:cNvPicPr/>
          <p:nvPr/>
        </p:nvPicPr>
        <p:blipFill>
          <a:blip r:embed="rId3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2"/>
          <p:cNvPicPr/>
          <p:nvPr/>
        </p:nvPicPr>
        <p:blipFill>
          <a:blip r:embed="rId4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2"/>
          <p:cNvPicPr/>
          <p:nvPr/>
        </p:nvPicPr>
        <p:blipFill>
          <a:blip r:embed="rId5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969840" y="603360"/>
            <a:ext cx="792504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                  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Жиры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Необходимые жиры содержатся не только в привычных для нас «жирных» продуктах – масле, сметане, сале и т.д. Мясо, молоко и рыба – источники скрытых жиров. Животные жиры усваиваются хуже растительных и не содержат важные для организма жирные кислоты и жирорастворимые витамины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Норма потребления жиров - 80-90 г в сутки, 30% суточного рацион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Ежедневно молодой человек должен получать: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сливочное масло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растительное масло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сметану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1"/>
          <a:stretch/>
        </p:blipFill>
        <p:spPr>
          <a:xfrm>
            <a:off x="4932360" y="3860640"/>
            <a:ext cx="316404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845964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                      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Углеводы</a:t>
            </a:r>
            <a:r>
              <a:rPr b="1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Углеводы необходимы для пополнения энергетических запасов организма. Наиболее полезны сложные углеводы, содержащие не перевариваемые пищевые волокн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уточная норма углеводов в рационе  - 300-400 г, из них на долю простых должно приходиться не более 100 г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Необходимые продукты в меню студента:</a:t>
            </a: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хлеб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крупы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картофель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мед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ухофрукты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ахар</a:t>
            </a:r>
            <a:r>
              <a:rPr b="0" lang="ru-RU" sz="18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3" name="Picture 4" descr="00011370"/>
          <p:cNvPicPr/>
          <p:nvPr/>
        </p:nvPicPr>
        <p:blipFill>
          <a:blip r:embed="rId1"/>
          <a:stretch/>
        </p:blipFill>
        <p:spPr>
          <a:xfrm>
            <a:off x="4356000" y="3500280"/>
            <a:ext cx="31687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39280" y="2428920"/>
            <a:ext cx="76899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авильный рост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азвитие костного скелета, зубов, мышечной, нервной ткан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нимают активное участие в процессах кроветворения, выработке различных ферментов и гормоно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TextBox 3"/>
          <p:cNvSpPr/>
          <p:nvPr/>
        </p:nvSpPr>
        <p:spPr>
          <a:xfrm>
            <a:off x="714240" y="620640"/>
            <a:ext cx="7715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неральные вещества входят в состав всех клеток и тканей и обеспечивают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53:20Z</dcterms:created>
  <dc:creator>Bill Geic</dc:creator>
  <dc:description/>
  <dc:language>en-US</dc:language>
  <cp:lastModifiedBy>Пользователь Windows</cp:lastModifiedBy>
  <dcterms:modified xsi:type="dcterms:W3CDTF">2021-12-15T10:03:54Z</dcterms:modified>
  <cp:revision>21</cp:revision>
  <dc:subject/>
  <dc:title>Здоровое питание и мой ребенок</dc:title>
</cp:coreProperties>
</file>