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3.png" ContentType="image/png"/>
  <Override PartName="/ppt/media/image24.jpeg" ContentType="image/jpeg"/>
  <Override PartName="/ppt/media/image15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BFA-7B7D-4579-BEC0-38B8681C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FBE-AB15-4E9B-A1C2-19A690A6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287-F711-4353-A3DA-FF2ADC7F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103-460D-40A6-960D-ED5A7716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75A-F338-476E-AF7E-56D66C1E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CC1-20E7-4209-9422-FA8C809D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F2F-0151-4041-B2E7-4263291D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8A4-D0FB-4832-8416-80375D4D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A27-3F18-47B3-9E05-7748F567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E1C-1DA3-45F6-B9AC-300CE73E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4F1-7946-40AE-88A7-53075A9D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FFF-2271-4F51-B8BF-524E2511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E90C-A0DD-41E5-8FF9-19BACDADD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ько Ирина Николаевна                                         учитель МКО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(С)ОШ № 3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9"/>
          <p:cNvSpPr/>
          <p:nvPr/>
        </p:nvSpPr>
        <p:spPr>
          <a:xfrm>
            <a:off x="2700360" y="285264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5"/>
          <p:cNvSpPr txBox="1"/>
          <p:nvPr/>
        </p:nvSpPr>
        <p:spPr>
          <a:xfrm>
            <a:off x="539640" y="836640"/>
            <a:ext cx="4608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61cd7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О любви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61cd7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WordArt 26"/>
          <p:cNvSpPr txBox="1"/>
          <p:nvPr/>
        </p:nvSpPr>
        <p:spPr>
          <a:xfrm>
            <a:off x="2771640" y="292428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27"/>
          <p:cNvSpPr txBox="1"/>
          <p:nvPr/>
        </p:nvSpPr>
        <p:spPr>
          <a:xfrm>
            <a:off x="4067280" y="3141720"/>
            <a:ext cx="35938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200ec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 войне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200ec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f0f8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Я познакомился с тобой, война! У меня на ладонях большие ссадины. В голове моей шум. Спать хочется. Ты желаешь отучить меня от всего. К чему я привык?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m_50055"/>
          <p:cNvPicPr/>
          <p:nvPr/>
        </p:nvPicPr>
        <p:blipFill>
          <a:blip r:embed="rId1"/>
          <a:stretch/>
        </p:blipFill>
        <p:spPr>
          <a:xfrm>
            <a:off x="5384880" y="1733400"/>
            <a:ext cx="2563560" cy="1920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s005"/>
          <p:cNvPicPr/>
          <p:nvPr/>
        </p:nvPicPr>
        <p:blipFill>
          <a:blip r:embed="rId2"/>
          <a:stretch/>
        </p:blipFill>
        <p:spPr>
          <a:xfrm>
            <a:off x="5294160" y="4002120"/>
            <a:ext cx="27432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54936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о тебе     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маю о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ебе не хочу    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маю о те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других хочу     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маю о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 о ком не хочу    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 умаю о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1"/>
          <p:cNvPicPr/>
          <p:nvPr/>
        </p:nvPicPr>
        <p:blipFill>
          <a:blip r:embed="rId1"/>
          <a:stretch/>
        </p:blipFill>
        <p:spPr>
          <a:xfrm>
            <a:off x="6264360" y="4584600"/>
            <a:ext cx="2879640" cy="227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4"/>
          <p:cNvPicPr/>
          <p:nvPr/>
        </p:nvPicPr>
        <p:blipFill>
          <a:blip r:embed="rId2"/>
          <a:stretch/>
        </p:blipFill>
        <p:spPr>
          <a:xfrm rot="20363400">
            <a:off x="-6480" y="5489640"/>
            <a:ext cx="2268720" cy="113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BD13664_"/>
          <p:cNvPicPr/>
          <p:nvPr/>
        </p:nvPicPr>
        <p:blipFill>
          <a:blip r:embed="rId3"/>
          <a:stretch/>
        </p:blipFill>
        <p:spPr>
          <a:xfrm>
            <a:off x="1763640" y="5157720"/>
            <a:ext cx="64764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амы,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ам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в мире шатком, где так мало ти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ыновей,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ынов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   не рожайте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 не  был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hristmas_prev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под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яну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ольше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ать на колени у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ть пепе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т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хочу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и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койно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525313_20030314175809"/>
          <p:cNvPicPr/>
          <p:nvPr/>
        </p:nvPicPr>
        <p:blipFill>
          <a:blip r:embed="rId1"/>
          <a:stretch/>
        </p:blipFill>
        <p:spPr>
          <a:xfrm>
            <a:off x="5508720" y="1413000"/>
            <a:ext cx="291456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CAW5UJWX"/>
          <p:cNvPicPr/>
          <p:nvPr/>
        </p:nvPicPr>
        <p:blipFill>
          <a:blip r:embed="rId2"/>
          <a:stretch/>
        </p:blipFill>
        <p:spPr>
          <a:xfrm>
            <a:off x="4716360" y="4365720"/>
            <a:ext cx="2448000" cy="207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f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и подвига всем погибшим солдатам- минута молча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945"/>
          <p:cNvPicPr/>
          <p:nvPr/>
        </p:nvPicPr>
        <p:blipFill>
          <a:blip r:embed="rId1"/>
          <a:stretch/>
        </p:blipFill>
        <p:spPr>
          <a:xfrm>
            <a:off x="1401840" y="1773360"/>
            <a:ext cx="6121440" cy="40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427280" y="765000"/>
            <a:ext cx="439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уда серд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учатс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це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оевано счаст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и Зем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ейте вой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кляните войн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и Зем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1"/>
          <p:cNvPicPr/>
          <p:nvPr/>
        </p:nvPicPr>
        <p:blipFill>
          <a:blip r:embed="rId1"/>
          <a:stretch/>
        </p:blipFill>
        <p:spPr>
          <a:xfrm>
            <a:off x="498600" y="1125360"/>
            <a:ext cx="3713040" cy="4967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1023840" y="6113520"/>
            <a:ext cx="282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755640" y="6021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755640" y="5032440"/>
            <a:ext cx="81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166760" y="5105520"/>
            <a:ext cx="27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 flipV="1">
            <a:off x="826920" y="551736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х, война, что ты подлая сдела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704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и тихими наши дворы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ушли, за солдатом-солд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9760" y="1600200"/>
            <a:ext cx="403704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свадеб разлуки и дым.               Раздарили сестренкам своим сапоги,               ну куда от них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ш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40"/>
          <p:cNvPicPr/>
          <p:nvPr/>
        </p:nvPicPr>
        <p:blipFill>
          <a:blip r:embed="rId1"/>
          <a:stretch/>
        </p:blipFill>
        <p:spPr>
          <a:xfrm>
            <a:off x="971640" y="3929040"/>
            <a:ext cx="3235320" cy="2192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049"/>
          <p:cNvPicPr/>
          <p:nvPr/>
        </p:nvPicPr>
        <p:blipFill>
          <a:blip r:embed="rId2"/>
          <a:stretch/>
        </p:blipFill>
        <p:spPr>
          <a:xfrm>
            <a:off x="4970520" y="3932280"/>
            <a:ext cx="339408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daf9f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5" descr="P1010223"/>
          <p:cNvPicPr/>
          <p:nvPr/>
        </p:nvPicPr>
        <p:blipFill>
          <a:blip r:embed="rId1"/>
          <a:stretch/>
        </p:blipFill>
        <p:spPr>
          <a:xfrm>
            <a:off x="3564000" y="5300640"/>
            <a:ext cx="1714320" cy="12794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2"/>
          <p:cNvSpPr txBox="1"/>
          <p:nvPr/>
        </p:nvSpPr>
        <p:spPr>
          <a:xfrm>
            <a:off x="684360" y="404640"/>
            <a:ext cx="7848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С любимыми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4" name="WordArt 63"/>
          <p:cNvSpPr txBox="1"/>
          <p:nvPr/>
        </p:nvSpPr>
        <p:spPr>
          <a:xfrm>
            <a:off x="3419640" y="2565360"/>
            <a:ext cx="252072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61cd7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не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solidFill>
                <a:srgbClr val="f61cd7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5" name="WordArt 64"/>
          <p:cNvSpPr txBox="1"/>
          <p:nvPr/>
        </p:nvSpPr>
        <p:spPr>
          <a:xfrm>
            <a:off x="1187280" y="3645000"/>
            <a:ext cx="75614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расставайтесь!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x.ivlim.ru/comment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ний звонок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prtiunaya21 ne/gallery/alfums/F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a-f. naro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olympus.ourlif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i.ru/pictures/wa11/flow0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rashol.narod.ru/1908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ы за привал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h/www.kygyzinfo.k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07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Война- короче нету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Война-печальней нету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В тоске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и славе этих лет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и на устах у нас иного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не 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и    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a19_"/>
          <p:cNvPicPr/>
          <p:nvPr/>
        </p:nvPicPr>
        <p:blipFill>
          <a:blip r:embed="rId1"/>
          <a:stretch/>
        </p:blipFill>
        <p:spPr>
          <a:xfrm>
            <a:off x="3780000" y="4869000"/>
            <a:ext cx="2447640" cy="198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a19_"/>
          <p:cNvPicPr/>
          <p:nvPr/>
        </p:nvPicPr>
        <p:blipFill>
          <a:blip r:embed="rId2"/>
          <a:stretch/>
        </p:blipFill>
        <p:spPr>
          <a:xfrm>
            <a:off x="6183360" y="4111560"/>
            <a:ext cx="2960640" cy="2746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a19_"/>
          <p:cNvPicPr/>
          <p:nvPr/>
        </p:nvPicPr>
        <p:blipFill>
          <a:blip r:embed="rId3"/>
          <a:stretch/>
        </p:blipFill>
        <p:spPr>
          <a:xfrm>
            <a:off x="1908000" y="3573360"/>
            <a:ext cx="2136960" cy="328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a19_"/>
          <p:cNvPicPr/>
          <p:nvPr/>
        </p:nvPicPr>
        <p:blipFill>
          <a:blip r:embed="rId4"/>
          <a:stretch/>
        </p:blipFill>
        <p:spPr>
          <a:xfrm>
            <a:off x="0" y="4705200"/>
            <a:ext cx="2136600" cy="2152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32360" y="691920"/>
            <a:ext cx="403848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а, что сего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щается с мил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боль свою в сил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переплав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етям клянем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янемся мог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с покориться никт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став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Ахмат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n_13"/>
          <p:cNvPicPr/>
          <p:nvPr/>
        </p:nvPicPr>
        <p:blipFill>
          <a:blip r:embed="rId1"/>
          <a:stretch/>
        </p:blipFill>
        <p:spPr>
          <a:xfrm>
            <a:off x="179280" y="620640"/>
            <a:ext cx="4326120" cy="47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0" descr="faire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1535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Gothic"/>
              </a:rPr>
              <a:t>Вой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agra003"/>
          <p:cNvPicPr/>
          <p:nvPr/>
        </p:nvPicPr>
        <p:blipFill>
          <a:blip r:embed="rId2"/>
          <a:stretch/>
        </p:blipFill>
        <p:spPr>
          <a:xfrm>
            <a:off x="1547640" y="1773360"/>
            <a:ext cx="6407280" cy="463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4" descr="faire"/>
          <p:cNvPicPr/>
          <p:nvPr/>
        </p:nvPicPr>
        <p:blipFill>
          <a:blip r:embed="rId3"/>
          <a:stretch/>
        </p:blipFill>
        <p:spPr>
          <a:xfrm>
            <a:off x="1476360" y="1773360"/>
            <a:ext cx="6408720" cy="465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1" descr="J0076146"/>
          <p:cNvPicPr/>
          <p:nvPr/>
        </p:nvPicPr>
        <p:blipFill>
          <a:blip r:embed="rId4"/>
          <a:stretch/>
        </p:blipFill>
        <p:spPr>
          <a:xfrm>
            <a:off x="1476360" y="6093000"/>
            <a:ext cx="2736720" cy="36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2" descr="J0076146"/>
          <p:cNvPicPr/>
          <p:nvPr/>
        </p:nvPicPr>
        <p:blipFill>
          <a:blip r:embed="rId5"/>
          <a:stretch/>
        </p:blipFill>
        <p:spPr>
          <a:xfrm>
            <a:off x="2700360" y="1197000"/>
            <a:ext cx="367200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3" descr="J0076146"/>
          <p:cNvPicPr/>
          <p:nvPr/>
        </p:nvPicPr>
        <p:blipFill>
          <a:blip r:embed="rId6"/>
          <a:stretch/>
        </p:blipFill>
        <p:spPr>
          <a:xfrm>
            <a:off x="4140360" y="6093000"/>
            <a:ext cx="2388960" cy="33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4" descr="J0076146"/>
          <p:cNvPicPr/>
          <p:nvPr/>
        </p:nvPicPr>
        <p:blipFill>
          <a:blip r:embed="rId7"/>
          <a:stretch/>
        </p:blipFill>
        <p:spPr>
          <a:xfrm>
            <a:off x="5651640" y="5950080"/>
            <a:ext cx="238896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00" y="1413000"/>
            <a:ext cx="4038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объявления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ны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ска фашисткой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ман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я смерть, двину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ерритории России к ее сердц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у Моск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4" descr="m_831"/>
          <p:cNvPicPr/>
          <p:nvPr/>
        </p:nvPicPr>
        <p:blipFill>
          <a:blip r:embed="rId1"/>
          <a:stretch/>
        </p:blipFill>
        <p:spPr>
          <a:xfrm>
            <a:off x="609480" y="1843200"/>
            <a:ext cx="4106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0" y="4581360"/>
            <a:ext cx="396072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ертвам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скорбью, исковерканными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судь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9" descr="9_2_02"/>
          <p:cNvPicPr/>
          <p:nvPr/>
        </p:nvPicPr>
        <p:blipFill>
          <a:blip r:embed="rId1"/>
          <a:stretch/>
        </p:blipFill>
        <p:spPr>
          <a:xfrm>
            <a:off x="4788000" y="836640"/>
            <a:ext cx="3529080" cy="293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CALIR9PU"/>
          <p:cNvPicPr/>
          <p:nvPr/>
        </p:nvPicPr>
        <p:blipFill>
          <a:blip r:embed="rId2"/>
          <a:stretch/>
        </p:blipFill>
        <p:spPr>
          <a:xfrm>
            <a:off x="1042920" y="4005360"/>
            <a:ext cx="3024360" cy="2455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836280"/>
            <a:ext cx="3600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Latha"/>
              </a:rPr>
              <a:t>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</a:rPr>
              <a:t>начинают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-разному,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анчив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инаково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a6f0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366480"/>
            <a:ext cx="82170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а солд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clip_image033"/>
          <p:cNvPicPr/>
          <p:nvPr/>
        </p:nvPicPr>
        <p:blipFill>
          <a:blip r:embed="rId1"/>
          <a:stretch/>
        </p:blipFill>
        <p:spPr>
          <a:xfrm>
            <a:off x="1335240" y="1860480"/>
            <a:ext cx="2286000" cy="166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1079676163"/>
          <p:cNvPicPr/>
          <p:nvPr/>
        </p:nvPicPr>
        <p:blipFill>
          <a:blip r:embed="rId2"/>
          <a:stretch/>
        </p:blipFill>
        <p:spPr>
          <a:xfrm>
            <a:off x="1049400" y="4081320"/>
            <a:ext cx="2857320" cy="1903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ы , гибнущие в жерновах войны, - наши дети, братья, мужья. Они свидетели войны. Их письма, как эхо горя и подвига, полные пафоса и боли, ненависти и грусти, тоски по близким и ро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352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гая В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гда бы н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жил бы жизнь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бы не ты,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 помогаешь 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Халкин-Голе и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ибо тебе, ро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я счастлив, что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лю!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7_1_2a"/>
          <p:cNvPicPr/>
          <p:nvPr/>
        </p:nvPicPr>
        <p:blipFill>
          <a:blip r:embed="rId1"/>
          <a:stretch/>
        </p:blipFill>
        <p:spPr>
          <a:xfrm>
            <a:off x="4141800" y="2009880"/>
            <a:ext cx="44607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55280" y="1700280"/>
            <a:ext cx="41036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Дорогие мои!.. Ваш сын  жив и здоров, его серое мозговое вещество работает как никогда,  и натерло не одну мозоль о тесную черепную короб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americansolder120303"/>
          <p:cNvPicPr/>
          <p:nvPr/>
        </p:nvPicPr>
        <p:blipFill>
          <a:blip r:embed="rId1"/>
          <a:stretch/>
        </p:blipFill>
        <p:spPr>
          <a:xfrm>
            <a:off x="5221440" y="2637000"/>
            <a:ext cx="2950920" cy="266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2:30:31Z</dcterms:created>
  <dc:creator>_</dc:creator>
  <dc:description/>
  <dc:language>en-US</dc:language>
  <cp:lastModifiedBy>User</cp:lastModifiedBy>
  <dcterms:modified xsi:type="dcterms:W3CDTF">2022-11-17T07:03:50Z</dcterms:modified>
  <cp:revision>81</cp:revision>
  <dc:subject/>
  <dc:title>Моя первая презентация</dc:title>
</cp:coreProperties>
</file>