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24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7D4-3AAD-4AB1-87D3-8F625889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CD3-FFD9-4B87-8414-9A8E8350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342-8C1B-4C6F-B895-EF319276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F0F-A51F-4CD1-A8D6-DCA1B79A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BE2-7066-4BFB-A735-848D1C1A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A6F-6A93-41A6-99EA-7E7F45B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FB2-F927-4E51-88F2-8407A592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2DB-5B16-4C63-828D-B9585A0D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DA3-2312-4A6E-86E0-D9F33FE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9DA-D781-472E-8C2E-5E3DF2A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ED5-8868-4E6B-A718-A130AEA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C56-3FC8-4C56-815B-8004AA3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776-DA51-4D8C-A202-38747FED7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ько Ирина Николаевна                                         учитель МКО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(С)ОШ № 3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2700360" y="2852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539640" y="836640"/>
            <a:ext cx="4608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61cd7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О любви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61cd7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WordArt 26"/>
          <p:cNvSpPr txBox="1"/>
          <p:nvPr/>
        </p:nvSpPr>
        <p:spPr>
          <a:xfrm>
            <a:off x="2771640" y="292428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27"/>
          <p:cNvSpPr txBox="1"/>
          <p:nvPr/>
        </p:nvSpPr>
        <p:spPr>
          <a:xfrm>
            <a:off x="4067280" y="3141720"/>
            <a:ext cx="3593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200ec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войне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200ec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f0f8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Я познакомился с тобой, война! У меня на ладонях большие ссадины. В голове моей шум. Спать хочется. Ты желаешь отучить меня от всего. К чему я привык?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m_50055"/>
          <p:cNvPicPr/>
          <p:nvPr/>
        </p:nvPicPr>
        <p:blipFill>
          <a:blip r:embed="rId1"/>
          <a:stretch/>
        </p:blipFill>
        <p:spPr>
          <a:xfrm>
            <a:off x="5384880" y="1733400"/>
            <a:ext cx="2563560" cy="192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s005"/>
          <p:cNvPicPr/>
          <p:nvPr/>
        </p:nvPicPr>
        <p:blipFill>
          <a:blip r:embed="rId2"/>
          <a:stretch/>
        </p:blipFill>
        <p:spPr>
          <a:xfrm>
            <a:off x="5294160" y="4002120"/>
            <a:ext cx="27432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54936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о тебе 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ебе не хочу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ругих хочу 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 о ком не хочу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1"/>
          <p:cNvPicPr/>
          <p:nvPr/>
        </p:nvPicPr>
        <p:blipFill>
          <a:blip r:embed="rId1"/>
          <a:stretch/>
        </p:blipFill>
        <p:spPr>
          <a:xfrm>
            <a:off x="6264360" y="4584600"/>
            <a:ext cx="2879640" cy="227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4"/>
          <p:cNvPicPr/>
          <p:nvPr/>
        </p:nvPicPr>
        <p:blipFill>
          <a:blip r:embed="rId2"/>
          <a:stretch/>
        </p:blipFill>
        <p:spPr>
          <a:xfrm rot="20363400">
            <a:off x="-6480" y="5489640"/>
            <a:ext cx="2268720" cy="113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BD13664_"/>
          <p:cNvPicPr/>
          <p:nvPr/>
        </p:nvPicPr>
        <p:blipFill>
          <a:blip r:embed="rId3"/>
          <a:stretch/>
        </p:blipFill>
        <p:spPr>
          <a:xfrm>
            <a:off x="1763640" y="5157720"/>
            <a:ext cx="647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ы,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в мире шатком, где так мало ти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ыновей,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ынов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   не рожайте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 не  был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hristmas_prev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по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яну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ольш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ть на колени у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ть пепе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т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хоч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и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койн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525313_20030314175809"/>
          <p:cNvPicPr/>
          <p:nvPr/>
        </p:nvPicPr>
        <p:blipFill>
          <a:blip r:embed="rId1"/>
          <a:stretch/>
        </p:blipFill>
        <p:spPr>
          <a:xfrm>
            <a:off x="5508720" y="1413000"/>
            <a:ext cx="291456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AW5UJWX"/>
          <p:cNvPicPr/>
          <p:nvPr/>
        </p:nvPicPr>
        <p:blipFill>
          <a:blip r:embed="rId2"/>
          <a:stretch/>
        </p:blipFill>
        <p:spPr>
          <a:xfrm>
            <a:off x="4716360" y="4365720"/>
            <a:ext cx="2448000" cy="207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f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и подвига всем погибшим солдатам- минута молча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945"/>
          <p:cNvPicPr/>
          <p:nvPr/>
        </p:nvPicPr>
        <p:blipFill>
          <a:blip r:embed="rId1"/>
          <a:stretch/>
        </p:blipFill>
        <p:spPr>
          <a:xfrm>
            <a:off x="1401840" y="1773360"/>
            <a:ext cx="6121440" cy="40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27280" y="765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да серд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чатс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це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евано счаст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ем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йте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ляните войн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ем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1"/>
          <p:cNvPicPr/>
          <p:nvPr/>
        </p:nvPicPr>
        <p:blipFill>
          <a:blip r:embed="rId1"/>
          <a:stretch/>
        </p:blipFill>
        <p:spPr>
          <a:xfrm>
            <a:off x="498600" y="1125360"/>
            <a:ext cx="3713040" cy="4967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1023840" y="61135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755640" y="6021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755640" y="503244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166760" y="5105520"/>
            <a:ext cx="27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 flipV="1">
            <a:off x="826920" y="551736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х, война, что ты подлая сдел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704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тихими наши дворы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шли, за солдатом-солд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9760" y="1600200"/>
            <a:ext cx="403704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свадеб разлуки и дым.               Раздарили сестренкам своим сапоги,               ну куда от ни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ш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40"/>
          <p:cNvPicPr/>
          <p:nvPr/>
        </p:nvPicPr>
        <p:blipFill>
          <a:blip r:embed="rId1"/>
          <a:stretch/>
        </p:blipFill>
        <p:spPr>
          <a:xfrm>
            <a:off x="971640" y="3929040"/>
            <a:ext cx="3235320" cy="2192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049"/>
          <p:cNvPicPr/>
          <p:nvPr/>
        </p:nvPicPr>
        <p:blipFill>
          <a:blip r:embed="rId2"/>
          <a:stretch/>
        </p:blipFill>
        <p:spPr>
          <a:xfrm>
            <a:off x="4970520" y="3932280"/>
            <a:ext cx="339408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daf9f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5" descr="P1010223"/>
          <p:cNvPicPr/>
          <p:nvPr/>
        </p:nvPicPr>
        <p:blipFill>
          <a:blip r:embed="rId1"/>
          <a:stretch/>
        </p:blipFill>
        <p:spPr>
          <a:xfrm>
            <a:off x="3564000" y="5300640"/>
            <a:ext cx="1714320" cy="12794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2"/>
          <p:cNvSpPr txBox="1"/>
          <p:nvPr/>
        </p:nvSpPr>
        <p:spPr>
          <a:xfrm>
            <a:off x="684360" y="404640"/>
            <a:ext cx="7848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С любимыми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4" name="WordArt 63"/>
          <p:cNvSpPr txBox="1"/>
          <p:nvPr/>
        </p:nvSpPr>
        <p:spPr>
          <a:xfrm>
            <a:off x="3419640" y="2565360"/>
            <a:ext cx="25207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61cd7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не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f61cd7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WordArt 64"/>
          <p:cNvSpPr txBox="1"/>
          <p:nvPr/>
        </p:nvSpPr>
        <p:spPr>
          <a:xfrm>
            <a:off x="1187280" y="3645000"/>
            <a:ext cx="75614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расставайтесь!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x.ivlim.ru/comment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й звоно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prtiunaya21 ne/gallery/alfums/F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a-f. 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olympus.ourlif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.ru/pictures/wa11/flow0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rashol.narod.ru/190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ы за привал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h/www.kygyzinfo.k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ойна- короче нет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ойна-печальней нет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В тоске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и славе этих лет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и на устах у нас иног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не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и    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a19_"/>
          <p:cNvPicPr/>
          <p:nvPr/>
        </p:nvPicPr>
        <p:blipFill>
          <a:blip r:embed="rId1"/>
          <a:stretch/>
        </p:blipFill>
        <p:spPr>
          <a:xfrm>
            <a:off x="3780000" y="4869000"/>
            <a:ext cx="2447640" cy="198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a19_"/>
          <p:cNvPicPr/>
          <p:nvPr/>
        </p:nvPicPr>
        <p:blipFill>
          <a:blip r:embed="rId2"/>
          <a:stretch/>
        </p:blipFill>
        <p:spPr>
          <a:xfrm>
            <a:off x="6183360" y="4111560"/>
            <a:ext cx="2960640" cy="2746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a19_"/>
          <p:cNvPicPr/>
          <p:nvPr/>
        </p:nvPicPr>
        <p:blipFill>
          <a:blip r:embed="rId3"/>
          <a:stretch/>
        </p:blipFill>
        <p:spPr>
          <a:xfrm>
            <a:off x="1908000" y="3573360"/>
            <a:ext cx="2136960" cy="328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a19_"/>
          <p:cNvPicPr/>
          <p:nvPr/>
        </p:nvPicPr>
        <p:blipFill>
          <a:blip r:embed="rId4"/>
          <a:stretch/>
        </p:blipFill>
        <p:spPr>
          <a:xfrm>
            <a:off x="0" y="4705200"/>
            <a:ext cx="213660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, что сего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ается с мил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боль свою в сил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переплав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етям клянем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емся мог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с покориться никт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ста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Ахма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n_13"/>
          <p:cNvPicPr/>
          <p:nvPr/>
        </p:nvPicPr>
        <p:blipFill>
          <a:blip r:embed="rId1"/>
          <a:stretch/>
        </p:blipFill>
        <p:spPr>
          <a:xfrm>
            <a:off x="179280" y="620640"/>
            <a:ext cx="432612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0" descr="faire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1535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Вой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agra003"/>
          <p:cNvPicPr/>
          <p:nvPr/>
        </p:nvPicPr>
        <p:blipFill>
          <a:blip r:embed="rId2"/>
          <a:stretch/>
        </p:blipFill>
        <p:spPr>
          <a:xfrm>
            <a:off x="1547640" y="1773360"/>
            <a:ext cx="6407280" cy="463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faire"/>
          <p:cNvPicPr/>
          <p:nvPr/>
        </p:nvPicPr>
        <p:blipFill>
          <a:blip r:embed="rId3"/>
          <a:stretch/>
        </p:blipFill>
        <p:spPr>
          <a:xfrm>
            <a:off x="1476360" y="1773360"/>
            <a:ext cx="6408720" cy="465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J0076146"/>
          <p:cNvPicPr/>
          <p:nvPr/>
        </p:nvPicPr>
        <p:blipFill>
          <a:blip r:embed="rId4"/>
          <a:stretch/>
        </p:blipFill>
        <p:spPr>
          <a:xfrm>
            <a:off x="1476360" y="6093000"/>
            <a:ext cx="273672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J0076146"/>
          <p:cNvPicPr/>
          <p:nvPr/>
        </p:nvPicPr>
        <p:blipFill>
          <a:blip r:embed="rId5"/>
          <a:stretch/>
        </p:blipFill>
        <p:spPr>
          <a:xfrm>
            <a:off x="2700360" y="1197000"/>
            <a:ext cx="367200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J0076146"/>
          <p:cNvPicPr/>
          <p:nvPr/>
        </p:nvPicPr>
        <p:blipFill>
          <a:blip r:embed="rId6"/>
          <a:stretch/>
        </p:blipFill>
        <p:spPr>
          <a:xfrm>
            <a:off x="4140360" y="6093000"/>
            <a:ext cx="2388960" cy="33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J0076146"/>
          <p:cNvPicPr/>
          <p:nvPr/>
        </p:nvPicPr>
        <p:blipFill>
          <a:blip r:embed="rId7"/>
          <a:stretch/>
        </p:blipFill>
        <p:spPr>
          <a:xfrm>
            <a:off x="5651640" y="5950080"/>
            <a:ext cx="238896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бъявления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ы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фашисткой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ма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я смерть, двину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рритории России к ее сердц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у Моск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m_831"/>
          <p:cNvPicPr/>
          <p:nvPr/>
        </p:nvPicPr>
        <p:blipFill>
          <a:blip r:embed="rId1"/>
          <a:stretch/>
        </p:blipFill>
        <p:spPr>
          <a:xfrm>
            <a:off x="609480" y="1843200"/>
            <a:ext cx="4106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458136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ртва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скорбью, исковерканными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судь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9" descr="9_2_02"/>
          <p:cNvPicPr/>
          <p:nvPr/>
        </p:nvPicPr>
        <p:blipFill>
          <a:blip r:embed="rId1"/>
          <a:stretch/>
        </p:blipFill>
        <p:spPr>
          <a:xfrm>
            <a:off x="4788000" y="836640"/>
            <a:ext cx="3529080" cy="29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CALIR9PU"/>
          <p:cNvPicPr/>
          <p:nvPr/>
        </p:nvPicPr>
        <p:blipFill>
          <a:blip r:embed="rId2"/>
          <a:stretch/>
        </p:blipFill>
        <p:spPr>
          <a:xfrm>
            <a:off x="1042920" y="4005360"/>
            <a:ext cx="3024360" cy="245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836280"/>
            <a:ext cx="360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Latha"/>
              </a:rPr>
              <a:t>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</a:rPr>
              <a:t>начинают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-разному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анчив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ково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a6f0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366480"/>
            <a:ext cx="82170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солд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clip_image033"/>
          <p:cNvPicPr/>
          <p:nvPr/>
        </p:nvPicPr>
        <p:blipFill>
          <a:blip r:embed="rId1"/>
          <a:stretch/>
        </p:blipFill>
        <p:spPr>
          <a:xfrm>
            <a:off x="1335240" y="1860480"/>
            <a:ext cx="2286000" cy="166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1079676163"/>
          <p:cNvPicPr/>
          <p:nvPr/>
        </p:nvPicPr>
        <p:blipFill>
          <a:blip r:embed="rId2"/>
          <a:stretch/>
        </p:blipFill>
        <p:spPr>
          <a:xfrm>
            <a:off x="1049400" y="4081320"/>
            <a:ext cx="2857320" cy="1903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ы , гибнущие в жерновах войны, - наши дети, братья, мужья. Они свидетели войны. Их письма, как эхо горя и подвига, полные пафоса и боли, ненависти и грусти, тоски по близким и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352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гая В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бы н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жил бы жизнь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 не ты,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помогаешь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Халкин-Голе 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тебе, 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счастлив, чт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лю!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7_1_2a"/>
          <p:cNvPicPr/>
          <p:nvPr/>
        </p:nvPicPr>
        <p:blipFill>
          <a:blip r:embed="rId1"/>
          <a:stretch/>
        </p:blipFill>
        <p:spPr>
          <a:xfrm>
            <a:off x="4141800" y="2009880"/>
            <a:ext cx="44607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55280" y="1700280"/>
            <a:ext cx="41036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орогие мои!.. Ваш сын  жив и здоров, его серое мозговое вещество работает как никогда,  и натерло не одну мозоль о тесную черепную ко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americansolder120303"/>
          <p:cNvPicPr/>
          <p:nvPr/>
        </p:nvPicPr>
        <p:blipFill>
          <a:blip r:embed="rId1"/>
          <a:stretch/>
        </p:blipFill>
        <p:spPr>
          <a:xfrm>
            <a:off x="5221440" y="2637000"/>
            <a:ext cx="2950920" cy="266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2:30:31Z</dcterms:created>
  <dc:creator>_</dc:creator>
  <dc:description/>
  <dc:language>en-US</dc:language>
  <cp:lastModifiedBy>User</cp:lastModifiedBy>
  <dcterms:modified xsi:type="dcterms:W3CDTF">2022-11-17T07:03:50Z</dcterms:modified>
  <cp:revision>81</cp:revision>
  <dc:subject/>
  <dc:title>Моя первая презентация</dc:title>
</cp:coreProperties>
</file>