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3B2-C57E-4DE1-B802-7A537FB9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659-DA3E-4D3D-81CD-B8C85A01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C2A-1F91-4E30-8499-9E89F607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949-C799-4BA6-9915-E2C90E6E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6CF-33B2-4C6D-95B6-E69C64D3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B8A-8E2D-4F61-8F3E-947AC973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C9D-3478-4218-95F0-025AAA24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FEA-17C0-4DC2-BF1E-D715CF13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7BE-F42C-41AE-B621-0AE31DEB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BEA-B3C6-4CCB-A855-E96748B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423-FE44-4C6C-BA2C-31ECE1F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7AE-1104-460A-9A57-55128BB5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91B649-AC98-450D-8D2E-B4B5DE7BF9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903480" y="851040"/>
            <a:ext cx="21592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Русский  язы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887640" y="2556000"/>
            <a:ext cx="394992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748960" y="4619520"/>
            <a:ext cx="45777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Учитель  русского язы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БОУ « Масальская  СОШ»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Щевку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арина Пет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BOOK2"/>
          <p:cNvPicPr/>
          <p:nvPr/>
        </p:nvPicPr>
        <p:blipFill>
          <a:blip r:embed="rId1"/>
          <a:stretch/>
        </p:blipFill>
        <p:spPr>
          <a:xfrm>
            <a:off x="7754760" y="6280200"/>
            <a:ext cx="2068560" cy="100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611280" y="2708280"/>
            <a:ext cx="88581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вторение по теме  «Синтаксис и  Пунктуация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111320" y="2851200"/>
            <a:ext cx="8143920" cy="228600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сю ноч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    зима  в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я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зала кружевные узоры  что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ин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рядилась   з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star08"/>
          <p:cNvPicPr/>
          <p:nvPr/>
        </p:nvPicPr>
        <p:blipFill>
          <a:blip r:embed="rId1"/>
          <a:stretch/>
        </p:blipFill>
        <p:spPr>
          <a:xfrm rot="5400000">
            <a:off x="3789720" y="338688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star08"/>
          <p:cNvPicPr/>
          <p:nvPr/>
        </p:nvPicPr>
        <p:blipFill>
          <a:blip r:embed="rId2"/>
          <a:stretch/>
        </p:blipFill>
        <p:spPr>
          <a:xfrm rot="5400000">
            <a:off x="6504480" y="3386880"/>
            <a:ext cx="714600" cy="78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star08"/>
          <p:cNvPicPr/>
          <p:nvPr/>
        </p:nvPicPr>
        <p:blipFill>
          <a:blip r:embed="rId3"/>
          <a:stretch/>
        </p:blipFill>
        <p:spPr>
          <a:xfrm rot="5400000">
            <a:off x="3289680" y="445824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star08"/>
          <p:cNvPicPr/>
          <p:nvPr/>
        </p:nvPicPr>
        <p:blipFill>
          <a:blip r:embed="rId4"/>
          <a:stretch/>
        </p:blipFill>
        <p:spPr>
          <a:xfrm rot="5400000">
            <a:off x="6504840" y="4458600"/>
            <a:ext cx="7142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111400" y="1279440"/>
            <a:ext cx="5959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39640" y="2922480"/>
            <a:ext cx="94633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.Зимн …  со …нце  свет …т  но не гре…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.Звонко  тонко  журчит в руч …е  в …л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.Ей с поклоном  ст …рик  отв …чает  Смилуйся государыня рыбк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.Небо медленно завол …кли  тучи и по лесу прошел  ве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111400" y="1279440"/>
            <a:ext cx="5959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39640" y="2922480"/>
            <a:ext cx="94633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.Зимн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е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со</a:t>
            </a: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це  свет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,  но не гре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.Звонко, тонко  журчит в руч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ь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е  в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.Ей с поклоном  ст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ик  отв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ает : «Смилуйся, государыня рыбк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.Небо медленно завол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ли  тучи и по лесу прошел  вет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1"/>
          <p:cNvSpPr/>
          <p:nvPr/>
        </p:nvSpPr>
        <p:spPr>
          <a:xfrm>
            <a:off x="2825640" y="708120"/>
            <a:ext cx="5357880" cy="92844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 по группа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"/>
          <p:cNvSpPr/>
          <p:nvPr/>
        </p:nvSpPr>
        <p:spPr>
          <a:xfrm>
            <a:off x="1754280" y="2779560"/>
            <a:ext cx="2928960" cy="214344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«Сказки о рыбаке и рыбке» А.С.Пушкина найдите   предложение  прямой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6397560" y="2779560"/>
            <a:ext cx="2928960" cy="228600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ксте найдите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5"/>
          <p:cNvSpPr/>
          <p:nvPr/>
        </p:nvSpPr>
        <p:spPr>
          <a:xfrm rot="2294400">
            <a:off x="3576240" y="168120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997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лево 6"/>
          <p:cNvSpPr/>
          <p:nvPr/>
        </p:nvSpPr>
        <p:spPr>
          <a:xfrm rot="14161200">
            <a:off x="6382080" y="2007000"/>
            <a:ext cx="978120" cy="4842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00997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530B32B-5336-4C94-BF93-7FB879A3F9D9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6C11A2E-9034-4F46-B765-6BD7383D692F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87280" y="466200"/>
            <a:ext cx="7140600" cy="2721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е мне было… 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ому что….                 Особенн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360" y="3365280"/>
            <a:ext cx="9068040" cy="33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хорошо,  интересно, скучно, страшно, снача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егодня, правильно, когда-нибудь, о, навсегда, отлично, бесполез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0010"/>
          <p:cNvPicPr/>
          <p:nvPr/>
        </p:nvPicPr>
        <p:blipFill>
          <a:blip r:embed="rId1"/>
          <a:stretch/>
        </p:blipFill>
        <p:spPr>
          <a:xfrm>
            <a:off x="7561440" y="4210200"/>
            <a:ext cx="31399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539720" y="2637000"/>
            <a:ext cx="62150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№258 стр.1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3  «3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4   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5  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682640" y="2851200"/>
            <a:ext cx="6215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:\Мои рисунки\455463045.gif"/>
          <p:cNvPicPr/>
          <p:nvPr/>
        </p:nvPicPr>
        <p:blipFill>
          <a:blip r:embed="rId1"/>
          <a:stretch/>
        </p:blipFill>
        <p:spPr>
          <a:xfrm>
            <a:off x="4611600" y="3422520"/>
            <a:ext cx="32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54160" y="1208160"/>
            <a:ext cx="9358200" cy="85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Не)  перех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о 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дите улицу  на красный  сигнал  св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т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о 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ф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Вы зна 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те  Правил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дорожн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ого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дв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Бе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шумно  тр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п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тали  (на) клен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  разноцветн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ые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л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 с точ      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star08"/>
          <p:cNvPicPr/>
          <p:nvPr/>
        </p:nvPicPr>
        <p:blipFill>
          <a:blip r:embed="rId1"/>
          <a:stretch/>
        </p:blipFill>
        <p:spPr>
          <a:xfrm>
            <a:off x="3611520" y="135108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star08"/>
          <p:cNvPicPr/>
          <p:nvPr/>
        </p:nvPicPr>
        <p:blipFill>
          <a:blip r:embed="rId2"/>
          <a:stretch/>
        </p:blipFill>
        <p:spPr>
          <a:xfrm>
            <a:off x="7254720" y="2279520"/>
            <a:ext cx="690840" cy="7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star08"/>
          <p:cNvPicPr/>
          <p:nvPr/>
        </p:nvPicPr>
        <p:blipFill>
          <a:blip r:embed="rId3"/>
          <a:stretch/>
        </p:blipFill>
        <p:spPr>
          <a:xfrm>
            <a:off x="5897520" y="227952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star08"/>
          <p:cNvPicPr/>
          <p:nvPr/>
        </p:nvPicPr>
        <p:blipFill>
          <a:blip r:embed="rId4"/>
          <a:stretch/>
        </p:blipFill>
        <p:spPr>
          <a:xfrm>
            <a:off x="2611440" y="29941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star08"/>
          <p:cNvPicPr/>
          <p:nvPr/>
        </p:nvPicPr>
        <p:blipFill>
          <a:blip r:embed="rId5"/>
          <a:stretch/>
        </p:blipFill>
        <p:spPr>
          <a:xfrm>
            <a:off x="2540160" y="3780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star08"/>
          <p:cNvPicPr/>
          <p:nvPr/>
        </p:nvPicPr>
        <p:blipFill>
          <a:blip r:embed="rId6"/>
          <a:stretch/>
        </p:blipFill>
        <p:spPr>
          <a:xfrm>
            <a:off x="4468680" y="3851280"/>
            <a:ext cx="785880" cy="92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рука"/>
          <p:cNvPicPr/>
          <p:nvPr/>
        </p:nvPicPr>
        <p:blipFill>
          <a:blip r:embed="rId7"/>
          <a:stretch/>
        </p:blipFill>
        <p:spPr>
          <a:xfrm>
            <a:off x="8232840" y="3780000"/>
            <a:ext cx="1847880" cy="141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star08"/>
          <p:cNvPicPr/>
          <p:nvPr/>
        </p:nvPicPr>
        <p:blipFill>
          <a:blip r:embed="rId8"/>
          <a:stretch/>
        </p:blipFill>
        <p:spPr>
          <a:xfrm>
            <a:off x="1182600" y="478008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star08"/>
          <p:cNvPicPr/>
          <p:nvPr/>
        </p:nvPicPr>
        <p:blipFill>
          <a:blip r:embed="rId9"/>
          <a:stretch/>
        </p:blipFill>
        <p:spPr>
          <a:xfrm>
            <a:off x="5183280" y="478008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star08"/>
          <p:cNvPicPr/>
          <p:nvPr/>
        </p:nvPicPr>
        <p:blipFill>
          <a:blip r:embed="rId10"/>
          <a:stretch/>
        </p:blipFill>
        <p:spPr>
          <a:xfrm>
            <a:off x="6397560" y="470844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star08"/>
          <p:cNvPicPr/>
          <p:nvPr/>
        </p:nvPicPr>
        <p:blipFill>
          <a:blip r:embed="rId11"/>
          <a:stretch/>
        </p:blipFill>
        <p:spPr>
          <a:xfrm>
            <a:off x="2897280" y="563724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star08"/>
          <p:cNvPicPr/>
          <p:nvPr/>
        </p:nvPicPr>
        <p:blipFill>
          <a:blip r:embed="rId12"/>
          <a:stretch/>
        </p:blipFill>
        <p:spPr>
          <a:xfrm>
            <a:off x="7540560" y="55656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star08"/>
          <p:cNvPicPr/>
          <p:nvPr/>
        </p:nvPicPr>
        <p:blipFill>
          <a:blip r:embed="rId13"/>
          <a:stretch/>
        </p:blipFill>
        <p:spPr>
          <a:xfrm>
            <a:off x="754200" y="6423120"/>
            <a:ext cx="78552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star08"/>
          <p:cNvPicPr/>
          <p:nvPr/>
        </p:nvPicPr>
        <p:blipFill>
          <a:blip r:embed="rId14"/>
          <a:stretch/>
        </p:blipFill>
        <p:spPr>
          <a:xfrm rot="5400000">
            <a:off x="3325680" y="6422760"/>
            <a:ext cx="7858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11280" y="1922400"/>
          <a:ext cx="8929440" cy="5072040"/>
        </p:xfrm>
        <a:graphic>
          <a:graphicData uri="http://schemas.openxmlformats.org/drawingml/2006/table">
            <a:tbl>
              <a:tblPr/>
              <a:tblGrid>
                <a:gridCol w="4465440"/>
                <a:gridCol w="4464000"/>
              </a:tblGrid>
              <a:tr h="16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</a:tbl>
          </a:graphicData>
        </a:graphic>
      </p:graphicFrame>
      <p:sp>
        <p:nvSpPr>
          <p:cNvPr id="63" name="TextBox 2"/>
          <p:cNvSpPr/>
          <p:nvPr/>
        </p:nvSpPr>
        <p:spPr>
          <a:xfrm>
            <a:off x="1897200" y="2565360"/>
            <a:ext cx="22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826240" y="2494080"/>
            <a:ext cx="3571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896760" y="4351320"/>
            <a:ext cx="4426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е лис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лаг)           (су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468760" y="4422600"/>
            <a:ext cx="3861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етали на кл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гол)        (су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468760" y="6137280"/>
            <a:ext cx="4057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етали бесшум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гол)     (нареч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611280" y="3637080"/>
            <a:ext cx="8786880" cy="33573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682720" y="1279440"/>
            <a:ext cx="5429520" cy="164304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"/>
          <p:cNvSpPr/>
          <p:nvPr/>
        </p:nvSpPr>
        <p:spPr>
          <a:xfrm>
            <a:off x="468360" y="3351240"/>
            <a:ext cx="9001080" cy="128592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предложение с обращением и составьте  его  сх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539640" y="4851360"/>
            <a:ext cx="9001080" cy="114300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предложение с  однородными членами  и  составьте  его  сх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5040360" y="6780240"/>
            <a:ext cx="46080" cy="4608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611280" y="6280200"/>
            <a:ext cx="8929440" cy="107136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е книги любят все взрослые старики 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611280" y="6280200"/>
            <a:ext cx="8929440" cy="107136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1"/>
          <p:cNvSpPr/>
          <p:nvPr/>
        </p:nvSpPr>
        <p:spPr>
          <a:xfrm>
            <a:off x="896760" y="1922400"/>
            <a:ext cx="8143920" cy="507204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лнцу вверх  все потяну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 другу улыбнули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 , влево наклони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у низко поклони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иветствовали друж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работать нуж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2611440" y="1565280"/>
            <a:ext cx="5214960" cy="91440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325440" y="2279520"/>
            <a:ext cx="9215280" cy="185760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 о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Monotype Corsiva"/>
                <a:ea typeface="Times New Roman"/>
              </a:rPr>
              <a:t>л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це  с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дилось  и  к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сы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луч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ми  осв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щ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ло  в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рхуш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ыс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к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го    ду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star08"/>
          <p:cNvPicPr/>
          <p:nvPr/>
        </p:nvPicPr>
        <p:blipFill>
          <a:blip r:embed="rId1"/>
          <a:stretch/>
        </p:blipFill>
        <p:spPr>
          <a:xfrm>
            <a:off x="1111320" y="2279520"/>
            <a:ext cx="642960" cy="7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star08"/>
          <p:cNvPicPr/>
          <p:nvPr/>
        </p:nvPicPr>
        <p:blipFill>
          <a:blip r:embed="rId2"/>
          <a:stretch/>
        </p:blipFill>
        <p:spPr>
          <a:xfrm rot="5400000">
            <a:off x="2860920" y="217224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star08"/>
          <p:cNvPicPr/>
          <p:nvPr/>
        </p:nvPicPr>
        <p:blipFill>
          <a:blip r:embed="rId3"/>
          <a:stretch/>
        </p:blipFill>
        <p:spPr>
          <a:xfrm rot="5400000">
            <a:off x="5932800" y="217224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star08"/>
          <p:cNvPicPr/>
          <p:nvPr/>
        </p:nvPicPr>
        <p:blipFill>
          <a:blip r:embed="rId4"/>
          <a:stretch/>
        </p:blipFill>
        <p:spPr>
          <a:xfrm rot="5400000">
            <a:off x="1217880" y="281520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star08"/>
          <p:cNvPicPr/>
          <p:nvPr/>
        </p:nvPicPr>
        <p:blipFill>
          <a:blip r:embed="rId5"/>
          <a:stretch/>
        </p:blipFill>
        <p:spPr>
          <a:xfrm rot="5400000">
            <a:off x="3289680" y="274392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star08"/>
          <p:cNvPicPr/>
          <p:nvPr/>
        </p:nvPicPr>
        <p:blipFill>
          <a:blip r:embed="rId6"/>
          <a:stretch/>
        </p:blipFill>
        <p:spPr>
          <a:xfrm rot="5400000">
            <a:off x="4503960" y="281520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star08"/>
          <p:cNvPicPr/>
          <p:nvPr/>
        </p:nvPicPr>
        <p:blipFill>
          <a:blip r:embed="rId7"/>
          <a:stretch/>
        </p:blipFill>
        <p:spPr>
          <a:xfrm rot="5400000">
            <a:off x="6147000" y="281520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star08"/>
          <p:cNvPicPr/>
          <p:nvPr/>
        </p:nvPicPr>
        <p:blipFill>
          <a:blip r:embed="rId8"/>
          <a:stretch/>
        </p:blipFill>
        <p:spPr>
          <a:xfrm rot="5400000">
            <a:off x="1217880" y="338688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star08"/>
          <p:cNvPicPr/>
          <p:nvPr/>
        </p:nvPicPr>
        <p:blipFill>
          <a:blip r:embed="rId9"/>
          <a:stretch/>
        </p:blipFill>
        <p:spPr>
          <a:xfrm rot="5400000">
            <a:off x="2360880" y="3315240"/>
            <a:ext cx="714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22"/>
          <p:cNvSpPr/>
          <p:nvPr/>
        </p:nvSpPr>
        <p:spPr>
          <a:xfrm>
            <a:off x="539640" y="4422600"/>
            <a:ext cx="8715600" cy="2857680"/>
          </a:xfrm>
          <a:prstGeom prst="roundRect">
            <a:avLst>
              <a:gd name="adj" fmla="val 16667"/>
            </a:avLst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еще какие союзы  могут соединять  однородные  члены в простом  предложении  и простые предложения в составе  слож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539720" y="2708280"/>
            <a:ext cx="6429600" cy="15717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иди  а 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осень  но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3"/>
          <p:cNvSpPr/>
          <p:nvPr/>
        </p:nvSpPr>
        <p:spPr>
          <a:xfrm>
            <a:off x="396720" y="2422440"/>
            <a:ext cx="9001440" cy="17859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етер  р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здувал    сн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жинки  и о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л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сали  под его му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star08"/>
          <p:cNvPicPr/>
          <p:nvPr/>
        </p:nvPicPr>
        <p:blipFill>
          <a:blip r:embed="rId1"/>
          <a:stretch/>
        </p:blipFill>
        <p:spPr>
          <a:xfrm rot="5400000">
            <a:off x="2360880" y="2386800"/>
            <a:ext cx="714600" cy="785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star08"/>
          <p:cNvPicPr/>
          <p:nvPr/>
        </p:nvPicPr>
        <p:blipFill>
          <a:blip r:embed="rId2"/>
          <a:stretch/>
        </p:blipFill>
        <p:spPr>
          <a:xfrm rot="5400000">
            <a:off x="5289840" y="231516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star08"/>
          <p:cNvPicPr/>
          <p:nvPr/>
        </p:nvPicPr>
        <p:blipFill>
          <a:blip r:embed="rId3"/>
          <a:stretch/>
        </p:blipFill>
        <p:spPr>
          <a:xfrm rot="5400000">
            <a:off x="1217880" y="2958120"/>
            <a:ext cx="71424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7"/>
          <p:cNvSpPr/>
          <p:nvPr/>
        </p:nvSpPr>
        <p:spPr>
          <a:xfrm>
            <a:off x="968400" y="4494240"/>
            <a:ext cx="82152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ва особенность  постановки знаков препинания в предложениях с союзом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96760" y="2851200"/>
            <a:ext cx="885852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, которые употребляются в сложном предлож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чтобы , так как , потому что , где, когда, е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/>
  <dc:description/>
  <dc:language>en-US</dc:language>
  <cp:lastModifiedBy>User</cp:lastModifiedBy>
  <dcterms:modified xsi:type="dcterms:W3CDTF">2017-11-15T12:46:41Z</dcterms:modified>
  <cp:revision>64</cp:revision>
  <dc:subject/>
  <dc:title>Слайд 1</dc:title>
</cp:coreProperties>
</file>