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923-55B9-4B76-9B74-838166B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D17-63C8-4D6A-9F1D-A55924CD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7BE-315B-4680-9E6A-1434758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E9A-757C-4DB7-8CBA-575082A2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FC5-1C7C-4A99-BD5C-8EB6DCCF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A2A-235F-480D-ABEF-34D9638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E1D-4B67-4D61-8021-F71A741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0C5-F5F7-4A89-B6FF-122B95E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6CF-B37C-4206-8B1B-97E18A5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E9C-0D33-455E-A0B3-F3085C3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783-97FF-4CE1-B08B-3A60535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520-02F5-4D25-9573-CDA1BD0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F116E3-2041-4E3D-9D19-342B2A6BBA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903480" y="851040"/>
            <a:ext cx="21592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усский  язы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887640" y="2556000"/>
            <a:ext cx="39499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748960" y="4619520"/>
            <a:ext cx="45777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читель  русского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БОУ « Масальская  СОШ»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Щевку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арина Пет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BOOK2"/>
          <p:cNvPicPr/>
          <p:nvPr/>
        </p:nvPicPr>
        <p:blipFill>
          <a:blip r:embed="rId1"/>
          <a:stretch/>
        </p:blipFill>
        <p:spPr>
          <a:xfrm>
            <a:off x="7754760" y="6280200"/>
            <a:ext cx="206856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11280" y="2708280"/>
            <a:ext cx="88581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вторение по теме  «Синтаксис и  Пунктуация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111320" y="2851200"/>
            <a:ext cx="814392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сю но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зима  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зала кружевные узоры  что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рядилась   з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star08"/>
          <p:cNvPicPr/>
          <p:nvPr/>
        </p:nvPicPr>
        <p:blipFill>
          <a:blip r:embed="rId1"/>
          <a:stretch/>
        </p:blipFill>
        <p:spPr>
          <a:xfrm rot="5400000">
            <a:off x="378972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star08"/>
          <p:cNvPicPr/>
          <p:nvPr/>
        </p:nvPicPr>
        <p:blipFill>
          <a:blip r:embed="rId2"/>
          <a:stretch/>
        </p:blipFill>
        <p:spPr>
          <a:xfrm rot="5400000">
            <a:off x="6504480" y="3386880"/>
            <a:ext cx="714600" cy="78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star08"/>
          <p:cNvPicPr/>
          <p:nvPr/>
        </p:nvPicPr>
        <p:blipFill>
          <a:blip r:embed="rId3"/>
          <a:stretch/>
        </p:blipFill>
        <p:spPr>
          <a:xfrm rot="5400000">
            <a:off x="3289680" y="4458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tar08"/>
          <p:cNvPicPr/>
          <p:nvPr/>
        </p:nvPicPr>
        <p:blipFill>
          <a:blip r:embed="rId4"/>
          <a:stretch/>
        </p:blipFill>
        <p:spPr>
          <a:xfrm rot="5400000">
            <a:off x="6504840" y="4458600"/>
            <a:ext cx="7142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…  со …нце  свет …т  но не гре…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  тонко  журчит в руч …е  в …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 …рик  отв …чает  Смилуйся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…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со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це  све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,  но не гре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, тонко  журчит в руч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е  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ик  от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ет : «Смилуйся,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1"/>
          <p:cNvSpPr/>
          <p:nvPr/>
        </p:nvSpPr>
        <p:spPr>
          <a:xfrm>
            <a:off x="2825640" y="708120"/>
            <a:ext cx="5357880" cy="928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по групп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1754280" y="2779560"/>
            <a:ext cx="2928960" cy="2143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«Сказки о рыбаке и рыбке» А.С.Пушкина найдите   предложение  прямой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6397560" y="2779560"/>
            <a:ext cx="2928960" cy="228600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ксте найдите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5"/>
          <p:cNvSpPr/>
          <p:nvPr/>
        </p:nvSpPr>
        <p:spPr>
          <a:xfrm rot="2294400">
            <a:off x="3576240" y="168120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6"/>
          <p:cNvSpPr/>
          <p:nvPr/>
        </p:nvSpPr>
        <p:spPr>
          <a:xfrm rot="14161200">
            <a:off x="6382080" y="20070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4B66CA5-D0C8-4607-8D63-F2A45203A124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23A81CE-17AC-48F2-BBED-BF692D834D6E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87280" y="466200"/>
            <a:ext cx="7140600" cy="2721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… 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….                 Особен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3365280"/>
            <a:ext cx="9068040" cy="33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хорошо,  интересно, скучно, страшно, снача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годня, правильно, когда-нибудь, о, навсегда, отлично, бесполез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0010"/>
          <p:cNvPicPr/>
          <p:nvPr/>
        </p:nvPicPr>
        <p:blipFill>
          <a:blip r:embed="rId1"/>
          <a:stretch/>
        </p:blipFill>
        <p:spPr>
          <a:xfrm>
            <a:off x="7561440" y="4210200"/>
            <a:ext cx="31399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39720" y="2637000"/>
            <a:ext cx="62150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№258 стр.1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  «3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4  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5  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682640" y="2851200"/>
            <a:ext cx="6215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:\Мои рисунки\455463045.gif"/>
          <p:cNvPicPr/>
          <p:nvPr/>
        </p:nvPicPr>
        <p:blipFill>
          <a:blip r:embed="rId1"/>
          <a:stretch/>
        </p:blipFill>
        <p:spPr>
          <a:xfrm>
            <a:off x="4611600" y="342252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4160" y="1208160"/>
            <a:ext cx="9358200" cy="85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Не)  перех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ите улицу  на красный  сигнал  с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ф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Вы зна 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е  Прави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орож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го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д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Бе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шумно  тр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п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тали  (на) клен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 разноцвет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ы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л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с точ      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star08"/>
          <p:cNvPicPr/>
          <p:nvPr/>
        </p:nvPicPr>
        <p:blipFill>
          <a:blip r:embed="rId1"/>
          <a:stretch/>
        </p:blipFill>
        <p:spPr>
          <a:xfrm>
            <a:off x="3611520" y="1351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star08"/>
          <p:cNvPicPr/>
          <p:nvPr/>
        </p:nvPicPr>
        <p:blipFill>
          <a:blip r:embed="rId2"/>
          <a:stretch/>
        </p:blipFill>
        <p:spPr>
          <a:xfrm>
            <a:off x="7254720" y="2279520"/>
            <a:ext cx="690840" cy="7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tar08"/>
          <p:cNvPicPr/>
          <p:nvPr/>
        </p:nvPicPr>
        <p:blipFill>
          <a:blip r:embed="rId3"/>
          <a:stretch/>
        </p:blipFill>
        <p:spPr>
          <a:xfrm>
            <a:off x="5897520" y="227952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star08"/>
          <p:cNvPicPr/>
          <p:nvPr/>
        </p:nvPicPr>
        <p:blipFill>
          <a:blip r:embed="rId4"/>
          <a:stretch/>
        </p:blipFill>
        <p:spPr>
          <a:xfrm>
            <a:off x="2611440" y="29941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tar08"/>
          <p:cNvPicPr/>
          <p:nvPr/>
        </p:nvPicPr>
        <p:blipFill>
          <a:blip r:embed="rId5"/>
          <a:stretch/>
        </p:blipFill>
        <p:spPr>
          <a:xfrm>
            <a:off x="2540160" y="3780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tar08"/>
          <p:cNvPicPr/>
          <p:nvPr/>
        </p:nvPicPr>
        <p:blipFill>
          <a:blip r:embed="rId6"/>
          <a:stretch/>
        </p:blipFill>
        <p:spPr>
          <a:xfrm>
            <a:off x="4468680" y="3851280"/>
            <a:ext cx="78588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рука"/>
          <p:cNvPicPr/>
          <p:nvPr/>
        </p:nvPicPr>
        <p:blipFill>
          <a:blip r:embed="rId7"/>
          <a:stretch/>
        </p:blipFill>
        <p:spPr>
          <a:xfrm>
            <a:off x="8232840" y="3780000"/>
            <a:ext cx="1847880" cy="14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star08"/>
          <p:cNvPicPr/>
          <p:nvPr/>
        </p:nvPicPr>
        <p:blipFill>
          <a:blip r:embed="rId8"/>
          <a:stretch/>
        </p:blipFill>
        <p:spPr>
          <a:xfrm>
            <a:off x="118260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tar08"/>
          <p:cNvPicPr/>
          <p:nvPr/>
        </p:nvPicPr>
        <p:blipFill>
          <a:blip r:embed="rId9"/>
          <a:stretch/>
        </p:blipFill>
        <p:spPr>
          <a:xfrm>
            <a:off x="518328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star08"/>
          <p:cNvPicPr/>
          <p:nvPr/>
        </p:nvPicPr>
        <p:blipFill>
          <a:blip r:embed="rId10"/>
          <a:stretch/>
        </p:blipFill>
        <p:spPr>
          <a:xfrm>
            <a:off x="6397560" y="47084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star08"/>
          <p:cNvPicPr/>
          <p:nvPr/>
        </p:nvPicPr>
        <p:blipFill>
          <a:blip r:embed="rId11"/>
          <a:stretch/>
        </p:blipFill>
        <p:spPr>
          <a:xfrm>
            <a:off x="2897280" y="56372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star08"/>
          <p:cNvPicPr/>
          <p:nvPr/>
        </p:nvPicPr>
        <p:blipFill>
          <a:blip r:embed="rId12"/>
          <a:stretch/>
        </p:blipFill>
        <p:spPr>
          <a:xfrm>
            <a:off x="7540560" y="55656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08"/>
          <p:cNvPicPr/>
          <p:nvPr/>
        </p:nvPicPr>
        <p:blipFill>
          <a:blip r:embed="rId13"/>
          <a:stretch/>
        </p:blipFill>
        <p:spPr>
          <a:xfrm>
            <a:off x="754200" y="6423120"/>
            <a:ext cx="78552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star08"/>
          <p:cNvPicPr/>
          <p:nvPr/>
        </p:nvPicPr>
        <p:blipFill>
          <a:blip r:embed="rId14"/>
          <a:stretch/>
        </p:blipFill>
        <p:spPr>
          <a:xfrm rot="5400000">
            <a:off x="3325680" y="6422760"/>
            <a:ext cx="7858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1280" y="1922400"/>
          <a:ext cx="8929440" cy="5072040"/>
        </p:xfrm>
        <a:graphic>
          <a:graphicData uri="http://schemas.openxmlformats.org/drawingml/2006/table">
            <a:tbl>
              <a:tblPr/>
              <a:tblGrid>
                <a:gridCol w="4465440"/>
                <a:gridCol w="4464000"/>
              </a:tblGrid>
              <a:tr h="16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</a:tbl>
          </a:graphicData>
        </a:graphic>
      </p:graphicFrame>
      <p:sp>
        <p:nvSpPr>
          <p:cNvPr id="63" name="TextBox 2"/>
          <p:cNvSpPr/>
          <p:nvPr/>
        </p:nvSpPr>
        <p:spPr>
          <a:xfrm>
            <a:off x="1897200" y="2565360"/>
            <a:ext cx="22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826240" y="2494080"/>
            <a:ext cx="3571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896760" y="4351320"/>
            <a:ext cx="4426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лис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аг)   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468760" y="4422600"/>
            <a:ext cx="3861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на кл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468760" y="6137280"/>
            <a:ext cx="4057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бесшум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(нареч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611280" y="3637080"/>
            <a:ext cx="8786880" cy="33573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682720" y="1279440"/>
            <a:ext cx="5429520" cy="164304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"/>
          <p:cNvSpPr/>
          <p:nvPr/>
        </p:nvSpPr>
        <p:spPr>
          <a:xfrm>
            <a:off x="468360" y="3351240"/>
            <a:ext cx="9001080" cy="12859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обращением и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539640" y="4851360"/>
            <a:ext cx="9001080" cy="11430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 однородными членами  и 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040360" y="6780240"/>
            <a:ext cx="46080" cy="4608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е книги любят все взрослые старики 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"/>
          <p:cNvSpPr/>
          <p:nvPr/>
        </p:nvSpPr>
        <p:spPr>
          <a:xfrm>
            <a:off x="896760" y="1922400"/>
            <a:ext cx="8143920" cy="50720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вверх  все потяну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 другу улыбнули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 , влево на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 низко по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иветствовали друж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работать нуж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2611440" y="1565280"/>
            <a:ext cx="5214960" cy="9144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325440" y="2279520"/>
            <a:ext cx="9215280" cy="18576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о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Monotype Corsiva"/>
                <a:ea typeface="Times New Roman"/>
              </a:rPr>
              <a:t>л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це  с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дилось  и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с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у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ми  ос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щ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ло  в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рхуш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с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го    ду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star08"/>
          <p:cNvPicPr/>
          <p:nvPr/>
        </p:nvPicPr>
        <p:blipFill>
          <a:blip r:embed="rId1"/>
          <a:stretch/>
        </p:blipFill>
        <p:spPr>
          <a:xfrm>
            <a:off x="1111320" y="227952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tar08"/>
          <p:cNvPicPr/>
          <p:nvPr/>
        </p:nvPicPr>
        <p:blipFill>
          <a:blip r:embed="rId2"/>
          <a:stretch/>
        </p:blipFill>
        <p:spPr>
          <a:xfrm rot="5400000">
            <a:off x="286092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tar08"/>
          <p:cNvPicPr/>
          <p:nvPr/>
        </p:nvPicPr>
        <p:blipFill>
          <a:blip r:embed="rId3"/>
          <a:stretch/>
        </p:blipFill>
        <p:spPr>
          <a:xfrm rot="5400000">
            <a:off x="593280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star08"/>
          <p:cNvPicPr/>
          <p:nvPr/>
        </p:nvPicPr>
        <p:blipFill>
          <a:blip r:embed="rId4"/>
          <a:stretch/>
        </p:blipFill>
        <p:spPr>
          <a:xfrm rot="5400000">
            <a:off x="121788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star08"/>
          <p:cNvPicPr/>
          <p:nvPr/>
        </p:nvPicPr>
        <p:blipFill>
          <a:blip r:embed="rId5"/>
          <a:stretch/>
        </p:blipFill>
        <p:spPr>
          <a:xfrm rot="5400000">
            <a:off x="3289680" y="274392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tar08"/>
          <p:cNvPicPr/>
          <p:nvPr/>
        </p:nvPicPr>
        <p:blipFill>
          <a:blip r:embed="rId6"/>
          <a:stretch/>
        </p:blipFill>
        <p:spPr>
          <a:xfrm rot="5400000">
            <a:off x="450396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star08"/>
          <p:cNvPicPr/>
          <p:nvPr/>
        </p:nvPicPr>
        <p:blipFill>
          <a:blip r:embed="rId7"/>
          <a:stretch/>
        </p:blipFill>
        <p:spPr>
          <a:xfrm rot="5400000">
            <a:off x="614700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star08"/>
          <p:cNvPicPr/>
          <p:nvPr/>
        </p:nvPicPr>
        <p:blipFill>
          <a:blip r:embed="rId8"/>
          <a:stretch/>
        </p:blipFill>
        <p:spPr>
          <a:xfrm rot="5400000">
            <a:off x="121788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star08"/>
          <p:cNvPicPr/>
          <p:nvPr/>
        </p:nvPicPr>
        <p:blipFill>
          <a:blip r:embed="rId9"/>
          <a:stretch/>
        </p:blipFill>
        <p:spPr>
          <a:xfrm rot="5400000">
            <a:off x="2360880" y="331524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22"/>
          <p:cNvSpPr/>
          <p:nvPr/>
        </p:nvSpPr>
        <p:spPr>
          <a:xfrm>
            <a:off x="539640" y="4422600"/>
            <a:ext cx="8715600" cy="285768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ще какие союзы  могут соединять  однородные  члены в простом  предложении  и простые предложения в составе  слож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539720" y="2708280"/>
            <a:ext cx="6429600" cy="15717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иди  а 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осень  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3"/>
          <p:cNvSpPr/>
          <p:nvPr/>
        </p:nvSpPr>
        <p:spPr>
          <a:xfrm>
            <a:off x="396720" y="2422440"/>
            <a:ext cx="9001440" cy="17859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тер  р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здувал    с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жинки  и о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л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сали  под его му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star08"/>
          <p:cNvPicPr/>
          <p:nvPr/>
        </p:nvPicPr>
        <p:blipFill>
          <a:blip r:embed="rId1"/>
          <a:stretch/>
        </p:blipFill>
        <p:spPr>
          <a:xfrm rot="5400000">
            <a:off x="2360880" y="238680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star08"/>
          <p:cNvPicPr/>
          <p:nvPr/>
        </p:nvPicPr>
        <p:blipFill>
          <a:blip r:embed="rId2"/>
          <a:stretch/>
        </p:blipFill>
        <p:spPr>
          <a:xfrm rot="5400000">
            <a:off x="5289840" y="231516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08"/>
          <p:cNvPicPr/>
          <p:nvPr/>
        </p:nvPicPr>
        <p:blipFill>
          <a:blip r:embed="rId3"/>
          <a:stretch/>
        </p:blipFill>
        <p:spPr>
          <a:xfrm rot="5400000">
            <a:off x="1217880" y="295812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968400" y="4494240"/>
            <a:ext cx="8215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а особенность  постановки знаков препинания в предложениях с союзом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96760" y="2851200"/>
            <a:ext cx="88585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которые употребляются в сложном пред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чтобы , так как , потому что , где, когда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User</cp:lastModifiedBy>
  <dcterms:modified xsi:type="dcterms:W3CDTF">2017-11-15T12:46:41Z</dcterms:modified>
  <cp:revision>64</cp:revision>
  <dc:subject/>
  <dc:title>Слайд 1</dc:title>
</cp:coreProperties>
</file>