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4FD41-6958-4F10-A89D-46647F91255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E3E6C-4AD4-4033-8FFE-FDEAB12FDD3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053C3-182F-4F3C-AE82-7E4214711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65470-A0A0-45F1-9EDE-26B3EC17B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399A1-FF11-436E-91C8-7DFEC1FA3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0078E-F226-4F54-9789-E02B01C97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D5A87-DCB6-42BF-AB8E-AAF73C624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C5DE6-8274-4235-AF06-F11A35E2B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F210D-D851-40FF-A5FF-7C6876CC8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ACDA3-6CBA-4DDD-8513-BB5463A6F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990D1-83CF-42FE-A751-71B335727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E9FE4-A2FF-4455-B4BB-A23CFB6DA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EBC57-4840-44F5-A28F-B933226E2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FC41D-C023-4BAB-8009-5BD303E90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F05B8-F67E-4E69-AB64-871ED3292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BEF74-8B6A-4D83-B98B-8B56D86BA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DDE58-53A0-4DEB-9B38-C6511460B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19B74-6E62-4D47-BD35-73A6E3B5B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EC932-0E81-46B6-8311-3CBB8CEB2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07B74D-92F7-4770-8F38-86D728087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94897E-D66F-40FA-86C2-76C729F37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583FFA-E465-4458-9D62-CFF182799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80C862-D055-400F-A92E-30C2E6007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193E04-6DA2-4313-995C-0A2C22792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9620B-C20C-4D8E-A553-47D43F438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81ED98-090C-4209-AA09-3FE5A9DBC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2E140C-F64B-4914-ADBC-BFC1F39B8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C9737E-52C3-4406-B1FB-48ADD484B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A32AF7-2D09-4383-844A-4EB300F15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47D249-1862-444A-9817-29443A901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23F986-85EB-493B-A50D-5E3CB1304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5B81D8-2A59-48E3-A24A-BC11E90C7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FFAEC6-AEE2-4D21-A74B-734199B8E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7557B9-7F3F-49F1-8979-1266EE887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C40E1A-39AF-466D-AC83-DCD34AB52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EE32D-652E-43BC-87C2-7A7CAEE44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9CF2E1-E8F7-4BC3-B981-074129BFF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E1EB06-3F6E-4647-B5CB-F6691249A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0EB0B5-5E62-4474-BAB9-EFB1AA684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593465-B613-4A89-A247-751021F11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A73742-2375-413F-8223-7085C0525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D15E00-FBA4-4D11-BDB0-67075041D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D497A8-D44E-4270-B978-B4C332ACC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66A24F-68F9-4A38-89A8-8428D47DC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962A75-DDE9-40BD-B3FB-5CA004CD3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D37B9B-689C-4486-BC0A-3E7A6B763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A8F61-8BFE-43E3-A77B-E5D964A2E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8F181B-9B16-4FEF-AF8B-C42CADC44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20418D-5C1D-4C73-9A7A-F5D37EC31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9CA847-952C-450D-A6D4-BD2D5F6B1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E1AE7E-FBF2-43D5-95F6-4CDD1DAB3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D4ACE6-490A-44D0-A932-964496F35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DD2D6C-EBDF-47C4-8223-A96FE2D09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5331E8-598D-4DB5-BBFC-76082FCC5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E2AC84-88CF-4B6F-A509-C7BE6B137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9A25F2-BF3D-46F8-A93D-10DB629FC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38F9C6-4324-4789-9C2D-39238D9B0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0DC9D-33BD-490C-8DD0-E4D5953DF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E7F3BD-52A7-47D3-B4B2-7F26489CA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4F5763-1995-4695-8B73-1766B6684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809A96-AD27-4E12-A247-BEE7D4CB6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3C6D8E-30C0-465A-9A15-600F6CC23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0545A4-8ED2-4339-A9C8-8D126391B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5A3DA0-9557-40CC-97CE-9B8FFD403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01C97A-57FC-4D97-9828-86C5ADEEF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F09691-507C-4C8B-B9AE-1B695709A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6EE578-AC30-4169-9AA1-86736C5B5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B76A42-7DA7-4DCD-BEB4-768E7BB7C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29F8E-7D73-49A6-815E-79B03ACB4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63F01B-B9B7-426A-8BE0-11C4D1547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96A145-EAF9-4F78-916C-890B54748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9B2774-F827-4282-A37A-3A2B2B13E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46420E-15DF-4059-8038-24DF1A5A3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2DC607-2557-46E7-A3C4-8A0C161CD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63DFA3-4EC8-4882-9616-7CF8DDF0D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F4E2A9-A035-4C09-BAA5-4A597443C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7D021F-1888-43F6-A3F7-8F5FA0F58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7A831C-949E-41E7-A3F7-1BD1ECAC8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34C45B-35FC-4AB0-BD10-10ECAD2BA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652E2-2807-4B67-94A6-2CF9C88A3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5F386E-4386-4BB9-9A96-DDFDFF5BF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30BA7D-E1BE-496A-8BD4-160D33737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371F80-106E-44EF-9498-30D965613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15FC18-096D-4A27-9456-72692FA37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C392E6-B19F-42D5-A873-9688C11BF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EDEB3-236E-4458-AF50-59A0A09E9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14092-40CB-4351-ADB1-A6943678E59C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D626D-F0BB-4641-990C-00B039001B4A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8F0C3-3916-4596-B757-171CEB0A5360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16104-E71C-4D4F-BC79-6ECF1B12AC65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1A706-6816-436B-888C-3D436337A401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44D6F-1601-4BDD-ADD7-B27CAEC4A432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1DA5F-10C7-4E7B-A292-23FF6610064C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06240" y="271080"/>
            <a:ext cx="8001000" cy="9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e190d"/>
                </a:solidFill>
                <a:latin typeface="Arial"/>
                <a:ea typeface="Arial"/>
              </a:rPr>
              <a:t>Министерство образования Новосибирской области</a:t>
            </a:r>
            <a:br>
              <a:rPr sz="1400"/>
            </a:br>
            <a:r>
              <a:rPr b="1" lang="en-US" sz="1400" spc="-1" strike="noStrike">
                <a:solidFill>
                  <a:srgbClr val="1e190d"/>
                </a:solidFill>
                <a:latin typeface="Arial"/>
                <a:ea typeface="Arial"/>
              </a:rPr>
              <a:t>Государственное автономное профессиональное </a:t>
            </a:r>
            <a:br>
              <a:rPr sz="1400"/>
            </a:br>
            <a:r>
              <a:rPr b="1" lang="en-US" sz="1400" spc="-1" strike="noStrike">
                <a:solidFill>
                  <a:srgbClr val="1e190d"/>
                </a:solidFill>
                <a:latin typeface="Arial"/>
                <a:ea typeface="Arial"/>
              </a:rPr>
              <a:t>образовательное учреждение Новосибирской области</a:t>
            </a:r>
            <a:br>
              <a:rPr sz="1400"/>
            </a:br>
            <a:r>
              <a:rPr b="1" lang="en-US" sz="1400" spc="-1" strike="noStrike">
                <a:solidFill>
                  <a:srgbClr val="1e190d"/>
                </a:solidFill>
                <a:latin typeface="Arial"/>
                <a:ea typeface="Arial"/>
              </a:rPr>
              <a:t>«Куйбышевский педагогический колледж»</a:t>
            </a:r>
            <a:endParaRPr b="0" lang="en-US" sz="14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990720" y="16761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АЛЬНОСТЬ 44.02.02 ПРЕПОДАВАНИЕ В НАЧАЛЬНЫХ КЛАССАХ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270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70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Выпускная квалификационная работа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270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270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Corbel"/>
              </a:rPr>
              <a:t>Игры во внеклассной работе в формировании самооценки обучающихся в области начального общего образования, в том числе компенсирующего и коррекционно-развивающего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700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Выполнила: Косых Л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2700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Руководитель: Порчайкина Г.В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270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Куйбышев, 2022г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Прямоугольник 2"/>
          <p:cNvSpPr/>
          <p:nvPr/>
        </p:nvSpPr>
        <p:spPr>
          <a:xfrm>
            <a:off x="1143000" y="228600"/>
            <a:ext cx="7620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Arial"/>
              </a:rPr>
              <a:t>Игры для формирования самооценки, включенные во внеклассные мероприят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/>
          </p:nvPr>
        </p:nvSpPr>
        <p:spPr>
          <a:xfrm>
            <a:off x="533520" y="1523520"/>
            <a:ext cx="86104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«Протянем другу руку» (сплочение, доброжелательный настрой)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«Крылья» (раскрепощение, развитие фантазии)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«Я могу» (укрепление дружеских взаимоотношений)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едставь свои качества (осознание своей индивидуальности)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«Комплименты» (умение видеть друг в друге положительные качества, подбирать слова, называющие эти качества)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«Ты, как и я…» (осознание себя частью общности)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иалоги (освоение социальных ролей; развитие фантазии)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омплимент и ответ (умение говорить и принимать положительные оценки)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9"/>
          <p:cNvSpPr/>
          <p:nvPr/>
        </p:nvSpPr>
        <p:spPr>
          <a:xfrm>
            <a:off x="0" y="224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Прямоугольник 2"/>
          <p:cNvSpPr/>
          <p:nvPr/>
        </p:nvSpPr>
        <p:spPr>
          <a:xfrm>
            <a:off x="3505320" y="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Arial"/>
              </a:rPr>
              <a:t>Выводы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/>
          </p:nvPr>
        </p:nvSpPr>
        <p:spPr>
          <a:xfrm>
            <a:off x="914400" y="457200"/>
            <a:ext cx="82296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643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1) Самооценка - значимость, которой человек наделяет себя в целом и отдельные стороны своей личности, деятельности, поведения. Формирование самооценки обучающихся активно происходит в младшем школьном возрасте: развиваются умения самоконтроля, саморегуляции, самооценивания. Стабильная самооценка выполняет мотивационную функцию;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643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2) Особенности использования игры для формирования самооценки - в следующем: развитие высших психических функций младших школьников средствами игры будет наиболее эффективно при систематическом использовании игр при учете психофизических особенностей детей младшего школьного возраста и создании комфортных условий;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643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3) Использование игр для повышения самооценки продуктивно как для детей нормы, так и для детей с ОВЗ с учетом их психофизических возможностей. Игра, как командная форма, способствует укреплению взаимоотношений между сверстниками, созданию творческой атмосферы, помогает детям реализовать себя;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643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4) Необходимо систематическое включение игр и игровых заданий во внеклассные мероприятия;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643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5) Возможности использования игр во внеклассной работе для формировании самооценки отражены в разработанных рекомендациях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643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6) Задачи исследования выполнены, цель достигнута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Благодарю за внимание!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</p:spTree>
  </p:cSld>
  <p:transition spd="slow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1066320" y="1218960"/>
            <a:ext cx="7696440" cy="43434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1c0e0a"/>
                </a:solidFill>
                <a:latin typeface="Arial"/>
              </a:rPr>
              <a:t>Объект исследования: формирование самооценки обучающихся в области начального общего образования, в том числе компенсирующего и коррекционно-развивающего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0e0a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0e0a"/>
                </a:solidFill>
                <a:latin typeface="Arial"/>
              </a:rPr>
              <a:t>Предмет исследования: игры во внеклассной работе как средство формирования самооценки у обучающихся в области начального общего образования, в том числе компенсирующего и коррекционно-развивающего.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8" name="Прямоугольник 1"/>
          <p:cNvSpPr/>
          <p:nvPr/>
        </p:nvSpPr>
        <p:spPr>
          <a:xfrm>
            <a:off x="990720" y="695160"/>
            <a:ext cx="807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Arial"/>
              </a:rPr>
              <a:t>Аппарат исследования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380520" y="914040"/>
            <a:ext cx="861084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676440" indent="-597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адачи 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676440" indent="-597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) рассмотреть проблемы формирования самооценки обучающихся в научной и методической литературе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676440" indent="-597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) исследовать особенности использования игры во внеклассной работе по формированию самооценки обучающихся в области начального общего образования, в том числе компенсирующего и коррекционно-развивающего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676440" indent="-597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) обобщить опыт работы классного руководителя и описать проведенную работу по использованию игры во внеклассной работе в формировании самооценки обучающихся в области начального общего образования, в том числе компенсирующего и коррекционно-развивающего, разработать рекомендации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0" name="Прямоугольник 5"/>
          <p:cNvSpPr/>
          <p:nvPr/>
        </p:nvSpPr>
        <p:spPr>
          <a:xfrm>
            <a:off x="990720" y="22860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Arial"/>
              </a:rPr>
              <a:t>Аппарат исследования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101600" y="1066320"/>
            <a:ext cx="79660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Arial"/>
              </a:rPr>
              <a:t>Самооценка  </a:t>
            </a:r>
            <a:r>
              <a:rPr b="1" lang="en-US" sz="2000" spc="-1" strike="noStrike">
                <a:solidFill>
                  <a:srgbClr val="572314"/>
                </a:solidFill>
                <a:latin typeface="Arial"/>
                <a:ea typeface="Arial"/>
              </a:rPr>
              <a:t>- </a:t>
            </a:r>
            <a:r>
              <a:rPr b="1" lang="en-US" sz="2800" spc="-1" strike="noStrike">
                <a:solidFill>
                  <a:srgbClr val="572314"/>
                </a:solidFill>
                <a:latin typeface="Corbel"/>
              </a:rPr>
              <a:t>оценка личностью себя, своих качеств и места среди других людей.</a:t>
            </a: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 </a:t>
            </a:r>
            <a:r>
              <a:rPr b="0" lang="en-US" sz="2000" spc="-1" strike="noStrike">
                <a:solidFill>
                  <a:srgbClr val="572314"/>
                </a:solidFill>
                <a:latin typeface="Arial"/>
                <a:ea typeface="Arial"/>
              </a:rPr>
              <a:t>(Липкина А.И.)</a:t>
            </a:r>
            <a:br>
              <a:rPr sz="2000"/>
            </a:br>
            <a:endParaRPr b="0" lang="en-US" sz="2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2" name="Прямоугольник 2"/>
          <p:cNvSpPr/>
          <p:nvPr/>
        </p:nvSpPr>
        <p:spPr>
          <a:xfrm>
            <a:off x="3164040" y="457200"/>
            <a:ext cx="3571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Arial"/>
              </a:rPr>
              <a:t>Основные понят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3" name=""/>
          <p:cNvGrpSpPr/>
          <p:nvPr/>
        </p:nvGrpSpPr>
        <p:grpSpPr>
          <a:xfrm>
            <a:off x="2209680" y="2438280"/>
            <a:ext cx="5177880" cy="4120200"/>
            <a:chOff x="2209680" y="2438280"/>
            <a:chExt cx="5177880" cy="4120200"/>
          </a:xfrm>
        </p:grpSpPr>
        <p:cxnSp>
          <p:nvCxnSpPr>
            <p:cNvPr id="334" name="_s16392"/>
            <p:cNvCxnSpPr>
              <a:stCxn id="335" idx="0"/>
              <a:endCxn id="336" idx="2"/>
            </p:cNvCxnSpPr>
            <p:nvPr/>
          </p:nvCxnSpPr>
          <p:spPr>
            <a:xfrm flipV="1" rot="16200000">
              <a:off x="5083200" y="3800880"/>
              <a:ext cx="824760" cy="1394280"/>
            </a:xfrm>
            <a:prstGeom prst="bentConnector3">
              <a:avLst>
                <a:gd name="adj1" fmla="val 960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37" name="_s16393"/>
            <p:cNvCxnSpPr>
              <a:stCxn id="338" idx="0"/>
              <a:endCxn id="336" idx="2"/>
            </p:cNvCxnSpPr>
            <p:nvPr/>
          </p:nvCxnSpPr>
          <p:spPr>
            <a:xfrm flipH="1" flipV="1" rot="5400000">
              <a:off x="3689280" y="3800520"/>
              <a:ext cx="824760" cy="1395000"/>
            </a:xfrm>
            <a:prstGeom prst="bentConnector3">
              <a:avLst>
                <a:gd name="adj1" fmla="val 9606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336" name="_s16394"/>
            <p:cNvSpPr/>
            <p:nvPr/>
          </p:nvSpPr>
          <p:spPr>
            <a:xfrm>
              <a:off x="3603960" y="2438280"/>
              <a:ext cx="2389680" cy="164808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Факторы, влияющие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на самооценку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ребенка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_s16395"/>
            <p:cNvSpPr/>
            <p:nvPr/>
          </p:nvSpPr>
          <p:spPr>
            <a:xfrm>
              <a:off x="2209680" y="4910400"/>
              <a:ext cx="2389680" cy="164808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Отношение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значимых взрослых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_s16396"/>
            <p:cNvSpPr/>
            <p:nvPr/>
          </p:nvSpPr>
          <p:spPr>
            <a:xfrm>
              <a:off x="4997880" y="4910400"/>
              <a:ext cx="2389680" cy="164808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Осознание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ребенком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своей деятельности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  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066320" y="1447560"/>
            <a:ext cx="7867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Адекватность (адекватная, заниженная, завышенная)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Устойчивость (устойчивая, неустойчивая)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Направленность (совокупность мотивов)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личная направленность (на себя)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взаимная (на общение)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деловая (на задачу)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1" name="Прямоугольник 2"/>
          <p:cNvSpPr/>
          <p:nvPr/>
        </p:nvSpPr>
        <p:spPr>
          <a:xfrm>
            <a:off x="762120" y="152280"/>
            <a:ext cx="755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Arial"/>
              </a:rPr>
              <a:t>Параметры самооценк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Прямоугольник 2"/>
          <p:cNvSpPr/>
          <p:nvPr/>
        </p:nvSpPr>
        <p:spPr>
          <a:xfrm>
            <a:off x="834480" y="0"/>
            <a:ext cx="829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Arial"/>
              </a:rPr>
              <a:t>Формы работы классного руководителя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Arial"/>
              </a:rPr>
              <a:t>по формированию самооценки обучающихс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1935720" y="1246320"/>
            <a:ext cx="5426280" cy="5361840"/>
            <a:chOff x="1935720" y="1246320"/>
            <a:chExt cx="5426280" cy="5361840"/>
          </a:xfrm>
        </p:grpSpPr>
        <p:sp>
          <p:nvSpPr>
            <p:cNvPr id="344" name="_s17433"/>
            <p:cNvSpPr/>
            <p:nvPr/>
          </p:nvSpPr>
          <p:spPr>
            <a:xfrm flipH="1" flipV="1">
              <a:off x="3681000" y="2836440"/>
              <a:ext cx="569520" cy="682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_s17432"/>
            <p:cNvSpPr/>
            <p:nvPr/>
          </p:nvSpPr>
          <p:spPr>
            <a:xfrm>
              <a:off x="2661840" y="1743480"/>
              <a:ext cx="1238760" cy="123804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Ситуации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свободного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выбора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_s17431"/>
            <p:cNvSpPr/>
            <p:nvPr/>
          </p:nvSpPr>
          <p:spPr>
            <a:xfrm flipH="1" flipV="1">
              <a:off x="3164760" y="3729600"/>
              <a:ext cx="875520" cy="15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_s17430"/>
            <p:cNvSpPr/>
            <p:nvPr/>
          </p:nvSpPr>
          <p:spPr>
            <a:xfrm>
              <a:off x="1935720" y="3003120"/>
              <a:ext cx="1238040" cy="123804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Исследование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_s17429"/>
            <p:cNvSpPr/>
            <p:nvPr/>
          </p:nvSpPr>
          <p:spPr>
            <a:xfrm flipH="1">
              <a:off x="3344040" y="4303080"/>
              <a:ext cx="770040" cy="441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_s17428"/>
            <p:cNvSpPr/>
            <p:nvPr/>
          </p:nvSpPr>
          <p:spPr>
            <a:xfrm>
              <a:off x="2188080" y="4434840"/>
              <a:ext cx="1238040" cy="123804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Соревнование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_s17427"/>
            <p:cNvSpPr/>
            <p:nvPr/>
          </p:nvSpPr>
          <p:spPr>
            <a:xfrm flipH="1">
              <a:off x="4133880" y="4574160"/>
              <a:ext cx="305280" cy="833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_s17426"/>
            <p:cNvSpPr/>
            <p:nvPr/>
          </p:nvSpPr>
          <p:spPr>
            <a:xfrm>
              <a:off x="3302640" y="5369400"/>
              <a:ext cx="1238040" cy="123876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Позитивно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общени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_s17425"/>
            <p:cNvSpPr/>
            <p:nvPr/>
          </p:nvSpPr>
          <p:spPr>
            <a:xfrm>
              <a:off x="4862160" y="4572000"/>
              <a:ext cx="302040" cy="835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_s17424"/>
            <p:cNvSpPr/>
            <p:nvPr/>
          </p:nvSpPr>
          <p:spPr>
            <a:xfrm>
              <a:off x="4757040" y="5369400"/>
              <a:ext cx="1238040" cy="123876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Релаксационны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упражнения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_s17423"/>
            <p:cNvSpPr/>
            <p:nvPr/>
          </p:nvSpPr>
          <p:spPr>
            <a:xfrm>
              <a:off x="5185080" y="4299120"/>
              <a:ext cx="768240" cy="444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_s17422"/>
            <p:cNvSpPr/>
            <p:nvPr/>
          </p:nvSpPr>
          <p:spPr>
            <a:xfrm>
              <a:off x="5871240" y="4434840"/>
              <a:ext cx="1238760" cy="123804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Портфолио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_s17421"/>
            <p:cNvSpPr/>
            <p:nvPr/>
          </p:nvSpPr>
          <p:spPr>
            <a:xfrm flipV="1">
              <a:off x="5257800" y="3729240"/>
              <a:ext cx="87552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_s17420"/>
            <p:cNvSpPr/>
            <p:nvPr/>
          </p:nvSpPr>
          <p:spPr>
            <a:xfrm>
              <a:off x="6123240" y="3003120"/>
              <a:ext cx="1238760" cy="123804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Выставка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достижений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_s17419"/>
            <p:cNvSpPr/>
            <p:nvPr/>
          </p:nvSpPr>
          <p:spPr>
            <a:xfrm flipV="1">
              <a:off x="5045400" y="2836440"/>
              <a:ext cx="571680" cy="680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_s17418"/>
            <p:cNvSpPr/>
            <p:nvPr/>
          </p:nvSpPr>
          <p:spPr>
            <a:xfrm>
              <a:off x="5395320" y="1743480"/>
              <a:ext cx="1238760" cy="123804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Беседа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_s17417"/>
            <p:cNvSpPr/>
            <p:nvPr/>
          </p:nvSpPr>
          <p:spPr>
            <a:xfrm flipV="1">
              <a:off x="4647960" y="2485080"/>
              <a:ext cx="0" cy="888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_s17416"/>
            <p:cNvSpPr/>
            <p:nvPr/>
          </p:nvSpPr>
          <p:spPr>
            <a:xfrm>
              <a:off x="4028400" y="1246320"/>
              <a:ext cx="1238760" cy="123876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Игра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_s17415"/>
            <p:cNvSpPr/>
            <p:nvPr/>
          </p:nvSpPr>
          <p:spPr>
            <a:xfrm>
              <a:off x="4028400" y="3373560"/>
              <a:ext cx="1238760" cy="1238760"/>
            </a:xfrm>
            <a:prstGeom prst="ellips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Формы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Прямоугольник 2"/>
          <p:cNvSpPr/>
          <p:nvPr/>
        </p:nvSpPr>
        <p:spPr>
          <a:xfrm>
            <a:off x="1066680" y="304920"/>
            <a:ext cx="7696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Психологические механизмы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коррекционного воздействия игр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/>
          </p:nvPr>
        </p:nvSpPr>
        <p:spPr>
          <a:xfrm>
            <a:off x="837720" y="1600200"/>
            <a:ext cx="81536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моделирование системы социальных отношений в наглядно-действенной форме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осознание собственного «Я» в игре и возрастание меры социальной компетентности и способности к разрешению проблемных ситуаций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формирование (наряду с игровыми) реальных отношений как равноправных партнерских отношений сотрудничества и кооперации между ребенком и сверстником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организация поэтапной отработки в игре новых, более адекватных способов ориентировки ребенка в проблемных ситуациях, их интериоризация и усвоение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990360" y="1066680"/>
            <a:ext cx="802476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72314"/>
                </a:solidFill>
                <a:latin typeface="Arial"/>
                <a:ea typeface="Arial"/>
              </a:rPr>
              <a:t>В работе описаны  </a:t>
            </a:r>
            <a:r>
              <a:rPr b="0" lang="en-US" sz="2400" spc="-1" strike="noStrike">
                <a:solidFill>
                  <a:srgbClr val="572314"/>
                </a:solidFill>
                <a:latin typeface="Arial"/>
              </a:rPr>
              <a:t>возможности и специфика использования игр во внеклассной работе для формирования самооценки обучающихся в области начального общего образования, в том числе компенсирующего и коррекционно-развивающего.</a:t>
            </a:r>
            <a:endParaRPr b="0" lang="en-US" sz="24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6" name="Прямоугольник 2"/>
          <p:cNvSpPr/>
          <p:nvPr/>
        </p:nvSpPr>
        <p:spPr>
          <a:xfrm>
            <a:off x="1021680" y="87480"/>
            <a:ext cx="7989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Arial"/>
              </a:rPr>
              <a:t>Обоснование методических (практических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Arial"/>
              </a:rPr>
              <a:t>положений и вывод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7" name=""/>
          <p:cNvGrpSpPr/>
          <p:nvPr/>
        </p:nvGrpSpPr>
        <p:grpSpPr>
          <a:xfrm>
            <a:off x="0" y="2895480"/>
            <a:ext cx="9144000" cy="3793320"/>
            <a:chOff x="0" y="2895480"/>
            <a:chExt cx="9144000" cy="3793320"/>
          </a:xfrm>
        </p:grpSpPr>
        <p:cxnSp>
          <p:nvCxnSpPr>
            <p:cNvPr id="368" name="_s19471"/>
            <p:cNvCxnSpPr>
              <a:stCxn id="369" idx="0"/>
              <a:endCxn id="370" idx="2"/>
            </p:cNvCxnSpPr>
            <p:nvPr/>
          </p:nvCxnSpPr>
          <p:spPr>
            <a:xfrm flipV="1" rot="16200000">
              <a:off x="6192360" y="2791080"/>
              <a:ext cx="759240" cy="4001040"/>
            </a:xfrm>
            <a:prstGeom prst="bentConnector3">
              <a:avLst>
                <a:gd name="adj1" fmla="val 95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71" name="_s19472"/>
            <p:cNvCxnSpPr>
              <a:stCxn id="372" idx="0"/>
              <a:endCxn id="370" idx="2"/>
            </p:cNvCxnSpPr>
            <p:nvPr/>
          </p:nvCxnSpPr>
          <p:spPr>
            <a:xfrm flipV="1" rot="16200000">
              <a:off x="5526000" y="3458160"/>
              <a:ext cx="759240" cy="2667240"/>
            </a:xfrm>
            <a:prstGeom prst="bentConnector3">
              <a:avLst>
                <a:gd name="adj1" fmla="val 95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73" name="_s19473"/>
            <p:cNvCxnSpPr>
              <a:stCxn id="374" idx="0"/>
              <a:endCxn id="370" idx="2"/>
            </p:cNvCxnSpPr>
            <p:nvPr/>
          </p:nvCxnSpPr>
          <p:spPr>
            <a:xfrm flipV="1" rot="16200000">
              <a:off x="4858920" y="4124520"/>
              <a:ext cx="759240" cy="1334160"/>
            </a:xfrm>
            <a:prstGeom prst="bentConnector3">
              <a:avLst>
                <a:gd name="adj1" fmla="val 95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75" name="_s19474"/>
            <p:cNvCxnSpPr>
              <a:stCxn id="376" idx="0"/>
              <a:endCxn id="370" idx="2"/>
            </p:cNvCxnSpPr>
            <p:nvPr/>
          </p:nvCxnSpPr>
          <p:spPr>
            <a:xfrm flipV="1">
              <a:off x="4572000" y="4412160"/>
              <a:ext cx="2160" cy="7592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77" name="_s19475"/>
            <p:cNvCxnSpPr>
              <a:stCxn id="378" idx="0"/>
              <a:endCxn id="370" idx="2"/>
            </p:cNvCxnSpPr>
            <p:nvPr/>
          </p:nvCxnSpPr>
          <p:spPr>
            <a:xfrm flipH="1" flipV="1" rot="5400000">
              <a:off x="3525480" y="4124880"/>
              <a:ext cx="759240" cy="1334160"/>
            </a:xfrm>
            <a:prstGeom prst="bentConnector3">
              <a:avLst>
                <a:gd name="adj1" fmla="val 95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79" name="_s19476"/>
            <p:cNvCxnSpPr>
              <a:stCxn id="380" idx="0"/>
              <a:endCxn id="370" idx="2"/>
            </p:cNvCxnSpPr>
            <p:nvPr/>
          </p:nvCxnSpPr>
          <p:spPr>
            <a:xfrm flipH="1" flipV="1" rot="5400000">
              <a:off x="2858760" y="3458160"/>
              <a:ext cx="759240" cy="2667240"/>
            </a:xfrm>
            <a:prstGeom prst="bentConnector3">
              <a:avLst>
                <a:gd name="adj1" fmla="val 95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81" name="_s19477"/>
            <p:cNvCxnSpPr>
              <a:stCxn id="382" idx="0"/>
              <a:endCxn id="370" idx="2"/>
            </p:cNvCxnSpPr>
            <p:nvPr/>
          </p:nvCxnSpPr>
          <p:spPr>
            <a:xfrm flipH="1" flipV="1" rot="5400000">
              <a:off x="2192040" y="2791440"/>
              <a:ext cx="759240" cy="4001040"/>
            </a:xfrm>
            <a:prstGeom prst="bentConnector3">
              <a:avLst>
                <a:gd name="adj1" fmla="val 95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370" name="_s19478"/>
            <p:cNvSpPr/>
            <p:nvPr/>
          </p:nvSpPr>
          <p:spPr>
            <a:xfrm>
              <a:off x="4000320" y="2895480"/>
              <a:ext cx="1143000" cy="1517400"/>
            </a:xfrm>
            <a:custGeom>
              <a:avLst/>
              <a:gdLst>
                <a:gd name="textAreaLeft" fmla="*/ 55800 w 1143000"/>
                <a:gd name="textAreaRight" fmla="*/ 1087200 w 1143000"/>
                <a:gd name="textAreaTop" fmla="*/ 55800 h 1517400"/>
                <a:gd name="textAreaBottom" fmla="*/ 1461600 h 1517400"/>
              </a:gdLst>
              <a:ahLst/>
              <a:rect l="textAreaLeft" t="textAreaTop" r="textAreaRight" b="textAreaBottom"/>
              <a:pathLst>
                <a:path w="21600" h="28673">
                  <a:moveTo>
                    <a:pt x="3600" y="0"/>
                  </a:moveTo>
                  <a:arcTo wR="3600" hR="3600" stAng="16200000" swAng="-5400000"/>
                  <a:lnTo>
                    <a:pt x="0" y="25073"/>
                  </a:lnTo>
                  <a:arcTo wR="3600" hR="3600" stAng="10800000" swAng="-5400000"/>
                  <a:lnTo>
                    <a:pt x="18000" y="2867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Приемы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дополнительной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поддержки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для детей с ОВЗ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_s19479"/>
            <p:cNvSpPr/>
            <p:nvPr/>
          </p:nvSpPr>
          <p:spPr>
            <a:xfrm>
              <a:off x="0" y="5171400"/>
              <a:ext cx="1143000" cy="1517400"/>
            </a:xfrm>
            <a:custGeom>
              <a:avLst/>
              <a:gdLst>
                <a:gd name="textAreaLeft" fmla="*/ 55800 w 1143000"/>
                <a:gd name="textAreaRight" fmla="*/ 1087200 w 1143000"/>
                <a:gd name="textAreaTop" fmla="*/ 55800 h 1517400"/>
                <a:gd name="textAreaBottom" fmla="*/ 1461600 h 1517400"/>
              </a:gdLst>
              <a:ahLst/>
              <a:rect l="textAreaLeft" t="textAreaTop" r="textAreaRight" b="textAreaBottom"/>
              <a:pathLst>
                <a:path w="21600" h="28673">
                  <a:moveTo>
                    <a:pt x="3600" y="0"/>
                  </a:moveTo>
                  <a:arcTo wR="3600" hR="3600" stAng="16200000" swAng="-5400000"/>
                  <a:lnTo>
                    <a:pt x="0" y="25073"/>
                  </a:lnTo>
                  <a:arcTo wR="3600" hR="3600" stAng="10800000" swAng="-5400000"/>
                  <a:lnTo>
                    <a:pt x="18000" y="2867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Карточки-картинки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_s19480"/>
            <p:cNvSpPr/>
            <p:nvPr/>
          </p:nvSpPr>
          <p:spPr>
            <a:xfrm>
              <a:off x="1333440" y="5171400"/>
              <a:ext cx="1143000" cy="1517400"/>
            </a:xfrm>
            <a:custGeom>
              <a:avLst/>
              <a:gdLst>
                <a:gd name="textAreaLeft" fmla="*/ 55800 w 1143000"/>
                <a:gd name="textAreaRight" fmla="*/ 1087200 w 1143000"/>
                <a:gd name="textAreaTop" fmla="*/ 55800 h 1517400"/>
                <a:gd name="textAreaBottom" fmla="*/ 1461600 h 1517400"/>
              </a:gdLst>
              <a:ahLst/>
              <a:rect l="textAreaLeft" t="textAreaTop" r="textAreaRight" b="textAreaBottom"/>
              <a:pathLst>
                <a:path w="21600" h="28673">
                  <a:moveTo>
                    <a:pt x="3600" y="0"/>
                  </a:moveTo>
                  <a:arcTo wR="3600" hR="3600" stAng="16200000" swAng="-5400000"/>
                  <a:lnTo>
                    <a:pt x="0" y="25073"/>
                  </a:lnTo>
                  <a:arcTo wR="3600" hR="3600" stAng="10800000" swAng="-5400000"/>
                  <a:lnTo>
                    <a:pt x="18000" y="2867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Вопрос-подсказка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_s19481"/>
            <p:cNvSpPr/>
            <p:nvPr/>
          </p:nvSpPr>
          <p:spPr>
            <a:xfrm>
              <a:off x="2666880" y="5171400"/>
              <a:ext cx="1143000" cy="1517400"/>
            </a:xfrm>
            <a:custGeom>
              <a:avLst/>
              <a:gdLst>
                <a:gd name="textAreaLeft" fmla="*/ 55800 w 1143000"/>
                <a:gd name="textAreaRight" fmla="*/ 1087200 w 1143000"/>
                <a:gd name="textAreaTop" fmla="*/ 55800 h 1517400"/>
                <a:gd name="textAreaBottom" fmla="*/ 1461600 h 1517400"/>
              </a:gdLst>
              <a:ahLst/>
              <a:rect l="textAreaLeft" t="textAreaTop" r="textAreaRight" b="textAreaBottom"/>
              <a:pathLst>
                <a:path w="21600" h="28673">
                  <a:moveTo>
                    <a:pt x="3600" y="0"/>
                  </a:moveTo>
                  <a:arcTo wR="3600" hR="3600" stAng="16200000" swAng="-5400000"/>
                  <a:lnTo>
                    <a:pt x="0" y="25073"/>
                  </a:lnTo>
                  <a:arcTo wR="3600" hR="3600" stAng="10800000" swAng="-5400000"/>
                  <a:lnTo>
                    <a:pt x="18000" y="2867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Алгоритм действий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_s19482"/>
            <p:cNvSpPr/>
            <p:nvPr/>
          </p:nvSpPr>
          <p:spPr>
            <a:xfrm>
              <a:off x="4000320" y="5171400"/>
              <a:ext cx="1143000" cy="1517400"/>
            </a:xfrm>
            <a:custGeom>
              <a:avLst/>
              <a:gdLst>
                <a:gd name="textAreaLeft" fmla="*/ 55800 w 1143000"/>
                <a:gd name="textAreaRight" fmla="*/ 1087200 w 1143000"/>
                <a:gd name="textAreaTop" fmla="*/ 55800 h 1517400"/>
                <a:gd name="textAreaBottom" fmla="*/ 1461600 h 1517400"/>
              </a:gdLst>
              <a:ahLst/>
              <a:rect l="textAreaLeft" t="textAreaTop" r="textAreaRight" b="textAreaBottom"/>
              <a:pathLst>
                <a:path w="21600" h="28673">
                  <a:moveTo>
                    <a:pt x="3600" y="0"/>
                  </a:moveTo>
                  <a:arcTo wR="3600" hR="3600" stAng="16200000" swAng="-5400000"/>
                  <a:lnTo>
                    <a:pt x="0" y="25073"/>
                  </a:lnTo>
                  <a:arcTo wR="3600" hR="3600" stAng="10800000" swAng="-5400000"/>
                  <a:lnTo>
                    <a:pt x="18000" y="2867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Предъявление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заданий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в письменной форме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_s19483"/>
            <p:cNvSpPr/>
            <p:nvPr/>
          </p:nvSpPr>
          <p:spPr>
            <a:xfrm>
              <a:off x="5333760" y="5171400"/>
              <a:ext cx="1143000" cy="1517400"/>
            </a:xfrm>
            <a:custGeom>
              <a:avLst/>
              <a:gdLst>
                <a:gd name="textAreaLeft" fmla="*/ 55800 w 1143000"/>
                <a:gd name="textAreaRight" fmla="*/ 1087200 w 1143000"/>
                <a:gd name="textAreaTop" fmla="*/ 55800 h 1517400"/>
                <a:gd name="textAreaBottom" fmla="*/ 1461600 h 1517400"/>
              </a:gdLst>
              <a:ahLst/>
              <a:rect l="textAreaLeft" t="textAreaTop" r="textAreaRight" b="textAreaBottom"/>
              <a:pathLst>
                <a:path w="21600" h="28673">
                  <a:moveTo>
                    <a:pt x="3600" y="0"/>
                  </a:moveTo>
                  <a:arcTo wR="3600" hR="3600" stAng="16200000" swAng="-5400000"/>
                  <a:lnTo>
                    <a:pt x="0" y="25073"/>
                  </a:lnTo>
                  <a:arcTo wR="3600" hR="3600" stAng="10800000" swAng="-5400000"/>
                  <a:lnTo>
                    <a:pt x="18000" y="2867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Положительное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вербальное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оценивание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_s19484"/>
            <p:cNvSpPr/>
            <p:nvPr/>
          </p:nvSpPr>
          <p:spPr>
            <a:xfrm>
              <a:off x="6667200" y="5171400"/>
              <a:ext cx="1143000" cy="1517400"/>
            </a:xfrm>
            <a:custGeom>
              <a:avLst/>
              <a:gdLst>
                <a:gd name="textAreaLeft" fmla="*/ 55800 w 1143000"/>
                <a:gd name="textAreaRight" fmla="*/ 1087200 w 1143000"/>
                <a:gd name="textAreaTop" fmla="*/ 55800 h 1517400"/>
                <a:gd name="textAreaBottom" fmla="*/ 1461600 h 1517400"/>
              </a:gdLst>
              <a:ahLst/>
              <a:rect l="textAreaLeft" t="textAreaTop" r="textAreaRight" b="textAreaBottom"/>
              <a:pathLst>
                <a:path w="21600" h="28673">
                  <a:moveTo>
                    <a:pt x="3600" y="0"/>
                  </a:moveTo>
                  <a:arcTo wR="3600" hR="3600" stAng="16200000" swAng="-5400000"/>
                  <a:lnTo>
                    <a:pt x="0" y="25073"/>
                  </a:lnTo>
                  <a:arcTo wR="3600" hR="3600" stAng="10800000" swAng="-5400000"/>
                  <a:lnTo>
                    <a:pt x="18000" y="2867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Релаксация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_s19485"/>
            <p:cNvSpPr/>
            <p:nvPr/>
          </p:nvSpPr>
          <p:spPr>
            <a:xfrm>
              <a:off x="8001000" y="5171400"/>
              <a:ext cx="1143000" cy="1517400"/>
            </a:xfrm>
            <a:custGeom>
              <a:avLst/>
              <a:gdLst>
                <a:gd name="textAreaLeft" fmla="*/ 55800 w 1143000"/>
                <a:gd name="textAreaRight" fmla="*/ 1087200 w 1143000"/>
                <a:gd name="textAreaTop" fmla="*/ 55800 h 1517400"/>
                <a:gd name="textAreaBottom" fmla="*/ 1461600 h 1517400"/>
              </a:gdLst>
              <a:ahLst/>
              <a:rect l="textAreaLeft" t="textAreaTop" r="textAreaRight" b="textAreaBottom"/>
              <a:pathLst>
                <a:path w="21600" h="28673">
                  <a:moveTo>
                    <a:pt x="3600" y="0"/>
                  </a:moveTo>
                  <a:arcTo wR="3600" hR="3600" stAng="16200000" swAng="-5400000"/>
                  <a:lnTo>
                    <a:pt x="0" y="25073"/>
                  </a:lnTo>
                  <a:arcTo wR="3600" hR="3600" stAng="10800000" swAng="-5400000"/>
                  <a:lnTo>
                    <a:pt x="18000" y="2867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Помощь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в фиксации действий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72314"/>
                </a:solidFill>
                <a:latin typeface="Arial"/>
              </a:rPr>
              <a:t>Внеклассные мероприятия с использованием игр для формирования самооценки обучающихся в области начального общего образования, в том числе компенсирующего и коррекционно-развивающего</a:t>
            </a:r>
            <a:r>
              <a:rPr b="0" lang="en-US" sz="3900" spc="-1" strike="noStrike">
                <a:solidFill>
                  <a:srgbClr val="572314"/>
                </a:solidFill>
                <a:latin typeface="Corbel"/>
              </a:rPr>
              <a:t> 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0" y="2209320"/>
            <a:ext cx="9144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лассный час «Поговорим о дружбе» (3 класс)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Цель – учить детей понимать себя, свои мысли, свои поступки, желания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Задачи: научить ребёнка понимать и оценивать свои мысли и желания; развивать коммуникативные навыки групповой работы; развивать представления о базовых ценностях; формировать позитивную самооценку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гровая программа «Давайте говорить друг другу комплименты!» (4 класс)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Цель – развитие способов речевого взаимодействия в социуме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Задачи: формировать коммуникативные умения и навыки; содействовать развитию эмоционально-чувственной сферы обучающихся; формировать представлений о нормах общения; создавать доброжелательную атмосферу, корректировать и повышать самооценку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astya</dc:creator>
  <dc:description/>
  <dc:language>en-US</dc:language>
  <cp:lastModifiedBy>User</cp:lastModifiedBy>
  <dcterms:modified xsi:type="dcterms:W3CDTF">2022-11-13T08:03:06Z</dcterms:modified>
  <cp:revision>3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