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B11C-59AF-403E-B127-5299479C4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214D-EE93-40C6-BAAB-AAD6FFFB2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4E9-EDF1-4266-B27F-24EB56C7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855-15AB-4D52-831E-98C32860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700-FFD0-4F28-9E82-2951360E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3BA-A643-4E9B-BE33-A7CE3BF8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B78F-2131-4B9A-AB52-109213AA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3DC8-CF00-4578-9176-A16BB08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082B-A114-4D5C-AF98-9C5E0D18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47AA-2384-448B-A54A-7FCC2AFA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EA84-D77B-460B-9406-049FBDFC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328C-C0F9-4EE7-AE7B-A063BA32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2FF4-C46E-450D-9972-B8EA67C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20E-BE23-4FDA-ACFC-53899673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1036-A33F-426B-A0A3-37139246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1FE3-650F-4311-AC9D-76B74FD5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F0CB-9E8C-4B3B-B98E-3F090A00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D75C-E722-46B4-B2E7-FF14C6BB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AA28-8C3D-4B5A-9C3F-8BFB7F55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D2C9-1BC7-4453-A856-D2642998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34DA-9890-486C-A22A-018A7476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9FF8-0725-4D05-A294-39E7A1A7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BC37-C387-4E3E-9DAF-337C291B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9568-F4BB-4305-A2EA-5AB343A9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F70-CCD0-4031-878B-95A3E2D9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5A6D-97D2-4B80-A31C-F94BC20B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DDE1-CA43-42E9-90BF-A9E82240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0620-1C1C-4864-A6FD-A86BD2B8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4BBBE-3D8C-4BA2-8F7A-2E8CF3A0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852C-9744-4094-A271-9D1682C9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1BFDB-9D40-40AD-AB10-D9FF6CCA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2F7FC-DB5F-4D8F-B9A2-16316A16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9607-5E9D-4286-AA32-E1F34AC6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E0E0B-00DE-485A-BD7D-F83D2D58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26D7-C9C5-4E04-B916-EF9D6506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C62-9ADD-492D-BFE7-AFE43D16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E803-EE44-4195-A543-5610B7D7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DCF58-B372-4BA0-ADB8-84878F32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29FEC-4E5D-4578-B9E4-F6A44FAC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4A2DE-6715-4BD4-ADB7-47D8C035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793F1-917E-41C3-99B7-C48DE107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CCB6A-7B90-437C-8B62-EFA1B4FA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1AF9-52D4-4E05-A962-D106F75B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2FF1-B52E-4961-BE57-2592071B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9465-FC53-42D2-B963-4CE7AABA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F145-CFC5-4847-86AF-32B8B69F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9C6-C8E8-4DA6-A03F-C72CE497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0F700-1879-4443-AF4F-19AB9C78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F6BB1-5318-4960-B829-78783AF9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2D1E-6AF5-47CB-963A-49FC0862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6926F-63AB-4E28-A8A1-41A48156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6EE0F-FAED-4CC7-82CC-793685C8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0267E-CCDA-4E15-A6D1-2ACADF13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AD845-B87C-448A-AD93-8C32F157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C89D3-746F-4FE0-82EF-483A9938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A25D5-95AA-4AF3-A2F3-A25395DC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B1CAA-DB8C-4BA2-8D31-49DDB6EC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B96-387D-4A92-BEBE-95D6801A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86336-238A-4BB6-9518-0334159B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4557-5923-4EC6-90F6-719B73E6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45EC-8B36-4858-A7DA-0DCF64DF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8B170-B3EB-40E1-A7BF-00E8D35D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69AEA-55DB-43FA-AEF7-486A15D8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203D-FFF3-4B08-8A5E-60379BAA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D5775-EC7E-45A8-ADD8-EA248578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67BA-99DB-4DF0-9E46-EE8AE43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AFA6C-2BF5-4917-B44E-75165B63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D580-6B82-421A-A99A-A75E761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31E-0111-4B73-8141-251AB28D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C2118-55C2-4965-A3BD-B9F3B0A6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E638A-C044-49E7-A748-3C5FBCA5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79597-A82C-4D34-A373-F7D4A64C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15422-8A25-4F1C-B50E-41EC88F9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EC2B2-F715-4B4C-B097-2782DD27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88930-9629-447C-9988-3A56E980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83572-08CF-4193-A5CA-FCEA61DF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CCC58-05DD-4AC3-80AF-0D0E3DB4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B9A4-09A4-4739-9941-362DCDF1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A6B82-0F6A-4329-9907-7232085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707-48B0-4A24-A508-D11001D3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4862B-0AD0-4EA2-82DC-BB4D31FC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1870F-9E9A-4EE3-BA01-59C61164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4B673-2C33-429D-A031-C6A344FE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D2EFF-4CA2-4FDD-8B11-6544ECCC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F54C8-E0A1-4BCF-9964-7EFB2BC0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8B2-76C4-4E98-AE23-6A2BE81F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8AE9-1BFA-4072-A67C-0B9F296E53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2942-9823-4394-BD59-0C37D4071C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454F-8902-42E4-8044-8C667231D70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CE7F-4C3B-40CE-A408-FA881744B9E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EB06-2470-4E63-871F-C062555D9E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499A-D05B-4A98-A040-51B26D6AC0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D41E-7AAE-410C-ABA9-FA40D311069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6240" y="271080"/>
            <a:ext cx="8001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Министерство образования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Государственное автономное профессиональное 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образовательное учреждение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«Куйбышевский педагогический колледж»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ОСТЬ 44.02.02 ПРЕПОДАВАНИЕ В НАЧАЛЬНЫХ КЛАССАХ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rbel"/>
              </a:rPr>
              <a:t>Игры во внеклассной работе в формировании самооценки обучающихся в области начального общего образования, в том числе компенсирующего и коррекционно-развивающе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Косых 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 Порчайкина Г.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йбышев, 2022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2"/>
          <p:cNvSpPr/>
          <p:nvPr/>
        </p:nvSpPr>
        <p:spPr>
          <a:xfrm>
            <a:off x="1143000" y="2286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гры для формирования самооценки, включенные во внеклассные меро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отянем другу руку» (сплочение, доброжелательный настрой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Крылья» (раскрепощение, развитие фантази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Я могу» (укрепление дружеских взаимоотношени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ь свои качества (осознание своей индивидуальност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Комплименты» (умение видеть друг в друге положительные качества, подбирать слова, называющие эти качеств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Ты, как и я…» (осознание себя частью общност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логи (освоение социальных ролей; развитие фантази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имент и ответ (умение говорить и принимать положительные оценк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350532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ыводы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) Самооценка - значимость, которой человек наделяет себя в целом и отдельные стороны своей личности, деятельности, поведения. Формирование самооценки обучающихся активно происходит в младшем школьном возрасте: развиваются умения самоконтроля, саморегуляции, самооценивания. Стабильная самооценка выполняет мотивационную функцию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) Особенности использования игры для формирования самооценки - в следующем: развитие высших психических функций младших школьников средствами игры будет наиболее эффективно при систематическом использовании игр при учете психофизических особенностей детей младшего школьного возраста и создании комфортных услови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) Использование игр для повышения самооценки продуктивно как для детей нормы, так и для детей с ОВЗ с учетом их психофизических возможностей. Игра, как командная форма, способствует укреплению взаимоотношений между сверстниками, созданию творческой атмосферы, помогает детям реализовать себ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) Необходимо систематическое включение игр и игровых заданий во внеклассные мероприят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) Возможности использования игр во внеклассной работе для формировании самооценки отражены в разработанных рекомендация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) Задачи исследования выполнены, цель достигну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Благодарю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1218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1c0e0a"/>
                </a:solidFill>
                <a:latin typeface="Arial"/>
              </a:rPr>
              <a:t>Объект исследования: формирование самооценки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0e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0e0a"/>
                </a:solidFill>
                <a:latin typeface="Arial"/>
              </a:rPr>
              <a:t>Предмет исследования: игры во внеклассной работе как средство формирования самооценки у обучающихся в области начального общего образования, в том числе компенсирующего и коррекционно-развивающег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1"/>
          <p:cNvSpPr/>
          <p:nvPr/>
        </p:nvSpPr>
        <p:spPr>
          <a:xfrm>
            <a:off x="990720" y="6951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0520" y="91404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рассмотреть проблемы формирования самооценки обучающихся в научной и методической литератур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исследовать особенности использования игры во внеклассной работе по формированию самооценки обучающихся в области начального общего образования, в том числе компенсирующего и коррекционно-развивающег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обобщить опыт работы классного руководителя и описать проведенную работу по использованию игры во внеклассной работе в формировании самооценки обучающихся в области начального общего образования, в том числе компенсирующего и коррекционно-развивающего, разработать рекоменд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9907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01600" y="1066320"/>
            <a:ext cx="796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амооценка  </a:t>
            </a:r>
            <a:r>
              <a:rPr b="1" lang="en-US" sz="2000" spc="-1" strike="noStrike">
                <a:solidFill>
                  <a:srgbClr val="572314"/>
                </a:solidFill>
                <a:latin typeface="Arial"/>
                <a:ea typeface="Arial"/>
              </a:rPr>
              <a:t>- </a:t>
            </a:r>
            <a:r>
              <a:rPr b="1" lang="en-US" sz="2800" spc="-1" strike="noStrike">
                <a:solidFill>
                  <a:srgbClr val="572314"/>
                </a:solidFill>
                <a:latin typeface="Corbel"/>
              </a:rPr>
              <a:t>оценка личностью себя, своих качеств и места среди других людей.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572314"/>
                </a:solidFill>
                <a:latin typeface="Arial"/>
                <a:ea typeface="Arial"/>
              </a:rPr>
              <a:t>(Липкина А.И.)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3164040" y="45720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09680" y="2438280"/>
            <a:ext cx="5177880" cy="4120200"/>
            <a:chOff x="2209680" y="2438280"/>
            <a:chExt cx="5177880" cy="4120200"/>
          </a:xfrm>
        </p:grpSpPr>
        <p:cxnSp>
          <p:nvCxnSpPr>
            <p:cNvPr id="334" name="_s16392"/>
            <p:cNvCxnSpPr>
              <a:stCxn id="335" idx="0"/>
              <a:endCxn id="336" idx="2"/>
            </p:cNvCxnSpPr>
            <p:nvPr/>
          </p:nvCxnSpPr>
          <p:spPr>
            <a:xfrm flipV="1" rot="16200000">
              <a:off x="5083200" y="3800880"/>
              <a:ext cx="824760" cy="1394280"/>
            </a:xfrm>
            <a:prstGeom prst="bentConnector3">
              <a:avLst>
                <a:gd name="adj1" fmla="val 96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7" name="_s16393"/>
            <p:cNvCxnSpPr>
              <a:stCxn id="338" idx="0"/>
              <a:endCxn id="336" idx="2"/>
            </p:cNvCxnSpPr>
            <p:nvPr/>
          </p:nvCxnSpPr>
          <p:spPr>
            <a:xfrm flipH="1" flipV="1" rot="5400000">
              <a:off x="3689280" y="3800520"/>
              <a:ext cx="824760" cy="1395000"/>
            </a:xfrm>
            <a:prstGeom prst="bentConnector3">
              <a:avLst>
                <a:gd name="adj1" fmla="val 96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6" name="_s16394"/>
            <p:cNvSpPr/>
            <p:nvPr/>
          </p:nvSpPr>
          <p:spPr>
            <a:xfrm>
              <a:off x="3603960" y="2438280"/>
              <a:ext cx="2389680" cy="1648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Факторы, влияющи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 самооценк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ебен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_s16395"/>
            <p:cNvSpPr/>
            <p:nvPr/>
          </p:nvSpPr>
          <p:spPr>
            <a:xfrm>
              <a:off x="2209680" y="4910400"/>
              <a:ext cx="2389680" cy="1648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Отношени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значимых взросл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_s16396"/>
            <p:cNvSpPr/>
            <p:nvPr/>
          </p:nvSpPr>
          <p:spPr>
            <a:xfrm>
              <a:off x="4997880" y="4910400"/>
              <a:ext cx="2389680" cy="1648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Осозн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ебенко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воей деятельност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Адекватность (адекватная, заниженная, завышенна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стойчивость (устойчивая, неустойчива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аправленность (совокупность мотивов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личная направленность (на себ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взаимная (на общ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деловая (на задачу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762120" y="152280"/>
            <a:ext cx="75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араметры самооце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834480" y="0"/>
            <a:ext cx="829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Формы работы классного руковод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 формированию самооценки обучаю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935720" y="1246320"/>
            <a:ext cx="5426280" cy="5361840"/>
            <a:chOff x="1935720" y="1246320"/>
            <a:chExt cx="5426280" cy="5361840"/>
          </a:xfrm>
        </p:grpSpPr>
        <p:sp>
          <p:nvSpPr>
            <p:cNvPr id="344" name="_s17433"/>
            <p:cNvSpPr/>
            <p:nvPr/>
          </p:nvSpPr>
          <p:spPr>
            <a:xfrm flipH="1" flipV="1">
              <a:off x="3681000" y="2836440"/>
              <a:ext cx="569520" cy="68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_s17432"/>
            <p:cNvSpPr/>
            <p:nvPr/>
          </p:nvSpPr>
          <p:spPr>
            <a:xfrm>
              <a:off x="2661840" y="174348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вободног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ыбо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_s17431"/>
            <p:cNvSpPr/>
            <p:nvPr/>
          </p:nvSpPr>
          <p:spPr>
            <a:xfrm flipH="1" flipV="1">
              <a:off x="3164760" y="3729600"/>
              <a:ext cx="875520" cy="15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_s17430"/>
            <p:cNvSpPr/>
            <p:nvPr/>
          </p:nvSpPr>
          <p:spPr>
            <a:xfrm>
              <a:off x="1935720" y="3003120"/>
              <a:ext cx="123804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сследова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_s17429"/>
            <p:cNvSpPr/>
            <p:nvPr/>
          </p:nvSpPr>
          <p:spPr>
            <a:xfrm flipH="1">
              <a:off x="3344040" y="4303080"/>
              <a:ext cx="77004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_s17428"/>
            <p:cNvSpPr/>
            <p:nvPr/>
          </p:nvSpPr>
          <p:spPr>
            <a:xfrm>
              <a:off x="2188080" y="4434840"/>
              <a:ext cx="123804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оревнова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_s17427"/>
            <p:cNvSpPr/>
            <p:nvPr/>
          </p:nvSpPr>
          <p:spPr>
            <a:xfrm flipH="1">
              <a:off x="4133880" y="4574160"/>
              <a:ext cx="305280" cy="83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_s17426"/>
            <p:cNvSpPr/>
            <p:nvPr/>
          </p:nvSpPr>
          <p:spPr>
            <a:xfrm>
              <a:off x="3302640" y="5369400"/>
              <a:ext cx="1238040" cy="1238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ози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_s17425"/>
            <p:cNvSpPr/>
            <p:nvPr/>
          </p:nvSpPr>
          <p:spPr>
            <a:xfrm>
              <a:off x="4862160" y="4572000"/>
              <a:ext cx="302040" cy="8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_s17424"/>
            <p:cNvSpPr/>
            <p:nvPr/>
          </p:nvSpPr>
          <p:spPr>
            <a:xfrm>
              <a:off x="4757040" y="5369400"/>
              <a:ext cx="1238040" cy="1238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елакс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праж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_s17423"/>
            <p:cNvSpPr/>
            <p:nvPr/>
          </p:nvSpPr>
          <p:spPr>
            <a:xfrm>
              <a:off x="5185080" y="4299120"/>
              <a:ext cx="76824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_s17422"/>
            <p:cNvSpPr/>
            <p:nvPr/>
          </p:nvSpPr>
          <p:spPr>
            <a:xfrm>
              <a:off x="5871240" y="443484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ртфолио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_s17421"/>
            <p:cNvSpPr/>
            <p:nvPr/>
          </p:nvSpPr>
          <p:spPr>
            <a:xfrm flipV="1">
              <a:off x="5257800" y="3729240"/>
              <a:ext cx="8755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_s17420"/>
            <p:cNvSpPr/>
            <p:nvPr/>
          </p:nvSpPr>
          <p:spPr>
            <a:xfrm>
              <a:off x="6123240" y="300312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ыставк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стиже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_s17419"/>
            <p:cNvSpPr/>
            <p:nvPr/>
          </p:nvSpPr>
          <p:spPr>
            <a:xfrm flipV="1">
              <a:off x="5045400" y="2836440"/>
              <a:ext cx="571680" cy="68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_s17418"/>
            <p:cNvSpPr/>
            <p:nvPr/>
          </p:nvSpPr>
          <p:spPr>
            <a:xfrm>
              <a:off x="5395320" y="174348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Бесед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_s17417"/>
            <p:cNvSpPr/>
            <p:nvPr/>
          </p:nvSpPr>
          <p:spPr>
            <a:xfrm flipV="1">
              <a:off x="4647960" y="2485080"/>
              <a:ext cx="0" cy="88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_s17416"/>
            <p:cNvSpPr/>
            <p:nvPr/>
          </p:nvSpPr>
          <p:spPr>
            <a:xfrm>
              <a:off x="4028400" y="1246320"/>
              <a:ext cx="1238760" cy="1238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гр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_s17415"/>
            <p:cNvSpPr/>
            <p:nvPr/>
          </p:nvSpPr>
          <p:spPr>
            <a:xfrm>
              <a:off x="4028400" y="3373560"/>
              <a:ext cx="1238760" cy="1238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ормы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2"/>
          <p:cNvSpPr/>
          <p:nvPr/>
        </p:nvSpPr>
        <p:spPr>
          <a:xfrm>
            <a:off x="1066680" y="3049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Психологические механиз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коррекционного воздействия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делирование системы социальных отношений в наглядно-действенной форм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ознание собственного «Я» в игре и возрастание меры социальной компетентности и способности к разрешению проблемных ситуац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(наряду с игровыми) реальных отношений как равноправных партнерских отношений сотрудничества и кооперации между ребенком и сверстник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ганизация поэтапной отработки в игре новых, более адекватных способов ориентировки ребенка в проблемных ситуациях, их интериоризация и усво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80247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Arial"/>
                <a:ea typeface="Arial"/>
              </a:rPr>
              <a:t>В работе описаны  </a:t>
            </a: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возможности и специфика использования игр во внеклассной работе для формирования самооценки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1021680" y="87480"/>
            <a:ext cx="79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боснование методических (практических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ложений и выв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2895480"/>
            <a:ext cx="9144000" cy="3793320"/>
            <a:chOff x="0" y="2895480"/>
            <a:chExt cx="9144000" cy="3793320"/>
          </a:xfrm>
        </p:grpSpPr>
        <p:cxnSp>
          <p:nvCxnSpPr>
            <p:cNvPr id="368" name="_s19471"/>
            <p:cNvCxnSpPr>
              <a:stCxn id="369" idx="0"/>
              <a:endCxn id="370" idx="2"/>
            </p:cNvCxnSpPr>
            <p:nvPr/>
          </p:nvCxnSpPr>
          <p:spPr>
            <a:xfrm flipV="1" rot="16200000">
              <a:off x="6192360" y="2791080"/>
              <a:ext cx="759240" cy="40010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1" name="_s19472"/>
            <p:cNvCxnSpPr>
              <a:stCxn id="372" idx="0"/>
              <a:endCxn id="370" idx="2"/>
            </p:cNvCxnSpPr>
            <p:nvPr/>
          </p:nvCxnSpPr>
          <p:spPr>
            <a:xfrm flipV="1" rot="16200000">
              <a:off x="5526000" y="3458160"/>
              <a:ext cx="759240" cy="26672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3" name="_s19473"/>
            <p:cNvCxnSpPr>
              <a:stCxn id="374" idx="0"/>
              <a:endCxn id="370" idx="2"/>
            </p:cNvCxnSpPr>
            <p:nvPr/>
          </p:nvCxnSpPr>
          <p:spPr>
            <a:xfrm flipV="1" rot="16200000">
              <a:off x="4858920" y="4124520"/>
              <a:ext cx="759240" cy="133416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5" name="_s19474"/>
            <p:cNvCxnSpPr>
              <a:stCxn id="376" idx="0"/>
              <a:endCxn id="370" idx="2"/>
            </p:cNvCxnSpPr>
            <p:nvPr/>
          </p:nvCxnSpPr>
          <p:spPr>
            <a:xfrm flipV="1">
              <a:off x="4572000" y="4412160"/>
              <a:ext cx="2160" cy="75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7" name="_s19475"/>
            <p:cNvCxnSpPr>
              <a:stCxn id="378" idx="0"/>
              <a:endCxn id="370" idx="2"/>
            </p:cNvCxnSpPr>
            <p:nvPr/>
          </p:nvCxnSpPr>
          <p:spPr>
            <a:xfrm flipH="1" flipV="1" rot="5400000">
              <a:off x="3525480" y="4124880"/>
              <a:ext cx="759240" cy="133416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9" name="_s19476"/>
            <p:cNvCxnSpPr>
              <a:stCxn id="380" idx="0"/>
              <a:endCxn id="370" idx="2"/>
            </p:cNvCxnSpPr>
            <p:nvPr/>
          </p:nvCxnSpPr>
          <p:spPr>
            <a:xfrm flipH="1" flipV="1" rot="5400000">
              <a:off x="2858760" y="3458160"/>
              <a:ext cx="759240" cy="26672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19477"/>
            <p:cNvCxnSpPr>
              <a:stCxn id="382" idx="0"/>
              <a:endCxn id="370" idx="2"/>
            </p:cNvCxnSpPr>
            <p:nvPr/>
          </p:nvCxnSpPr>
          <p:spPr>
            <a:xfrm flipH="1" flipV="1" rot="5400000">
              <a:off x="2192040" y="2791440"/>
              <a:ext cx="759240" cy="40010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0" name="_s19478"/>
            <p:cNvSpPr/>
            <p:nvPr/>
          </p:nvSpPr>
          <p:spPr>
            <a:xfrm>
              <a:off x="4000320" y="289548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рием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дополнительно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оддержк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для детей с ОВЗ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_s19479"/>
            <p:cNvSpPr/>
            <p:nvPr/>
          </p:nvSpPr>
          <p:spPr>
            <a:xfrm>
              <a:off x="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Карточки-картинк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_s19480"/>
            <p:cNvSpPr/>
            <p:nvPr/>
          </p:nvSpPr>
          <p:spPr>
            <a:xfrm>
              <a:off x="133344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опрос-подсказк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_s19481"/>
            <p:cNvSpPr/>
            <p:nvPr/>
          </p:nvSpPr>
          <p:spPr>
            <a:xfrm>
              <a:off x="266688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Алгоритм действи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_s19482"/>
            <p:cNvSpPr/>
            <p:nvPr/>
          </p:nvSpPr>
          <p:spPr>
            <a:xfrm>
              <a:off x="400032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редъявление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заданий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 письменной форм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_s19483"/>
            <p:cNvSpPr/>
            <p:nvPr/>
          </p:nvSpPr>
          <p:spPr>
            <a:xfrm>
              <a:off x="533376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оложительное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ербально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оценивани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_s19484"/>
            <p:cNvSpPr/>
            <p:nvPr/>
          </p:nvSpPr>
          <p:spPr>
            <a:xfrm>
              <a:off x="666720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Релаксация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_s19485"/>
            <p:cNvSpPr/>
            <p:nvPr/>
          </p:nvSpPr>
          <p:spPr>
            <a:xfrm>
              <a:off x="800100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омощь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 фиксации действи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Arial"/>
              </a:rPr>
              <a:t>Внеклассные мероприятия с использованием игр для формирования самооценки обучающихся в области начального общего образования, в том числе компенсирующего и коррекционно-развивающего</a:t>
            </a: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ный час «Поговорим о дружбе» (3 класс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– учить детей понимать себя, свои мысли, свои поступки, жела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: научить ребёнка понимать и оценивать свои мысли и желания; развивать коммуникативные навыки групповой работы; развивать представления о базовых ценностях; формировать позитивную самооцен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овая программа «Давайте говорить друг другу комплименты!» (4 класс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– развитие способов речевого взаимодействия в социум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: формировать коммуникативные умения и навыки; содействовать развитию эмоционально-чувственной сферы обучающихся; формировать представлений о нормах общения; создавать доброжелательную атмосферу, корректировать и повышать самооцен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stya</dc:creator>
  <dc:description/>
  <dc:language>en-US</dc:language>
  <cp:lastModifiedBy>User</cp:lastModifiedBy>
  <dcterms:modified xsi:type="dcterms:W3CDTF">2022-11-13T08:03:0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