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DE7F-8B6C-4595-A250-A27319EE87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64C3-F7DE-4252-9C78-4DB0B8EE82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BF82-0EB7-43E8-8109-C53FE02CA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5DE0-06F5-42A3-B3C5-FD3F5EA5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6E35-7A23-44B6-9E4D-FCFCB766D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8DFD-7A4B-420A-93FD-1279CA2D7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B6F2-C6CB-4E96-8FAC-E9C1687C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C042-3657-4723-9E40-5D7CD6F1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A78C-30EE-4B53-B30F-D928D1D2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8EB3-25AF-42F2-87D3-61076ED5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3ABB-6596-4ADB-8C81-D8FFE6CC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2D31-8BD0-4402-AD40-BEFE329F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F50C-CCE4-414C-815C-D4747633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3C36-2FC6-461B-A555-AE576BF9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A54F-0F8A-4496-8D7C-4FD3A0A9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36FA-7328-4AB5-A459-733034BC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8520-C53E-4164-AB04-0A538144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1849-CD46-4415-B648-D9F4BF534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C5FF-D6F3-455D-8805-AEA51A28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E27F3-6905-423C-9D63-074D783DF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AAF3F-6823-41B0-8DC6-DA35E70C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E0555-D63C-49F0-ADDF-B04C76EF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B8DE3-D4DF-45DE-8A2B-9BD10840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2121E-1B84-4195-8A17-39B50732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6005-86E7-4144-B63C-7F9D63E2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D5E98-08EA-4B74-8437-5D5FCEF2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A0884-5B35-4391-A225-C2EF30E7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AF9B3-3C67-4178-8EE1-2EBD6506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5659A-7EAA-43F6-82DF-E9DD0C2A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165F7-78D5-40D1-BF03-BB466EB7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902AE-0898-45F2-91A1-9135A5EFD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AB9E5-F483-4C06-AA9D-D68C5D4F1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2608C-3915-451B-AE8A-9054C527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EED8D-A21B-4C9A-9B03-78CE9779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BCB7C-B7E4-4D5D-A8AA-DA0D08C2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203A-0841-480F-ADB1-FA41CBEE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8C84E-44C4-49EF-8714-4BA3D60A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DA3D7-96F1-4376-92C0-09410672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D7CB7-2991-417D-A2ED-613BD0C6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7DA4F-80D8-482E-BC00-CDB27839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C6806-6AF7-4C6B-B4E8-7E22BBEC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757D2-8A8D-47DB-A443-C27FDB24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B8F81-C87A-47DE-8FEE-CFCB797D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AB5DA-FBB1-45DE-A0DB-262062AE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6AEB2-3999-47A2-BDD8-A9DFBDD6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FA20C-45CA-4753-9F2D-34BB26AE2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6129-B84B-4B35-97E1-63DAD1BB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12A56-C65B-4D30-B7D5-67E973A8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9FE31-AD2E-407B-AE58-058CED3F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F3894-CF8A-4C0C-9308-E54FCF7F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0A6F3-D036-422C-A375-BA46D767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1DD62-2B58-4A74-9DAF-00DF199E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67487-5AC4-4C79-9851-9D94AE6D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2197D-02FF-407E-B0D8-CBF71199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21984-4F9E-4716-80B9-1071ECF4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D5628-362F-4E87-9B62-ED3A8013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21DC7-0535-499E-9809-5A6A0F961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56D0-8D84-4B88-A99E-83295483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E6B16-798A-446F-92FB-6E166360F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18E63-67B8-4AF6-A6F6-26A9A7FEE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21D6B-82C4-4A1D-BF2F-122CFDD2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C756A-D0CE-48FA-8E49-4952C338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B9980-8F07-4432-9A75-4A20F6F3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1C053-B715-4F08-B9DF-FFCCE23B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CC614-70FD-4FFD-ABA7-98CE29B9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05F4E-0269-42F7-8187-1B88E4A9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0EE8D-3F77-4800-876A-D47DE362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8A71F-ED9E-4936-BC5B-50929184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1F9A-C400-4137-A70D-09E7D1E6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EED52-7EEB-493E-8713-83108C1B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A974D-1A1C-40FE-9C3E-9BDE48DAF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BB322-9858-4E18-B6E2-C463451C8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3B7B3-4059-41B8-86EC-71FA45B1A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37462-49AB-4D2A-A05D-004DEB12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99A70-27B7-45C7-BCF5-6E6E3409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D3789-5D80-47E6-BB59-8D61EEF1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DC550-5E53-4130-B281-BD378761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93FDD-2A5F-4171-87AB-637B855B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D2F51-C9F5-4D87-A3D0-9717776C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57C7-09EB-40FF-BCC1-5E05FD63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EF3FB-92DF-4E43-91F6-8DECDACD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D5D04-7FB5-424D-90E9-A0E57627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B2AC6-D612-4925-AA11-02875776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1BB2C-0535-471B-A5A9-CC1F8CDB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D0ACF-DD7F-493A-A73E-D2C15A96F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B5E2-1C93-4BDE-BC27-3F8D467F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E298-4325-48EF-9C82-18C17EB16CC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69C6-2A74-42DE-B938-1E6D64615AA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3366-A267-4215-A7CE-4CC2FAC5924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C84E-445D-4DDE-9A4F-C138BD2073E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5601-7BDA-466D-A623-719A109DE2B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0148-6A3F-4071-AE4E-6D0DB847A21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1C67-1685-49AF-B966-9E3198EB380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6240" y="271080"/>
            <a:ext cx="80010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e190d"/>
                </a:solidFill>
                <a:latin typeface="Arial"/>
                <a:ea typeface="Arial"/>
              </a:rPr>
              <a:t>Министерство образования Новосибирской области</a:t>
            </a:r>
            <a:br>
              <a:rPr sz="1400"/>
            </a:br>
            <a:r>
              <a:rPr b="1" lang="en-US" sz="1400" spc="-1" strike="noStrike">
                <a:solidFill>
                  <a:srgbClr val="1e190d"/>
                </a:solidFill>
                <a:latin typeface="Arial"/>
                <a:ea typeface="Arial"/>
              </a:rPr>
              <a:t>Государственное автономное профессиональное </a:t>
            </a:r>
            <a:br>
              <a:rPr sz="1400"/>
            </a:br>
            <a:r>
              <a:rPr b="1" lang="en-US" sz="1400" spc="-1" strike="noStrike">
                <a:solidFill>
                  <a:srgbClr val="1e190d"/>
                </a:solidFill>
                <a:latin typeface="Arial"/>
                <a:ea typeface="Arial"/>
              </a:rPr>
              <a:t>образовательное учреждение Новосибирской области</a:t>
            </a:r>
            <a:br>
              <a:rPr sz="1400"/>
            </a:br>
            <a:r>
              <a:rPr b="1" lang="en-US" sz="1400" spc="-1" strike="noStrike">
                <a:solidFill>
                  <a:srgbClr val="1e190d"/>
                </a:solidFill>
                <a:latin typeface="Arial"/>
                <a:ea typeface="Arial"/>
              </a:rPr>
              <a:t>«Куйбышевский педагогический колледж»</a:t>
            </a:r>
            <a:endParaRPr b="0" lang="en-US" sz="1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АЛЬНОСТЬ 44.02.02 ПРЕПОДАВАНИЕ В НАЧАЛЬНЫХ КЛАССАХ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Выпускная квалификационная работ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rbel"/>
              </a:rPr>
              <a:t>Игры во внеклассной работе в формировании самооценки обучающихся в области начального общего образования, в том числе компенсирующего и коррекционно-развивающего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полнила: Косых 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уководитель: Порчайкина Г.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уйбышев, 2022г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Прямоугольник 2"/>
          <p:cNvSpPr/>
          <p:nvPr/>
        </p:nvSpPr>
        <p:spPr>
          <a:xfrm>
            <a:off x="1143000" y="22860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Игры для формирования самооценки, включенные во внеклассные мероприя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Протянем другу руку» (сплочение, доброжелательный настрой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Крылья» (раскрепощение, развитие фантазии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Я могу» (укрепление дружеских взаимоотношений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ставь свои качества (осознание своей индивидуальности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Комплименты» (умение видеть друг в друге положительные качества, подбирать слова, называющие эти качества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Ты, как и я…» (осознание себя частью общности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алоги (освоение социальных ролей; развитие фантазии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лимент и ответ (умение говорить и принимать положительные оценки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9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Прямоугольник 2"/>
          <p:cNvSpPr/>
          <p:nvPr/>
        </p:nvSpPr>
        <p:spPr>
          <a:xfrm>
            <a:off x="350532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Выводы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914400" y="4572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43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1) Самооценка - значимость, которой человек наделяет себя в целом и отдельные стороны своей личности, деятельности, поведения. Формирование самооценки обучающихся активно происходит в младшем школьном возрасте: развиваются умения самоконтроля, саморегуляции, самооценивания. Стабильная самооценка выполняет мотивационную функцию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43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2) Особенности использования игры для формирования самооценки - в следующем: развитие высших психических функций младших школьников средствами игры будет наиболее эффективно при систематическом использовании игр при учете психофизических особенностей детей младшего школьного возраста и создании комфортных условий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43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3) Использование игр для повышения самооценки продуктивно как для детей нормы, так и для детей с ОВЗ с учетом их психофизических возможностей. Игра, как командная форма, способствует укреплению взаимоотношений между сверстниками, созданию творческой атмосферы, помогает детям реализовать себя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43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4) Необходимо систематическое включение игр и игровых заданий во внеклассные мероприятия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43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5) Возможности использования игр во внеклассной работе для формировании самооценки отражены в разработанных рекомендациях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43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6) Задачи исследования выполнены, цель достигнут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Благодарю за внимание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1066320" y="121896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1c0e0a"/>
                </a:solidFill>
                <a:latin typeface="Arial"/>
              </a:rPr>
              <a:t>Объект исследования: формирование самооценки обучающихся в области начального общего образования, в том числе компенсирующего и коррекционно-развивающег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0e0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0e0a"/>
                </a:solidFill>
                <a:latin typeface="Arial"/>
              </a:rPr>
              <a:t>Предмет исследования: игры во внеклассной работе как средство формирования самооценки у обучающихся в области начального общего образования, в том числе компенсирующего и коррекционно-развивающего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Прямоугольник 1"/>
          <p:cNvSpPr/>
          <p:nvPr/>
        </p:nvSpPr>
        <p:spPr>
          <a:xfrm>
            <a:off x="990720" y="69516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Аппарат исследова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80520" y="91404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764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дачи 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764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рассмотреть проблемы формирования самооценки обучающихся в научной и методической литературе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764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исследовать особенности использования игры во внеклассной работе по формированию самооценки обучающихся в области начального общего образования, в том числе компенсирующего и коррекционно-развивающего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764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обобщить опыт работы классного руководителя и описать проведенную работу по использованию игры во внеклассной работе в формировании самооценки обучающихся в области начального общего образования, в том числе компенсирующего и коррекционно-развивающего, разработать рекомендац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Прямоугольник 5"/>
          <p:cNvSpPr/>
          <p:nvPr/>
        </p:nvSpPr>
        <p:spPr>
          <a:xfrm>
            <a:off x="9907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Аппарат исследова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01600" y="1066320"/>
            <a:ext cx="7966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Самооценка  </a:t>
            </a:r>
            <a:r>
              <a:rPr b="1" lang="en-US" sz="2000" spc="-1" strike="noStrike">
                <a:solidFill>
                  <a:srgbClr val="572314"/>
                </a:solidFill>
                <a:latin typeface="Arial"/>
                <a:ea typeface="Arial"/>
              </a:rPr>
              <a:t>- </a:t>
            </a:r>
            <a:r>
              <a:rPr b="1" lang="en-US" sz="2800" spc="-1" strike="noStrike">
                <a:solidFill>
                  <a:srgbClr val="572314"/>
                </a:solidFill>
                <a:latin typeface="Corbel"/>
              </a:rPr>
              <a:t>оценка личностью себя, своих качеств и места среди других людей.</a:t>
            </a: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en-US" sz="2000" spc="-1" strike="noStrike">
                <a:solidFill>
                  <a:srgbClr val="572314"/>
                </a:solidFill>
                <a:latin typeface="Arial"/>
                <a:ea typeface="Arial"/>
              </a:rPr>
              <a:t>(Липкина А.И.)</a:t>
            </a:r>
            <a:br>
              <a:rPr sz="2000"/>
            </a:b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Прямоугольник 2"/>
          <p:cNvSpPr/>
          <p:nvPr/>
        </p:nvSpPr>
        <p:spPr>
          <a:xfrm>
            <a:off x="3164040" y="457200"/>
            <a:ext cx="357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Основные поня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209680" y="2438280"/>
            <a:ext cx="5177880" cy="4120200"/>
            <a:chOff x="2209680" y="2438280"/>
            <a:chExt cx="5177880" cy="4120200"/>
          </a:xfrm>
        </p:grpSpPr>
        <p:cxnSp>
          <p:nvCxnSpPr>
            <p:cNvPr id="334" name="_s16392"/>
            <p:cNvCxnSpPr>
              <a:stCxn id="335" idx="0"/>
              <a:endCxn id="336" idx="2"/>
            </p:cNvCxnSpPr>
            <p:nvPr/>
          </p:nvCxnSpPr>
          <p:spPr>
            <a:xfrm flipV="1" rot="16200000">
              <a:off x="5083200" y="3800880"/>
              <a:ext cx="824760" cy="1394280"/>
            </a:xfrm>
            <a:prstGeom prst="bentConnector3">
              <a:avLst>
                <a:gd name="adj1" fmla="val 96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7" name="_s16393"/>
            <p:cNvCxnSpPr>
              <a:stCxn id="338" idx="0"/>
              <a:endCxn id="336" idx="2"/>
            </p:cNvCxnSpPr>
            <p:nvPr/>
          </p:nvCxnSpPr>
          <p:spPr>
            <a:xfrm flipH="1" flipV="1" rot="5400000">
              <a:off x="3689280" y="3800520"/>
              <a:ext cx="824760" cy="1395000"/>
            </a:xfrm>
            <a:prstGeom prst="bentConnector3">
              <a:avLst>
                <a:gd name="adj1" fmla="val 96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6" name="_s16394"/>
            <p:cNvSpPr/>
            <p:nvPr/>
          </p:nvSpPr>
          <p:spPr>
            <a:xfrm>
              <a:off x="3603960" y="2438280"/>
              <a:ext cx="2389680" cy="16480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Факторы, влияющие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на самооценку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ребенк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_s16395"/>
            <p:cNvSpPr/>
            <p:nvPr/>
          </p:nvSpPr>
          <p:spPr>
            <a:xfrm>
              <a:off x="2209680" y="4910400"/>
              <a:ext cx="2389680" cy="164808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Отношение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значимых взрослы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_s16396"/>
            <p:cNvSpPr/>
            <p:nvPr/>
          </p:nvSpPr>
          <p:spPr>
            <a:xfrm>
              <a:off x="4997880" y="4910400"/>
              <a:ext cx="2389680" cy="164808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Осознан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ребенком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своей деятельност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 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867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Адекватность (адекватная, заниженная, завышенная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Устойчивость (устойчивая, неустойчивая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Направленность (совокупность мотивов)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личная направленность (на себя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взаимная (на общен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деловая (на задачу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Прямоугольник 2"/>
          <p:cNvSpPr/>
          <p:nvPr/>
        </p:nvSpPr>
        <p:spPr>
          <a:xfrm>
            <a:off x="762120" y="152280"/>
            <a:ext cx="75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Параметры самооцен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2"/>
          <p:cNvSpPr/>
          <p:nvPr/>
        </p:nvSpPr>
        <p:spPr>
          <a:xfrm>
            <a:off x="834480" y="0"/>
            <a:ext cx="829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Формы работы классного руководител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по формированию самооценки обучающих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935720" y="1246320"/>
            <a:ext cx="5426280" cy="5361840"/>
            <a:chOff x="1935720" y="1246320"/>
            <a:chExt cx="5426280" cy="5361840"/>
          </a:xfrm>
        </p:grpSpPr>
        <p:sp>
          <p:nvSpPr>
            <p:cNvPr id="344" name="_s17433"/>
            <p:cNvSpPr/>
            <p:nvPr/>
          </p:nvSpPr>
          <p:spPr>
            <a:xfrm flipH="1" flipV="1">
              <a:off x="3681000" y="2836440"/>
              <a:ext cx="569520" cy="68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_s17432"/>
            <p:cNvSpPr/>
            <p:nvPr/>
          </p:nvSpPr>
          <p:spPr>
            <a:xfrm>
              <a:off x="2661840" y="1743480"/>
              <a:ext cx="1238760" cy="1238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Ситуа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свободног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выбо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_s17431"/>
            <p:cNvSpPr/>
            <p:nvPr/>
          </p:nvSpPr>
          <p:spPr>
            <a:xfrm flipH="1" flipV="1">
              <a:off x="3164760" y="3729600"/>
              <a:ext cx="875520" cy="15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_s17430"/>
            <p:cNvSpPr/>
            <p:nvPr/>
          </p:nvSpPr>
          <p:spPr>
            <a:xfrm>
              <a:off x="1935720" y="3003120"/>
              <a:ext cx="1238040" cy="1238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Исследовани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_s17429"/>
            <p:cNvSpPr/>
            <p:nvPr/>
          </p:nvSpPr>
          <p:spPr>
            <a:xfrm flipH="1">
              <a:off x="3344040" y="4303080"/>
              <a:ext cx="770040" cy="44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_s17428"/>
            <p:cNvSpPr/>
            <p:nvPr/>
          </p:nvSpPr>
          <p:spPr>
            <a:xfrm>
              <a:off x="2188080" y="4434840"/>
              <a:ext cx="1238040" cy="1238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Соревновани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_s17427"/>
            <p:cNvSpPr/>
            <p:nvPr/>
          </p:nvSpPr>
          <p:spPr>
            <a:xfrm flipH="1">
              <a:off x="4133880" y="4574160"/>
              <a:ext cx="305280" cy="83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_s17426"/>
            <p:cNvSpPr/>
            <p:nvPr/>
          </p:nvSpPr>
          <p:spPr>
            <a:xfrm>
              <a:off x="3302640" y="5369400"/>
              <a:ext cx="1238040" cy="12387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Пози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бщ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_s17425"/>
            <p:cNvSpPr/>
            <p:nvPr/>
          </p:nvSpPr>
          <p:spPr>
            <a:xfrm>
              <a:off x="4862160" y="4572000"/>
              <a:ext cx="302040" cy="83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_s17424"/>
            <p:cNvSpPr/>
            <p:nvPr/>
          </p:nvSpPr>
          <p:spPr>
            <a:xfrm>
              <a:off x="4757040" y="5369400"/>
              <a:ext cx="1238040" cy="12387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Релакс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упражн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_s17423"/>
            <p:cNvSpPr/>
            <p:nvPr/>
          </p:nvSpPr>
          <p:spPr>
            <a:xfrm>
              <a:off x="5185080" y="4299120"/>
              <a:ext cx="768240" cy="44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_s17422"/>
            <p:cNvSpPr/>
            <p:nvPr/>
          </p:nvSpPr>
          <p:spPr>
            <a:xfrm>
              <a:off x="5871240" y="4434840"/>
              <a:ext cx="1238760" cy="1238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ортфолио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_s17421"/>
            <p:cNvSpPr/>
            <p:nvPr/>
          </p:nvSpPr>
          <p:spPr>
            <a:xfrm flipV="1">
              <a:off x="5257800" y="3729240"/>
              <a:ext cx="87552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_s17420"/>
            <p:cNvSpPr/>
            <p:nvPr/>
          </p:nvSpPr>
          <p:spPr>
            <a:xfrm>
              <a:off x="6123240" y="3003120"/>
              <a:ext cx="1238760" cy="1238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Выставка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достиже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_s17419"/>
            <p:cNvSpPr/>
            <p:nvPr/>
          </p:nvSpPr>
          <p:spPr>
            <a:xfrm flipV="1">
              <a:off x="5045400" y="2836440"/>
              <a:ext cx="571680" cy="68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_s17418"/>
            <p:cNvSpPr/>
            <p:nvPr/>
          </p:nvSpPr>
          <p:spPr>
            <a:xfrm>
              <a:off x="5395320" y="1743480"/>
              <a:ext cx="1238760" cy="1238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Беседа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_s17417"/>
            <p:cNvSpPr/>
            <p:nvPr/>
          </p:nvSpPr>
          <p:spPr>
            <a:xfrm flipV="1">
              <a:off x="4647960" y="2485080"/>
              <a:ext cx="0" cy="88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_s17416"/>
            <p:cNvSpPr/>
            <p:nvPr/>
          </p:nvSpPr>
          <p:spPr>
            <a:xfrm>
              <a:off x="4028400" y="1246320"/>
              <a:ext cx="1238760" cy="12387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Игра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_s17415"/>
            <p:cNvSpPr/>
            <p:nvPr/>
          </p:nvSpPr>
          <p:spPr>
            <a:xfrm>
              <a:off x="4028400" y="3373560"/>
              <a:ext cx="1238760" cy="12387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ормы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Прямоугольник 2"/>
          <p:cNvSpPr/>
          <p:nvPr/>
        </p:nvSpPr>
        <p:spPr>
          <a:xfrm>
            <a:off x="1066680" y="30492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Психологические механизм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коррекционного воздействия иг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837720" y="1600200"/>
            <a:ext cx="8153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оделирование системы социальных отношений в наглядно-действенной форме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сознание собственного «Я» в игре и возрастание меры социальной компетентности и способности к разрешению проблемных ситуаций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формирование (наряду с игровыми) реальных отношений как равноправных партнерских отношений сотрудничества и кооперации между ребенком и сверстником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рганизация поэтапной отработки в игре новых, более адекватных способов ориентировки ребенка в проблемных ситуациях, их интериоризация и усвоени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802476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2314"/>
                </a:solidFill>
                <a:latin typeface="Arial"/>
                <a:ea typeface="Arial"/>
              </a:rPr>
              <a:t>В работе описаны  </a:t>
            </a:r>
            <a:r>
              <a:rPr b="0" lang="en-US" sz="2400" spc="-1" strike="noStrike">
                <a:solidFill>
                  <a:srgbClr val="572314"/>
                </a:solidFill>
                <a:latin typeface="Arial"/>
              </a:rPr>
              <a:t>возможности и специфика использования игр во внеклассной работе для формирования самооценки обучающихся в области начального общего образования, в том числе компенсирующего и коррекционно-развивающего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Прямоугольник 2"/>
          <p:cNvSpPr/>
          <p:nvPr/>
        </p:nvSpPr>
        <p:spPr>
          <a:xfrm>
            <a:off x="1021680" y="87480"/>
            <a:ext cx="798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Обоснование методических (практических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положений и вывод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0" y="2895480"/>
            <a:ext cx="9144000" cy="3793320"/>
            <a:chOff x="0" y="2895480"/>
            <a:chExt cx="9144000" cy="3793320"/>
          </a:xfrm>
        </p:grpSpPr>
        <p:cxnSp>
          <p:nvCxnSpPr>
            <p:cNvPr id="368" name="_s19471"/>
            <p:cNvCxnSpPr>
              <a:stCxn id="369" idx="0"/>
              <a:endCxn id="370" idx="2"/>
            </p:cNvCxnSpPr>
            <p:nvPr/>
          </p:nvCxnSpPr>
          <p:spPr>
            <a:xfrm flipV="1" rot="16200000">
              <a:off x="6192360" y="2791080"/>
              <a:ext cx="759240" cy="4001040"/>
            </a:xfrm>
            <a:prstGeom prst="bentConnector3">
              <a:avLst>
                <a:gd name="adj1" fmla="val 95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71" name="_s19472"/>
            <p:cNvCxnSpPr>
              <a:stCxn id="372" idx="0"/>
              <a:endCxn id="370" idx="2"/>
            </p:cNvCxnSpPr>
            <p:nvPr/>
          </p:nvCxnSpPr>
          <p:spPr>
            <a:xfrm flipV="1" rot="16200000">
              <a:off x="5526000" y="3458160"/>
              <a:ext cx="759240" cy="2667240"/>
            </a:xfrm>
            <a:prstGeom prst="bentConnector3">
              <a:avLst>
                <a:gd name="adj1" fmla="val 95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73" name="_s19473"/>
            <p:cNvCxnSpPr>
              <a:stCxn id="374" idx="0"/>
              <a:endCxn id="370" idx="2"/>
            </p:cNvCxnSpPr>
            <p:nvPr/>
          </p:nvCxnSpPr>
          <p:spPr>
            <a:xfrm flipV="1" rot="16200000">
              <a:off x="4858920" y="4124520"/>
              <a:ext cx="759240" cy="1334160"/>
            </a:xfrm>
            <a:prstGeom prst="bentConnector3">
              <a:avLst>
                <a:gd name="adj1" fmla="val 95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75" name="_s19474"/>
            <p:cNvCxnSpPr>
              <a:stCxn id="376" idx="0"/>
              <a:endCxn id="370" idx="2"/>
            </p:cNvCxnSpPr>
            <p:nvPr/>
          </p:nvCxnSpPr>
          <p:spPr>
            <a:xfrm flipV="1">
              <a:off x="4572000" y="4412160"/>
              <a:ext cx="2160" cy="759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77" name="_s19475"/>
            <p:cNvCxnSpPr>
              <a:stCxn id="378" idx="0"/>
              <a:endCxn id="370" idx="2"/>
            </p:cNvCxnSpPr>
            <p:nvPr/>
          </p:nvCxnSpPr>
          <p:spPr>
            <a:xfrm flipH="1" flipV="1" rot="5400000">
              <a:off x="3525480" y="4124880"/>
              <a:ext cx="759240" cy="1334160"/>
            </a:xfrm>
            <a:prstGeom prst="bentConnector3">
              <a:avLst>
                <a:gd name="adj1" fmla="val 95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79" name="_s19476"/>
            <p:cNvCxnSpPr>
              <a:stCxn id="380" idx="0"/>
              <a:endCxn id="370" idx="2"/>
            </p:cNvCxnSpPr>
            <p:nvPr/>
          </p:nvCxnSpPr>
          <p:spPr>
            <a:xfrm flipH="1" flipV="1" rot="5400000">
              <a:off x="2858760" y="3458160"/>
              <a:ext cx="759240" cy="2667240"/>
            </a:xfrm>
            <a:prstGeom prst="bentConnector3">
              <a:avLst>
                <a:gd name="adj1" fmla="val 95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1" name="_s19477"/>
            <p:cNvCxnSpPr>
              <a:stCxn id="382" idx="0"/>
              <a:endCxn id="370" idx="2"/>
            </p:cNvCxnSpPr>
            <p:nvPr/>
          </p:nvCxnSpPr>
          <p:spPr>
            <a:xfrm flipH="1" flipV="1" rot="5400000">
              <a:off x="2192040" y="2791440"/>
              <a:ext cx="759240" cy="4001040"/>
            </a:xfrm>
            <a:prstGeom prst="bentConnector3">
              <a:avLst>
                <a:gd name="adj1" fmla="val 95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70" name="_s19478"/>
            <p:cNvSpPr/>
            <p:nvPr/>
          </p:nvSpPr>
          <p:spPr>
            <a:xfrm>
              <a:off x="4000320" y="2895480"/>
              <a:ext cx="1143000" cy="1517400"/>
            </a:xfrm>
            <a:custGeom>
              <a:avLst/>
              <a:gdLst>
                <a:gd name="textAreaLeft" fmla="*/ 55800 w 1143000"/>
                <a:gd name="textAreaRight" fmla="*/ 1087200 w 1143000"/>
                <a:gd name="textAreaTop" fmla="*/ 55800 h 1517400"/>
                <a:gd name="textAreaBottom" fmla="*/ 1461600 h 1517400"/>
              </a:gdLst>
              <a:ahLst/>
              <a:rect l="textAreaLeft" t="textAreaTop" r="textAreaRight" b="textAreaBottom"/>
              <a:pathLst>
                <a:path w="21600" h="28673">
                  <a:moveTo>
                    <a:pt x="3600" y="0"/>
                  </a:moveTo>
                  <a:arcTo wR="3600" hR="3600" stAng="16200000" swAng="-5400000"/>
                  <a:lnTo>
                    <a:pt x="0" y="25073"/>
                  </a:lnTo>
                  <a:arcTo wR="3600" hR="3600" stAng="10800000" swAng="-5400000"/>
                  <a:lnTo>
                    <a:pt x="18000" y="28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Приемы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дополнительной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поддержки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для детей с ОВЗ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_s19479"/>
            <p:cNvSpPr/>
            <p:nvPr/>
          </p:nvSpPr>
          <p:spPr>
            <a:xfrm>
              <a:off x="0" y="5171400"/>
              <a:ext cx="1143000" cy="1517400"/>
            </a:xfrm>
            <a:custGeom>
              <a:avLst/>
              <a:gdLst>
                <a:gd name="textAreaLeft" fmla="*/ 55800 w 1143000"/>
                <a:gd name="textAreaRight" fmla="*/ 1087200 w 1143000"/>
                <a:gd name="textAreaTop" fmla="*/ 55800 h 1517400"/>
                <a:gd name="textAreaBottom" fmla="*/ 1461600 h 1517400"/>
              </a:gdLst>
              <a:ahLst/>
              <a:rect l="textAreaLeft" t="textAreaTop" r="textAreaRight" b="textAreaBottom"/>
              <a:pathLst>
                <a:path w="21600" h="28673">
                  <a:moveTo>
                    <a:pt x="3600" y="0"/>
                  </a:moveTo>
                  <a:arcTo wR="3600" hR="3600" stAng="16200000" swAng="-5400000"/>
                  <a:lnTo>
                    <a:pt x="0" y="25073"/>
                  </a:lnTo>
                  <a:arcTo wR="3600" hR="3600" stAng="10800000" swAng="-5400000"/>
                  <a:lnTo>
                    <a:pt x="18000" y="28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Карточки-картинки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_s19480"/>
            <p:cNvSpPr/>
            <p:nvPr/>
          </p:nvSpPr>
          <p:spPr>
            <a:xfrm>
              <a:off x="1333440" y="5171400"/>
              <a:ext cx="1143000" cy="1517400"/>
            </a:xfrm>
            <a:custGeom>
              <a:avLst/>
              <a:gdLst>
                <a:gd name="textAreaLeft" fmla="*/ 55800 w 1143000"/>
                <a:gd name="textAreaRight" fmla="*/ 1087200 w 1143000"/>
                <a:gd name="textAreaTop" fmla="*/ 55800 h 1517400"/>
                <a:gd name="textAreaBottom" fmla="*/ 1461600 h 1517400"/>
              </a:gdLst>
              <a:ahLst/>
              <a:rect l="textAreaLeft" t="textAreaTop" r="textAreaRight" b="textAreaBottom"/>
              <a:pathLst>
                <a:path w="21600" h="28673">
                  <a:moveTo>
                    <a:pt x="3600" y="0"/>
                  </a:moveTo>
                  <a:arcTo wR="3600" hR="3600" stAng="16200000" swAng="-5400000"/>
                  <a:lnTo>
                    <a:pt x="0" y="25073"/>
                  </a:lnTo>
                  <a:arcTo wR="3600" hR="3600" stAng="10800000" swAng="-5400000"/>
                  <a:lnTo>
                    <a:pt x="18000" y="28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Вопрос-подсказк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_s19481"/>
            <p:cNvSpPr/>
            <p:nvPr/>
          </p:nvSpPr>
          <p:spPr>
            <a:xfrm>
              <a:off x="2666880" y="5171400"/>
              <a:ext cx="1143000" cy="1517400"/>
            </a:xfrm>
            <a:custGeom>
              <a:avLst/>
              <a:gdLst>
                <a:gd name="textAreaLeft" fmla="*/ 55800 w 1143000"/>
                <a:gd name="textAreaRight" fmla="*/ 1087200 w 1143000"/>
                <a:gd name="textAreaTop" fmla="*/ 55800 h 1517400"/>
                <a:gd name="textAreaBottom" fmla="*/ 1461600 h 1517400"/>
              </a:gdLst>
              <a:ahLst/>
              <a:rect l="textAreaLeft" t="textAreaTop" r="textAreaRight" b="textAreaBottom"/>
              <a:pathLst>
                <a:path w="21600" h="28673">
                  <a:moveTo>
                    <a:pt x="3600" y="0"/>
                  </a:moveTo>
                  <a:arcTo wR="3600" hR="3600" stAng="16200000" swAng="-5400000"/>
                  <a:lnTo>
                    <a:pt x="0" y="25073"/>
                  </a:lnTo>
                  <a:arcTo wR="3600" hR="3600" stAng="10800000" swAng="-5400000"/>
                  <a:lnTo>
                    <a:pt x="18000" y="28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Алгоритм действий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_s19482"/>
            <p:cNvSpPr/>
            <p:nvPr/>
          </p:nvSpPr>
          <p:spPr>
            <a:xfrm>
              <a:off x="4000320" y="5171400"/>
              <a:ext cx="1143000" cy="1517400"/>
            </a:xfrm>
            <a:custGeom>
              <a:avLst/>
              <a:gdLst>
                <a:gd name="textAreaLeft" fmla="*/ 55800 w 1143000"/>
                <a:gd name="textAreaRight" fmla="*/ 1087200 w 1143000"/>
                <a:gd name="textAreaTop" fmla="*/ 55800 h 1517400"/>
                <a:gd name="textAreaBottom" fmla="*/ 1461600 h 1517400"/>
              </a:gdLst>
              <a:ahLst/>
              <a:rect l="textAreaLeft" t="textAreaTop" r="textAreaRight" b="textAreaBottom"/>
              <a:pathLst>
                <a:path w="21600" h="28673">
                  <a:moveTo>
                    <a:pt x="3600" y="0"/>
                  </a:moveTo>
                  <a:arcTo wR="3600" hR="3600" stAng="16200000" swAng="-5400000"/>
                  <a:lnTo>
                    <a:pt x="0" y="25073"/>
                  </a:lnTo>
                  <a:arcTo wR="3600" hR="3600" stAng="10800000" swAng="-5400000"/>
                  <a:lnTo>
                    <a:pt x="18000" y="28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Предъявление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заданий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в письменной форм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_s19483"/>
            <p:cNvSpPr/>
            <p:nvPr/>
          </p:nvSpPr>
          <p:spPr>
            <a:xfrm>
              <a:off x="5333760" y="5171400"/>
              <a:ext cx="1143000" cy="1517400"/>
            </a:xfrm>
            <a:custGeom>
              <a:avLst/>
              <a:gdLst>
                <a:gd name="textAreaLeft" fmla="*/ 55800 w 1143000"/>
                <a:gd name="textAreaRight" fmla="*/ 1087200 w 1143000"/>
                <a:gd name="textAreaTop" fmla="*/ 55800 h 1517400"/>
                <a:gd name="textAreaBottom" fmla="*/ 1461600 h 1517400"/>
              </a:gdLst>
              <a:ahLst/>
              <a:rect l="textAreaLeft" t="textAreaTop" r="textAreaRight" b="textAreaBottom"/>
              <a:pathLst>
                <a:path w="21600" h="28673">
                  <a:moveTo>
                    <a:pt x="3600" y="0"/>
                  </a:moveTo>
                  <a:arcTo wR="3600" hR="3600" stAng="16200000" swAng="-5400000"/>
                  <a:lnTo>
                    <a:pt x="0" y="25073"/>
                  </a:lnTo>
                  <a:arcTo wR="3600" hR="3600" stAng="10800000" swAng="-5400000"/>
                  <a:lnTo>
                    <a:pt x="18000" y="28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Положительное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вербально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оценивани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_s19484"/>
            <p:cNvSpPr/>
            <p:nvPr/>
          </p:nvSpPr>
          <p:spPr>
            <a:xfrm>
              <a:off x="6667200" y="5171400"/>
              <a:ext cx="1143000" cy="1517400"/>
            </a:xfrm>
            <a:custGeom>
              <a:avLst/>
              <a:gdLst>
                <a:gd name="textAreaLeft" fmla="*/ 55800 w 1143000"/>
                <a:gd name="textAreaRight" fmla="*/ 1087200 w 1143000"/>
                <a:gd name="textAreaTop" fmla="*/ 55800 h 1517400"/>
                <a:gd name="textAreaBottom" fmla="*/ 1461600 h 1517400"/>
              </a:gdLst>
              <a:ahLst/>
              <a:rect l="textAreaLeft" t="textAreaTop" r="textAreaRight" b="textAreaBottom"/>
              <a:pathLst>
                <a:path w="21600" h="28673">
                  <a:moveTo>
                    <a:pt x="3600" y="0"/>
                  </a:moveTo>
                  <a:arcTo wR="3600" hR="3600" stAng="16200000" swAng="-5400000"/>
                  <a:lnTo>
                    <a:pt x="0" y="25073"/>
                  </a:lnTo>
                  <a:arcTo wR="3600" hR="3600" stAng="10800000" swAng="-5400000"/>
                  <a:lnTo>
                    <a:pt x="18000" y="28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Релаксация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_s19485"/>
            <p:cNvSpPr/>
            <p:nvPr/>
          </p:nvSpPr>
          <p:spPr>
            <a:xfrm>
              <a:off x="8001000" y="5171400"/>
              <a:ext cx="1143000" cy="1517400"/>
            </a:xfrm>
            <a:custGeom>
              <a:avLst/>
              <a:gdLst>
                <a:gd name="textAreaLeft" fmla="*/ 55800 w 1143000"/>
                <a:gd name="textAreaRight" fmla="*/ 1087200 w 1143000"/>
                <a:gd name="textAreaTop" fmla="*/ 55800 h 1517400"/>
                <a:gd name="textAreaBottom" fmla="*/ 1461600 h 1517400"/>
              </a:gdLst>
              <a:ahLst/>
              <a:rect l="textAreaLeft" t="textAreaTop" r="textAreaRight" b="textAreaBottom"/>
              <a:pathLst>
                <a:path w="21600" h="28673">
                  <a:moveTo>
                    <a:pt x="3600" y="0"/>
                  </a:moveTo>
                  <a:arcTo wR="3600" hR="3600" stAng="16200000" swAng="-5400000"/>
                  <a:lnTo>
                    <a:pt x="0" y="25073"/>
                  </a:lnTo>
                  <a:arcTo wR="3600" hR="3600" stAng="10800000" swAng="-5400000"/>
                  <a:lnTo>
                    <a:pt x="18000" y="28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Помощь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в фиксации действий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Arial"/>
              </a:rPr>
              <a:t>Внеклассные мероприятия с использованием игр для формирования самооценки обучающихся в области начального общего образования, в том числе компенсирующего и коррекционно-развивающего</a:t>
            </a: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0" y="2209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лассный час «Поговорим о дружбе» (3 класс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ль – учить детей понимать себя, свои мысли, свои поступки, желани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дачи: научить ребёнка понимать и оценивать свои мысли и желания; развивать коммуникативные навыки групповой работы; развивать представления о базовых ценностях; формировать позитивную самооценк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гровая программа «Давайте говорить друг другу комплименты!» (4 класс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ль – развитие способов речевого взаимодействия в социум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дачи: формировать коммуникативные умения и навыки; содействовать развитию эмоционально-чувственной сферы обучающихся; формировать представлений о нормах общения; создавать доброжелательную атмосферу, корректировать и повышать самооценк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stya</dc:creator>
  <dc:description/>
  <dc:language>en-US</dc:language>
  <cp:lastModifiedBy>User</cp:lastModifiedBy>
  <dcterms:modified xsi:type="dcterms:W3CDTF">2022-11-13T08:03:06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