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CAE5-C543-4611-806A-8E9A272A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C647-1A5C-4AAF-A2FA-73E1202A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73F-0B22-4CE5-8920-DEF6A72E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CE1-14F0-4743-A77D-62B8C147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0E9C-1DF4-4C52-AD3F-FB765F7F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C412-DF59-4151-9689-17C0DB97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7A52-54D7-40EC-AED3-A0222C0A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5A4B-DFE5-48B3-B4C1-77E5825A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EB43-6651-4FDD-862C-D8C2BBD8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9916-9010-4B8A-B039-3094B0B7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12AE-9AD5-4813-B609-AB1051D1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F973-9602-452B-A461-CECF68AE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2BB0-8CAC-4F7D-B292-C7EFC93D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83FE-4ABE-4ACD-9F0B-F47B8D15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1CAF-390B-4EB5-8391-4678B7BD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3C66-AFFD-45B2-94E8-A0568E42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423A-6743-4A97-820A-F94F3F8A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E10-8403-43ED-9BDB-B6E6556A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164-46D3-4F39-964A-09704A79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F056-5C58-4D36-9D8D-D7907025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CFE-3930-4D05-BD77-3E6B1AC9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11D-156B-4F93-AD26-4103B6A7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F4F-DABA-4370-9229-AF22B6CF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D04-60C5-4225-839C-D4254609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4A37-3DBB-422B-95AC-C025EAF372F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B353-83E2-4E7E-8B95-A664A01E8C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Georgia"/>
              </a:rPr>
              <a:t>Профориентационная работа среди школьников: цели, задачи, планирование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ведова Галина Юрь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даватель дисципл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y_na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Этапы и содержание профориентационной работы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8-9 класс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рупповое и индивидуальное консультирование с целью выявления и формирования адекватного принятия решения о выборе профиля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рмирование образовательного запроса, соответствующего интересам и способностям, ценностным ориентация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Этапы и содержание профориентационной работы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10-11 класс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учение действиям по самоподготовке и саморазвитию, формирование профессиональных качеств в избранном виде труда, коррекция профессиональных планов, оценка готовности к избран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офориентационная работа педагога-психолога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учает профессиональные интересы и склонности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существляет мониторинг готовности учащегося к профильному и профессиональному самоопределению через анкетирование учащихся и их родител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водит тренинговые занятия по профориентации учащих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водит беседы, психологическое просвещение для родителей и педагогов на тему выбо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пособствуют формированию у школьников адекватной самооцен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глашает родителей учащихся для выступлений перед учениками о своей профессии, привлекает их для работы руководителями круж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казывает помощь классному руководителю в анализе и оценке интересов и склонностей учащих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здает базу данных по профдиагнос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Georgia"/>
              </a:rPr>
              <a:t>Направления и формы профориентационной работы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рганизационно-методи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бота координаторов по профориентационной работе с учащими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етодическая помощь учителям в подборке материалов и диагностических ка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Georgia"/>
              </a:rPr>
              <a:t>Направления и формы работы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бота с учащими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мплекс профориентационных мероприятий в виде занятий и тренингов по планированию карье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сультации по выбору профиля обучения (инд., групп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нкетирова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рганизация и проведение экскурсий (в учебные заведения, на предприят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тречи с представителями предприятий, учебных заве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Направления и формы работы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Работа с родителя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ведение родительских собраний, (общешкольных, классных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лектории для род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ндивидуальные беседы педагогов с родителями школьник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анкетирование родителей учащихс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ивлечение родителей школьников для выступлений перед учащимися с беседа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ивлечение родителей учащихся для работы руководителями кружков, спортивных секций, художественных студий, ученических театров, общественных ученических организац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мощь родителей в организации профессиональных проб старшеклассников на предприятия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мощь родителей в организации временного трудоустройства учащихся в каникулярное врем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збрание родительского комитета школы из представителей родительских комитетов классов, наиболее активных родителей учащихся, готовых в сотрудничестве с учителями оказывать педагогическую поддержку самоопределения школьник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оздание попечительского совета, включающего работников общеобразовательного учебного заведения, родителей учащихся, частных предпринимателей, оказывающих спонсорскую помощь школе, представителей шефских организаций, представителей профессиональных учебных заведений и т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имерные мероприятия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формление кабинета, уголка по профориен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воя профессиональная карьер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мире профессий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лагаемые выбора професси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формление стенда (общешкольны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помощь выпускнику”, “Куда пойти учиться”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имерные мероприятия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полнение библиотечного фонда литературной по профориентации и трудовому обуч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рганизация работы предметных кружков на базе школьных мастерских, кружков декоративно-прикладного творчества, спортивно-технических, художественны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усмотреть введение элективных курсов и факультативов по теме: «Твоя профессиональная карьера»; «Выбор профессии»;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имеры организационной работы по профориентации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9936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рганизация регулярная выпуска газеты "Кем быть«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существление взаимодействия с учреждениями профессионального 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формление и обновление общешкольного стенда "Профессии, которые нам предлагают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здание из числа старшеклассников группы профинформаторов для работы с младшими школьник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имеры работы с педагогическим коллективом школы по профориентации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работать рекомендации классным руководителям по планированию профориентационной работы с учащимися различных возрастных групп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рганизовать для педагогов и кл. рук.. цикл  семинаров по теме : “Теория и практика профориентационной работы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рганизовать проведение конкурса пособий по профориентации, методических разработок внеклассны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ределение профориент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фориентация - это научно обоснованная система социально-экономических, психолого-педагогических, медико-биологических и производственно-технических мер по оказанию молодёжи личностно-ориентированной помощи в выявлении и развитии способностей и склонностей, профессиональных и познавательных интересов в выборе профессии, а также формирование потребности и готовности к труду в условиях рынка, многоукладности форм собственности и предприним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Профориентация  реализуется через учебно-воспитательный процесс, внеурочную и внешкольную работу с учащим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Примерные темы для рассмотрения на методических объединениях по вопросам профориентации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699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готовка учащихся к компетентному выбору профессии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истема образования в России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истема профориентащюнной работы в городе, в школе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ика профориентационной работы по возрастным группам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сихологическая и социальная обусловленность выбора профессии старшеклассниками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ические основы профориентации во внеклассной работе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бота с учащимися по интересам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ы исследований и наблюдений психофизиологических особенностей учащихся, основы профконсультации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ы работы с родителями по вопросу выбора профессии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фориентация в процессе изучения основ наук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Georgia"/>
              </a:rPr>
              <a:t>Работа с родителями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овать для родителей  лекторий по теме "Роль семьи в правильном профессиональном самоопределении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водить индивидуальные консультации с родителями по вопросу  выбора профессий учащимися, элективных курсов. “Слагаемые выбора профиля обучения и направления дальнейшего образования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овать встречи уч-ся с их родителями -представителями различных професс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влекать родителей к участию в проведении экскурсий уч-ся на предприятия и учебные завед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планировать проведение родительских  собраний  (общешко ль пых,  класс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нализ рынка труда и востребованости профессий в город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дицинские аспекты при выборе профессии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влекать родителей к оформлению профорнентац уголков, кабинетов профорнентац. стендов,  к организации экскурс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влекать родителей к руководству кружками по интерес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Работа с родителями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руглый стол для учащихся и их родителей по теме: “ Выбираем свой путь” с участием представителей профессиональных  учебных заве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руглый стол “ Выбираем свой путь” для учащихся и их родителей с участием представителей профессиональных учебных завед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оформентационная работа с учащимися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07760" y="1420920"/>
            <a:ext cx="797868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ведение экскурсий на предприятия и в учебные заведения гор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рганизация тестирования и анкетирования уч-ся с целью выявления профнаправнаправл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ведение опроса по выявлению проблем уч-ся попрофориент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ведение классных часов по изучению професснограмм учебных заве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существление индивидуальных и групповых консультаций уч-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ведение недель по профориентации, конкурсов по профессии, конференций, интеллектуальных игр и др. Праздник “Город  Мастеров”, “Встреча с Самоделкиным”, Конкурс рисунков “Моя будущая пофессия” ; «Мама, папа на работе”,“Фестиваль профессий”Организация предметных недель, декады (по направлениям), олимпиады по "Технологии"Организация и проведение с уч-ся выставок “В мире профессий” 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Georgia"/>
              </a:rPr>
              <a:t>Профориентационная работа с учащимися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ация и проведение с уч-ся викторин, бес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ведение серий классных часов  (согласно возрастным особенностям)  “Сто дорог – одна твоя”  “Как претворить мечты в реальность”  “Легко ли быть молодым”  “К чему люди стремятся в жизн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ация и проведение встреч с представителя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зличных професс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ация экскурсий и встреч со специалистами“Центра занятости”.Обеспечение участия старшеклассников в днях открытых дверей учебных заведений Знакомство с профессиями на уроках экономика, чтение, труд и т. д Расширение знаний учащихся учителями- предмет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еспечение участия уч-ся  в работе ярмарки  вакансий с целью знакомства с учебными заведениями и рынком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здание портфолио учащегос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ация работы кружков на базе школьных мастерских и вовлечение в них уч-ся. Участие в конкурсах декоративно-прикладного и технического творчества. Привлечение к занятиям в кружках и спортивных секциях в школе  в учреждениях дополнительно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Шведова Галин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aly_na@mai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араметры профессиональной зрелости личности человека 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формированность о мире профессий и умение соотнести информацию со своими особенностя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мение принимать реш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мение планировать свою профессиональную жизн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моциональная включенность в ситуацию по принятию реш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Georgia"/>
              </a:rPr>
              <a:t>Цель профориентационной работы в школ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казания профориентационной поддержки учащимся в процессе выбора профиля обучения и сферы будущей профессиональ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работка у школьников сознательного отношения к труду, профессиональное самоопределение в условиях свободы выбора сферы деятельности в соответствии со своими возможностями, способностями и с учетом требований рынка труд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Задачи профоориентационной работы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12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лучение непротиворечивых данных о предпочтениях, склонностях и возможностях учащихся для разделения их по профилям обуч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еспечение широкого диапазона вариативности профильного обучения за счет комплексных и нетрадиционных форм и методов, применяемых на уроках элективных курсов и в воспитательной рабо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ополнительная поддержка некоторых групп школьников, у которых легко спрогнозировать сложности трудоустройства – учащихся коррекционных классов и школ и др.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работка гибкой системы сотрудничества старшей ступени школы с учреждениями дополнительного и профессионального образования, а также с предприятиями города, реги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инципы профориентационной работы в школе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ажно помнить, что профориентационная работа в школе приносит пользу только тогда, когда к профориентационной работе привлечён весь педагогический коллектив, и когда соблюдают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следующие принципы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птимальное сочетание массовых, групповых и индивидуальных форм профориентационной работы с учащимися и родите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заимосвязь школы, семьи, профессиональных учебных заведений, центров профориентации молодежи, службы занятости, общественных молодежных организ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вязь профориентации с жизнью (органическое единство потребностями общества в кадр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Система профессиональной ориентации школьников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77724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фессиональное просвещ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фессиограф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фессиональная диагнос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фессиональная консульт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фессиональный подб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фессиональная адап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Этапы и содержание профориентационной работы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1-4 классы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рмирование у младших школьников ценностного отношения к труду, понимание его роли в жизни человека и в общест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витие интереса к учебно-познавательной деятельности, основанной на посильной практической включенности в различные ее виды, в том числе социальную, трудовую, игровую, исследовательск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Этапы и содержание профориентационной работы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5-7 класс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витие у школьников личностного смысла в приобретении познавательного опыта и интереса к профессиональной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ставления о собственных интересах и возможностях (формирование образа “Я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обретение первоначального опыта в различных сферах социально-профессиональной практики: технике, искусстве, медицине, сельском хозяйстве, экономике и культу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5:50:31Z</dcterms:created>
  <dc:creator>harisova</dc:creator>
  <dc:description/>
  <dc:language>en-US</dc:language>
  <cp:lastModifiedBy>Admin</cp:lastModifiedBy>
  <dcterms:modified xsi:type="dcterms:W3CDTF">2017-09-14T09:53:06Z</dcterms:modified>
  <cp:revision>15</cp:revision>
  <dc:subject/>
  <dc:title>Профориентационная работа в школе</dc:title>
</cp:coreProperties>
</file>