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93D5-284E-41A6-973F-70D09B36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36EF-D5BE-44B4-A242-976C7F9B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BBC1-F95F-408A-A4D5-A6AC88AD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F43-D03C-4716-A977-888EA25F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7B00-5E82-4175-B08E-7341BC9A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D5E9-053A-42BA-96ED-37470623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CB6D-E2E0-4757-A19A-836DB9D1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28AA-50FA-49FA-9234-370FB9A2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8FE2-9990-45AB-B732-C3ACBEF6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2775-0EC7-407F-8811-0C5C20A3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C462-1B63-4647-A006-8A155CD1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D86C-E4CA-4711-9167-104A3A8A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DE86-76D6-4505-B9F5-9B497A35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BA46-66A1-4EDF-9972-DAE860E3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9024-6751-4D7A-8914-460742BC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A342-6D5C-422A-BD7C-6CF0F0AD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F0D9-76A9-4B9E-ADBC-DFD85EBE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E32E-E40F-4E44-9223-2E6895AE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315F-C23B-4EFD-A49B-A372D4C0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4233-E18F-49DD-A667-6D980EB5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69E4-F5C5-4FD3-8A30-7ABAEE21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603D-145E-4F34-B638-1C2864AD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34E4-1016-48F3-8BE0-14606AC3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C7C7-90F1-4AAE-AB3A-853B955D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08A6-3DA5-429E-85FC-61BC11BACF3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B7B6-6856-4D10-B9FB-FA96274EB0C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Georgia"/>
              </a:rPr>
              <a:t>Профориентационная работа среди школьников: цели, задачи, планирование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ведова Галина Юрье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подаватель дисципл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y_na@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Этапы и содержание профориентационной работы в школе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8-9 класс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рупповое и индивидуальное консультирование с целью выявления и формирования адекватного принятия решения о выборе профиля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ормирование образовательного запроса, соответствующего интересам и способностям, ценностным ориентация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Этапы и содержание профориентационной работы в школе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10-11 класс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учение действиям по самоподготовке и саморазвитию, формирование профессиональных качеств в избранном виде труда, коррекция профессиональных планов, оценка готовности к избранн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Профориентационная работа педагога-психолога в школе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зучает профессиональные интересы и склонности 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существляет мониторинг готовности учащегося к профильному и профессиональному самоопределению через анкетирование учащихся и их родител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водит тренинговые занятия по профориентации учащихс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водит беседы, психологическое просвещение для родителей и педагогов на тему выбо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пособствуют формированию у школьников адекватной самооцен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иглашает родителей учащихся для выступлений перед учениками о своей профессии, привлекает их для работы руководителями круж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казывает помощь классному руководителю в анализе и оценке интересов и склонностей учащихс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здает базу данных по профдиагности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Georgia"/>
              </a:rPr>
              <a:t>Направления и формы профориентационной работы в школе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рганизационно-методическ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бота координаторов по профориентационной работе с учащими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етодическая помощь учителям в подборке материалов и диагностических ка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Georgia"/>
              </a:rPr>
              <a:t>Направления и формы работы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бота с учащими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мплекс профориентационных мероприятий в виде занятий и тренингов по планированию карье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нсультации по выбору профиля обучения (инд., групп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нкетирова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рганизация и проведение экскурсий (в учебные заведения, на предприят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стречи с представителями предприятий, учебных заве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Направления и формы работы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Работа с родителя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ведение родительских собраний, (общешкольных, классных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лектории для родит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ндивидуальные беседы педагогов с родителями школьник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анкетирование родителей учащихс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ивлечение родителей школьников для выступлений перед учащимися с беседам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ивлечение родителей учащихся для работы руководителями кружков, спортивных секций, художественных студий, ученических театров, общественных ученических организац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мощь родителей в организации профессиональных проб старшеклассников на предприятия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мощь родителей в организации временного трудоустройства учащихся в каникулярное врем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збрание родительского комитета школы из представителей родительских комитетов классов, наиболее активных родителей учащихся, готовых в сотрудничестве с учителями оказывать педагогическую поддержку самоопределения школьник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оздание попечительского совета, включающего работников общеобразовательного учебного заведения, родителей учащихся, частных предпринимателей, оказывающих спонсорскую помощь школе, представителей шефских организаций, представителей профессиональных учебных заведений и т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Примерные мероприятия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формление кабинета, уголка по профориент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воя профессиональная карьера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мире профессий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лагаемые выбора профессии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формление стенда (общешкольны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помощь выпускнику”, “Куда пойти учиться”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Примерные мероприятия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полнение библиотечного фонда литературной по профориентации и трудовому обуч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рганизация работы предметных кружков на базе школьных мастерских, кружков декоративно-прикладного творчества, спортивно-технических, художественны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едусмотреть введение элективных курсов и факультативов по теме: «Твоя профессиональная карьера»; «Выбор профессии»;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Примеры организационной работы по профориентации в школе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99368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рганизация регулярная выпуска газеты "Кем быть«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существление взаимодействия с учреждениями профессионального 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формление и обновление общешкольного стенда "Профессии, которые нам предлагают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здание из числа старшеклассников группы профинформаторов для работы с младшими школьникам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Примеры работы с педагогическим коллективом школы по профориентации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зработать рекомендации классным руководителям по планированию профориентационной работы с учащимися различных возрастных групп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рганизовать для педагогов и кл. рук.. цикл  семинаров по теме : “Теория и практика профориентационной работы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рганизовать проведение конкурса пособий по профориентации, методических разработок внеклассны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ределение профориента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фориентация - это научно обоснованная система социально-экономических, психолого-педагогических, медико-биологических и производственно-технических мер по оказанию молодёжи личностно-ориентированной помощи в выявлении и развитии способностей и склонностей, профессиональных и познавательных интересов в выборе профессии, а также формирование потребности и готовности к труду в условиях рынка, многоукладности форм собственности и предприниматель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Профориентация  реализуется через учебно-воспитательный процесс, внеурочную и внешкольную работу с учащими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Примерные темы для рассмотрения на методических объединениях по вопросам профориентации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699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дготовка учащихся к компетентному выбору профессии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истема образования в России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истема профориентащюнной работы в городе, в школе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тодика профориентационной работы по возрастным группам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сихологическая и социальная обусловленность выбора профессии старшеклассниками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тодические основы профориентации во внеклассной работе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бота с учащимися по интересам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тоды исследований и наблюдений психофизиологических особенностей учащихся, основы профконсультации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тоды работы с родителями по вопросу выбора профессии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фориентация в процессе изучения основ наук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Georgia"/>
              </a:rPr>
              <a:t>Работа с родителями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рганизовать для родителей  лекторий по теме "Роль семьи в правильном профессиональном самоопределении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оводить индивидуальные консультации с родителями по вопросу  выбора профессий учащимися, элективных курсов. “Слагаемые выбора профиля обучения и направления дальнейшего образования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рганизовать встречи уч-ся с их родителями -представителями различных професс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влекать родителей к участию в проведении экскурсий уч-ся на предприятия и учебные завед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планировать проведение родительских  собраний  (общешко ль пых,  классны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нализ рынка труда и востребованости профессий в город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дицинские аспекты при выборе профессии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влекать родителей к оформлению профорнентац уголков, кабинетов профорнентац. стендов,  к организации экскурс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влекать родителей к руководству кружками по интерес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Работа с родителями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руглый стол для учащихся и их родителей по теме: “ Выбираем свой путь” с участием представителей профессиональных  учебных заве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руглый стол “ Выбираем свой путь” для учащихся и их родителей с участием представителей профессиональных учебных завед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Проформентационная работа с учащимися: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07760" y="1420920"/>
            <a:ext cx="797868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ведение экскурсий на предприятия и в учебные заведения гор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рганизация тестирования и анкетирования уч-ся с целью выявления профнаправнаправлен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ведение опроса по выявлению проблем уч-ся попрофориент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ведение классных часов по изучению професснограмм учебных завед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существление индивидуальных и групповых консультаций уч-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ведение недель по профориентации, конкурсов по профессии, конференций, интеллектуальных игр и др. Праздник “Город  Мастеров”, “Встреча с Самоделкиным”, Конкурс рисунков “Моя будущая пофессия” ; «Мама, папа на работе”,“Фестиваль профессий”Организация предметных недель, декады (по направлениям), олимпиады по "Технологии"Организация и проведение с уч-ся выставок “В мире профессий” 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Georgia"/>
              </a:rPr>
              <a:t>Профориентационная работа с учащимися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рганизация и проведение с уч-ся викторин, бесе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оведение серий классных часов  (согласно возрастным особенностям)  “Сто дорог – одна твоя”  “Как претворить мечты в реальность”  “Легко ли быть молодым”  “К чему люди стремятся в жизни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рганизация и проведение встреч с представителям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азличных професс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рганизация экскурсий и встреч со специалистами“Центра занятости”.Обеспечение участия старшеклассников в днях открытых дверей учебных заведений Знакомство с профессиями на уроках экономика, чтение, труд и т. д Расширение знаний учащихся учителями- предмет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еспечение участия уч-ся  в работе ярмарки  вакансий с целью знакомства с учебными заведениями и рынком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здание портфолио учащегос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рганизация работы кружков на базе школьных мастерских и вовлечение в них уч-ся. Участие в конкурсах декоративно-прикладного и технического творчества. Привлечение к занятиям в кружках и спортивных секциях в школе  в учреждениях дополнительно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Шведова Галина Ю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aly_na@mail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Параметры профессиональной зрелости личности человека 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нформированность о мире профессий и умение соотнести информацию со своими особенностя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мение принимать реш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мение планировать свою профессиональную жизн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моциональная включенность в ситуацию по принятию реш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Georgia"/>
              </a:rPr>
              <a:t>Цель профориентационной работы в школ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казания профориентационной поддержки учащимся в процессе выбора профиля обучения и сферы будущей профессиональн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работка у школьников сознательного отношения к труду, профессиональное самоопределение в условиях свободы выбора сферы деятельности в соответствии со своими возможностями, способностями и с учетом требований рынка труд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Задачи профоориентационной работы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126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лучение непротиворечивых данных о предпочтениях, склонностях и возможностях учащихся для разделения их по профилям обуч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еспечение широкого диапазона вариативности профильного обучения за счет комплексных и нетрадиционных форм и методов, применяемых на уроках элективных курсов и в воспитательной работ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ополнительная поддержка некоторых групп школьников, у которых легко спрогнозировать сложности трудоустройства – учащихся коррекционных классов и школ и др.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ыработка гибкой системы сотрудничества старшей ступени школы с учреждениями дополнительного и профессионального образования, а также с предприятиями города, реги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Принципы профориентационной работы в школе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ажно помнить, что профориентационная работа в школе приносит пользу только тогда, когда к профориентационной работе привлечён весь педагогический коллектив, и когда соблюдаютс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следующие принципы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птимальное сочетание массовых, групповых и индивидуальных форм профориентационной работы с учащимися и родите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заимосвязь школы, семьи, профессиональных учебных заведений, центров профориентации молодежи, службы занятости, общественных молодежных организ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вязь профориентации с жизнью (органическое единство потребностями общества в кадра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Система профессиональной ориентации школьников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060640"/>
            <a:ext cx="77724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фессиональное просвещ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фессиограф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фессиональная диагност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фессиональная консульт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фессиональный подб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фессиональная адапт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Этапы и содержание профориентационной работы в школе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1-4 классы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ормирование у младших школьников ценностного отношения к труду, понимание его роли в жизни человека и в обществ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витие интереса к учебно-познавательной деятельности, основанной на посильной практической включенности в различные ее виды, в том числе социальную, трудовую, игровую, исследовательск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Этапы и содержание профориентационной работы в школе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5-7 класс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витие у школьников личностного смысла в приобретении познавательного опыта и интереса к профессиональной деятель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едставления о собственных интересах и возможностях (формирование образа “Я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обретение первоначального опыта в различных сферах социально-профессиональной практики: технике, искусстве, медицине, сельском хозяйстве, экономике и культу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5:50:31Z</dcterms:created>
  <dc:creator>harisova</dc:creator>
  <dc:description/>
  <dc:language>en-US</dc:language>
  <cp:lastModifiedBy>Admin</cp:lastModifiedBy>
  <dcterms:modified xsi:type="dcterms:W3CDTF">2017-09-14T09:53:06Z</dcterms:modified>
  <cp:revision>15</cp:revision>
  <dc:subject/>
  <dc:title>Профориентационная работа в школе</dc:title>
</cp:coreProperties>
</file>