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E0C3-3F78-4394-BA61-1CB1D788F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E948-E01C-473B-ADA4-D0D0156F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EBD6-92CF-4EBE-9933-C9C5CD01C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A698-999A-4468-9682-0BF388FE2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9019-2305-4B4B-9E70-EE16AA06E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DBCE-3E96-4B97-84EE-63777B55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3B9C7-451D-41D6-9744-955FA49D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4AF3-B914-4D36-8174-D05751AC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58EB-0845-4ECE-8A41-0651B939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E9CA-B48C-4FD5-A3AF-FA0D9F9F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C6CC-D684-4153-B06A-B6E9B526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6D60-8BFF-4469-A6B9-BE274147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6FEC-0FB5-4006-B0F0-C4AA144A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EA6E-E3C4-49C6-B023-9813698B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51C3-B4A2-4599-BCEF-296A15DD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2604-8A20-4612-B743-CE3898EDC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7F62-5996-46A8-B53B-45DE508BB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7E6D-E8FA-433F-BA98-E50E033E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73BE-A03C-485C-89BB-153B2EB2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A284-3C51-4D64-BD51-4B8D8734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6544-1C2C-4A47-AE9F-C669642F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D608-CA7B-4656-9171-0055C4A5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9961-7281-440E-AA62-381F834C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ED71-2152-40C5-9590-0C1D4F5C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DB44-778D-4E6D-8844-1C1AA43EE43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244A-4BEA-4F5A-9847-9780F955928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0033"/>
                </a:solidFill>
                <a:latin typeface="Georgia"/>
              </a:rPr>
              <a:t>Профориентационная работа среди школьников: цели, задачи, планирование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ведова Галина Юрьев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подаватель дисципл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y_na@mail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Georgia"/>
              </a:rPr>
              <a:t>Этапы и содержание профориентационной работы в школе: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8-9 класс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групповое и индивидуальное консультирование с целью выявления и формирования адекватного принятия решения о выборе профиля об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формирование образовательного запроса, соответствующего интересам и способностям, ценностным ориентациям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Georgia"/>
              </a:rPr>
              <a:t>Этапы и содержание профориентационной работы в школе: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10-11 класс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учение действиям по самоподготовке и саморазвитию, формирование профессиональных качеств в избранном виде труда, коррекция профессиональных планов, оценка готовности к избранной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Georgia"/>
              </a:rPr>
              <a:t>Профориентационная работа педагога-психолога в школе: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зучает профессиональные интересы и склонности учащих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существляет мониторинг готовности учащегося к профильному и профессиональному самоопределению через анкетирование учащихся и их родителе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оводит тренинговые занятия по профориентации учащихс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оводит беседы, психологическое просвещение для родителей и педагогов на тему выбор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пособствуют формированию у школьников адекватной самооценк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иглашает родителей учащихся для выступлений перед учениками о своей профессии, привлекает их для работы руководителями кружк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казывает помощь классному руководителю в анализе и оценке интересов и склонностей учащихс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оздает базу данных по профдиагности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33"/>
                </a:solidFill>
                <a:latin typeface="Georgia"/>
              </a:rPr>
              <a:t>Направления и формы профориентационной работы в школе: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рганизационно-методическ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бота координаторов по профориентационной работе с учащими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етодическая помощь учителям в подборке материалов и диагностических кар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33"/>
                </a:solidFill>
                <a:latin typeface="Georgia"/>
              </a:rPr>
              <a:t>Направления и формы работы: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бота с учащими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омплекс профориентационных мероприятий в виде занятий и тренингов по планированию карьер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онсультации по выбору профиля обучения (инд., групп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Анкетирова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рганизация и проведение экскурсий (в учебные заведения, на предприят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стречи с представителями предприятий, учебных завед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Georgia"/>
              </a:rPr>
              <a:t>Направления и формы работы: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Работа с родителя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роведение родительских собраний, (общешкольных, классных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лектории для родител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индивидуальные беседы педагогов с родителями школьников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анкетирование родителей учащихс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ривлечение родителей школьников для выступлений перед учащимися с беседам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ривлечение родителей учащихся для работы руководителями кружков, спортивных секций, художественных студий, ученических театров, общественных ученических организац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омощь родителей в организации профессиональных проб старшеклассников на предприятия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омощь родителей в организации временного трудоустройства учащихся в каникулярное врем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избрание родительского комитета школы из представителей родительских комитетов классов, наиболее активных родителей учащихся, готовых в сотрудничестве с учителями оказывать педагогическую поддержку самоопределения школьников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оздание попечительского совета, включающего работников общеобразовательного учебного заведения, родителей учащихся, частных предпринимателей, оказывающих спонсорскую помощь школе, представителей шефских организаций, представителей профессиональных учебных заведений и т.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Georgia"/>
              </a:rPr>
              <a:t>Примерные мероприятия: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формление кабинета, уголка по профориент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воя профессиональная карьера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мире профессий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лагаемые выбора профессии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формление стенда (общешкольны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“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помощь выпускнику”, “Куда пойти учиться”.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Georgia"/>
              </a:rPr>
              <a:t>Примерные мероприятия: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полнение библиотечного фонда литературной по профориентации и трудовому обуче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рганизация работы предметных кружков на базе школьных мастерских, кружков декоративно-прикладного творчества, спортивно-технических, художественны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едусмотреть введение элективных курсов и факультативов по теме: «Твоя профессиональная карьера»; «Выбор профессии»;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Georgia"/>
              </a:rPr>
              <a:t>Примеры организационной работы по профориентации в школе: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99368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рганизация регулярная выпуска газеты "Кем быть«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существление взаимодействия с учреждениями профессионального  обра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формление и обновление общешкольного стенда "Профессии, которые нам предлагают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здание из числа старшеклассников группы профинформаторов для работы с младшими школьникам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Georgia"/>
              </a:rPr>
              <a:t>Примеры работы с педагогическим коллективом школы по профориентации: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азработать рекомендации классным руководителям по планированию профориентационной работы с учащимися различных возрастных групп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рганизовать для педагогов и кл. рук.. цикл  семинаров по теме : “Теория и практика профориентационной работы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рганизовать проведение конкурса пособий по профориентации, методических разработок внеклассных мероприя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пределение профориентаци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офориентация - это научно обоснованная система социально-экономических, психолого-педагогических, медико-биологических и производственно-технических мер по оказанию молодёжи личностно-ориентированной помощи в выявлении и развитии способностей и склонностей, профессиональных и познавательных интересов в выборе профессии, а также формирование потребности и готовности к труду в условиях рынка, многоукладности форм собственности и предприниматель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Профориентация  реализуется через учебно-воспитательный процесс, внеурочную и внешкольную работу с учащими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Примерные темы для рассмотрения на методических объединениях по вопросам профориентации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699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дготовка учащихся к компетентному выбору профессии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истема образования в России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истема профориентащюнной работы в городе, в школе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етодика профориентационной работы по возрастным группам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сихологическая и социальная обусловленность выбора профессии старшеклассниками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етодические основы профориентации во внеклассной работе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абота с учащимися по интересам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етоды исследований и наблюдений психофизиологических особенностей учащихся, основы профконсультации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етоды работы с родителями по вопросу выбора профессии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офориентация в процессе изучения основ наук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Georgia"/>
              </a:rPr>
              <a:t>Работа с родителями: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рганизовать для родителей  лекторий по теме "Роль семьи в правильном профессиональном самоопределении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оводить индивидуальные консультации с родителями по вопросу  выбора профессий учащимися, элективных курсов. “Слагаемые выбора профиля обучения и направления дальнейшего образования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рганизовать встречи уч-ся с их родителями -представителями различных професс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ивлекать родителей к участию в проведении экскурсий уч-ся на предприятия и учебные завед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планировать проведение родительских  собраний  (общешко ль пых,  классны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Анализ рынка труда и востребованости профессий в городе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едицинские аспекты при выборе профессии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ивлекать родителей к оформлению профорнентац уголков, кабинетов профорнентац. стендов,  к организации экскурс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ивлекать родителей к руководству кружками по интерес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Georgia"/>
              </a:rPr>
              <a:t>Работа с родителями: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руглый стол для учащихся и их родителей по теме: “ Выбираем свой путь” с участием представителей профессиональных  учебных завед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руглый стол “ Выбираем свой путь” для учащихся и их родителей с участием представителей профессиональных учебных завед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Georgia"/>
              </a:rPr>
              <a:t>Проформентационная работа с учащимися: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07760" y="1420920"/>
            <a:ext cx="7978680" cy="62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роведение экскурсий на предприятия и в учебные заведения горо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Организация тестирования и анкетирования уч-ся с целью выявления профнаправнаправлен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роведение опроса по выявлению проблем уч-ся попрофориент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роведение классных часов по изучению професснограмм учебных завед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Осуществление индивидуальных и групповых консультаций уч-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роведение недель по профориентации, конкурсов по профессии, конференций, интеллектуальных игр и др. Праздник “Город  Мастеров”, “Встреча с Самоделкиным”, Конкурс рисунков “Моя будущая пофессия” ; «Мама, папа на работе”,“Фестиваль профессий”Организация предметных недель, декады (по направлениям), олимпиады по "Технологии"Организация и проведение с уч-ся выставок “В мире профессий” 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Georgia"/>
              </a:rPr>
              <a:t>Профориентационная работа с учащимися: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рганизация и проведение с уч-ся викторин, бесе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оведение серий классных часов  (согласно возрастным особенностям)  “Сто дорог – одна твоя”  “Как претворить мечты в реальность”  “Легко ли быть молодым”  “К чему люди стремятся в жизни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рганизация и проведение встреч с представителям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азличных професс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рганизация экскурсий и встреч со специалистами“Центра занятости”.Обеспечение участия старшеклассников в днях открытых дверей учебных заведений Знакомство с профессиями на уроках экономика, чтение, труд и т. д Расширение знаний учащихся учителями- предметни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беспечение участия уч-ся  в работе ярмарки  вакансий с целью знакомства с учебными заведениями и рынком тру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оздание портфолио учащегося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рганизация работы кружков на базе школьных мастерских и вовлечение в них уч-ся. Участие в конкурсах декоративно-прикладного и технического творчества. Привлечение к занятиям в кружках и спортивных секциях в школе  в учреждениях дополнительного обра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Шведова Галина Юр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aly_na@mail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Georgia"/>
              </a:rPr>
              <a:t>Параметры профессиональной зрелости личности человека 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нформированность о мире профессий и умение соотнести информацию со своими особенностям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мение принимать реше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мение планировать свою профессиональную жизн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моциональная включенность в ситуацию по принятию реш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Georgia"/>
              </a:rPr>
              <a:t>Цель профориентационной работы в школе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казания профориентационной поддержки учащимся в процессе выбора профиля обучения и сферы будущей профессиональной деятель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ыработка у школьников сознательного отношения к труду, профессиональное самоопределение в условиях свободы выбора сферы деятельности в соответствии со своими возможностями, способностями и с учетом требований рынка труд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Georgia"/>
              </a:rPr>
              <a:t>Задачи профоориентационной работы: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126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лучение непротиворечивых данных о предпочтениях, склонностях и возможностях учащихся для разделения их по профилям обуч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еспечение широкого диапазона вариативности профильного обучения за счет комплексных и нетрадиционных форм и методов, применяемых на уроках элективных курсов и в воспитательной работ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дополнительная поддержка некоторых групп школьников, у которых легко спрогнозировать сложности трудоустройства – учащихся коррекционных классов и школ и др.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ыработка гибкой системы сотрудничества старшей ступени школы с учреждениями дополнительного и профессионального образования, а также с предприятиями города, регио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Georgia"/>
              </a:rPr>
              <a:t>Принципы профориентационной работы в школе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ажно помнить, что профориентационная работа в школе приносит пользу только тогда, когда к профориентационной работе привлечён весь педагогический коллектив, и когда соблюдаются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следующие принципы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птимальное сочетание массовых, групповых и индивидуальных форм профориентационной работы с учащимися и родител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заимосвязь школы, семьи, профессиональных учебных заведений, центров профориентации молодежи, службы занятости, общественных молодежных организа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вязь профориентации с жизнью (органическое единство потребностями общества в кадра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Georgia"/>
              </a:rPr>
              <a:t>Система профессиональной ориентации школьников: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2060640"/>
            <a:ext cx="77724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фессиональное просвещ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фессиограф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фессиональная диагност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фессиональная консульта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фессиональный подбо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фессиональная адапт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Georgia"/>
              </a:rPr>
              <a:t>Этапы и содержание профориентационной работы в школе: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1-4 классы: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формирование у младших школьников ценностного отношения к труду, понимание его роли в жизни человека и в обществ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звитие интереса к учебно-познавательной деятельности, основанной на посильной практической включенности в различные ее виды, в том числе социальную, трудовую, игровую, исследовательск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Georgia"/>
              </a:rPr>
              <a:t>Этапы и содержание профориентационной работы в школе: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5-7 класс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звитие у школьников личностного смысла в приобретении познавательного опыта и интереса к профессиональной деятельнос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едставления о собственных интересах и возможностях (формирование образа “Я”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иобретение первоначального опыта в различных сферах социально-профессиональной практики: технике, искусстве, медицине, сельском хозяйстве, экономике и культур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05:50:31Z</dcterms:created>
  <dc:creator>harisova</dc:creator>
  <dc:description/>
  <dc:language>en-US</dc:language>
  <cp:lastModifiedBy>Admin</cp:lastModifiedBy>
  <dcterms:modified xsi:type="dcterms:W3CDTF">2017-09-14T09:53:06Z</dcterms:modified>
  <cp:revision>15</cp:revision>
  <dc:subject/>
  <dc:title>Профориентационная работа в школе</dc:title>
</cp:coreProperties>
</file>