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74C0-BDA3-4EF0-9AD8-C7B8795913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1073-E807-4590-9A04-0F39D4F83C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3F1-7D1A-4F5A-BB42-23E7806A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03A9-D564-44E6-BE11-2F5612A8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116-EF09-4CFA-BCEB-574D6AD8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1D01-48AF-48AC-9CCB-5C544FC0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88C9-644B-4707-A706-5D8D8AD7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0E9A-6BDF-4578-A3D9-A1126D95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B084-EE13-4C06-B5EF-22C03EFE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3DE3-DC95-4F65-8D6A-6E504A97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9E96-A4E2-4E05-AD0C-71A3C21A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A80D-2F31-4A43-AD2D-15577E53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8C46-066E-47FF-87D7-2F8CD97F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F43-590C-412D-A13F-4D100BA1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78EE-4077-4965-9AF2-F6EA62FD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49AF-E4A1-4015-AB0A-9AC0302A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0DAD-4B5E-4E1A-98EC-5BE0516E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9A91-A5A7-4D58-BC87-F981C381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3087-A6FC-4BED-AC65-85599EC9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B7745-58C4-40F4-85AF-2BD54A8A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F5AB7-6A8F-4451-B9BD-8F5AC1AA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4BABE-B6D4-4610-9D48-352C4050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DE008-531F-49E3-839E-D7B1D51D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FE341-FA43-4314-BBC3-E9E39A63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C91-EFA3-49DC-BBC3-293F50C4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1416D-F859-4138-B630-8CD51DBB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71C31-B5FA-40B3-A2FF-4BF337FE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F879F-1395-4274-A18B-158A25E7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43FF7-C9F5-4EF6-A45C-303E5278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AC363-928F-47CE-823F-49E3ACA9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30D71-4FCA-42E7-ACBB-379A4EFA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D4EF7-2DF5-4685-9882-D3BFE972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F2A52-0F8D-458A-8150-4AE5D001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13123-23EC-4CD2-B4C5-81AA6D28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65397-7A91-4CDE-B26B-836CB34B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6AD2-A6DE-48A3-A9AA-5EFC6B0F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2237C-46C0-4477-B2EA-90A2A812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8020A-A448-49D1-AFA7-AE13CB3E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1054C-DFFD-474C-B8AA-9DE0FEE6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6B7E0-6FE3-4FC2-B85A-45683477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07E5A-4A95-43F8-A4EC-D478BAC8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1369B-6A76-4D7C-8873-E518F397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3438E-9FE5-46E7-B647-85EE4B3A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79689-CF72-4D9B-9CB7-B61F9E84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D1825-4B4D-43A2-8BD8-89347F9D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4D0F6-94B9-4B08-B0A2-A2CE60E7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437B-002B-4821-97F1-B3763D95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5CF83-DD29-4A84-8A7C-7689E10E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BE1A9-A803-4FE8-B7A2-78224122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7683F-C452-4141-BAEF-6BB4B167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691B0-A254-40DF-9B5A-022E2F26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82ABD-B265-4FFA-B924-AAA98825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5B4AF-4ACC-4F68-AB2F-B132F176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897C2-3365-478A-AE82-8DB8B4F2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DA362-6B3D-42C2-8988-522DBA46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5A8D9-4887-4BB3-895C-6EAA20DE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49DC0-372F-450A-BF0F-5264306C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2E2-2A36-4D7A-9DA5-2C17AD8B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482E0-D0A9-4003-BB21-58809B23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2A558-F7D3-4647-9172-199FEC66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3CC27-032E-4F18-B42A-31CF6BAD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42B2E-EFBC-46BB-B9A4-A72A24CB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B9C65-143F-437C-94B5-96C7FF0A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40D92-8B85-4E0A-ACB5-77636DC0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CBA30-79DA-40F5-9EBB-66A182EA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DCDD5-9B41-48E4-9953-55D93B11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A3516-C77B-4BCB-866D-F4200F87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6A09B-59F6-4B37-996C-56B7383E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F7D-C588-415A-BED0-906D69F1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E364E-27AF-4206-A9DF-E5162D2D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CD07A-4AF0-4B56-9EA7-75661812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4E5D3-C54D-4281-AF8B-5D01686B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50DAE-9546-4D66-ADB8-AED51F9B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C4776-085A-4D73-AFC6-9116A42E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D4DC2-405D-4353-BCAB-97A40923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175C9-45E4-4391-A9FB-AC4C961B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210DA-2A4B-4309-B993-0B00D953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929B8-C45D-460F-8881-864ED586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A2BC4-4F6E-4527-9CAE-DC138E15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473F-4610-403D-AB5F-BAAC9AAE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88648-B2D2-4474-969F-D286FF8F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21DE0-BF93-47EF-A7E4-9FC8A512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F09C9-365A-42BF-8917-A3494CDF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365B6-A3DA-4028-B8B4-6361D378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E9E82-8B26-46DE-A7C6-14A391D3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CDEA-3403-4A17-B42D-84D8E33A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2604-9816-4AC9-8661-641ECA10369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3B4D-3CEB-4AA4-899F-F670756FBB7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9F65-9241-4D3B-B033-B17013A815B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9B3A-3554-4968-A18B-2002EFFF559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36CB-BC22-4E3D-A298-ACA92F4337C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2124-D341-4D0B-AA0E-7743D8A89DD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C536-C115-4340-87C1-58EFD304764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6240" y="271080"/>
            <a:ext cx="8001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Министерство образования Новосибирской области</a:t>
            </a:r>
            <a:br>
              <a:rPr sz="1400"/>
            </a:b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Государственное автономное профессиональное </a:t>
            </a:r>
            <a:br>
              <a:rPr sz="1400"/>
            </a:b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образовательное учреждение Новосибирской области</a:t>
            </a:r>
            <a:br>
              <a:rPr sz="1400"/>
            </a:br>
            <a:r>
              <a:rPr b="1" lang="en-US" sz="1400" spc="-1" strike="noStrike">
                <a:solidFill>
                  <a:srgbClr val="1e190d"/>
                </a:solidFill>
                <a:latin typeface="Arial"/>
                <a:ea typeface="Arial"/>
              </a:rPr>
              <a:t>«Куйбышевский педагогический колледж»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ОСТЬ 44.02.05 КОРРЕКЦИОННАЯ ПЕДАГОГИКА В НАЧАЛЬНОМ ОБРАЗОВАНИ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ЫПУСКНАЯ КВАЛИФИКАЦИОННАЯ РАБОТ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rbel"/>
              </a:rPr>
              <a:t>Квест как форма работы классного руководителя по духовно-нравственному воспитанию обучающихся в области начального общего образования, в том числе компенсирующего и коррекционно-развивающе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: Самойлова Г.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уководитель: Порчайкина Г.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уйбышев, 2022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вест – игра «Дорогою добра»</a:t>
            </a:r>
            <a:br>
              <a:rPr sz="3200"/>
            </a:b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(учитель Большакова О. Ю.)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общение представлений обучающихся о доброте как о ценном качестве человека, развитие взаимопомощи, совершенствование навыков доброго общения со сверстниками и взрослы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овательная: раскрыть сущность понятий «добро» и «доброта», «добрые поступки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вающая: развивать навыки сотрудничества, общения в повседневной жизни, развивать у детей логическое мышление, воображение и внима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ательная: воспитывать добрые чувства к окружающим людям, помочь понять детям, что все нуждаются в помощи, доброте и доброжелательном отношен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19520" y="-360"/>
            <a:ext cx="632448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вест-игра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«Символы России»</a:t>
            </a:r>
            <a:br>
              <a:rPr sz="3200"/>
            </a:b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МКОУ «Куйбышевская школа-интернат» , 3 кл.)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чувства патриотизма и любви к своей Родин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ции квест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Назови событие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Пойми меня и найди слово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Найди среди флагов разных стран флаг России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Гимн России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Российский герб»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859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2"/>
          <p:cNvSpPr/>
          <p:nvPr/>
        </p:nvSpPr>
        <p:spPr>
          <a:xfrm>
            <a:off x="1143000" y="228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Примеры заданий квеста на воспитание нравственных цен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2280" y="1219320"/>
          <a:ext cx="8782200" cy="5180040"/>
        </p:xfrm>
        <a:graphic>
          <a:graphicData uri="http://schemas.openxmlformats.org/drawingml/2006/table">
            <a:tbl>
              <a:tblPr/>
              <a:tblGrid>
                <a:gridCol w="3962520"/>
                <a:gridCol w="4819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 духовно-нравственного воспит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ление  в активном словаре обучающихся гражданско-патриотической лекси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яснить команде записанные на карточке слова, не произнося 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 чувства гордости и причастности к судьбе Отечест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1596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891a7"/>
                        </a:buClr>
                        <a:buSzPct val="80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исать пропущенные слова в текст гим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1596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891a7"/>
                        </a:buClr>
                        <a:buSzPct val="80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ть по дате важные события в истории Отечеств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 личной ответственности каждо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 должна надуть воздушный шарик до тех пор, пока он не лопнет. Когда шарик лопнул, команда отгадывает ключ к стан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спользование наглядности во время проведения квеста как важный элемент работы с детьми с ОВЗ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6" name="Рисунок 17" descr="C:\Users\Анна\Desktop\Квест\Гимн.jpg"/>
          <p:cNvPicPr/>
          <p:nvPr/>
        </p:nvPicPr>
        <p:blipFill>
          <a:blip r:embed="rId2"/>
          <a:stretch/>
        </p:blipFill>
        <p:spPr>
          <a:xfrm>
            <a:off x="3124080" y="1447920"/>
            <a:ext cx="2779920" cy="388620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11" descr="https://www.meme-arsenal.com/memes/b28d6e3edd7520c9b05d238fd89e817f.jpg"/>
          <p:cNvPicPr/>
          <p:nvPr/>
        </p:nvPicPr>
        <p:blipFill>
          <a:blip r:embed="rId3"/>
          <a:stretch/>
        </p:blipFill>
        <p:spPr>
          <a:xfrm>
            <a:off x="3886200" y="5105520"/>
            <a:ext cx="2238480" cy="14968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6019920" y="1447920"/>
            <a:ext cx="2790720" cy="304776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13" descr="https://israeliside.com/wp-content/uploads/2015/06/wake-up-france.jpg"/>
          <p:cNvPicPr/>
          <p:nvPr/>
        </p:nvPicPr>
        <p:blipFill>
          <a:blip r:embed="rId5"/>
          <a:srcRect l="6075" t="4171" r="7146" b="4195"/>
          <a:stretch/>
        </p:blipFill>
        <p:spPr>
          <a:xfrm>
            <a:off x="6781680" y="4419720"/>
            <a:ext cx="2038320" cy="13428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6"/>
          <a:stretch/>
        </p:blipFill>
        <p:spPr>
          <a:xfrm>
            <a:off x="0" y="274320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9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Прямоугольник 2"/>
          <p:cNvSpPr/>
          <p:nvPr/>
        </p:nvSpPr>
        <p:spPr>
          <a:xfrm>
            <a:off x="3505320" y="76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Выводы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838080" y="533520"/>
            <a:ext cx="83059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Духовно-нравственное развитие и воспитание личности - многоплановый процесс, неотделимый от семьи, общества, культуры, страны, эпохи, формирующей образ жизни и сознание челове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Духовно-нравственное развитие и воспитание обучающихся -первостепенная задача современной образовательной системы. Содержание духовно-нравственного воспитания определяется в соответствии с базовыми национальными ценностями и зависит от правильно выстроенной работы классного руководителя, от применяемых им методов и прием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вест - наиболее результативен в работе классного руководителя по духовно-нравственному воспитанию обучающихся в области начального общего образования, в том числе компенсирующего и коррекционно-развивающег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вест как внеклассное мероприятие позволяет расширить возможности классного руководителя и повышает мотивацию младших школьников к обучению и взаимодействию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оведенное исследование и выводы позволили составить рекомендации по созданию и использованию квеста в духовно-нравственном воспитании обучающихся в области начального общего образования, в том числе компенсирующего и коррекционно-развивающег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Сертификат о публикаци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Объект</a:t>
            </a:r>
            <a:r>
              <a:rPr b="1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исследования - духовно-нравственное воспитание обучающихся в области начального общего образования, в том числе компенсирующего и коррекционно-развивающего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Предмет</a:t>
            </a:r>
            <a:r>
              <a:rPr b="1" i="1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исследования</a:t>
            </a:r>
            <a:r>
              <a:rPr b="1" i="1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– квест как средство духовно-нравственного воспитания обучающихся в области начального общего образования, в том числе компенсирующего и коррекционнно-развивающег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Arial"/>
                <a:ea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оугольник 1"/>
          <p:cNvSpPr/>
          <p:nvPr/>
        </p:nvSpPr>
        <p:spPr>
          <a:xfrm>
            <a:off x="990720" y="69516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Аппарат исследо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66320" y="22093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990720" y="838080"/>
            <a:ext cx="8153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проанализировать проблемы духовно-нравственного воспитания обучающихся в области начального общего образования, в том числе компенсирующего и коррекционно-развивающего в научной и методической литератур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дать характеристику квест-технологии как одной из форм работы классного руководителя по духовно-нравственному воспитанию обучающихся в области начального общего образования, в том числе компенсирующего и коррекционно-развивающег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обобщить методику использования квеста в духовно-нравственном воспитании обучающихся в области начального общего образования, в том числе компенсирующего и коррекционно-развивающего и составить рекоменд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Прямоугольник 5"/>
          <p:cNvSpPr/>
          <p:nvPr/>
        </p:nvSpPr>
        <p:spPr>
          <a:xfrm>
            <a:off x="9907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Аппарат исследо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Духовно-нравственное воспитание  </a:t>
            </a:r>
            <a:r>
              <a:rPr b="1" lang="en-US" sz="2000" spc="-1" strike="noStrike">
                <a:solidFill>
                  <a:srgbClr val="411a0f"/>
                </a:solidFill>
                <a:latin typeface="Arial"/>
                <a:ea typeface="Arial"/>
              </a:rPr>
              <a:t>- это педагогически организованный процесс усвоения и принятия обучающимся базовых национальных ценностей. </a:t>
            </a:r>
            <a:r>
              <a:rPr b="0" lang="en-US" sz="2000" spc="-1" strike="noStrike">
                <a:solidFill>
                  <a:srgbClr val="411a0f"/>
                </a:solidFill>
                <a:latin typeface="Arial"/>
                <a:ea typeface="Arial"/>
              </a:rPr>
              <a:t>(Данилюк А.Я.)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Нравственность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6150c"/>
                </a:solidFill>
                <a:latin typeface="Arial"/>
              </a:rPr>
              <a:t>— </a:t>
            </a:r>
            <a:r>
              <a:rPr b="1" lang="en-US" sz="2000" spc="-1" strike="noStrike">
                <a:solidFill>
                  <a:srgbClr val="36150c"/>
                </a:solidFill>
                <a:latin typeface="Arial"/>
              </a:rPr>
              <a:t>это внутренние, духовные качества, которыми руководствуется человек, этические нормы, правила поведения, определяемые этими качествами. </a:t>
            </a:r>
            <a:r>
              <a:rPr b="0" lang="en-US" sz="2000" spc="-1" strike="noStrike">
                <a:solidFill>
                  <a:srgbClr val="36150c"/>
                </a:solidFill>
                <a:latin typeface="Arial"/>
              </a:rPr>
              <a:t>(Ожегов С.И.)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Прямоугольник 2"/>
          <p:cNvSpPr/>
          <p:nvPr/>
        </p:nvSpPr>
        <p:spPr>
          <a:xfrm>
            <a:off x="3164040" y="457200"/>
            <a:ext cx="35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Структура духовно-нравственного воспитания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80880" y="1143000"/>
            <a:ext cx="8762760" cy="5609160"/>
            <a:chOff x="380880" y="1143000"/>
            <a:chExt cx="8762760" cy="5609160"/>
          </a:xfrm>
        </p:grpSpPr>
        <p:cxnSp>
          <p:nvCxnSpPr>
            <p:cNvPr id="336" name="_s37894"/>
            <p:cNvCxnSpPr>
              <a:stCxn id="337" idx="0"/>
              <a:endCxn id="338" idx="2"/>
            </p:cNvCxnSpPr>
            <p:nvPr/>
          </p:nvCxnSpPr>
          <p:spPr>
            <a:xfrm flipV="1">
              <a:off x="8172360" y="4647960"/>
              <a:ext cx="2520" cy="701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37895"/>
            <p:cNvCxnSpPr>
              <a:stCxn id="340" idx="0"/>
              <a:endCxn id="341" idx="2"/>
            </p:cNvCxnSpPr>
            <p:nvPr/>
          </p:nvCxnSpPr>
          <p:spPr>
            <a:xfrm flipV="1">
              <a:off x="5897880" y="4647960"/>
              <a:ext cx="3240" cy="701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2" name="_s37896"/>
            <p:cNvCxnSpPr>
              <a:stCxn id="343" idx="0"/>
              <a:endCxn id="344" idx="2"/>
            </p:cNvCxnSpPr>
            <p:nvPr/>
          </p:nvCxnSpPr>
          <p:spPr>
            <a:xfrm flipV="1">
              <a:off x="3628440" y="4647960"/>
              <a:ext cx="2520" cy="701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5" name="_s37897"/>
            <p:cNvCxnSpPr>
              <a:stCxn id="346" idx="0"/>
              <a:endCxn id="347" idx="2"/>
            </p:cNvCxnSpPr>
            <p:nvPr/>
          </p:nvCxnSpPr>
          <p:spPr>
            <a:xfrm flipV="1">
              <a:off x="1353960" y="4647960"/>
              <a:ext cx="3240" cy="701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8" name="_s37898"/>
            <p:cNvCxnSpPr>
              <a:stCxn id="338" idx="0"/>
              <a:endCxn id="349" idx="2"/>
            </p:cNvCxnSpPr>
            <p:nvPr/>
          </p:nvCxnSpPr>
          <p:spPr>
            <a:xfrm flipV="1" rot="16200000">
              <a:off x="6116400" y="1189800"/>
              <a:ext cx="701640" cy="3410640"/>
            </a:xfrm>
            <a:prstGeom prst="bentConnector3">
              <a:avLst>
                <a:gd name="adj1" fmla="val 153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0" name="_s37899"/>
            <p:cNvCxnSpPr>
              <a:stCxn id="341" idx="0"/>
              <a:endCxn id="349" idx="2"/>
            </p:cNvCxnSpPr>
            <p:nvPr/>
          </p:nvCxnSpPr>
          <p:spPr>
            <a:xfrm flipV="1" rot="16200000">
              <a:off x="4979160" y="2327040"/>
              <a:ext cx="701640" cy="1136160"/>
            </a:xfrm>
            <a:prstGeom prst="bentConnector3">
              <a:avLst>
                <a:gd name="adj1" fmla="val 153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1" name="_s37900"/>
            <p:cNvCxnSpPr>
              <a:stCxn id="344" idx="0"/>
              <a:endCxn id="349" idx="2"/>
            </p:cNvCxnSpPr>
            <p:nvPr/>
          </p:nvCxnSpPr>
          <p:spPr>
            <a:xfrm flipH="1" flipV="1" rot="5400000">
              <a:off x="3844800" y="2328120"/>
              <a:ext cx="701640" cy="1134360"/>
            </a:xfrm>
            <a:prstGeom prst="bentConnector3">
              <a:avLst>
                <a:gd name="adj1" fmla="val 153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2" name="_s37901"/>
            <p:cNvCxnSpPr>
              <a:stCxn id="347" idx="0"/>
              <a:endCxn id="349" idx="2"/>
            </p:cNvCxnSpPr>
            <p:nvPr/>
          </p:nvCxnSpPr>
          <p:spPr>
            <a:xfrm flipH="1" flipV="1" rot="5400000">
              <a:off x="2707560" y="1191240"/>
              <a:ext cx="701640" cy="3408480"/>
            </a:xfrm>
            <a:prstGeom prst="bentConnector3">
              <a:avLst>
                <a:gd name="adj1" fmla="val 153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9" name="_s37902"/>
            <p:cNvSpPr/>
            <p:nvPr/>
          </p:nvSpPr>
          <p:spPr>
            <a:xfrm>
              <a:off x="3788640" y="114300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Структура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духовно-нравственного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воспитания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_s37903"/>
            <p:cNvSpPr/>
            <p:nvPr/>
          </p:nvSpPr>
          <p:spPr>
            <a:xfrm>
              <a:off x="380880" y="324648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Формировани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нравственных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чувств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_s37904"/>
            <p:cNvSpPr/>
            <p:nvPr/>
          </p:nvSpPr>
          <p:spPr>
            <a:xfrm>
              <a:off x="2652480" y="324648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Формировани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нравственного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облика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_s37905"/>
            <p:cNvSpPr/>
            <p:nvPr/>
          </p:nvSpPr>
          <p:spPr>
            <a:xfrm>
              <a:off x="4924440" y="324648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Формировани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нравственной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позиции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_s37906"/>
            <p:cNvSpPr/>
            <p:nvPr/>
          </p:nvSpPr>
          <p:spPr>
            <a:xfrm>
              <a:off x="7196400" y="324648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Формировани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нравственного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поведения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_s37907"/>
            <p:cNvSpPr/>
            <p:nvPr/>
          </p:nvSpPr>
          <p:spPr>
            <a:xfrm>
              <a:off x="380880" y="534996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Совесть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долг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гражданственность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патриотизм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_s37908"/>
            <p:cNvSpPr/>
            <p:nvPr/>
          </p:nvSpPr>
          <p:spPr>
            <a:xfrm>
              <a:off x="2652480" y="534996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Терпение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милосердие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доброта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_s37909"/>
            <p:cNvSpPr/>
            <p:nvPr/>
          </p:nvSpPr>
          <p:spPr>
            <a:xfrm>
              <a:off x="4924440" y="534996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Различени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добра и зла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Готовность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к преодолению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испытаний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_s37910"/>
            <p:cNvSpPr/>
            <p:nvPr/>
          </p:nvSpPr>
          <p:spPr>
            <a:xfrm>
              <a:off x="7196400" y="5349960"/>
              <a:ext cx="1947240" cy="14022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Готовность служить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Отечеству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Проявлени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доброй воли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54" name="Diagram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355" name="Diagram 37"/>
          <p:cNvGrpSpPr/>
          <p:nvPr/>
        </p:nvGrpSpPr>
        <p:grpSpPr>
          <a:xfrm>
            <a:off x="184320" y="1066680"/>
            <a:ext cx="8958600" cy="4732200"/>
            <a:chOff x="184320" y="1066680"/>
            <a:chExt cx="8958600" cy="4732200"/>
          </a:xfrm>
        </p:grpSpPr>
        <p:sp>
          <p:nvSpPr>
            <p:cNvPr id="356" name="_s2054"/>
            <p:cNvSpPr/>
            <p:nvPr/>
          </p:nvSpPr>
          <p:spPr>
            <a:xfrm flipH="1" flipV="1">
              <a:off x="2875680" y="2763360"/>
              <a:ext cx="891360" cy="38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_s2055"/>
            <p:cNvSpPr/>
            <p:nvPr/>
          </p:nvSpPr>
          <p:spPr>
            <a:xfrm>
              <a:off x="841680" y="1772280"/>
              <a:ext cx="2285640" cy="1226520"/>
            </a:xfrm>
            <a:prstGeom prst="ellipse">
              <a:avLst/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лассные часы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_s2056"/>
            <p:cNvSpPr/>
            <p:nvPr/>
          </p:nvSpPr>
          <p:spPr>
            <a:xfrm flipH="1">
              <a:off x="2433960" y="3668040"/>
              <a:ext cx="1113840" cy="13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_s2057"/>
            <p:cNvSpPr/>
            <p:nvPr/>
          </p:nvSpPr>
          <p:spPr>
            <a:xfrm>
              <a:off x="184320" y="3326760"/>
              <a:ext cx="2285640" cy="1224360"/>
            </a:xfrm>
            <a:prstGeom prst="ellipse">
              <a:avLst/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еседы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_s2058"/>
            <p:cNvSpPr/>
            <p:nvPr/>
          </p:nvSpPr>
          <p:spPr>
            <a:xfrm flipH="1">
              <a:off x="3669840" y="4082400"/>
              <a:ext cx="499320" cy="55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_s2059"/>
            <p:cNvSpPr/>
            <p:nvPr/>
          </p:nvSpPr>
          <p:spPr>
            <a:xfrm>
              <a:off x="2039040" y="4572360"/>
              <a:ext cx="2284920" cy="1226520"/>
            </a:xfrm>
            <a:prstGeom prst="ellipse">
              <a:avLst/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ыставки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_s2060"/>
            <p:cNvSpPr/>
            <p:nvPr/>
          </p:nvSpPr>
          <p:spPr>
            <a:xfrm>
              <a:off x="5161680" y="4080960"/>
              <a:ext cx="492120" cy="55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_s2061"/>
            <p:cNvSpPr/>
            <p:nvPr/>
          </p:nvSpPr>
          <p:spPr>
            <a:xfrm>
              <a:off x="5006880" y="4568400"/>
              <a:ext cx="2285640" cy="1226520"/>
            </a:xfrm>
            <a:prstGeom prst="ellipse">
              <a:avLst/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екты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_s2062"/>
            <p:cNvSpPr/>
            <p:nvPr/>
          </p:nvSpPr>
          <p:spPr>
            <a:xfrm>
              <a:off x="5776200" y="3664080"/>
              <a:ext cx="1113840" cy="13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_s2063"/>
            <p:cNvSpPr/>
            <p:nvPr/>
          </p:nvSpPr>
          <p:spPr>
            <a:xfrm>
              <a:off x="6670800" y="3324600"/>
              <a:ext cx="2472120" cy="1226520"/>
            </a:xfrm>
            <a:prstGeom prst="ellipse">
              <a:avLst/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ектакли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_s2064"/>
            <p:cNvSpPr/>
            <p:nvPr/>
          </p:nvSpPr>
          <p:spPr>
            <a:xfrm flipV="1">
              <a:off x="5553720" y="2765520"/>
              <a:ext cx="894600" cy="38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_s2065"/>
            <p:cNvSpPr/>
            <p:nvPr/>
          </p:nvSpPr>
          <p:spPr>
            <a:xfrm>
              <a:off x="6196680" y="1770480"/>
              <a:ext cx="2285640" cy="1226520"/>
            </a:xfrm>
            <a:prstGeom prst="ellipse">
              <a:avLst/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лассные часы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_s2066"/>
            <p:cNvSpPr/>
            <p:nvPr/>
          </p:nvSpPr>
          <p:spPr>
            <a:xfrm flipV="1">
              <a:off x="4662000" y="2304360"/>
              <a:ext cx="0" cy="61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_s2067"/>
            <p:cNvSpPr/>
            <p:nvPr/>
          </p:nvSpPr>
          <p:spPr>
            <a:xfrm>
              <a:off x="3422520" y="1066680"/>
              <a:ext cx="2575800" cy="1226520"/>
            </a:xfrm>
            <a:prstGeom prst="ellipse">
              <a:avLst/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кскурсии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_s2068"/>
            <p:cNvSpPr/>
            <p:nvPr/>
          </p:nvSpPr>
          <p:spPr>
            <a:xfrm>
              <a:off x="3321720" y="2763720"/>
              <a:ext cx="2676960" cy="1592640"/>
            </a:xfrm>
            <a:prstGeom prst="ellipse">
              <a:avLst/>
            </a:prstGeom>
            <a:solidFill>
              <a:srgbClr val="fff1ce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Формы работ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Прямоугольник 2"/>
          <p:cNvSpPr/>
          <p:nvPr/>
        </p:nvSpPr>
        <p:spPr>
          <a:xfrm>
            <a:off x="1458720" y="304920"/>
            <a:ext cx="73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Обоснование теоретических полож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Специфика воспитательных задач детей с ОВЗ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рекция недостатков развития с учетом возможностей дете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билитац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изац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360" y="1343160"/>
            <a:ext cx="8024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Arial"/>
                <a:ea typeface="Arial"/>
              </a:rPr>
              <a:t>В работе описаны  методические условия использования квеста </a:t>
            </a:r>
            <a:r>
              <a:rPr b="1" lang="ru-RU" sz="2000" spc="-1" strike="noStrike">
                <a:solidFill>
                  <a:srgbClr val="572314"/>
                </a:solidFill>
                <a:latin typeface="Arial"/>
              </a:rPr>
              <a:t>в духовно-нравственном воспитании обучающихся в области начального общего образования, в том числе компенсирующего и коррекционно-развивающего</a:t>
            </a:r>
            <a:r>
              <a:rPr b="1" lang="ru-RU" sz="2000" spc="-1" strike="noStrike">
                <a:solidFill>
                  <a:srgbClr val="572314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75" name="Organization Chart 6"/>
          <p:cNvGrpSpPr/>
          <p:nvPr/>
        </p:nvGrpSpPr>
        <p:grpSpPr>
          <a:xfrm>
            <a:off x="1143000" y="2514600"/>
            <a:ext cx="8000280" cy="3123000"/>
            <a:chOff x="1143000" y="2514600"/>
            <a:chExt cx="8000280" cy="3123000"/>
          </a:xfrm>
        </p:grpSpPr>
        <p:cxnSp>
          <p:nvCxnSpPr>
            <p:cNvPr id="376" name="_s3076"/>
            <p:cNvCxnSpPr>
              <a:stCxn id="377" idx="0"/>
              <a:endCxn id="378" idx="2"/>
            </p:cNvCxnSpPr>
            <p:nvPr/>
          </p:nvCxnSpPr>
          <p:spPr>
            <a:xfrm flipV="1" rot="16200000">
              <a:off x="6230520" y="2675160"/>
              <a:ext cx="625320" cy="2800800"/>
            </a:xfrm>
            <a:prstGeom prst="bentConnector3">
              <a:avLst>
                <a:gd name="adj1" fmla="val 131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9" name="_s3077"/>
            <p:cNvCxnSpPr>
              <a:stCxn id="380" idx="0"/>
              <a:endCxn id="378" idx="2"/>
            </p:cNvCxnSpPr>
            <p:nvPr/>
          </p:nvCxnSpPr>
          <p:spPr>
            <a:xfrm flipV="1">
              <a:off x="5143320" y="3763080"/>
              <a:ext cx="2880" cy="625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1" name="_s3078"/>
            <p:cNvCxnSpPr>
              <a:stCxn id="382" idx="0"/>
              <a:endCxn id="378" idx="2"/>
            </p:cNvCxnSpPr>
            <p:nvPr/>
          </p:nvCxnSpPr>
          <p:spPr>
            <a:xfrm flipH="1" flipV="1" rot="5400000">
              <a:off x="3430440" y="2675520"/>
              <a:ext cx="625320" cy="2800800"/>
            </a:xfrm>
            <a:prstGeom prst="bentConnector3">
              <a:avLst>
                <a:gd name="adj1" fmla="val 131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78" name="_s3079"/>
            <p:cNvSpPr/>
            <p:nvPr/>
          </p:nvSpPr>
          <p:spPr>
            <a:xfrm>
              <a:off x="3943080" y="2514600"/>
              <a:ext cx="2400120" cy="1249200"/>
            </a:xfrm>
            <a:prstGeom prst="roundRect">
              <a:avLst>
                <a:gd name="adj" fmla="val 16667"/>
              </a:avLst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наче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спользова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вес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_s3080"/>
            <p:cNvSpPr/>
            <p:nvPr/>
          </p:nvSpPr>
          <p:spPr>
            <a:xfrm>
              <a:off x="1143000" y="4388400"/>
              <a:ext cx="2400120" cy="1249200"/>
            </a:xfrm>
            <a:prstGeom prst="roundRect">
              <a:avLst>
                <a:gd name="adj" fmla="val 16667"/>
              </a:avLst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заимодействие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трудничество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_s3081"/>
            <p:cNvSpPr/>
            <p:nvPr/>
          </p:nvSpPr>
          <p:spPr>
            <a:xfrm>
              <a:off x="3943080" y="4388400"/>
              <a:ext cx="2400120" cy="1249200"/>
            </a:xfrm>
            <a:prstGeom prst="roundRect">
              <a:avLst>
                <a:gd name="adj" fmla="val 16667"/>
              </a:avLst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лерантность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_s3082"/>
            <p:cNvSpPr/>
            <p:nvPr/>
          </p:nvSpPr>
          <p:spPr>
            <a:xfrm>
              <a:off x="6743160" y="4388400"/>
              <a:ext cx="2400120" cy="1249200"/>
            </a:xfrm>
            <a:prstGeom prst="roundRect">
              <a:avLst>
                <a:gd name="adj" fmla="val 16667"/>
              </a:avLst>
            </a:prstGeom>
            <a:solidFill>
              <a:srgbClr val="d4e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ммуникативные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Прямоугольник 2"/>
          <p:cNvSpPr/>
          <p:nvPr/>
        </p:nvSpPr>
        <p:spPr>
          <a:xfrm>
            <a:off x="1021680" y="87480"/>
            <a:ext cx="798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Обоснование методических (практических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положений и выв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0560" y="2286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База практики – </a:t>
            </a:r>
            <a:br>
              <a:rPr sz="2800"/>
            </a:b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КОУ «Школа-интернат основного общего образования» Куйбышевского район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09520" y="2438280"/>
            <a:ext cx="49849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Большакова О. Ю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дагогический стаж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ле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тегория – первая. 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2666880" cy="19969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533520" y="2819520"/>
            <a:ext cx="222876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stya</dc:creator>
  <dc:description/>
  <dc:language>en-US</dc:language>
  <cp:lastModifiedBy>User</cp:lastModifiedBy>
  <dcterms:modified xsi:type="dcterms:W3CDTF">2022-11-17T07:29:17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