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338-6A29-4B42-BF20-66DB10A05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0812-1EAF-46F1-A2F3-64C70DBAC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E5C-2A92-420A-95C0-E4666130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738-2F49-469E-8360-504FB5F2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EA1-BDC0-4CD4-9FD5-35E79EEB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96E-1554-40EA-B261-E86D23D7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62D9-1FCC-4D05-9153-F0FF916E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C052-D062-4F2B-99B8-61424075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2A00-8D61-4F27-AD8A-B826AB9D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821-9AB6-4DA6-99D3-22ABCF05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201D-EFA3-4B17-8706-067E6C3A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036D-3184-419A-B782-6F01BA49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3EA1-DF29-4629-8AAE-0CEC697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491-D594-456D-A53A-7BA53468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63AB-4402-437C-BB00-09B9FD00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360C-6DBF-430A-8310-E64D77A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E402-39C7-42F6-9EAF-297FD401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627-B4A5-45B4-B015-F8874F7E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463B-A785-433E-A4C2-D32D0B87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C944-B842-4E19-8FEC-46CB650C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4607-A05E-4C3D-B2C5-A430D9C0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64B7-B590-4000-871E-E8C54AF6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BDD6-0046-45C8-9B70-D7927B8B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7FEC-89AC-47F5-AF81-719BEC58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58D-B7BA-4BF9-A517-3AE5AC7C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5C85-DEAF-4FA7-AC20-E15FE354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FCB8-5BA3-48AE-9C7E-EA48F67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36F3-3616-44A5-8069-31DE6CA3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DFBB-35B1-4413-B672-EC979AB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8D4F-E3A4-4079-B7DC-CB91564B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C459-EAAB-4A40-BB34-E1AE5BB8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6933-6F3E-4466-B5F6-252AE656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02674-7499-4B7A-8F8F-B3C4BB67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55FE-4FFF-415D-BCA4-32FB1A86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F0B7-A280-48D3-9FD6-273A5D4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BFC-1708-4256-B2B3-D61C178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4086F-7B2F-47D4-BD62-77F05CED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3ABC-EA78-4946-A3C9-70BBBD4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99D6-C9C9-42A1-BC4A-0742F41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55C0-7957-4EAB-BDBF-1E60569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AB47-2336-4613-9B3D-3382D9E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D909-A596-4B89-AEA8-F902500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7CF4-38A0-4788-8F83-0C8EF917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1FAE-9754-4752-A792-294E60DF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FBC3-A296-4903-ACC9-ADDA5BD7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A719-4F99-4761-BE99-586F02C4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B1B-B645-4514-AA77-43723CD8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571B-8756-43EC-A1CD-3EF3B55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A8339-807B-45B9-ACED-9B7E3E3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F1DA3-8D27-496E-AB52-56367E6B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61C6-0BD8-4CBD-9008-F18ED05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0E2C-94E8-4C52-9634-689D19E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F95E-5427-475E-9DB8-8EDDF53F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74DA-FA98-4B1E-ACEA-F83C284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C868-ADAB-44EB-923B-E399EB8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AB526-0020-4C24-84ED-2CE4EFE2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F4BC-7CBB-49D8-8D93-039A0EFB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BD6-1469-4B84-87EA-5225FA7B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A74FD-3A7A-44BD-B61C-BE31A644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30465-E6A5-41E2-AF73-396F8366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4279B-17BA-4A5E-A342-EA6EDB79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A461B-F116-4067-BDC3-7603A46B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8875A-6444-4017-A31F-9CC9F5F3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C0FE-F72A-450A-BAC2-3E6976EA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9541C-43A6-4A16-92F4-4C5B4B1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F9EF-4E23-4BF6-B172-2CEC65D3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763F7-27BA-490E-ADBA-67ACFED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E5CB-91C6-4ED7-A9D4-7F2A2EC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198-867F-4CB7-A509-302EA46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8C69-A344-4852-9D03-66E03C7C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689BD-8241-4D8B-B5DB-034434F6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5748-B018-483E-95EF-D57BF1E1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FFFE0-2051-478B-B320-76AA4BAB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FE55-DB6A-4FE1-853A-698DE5A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AD31C-5F87-4D57-AE32-62280F19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C6D90-1672-458F-A160-8ABE84A5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E5F65-4F7B-4AF7-A3B4-DEBB4BA7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55C91-C62B-4C14-B38E-23FE97C1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CD2D6-3AE0-4855-8E0D-BCBF6184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4B4-9848-4C50-B9E7-C537619C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B7193-B68F-41FA-9F8A-DA293EF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91CE2-21A4-4985-BD0D-F0988B6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23631-66B3-40B7-A86C-6957684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2AFF2-C375-44DD-8048-00A782DB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E612-99BB-42DB-806D-3845553F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EAA-EED0-489E-8793-A4FFBADC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B4A5-4333-4051-BCA2-1A14425214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9182-1F5F-49FF-859F-32BB201425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C5A-24C3-464D-A698-B823D774A7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BE09-49BF-49FF-9993-52A83FBB723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0AA-EB32-4A54-8EC0-F870CB10B8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79C6-964A-416C-85BB-03B613D15E8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1C43-3851-4D25-AA13-35B29762AB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6240" y="271080"/>
            <a:ext cx="8001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Министерство образования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Государственное автономное профессиональное 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образовательное учреждение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«Куйбышевский 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ОСТЬ 44.02.05 КОРРЕКЦИОННАЯ ПЕДАГОГИКА В НАЧАЛЬНОМ ОБРАЗОВАН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rbel"/>
              </a:rPr>
              <a:t>Квест как форма работы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Самойлова Г.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Порчайкина Г.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йбышев, 2022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вест – игра «Дорогою добра»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(учитель Большакова О. Ю.)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бщение представлений обучающихся о доброте как о ценном качестве человека, развитие взаимопомощи, совершенствование навыков доброго общения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тельная: раскрыть сущность понятий «добро» и «доброта», «добрые поступки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вающая: развивать навыки сотрудничества, общения в повседневной жизни, развивать у детей логическое мышление, воображение и вним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ельная: воспитывать добрые чувства к окружающим людям, помочь понять детям, что все нуждаются в помощи, доброте и доброжелательном отноше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63244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вест-игр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«Символы России»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КОУ «Куйбышевская школа-интернат» , 3 кл.)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чувства патриотизма и любви к своей Род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ции квест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Назови событие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Пойми меня и найди слово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Найди среди флагов разных стран флаг России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Гимн России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оссийский герб»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2"/>
          <p:cNvSpPr/>
          <p:nvPr/>
        </p:nvSpPr>
        <p:spPr>
          <a:xfrm>
            <a:off x="1143000" y="228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имеры заданий квеста на воспитание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2280" y="1219320"/>
          <a:ext cx="8782200" cy="5180040"/>
        </p:xfrm>
        <a:graphic>
          <a:graphicData uri="http://schemas.openxmlformats.org/drawingml/2006/table">
            <a:tbl>
              <a:tblPr/>
              <a:tblGrid>
                <a:gridCol w="3962520"/>
                <a:gridCol w="481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духовно-нравственного восп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 в активном словаре обучающихся гражданско-патриотической лекс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команде записанные на карточке слова, не произнося 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чувства гордости и причастности к судьбе Отече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1596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891a7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исать пропущенные слова в текст гим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1596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891a7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ть по дате важные события в истории Отече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личной ответственности кажд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должна надуть воздушный шарик до тех пор, пока он не лопнет. Когда шарик лопнул, команда отгадывает ключ к стан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спользование наглядности во время проведения квеста как важный элемент работы с детьми с ОВЗ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Рисунок 17" descr="C:\Users\Анна\Desktop\Квест\Гимн.jpg"/>
          <p:cNvPicPr/>
          <p:nvPr/>
        </p:nvPicPr>
        <p:blipFill>
          <a:blip r:embed="rId2"/>
          <a:stretch/>
        </p:blipFill>
        <p:spPr>
          <a:xfrm>
            <a:off x="3124080" y="1447920"/>
            <a:ext cx="2779920" cy="38862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1" descr="https://www.meme-arsenal.com/memes/b28d6e3edd7520c9b05d238fd89e817f.jpg"/>
          <p:cNvPicPr/>
          <p:nvPr/>
        </p:nvPicPr>
        <p:blipFill>
          <a:blip r:embed="rId3"/>
          <a:stretch/>
        </p:blipFill>
        <p:spPr>
          <a:xfrm>
            <a:off x="3886200" y="5105520"/>
            <a:ext cx="2238480" cy="1496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790720" cy="304776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3" descr="https://israeliside.com/wp-content/uploads/2015/06/wake-up-france.jpg"/>
          <p:cNvPicPr/>
          <p:nvPr/>
        </p:nvPicPr>
        <p:blipFill>
          <a:blip r:embed="rId5"/>
          <a:srcRect l="6075" t="4171" r="7146" b="4195"/>
          <a:stretch/>
        </p:blipFill>
        <p:spPr>
          <a:xfrm>
            <a:off x="6781680" y="4419720"/>
            <a:ext cx="2038320" cy="13428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0" y="274320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9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3505320" y="76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ыводы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уховно-нравственное развитие и воспитание личности - многоплановый процесс, неотделимый от семьи, общества, культуры, страны, эпохи, формирующей образ жизни и сознание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уховно-нравственное развитие и воспитание обучающихся -первостепенная задача современной образовательной системы. Содержание духовно-нравственного воспитания определяется в соответствии с базовыми национальными ценностями и зависит от правильно выстроенной работы классного руководителя, от применяемых им методов и прием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вест - наиболее результативен в работе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вест как внеклассное мероприятие позволяет расширить возможности классного руководителя и повышает мотивацию младших школьников к обучению и взаимодействию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веденное исследование и выводы позволили составить рекомендации по созданию и использованию квеста в духовно-нравственном воспитани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Сертификат о публикац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Объект</a:t>
            </a:r>
            <a:r>
              <a:rPr b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сследования - духовно-нравственное воспитание обучающихся в области начального общего образования, в том числе компенсирующего и коррекционно-развивающег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Предмет</a:t>
            </a:r>
            <a:r>
              <a:rPr b="1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сследования</a:t>
            </a:r>
            <a:r>
              <a:rPr b="1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– квест как средство духовно-нравственного воспитания обучающихся в области начального общего образования, в том числе компенсирующего и коррекционнно-развив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990720" y="6951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66320" y="22093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90720" y="838080"/>
            <a:ext cx="815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роанализировать проблемы духовно-нравственного воспитания обучающихся в области начального общего образования, в том числе компенсирующего и коррекционно-развивающего в научной и методической литератур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ать характеристику квест-технологии как одной из форм работы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общить методику использования квеста в духовно-нравственном воспитании обучающихся в области начального общего образования, в том числе компенсирующего и коррекционно-развивающего и составить рекоменд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9907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уховно-нравственное воспитание  </a:t>
            </a:r>
            <a:r>
              <a:rPr b="1" lang="en-US" sz="2000" spc="-1" strike="noStrike">
                <a:solidFill>
                  <a:srgbClr val="411a0f"/>
                </a:solidFill>
                <a:latin typeface="Arial"/>
                <a:ea typeface="Arial"/>
              </a:rPr>
              <a:t>- это педагогически организованный процесс усвоения и принятия обучающимся базовых национальных ценностей. </a:t>
            </a:r>
            <a:r>
              <a:rPr b="0" lang="en-US" sz="2000" spc="-1" strike="noStrike">
                <a:solidFill>
                  <a:srgbClr val="411a0f"/>
                </a:solidFill>
                <a:latin typeface="Arial"/>
                <a:ea typeface="Arial"/>
              </a:rPr>
              <a:t>(Данилюк А.Я.)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равственность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150c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36150c"/>
                </a:solidFill>
                <a:latin typeface="Arial"/>
              </a:rPr>
              <a:t>это внутренние, духовные качества, которыми руководствуется человек, этические нормы, правила поведения, определяемые этими качествами. </a:t>
            </a:r>
            <a:r>
              <a:rPr b="0" lang="en-US" sz="2000" spc="-1" strike="noStrike">
                <a:solidFill>
                  <a:srgbClr val="36150c"/>
                </a:solidFill>
                <a:latin typeface="Arial"/>
              </a:rPr>
              <a:t>(Ожегов С.И.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3164040" y="4572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труктура духовно-нравственного воспит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0880" y="1143000"/>
            <a:ext cx="8762760" cy="5609160"/>
            <a:chOff x="380880" y="1143000"/>
            <a:chExt cx="8762760" cy="5609160"/>
          </a:xfrm>
        </p:grpSpPr>
        <p:cxnSp>
          <p:nvCxnSpPr>
            <p:cNvPr id="336" name="_s37894"/>
            <p:cNvCxnSpPr>
              <a:stCxn id="337" idx="0"/>
              <a:endCxn id="338" idx="2"/>
            </p:cNvCxnSpPr>
            <p:nvPr/>
          </p:nvCxnSpPr>
          <p:spPr>
            <a:xfrm flipV="1">
              <a:off x="8172360" y="4647960"/>
              <a:ext cx="252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37895"/>
            <p:cNvCxnSpPr>
              <a:stCxn id="340" idx="0"/>
              <a:endCxn id="341" idx="2"/>
            </p:cNvCxnSpPr>
            <p:nvPr/>
          </p:nvCxnSpPr>
          <p:spPr>
            <a:xfrm flipV="1">
              <a:off x="5897880" y="4647960"/>
              <a:ext cx="324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37896"/>
            <p:cNvCxnSpPr>
              <a:stCxn id="343" idx="0"/>
              <a:endCxn id="344" idx="2"/>
            </p:cNvCxnSpPr>
            <p:nvPr/>
          </p:nvCxnSpPr>
          <p:spPr>
            <a:xfrm flipV="1">
              <a:off x="3628440" y="4647960"/>
              <a:ext cx="252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5" name="_s37897"/>
            <p:cNvCxnSpPr>
              <a:stCxn id="346" idx="0"/>
              <a:endCxn id="347" idx="2"/>
            </p:cNvCxnSpPr>
            <p:nvPr/>
          </p:nvCxnSpPr>
          <p:spPr>
            <a:xfrm flipV="1">
              <a:off x="1353960" y="4647960"/>
              <a:ext cx="324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8" name="_s37898"/>
            <p:cNvCxnSpPr>
              <a:stCxn id="338" idx="0"/>
              <a:endCxn id="349" idx="2"/>
            </p:cNvCxnSpPr>
            <p:nvPr/>
          </p:nvCxnSpPr>
          <p:spPr>
            <a:xfrm flipV="1" rot="16200000">
              <a:off x="6116400" y="1189800"/>
              <a:ext cx="701640" cy="341064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37899"/>
            <p:cNvCxnSpPr>
              <a:stCxn id="341" idx="0"/>
              <a:endCxn id="349" idx="2"/>
            </p:cNvCxnSpPr>
            <p:nvPr/>
          </p:nvCxnSpPr>
          <p:spPr>
            <a:xfrm flipV="1" rot="16200000">
              <a:off x="4979160" y="2327040"/>
              <a:ext cx="701640" cy="113616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37900"/>
            <p:cNvCxnSpPr>
              <a:stCxn id="344" idx="0"/>
              <a:endCxn id="349" idx="2"/>
            </p:cNvCxnSpPr>
            <p:nvPr/>
          </p:nvCxnSpPr>
          <p:spPr>
            <a:xfrm flipH="1" flipV="1" rot="5400000">
              <a:off x="3844800" y="2328120"/>
              <a:ext cx="701640" cy="113436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2" name="_s37901"/>
            <p:cNvCxnSpPr>
              <a:stCxn id="347" idx="0"/>
              <a:endCxn id="349" idx="2"/>
            </p:cNvCxnSpPr>
            <p:nvPr/>
          </p:nvCxnSpPr>
          <p:spPr>
            <a:xfrm flipH="1" flipV="1" rot="5400000">
              <a:off x="2707560" y="1191240"/>
              <a:ext cx="701640" cy="340848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37902"/>
            <p:cNvSpPr/>
            <p:nvPr/>
          </p:nvSpPr>
          <p:spPr>
            <a:xfrm>
              <a:off x="3788640" y="114300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Структура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уховно-нравственного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воспитания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37903"/>
            <p:cNvSpPr/>
            <p:nvPr/>
          </p:nvSpPr>
          <p:spPr>
            <a:xfrm>
              <a:off x="38088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ых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чувств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_s37904"/>
            <p:cNvSpPr/>
            <p:nvPr/>
          </p:nvSpPr>
          <p:spPr>
            <a:xfrm>
              <a:off x="265248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го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облик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_s37905"/>
            <p:cNvSpPr/>
            <p:nvPr/>
          </p:nvSpPr>
          <p:spPr>
            <a:xfrm>
              <a:off x="492444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й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озици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_s37906"/>
            <p:cNvSpPr/>
            <p:nvPr/>
          </p:nvSpPr>
          <p:spPr>
            <a:xfrm>
              <a:off x="719640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го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оведения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37907"/>
            <p:cNvSpPr/>
            <p:nvPr/>
          </p:nvSpPr>
          <p:spPr>
            <a:xfrm>
              <a:off x="38088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Совесть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лг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ражданственность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атриотизм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_s37908"/>
            <p:cNvSpPr/>
            <p:nvPr/>
          </p:nvSpPr>
          <p:spPr>
            <a:xfrm>
              <a:off x="265248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Терпение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милосердие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от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_s37909"/>
            <p:cNvSpPr/>
            <p:nvPr/>
          </p:nvSpPr>
          <p:spPr>
            <a:xfrm>
              <a:off x="492444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Различе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а и зла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отовность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к преодолению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испытаний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_s37910"/>
            <p:cNvSpPr/>
            <p:nvPr/>
          </p:nvSpPr>
          <p:spPr>
            <a:xfrm>
              <a:off x="719640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отовность служить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Отечеству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роявле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ой вол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54" name="Diagram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55" name="Diagram 37"/>
          <p:cNvGrpSpPr/>
          <p:nvPr/>
        </p:nvGrpSpPr>
        <p:grpSpPr>
          <a:xfrm>
            <a:off x="184320" y="1066680"/>
            <a:ext cx="8958600" cy="4732200"/>
            <a:chOff x="184320" y="1066680"/>
            <a:chExt cx="8958600" cy="4732200"/>
          </a:xfrm>
        </p:grpSpPr>
        <p:sp>
          <p:nvSpPr>
            <p:cNvPr id="356" name="_s2054"/>
            <p:cNvSpPr/>
            <p:nvPr/>
          </p:nvSpPr>
          <p:spPr>
            <a:xfrm flipH="1" flipV="1">
              <a:off x="2875680" y="2763360"/>
              <a:ext cx="891360" cy="38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_s2055"/>
            <p:cNvSpPr/>
            <p:nvPr/>
          </p:nvSpPr>
          <p:spPr>
            <a:xfrm>
              <a:off x="841680" y="177228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лассные час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_s2056"/>
            <p:cNvSpPr/>
            <p:nvPr/>
          </p:nvSpPr>
          <p:spPr>
            <a:xfrm flipH="1">
              <a:off x="2433960" y="3668040"/>
              <a:ext cx="1113840" cy="13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_s2057"/>
            <p:cNvSpPr/>
            <p:nvPr/>
          </p:nvSpPr>
          <p:spPr>
            <a:xfrm>
              <a:off x="184320" y="3326760"/>
              <a:ext cx="2285640" cy="122436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седы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_s2058"/>
            <p:cNvSpPr/>
            <p:nvPr/>
          </p:nvSpPr>
          <p:spPr>
            <a:xfrm flipH="1">
              <a:off x="3669840" y="4082400"/>
              <a:ext cx="499320" cy="5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_s2059"/>
            <p:cNvSpPr/>
            <p:nvPr/>
          </p:nvSpPr>
          <p:spPr>
            <a:xfrm>
              <a:off x="2039040" y="4572360"/>
              <a:ext cx="228492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ставк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_s2060"/>
            <p:cNvSpPr/>
            <p:nvPr/>
          </p:nvSpPr>
          <p:spPr>
            <a:xfrm>
              <a:off x="5161680" y="4080960"/>
              <a:ext cx="492120" cy="55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_s2061"/>
            <p:cNvSpPr/>
            <p:nvPr/>
          </p:nvSpPr>
          <p:spPr>
            <a:xfrm>
              <a:off x="5006880" y="456840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ект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2062"/>
            <p:cNvSpPr/>
            <p:nvPr/>
          </p:nvSpPr>
          <p:spPr>
            <a:xfrm>
              <a:off x="5776200" y="3664080"/>
              <a:ext cx="1113840" cy="13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2063"/>
            <p:cNvSpPr/>
            <p:nvPr/>
          </p:nvSpPr>
          <p:spPr>
            <a:xfrm>
              <a:off x="6670800" y="3324600"/>
              <a:ext cx="247212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ктакл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2064"/>
            <p:cNvSpPr/>
            <p:nvPr/>
          </p:nvSpPr>
          <p:spPr>
            <a:xfrm flipV="1">
              <a:off x="5553720" y="2765520"/>
              <a:ext cx="894600" cy="3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2065"/>
            <p:cNvSpPr/>
            <p:nvPr/>
          </p:nvSpPr>
          <p:spPr>
            <a:xfrm>
              <a:off x="6196680" y="177048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лассные час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2066"/>
            <p:cNvSpPr/>
            <p:nvPr/>
          </p:nvSpPr>
          <p:spPr>
            <a:xfrm flipV="1">
              <a:off x="4662000" y="2304360"/>
              <a:ext cx="0" cy="6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_s2067"/>
            <p:cNvSpPr/>
            <p:nvPr/>
          </p:nvSpPr>
          <p:spPr>
            <a:xfrm>
              <a:off x="3422520" y="1066680"/>
              <a:ext cx="257580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кскурси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_s2068"/>
            <p:cNvSpPr/>
            <p:nvPr/>
          </p:nvSpPr>
          <p:spPr>
            <a:xfrm>
              <a:off x="3321720" y="2763720"/>
              <a:ext cx="2676960" cy="1592640"/>
            </a:xfrm>
            <a:prstGeom prst="ellipse">
              <a:avLst/>
            </a:prstGeom>
            <a:solidFill>
              <a:srgbClr val="fff1ce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Формы рабо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Прямоугольник 2"/>
          <p:cNvSpPr/>
          <p:nvPr/>
        </p:nvSpPr>
        <p:spPr>
          <a:xfrm>
            <a:off x="1458720" y="3049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теоретических поло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пецифика воспитательных задач детей с ОВЗ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ция недостатков развития с учетом возможностей дет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билита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изац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1343160"/>
            <a:ext cx="8024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В работе описаны  методические условия использования квеста 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в духовно-нравственном воспитании обучающихся в области начального общего образования, в том числе компенсирующего и коррекционно-развивающего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5" name="Organization Chart 6"/>
          <p:cNvGrpSpPr/>
          <p:nvPr/>
        </p:nvGrpSpPr>
        <p:grpSpPr>
          <a:xfrm>
            <a:off x="1143000" y="2514600"/>
            <a:ext cx="8000280" cy="3123000"/>
            <a:chOff x="1143000" y="2514600"/>
            <a:chExt cx="8000280" cy="3123000"/>
          </a:xfrm>
        </p:grpSpPr>
        <p:cxnSp>
          <p:nvCxnSpPr>
            <p:cNvPr id="376" name="_s3076"/>
            <p:cNvCxnSpPr>
              <a:stCxn id="377" idx="0"/>
              <a:endCxn id="378" idx="2"/>
            </p:cNvCxnSpPr>
            <p:nvPr/>
          </p:nvCxnSpPr>
          <p:spPr>
            <a:xfrm flipV="1" rot="16200000">
              <a:off x="6230520" y="2675160"/>
              <a:ext cx="625320" cy="2800800"/>
            </a:xfrm>
            <a:prstGeom prst="bentConnector3">
              <a:avLst>
                <a:gd name="adj1" fmla="val 131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3077"/>
            <p:cNvCxnSpPr>
              <a:stCxn id="380" idx="0"/>
              <a:endCxn id="378" idx="2"/>
            </p:cNvCxnSpPr>
            <p:nvPr/>
          </p:nvCxnSpPr>
          <p:spPr>
            <a:xfrm flipV="1">
              <a:off x="5143320" y="3763080"/>
              <a:ext cx="2880" cy="625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3078"/>
            <p:cNvCxnSpPr>
              <a:stCxn id="382" idx="0"/>
              <a:endCxn id="378" idx="2"/>
            </p:cNvCxnSpPr>
            <p:nvPr/>
          </p:nvCxnSpPr>
          <p:spPr>
            <a:xfrm flipH="1" flipV="1" rot="5400000">
              <a:off x="3430440" y="2675520"/>
              <a:ext cx="625320" cy="2800800"/>
            </a:xfrm>
            <a:prstGeom prst="bentConnector3">
              <a:avLst>
                <a:gd name="adj1" fmla="val 131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8" name="_s3079"/>
            <p:cNvSpPr/>
            <p:nvPr/>
          </p:nvSpPr>
          <p:spPr>
            <a:xfrm>
              <a:off x="3943080" y="25146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ч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спользов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ес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_s3080"/>
            <p:cNvSpPr/>
            <p:nvPr/>
          </p:nvSpPr>
          <p:spPr>
            <a:xfrm>
              <a:off x="114300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заимодействи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трудничество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_s3081"/>
            <p:cNvSpPr/>
            <p:nvPr/>
          </p:nvSpPr>
          <p:spPr>
            <a:xfrm>
              <a:off x="394308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лерантность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_s3082"/>
            <p:cNvSpPr/>
            <p:nvPr/>
          </p:nvSpPr>
          <p:spPr>
            <a:xfrm>
              <a:off x="674316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ммуникативны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Прямоугольник 2"/>
          <p:cNvSpPr/>
          <p:nvPr/>
        </p:nvSpPr>
        <p:spPr>
          <a:xfrm>
            <a:off x="1021680" y="87480"/>
            <a:ext cx="79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методических (практических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ений и выв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0560" y="2286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База практики – 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КОУ «Школа-интернат основного общего образования» Куйбышевского район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9520" y="2438280"/>
            <a:ext cx="4984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ольшакова О. Ю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ий стаж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гория – первая. 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3520" y="2819520"/>
            <a:ext cx="22287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User</cp:lastModifiedBy>
  <dcterms:modified xsi:type="dcterms:W3CDTF">2022-11-17T07:29:1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