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19C1-2EE7-4EA5-8EAC-5CD44D4B8A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7DF8-F424-445A-B5F6-489588404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E9A-AC2F-4968-B71C-F635595E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258E-42CA-41CA-9ADA-DDB9AAD3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548-2471-4DDE-8907-35D01995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06A-4C9A-4310-9F98-67F08DFE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2B39-7992-4440-93E4-5054E411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E7ED-DEFD-4EC4-8908-2957DDA0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2086-EA0B-420A-980B-81809C46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266A-6F2A-4230-909C-DA78921F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08CB-4D15-4D9D-BE7E-2422F1D2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D677-85DD-469C-9971-76FA79BD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58FF-D935-4149-ADDC-A6E09CEB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3E0-2EB7-41CE-87FC-C913AFEE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D0E3-633D-48C1-86D7-46584F6E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F68A-84FC-4421-B21D-BDBB5A51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717F-9D6E-4E25-BBB3-2466B11C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D226-9A0F-4B0C-966B-7FB48E30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834D-1E49-41B1-B02C-4BA14569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574C-94E9-4FA5-969C-DE098071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83BD4-6EFB-4848-B161-FD3612E9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7498F-2BCC-4782-8816-14E73483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7D6F6-4748-47E6-A642-171A333B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641F8-8C95-4376-B576-AF35378D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9C9-5B10-4906-B400-38531C3B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896C-01C5-4A66-B957-4F2C8C7E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66AFA-D870-46A5-9FC2-62BAF263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66153-515B-473B-BE9E-FC2A6AD8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710E-C1B2-4424-B2F1-318828DA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13399-BBB0-4F59-9950-C0815AD0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0974E-6F6E-4293-84E1-1BCE52F5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8E524-F72F-4C4A-8EC2-8A0BDAAF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C21BF-0A7B-4BD5-A162-49C19DC1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CB010-6F1A-4B92-989B-BB4FFC0C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E4D45-B84E-443A-8866-1A048EAF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D92-7F15-4BE0-A4B9-FEBAC924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5872A-B0D8-4000-8159-C9579C52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188D1-0542-4D0F-BC1A-1D4A6212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62157-7E92-4EE8-8038-33F20B19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5A5B6-F906-4820-98A9-EE65256F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6837D-C8C7-4B11-8C7C-14CA3833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2CD4F-716B-4BD5-8505-1B6D5C57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C1E8D-CC0F-4201-B79E-34E257C4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1BBFE-EFDE-4FE2-B546-83B96C4C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939D7-74CF-4BE6-B484-8E221582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54DB2-F3B6-4424-A7BD-03396A1E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BF0-7946-41C7-AE29-C26DDA72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16366-B9C5-438B-BD38-53C362D7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33040-567B-4929-BA2F-93F558E5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58097-799C-40F6-984A-16BFC1D3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60B13-2D81-4CD9-B317-3490876D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EBEBD-6190-418F-9089-200A45A9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8CC02-57B9-46F8-81C2-EAFF7657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867E8-DA2C-4E43-8918-EDCB018B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7E9B4-92A2-47C9-BA19-558FA65B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90420-6C6A-4B63-AADE-F1649199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2F3B4-1EAA-4D7F-B334-619FFDDD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457-0A48-4CDC-9B53-A78B53A4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614D4-5AA4-43A1-B8FB-96A27FC1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350FA-3EC6-460C-A7F4-29CB7173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75559-59AE-4D75-B0A8-E4642BE4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135A2-9644-4E8C-85C6-1FBF45CF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ECFD7-9D91-4286-8368-49F6A134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92C21-C694-4FBA-9059-F7B2D4C3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4F002-4CD3-4A58-A993-B85F9140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1B40F-EF7E-4E42-A3BD-F3061B89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EF1FE-827C-462A-BA7D-F5FB8D48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D64C2-0EFC-43AA-A13A-8C1B5395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F12-0AE6-49A9-A828-7F1D32F3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41311-49D4-4E1F-9470-09FD52A7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89D5C-E09D-4BD1-9BDF-7EEABFBE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D93AE-36CE-42D1-9D60-A86BFE28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63FB9-7437-4F3F-BCBB-10E554D6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670EE-F7F8-463A-BB60-0B0FD8E6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D3B44-3E33-489E-A6E3-785E9E8C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1238F-8AA6-457E-9CC4-DBD96EFC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3F948-FB86-4133-BFC2-E0CE95C5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5AC53-18D5-49D8-98FB-A2FB197C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5B387-9998-4208-BE42-10578B4C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810-1154-4682-A506-963EF1EC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78FCB-D04E-4230-8630-C065ACD3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903CF-92AB-4B73-9802-6DAF4426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ECA64-A0F5-4452-BCDF-956EF9C8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1E58E-0E11-4365-ACD9-2C249E33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6F766-7C0B-4F4F-9868-815C4728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0F4-2824-4960-ABDB-B480E88D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EAE9-E5CB-4F0A-A535-196269010CF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0C01-07B4-40B8-83F5-777A8A5CFD2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DA03-320A-45BA-BD86-BF3127B52B0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2F1B-ACF6-448E-A397-5A54E2D7D93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4CE4-FB82-4DE2-BF0B-81E2FB8BC2B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27C6-644C-4BE4-99E5-3E548E0BD8C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B981-E486-442A-800B-B6DB331ACD5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6240" y="271080"/>
            <a:ext cx="8001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Министерство образования Новосибирской области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Государственное автономное профессиональное 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образовательное учреждение Новосибирской области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«Куйбышевский педагогический колледж»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ОСТЬ 44.02.05 КОРРЕКЦИОННАЯ ПЕДАГОГИКА В НАЧАЛЬНОМ ОБРАЗОВАНИ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ПУСКНАЯ КВАЛИФИКАЦИОННАЯ РАБО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rbel"/>
              </a:rPr>
              <a:t>Квест как форма работы классного руководителя по духовно-нравственному воспитанию обучающихся в области начального общего образования, в том числе компенсирующего и коррекционно-развивающе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: Самойлова Г.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: Порчайкина Г.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уйбышев, 2022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вест – игра «Дорогою добра»</a:t>
            </a:r>
            <a:br>
              <a:rPr sz="3200"/>
            </a:b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(учитель Большакова О. Ю.)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общение представлений обучающихся о доброте как о ценном качестве человека, развитие взаимопомощи, совершенствование навыков доброго общения со сверстниками и взрослы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овательная: раскрыть сущность понятий «добро» и «доброта», «добрые поступки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вающая: развивать навыки сотрудничества, общения в повседневной жизни, развивать у детей логическое мышление, воображение и внима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тельная: воспитывать добрые чувства к окружающим людям, помочь понять детям, что все нуждаются в помощи, доброте и доброжелательном отношен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19520" y="-360"/>
            <a:ext cx="632448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вест-игра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«Символы России»</a:t>
            </a:r>
            <a:br>
              <a:rPr sz="3200"/>
            </a:b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КОУ «Куйбышевская школа-интернат» , 3 кл.)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чувства патриотизма и любви к своей Родин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ции квест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Назови событие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Пойми меня и найди слово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Найди среди флагов разных стран флаг России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Гимн России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Российский герб»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2"/>
          <p:cNvSpPr/>
          <p:nvPr/>
        </p:nvSpPr>
        <p:spPr>
          <a:xfrm>
            <a:off x="1143000" y="228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римеры заданий квеста на воспитание нравственных цен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2280" y="1219320"/>
          <a:ext cx="8782200" cy="5180040"/>
        </p:xfrm>
        <a:graphic>
          <a:graphicData uri="http://schemas.openxmlformats.org/drawingml/2006/table">
            <a:tbl>
              <a:tblPr/>
              <a:tblGrid>
                <a:gridCol w="3962520"/>
                <a:gridCol w="4819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 духовно-нравственного воспит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ление  в активном словаре обучающихся гражданско-патриотической лекси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ить команде записанные на карточке слова, не произнося 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чувства гордости и причастности к судьбе Отече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1596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891a7"/>
                        </a:buClr>
                        <a:buSzPct val="80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исать пропущенные слова в текст гим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1596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891a7"/>
                        </a:buClr>
                        <a:buSzPct val="80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ть по дате важные события в истории Отечест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личной ответственности каждо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 должна надуть воздушный шарик до тех пор, пока он не лопнет. Когда шарик лопнул, команда отгадывает ключ к стан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спользование наглядности во время проведения квеста как важный элемент работы с детьми с ОВЗ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6" name="Рисунок 17" descr="C:\Users\Анна\Desktop\Квест\Гимн.jpg"/>
          <p:cNvPicPr/>
          <p:nvPr/>
        </p:nvPicPr>
        <p:blipFill>
          <a:blip r:embed="rId2"/>
          <a:stretch/>
        </p:blipFill>
        <p:spPr>
          <a:xfrm>
            <a:off x="3124080" y="1447920"/>
            <a:ext cx="2779920" cy="388620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1" descr="https://www.meme-arsenal.com/memes/b28d6e3edd7520c9b05d238fd89e817f.jpg"/>
          <p:cNvPicPr/>
          <p:nvPr/>
        </p:nvPicPr>
        <p:blipFill>
          <a:blip r:embed="rId3"/>
          <a:stretch/>
        </p:blipFill>
        <p:spPr>
          <a:xfrm>
            <a:off x="3886200" y="5105520"/>
            <a:ext cx="2238480" cy="14968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6019920" y="1447920"/>
            <a:ext cx="2790720" cy="304776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13" descr="https://israeliside.com/wp-content/uploads/2015/06/wake-up-france.jpg"/>
          <p:cNvPicPr/>
          <p:nvPr/>
        </p:nvPicPr>
        <p:blipFill>
          <a:blip r:embed="rId5"/>
          <a:srcRect l="6075" t="4171" r="7146" b="4195"/>
          <a:stretch/>
        </p:blipFill>
        <p:spPr>
          <a:xfrm>
            <a:off x="6781680" y="4419720"/>
            <a:ext cx="2038320" cy="13428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0" y="274320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9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Прямоугольник 2"/>
          <p:cNvSpPr/>
          <p:nvPr/>
        </p:nvSpPr>
        <p:spPr>
          <a:xfrm>
            <a:off x="3505320" y="76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ыводы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Духовно-нравственное развитие и воспитание личности - многоплановый процесс, неотделимый от семьи, общества, культуры, страны, эпохи, формирующей образ жизни и сознание челов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уховно-нравственное развитие и воспитание обучающихся -первостепенная задача современной образовательной системы. Содержание духовно-нравственного воспитания определяется в соответствии с базовыми национальными ценностями и зависит от правильно выстроенной работы классного руководителя, от применяемых им методов и прием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вест - наиболее результативен в работе классного руководителя по духовно-нравственному воспитанию обучающихся в области начального общего образования, в том числе компенсирующего и коррекционно-развивающег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вест как внеклассное мероприятие позволяет расширить возможности классного руководителя и повышает мотивацию младших школьников к обучению и взаимодействию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оведенное исследование и выводы позволили составить рекомендации по созданию и использованию квеста в духовно-нравственном воспитании обучающихся в области начального общего образования, в том числе компенсирующего и коррекционно-развивающег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Сертификат о публикаци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Объект</a:t>
            </a:r>
            <a:r>
              <a:rPr b="1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исследования - духовно-нравственное воспитание обучающихся в области начального общего образования, в том числе компенсирующего и коррекционно-развивающего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Предмет</a:t>
            </a:r>
            <a:r>
              <a:rPr b="1" i="1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исследования</a:t>
            </a:r>
            <a:r>
              <a:rPr b="1" i="1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– квест как средство духовно-нравственного воспитания обучающихся в области начального общего образования, в том числе компенсирующего и коррекционнно-развивающег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Arial"/>
                <a:ea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оугольник 1"/>
          <p:cNvSpPr/>
          <p:nvPr/>
        </p:nvSpPr>
        <p:spPr>
          <a:xfrm>
            <a:off x="990720" y="6951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Аппарат исслед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66320" y="22093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990720" y="838080"/>
            <a:ext cx="8153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проанализировать проблемы духовно-нравственного воспитания обучающихся в области начального общего образования, в том числе компенсирующего и коррекционно-развивающего в научной и методической литератур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дать характеристику квест-технологии как одной из форм работы классного руководителя по духовно-нравственному воспитанию обучающихся в области начального общего образования, в том числе компенсирующего и коррекционно-развивающег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обобщить методику использования квеста в духовно-нравственном воспитании обучающихся в области начального общего образования, в том числе компенсирующего и коррекционно-развивающего и составить рекоменд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Прямоугольник 5"/>
          <p:cNvSpPr/>
          <p:nvPr/>
        </p:nvSpPr>
        <p:spPr>
          <a:xfrm>
            <a:off x="9907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Аппарат исслед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Духовно-нравственное воспитание  </a:t>
            </a:r>
            <a:r>
              <a:rPr b="1" lang="en-US" sz="2000" spc="-1" strike="noStrike">
                <a:solidFill>
                  <a:srgbClr val="411a0f"/>
                </a:solidFill>
                <a:latin typeface="Arial"/>
                <a:ea typeface="Arial"/>
              </a:rPr>
              <a:t>- это педагогически организованный процесс усвоения и принятия обучающимся базовых национальных ценностей. </a:t>
            </a:r>
            <a:r>
              <a:rPr b="0" lang="en-US" sz="2000" spc="-1" strike="noStrike">
                <a:solidFill>
                  <a:srgbClr val="411a0f"/>
                </a:solidFill>
                <a:latin typeface="Arial"/>
                <a:ea typeface="Arial"/>
              </a:rPr>
              <a:t>(Данилюк А.Я.)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Нравственность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150c"/>
                </a:solidFill>
                <a:latin typeface="Arial"/>
              </a:rPr>
              <a:t>— </a:t>
            </a:r>
            <a:r>
              <a:rPr b="1" lang="en-US" sz="2000" spc="-1" strike="noStrike">
                <a:solidFill>
                  <a:srgbClr val="36150c"/>
                </a:solidFill>
                <a:latin typeface="Arial"/>
              </a:rPr>
              <a:t>это внутренние, духовные качества, которыми руководствуется человек, этические нормы, правила поведения, определяемые этими качествами. </a:t>
            </a:r>
            <a:r>
              <a:rPr b="0" lang="en-US" sz="2000" spc="-1" strike="noStrike">
                <a:solidFill>
                  <a:srgbClr val="36150c"/>
                </a:solidFill>
                <a:latin typeface="Arial"/>
              </a:rPr>
              <a:t>(Ожегов С.И.)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3164040" y="45720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Структура духовно-нравственного воспитания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80880" y="1143000"/>
            <a:ext cx="8762760" cy="5609160"/>
            <a:chOff x="380880" y="1143000"/>
            <a:chExt cx="8762760" cy="5609160"/>
          </a:xfrm>
        </p:grpSpPr>
        <p:cxnSp>
          <p:nvCxnSpPr>
            <p:cNvPr id="336" name="_s37894"/>
            <p:cNvCxnSpPr>
              <a:stCxn id="337" idx="0"/>
              <a:endCxn id="338" idx="2"/>
            </p:cNvCxnSpPr>
            <p:nvPr/>
          </p:nvCxnSpPr>
          <p:spPr>
            <a:xfrm flipV="1">
              <a:off x="8172360" y="4647960"/>
              <a:ext cx="2520" cy="70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37895"/>
            <p:cNvCxnSpPr>
              <a:stCxn id="340" idx="0"/>
              <a:endCxn id="341" idx="2"/>
            </p:cNvCxnSpPr>
            <p:nvPr/>
          </p:nvCxnSpPr>
          <p:spPr>
            <a:xfrm flipV="1">
              <a:off x="5897880" y="4647960"/>
              <a:ext cx="3240" cy="70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2" name="_s37896"/>
            <p:cNvCxnSpPr>
              <a:stCxn id="343" idx="0"/>
              <a:endCxn id="344" idx="2"/>
            </p:cNvCxnSpPr>
            <p:nvPr/>
          </p:nvCxnSpPr>
          <p:spPr>
            <a:xfrm flipV="1">
              <a:off x="3628440" y="4647960"/>
              <a:ext cx="2520" cy="70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5" name="_s37897"/>
            <p:cNvCxnSpPr>
              <a:stCxn id="346" idx="0"/>
              <a:endCxn id="347" idx="2"/>
            </p:cNvCxnSpPr>
            <p:nvPr/>
          </p:nvCxnSpPr>
          <p:spPr>
            <a:xfrm flipV="1">
              <a:off x="1353960" y="4647960"/>
              <a:ext cx="3240" cy="70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8" name="_s37898"/>
            <p:cNvCxnSpPr>
              <a:stCxn id="338" idx="0"/>
              <a:endCxn id="349" idx="2"/>
            </p:cNvCxnSpPr>
            <p:nvPr/>
          </p:nvCxnSpPr>
          <p:spPr>
            <a:xfrm flipV="1" rot="16200000">
              <a:off x="6116400" y="1189800"/>
              <a:ext cx="701640" cy="3410640"/>
            </a:xfrm>
            <a:prstGeom prst="bentConnector3">
              <a:avLst>
                <a:gd name="adj1" fmla="val 153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0" name="_s37899"/>
            <p:cNvCxnSpPr>
              <a:stCxn id="341" idx="0"/>
              <a:endCxn id="349" idx="2"/>
            </p:cNvCxnSpPr>
            <p:nvPr/>
          </p:nvCxnSpPr>
          <p:spPr>
            <a:xfrm flipV="1" rot="16200000">
              <a:off x="4979160" y="2327040"/>
              <a:ext cx="701640" cy="1136160"/>
            </a:xfrm>
            <a:prstGeom prst="bentConnector3">
              <a:avLst>
                <a:gd name="adj1" fmla="val 153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1" name="_s37900"/>
            <p:cNvCxnSpPr>
              <a:stCxn id="344" idx="0"/>
              <a:endCxn id="349" idx="2"/>
            </p:cNvCxnSpPr>
            <p:nvPr/>
          </p:nvCxnSpPr>
          <p:spPr>
            <a:xfrm flipH="1" flipV="1" rot="5400000">
              <a:off x="3844800" y="2328120"/>
              <a:ext cx="701640" cy="1134360"/>
            </a:xfrm>
            <a:prstGeom prst="bentConnector3">
              <a:avLst>
                <a:gd name="adj1" fmla="val 153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2" name="_s37901"/>
            <p:cNvCxnSpPr>
              <a:stCxn id="347" idx="0"/>
              <a:endCxn id="349" idx="2"/>
            </p:cNvCxnSpPr>
            <p:nvPr/>
          </p:nvCxnSpPr>
          <p:spPr>
            <a:xfrm flipH="1" flipV="1" rot="5400000">
              <a:off x="2707560" y="1191240"/>
              <a:ext cx="701640" cy="3408480"/>
            </a:xfrm>
            <a:prstGeom prst="bentConnector3">
              <a:avLst>
                <a:gd name="adj1" fmla="val 153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9" name="_s37902"/>
            <p:cNvSpPr/>
            <p:nvPr/>
          </p:nvSpPr>
          <p:spPr>
            <a:xfrm>
              <a:off x="3788640" y="114300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Структура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духовно-нравственного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воспитания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_s37903"/>
            <p:cNvSpPr/>
            <p:nvPr/>
          </p:nvSpPr>
          <p:spPr>
            <a:xfrm>
              <a:off x="380880" y="324648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Формирова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нравственных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чувств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_s37904"/>
            <p:cNvSpPr/>
            <p:nvPr/>
          </p:nvSpPr>
          <p:spPr>
            <a:xfrm>
              <a:off x="2652480" y="324648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Формирова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нравственного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облика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_s37905"/>
            <p:cNvSpPr/>
            <p:nvPr/>
          </p:nvSpPr>
          <p:spPr>
            <a:xfrm>
              <a:off x="4924440" y="324648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Формирова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нравственной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позиции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_s37906"/>
            <p:cNvSpPr/>
            <p:nvPr/>
          </p:nvSpPr>
          <p:spPr>
            <a:xfrm>
              <a:off x="7196400" y="324648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Формирова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нравственного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поведения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_s37907"/>
            <p:cNvSpPr/>
            <p:nvPr/>
          </p:nvSpPr>
          <p:spPr>
            <a:xfrm>
              <a:off x="380880" y="534996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Совесть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долг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гражданственность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патриотизм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_s37908"/>
            <p:cNvSpPr/>
            <p:nvPr/>
          </p:nvSpPr>
          <p:spPr>
            <a:xfrm>
              <a:off x="2652480" y="534996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Терпение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милосердие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доброта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_s37909"/>
            <p:cNvSpPr/>
            <p:nvPr/>
          </p:nvSpPr>
          <p:spPr>
            <a:xfrm>
              <a:off x="4924440" y="534996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Различе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добра и зла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Готовность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к преодолению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испытаний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_s37910"/>
            <p:cNvSpPr/>
            <p:nvPr/>
          </p:nvSpPr>
          <p:spPr>
            <a:xfrm>
              <a:off x="7196400" y="534996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Готовность служить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Отечеству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Проявле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доброй воли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54" name="Diagram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355" name="Diagram 37"/>
          <p:cNvGrpSpPr/>
          <p:nvPr/>
        </p:nvGrpSpPr>
        <p:grpSpPr>
          <a:xfrm>
            <a:off x="184320" y="1066680"/>
            <a:ext cx="8958600" cy="4732200"/>
            <a:chOff x="184320" y="1066680"/>
            <a:chExt cx="8958600" cy="4732200"/>
          </a:xfrm>
        </p:grpSpPr>
        <p:sp>
          <p:nvSpPr>
            <p:cNvPr id="356" name="_s2054"/>
            <p:cNvSpPr/>
            <p:nvPr/>
          </p:nvSpPr>
          <p:spPr>
            <a:xfrm flipH="1" flipV="1">
              <a:off x="2875680" y="2763360"/>
              <a:ext cx="891360" cy="38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_s2055"/>
            <p:cNvSpPr/>
            <p:nvPr/>
          </p:nvSpPr>
          <p:spPr>
            <a:xfrm>
              <a:off x="841680" y="1772280"/>
              <a:ext cx="228564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лассные часы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_s2056"/>
            <p:cNvSpPr/>
            <p:nvPr/>
          </p:nvSpPr>
          <p:spPr>
            <a:xfrm flipH="1">
              <a:off x="2433960" y="3668040"/>
              <a:ext cx="1113840" cy="13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_s2057"/>
            <p:cNvSpPr/>
            <p:nvPr/>
          </p:nvSpPr>
          <p:spPr>
            <a:xfrm>
              <a:off x="184320" y="3326760"/>
              <a:ext cx="2285640" cy="122436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еседы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_s2058"/>
            <p:cNvSpPr/>
            <p:nvPr/>
          </p:nvSpPr>
          <p:spPr>
            <a:xfrm flipH="1">
              <a:off x="3669840" y="4082400"/>
              <a:ext cx="499320" cy="55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_s2059"/>
            <p:cNvSpPr/>
            <p:nvPr/>
          </p:nvSpPr>
          <p:spPr>
            <a:xfrm>
              <a:off x="2039040" y="4572360"/>
              <a:ext cx="228492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ыставки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_s2060"/>
            <p:cNvSpPr/>
            <p:nvPr/>
          </p:nvSpPr>
          <p:spPr>
            <a:xfrm>
              <a:off x="5161680" y="4080960"/>
              <a:ext cx="492120" cy="55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_s2061"/>
            <p:cNvSpPr/>
            <p:nvPr/>
          </p:nvSpPr>
          <p:spPr>
            <a:xfrm>
              <a:off x="5006880" y="4568400"/>
              <a:ext cx="228564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екты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_s2062"/>
            <p:cNvSpPr/>
            <p:nvPr/>
          </p:nvSpPr>
          <p:spPr>
            <a:xfrm>
              <a:off x="5776200" y="3664080"/>
              <a:ext cx="1113840" cy="13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_s2063"/>
            <p:cNvSpPr/>
            <p:nvPr/>
          </p:nvSpPr>
          <p:spPr>
            <a:xfrm>
              <a:off x="6670800" y="3324600"/>
              <a:ext cx="247212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ектакли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_s2064"/>
            <p:cNvSpPr/>
            <p:nvPr/>
          </p:nvSpPr>
          <p:spPr>
            <a:xfrm flipV="1">
              <a:off x="5553720" y="2765520"/>
              <a:ext cx="894600" cy="3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_s2065"/>
            <p:cNvSpPr/>
            <p:nvPr/>
          </p:nvSpPr>
          <p:spPr>
            <a:xfrm>
              <a:off x="6196680" y="1770480"/>
              <a:ext cx="228564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лассные часы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_s2066"/>
            <p:cNvSpPr/>
            <p:nvPr/>
          </p:nvSpPr>
          <p:spPr>
            <a:xfrm flipV="1">
              <a:off x="4662000" y="2304360"/>
              <a:ext cx="0" cy="61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_s2067"/>
            <p:cNvSpPr/>
            <p:nvPr/>
          </p:nvSpPr>
          <p:spPr>
            <a:xfrm>
              <a:off x="3422520" y="1066680"/>
              <a:ext cx="257580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кскурсии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_s2068"/>
            <p:cNvSpPr/>
            <p:nvPr/>
          </p:nvSpPr>
          <p:spPr>
            <a:xfrm>
              <a:off x="3321720" y="2763720"/>
              <a:ext cx="2676960" cy="1592640"/>
            </a:xfrm>
            <a:prstGeom prst="ellipse">
              <a:avLst/>
            </a:prstGeom>
            <a:solidFill>
              <a:srgbClr val="fff1ce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Формы работ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Прямоугольник 2"/>
          <p:cNvSpPr/>
          <p:nvPr/>
        </p:nvSpPr>
        <p:spPr>
          <a:xfrm>
            <a:off x="1458720" y="304920"/>
            <a:ext cx="73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Обоснование теоретических полож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Специфика воспитательных задач детей с ОВЗ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рекция недостатков развития с учетом возможностей дете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билитац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изац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1343160"/>
            <a:ext cx="8024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Arial"/>
                <a:ea typeface="Arial"/>
              </a:rPr>
              <a:t>В работе описаны  методические условия использования квеста </a:t>
            </a:r>
            <a:r>
              <a:rPr b="1" lang="ru-RU" sz="2000" spc="-1" strike="noStrike">
                <a:solidFill>
                  <a:srgbClr val="572314"/>
                </a:solidFill>
                <a:latin typeface="Arial"/>
              </a:rPr>
              <a:t>в духовно-нравственном воспитании обучающихся в области начального общего образования, в том числе компенсирующего и коррекционно-развивающего</a:t>
            </a:r>
            <a:r>
              <a:rPr b="1" lang="ru-RU" sz="2000" spc="-1" strike="noStrike">
                <a:solidFill>
                  <a:srgbClr val="572314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75" name="Organization Chart 6"/>
          <p:cNvGrpSpPr/>
          <p:nvPr/>
        </p:nvGrpSpPr>
        <p:grpSpPr>
          <a:xfrm>
            <a:off x="1143000" y="2514600"/>
            <a:ext cx="8000280" cy="3123000"/>
            <a:chOff x="1143000" y="2514600"/>
            <a:chExt cx="8000280" cy="3123000"/>
          </a:xfrm>
        </p:grpSpPr>
        <p:cxnSp>
          <p:nvCxnSpPr>
            <p:cNvPr id="376" name="_s3076"/>
            <p:cNvCxnSpPr>
              <a:stCxn id="377" idx="0"/>
              <a:endCxn id="378" idx="2"/>
            </p:cNvCxnSpPr>
            <p:nvPr/>
          </p:nvCxnSpPr>
          <p:spPr>
            <a:xfrm flipV="1" rot="16200000">
              <a:off x="6230520" y="2675160"/>
              <a:ext cx="625320" cy="2800800"/>
            </a:xfrm>
            <a:prstGeom prst="bentConnector3">
              <a:avLst>
                <a:gd name="adj1" fmla="val 131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9" name="_s3077"/>
            <p:cNvCxnSpPr>
              <a:stCxn id="380" idx="0"/>
              <a:endCxn id="378" idx="2"/>
            </p:cNvCxnSpPr>
            <p:nvPr/>
          </p:nvCxnSpPr>
          <p:spPr>
            <a:xfrm flipV="1">
              <a:off x="5143320" y="3763080"/>
              <a:ext cx="2880" cy="625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1" name="_s3078"/>
            <p:cNvCxnSpPr>
              <a:stCxn id="382" idx="0"/>
              <a:endCxn id="378" idx="2"/>
            </p:cNvCxnSpPr>
            <p:nvPr/>
          </p:nvCxnSpPr>
          <p:spPr>
            <a:xfrm flipH="1" flipV="1" rot="5400000">
              <a:off x="3430440" y="2675520"/>
              <a:ext cx="625320" cy="2800800"/>
            </a:xfrm>
            <a:prstGeom prst="bentConnector3">
              <a:avLst>
                <a:gd name="adj1" fmla="val 131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78" name="_s3079"/>
            <p:cNvSpPr/>
            <p:nvPr/>
          </p:nvSpPr>
          <p:spPr>
            <a:xfrm>
              <a:off x="3943080" y="2514600"/>
              <a:ext cx="2400120" cy="1249200"/>
            </a:xfrm>
            <a:prstGeom prst="roundRect">
              <a:avLst>
                <a:gd name="adj" fmla="val 16667"/>
              </a:avLst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нач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спользова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вес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_s3080"/>
            <p:cNvSpPr/>
            <p:nvPr/>
          </p:nvSpPr>
          <p:spPr>
            <a:xfrm>
              <a:off x="1143000" y="4388400"/>
              <a:ext cx="2400120" cy="1249200"/>
            </a:xfrm>
            <a:prstGeom prst="roundRect">
              <a:avLst>
                <a:gd name="adj" fmla="val 16667"/>
              </a:avLst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заимодействие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трудничество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_s3081"/>
            <p:cNvSpPr/>
            <p:nvPr/>
          </p:nvSpPr>
          <p:spPr>
            <a:xfrm>
              <a:off x="3943080" y="4388400"/>
              <a:ext cx="2400120" cy="1249200"/>
            </a:xfrm>
            <a:prstGeom prst="roundRect">
              <a:avLst>
                <a:gd name="adj" fmla="val 16667"/>
              </a:avLst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лерантность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_s3082"/>
            <p:cNvSpPr/>
            <p:nvPr/>
          </p:nvSpPr>
          <p:spPr>
            <a:xfrm>
              <a:off x="6743160" y="4388400"/>
              <a:ext cx="2400120" cy="1249200"/>
            </a:xfrm>
            <a:prstGeom prst="roundRect">
              <a:avLst>
                <a:gd name="adj" fmla="val 16667"/>
              </a:avLst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ммуникативные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Прямоугольник 2"/>
          <p:cNvSpPr/>
          <p:nvPr/>
        </p:nvSpPr>
        <p:spPr>
          <a:xfrm>
            <a:off x="1021680" y="87480"/>
            <a:ext cx="79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Обоснование методических (практических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положений и выв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0560" y="2286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База практики – 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КОУ «Школа-интернат основного общего образования» Куйбышевского район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9520" y="2438280"/>
            <a:ext cx="49849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ольшакова О. Ю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дагогический стаж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л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тегория – первая. 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2666880" cy="19969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533520" y="2819520"/>
            <a:ext cx="222876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stya</dc:creator>
  <dc:description/>
  <dc:language>en-US</dc:language>
  <cp:lastModifiedBy>User</cp:lastModifiedBy>
  <dcterms:modified xsi:type="dcterms:W3CDTF">2022-11-17T07:29:17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