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AE6-FA0F-40A1-A10A-400BC450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CF0-4827-4B62-B870-F28E95C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911-CFB2-42D8-B166-817EAC5D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A85-84A9-4966-BF6B-2342F2A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A32D-1A0B-4FCA-9D73-82B1245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2E5D-30BA-4AB6-BE9E-FE82E17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B2DD-A26C-41C2-B694-60D1796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535-4FF3-4B31-95F7-BE1F072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92B0-9C22-468D-A344-D626CEB2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E13-AF76-4096-9533-35BA1EC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66E-725B-4478-8036-5F63213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176-EB30-4CF2-85B3-8230DAC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4DB6-4279-44BC-8348-952C339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96B0-4AE9-45F8-9F86-90BAC0ED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901E-91DC-4C50-8816-92D1B2A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E81E-BD7C-4547-A475-3DE13EC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1586-7DE6-49F2-8F52-D23B601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3F4-1B4F-4232-9217-6FD08EE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758-8A48-406C-B949-0E26058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A62-138A-4DD0-BFBC-CED68CC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5E8-7301-45FB-A215-78A1A76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9F5-C571-4959-AE90-0BF57A8B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7FE-A98F-4585-8D5F-A0BA264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7D3-9718-40E6-B35D-4A7472B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776-4429-4783-BEBE-E0A8AFC925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3023-7DC9-49D7-9372-331FDC2149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97144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Влияние режимов резания на   качество  поверхности  при токарной обработке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ведова г.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687"/>
          <p:cNvPicPr/>
          <p:nvPr/>
        </p:nvPicPr>
        <p:blipFill>
          <a:blip r:embed="rId1"/>
          <a:stretch/>
        </p:blipFill>
        <p:spPr>
          <a:xfrm>
            <a:off x="838080" y="22860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580920" y="2057400"/>
            <a:ext cx="4962600" cy="3124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птимальные режимы   обработки от подачи, скорости и глубины  резания  при точ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743200" cy="4429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3352680" y="6858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2349360"/>
          <a:ext cx="3529080" cy="3551400"/>
        </p:xfrm>
        <a:graphic>
          <a:graphicData uri="http://schemas.openxmlformats.org/drawingml/2006/table">
            <a:tbl>
              <a:tblPr/>
              <a:tblGrid>
                <a:gridCol w="696960"/>
                <a:gridCol w="893880"/>
                <a:gridCol w="1058760"/>
                <a:gridCol w="879480"/>
              </a:tblGrid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0" descr="j0234687"/>
          <p:cNvPicPr/>
          <p:nvPr/>
        </p:nvPicPr>
        <p:blipFill>
          <a:blip r:embed="rId1"/>
          <a:stretch/>
        </p:blipFill>
        <p:spPr>
          <a:xfrm>
            <a:off x="250920" y="228600"/>
            <a:ext cx="2797200" cy="202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06" name="Line 32"/>
          <p:cNvSpPr/>
          <p:nvPr/>
        </p:nvSpPr>
        <p:spPr>
          <a:xfrm>
            <a:off x="5219640" y="3068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 flipH="1">
            <a:off x="6372000" y="3068640"/>
            <a:ext cx="114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 flipH="1">
            <a:off x="7236000" y="3141720"/>
            <a:ext cx="342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47984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709440" y="2537280"/>
            <a:ext cx="557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70 м/мин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28 м/мин -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17 м/мин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3708360" y="5805360"/>
            <a:ext cx="54356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1. Зависимость качества поверхности от скорости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4140360" y="1761480"/>
            <a:ext cx="46958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67160" y="313920"/>
            <a:ext cx="49608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637000"/>
          <a:ext cx="3529080" cy="366696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792360"/>
                <a:gridCol w="865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30" descr="j0234687"/>
          <p:cNvPicPr/>
          <p:nvPr/>
        </p:nvPicPr>
        <p:blipFill>
          <a:blip r:embed="rId1"/>
          <a:stretch/>
        </p:blipFill>
        <p:spPr>
          <a:xfrm>
            <a:off x="179280" y="33336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 flipH="1">
            <a:off x="6156000" y="285264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4932360" y="28526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>
            <a:off x="2001600" y="2358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3780000" y="2574720"/>
            <a:ext cx="53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1мм/об 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3 мм /об =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 5 мм/об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H="1">
            <a:off x="7092720" y="29242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4284720" y="5805360"/>
            <a:ext cx="43909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2. Зависимость качества поверхности от скорости по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>
            <a:off x="3995640" y="1851840"/>
            <a:ext cx="48387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43200" y="277560"/>
            <a:ext cx="50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666880"/>
          <a:ext cx="3173400" cy="3641760"/>
        </p:xfrm>
        <a:graphic>
          <a:graphicData uri="http://schemas.openxmlformats.org/drawingml/2006/table">
            <a:tbl>
              <a:tblPr/>
              <a:tblGrid>
                <a:gridCol w="760680"/>
                <a:gridCol w="826920"/>
                <a:gridCol w="887400"/>
                <a:gridCol w="698400"/>
              </a:tblGrid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0" descr="j023468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3581280" y="3672000"/>
            <a:ext cx="5029200" cy="2047680"/>
          </a:xfrm>
          <a:prstGeom prst="rect">
            <a:avLst/>
          </a:prstGeom>
          <a:ln w="0">
            <a:noFill/>
          </a:ln>
        </p:spPr>
      </p:pic>
      <p:sp>
        <p:nvSpPr>
          <p:cNvPr id="129" name="Line 32"/>
          <p:cNvSpPr/>
          <p:nvPr/>
        </p:nvSpPr>
        <p:spPr>
          <a:xfrm>
            <a:off x="5181480" y="29718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6324480" y="297180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7314840" y="29718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3780000" y="2735640"/>
            <a:ext cx="53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5 мм-ступень1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1 мм-ступень2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3 мм-ступень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9036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3995640" y="5734080"/>
            <a:ext cx="4824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3. Зависимость качества поверхности от глубины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3924360" y="1851840"/>
            <a:ext cx="49831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00"/>
                </a:solidFill>
                <a:latin typeface="Times New Roman"/>
              </a:rPr>
              <a:t>Таблица влияния режимов резания на  степень шероховатости обработанной поверхности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197000"/>
          <a:ext cx="8785440" cy="5118120"/>
        </p:xfrm>
        <a:graphic>
          <a:graphicData uri="http://schemas.openxmlformats.org/drawingml/2006/table">
            <a:tbl>
              <a:tblPr/>
              <a:tblGrid>
                <a:gridCol w="812880"/>
                <a:gridCol w="2141640"/>
                <a:gridCol w="2435040"/>
                <a:gridCol w="1625760"/>
                <a:gridCol w="17701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роховат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резания (м/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(мм/о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резания (м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281916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24080" y="1550160"/>
            <a:ext cx="5480280" cy="520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ные  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 уменьшением подачи  до 0,1 мм/об качество обработки заготовки улучшается,  неровностей меньш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увеличение подачи до о,5 мм/об при продольном точении сопровождается ростом высотных параметров шероховатости 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ри повышении скорости резания до 60— 70 м/мин высота неровностей уменьшается, и при скорости 17 м/мин шероховатость поверхности получается наибольш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При повышении глубина  резания от   о,5 до 2мм  степень  шероховатость  поверхности  меняется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Наименее  благоприятные условия обработки при скорости  30 м/мин и ниже, подачах свыше 0, 2мм/об и глубине резания  более 2 мм. При этом величина шероховатости обрабатываемой поверхности заготовки имеет достаточно большую велич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щий вы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проведённых исследований решена важная практическая задача: определения  влияния  режимов резания на  параметры шероховатости поверхности. Выбор режимов резания оказывает существенное влияние на качество обработанной поверх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ое влияние на качество обработки оказывает скорость резания и подача. Полученная зависимость параметров шероховатости  от элементов режима резания будет использоваться в практическ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3124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43400" y="188640"/>
            <a:ext cx="441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09480" y="2818800"/>
            <a:ext cx="8163000" cy="366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ные результаты степенной зависимости параметра шероховатости (Ra)  и режимов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основание  рекомендовать  для практического применения в  токарной  обработк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ыбирать  такие режимы, при которых обеспечивается высокое качество обработки при минимальной ее себестоимости, и создаются безопасные условия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ирать оптимальное сочетание режима обработки для  точения; наибольшую скорость резания, наименьшую подачу и глубину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ациональные режимы резания  справочных таблиц, данные которых определены по формулам теории резания с учетом производствен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3456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07:48Z</dcterms:created>
  <dc:creator>екатерина</dc:creator>
  <dc:description/>
  <dc:language>en-US</dc:language>
  <cp:lastModifiedBy>Галина</cp:lastModifiedBy>
  <dcterms:modified xsi:type="dcterms:W3CDTF">2020-01-23T04:41:2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