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EF9B-891A-400E-BF12-A2E427F1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C696-5B22-417A-BEC5-353ECB75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1397-1F8B-496C-B5C4-48455A44D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A2EA-AC46-4E50-BC46-64B888DEF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3128-0AAD-40F3-A556-3B7F5E32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2C5A-751B-4C1C-AABD-42DB8E10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96AC-538B-4598-A798-3A5A0A90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9138-74D8-4B96-9B84-686AF54F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AFB6-52AF-4FDD-B89C-CEFC1D78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E005-7755-4A20-B42A-27F0A088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DA70-BAAA-4E82-B41F-D09E5AC8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7DBA-D123-4D93-AD4F-6C467D48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8F23-B10C-4D0E-92C2-EA404FB8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DDD3-EF39-45EF-84FC-D497EFCF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1653-E812-4BD5-AEFB-7119CBE5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3F36-93F8-4727-8B9C-50EF478A9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1A4D-7ADC-4122-BDD5-03B21FC2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8B17-B81A-4995-9CC4-0658A813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BFC1-81B8-4B2F-B818-11786A9B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04DF-AB46-4703-A2AA-0F31B94F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4EAA-34F7-4D42-90E4-7C25DFB8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5BCD-AE0C-4EB5-A01C-F31FAEDC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534D-F8F9-4927-A6EC-439D1298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4728-B512-4794-8816-7F2F6263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F7DB-BD78-470D-A6E0-0D034B8BCAE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2790-97C5-4369-9B91-3FC0005637F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142640" y="2971440"/>
            <a:ext cx="7543800" cy="31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«Влияние режимов резания на   качество  поверхности  при токарной обработке»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шведова г.ю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j0234687"/>
          <p:cNvPicPr/>
          <p:nvPr/>
        </p:nvPicPr>
        <p:blipFill>
          <a:blip r:embed="rId1"/>
          <a:stretch/>
        </p:blipFill>
        <p:spPr>
          <a:xfrm>
            <a:off x="838080" y="228600"/>
            <a:ext cx="3886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580920" y="2057400"/>
            <a:ext cx="4962600" cy="31240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снить оптимальные режимы   обработки от подачи, скорости и глубины  резания  при точе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2743200" cy="44290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9"/>
          <p:cNvSpPr/>
          <p:nvPr/>
        </p:nvSpPr>
        <p:spPr>
          <a:xfrm>
            <a:off x="3352680" y="68580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990000"/>
                </a:solidFill>
                <a:uFillTx/>
                <a:latin typeface="Arial"/>
              </a:rPr>
              <a:t>Цель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35280" y="25992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0000"/>
                </a:solidFill>
                <a:latin typeface="Times New Roman"/>
              </a:rPr>
              <a:t>Опытный эксперимент №1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9280" y="2349360"/>
          <a:ext cx="3529080" cy="3551400"/>
        </p:xfrm>
        <a:graphic>
          <a:graphicData uri="http://schemas.openxmlformats.org/drawingml/2006/table">
            <a:tbl>
              <a:tblPr/>
              <a:tblGrid>
                <a:gridCol w="696960"/>
                <a:gridCol w="893880"/>
                <a:gridCol w="1058760"/>
                <a:gridCol w="879480"/>
              </a:tblGrid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ы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\о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\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4" name="Picture 30" descr="j0234687"/>
          <p:cNvPicPr/>
          <p:nvPr/>
        </p:nvPicPr>
        <p:blipFill>
          <a:blip r:embed="rId1"/>
          <a:stretch/>
        </p:blipFill>
        <p:spPr>
          <a:xfrm>
            <a:off x="250920" y="228600"/>
            <a:ext cx="2797200" cy="2021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1" descr="Схема высокоскоростной обработки заготовки"/>
          <p:cNvPicPr/>
          <p:nvPr/>
        </p:nvPicPr>
        <p:blipFill>
          <a:blip r:embed="rId2"/>
          <a:stretch/>
        </p:blipFill>
        <p:spPr>
          <a:xfrm>
            <a:off x="4067280" y="4005360"/>
            <a:ext cx="4162320" cy="1695240"/>
          </a:xfrm>
          <a:prstGeom prst="rect">
            <a:avLst/>
          </a:prstGeom>
          <a:ln w="0">
            <a:noFill/>
          </a:ln>
        </p:spPr>
      </p:pic>
      <p:sp>
        <p:nvSpPr>
          <p:cNvPr id="106" name="Line 32"/>
          <p:cNvSpPr/>
          <p:nvPr/>
        </p:nvSpPr>
        <p:spPr>
          <a:xfrm>
            <a:off x="5219640" y="30686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3"/>
          <p:cNvSpPr/>
          <p:nvPr/>
        </p:nvSpPr>
        <p:spPr>
          <a:xfrm flipH="1">
            <a:off x="6372000" y="3068640"/>
            <a:ext cx="114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4"/>
          <p:cNvSpPr/>
          <p:nvPr/>
        </p:nvSpPr>
        <p:spPr>
          <a:xfrm flipH="1">
            <a:off x="7236000" y="3141720"/>
            <a:ext cx="342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5"/>
          <p:cNvSpPr/>
          <p:nvPr/>
        </p:nvSpPr>
        <p:spPr>
          <a:xfrm>
            <a:off x="4479840" y="2382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6"/>
          <p:cNvSpPr/>
          <p:nvPr/>
        </p:nvSpPr>
        <p:spPr>
          <a:xfrm>
            <a:off x="3709440" y="2537280"/>
            <a:ext cx="557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    </a:t>
            </a:r>
            <a:r>
              <a:rPr b="1" lang="en-US" sz="12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V</a:t>
            </a:r>
            <a:r>
              <a:rPr b="1" lang="ru-RU" sz="12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= 70 м/мин-ступень1</a:t>
            </a:r>
            <a:r>
              <a:rPr b="1" lang="ru-RU" sz="1200" spc="-1" strike="noStrike">
                <a:solidFill>
                  <a:srgbClr val="990000"/>
                </a:solidFill>
                <a:latin typeface="Arial"/>
                <a:ea typeface="Times New Roman"/>
              </a:rPr>
              <a:t>   </a:t>
            </a:r>
            <a:r>
              <a:rPr b="1" lang="en-US" sz="12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V</a:t>
            </a:r>
            <a:r>
              <a:rPr b="1" lang="ru-RU" sz="12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= 28 м/мин -ступень2</a:t>
            </a:r>
            <a:r>
              <a:rPr b="1" lang="ru-RU" sz="1200" spc="-1" strike="noStrike">
                <a:solidFill>
                  <a:srgbClr val="990000"/>
                </a:solidFill>
                <a:latin typeface="Arial"/>
                <a:ea typeface="Times New Roman"/>
              </a:rPr>
              <a:t>   </a:t>
            </a:r>
            <a:r>
              <a:rPr b="1" lang="en-US" sz="12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V</a:t>
            </a:r>
            <a:r>
              <a:rPr b="1" lang="ru-RU" sz="12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= 17 м/мин-ступень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7"/>
          <p:cNvSpPr/>
          <p:nvPr/>
        </p:nvSpPr>
        <p:spPr>
          <a:xfrm>
            <a:off x="0" y="2959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8"/>
          <p:cNvSpPr/>
          <p:nvPr/>
        </p:nvSpPr>
        <p:spPr>
          <a:xfrm>
            <a:off x="3708360" y="5805360"/>
            <a:ext cx="543564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хема№1. Зависимость качества поверхности от скорости рез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9"/>
          <p:cNvSpPr/>
          <p:nvPr/>
        </p:nvSpPr>
        <p:spPr>
          <a:xfrm>
            <a:off x="4140360" y="1761480"/>
            <a:ext cx="469584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ходные переменные значения режима реза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67160" y="313920"/>
            <a:ext cx="4960800" cy="8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0000"/>
                </a:solidFill>
                <a:latin typeface="Times New Roman"/>
              </a:rPr>
              <a:t>Опытный эксперимент №2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79280" y="2637000"/>
          <a:ext cx="3529080" cy="3666960"/>
        </p:xfrm>
        <a:graphic>
          <a:graphicData uri="http://schemas.openxmlformats.org/drawingml/2006/table">
            <a:tbl>
              <a:tblPr/>
              <a:tblGrid>
                <a:gridCol w="936720"/>
                <a:gridCol w="934920"/>
                <a:gridCol w="792360"/>
                <a:gridCol w="86508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ы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\о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\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0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6" name="Picture 30" descr="j0234687"/>
          <p:cNvPicPr/>
          <p:nvPr/>
        </p:nvPicPr>
        <p:blipFill>
          <a:blip r:embed="rId1"/>
          <a:stretch/>
        </p:blipFill>
        <p:spPr>
          <a:xfrm>
            <a:off x="179280" y="333360"/>
            <a:ext cx="2808360" cy="201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1" descr="Схема высокоскоростной обработки заготовки"/>
          <p:cNvPicPr/>
          <p:nvPr/>
        </p:nvPicPr>
        <p:blipFill>
          <a:blip r:embed="rId2"/>
          <a:stretch/>
        </p:blipFill>
        <p:spPr>
          <a:xfrm>
            <a:off x="4067280" y="4005360"/>
            <a:ext cx="4162320" cy="1695240"/>
          </a:xfrm>
          <a:prstGeom prst="rect">
            <a:avLst/>
          </a:prstGeom>
          <a:ln w="0">
            <a:noFill/>
          </a:ln>
        </p:spPr>
      </p:pic>
      <p:sp>
        <p:nvSpPr>
          <p:cNvPr id="118" name="Line 32"/>
          <p:cNvSpPr/>
          <p:nvPr/>
        </p:nvSpPr>
        <p:spPr>
          <a:xfrm flipH="1">
            <a:off x="6156000" y="2852640"/>
            <a:ext cx="6858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3"/>
          <p:cNvSpPr/>
          <p:nvPr/>
        </p:nvSpPr>
        <p:spPr>
          <a:xfrm>
            <a:off x="4932360" y="285264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4"/>
          <p:cNvSpPr/>
          <p:nvPr/>
        </p:nvSpPr>
        <p:spPr>
          <a:xfrm>
            <a:off x="2001600" y="2358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5"/>
          <p:cNvSpPr/>
          <p:nvPr/>
        </p:nvSpPr>
        <p:spPr>
          <a:xfrm>
            <a:off x="3780000" y="2574720"/>
            <a:ext cx="53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s</a:t>
            </a:r>
            <a:r>
              <a:rPr b="1" lang="ru-RU" sz="12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=0,1мм/об -ступень1</a:t>
            </a:r>
            <a:r>
              <a:rPr b="1" lang="ru-RU" sz="1200" spc="-1" strike="noStrike">
                <a:solidFill>
                  <a:srgbClr val="990000"/>
                </a:solidFill>
                <a:latin typeface="Arial"/>
                <a:ea typeface="Times New Roman"/>
              </a:rPr>
              <a:t>   </a:t>
            </a:r>
            <a:r>
              <a:rPr b="1" lang="en-US" sz="12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s</a:t>
            </a:r>
            <a:r>
              <a:rPr b="1" lang="ru-RU" sz="12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=0,3 мм /об =ступень2</a:t>
            </a:r>
            <a:r>
              <a:rPr b="1" lang="ru-RU" sz="1200" spc="-1" strike="noStrike">
                <a:solidFill>
                  <a:srgbClr val="990000"/>
                </a:solidFill>
                <a:latin typeface="Arial"/>
                <a:ea typeface="Times New Roman"/>
              </a:rPr>
              <a:t> </a:t>
            </a:r>
            <a:r>
              <a:rPr b="1" lang="en-US" sz="12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s</a:t>
            </a:r>
            <a:r>
              <a:rPr b="1" lang="ru-RU" sz="12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=0, 5 мм/об-ступень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6"/>
          <p:cNvSpPr/>
          <p:nvPr/>
        </p:nvSpPr>
        <p:spPr>
          <a:xfrm flipH="1">
            <a:off x="7092720" y="2924280"/>
            <a:ext cx="6858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7"/>
          <p:cNvSpPr/>
          <p:nvPr/>
        </p:nvSpPr>
        <p:spPr>
          <a:xfrm>
            <a:off x="4284720" y="5805360"/>
            <a:ext cx="439092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хема№2. Зависимость качества поверхности от скорости по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8"/>
          <p:cNvSpPr/>
          <p:nvPr/>
        </p:nvSpPr>
        <p:spPr>
          <a:xfrm>
            <a:off x="3995640" y="1851840"/>
            <a:ext cx="483876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ходные переменные значения режима реза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43200" y="277560"/>
            <a:ext cx="50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0000"/>
                </a:solidFill>
                <a:latin typeface="Times New Roman"/>
              </a:rPr>
              <a:t>Опытный эксперимент №3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9280" y="2666880"/>
          <a:ext cx="3173400" cy="3641760"/>
        </p:xfrm>
        <a:graphic>
          <a:graphicData uri="http://schemas.openxmlformats.org/drawingml/2006/table">
            <a:tbl>
              <a:tblPr/>
              <a:tblGrid>
                <a:gridCol w="760680"/>
                <a:gridCol w="826920"/>
                <a:gridCol w="887400"/>
                <a:gridCol w="698400"/>
              </a:tblGrid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ы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\о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\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Picture 30" descr="j0234687"/>
          <p:cNvPicPr/>
          <p:nvPr/>
        </p:nvPicPr>
        <p:blipFill>
          <a:blip r:embed="rId1"/>
          <a:stretch/>
        </p:blipFill>
        <p:spPr>
          <a:xfrm>
            <a:off x="250920" y="333360"/>
            <a:ext cx="2592360" cy="1727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1" descr="Схема высокоскоростной обработки заготовки"/>
          <p:cNvPicPr/>
          <p:nvPr/>
        </p:nvPicPr>
        <p:blipFill>
          <a:blip r:embed="rId2"/>
          <a:stretch/>
        </p:blipFill>
        <p:spPr>
          <a:xfrm>
            <a:off x="3581280" y="3672000"/>
            <a:ext cx="5029200" cy="2047680"/>
          </a:xfrm>
          <a:prstGeom prst="rect">
            <a:avLst/>
          </a:prstGeom>
          <a:ln w="0">
            <a:noFill/>
          </a:ln>
        </p:spPr>
      </p:pic>
      <p:sp>
        <p:nvSpPr>
          <p:cNvPr id="129" name="Line 32"/>
          <p:cNvSpPr/>
          <p:nvPr/>
        </p:nvSpPr>
        <p:spPr>
          <a:xfrm>
            <a:off x="5181480" y="2971800"/>
            <a:ext cx="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3"/>
          <p:cNvSpPr/>
          <p:nvPr/>
        </p:nvSpPr>
        <p:spPr>
          <a:xfrm>
            <a:off x="6324480" y="2971800"/>
            <a:ext cx="0" cy="95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4"/>
          <p:cNvSpPr/>
          <p:nvPr/>
        </p:nvSpPr>
        <p:spPr>
          <a:xfrm flipH="1">
            <a:off x="7314840" y="2971800"/>
            <a:ext cx="228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5"/>
          <p:cNvSpPr/>
          <p:nvPr/>
        </p:nvSpPr>
        <p:spPr>
          <a:xfrm>
            <a:off x="0" y="270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6"/>
          <p:cNvSpPr/>
          <p:nvPr/>
        </p:nvSpPr>
        <p:spPr>
          <a:xfrm>
            <a:off x="3780000" y="2735640"/>
            <a:ext cx="53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    </a:t>
            </a:r>
            <a:r>
              <a:rPr b="1" lang="en-US" sz="14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t</a:t>
            </a:r>
            <a:r>
              <a:rPr b="1" lang="ru-RU" sz="14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=0,5 мм-ступень1</a:t>
            </a: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  </a:t>
            </a:r>
            <a:r>
              <a:rPr b="1" lang="en-US" sz="14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t</a:t>
            </a:r>
            <a:r>
              <a:rPr b="1" lang="ru-RU" sz="14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=1 мм-ступень2</a:t>
            </a: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  </a:t>
            </a:r>
            <a:r>
              <a:rPr b="1" lang="en-US" sz="14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t</a:t>
            </a:r>
            <a:r>
              <a:rPr b="1" lang="ru-RU" sz="14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=3 мм-ступень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7"/>
          <p:cNvSpPr/>
          <p:nvPr/>
        </p:nvSpPr>
        <p:spPr>
          <a:xfrm>
            <a:off x="90360" y="329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8"/>
          <p:cNvSpPr/>
          <p:nvPr/>
        </p:nvSpPr>
        <p:spPr>
          <a:xfrm>
            <a:off x="3995640" y="5734080"/>
            <a:ext cx="48243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хема№3. Зависимость качества поверхности от глубины рез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9"/>
          <p:cNvSpPr/>
          <p:nvPr/>
        </p:nvSpPr>
        <p:spPr>
          <a:xfrm>
            <a:off x="3924360" y="1851840"/>
            <a:ext cx="498312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ходные переменные значения режима реза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90000"/>
                </a:solidFill>
                <a:latin typeface="Times New Roman"/>
              </a:rPr>
              <a:t>Таблица влияния режимов резания на  степень шероховатости обработанной поверхности.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9280" y="1197000"/>
          <a:ext cx="8785440" cy="5118120"/>
        </p:xfrm>
        <a:graphic>
          <a:graphicData uri="http://schemas.openxmlformats.org/drawingml/2006/table">
            <a:tbl>
              <a:tblPr/>
              <a:tblGrid>
                <a:gridCol w="812880"/>
                <a:gridCol w="2141640"/>
                <a:gridCol w="2435040"/>
                <a:gridCol w="1625760"/>
                <a:gridCol w="1770120"/>
              </a:tblGrid>
              <a:tr h="98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ыт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раметр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ероховат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к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резания (м/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ча (мм/о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бина резания (мм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Ra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2,5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,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,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Ra</a:t>
                      </a: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 3,2</a:t>
                      </a: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,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,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Ra</a:t>
                      </a: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 6,3</a:t>
                      </a: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,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,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Ra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2,5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,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,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Ra</a:t>
                      </a: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 3,2</a:t>
                      </a: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,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Ra</a:t>
                      </a: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 6,3</a:t>
                      </a: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,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Ra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2,5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,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,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Ra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2,5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,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Ra</a:t>
                      </a: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 3,2</a:t>
                      </a: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,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47960" y="0"/>
            <a:ext cx="281916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0033"/>
                </a:solidFill>
                <a:latin typeface="Times New Roman"/>
              </a:rPr>
              <a:t>ВЫВОДЫ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3124080" y="1550160"/>
            <a:ext cx="5480280" cy="52088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Частные   вывод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С уменьшением подачи  до 0,1 мм/об качество обработки заготовки улучшается,  неровностей меньш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увеличение подачи до о,5 мм/об при продольном точении сопровождается ростом высотных параметров шероховатости  поверх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При повышении скорости резания до 60— 70 м/мин высота неровностей уменьшается, и при скорости 17 м/мин шероховатость поверхности получается наибольш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При повышении глубина  резания от   о,5 до 2мм  степень  шероховатость  поверхности  меняется незначитель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Наименее  благоприятные условия обработки при скорости  30 м/мин и ниже, подачах свыше 0, 2мм/об и глубине резания  более 2 мм. При этом величина шероховатости обрабатываемой поверхности заготовки имеет достаточно большую величин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Общий вывод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результате проведённых исследований решена важная практическая задача: определения  влияния  режимов резания на  параметры шероховатости поверхности. Выбор режимов резания оказывает существенное влияние на качество обработанной поверхно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ное влияние на качество обработки оказывает скорость резания и подача. Полученная зависимость параметров шероховатости  от элементов режима резания будет использоваться в практической деятельно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0" y="228600"/>
            <a:ext cx="312408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343400" y="188640"/>
            <a:ext cx="441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0033"/>
                </a:solidFill>
                <a:latin typeface="Times New Roman"/>
              </a:rPr>
              <a:t>Рекомендац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09480" y="2818800"/>
            <a:ext cx="8163000" cy="36601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ученные результаты степенной зависимости параметра шероховатости (Ra)  и режимов рез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ют основание  рекомендовать  для практического применения в  токарной  обработке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выбирать  такие режимы, при которых обеспечивается высокое качество обработки при минимальной ее себестоимости, и создаются безопасные условия рабо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бирать оптимальное сочетание режима обработки для  точения; наибольшую скорость резания, наименьшую подачу и глубину рез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ть рациональные режимы резания  справочных таблиц, данные которых определены по формулам теории резания с учетом производственного опы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539640" y="0"/>
            <a:ext cx="345600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9:07:48Z</dcterms:created>
  <dc:creator>екатерина</dc:creator>
  <dc:description/>
  <dc:language>en-US</dc:language>
  <cp:lastModifiedBy>Галина</cp:lastModifiedBy>
  <dcterms:modified xsi:type="dcterms:W3CDTF">2020-01-23T04:41:28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