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316-9FEF-461C-A496-40873C90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DDC-258C-4AEE-9B26-50056B2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A0C-8F40-42F1-8C17-54F7379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C43-C5E5-4DE8-837F-8BE15F3D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0935-A2DB-46E8-9735-D1AD5E54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519-709E-41CE-9CA1-1D21B8E9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1D7F-C994-4DD9-A98D-5D3C7DB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791-A8C2-4875-9E8D-ACC4A14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3CE-FA84-49A4-9936-B955A36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9B3A-1CA1-4424-BA49-EE713D5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16E3-9FCC-42B3-BF1D-EF7756C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CF5-FA6B-4261-B292-7A55207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32B-A125-47B1-8E6D-684F8ACB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54E-8479-4D06-AB35-0CF53A8E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33FD-53E8-4313-A247-786F4F86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F31-10FB-488A-B571-235843F9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7B25-6990-49BA-B36F-E882468E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1F1-028E-44AA-BD58-CF2E15EE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0D4-8CA8-4324-931F-E3B6EE3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946-DB46-4B2E-85C9-D7DA199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AFE-8E44-4DFD-A2EF-F79E021C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0E9-795C-4EB7-BDEE-5D4904D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97A-32C3-4C0C-A46E-CFEDB34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E77-A8C0-4ED1-9F8D-AB9FE36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E70-82DE-43E5-82E4-B238DFDD4C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D2C0-F9DE-4C1E-AF19-9E427DD47B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97144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Влияние режимов резания на   качество  поверхности  при токарной обработке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ведова г.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687"/>
          <p:cNvPicPr/>
          <p:nvPr/>
        </p:nvPicPr>
        <p:blipFill>
          <a:blip r:embed="rId1"/>
          <a:stretch/>
        </p:blipFill>
        <p:spPr>
          <a:xfrm>
            <a:off x="838080" y="22860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580920" y="2057400"/>
            <a:ext cx="4962600" cy="3124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птимальные режимы   обработки от подачи, скорости и глубины  резания  при точ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743200" cy="4429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3352680" y="6858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2349360"/>
          <a:ext cx="3529080" cy="3551400"/>
        </p:xfrm>
        <a:graphic>
          <a:graphicData uri="http://schemas.openxmlformats.org/drawingml/2006/table">
            <a:tbl>
              <a:tblPr/>
              <a:tblGrid>
                <a:gridCol w="696960"/>
                <a:gridCol w="893880"/>
                <a:gridCol w="1058760"/>
                <a:gridCol w="879480"/>
              </a:tblGrid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0" descr="j0234687"/>
          <p:cNvPicPr/>
          <p:nvPr/>
        </p:nvPicPr>
        <p:blipFill>
          <a:blip r:embed="rId1"/>
          <a:stretch/>
        </p:blipFill>
        <p:spPr>
          <a:xfrm>
            <a:off x="250920" y="228600"/>
            <a:ext cx="2797200" cy="202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06" name="Line 32"/>
          <p:cNvSpPr/>
          <p:nvPr/>
        </p:nvSpPr>
        <p:spPr>
          <a:xfrm>
            <a:off x="5219640" y="3068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 flipH="1">
            <a:off x="6372000" y="3068640"/>
            <a:ext cx="114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 flipH="1">
            <a:off x="7236000" y="3141720"/>
            <a:ext cx="342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47984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709440" y="2537280"/>
            <a:ext cx="557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 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70 м/мин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28 м/мин -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V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 17 м/мин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3708360" y="5805360"/>
            <a:ext cx="54356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1. Зависимость качества поверхности от скорости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4140360" y="1761480"/>
            <a:ext cx="469584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67160" y="313920"/>
            <a:ext cx="49608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637000"/>
          <a:ext cx="3529080" cy="366696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792360"/>
                <a:gridCol w="865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30" descr="j0234687"/>
          <p:cNvPicPr/>
          <p:nvPr/>
        </p:nvPicPr>
        <p:blipFill>
          <a:blip r:embed="rId1"/>
          <a:stretch/>
        </p:blipFill>
        <p:spPr>
          <a:xfrm>
            <a:off x="179280" y="33336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4067280" y="4005360"/>
            <a:ext cx="4162320" cy="16952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 flipH="1">
            <a:off x="6156000" y="285264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4932360" y="28526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>
            <a:off x="2001600" y="2358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3780000" y="2574720"/>
            <a:ext cx="53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1мм/об -ступень1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 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3 мм /об =ступень2</a:t>
            </a:r>
            <a:r>
              <a:rPr b="1" lang="ru-RU" sz="1200" spc="-1" strike="noStrike">
                <a:solidFill>
                  <a:srgbClr val="99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s</a:t>
            </a:r>
            <a:r>
              <a:rPr b="1" lang="ru-RU" sz="12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 5 мм/об-ступень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H="1">
            <a:off x="7092720" y="292428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4284720" y="5805360"/>
            <a:ext cx="43909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2. Зависимость качества поверхности от скорости по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>
            <a:off x="3995640" y="1851840"/>
            <a:ext cx="48387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43200" y="277560"/>
            <a:ext cx="50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Опытный эксперимент №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666880"/>
          <a:ext cx="3173400" cy="3641760"/>
        </p:xfrm>
        <a:graphic>
          <a:graphicData uri="http://schemas.openxmlformats.org/drawingml/2006/table">
            <a:tbl>
              <a:tblPr/>
              <a:tblGrid>
                <a:gridCol w="760680"/>
                <a:gridCol w="826920"/>
                <a:gridCol w="887400"/>
                <a:gridCol w="698400"/>
              </a:tblGrid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\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\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0" descr="j023468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Схема высокоскоростной обработки заготовки"/>
          <p:cNvPicPr/>
          <p:nvPr/>
        </p:nvPicPr>
        <p:blipFill>
          <a:blip r:embed="rId2"/>
          <a:stretch/>
        </p:blipFill>
        <p:spPr>
          <a:xfrm>
            <a:off x="3581280" y="3672000"/>
            <a:ext cx="5029200" cy="2047680"/>
          </a:xfrm>
          <a:prstGeom prst="rect">
            <a:avLst/>
          </a:prstGeom>
          <a:ln w="0">
            <a:noFill/>
          </a:ln>
        </p:spPr>
      </p:pic>
      <p:sp>
        <p:nvSpPr>
          <p:cNvPr id="129" name="Line 32"/>
          <p:cNvSpPr/>
          <p:nvPr/>
        </p:nvSpPr>
        <p:spPr>
          <a:xfrm>
            <a:off x="5181480" y="29718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6324480" y="297180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7314840" y="29718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3780000" y="2735640"/>
            <a:ext cx="53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0,5 мм-ступень1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1 мм-ступень2</a:t>
            </a: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t</a:t>
            </a:r>
            <a:r>
              <a:rPr b="1" lang="ru-RU" sz="1400" spc="-1" strike="noStrike" u="sng">
                <a:solidFill>
                  <a:srgbClr val="990000"/>
                </a:solidFill>
                <a:uFillTx/>
                <a:latin typeface="Arial"/>
                <a:ea typeface="Times New Roman"/>
              </a:rPr>
              <a:t>=3 мм-ступень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9036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3995640" y="5734080"/>
            <a:ext cx="4824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№3. Зависимость качества поверхности от глубины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3924360" y="1851840"/>
            <a:ext cx="49831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ые переменные значения режима рез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00"/>
                </a:solidFill>
                <a:latin typeface="Times New Roman"/>
              </a:rPr>
              <a:t>Таблица влияния режимов резания на  степень шероховатости обработанной поверхности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197000"/>
          <a:ext cx="8785440" cy="5118120"/>
        </p:xfrm>
        <a:graphic>
          <a:graphicData uri="http://schemas.openxmlformats.org/drawingml/2006/table">
            <a:tbl>
              <a:tblPr/>
              <a:tblGrid>
                <a:gridCol w="812880"/>
                <a:gridCol w="2141640"/>
                <a:gridCol w="2435040"/>
                <a:gridCol w="1625760"/>
                <a:gridCol w="17701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ероховат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резания (м/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(мм/о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резания (м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6,3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2,5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 3,2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281916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24080" y="1550160"/>
            <a:ext cx="5480280" cy="520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ные  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 уменьшением подачи  до 0,1 мм/об качество обработки заготовки улучшается,  неровностей меньш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увеличение подачи до о,5 мм/об при продольном точении сопровождается ростом высотных параметров шероховатости 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ри повышении скорости резания до 60— 70 м/мин высота неровностей уменьшается, и при скорости 17 м/мин шероховатость поверхности получается наибольш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При повышении глубина  резания от   о,5 до 2мм  степень  шероховатость  поверхности  меняется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Наименее  благоприятные условия обработки при скорости  30 м/мин и ниже, подачах свыше 0, 2мм/об и глубине резания  более 2 мм. При этом величина шероховатости обрабатываемой поверхности заготовки имеет достаточно большую велич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щий вы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проведённых исследований решена важная практическая задача: определения  влияния  режимов резания на  параметры шероховатости поверхности. Выбор режимов резания оказывает существенное влияние на качество обработанной поверх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ое влияние на качество обработки оказывает скорость резания и подача. Полученная зависимость параметров шероховатости  от элементов режима резания будет использоваться в практическ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3124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43400" y="188640"/>
            <a:ext cx="441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09480" y="2818800"/>
            <a:ext cx="8163000" cy="366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ные результаты степенной зависимости параметра шероховатости (Ra)  и режимов рез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т основание  рекомендовать  для практического применения в  токарной  обработк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ыбирать  такие режимы, при которых обеспечивается высокое качество обработки при минимальной ее себестоимости, и создаются безопасные условия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ирать оптимальное сочетание режима обработки для  точения; наибольшую скорость резания, наименьшую подачу и глубину ре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ациональные режимы резания  справочных таблиц, данные которых определены по формулам теории резания с учетом производствен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3456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07:48Z</dcterms:created>
  <dc:creator>екатерина</dc:creator>
  <dc:description/>
  <dc:language>en-US</dc:language>
  <cp:lastModifiedBy>Галина</cp:lastModifiedBy>
  <dcterms:modified xsi:type="dcterms:W3CDTF">2020-01-23T04:41:2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