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482-9A31-4E0A-A243-77219B00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EA7-96E3-4C2F-8327-CB8F0DDA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D35-DE29-4C3D-B189-54A95AE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604-26E5-4B79-B304-C5C6ECE6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E6DE-CB17-4078-BE38-C907EB7D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8D4D-BB81-4399-8323-48B4C90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2D6-E406-4E2F-9D18-87C1CDB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405B-718B-4BD0-AC35-F24433F8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8E3-BACF-4D6C-A238-9D63A40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DE0C-9A26-4F03-BBF5-3AEF61EE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1406-23D1-4BBA-90AD-C9EC7C8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384-52B1-4335-886E-9642676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D6E3-55FC-4A88-8178-CD48B13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8914-01EF-4D3D-B2EB-1933624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9CD3-B065-4E26-B0B3-29E3C513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9BE8-B3F2-4B5B-9AF3-2B8A0530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FE3C-D9E5-496C-BC5D-53B5CF6E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6193-32A0-4559-B17A-8A3BC42B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08E7-45C6-4C56-BBBC-F5E09C8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0F2A-D3B5-442F-B9DB-B7FD884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2664-F6E7-48FD-9514-689AE26F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C804-7F3D-4498-840F-C5FE9383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EA2-A6E8-4A13-92FB-DA6DD389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03EC-44D3-4B50-B30E-6E0D312B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2289-2359-4366-9888-424F5BC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A34C-4856-43C3-95BC-791DC34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1416-116E-4BCD-8461-9D13068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42E9-99A1-4798-AC41-387BC39A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4DCE-6919-4382-BC8A-8937B5CA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789F-69F3-480D-B766-5E329C53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669C-6B06-4246-BE5E-8B6529A9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8DD2-4A95-499F-928B-5DD236C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1F52-5B2F-4670-B9F8-47283DDF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516-6550-42AF-B122-E3E96650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50BB-3E32-4D01-A9CC-5ECB381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EDCEE-49D5-4006-A07A-ABDF15A8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F968-183E-4F65-B969-E737AE4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572F-3F72-4CB8-93BB-50056E7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C860-0618-4CBE-BC52-44EAB0B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1171-3994-492C-9E8C-FF5173FB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1EB6-045A-40EF-B6E8-E281F3C1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8814-81BF-49B3-BBFB-6B627FAD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A3AE-8760-4457-82C7-93107BE6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ED2EC-3F2F-4FD9-AEB9-17CDE40B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B9B-DE07-404E-99C6-5556408D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D99CD-B664-488D-BFFA-C8367067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8204-63E4-4026-8883-2D73644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221F-EDC3-4CA3-B751-26FF32B9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600C-0C14-4018-ADFC-60970F0D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67B1-3BE7-482A-B029-EDBB5365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09979-61FA-4688-86E2-1CCD10E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145A-D462-4569-A45D-70FDB7BD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71AED-D770-4308-B842-F5D14E18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43269-841A-4EDD-9E67-29E3AE70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CEFC-1E42-498A-A7B9-FCD28D5C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D78-4F11-48E8-96FF-9AF7480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C35D-4499-4670-AA12-1179FCD3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71711-702C-4893-B197-2D097922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5A71-3EDF-4FD7-9195-F136A591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5AE93-A90E-419A-B80E-D9B30148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D5F8D-0AA1-4B29-90B3-B43B616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F502-55B9-477D-9633-A3A996B5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0960-026E-49EA-8380-8CA71ED0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4726-440B-482D-9EB4-D8928816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543B-236D-44FA-8F64-C33C590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8507-5847-4762-8A10-CEE2830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861-1B29-4178-B1A3-58D91E1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541B-BD6B-444D-92E9-65835DDD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71D80-D5AA-496B-8D6A-09EC492B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2E08D-2494-4ACA-8861-6940D7AD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EE1-191D-4085-B934-91A01DA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F29-2E2D-45EA-BF0E-DBCF319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BB03-B1FA-4DCA-AF77-1FB4688A196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FF9D-A9D9-4A1F-91BE-437B8CD4FB0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9E1-7A11-4DA8-98E5-EB7D47E234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80A5-B006-4F85-BF0F-69596B4EA0C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F001-7E01-470C-B943-29278149758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8952-06DA-4968-84F5-9132B5C4274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Классификация опасных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 и вредных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производственных 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факторов и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редства защиты 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работающих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Прямоугольник 1"/>
          <p:cNvSpPr/>
          <p:nvPr/>
        </p:nvSpPr>
        <p:spPr>
          <a:xfrm>
            <a:off x="4038480" y="53341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a5010"/>
                </a:solidFill>
                <a:latin typeface="Times New Roman"/>
              </a:rPr>
              <a:t>Выполнил: Шведова Г.Ю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a5010"/>
                </a:solidFill>
                <a:latin typeface="Times New Roman"/>
              </a:rPr>
              <a:t>преподаватель спец. дисцип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6333480" y="3049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5010"/>
                </a:solidFill>
                <a:latin typeface="Times New Roman"/>
              </a:rPr>
              <a:t>Охран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79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По физиологическому воздействию на организ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вредные вещества подразделяются на четыре основные групп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раздражающ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действуют на поверхностные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кани дыхательного тракта и слизистые оболочки (аммиак, хлор, сернистый газ, ацетон, озон, пары азотной и серной кислот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удушающ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нарушают процесс усвоения кислорода тканями (окись углерода, сероводород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аркотическ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действуют как наркотики (азот под давлением, трихлорэтилен, четыреххлористый углерод, ацетилен, бензин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оматическ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вызывают нарушение деятельности всего организма или его отдельных органов и систем (свинец, ртуть, бензол, олово, марганец, фосфор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ействие токсичных веществ может проявляться сразу (острое отравление) или через определенный, иногда длительный, промежуток времени (профессиональное заболевание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сновными мерами предупреждения воздействия вредных веществ на работающих, выполняющих сварочные работы, и окружающих являются: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спользование вентиляции, средств индивидуальной защиты, режимов труда и льго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ледует зна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полняя сварочные работы, следует знать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уществует предельно допустимый уровень (ПДУ)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редного производственного факто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Предельно допустимый уровень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(ПДУ) вредного производственного фактора — уровень, воздействие которого при работе установленной продолжительности (но не более 40 часов в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делю) в течение всего трудового стажа не приводит к травме, заболеванию или отклонению в состоянии здоровья, как в процессе работы, так и в отдаленные сроки жизни настоящего и последующего поколени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уществуют установленные оптимальные и допустимые нормы температуры, в зависимости от которых определяются категории рабо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286000"/>
          <a:ext cx="8229600" cy="384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рабо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ы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—25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—24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—20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—18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тяжелых работ скорость движения воздуха в теплый период установлена — 0,4 м/сек для легких работ — 0,1 м/сек.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всех видов работ и периодов года оптимальная относительная влажность должна составлять 40—60%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нсивность теплового облучения при работе с открытым источником нагрева (сварочное пламя, нагретый металл и др.) не должна превышать 140 Вт/м2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Администрация предприятия обязана обеспечить контроль уровней опасных и вредных производственных факторов на рабочих местах, организовывать периодические медосмотры сварщи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защиты работающих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работающих должны обеспечивать предотвращение или уменьшение действия опасных и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редных производственных фактор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зависимости от характера их применения средства защиты подразделяются н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редства коллективной защиты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редства индивидуальной защиты (СИЗ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коллективной защи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 выполнении сварочных работ необходимо обеспечивать в производственных помещениях защиту не только сварщиков, выполняющих сварочные работы, но и других людей, находящихся в этих помещениях, предусматривая следующие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меры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нормализации воздушной среды в производственных помещениях обеспечивается вентиляция, очистка воздуха, кондиционирова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контроля над выделением вредных и опасных веществ в рабочей зоне и производственных помещениях устанавливаются устройства автоматического контроля и сигнализация достижения заданного уровня выделения вредных и опасных вещест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защиты производственного персонала от воздействия теплового, светового и других излучений, от попадания брызг и возможного соприкосновения с разогретыми при сварке поверхностями свариваемых изделий устанавливают металлические экраны (кабины), ширмы и т. п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защиты от шумовых нагрузок при сварке, как правило, изолируют место проведения работ звукопоглощающими экранами, потолками или выполняют работы в специальных звуконепроницаемых камер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цехах, где осуществляются сварочные работы, должны быть вывешены знаки безопаснос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«Осторожно! Идут сварочные работы!»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«Берегись! Открытое пламя!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индивидуальной защи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дства индивидуальной защиты (СИЗ) должны обеспечить защиту от воздействия вредных и опасных факто-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в при выполнении производственных рабо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К индивидуальным средствам защиты относятс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олирующие костюмы(куртка, брюки, комбинезон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рганов дыхания (респираторы, противогазы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ног (сапоги, ботинки, полуботинки, галош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рук (рукавицы, перчатки, нарукавни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головы (каски, шлемы, шапки, береты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лица (щитки защитные, мас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глаз (очки защитные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рганов слуха (противошумные вкладыши, противошумные наушни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т падения при выполнении сварочных  работ на значительной высо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редный производственный фактор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фактор среды и трудового процесса, который может вызвать профессиональную патологию или стойкое снижение работоспособности, повысить частоту соматических и инфекционных заболеваний, привести к нарушению здоровья потомств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пасный производственный фактор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фактор среды и трудового процесса, который может быть причиной острого заболевания или внезапного ухудшения здоровья, смер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варщик должен знать, что средства индивидуальной защиты (специальная одежда, обувь и др.) при выполнении им сварочных работ выдаются ему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ЕСПЛАТ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рядок обеспечения спецодеждой и другими СИЗ, порядок их выдачи, хранения, пользования, ремонта и замены определяютс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НСТРУКЦИ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ыдача спецодежды и СИЗ записывается в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личную карточку сварщи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ача взамен специальной одежды, обуви и др. СИЗ материалов для их изготовления или денежных сумм для их приобретения не разрешается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о время работы сварщики ОБЯЗАНЫ пользоваться выданной им спецодеждой, специальной обувью и другими СИЗ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еспечение необходимыми средствами индивидуальной защиты производится с учетом конкретных условий выполнения сварочных работ и видов обрабатываемых (свариваемых) материал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Контрольные вопро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ой производственный фактор может вызвать профессиональную патологию, временное или стойкое снижение работоспособности, повысить частоту соматических заболеваний, привести к нарушению здоровья потомст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редный факто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асный факто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85440" y="137160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 какому классу опасности относятся чрезвычайно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пасные вещества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1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2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3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3520" y="1393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На сколько групп подразделяются опасные и вредные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оизводственные факторы по природе действия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Тр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Четыр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ят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160" y="106668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ие вредные вещества нарушают процесс усвоения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ислород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ркотическ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матическ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душающ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1218960"/>
            <a:ext cx="3886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.Что такое предельно допустимый уровень вредного фактора производств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)Уровень воздействия шума, вибрации, излучения и т. д., который не приводит к заболеванию в процессе трудового стажа и в более отдаленное врем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)Уровень жидкости в сосудах с вредными веществами, которые могут повлиять на здоровье работающ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6.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едства защиты работающих подразделяются на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щие, индивидуальные и местные средства защиты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едства коллективной защиты и средства индивидуальной защи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114800" y="685800"/>
            <a:ext cx="4572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7. В каких случаях применяются средства индивидуальной защиты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)Всегда, на любом рабочем мес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)Когда не представляется возможным предупредить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пасность травм, отравлений и профзаболеваний с помощью средств коллективной защи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)Когда безопасность работ не может быть обеспечена за счет санитарно-технических мероприятий, улучшения технологии, применения средств механизации и автомат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600200"/>
            <a:ext cx="35812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8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ми индивидуальной защиты обеспечиваю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се работни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ботники, выполняющие сварочные работ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038120" y="1600200"/>
            <a:ext cx="32590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9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индивидуальной защит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обретаются сварщиком личн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даются ему бесплатн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купаются или изготавливаются сварщиком на выдаваемые для этих целей администрацией сред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 природе действия следует различать четыре основных группы, на которые подразделяются опасные и вредные производственные фактор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rcRect l="0" t="22976" r="0" b="0"/>
          <a:stretch/>
        </p:blipFill>
        <p:spPr>
          <a:xfrm>
            <a:off x="609480" y="3352680"/>
            <a:ext cx="793116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Физ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К физическим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асным и вредным производственным факторам относятся следующи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вижущиеся машины и механизмы, передвигающиеся изделия и заготовки, материалы и т. п.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ная или пониженная температура рабочих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ерхностей, влажность воздуха, повышенное или пониженное давление в рабочей зоне или его резкое изменени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ный уровень вибрации, излучений, ультразвука, шума и инфразвуковых колебаний 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 т. 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Хим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Химические факторы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личаю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воздействия на организм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челове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токсичные, раздражающие, сенсибилизирующие, канцерогенные, мутагенные, влияющие на репродуктивную функцию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 пути проникновения в организм челове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через органы дыхания, желудочно-кишечный тракт, кожные покровы и слизистые оболоч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Биолог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Биологические фактор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ключают следующие биологические объект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атогенные микроорганизмы (бактерии, вирусы, грибки) и продукты их жизне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икроорганизмы (растения, животные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сихофизиолог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сихофизиологические фактор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характеру действия подразделяются на следующие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зические перегрузки (статические и динамические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рвно-психические (умственное переутомление, монотонность труда, эмоциональные перегрузки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 степени воздействия на организм человека вредные вещества подразделяются на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четыр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ласса опаснос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резвычайно 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соко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меренно 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лоопасны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несение того или иного вещества к определенному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лассу опасности осуществляется по целому ряду признаков, основным из которых является предельно допустимая концентрация (ПДК) вредного вещества в воздухе рабочей зоны (в мг/м3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редельно допустимая концентрация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рабочей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оне — это такая концентрация, которая при ежедневном воздействии в течение 8 часов на протяжении всего стажа или в отдаленные сроки жизни не может вызвать заболеваний или отклонений в состоянии здоровь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Нормы ПДК и  класс опасности по значениям ПДК.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447920"/>
          <a:ext cx="8229600" cy="4022640"/>
        </p:xfrm>
        <a:graphic>
          <a:graphicData uri="http://schemas.openxmlformats.org/drawingml/2006/table">
            <a:tbl>
              <a:tblPr/>
              <a:tblGrid>
                <a:gridCol w="4338720"/>
                <a:gridCol w="973080"/>
                <a:gridCol w="973080"/>
                <a:gridCol w="971640"/>
                <a:gridCol w="973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для класса опас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ельно-допустима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 вредных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 в воздухе рабочей зоны производственных    помещений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ДК Р. 3., мг/м3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-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-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Text Box 119"/>
          <p:cNvSpPr/>
          <p:nvPr/>
        </p:nvSpPr>
        <p:spPr>
          <a:xfrm>
            <a:off x="762120" y="5486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проведении сварочных работ обязательным является организация контроля за содержанием веществ в рабоче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8-03T14:04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