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FAE-3F09-4DD1-8296-ABC1C81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DB3-110F-43BB-A867-2818A1D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34B-073B-4BFE-A638-0C049060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C05-6904-4BB4-B2FD-C6E71B83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601D-882E-4BC7-9D96-22535350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4695-299D-42D2-9A9F-BD5A5693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B209-73DD-45B4-BDBF-75AE660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E17-858D-482E-8D47-E1B0E05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E34-861D-4588-B21E-A8200CA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CA65-7304-4E00-B523-F2D01098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443-FF7D-457C-AB95-1F2AE8A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14D-55F6-49FB-AB47-5C097E8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96A-DF99-4E4E-815D-C7E5873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D98-BC31-417B-BEC8-29AA7E8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03E-5714-4BCE-9648-05C039A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D26E-442D-4DF2-A417-30475C8B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564E-5EE1-406F-B282-93CF2819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B984-2713-463E-BC39-BEC097C1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11E2-5537-4C9F-81A6-28EC1B5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0DFE-7908-409A-A9E5-CA8A07D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BDB7-A5EB-4B10-9599-8FB93800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12E3-8BF2-4890-8F7D-EB7A6AFB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015-30AB-447F-9013-1743BDCF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DBB8-6D82-4DA0-8402-8232F36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900D-E60B-49DC-A610-BFE5CAE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0D8D-4FFA-4EB2-826C-5B9761D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F039-3305-4602-A521-0BD9652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9854-2A3E-4BA1-BCF1-2F4E694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E5BC-7ECF-41E3-9FE2-8ACE3DD3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D84E-C462-4A3A-80B8-1FFDB38F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4958-0EBE-406A-9B19-4C8B9860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A7B6-2318-40BC-8BC9-391A915B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DA0F-5398-4F78-B2FB-7878B8D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F0A-8949-4F0B-845A-E23660E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4D9D-663B-40B6-A9DB-71B1210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9B03-248F-432C-9AA7-E0B6E59C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F0DD-496A-41AD-966A-CEDE0D7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C1DA-8642-415E-8C93-72C1056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D791-F209-4296-AB01-7DC5654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9FAB-E90F-42AE-B6B7-B6A9C63C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07597-B460-4A5F-955D-2A2C308E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097D-6A11-4E6F-9F67-95C7B440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92A6-171A-4EF7-9F07-98F2FFE4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B0DF-3F80-45AD-BC28-4881E87A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EB6-55AD-46BD-87E7-08B9989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E7E7-2F26-4A0B-B155-CE7709C6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AB26-C525-4583-BF4B-5D95744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36151-FEAA-4F92-9F54-185D61C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AF31-9AD4-4E29-B2E1-8853EF3D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D7EF-CC39-47F3-AE68-27442DE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5BA81-FB5A-49BA-905F-2304AC7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EA12-2BF4-4C59-B684-4D7B479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544F-F6B3-4A07-BD3D-4DE94844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178D-F8A7-428F-B588-C6427E51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CC5D-B6D7-48A3-87F0-C85391A2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3BD-68D2-4FE6-B590-C18BDA1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0643-A497-4AED-888B-20E3022B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2C2E-F4ED-459A-BC3F-1DAFAF7B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4D32-251C-4473-8D05-3ECB6F71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5D09-F982-4A68-9CB5-9667FE4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56FD-F065-4F32-8C7C-B0203E32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177C-3E70-4F52-B4DC-EBA70C2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1AC8F-C40B-4CCC-A8BB-7B25F61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16A1-6B1D-4650-AB71-2C6AFB9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DD35-2D23-4B9D-97CF-11FE186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2528-8FB5-44EA-95E0-72DF2C3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448-BFC9-4451-9A08-C2341FE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E627-A450-4C64-BFAC-8E4708AE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2CE8-3C9D-4B51-AE18-3ADADAED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0B96-981C-4352-89AC-EF6122CC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4D1-823E-4F75-8752-023D6B0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5B2-91DF-4C2B-9F7C-2DF3FE3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146C-4579-459D-B5E2-D3219823BCA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51E-D52B-4479-A848-D34E759F6E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58A-99CB-418C-B4E4-04F0FC4A73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AE9-947E-4229-83BC-CFEADD1B976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5C6D-6086-4691-ACA1-661BDBECDE7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EE1-5A74-4963-8D10-0C42B2B0BA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Классификация опас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 и вредных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производственных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факторов и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редства защиты </a:t>
            </a:r>
            <a:br>
              <a:rPr sz="4000"/>
            </a:b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работающих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4038480" y="5334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Выполнил: Шведова Г.Ю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a5010"/>
                </a:solidFill>
                <a:latin typeface="Times New Roman"/>
              </a:rPr>
              <a:t>преподаватель спец.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6333480" y="3049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5010"/>
                </a:solidFill>
                <a:latin typeface="Times New Roman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По физиологическому воздействию на организ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вредные вещества подразделяются на четыре основные групп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здраж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на поверхностные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кани дыхательного тракта и слизистые оболочки (аммиак, хлор, сернистый газ, ацетон, озон, пары азотной и серной кислот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душающ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нарушают процесс усвоения кислорода тканями (окись углерода, сероводород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арко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действуют как наркотики (азот под давлением, трихлорэтилен, четыреххлористый углерод, ацетилен, бензин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матически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вызывают нарушение деятельности всего организма или его отдельных органов и систем (свинец, ртуть, бензол, олово, марганец, фосфор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ействие токсичных веществ может проявляться сразу (острое отравление) или через определенный, иногда длительный, промежуток времени (профессиональное заболевание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сновными мерами предупреждения воздействия вредных веществ на работающих, выполняющих сварочные работы, и окружающих являются: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спользование вентиляции, средств индивидуальной защиты, режимов труда и льг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ледует зна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полняя сварочные работы, следует знать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уществует предельно допустимый уровень (ПДУ)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редного производственного факто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Предельно допустимый уровень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(ПДУ) вредного производственного фактора — уровень, воздействие которого при работе установленной продолжительности (но не более 40 часов в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делю) в течение всего трудового стажа не приводит к травме, заболеванию или отклонению в состоянии здоровья, как в процессе работы, так и в отдаленные сроки жизни настоящего и последующего поколен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уществуют установленные оптимальные и допустимые нормы температуры, в зависимости от которых определяются категории рабо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286000"/>
          <a:ext cx="8229600" cy="384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рабо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ы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—25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—24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—20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—18°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тяжелых работ скорость движения воздуха в теплый период установлена — 0,4 м/сек для легких работ — 0,1 м/сек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всех видов работ и периодов года оптимальная относительная влажность должна составлять 40—60%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нсивность теплового облучения при работе с открытым источником нагрева (сварочное пламя, нагретый металл и др.) не должна превышать 140 Вт/м2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Администрация предприятия обязана обеспечить контроль уровней опасных и вредных производственных факторов на рабочих местах, организовывать периодические медосмотры сварщи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защиты работающих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должны обеспечивать предотвращение или уменьшение действия опасных и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х производственных фактор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зависимости от характера их применения средства защиты подразделяются н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коллективной защит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редства индивидуальной защиты (СИЗ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коллектив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 выполнении сварочных работ необходимо обеспечивать в производственных помещениях защиту не только сварщиков, выполняющих сварочные работы, но и других людей, находящихся в этих помещениях, предусматривая следующие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меры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нормализации воздушной среды в производственных помещениях обеспечивается вентиляция, очистка воздуха, кондиционирова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контроля над выделением вредных и опасных веществ в рабочей зоне и производственных помещениях устанавливаются устройства автоматического контроля и сигнализация достижения заданного уровня выделения вредных и опасных вещест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производственного персонала от воздействия теплового, светового и других излучений, от попадания брызг и возможного соприкосновения с разогретыми при сварке поверхностями свариваемых изделий устанавливают металлические экраны (кабины), ширмы и т. 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защиты от шумовых нагрузок при сварке, как правило, изолируют место проведения работ звукопоглощающими экранами, потолками или выполняют работы в специальных звуконепроницаемых камер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цехах, где осуществляются сварочные работы, должны быть вывешены знаки без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Осторожно! Идут сварочные работы!»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«Берегись! Открытое пламя!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Средства индивидуальной защи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 (СИЗ) должны обеспечить защиту от воздействия вредных и опасных факто-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в при выполнении производственных рабо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К индивидуальным средствам защиты относятс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олирующие костюмы(куртка, брюки, комбинезон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дыхания (респираторы, противогаз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ног (сапоги, ботинки, полуботинки, галош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рук (рукавицы, перчатки, нарукав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оловы (каски, шлемы, шапки, береты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лица (щитки защитные, мас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глаз (очки защитные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рганов слуха (противошумные вкладыши, противошумные наушник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защиты от падения при выполнении сварочных  работ на значительной высо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ред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вызвать профессиональную патологию или стойкое снижение работоспособности, повысить частоту соматических и инфекционных заболеваний, привести к нарушению здоровья потомст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пасный производственный фактор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фактор среды и трудового процесса, который может быть причиной острого заболевания или внезапного ухудшения здоровья, смер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арщик должен знать, что средства индивидуальной защиты (специальная одежда, обувь и др.) при выполнении им сварочных работ выдаются ему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ЕСПЛАТ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рядок обеспечения спецодеждой и другими СИЗ, порядок их выдачи, хранения, пользования, ремонта и замены определяютс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НСТРУКЦИЕ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ыдача спецодежды и СИЗ записывается в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личную карточку сварщи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ача взамен специальной одежды, обуви и др. СИЗ материалов для их изготовления или денежных сумм для их приобретения не разрешается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о время работы сварщики ОБЯЗАНЫ пользоваться выданной им спецодеждой, специальной обувью и другими СИЗ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еспечение необходимыми средствами индивидуальной защиты производится с учетом конкретных условий выполнения сварочных работ и видов обрабатываемых (свариваемых) материа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онтрольные вопрос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ой производственный фактор может вызвать профессиональную патологию, временное или стойкое снижение работоспособности, повысить частоту соматических заболеваний, привести к нарушению здоровья потомст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ред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й факто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5440" y="137160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 какому классу опасности относятся чрезвычайно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пасные вещества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1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2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-м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3520" y="1393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На сколько групп подразделяются опасные и вредные</a:t>
            </a: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изводственные факторы по природе действия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Тр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Четыр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я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160" y="106668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акие вредные вещества нарушают процесс усвоения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ислород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рко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матическ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душающ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1218960"/>
            <a:ext cx="3886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Что такое предельно допустимый уровень вредного фактора производств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Уровень воздействия шума, вибрации, излучения и т. д., который не приводит к заболеванию в процессе трудового стажа и в более отдаленно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Уровень жидкости в сосудах с вредными веществами, которые могут повлиять на здоровье работающ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6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защиты работающих подразделяются на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щие, индивидуальные и местные средства защиты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редства коллективной защиты и средства индивидуальной защи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114800" y="685800"/>
            <a:ext cx="4572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7. В каких случаях применяются средства индивидуальной защиты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)Всегда, на любом рабочем мес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)Когда не представляется возможным предупредить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пасность травм, отравлений и профзаболеваний с помощью средств коллективной защи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)Когда безопасность работ не может быть обеспечена за счет санитарно-технических мероприятий, улучшения технологии, применения средств механизации и автомат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600200"/>
            <a:ext cx="35812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8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ми индивидуальной защиты обеспечив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работни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ботники, выполняющие сварочные рабо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38120" y="1600200"/>
            <a:ext cx="32590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9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редства индивидуальной защит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обретаются сварщиком лич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б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даются ему бесплатн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купаются или изготавливаются сварщиком на выдаваемые для этих целей администрацией сред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 природе действия следует различать четыре основных группы, на которые подразделяются опасные и вредные производственные факто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rcRect l="0" t="22976" r="0" b="0"/>
          <a:stretch/>
        </p:blipFill>
        <p:spPr>
          <a:xfrm>
            <a:off x="609480" y="3352680"/>
            <a:ext cx="793116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Физ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К физическим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асным и вредным производственным факторам относятся следующи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вижущиеся машины и механизмы, передвигающиеся изделия и заготовки, материалы и т. п.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ая или пониженная температура рабочих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ерхностей, влажность воздуха, повышенное или пониженное давление в рабочей зоне или его резкое изменен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ный уровень вибрации, излучений, ультразвука, шума и инфразвуковых колебаний 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т. 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Хим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Химические факторы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личаю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воздействия на организм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токсичные, раздражающие, сенсибилизирующие, канцерогенные, мутагенные, влияющие на репродуктивную функцию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 пути проникновения в организм челове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через органы дыхания, желудочно-кишечный тракт, кожные покровы и слизистые оболоч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Б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Б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лючают следующие биологические объект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тогенные микроорганизмы (бактерии, вирусы, грибки) и продукты их жизне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икроорганизмы (растения, животные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сихофизиологическ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сихофизиологические фактор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характеру действия подразделяются на следующие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зические перегрузки (статические и динамические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рвно-психические (умственное переутомление, монотонность труда, эмоциональные перегрузки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 степени воздействия на организм человека вредные вещества подразделяются на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четыре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а опаснос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резвычай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соко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меренно опасны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лоопасн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несение того или иного вещества к определенному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лассу опасности осуществляется по целому ряду признаков, основным из которых является предельно допустимая концентрация (ПДК) вредного вещества в воздухе рабочей зоны (в мг/м3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едельно допустимая концентрация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рабочей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оне — это такая концентрация, которая при ежедневном воздействии в течение 8 часов на протяжении всего стажа или в отдаленные сроки жизни не может вызвать заболеваний или отклонений в состоянии здоровь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Нормы ПДК и  класс опасности по значениям ПДК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447920"/>
          <a:ext cx="8229600" cy="4022640"/>
        </p:xfrm>
        <a:graphic>
          <a:graphicData uri="http://schemas.openxmlformats.org/drawingml/2006/table">
            <a:tbl>
              <a:tblPr/>
              <a:tblGrid>
                <a:gridCol w="4338720"/>
                <a:gridCol w="973080"/>
                <a:gridCol w="973080"/>
                <a:gridCol w="971640"/>
                <a:gridCol w="9730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для класса опас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ельно-допустима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 вредных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 в воздухе рабочей зоны производственных    помещений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ДК Р. 3., мг/м3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-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-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Text Box 119"/>
          <p:cNvSpPr/>
          <p:nvPr/>
        </p:nvSpPr>
        <p:spPr>
          <a:xfrm>
            <a:off x="762120" y="54864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проведении сварочных работ обязательным является организация контроля за содержанием веществ в рабоче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8-03T14:04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