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0D0-586E-4850-A7A4-402A3502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4EB-36D0-4DF3-9373-A9D8D40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219-86A5-46BD-8DB3-AB257ECF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DC2-B90C-4FFE-8776-F2039FCF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F47-E4A7-4B29-8107-63EB852B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8AC-E1FB-4D22-9FD4-7784142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CEE2-21CE-4A4A-8720-FC7F519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4E7A-F3B7-4855-A1CD-F8A07DC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CC95-00E1-4EF2-BD45-F310BAE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0396-F62A-405D-B721-F9D80BB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7A3F-4486-40E0-AD7A-CD23D52B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99F-661E-4A3A-9B79-642641FE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E69B-8C5D-45E0-9A04-293D229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0110-0350-4E72-985B-D18A90D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987-5CA2-4D44-BBAB-6C3351F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9C08-634E-44E7-8E7E-2DB8228E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1048-690E-45D3-A186-467C042B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BAB5-487B-44E8-A454-D0D7D7EA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F8AA-7F45-4BF6-87AF-00B7689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F0FC-6796-4A8B-9850-E82A5A57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DA35-16C9-4BDF-A624-EF7A424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E613-4250-41EC-AEFF-8589088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CF1-4E04-435D-B609-7CB9909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74A8-BB12-44F2-8335-2C0DF07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3EF2-8BE5-46FD-95A5-E0D9CA6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B8C5-A58D-4B23-8E74-BE13723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AC3B-3C87-4379-A7AB-17E325C8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6892-BA80-4C55-9B0B-114E4E18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73B3-7A27-4DFB-A4E2-28ACD4C7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F27A-5CDD-41F0-8DF9-3B1D7D8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5372-E95B-4807-A102-4C79A924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FC7A-4D39-43A6-9430-2B0380E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FFA3-06A2-4BDC-92B3-3F197EC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FC1-8506-4967-92A1-85F71BC7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E642-7C2F-4253-94BD-7A5FB3AB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B9EE-0448-49E7-9498-3D4A519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2DE1-1FE1-4B65-BE53-5D1F6FCD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1FA0-A5E4-4C84-BD2D-CE13C1E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8F5C-E7CC-4835-8C98-B5A4598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4B9B-E14E-4D83-B295-01EA1A1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3BEB-7733-49C8-A3FC-C9377C7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797C-81C6-41F9-BECB-9A77FD5B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C485-4F9E-45CC-9650-971AE340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63F6-0EF6-49A0-B22A-A16DE9CB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5A7-9C27-4CA8-A1FD-5222FB85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98CD-4623-454F-A188-741C0E8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55D90-E272-4F81-B5EE-2B68CBA9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AE39-1294-49B2-BDA0-35A0457F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9E07E-25EF-4CF0-924F-6EF7E8C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43DCD-3EB8-4486-810F-80806F19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81AF-9940-42B8-A9BB-B6CCA0F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8934-F16C-4CE5-9C72-B0EEA25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1D99-3970-4A15-9E41-D5A751F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4E38-1A9C-461E-9929-68A51086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E570-B502-4121-90F3-3E95C079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058-2121-4010-8E26-6054C9D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96E3-9247-4C69-B27D-542D06D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CF82-8CC6-4F47-A37D-F6EDF0C6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6833-D835-49DE-8A46-74011A3D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71F9-3F95-4903-9A95-07FF46A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81E5-D5B5-40A1-9285-673ED78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B58E-2C01-44B3-8A3C-9E85C2B3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47798-6760-4D12-B63A-533A22A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AF26E-5C79-4F93-A8DD-69AA253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9096D-757F-479A-83ED-A30D031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42BE-D44C-4E63-BD61-942F03CC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B9E-20AB-41D9-B7F0-91FFE6E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320E-C0FD-42B7-8D88-E8C3AFF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E2DB-4B79-4D0D-B542-EFB53974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7146-8162-4448-83BB-79F76973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4A0-DE42-47E0-B7F1-E7B7F20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A94-84BF-4D6F-B6CA-6D7AD657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C0D-9F53-44BF-BC2D-EA31F9A5039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AF88-1644-4FCF-867B-861244BCD7B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9AA7-23C4-4370-BE05-98C7344505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1816-F1A1-418E-81E5-A4896C3DD02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45E0-EB42-4A12-BFDC-37C67783410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729C-766A-4177-8BC7-709EA0DF19B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Классификация опас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 и вред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производственных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факторов и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редства защиты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работающих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4038480" y="5334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Выполнил: Шведова Г.Ю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преподаватель спец.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6333480" y="3049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5010"/>
                </a:solidFill>
                <a:latin typeface="Times New Roman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о физиологическому воздействию на организ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вредные вещества подразделяются на четыре основные групп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здраж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на поверхностные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кани дыхательного тракта и слизистые оболочки (аммиак, хлор, сернистый газ, ацетон, озон, пары азотной и серной кислот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душ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нарушают процесс усвоения кислорода тканями (окись углерода, сероводород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арко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как наркотики (азот под давлением, трихлорэтилен, четыреххлористый углерод, ацетилен, бензин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ма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вызывают нарушение деятельности всего организма или его отдельных органов и систем (свинец, ртуть, бензол, олово, марганец, фосфор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ействие токсичных веществ может проявляться сразу (острое отравление) или через определенный, иногда длительный, промежуток времени (профессиональное заболевание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сновными мерами предупреждения воздействия вредных веществ на работающих, выполняющих сварочные работы, и окружающих являются: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спользование вентиляции, средств индивидуальной защиты, режимов труда и льг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ледует зна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полняя сварочные работы, следует знать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уществует предельно допустимый уровень (ПДУ)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редного производственного факто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Предельно допустимый уровень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(ПДУ) вредного производственного фактора — уровень, воздействие которого при работе установленной продолжительности (но не более 40 часов в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делю) в течение всего трудового стажа не приводит к травме, заболеванию или отклонению в состоянии здоровья, как в процессе работы, так и в отдаленные сроки жизни настоящего и последующего поколен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уществуют установленные оптимальные и допустимые нормы температуры, в зависимости от которых определяются категории раб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286000"/>
          <a:ext cx="8229600" cy="384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рабо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ы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—25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—24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—20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—18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тяжелых работ скорость движения воздуха в теплый период установлена — 0,4 м/сек для легких работ — 0,1 м/сек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всех видов работ и периодов года оптимальная относительная влажность должна составлять 40—60%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нсивность теплового облучения при работе с открытым источником нагрева (сварочное пламя, нагретый металл и др.) не должна превышать 140 Вт/м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Администрация предприятия обязана обеспечить контроль уровней опасных и вредных производственных факторов на рабочих местах, организовывать периодические медосмотры сварщи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защиты работающих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должны обеспечивать предотвращение или уменьшение действия опасных и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х производственных фактор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зависимости от характера их применения средства защиты подразделяются н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коллективной защит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индивидуальной защиты (СИЗ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коллектив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 выполнении сварочных работ необходимо обеспечивать в производственных помещениях защиту не только сварщиков, выполняющих сварочные работы, но и других людей, находящихся в этих помещениях, предусматривая следующие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меры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нормализации воздушной среды в производственных помещениях обеспечивается вентиляция, очистка воздуха, кондиционирова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контроля над выделением вредных и опасных веществ в рабочей зоне и производственных помещениях устанавливаются устройства автоматического контроля и сигнализация достижения заданного уровня выделения вредных и опасных вещест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производственного персонала от воздействия теплового, светового и других излучений, от попадания брызг и возможного соприкосновения с разогретыми при сварке поверхностями свариваемых изделий устанавливают металлические экраны (кабины), ширмы и т. 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от шумовых нагрузок при сварке, как правило, изолируют место проведения работ звукопоглощающими экранами, потолками или выполняют работы в специальных звуконепроницаемых камер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цехах, где осуществляются сварочные работы, должны быть вывешены знаки без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Осторожно! Идут сварочные работы!»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Берегись! Открытое пламя!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индивидуаль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 (СИЗ) должны обеспечить защиту от воздействия вредных и опасных факто-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в при выполнении производственных рабо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К индивидуальным средствам защиты относятс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олирующие костюмы(куртка, брюки, комбинезон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дыхания (респираторы, противогаз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ног (сапоги, ботинки, полуботинки, галош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ук (рукавицы, перчатки, нарукав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оловы (каски, шлемы, шапки, берет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лица (щитки защитные, мас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лаз (очки защитные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слуха (противошумные вкладыши, противошумные науш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т падения при выполнении сварочных  работ на значительной высо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ред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вызвать профессиональную патологию или стойкое снижение работоспособности, повысить частоту соматических и инфекционных заболеваний, привести к нарушению здоровья потомст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пас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быть причиной острого заболевания или внезапного ухудшения здоровья, смер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арщик должен знать, что средства индивидуальной защиты (специальная одежда, обувь и др.) при выполнении им сварочных работ выдаются ему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ЕСПЛАТ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рядок обеспечения спецодеждой и другими СИЗ, порядок их выдачи, хранения, пользования, ремонта и замены определяютс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НСТРУКЦИ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ыдача спецодежды и СИЗ записывается в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личную карточку сварщи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ача взамен специальной одежды, обуви и др. СИЗ материалов для их изготовления или денежных сумм для их приобретения не разрешается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о время работы сварщики ОБЯЗАНЫ пользоваться выданной им спецодеждой, специальной обувью и другими СИЗ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еспечение необходимыми средствами индивидуальной защиты производится с учетом конкретных условий выполнения сварочных работ и видов обрабатываемых (свариваемых) материа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онтрольные вопро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ой производственный фактор может вызвать профессиональную патологию, временное или стойкое снижение работоспособности, повысить частоту соматических заболеваний, привести к нарушению здоровья потомст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5440" y="137160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 какому классу опасности относятся чрезвычайно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пасные вещества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1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3520" y="1393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На сколько групп подразделяются опасные и вредные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изводственные факторы по природе действ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Тр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етыр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я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160" y="106668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ие вредные вещества нарушают процесс усвоения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ислород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рко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ма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душающ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1218960"/>
            <a:ext cx="3886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Что такое предельно допустимый уровень вредного фактора производств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Уровень воздействия шума, вибрации, излучения и т. д., который не приводит к заболеванию в процессе трудового стажа и в более отдаленно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Уровень жидкости в сосудах с вредными веществами, которые могут повлиять на здоровье работающ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6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подразделяются на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ие, индивидуальные и местные средства защиты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коллективной защиты и средства индивидуальной защи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114800" y="685800"/>
            <a:ext cx="4572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7. В каких случаях применяются средства индивидуальной защиты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Всегда, на любом рабочем 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Когда не представляется возможным предупредить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пасность травм, отравлений и профзаболеваний с помощью средств коллективной защи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)Когда безопасность работ не может быть обеспечена за счет санитарно-технических мероприятий, улучшения технологии, применения средств механизации и автомат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600200"/>
            <a:ext cx="35812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8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ми индивидуальной защиты обеспечив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работни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ботники, выполняющие сварочные рабо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38120" y="1600200"/>
            <a:ext cx="32590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9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обретаются сварщиком лич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даются ему бесплат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купаются или изготавливаются сварщиком на выдаваемые для этих целей администрацией сред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 природе действия следует различать четыре основных группы, на которые подразделяются опасные и вредные производственные факто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rcRect l="0" t="22976" r="0" b="0"/>
          <a:stretch/>
        </p:blipFill>
        <p:spPr>
          <a:xfrm>
            <a:off x="609480" y="3352680"/>
            <a:ext cx="793116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Физ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К физическим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м и вредным производственным факторам относятся следующи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вижущиеся машины и механизмы, передвигающиеся изделия и заготовки, материалы и т. п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ая или пониженная температура рабочих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ерхностей, влажность воздуха, повышенное или пониженное давление в рабочей зоне или его резкое изменен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ый уровень вибрации, излучений, ультразвука, шума и инфразвуковых колебаний 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т. 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Хим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Химические факторы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лич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воздействия на организм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токсичные, раздражающие, сенсибилизирующие, канцерогенные, мутагенные, влияющие на репродуктивную функцию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пути проникновения в организм 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через органы дыхания, желудочно-кишечный тракт, кожные покровы и слизистые оболоч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Б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Б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лючают следующие биологические объект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тогенные микроорганизмы (бактерии, вирусы, грибки) и продукты их жизне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икроорганизмы (растения, животные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сихофиз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сихофиз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характеру действия подразделяются на следующие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зические перегрузки (статические и динамические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рвно-психические (умственное переутомление, монотонность труда, эмоциональные перегрузки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 степени воздействия на организм человека вредные вещества подразделяются на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четыр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а 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резвычай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соко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мерен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лоопасн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несение того или иного вещества к определенному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у опасности осуществляется по целому ряду признаков, основным из которых является предельно допустимая концентрация (ПДК) вредного вещества в воздухе рабочей зоны (в мг/м3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едельно допустимая концентрация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рабочей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оне — это такая концентрация, которая при ежедневном воздействии в течение 8 часов на протяжении всего стажа или в отдаленные сроки жизни не может вызвать заболеваний или отклонений в состоянии здоровь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Нормы ПДК и  класс опасности по значениям ПДК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447920"/>
          <a:ext cx="8229600" cy="4022640"/>
        </p:xfrm>
        <a:graphic>
          <a:graphicData uri="http://schemas.openxmlformats.org/drawingml/2006/table">
            <a:tbl>
              <a:tblPr/>
              <a:tblGrid>
                <a:gridCol w="4338720"/>
                <a:gridCol w="973080"/>
                <a:gridCol w="973080"/>
                <a:gridCol w="971640"/>
                <a:gridCol w="973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для класса опас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ельно-допустима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 вредных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 в воздухе рабочей зоны производственных    помещений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ДК Р. 3., мг/м3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-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-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Text Box 119"/>
          <p:cNvSpPr/>
          <p:nvPr/>
        </p:nvSpPr>
        <p:spPr>
          <a:xfrm>
            <a:off x="762120" y="5486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проведении сварочных работ обязательным является организация контроля за содержанием веществ в рабоче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03T14:04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