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D21-3872-4AAA-B016-7E1809ED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D92-00D8-4032-8938-A4EB9B1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081-180E-4EC4-877F-6A6FA200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C28-3441-4C7A-80BC-14BC5E79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1B5-9800-4793-AAF3-5B3225B9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F09-1FB1-4A20-98AB-02329411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892-39FD-4DD4-B98A-1DCAE97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6A6-323B-4A17-B3BB-75808B2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8B1-7B64-401F-B3AB-21FFA381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A70-1EDB-4E7B-AF0D-253F930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6A6-BA4B-4132-9563-158C6D6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B8E-DBD7-49F1-9200-5E95D2A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D57-02C8-4EF9-9936-0392972E4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РАЛЛЕЛОГРАМ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ВОЙСТВА ПАРАЛЛЕЛО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айдите углы параллелогра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если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=6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=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05080" cy="1600200"/>
          </a:xfrm>
          <a:prstGeom prst="rect">
            <a:avLst/>
          </a:prstGeom>
          <a:ln w="0">
            <a:noFill/>
          </a:ln>
        </p:spPr>
      </p:pic>
      <p:sp>
        <p:nvSpPr>
          <p:cNvPr id="189" name="Заголовок 1"/>
          <p:cNvSpPr/>
          <p:nvPr/>
        </p:nvSpPr>
        <p:spPr>
          <a:xfrm>
            <a:off x="53352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ватит ли 40 см проволоки, чтобы изготовить из неё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со сторонами  14 см и 8 с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858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ллелограммом называют четырехугольник, у которого каждые две противолежащие стороны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8116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809880" y="28954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определению параллел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lCD,  BCl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/>
            <a:ahLst/>
            <a:rect l="l" t="t" r="r" b="b"/>
            <a:pathLst>
              <a:path w="1071563" h="1192212">
                <a:moveTo>
                  <a:pt x="32921" y="390372"/>
                </a:moveTo>
                <a:cubicBezTo>
                  <a:pt x="109906" y="157445"/>
                  <a:pt x="308546" y="1955"/>
                  <a:pt x="531601" y="18"/>
                </a:cubicBezTo>
                <a:cubicBezTo>
                  <a:pt x="532995" y="198714"/>
                  <a:pt x="534388" y="397410"/>
                  <a:pt x="535782" y="596106"/>
                </a:cubicBezTo>
                <a:lnTo>
                  <a:pt x="32921" y="39037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/>
            <a:ahLst/>
            <a:rect l="l" t="t" r="r" b="b"/>
            <a:pathLst>
              <a:path w="1114425" h="1241425">
                <a:moveTo>
                  <a:pt x="60931" y="338482"/>
                </a:moveTo>
                <a:cubicBezTo>
                  <a:pt x="166722" y="107641"/>
                  <a:pt x="390134" y="-25677"/>
                  <a:pt x="621260" y="4114"/>
                </a:cubicBezTo>
                <a:lnTo>
                  <a:pt x="557213" y="620713"/>
                </a:lnTo>
                <a:lnTo>
                  <a:pt x="60931" y="3384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/>
            <a:ahLst/>
            <a:rect l="l" t="t" r="r" b="b"/>
            <a:pathLst>
              <a:path w="1254125" h="1195387">
                <a:moveTo>
                  <a:pt x="73511" y="316893"/>
                </a:moveTo>
                <a:cubicBezTo>
                  <a:pt x="136986" y="203209"/>
                  <a:pt x="237286" y="112107"/>
                  <a:pt x="359476" y="57152"/>
                </a:cubicBezTo>
                <a:lnTo>
                  <a:pt x="627063" y="597694"/>
                </a:lnTo>
                <a:lnTo>
                  <a:pt x="73511" y="316893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/>
            <a:ahLst/>
            <a:rect l="l" t="t" r="r" b="b"/>
            <a:pathLst>
              <a:path w="1185862" h="1058863">
                <a:moveTo>
                  <a:pt x="53060" y="310520"/>
                </a:moveTo>
                <a:cubicBezTo>
                  <a:pt x="112459" y="193728"/>
                  <a:pt x="217325" y="100163"/>
                  <a:pt x="348169" y="47213"/>
                </a:cubicBezTo>
                <a:lnTo>
                  <a:pt x="592931" y="529432"/>
                </a:lnTo>
                <a:lnTo>
                  <a:pt x="53060" y="310520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/>
            <a:ahLst/>
            <a:rect l="l" t="t" r="r" b="b"/>
            <a:pathLst>
              <a:path w="1257300" h="1173162">
                <a:moveTo>
                  <a:pt x="23705" y="427022"/>
                </a:moveTo>
                <a:cubicBezTo>
                  <a:pt x="98624" y="179723"/>
                  <a:pt x="337338" y="6723"/>
                  <a:pt x="612669" y="190"/>
                </a:cubicBezTo>
                <a:lnTo>
                  <a:pt x="628650" y="586581"/>
                </a:lnTo>
                <a:lnTo>
                  <a:pt x="23705" y="42702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/>
            <a:ahLst/>
            <a:rect l="l" t="t" r="r" b="b"/>
            <a:pathLst>
              <a:path w="1368425" h="1104900">
                <a:moveTo>
                  <a:pt x="18509" y="424821"/>
                </a:moveTo>
                <a:cubicBezTo>
                  <a:pt x="89762" y="182530"/>
                  <a:pt x="352970" y="8681"/>
                  <a:pt x="661218" y="312"/>
                </a:cubicBezTo>
                <a:lnTo>
                  <a:pt x="684213" y="552450"/>
                </a:lnTo>
                <a:lnTo>
                  <a:pt x="18509" y="42482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72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75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стороны параллелограмма 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7600" y="13712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араллелограмм 3"/>
          <p:cNvSpPr/>
          <p:nvPr/>
        </p:nvSpPr>
        <p:spPr>
          <a:xfrm>
            <a:off x="838080" y="2133720"/>
            <a:ext cx="2362320" cy="137160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609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6668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31240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7621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3657600" y="28195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оведем диагональ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809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смотри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838080" y="2133720"/>
            <a:ext cx="2362320" cy="1371600"/>
          </a:xfrm>
          <a:prstGeom prst="line">
            <a:avLst/>
          </a:prstGeom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6"/>
          <p:cNvSpPr/>
          <p:nvPr/>
        </p:nvSpPr>
        <p:spPr>
          <a:xfrm>
            <a:off x="2870280" y="2349360"/>
            <a:ext cx="268200" cy="185760"/>
          </a:xfrm>
          <a:custGeom>
            <a:avLst/>
            <a:gdLst/>
            <a:ahLst/>
            <a:rect l="l" t="t" r="r" b="b"/>
            <a:pathLst>
              <a:path w="268146" h="185195">
                <a:moveTo>
                  <a:pt x="0" y="0"/>
                </a:moveTo>
                <a:cubicBezTo>
                  <a:pt x="84881" y="62696"/>
                  <a:pt x="169762" y="125393"/>
                  <a:pt x="208344" y="150471"/>
                </a:cubicBezTo>
                <a:cubicBezTo>
                  <a:pt x="246926" y="175549"/>
                  <a:pt x="221848" y="148542"/>
                  <a:pt x="231493" y="150471"/>
                </a:cubicBezTo>
                <a:cubicBezTo>
                  <a:pt x="241138" y="152400"/>
                  <a:pt x="264288" y="156258"/>
                  <a:pt x="266217" y="162045"/>
                </a:cubicBezTo>
                <a:cubicBezTo>
                  <a:pt x="268146" y="167832"/>
                  <a:pt x="255607" y="176513"/>
                  <a:pt x="243068" y="185195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7"/>
          <p:cNvSpPr/>
          <p:nvPr/>
        </p:nvSpPr>
        <p:spPr>
          <a:xfrm>
            <a:off x="2778120" y="2408400"/>
            <a:ext cx="351000" cy="236520"/>
          </a:xfrm>
          <a:custGeom>
            <a:avLst/>
            <a:gdLst/>
            <a:ahLst/>
            <a:rect l="l" t="t" r="r" b="b"/>
            <a:pathLst>
              <a:path w="351099" h="237281">
                <a:moveTo>
                  <a:pt x="0" y="0"/>
                </a:moveTo>
                <a:cubicBezTo>
                  <a:pt x="125392" y="89703"/>
                  <a:pt x="250785" y="179407"/>
                  <a:pt x="300942" y="208344"/>
                </a:cubicBezTo>
                <a:cubicBezTo>
                  <a:pt x="351099" y="237281"/>
                  <a:pt x="326020" y="205450"/>
                  <a:pt x="300942" y="173620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8"/>
          <p:cNvSpPr/>
          <p:nvPr/>
        </p:nvSpPr>
        <p:spPr>
          <a:xfrm>
            <a:off x="960480" y="3159000"/>
            <a:ext cx="264960" cy="150840"/>
          </a:xfrm>
          <a:custGeom>
            <a:avLst/>
            <a:gdLst/>
            <a:ahLst/>
            <a:rect l="l" t="t" r="r" b="b"/>
            <a:pathLst>
              <a:path w="264288" h="150470">
                <a:moveTo>
                  <a:pt x="0" y="0"/>
                </a:moveTo>
                <a:cubicBezTo>
                  <a:pt x="99349" y="52086"/>
                  <a:pt x="198698" y="104172"/>
                  <a:pt x="231493" y="127321"/>
                </a:cubicBezTo>
                <a:cubicBezTo>
                  <a:pt x="264288" y="150470"/>
                  <a:pt x="198698" y="142754"/>
                  <a:pt x="196769" y="138896"/>
                </a:cubicBezTo>
                <a:cubicBezTo>
                  <a:pt x="194840" y="135038"/>
                  <a:pt x="214132" y="113818"/>
                  <a:pt x="219919" y="104172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9"/>
          <p:cNvSpPr/>
          <p:nvPr/>
        </p:nvSpPr>
        <p:spPr>
          <a:xfrm>
            <a:off x="949320" y="3021120"/>
            <a:ext cx="324000" cy="220680"/>
          </a:xfrm>
          <a:custGeom>
            <a:avLst/>
            <a:gdLst/>
            <a:ahLst/>
            <a:rect l="l" t="t" r="r" b="b"/>
            <a:pathLst>
              <a:path w="324091" h="219919">
                <a:moveTo>
                  <a:pt x="0" y="0"/>
                </a:moveTo>
                <a:lnTo>
                  <a:pt x="324091" y="219919"/>
                </a:lnTo>
                <a:lnTo>
                  <a:pt x="324091" y="219919"/>
                </a:ln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 flipV="1" rot="10800000">
            <a:off x="990720" y="2894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2743200" y="25146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25"/>
          <p:cNvSpPr/>
          <p:nvPr/>
        </p:nvSpPr>
        <p:spPr>
          <a:xfrm>
            <a:off x="2581200" y="2130480"/>
            <a:ext cx="177840" cy="282600"/>
          </a:xfrm>
          <a:custGeom>
            <a:avLst/>
            <a:gdLst/>
            <a:ahLst/>
            <a:rect l="l" t="t" r="r" b="b"/>
            <a:pathLst>
              <a:path w="177479" h="283579">
                <a:moveTo>
                  <a:pt x="0" y="0"/>
                </a:moveTo>
                <a:cubicBezTo>
                  <a:pt x="50157" y="81023"/>
                  <a:pt x="123463" y="202557"/>
                  <a:pt x="150471" y="243068"/>
                </a:cubicBezTo>
                <a:cubicBezTo>
                  <a:pt x="177479" y="283579"/>
                  <a:pt x="169762" y="263323"/>
                  <a:pt x="162046" y="243068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27"/>
          <p:cNvSpPr/>
          <p:nvPr/>
        </p:nvSpPr>
        <p:spPr>
          <a:xfrm>
            <a:off x="1273320" y="3252960"/>
            <a:ext cx="36360" cy="320400"/>
          </a:xfrm>
          <a:custGeom>
            <a:avLst/>
            <a:gdLst/>
            <a:ahLst/>
            <a:rect l="l" t="t" r="r" b="b"/>
            <a:pathLst>
              <a:path w="36653" h="320232">
                <a:moveTo>
                  <a:pt x="0" y="0"/>
                </a:moveTo>
                <a:cubicBezTo>
                  <a:pt x="16397" y="117676"/>
                  <a:pt x="32795" y="235352"/>
                  <a:pt x="34724" y="277792"/>
                </a:cubicBezTo>
                <a:cubicBezTo>
                  <a:pt x="36653" y="320232"/>
                  <a:pt x="24114" y="287437"/>
                  <a:pt x="11575" y="254643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 flipV="1" rot="10800000">
            <a:off x="1371600" y="312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"/>
          <p:cNvSpPr/>
          <p:nvPr/>
        </p:nvSpPr>
        <p:spPr>
          <a:xfrm flipV="1" rot="10800000">
            <a:off x="2286000" y="213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>
            <a:off x="914400" y="266688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3"/>
          <p:cNvSpPr/>
          <p:nvPr/>
        </p:nvSpPr>
        <p:spPr>
          <a:xfrm>
            <a:off x="2895480" y="29718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5"/>
          <p:cNvSpPr/>
          <p:nvPr/>
        </p:nvSpPr>
        <p:spPr>
          <a:xfrm>
            <a:off x="914400" y="27432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6"/>
          <p:cNvSpPr/>
          <p:nvPr/>
        </p:nvSpPr>
        <p:spPr>
          <a:xfrm>
            <a:off x="2895480" y="3048120"/>
            <a:ext cx="228600" cy="759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7"/>
          <p:cNvSpPr/>
          <p:nvPr/>
        </p:nvSpPr>
        <p:spPr>
          <a:xfrm flipH="1">
            <a:off x="1904760" y="1981080"/>
            <a:ext cx="75960" cy="304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9"/>
          <p:cNvSpPr/>
          <p:nvPr/>
        </p:nvSpPr>
        <p:spPr>
          <a:xfrm flipH="1">
            <a:off x="1904760" y="3276720"/>
            <a:ext cx="75960" cy="3045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914400" y="3886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-общая стор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914400" y="4191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1=˪2 –накрест лежащие при ВС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914400" y="44956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3=˪4 –накрест лежащие при АВ||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838080" y="48769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второму признаку равенства треуголь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914400" y="5638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0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углы параллелограмма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62864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886200" y="1600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3352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94336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4419720" y="45720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сотой параллелограмма называют перпендикуляр, опущенный из любой точки прямой, содержащей сторону параллелограмма, на прямую, содержащую противолежащ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араллелограмм 3"/>
          <p:cNvSpPr/>
          <p:nvPr/>
        </p:nvSpPr>
        <p:spPr>
          <a:xfrm>
            <a:off x="1447920" y="2438280"/>
            <a:ext cx="2743200" cy="175284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9144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106668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42670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36576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905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17524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2"/>
          <p:cNvSpPr/>
          <p:nvPr/>
        </p:nvSpPr>
        <p:spPr>
          <a:xfrm>
            <a:off x="1447920" y="4191120"/>
            <a:ext cx="487656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4"/>
          <p:cNvSpPr/>
          <p:nvPr/>
        </p:nvSpPr>
        <p:spPr>
          <a:xfrm>
            <a:off x="4191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41911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9"/>
          <p:cNvSpPr/>
          <p:nvPr/>
        </p:nvSpPr>
        <p:spPr>
          <a:xfrm flipH="1" flipV="1">
            <a:off x="1599840" y="3504960"/>
            <a:ext cx="213372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3"/>
          <p:cNvSpPr/>
          <p:nvPr/>
        </p:nvSpPr>
        <p:spPr>
          <a:xfrm>
            <a:off x="1905120" y="2514600"/>
            <a:ext cx="21333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343400" y="46483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 flipH="1">
            <a:off x="3276360" y="3962520"/>
            <a:ext cx="533160" cy="1981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0"/>
          <p:cNvSpPr/>
          <p:nvPr/>
        </p:nvSpPr>
        <p:spPr>
          <a:xfrm>
            <a:off x="1447920" y="4191120"/>
            <a:ext cx="213336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6576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695320" cy="1886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314880" cy="176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847960" cy="19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3962520" y="4648320"/>
            <a:ext cx="3295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араллелограмм 3"/>
          <p:cNvSpPr/>
          <p:nvPr/>
        </p:nvSpPr>
        <p:spPr>
          <a:xfrm>
            <a:off x="2008080" y="1995480"/>
            <a:ext cx="4572000" cy="2571840"/>
          </a:xfrm>
          <a:prstGeom prst="parallelogram">
            <a:avLst>
              <a:gd name="adj" fmla="val 25003"/>
            </a:avLst>
          </a:prstGeom>
          <a:solidFill>
            <a:srgbClr val="a3a3e0"/>
          </a:solidFill>
          <a:ln w="2844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4"/>
          <p:cNvSpPr/>
          <p:nvPr/>
        </p:nvSpPr>
        <p:spPr>
          <a:xfrm>
            <a:off x="1857240" y="428760"/>
            <a:ext cx="642960" cy="64296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000160" y="428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428840" y="42861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214308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657216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6000840" y="4214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3500280" y="1496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357960" y="292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714240" y="5143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ериметр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7"/>
          <p:cNvSpPr/>
          <p:nvPr/>
        </p:nvSpPr>
        <p:spPr>
          <a:xfrm>
            <a:off x="1071720" y="428760"/>
            <a:ext cx="642960" cy="63324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1214280" y="5000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уга 19"/>
          <p:cNvSpPr/>
          <p:nvPr/>
        </p:nvSpPr>
        <p:spPr>
          <a:xfrm>
            <a:off x="1785960" y="42148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  <a:lnTo>
                  <a:pt x="285750" y="321469"/>
                </a:lnTo>
                <a:lnTo>
                  <a:pt x="324406" y="2955"/>
                </a:lnTo>
                <a:close/>
              </a:path>
              <a:path fill="none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571840" y="39290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714240" y="57862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все углы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3071880" y="2858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3143160" y="46432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150012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1428840" y="5143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 = (7 + 4)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= 22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103"/>
          <p:cNvGrpSpPr/>
          <p:nvPr/>
        </p:nvGrpSpPr>
        <p:grpSpPr>
          <a:xfrm>
            <a:off x="-1663200" y="5357880"/>
            <a:ext cx="6228000" cy="520560"/>
            <a:chOff x="-1663200" y="5357880"/>
            <a:chExt cx="6228000" cy="520560"/>
          </a:xfrm>
        </p:grpSpPr>
        <p:sp>
          <p:nvSpPr>
            <p:cNvPr id="164" name="Прямоугольник 28"/>
            <p:cNvSpPr/>
            <p:nvPr/>
          </p:nvSpPr>
          <p:spPr>
            <a:xfrm>
              <a:off x="-1663200" y="5357880"/>
              <a:ext cx="62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Р = 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38"/>
                <p:cNvSpPr txBox="1"/>
                <p:nvPr/>
              </p:nvSpPr>
              <p:spPr>
                <a:xfrm>
                  <a:off x="1811520" y="548064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39"/>
                <p:cNvSpPr txBox="1"/>
                <p:nvPr/>
              </p:nvSpPr>
              <p:spPr>
                <a:xfrm>
                  <a:off x="2692440" y="548892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Группа 103"/>
          <p:cNvGrpSpPr/>
          <p:nvPr/>
        </p:nvGrpSpPr>
        <p:grpSpPr>
          <a:xfrm>
            <a:off x="-2096640" y="5857920"/>
            <a:ext cx="8026920" cy="520560"/>
            <a:chOff x="-2096640" y="5857920"/>
            <a:chExt cx="8026920" cy="520560"/>
          </a:xfrm>
        </p:grpSpPr>
        <p:sp>
          <p:nvSpPr>
            <p:cNvPr id="168" name="Прямоугольник 32"/>
            <p:cNvSpPr/>
            <p:nvPr/>
          </p:nvSpPr>
          <p:spPr>
            <a:xfrm>
              <a:off x="-2096640" y="5857920"/>
              <a:ext cx="80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K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1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4"/>
                <p:cNvSpPr txBox="1"/>
                <p:nvPr/>
              </p:nvSpPr>
              <p:spPr>
                <a:xfrm>
                  <a:off x="1311480" y="598068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5"/>
                <p:cNvSpPr txBox="1"/>
                <p:nvPr/>
              </p:nvSpPr>
              <p:spPr>
                <a:xfrm>
                  <a:off x="2180520" y="598896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1" name="Дуга 35"/>
          <p:cNvSpPr/>
          <p:nvPr/>
        </p:nvSpPr>
        <p:spPr>
          <a:xfrm rot="10282200">
            <a:off x="6187680" y="168264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  <a:lnTo>
                  <a:pt x="285750" y="321469"/>
                </a:lnTo>
                <a:lnTo>
                  <a:pt x="327868" y="3511"/>
                </a:lnTo>
                <a:close/>
              </a:path>
              <a:path fill="none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572080" y="2143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9"/>
          <p:cNvSpPr/>
          <p:nvPr/>
        </p:nvSpPr>
        <p:spPr>
          <a:xfrm>
            <a:off x="2786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0"/>
          <p:cNvSpPr/>
          <p:nvPr/>
        </p:nvSpPr>
        <p:spPr>
          <a:xfrm>
            <a:off x="4857840" y="3786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41"/>
          <p:cNvSpPr/>
          <p:nvPr/>
        </p:nvSpPr>
        <p:spPr>
          <a:xfrm rot="16200000">
            <a:off x="5679360" y="425052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  <a:lnTo>
                  <a:pt x="285750" y="321469"/>
                </a:lnTo>
                <a:lnTo>
                  <a:pt x="313036" y="1469"/>
                </a:lnTo>
                <a:close/>
              </a:path>
              <a:path fill="none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уга 42"/>
          <p:cNvSpPr/>
          <p:nvPr/>
        </p:nvSpPr>
        <p:spPr>
          <a:xfrm rot="16200000">
            <a:off x="5500440" y="4143240"/>
            <a:ext cx="928800" cy="928440"/>
          </a:xfrm>
          <a:custGeom>
            <a:avLst/>
            <a:gdLst/>
            <a:ahLst/>
            <a:rect l="l" t="t" r="r" b="b"/>
            <a:pathLst>
              <a:path stroke="0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  <a:lnTo>
                  <a:pt x="464344" y="464344"/>
                </a:lnTo>
                <a:lnTo>
                  <a:pt x="522796" y="3694"/>
                </a:lnTo>
                <a:close/>
              </a:path>
              <a:path fill="none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3"/>
          <p:cNvSpPr/>
          <p:nvPr/>
        </p:nvSpPr>
        <p:spPr>
          <a:xfrm>
            <a:off x="2238480" y="3000240"/>
            <a:ext cx="28548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4"/>
          <p:cNvSpPr/>
          <p:nvPr/>
        </p:nvSpPr>
        <p:spPr>
          <a:xfrm>
            <a:off x="6143760" y="3071880"/>
            <a:ext cx="28548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45"/>
          <p:cNvGrpSpPr/>
          <p:nvPr/>
        </p:nvGrpSpPr>
        <p:grpSpPr>
          <a:xfrm>
            <a:off x="4214160" y="1857240"/>
            <a:ext cx="214200" cy="285840"/>
            <a:chOff x="4214160" y="1857240"/>
            <a:chExt cx="214200" cy="285840"/>
          </a:xfrm>
        </p:grpSpPr>
        <p:sp>
          <p:nvSpPr>
            <p:cNvPr id="180" name="Прямая соединительная линия 46"/>
            <p:cNvSpPr/>
            <p:nvPr/>
          </p:nvSpPr>
          <p:spPr>
            <a:xfrm>
              <a:off x="428544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47"/>
            <p:cNvSpPr/>
            <p:nvPr/>
          </p:nvSpPr>
          <p:spPr>
            <a:xfrm>
              <a:off x="421416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48"/>
          <p:cNvGrpSpPr/>
          <p:nvPr/>
        </p:nvGrpSpPr>
        <p:grpSpPr>
          <a:xfrm>
            <a:off x="4071240" y="4429080"/>
            <a:ext cx="214200" cy="285840"/>
            <a:chOff x="4071240" y="4429080"/>
            <a:chExt cx="214200" cy="285840"/>
          </a:xfrm>
        </p:grpSpPr>
        <p:sp>
          <p:nvSpPr>
            <p:cNvPr id="183" name="Прямая соединительная линия 49"/>
            <p:cNvSpPr/>
            <p:nvPr/>
          </p:nvSpPr>
          <p:spPr>
            <a:xfrm>
              <a:off x="414252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50"/>
            <p:cNvSpPr/>
            <p:nvPr/>
          </p:nvSpPr>
          <p:spPr>
            <a:xfrm>
              <a:off x="407124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Дуга 37"/>
          <p:cNvSpPr/>
          <p:nvPr/>
        </p:nvSpPr>
        <p:spPr>
          <a:xfrm rot="5400000">
            <a:off x="2321640" y="16786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  <a:lnTo>
                  <a:pt x="285750" y="321469"/>
                </a:lnTo>
                <a:cubicBezTo>
                  <a:pt x="285996" y="214313"/>
                  <a:pt x="286243" y="107157"/>
                  <a:pt x="286489" y="1"/>
                </a:cubicBezTo>
                <a:close/>
              </a:path>
              <a:path fill="none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38"/>
          <p:cNvSpPr/>
          <p:nvPr/>
        </p:nvSpPr>
        <p:spPr>
          <a:xfrm rot="5400000">
            <a:off x="2143080" y="1500120"/>
            <a:ext cx="928800" cy="928800"/>
          </a:xfrm>
          <a:custGeom>
            <a:avLst/>
            <a:gdLst/>
            <a:ahLst/>
            <a:rect l="l" t="t" r="r" b="b"/>
            <a:pathLst>
              <a:path stroke="0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  <a:lnTo>
                  <a:pt x="464344" y="464344"/>
                </a:lnTo>
                <a:lnTo>
                  <a:pt x="503815" y="1681"/>
                </a:lnTo>
                <a:close/>
              </a:path>
              <a:path fill="none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етматика_1</cp:lastModifiedBy>
  <dcterms:modified xsi:type="dcterms:W3CDTF">2022-09-15T04:41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