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0E4-5DA9-4F7F-A605-C3584AFB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F5BA-2931-4B4F-A45E-3AE2A64A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52D8-1B63-4B0B-B914-2E3B0D2C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BFE0-E864-4A0C-AFC8-DCFB01F5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E11-B1FE-4B45-B3D9-4DDB3A34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7C8A-727A-4CED-9FAE-79294C57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94BB-925E-4EFB-B5EC-40A76A31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84B4-552A-426D-B8B1-BC480906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8461-5917-4427-BE78-E517C0C9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63D9-1465-477E-A4EC-0883680C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188-1E1B-4981-A0CB-6EFF84BE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2FA7-9DF4-4AF7-BAA8-87E1D743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BE53-C155-4D16-BAFF-23424B179D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ПАРАЛЛЕЛОГРАМ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СВОЙСТВА ПАРАЛЛЕЛОГРАМ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Найдите углы параллелограмм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если  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D=6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°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B=4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2305080" cy="1600200"/>
          </a:xfrm>
          <a:prstGeom prst="rect">
            <a:avLst/>
          </a:prstGeom>
          <a:ln w="0">
            <a:noFill/>
          </a:ln>
        </p:spPr>
      </p:pic>
      <p:sp>
        <p:nvSpPr>
          <p:cNvPr id="189" name="Заголовок 1"/>
          <p:cNvSpPr/>
          <p:nvPr/>
        </p:nvSpPr>
        <p:spPr>
          <a:xfrm>
            <a:off x="533520" y="3809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Хватит ли 40 см проволоки, чтобы изготовить из неё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ллелограмм со сторонами  14 см и 8 см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8580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ие.</a:t>
            </a:r>
            <a:br>
              <a:rPr sz="18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араллелограммом называют четырехугольник, у которого каждые две противолежащие стороны параллель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981160" cy="1905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"/>
          <p:cNvSpPr/>
          <p:nvPr/>
        </p:nvSpPr>
        <p:spPr>
          <a:xfrm>
            <a:off x="3809880" y="2895480"/>
            <a:ext cx="4800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определению параллелограм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llCD,  BCl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Равнобедренный треугольник 8"/>
          <p:cNvSpPr/>
          <p:nvPr/>
        </p:nvSpPr>
        <p:spPr>
          <a:xfrm rot="19365000">
            <a:off x="1332000" y="1260000"/>
            <a:ext cx="4521240" cy="2571840"/>
          </a:xfrm>
          <a:prstGeom prst="triangle">
            <a:avLst>
              <a:gd name="adj" fmla="val 25704"/>
            </a:avLst>
          </a:prstGeom>
          <a:solidFill>
            <a:srgbClr val="6b6bcf"/>
          </a:solidFill>
          <a:ln w="25560">
            <a:solidFill>
              <a:srgbClr val="6b6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Равнобедренный треугольник 7"/>
          <p:cNvSpPr/>
          <p:nvPr/>
        </p:nvSpPr>
        <p:spPr>
          <a:xfrm rot="8567400">
            <a:off x="2896920" y="3322440"/>
            <a:ext cx="4510080" cy="2562120"/>
          </a:xfrm>
          <a:prstGeom prst="triangle">
            <a:avLst>
              <a:gd name="adj" fmla="val 25704"/>
            </a:avLst>
          </a:prstGeom>
          <a:solidFill>
            <a:srgbClr val="6b6bcf"/>
          </a:solidFill>
          <a:ln w="25560">
            <a:solidFill>
              <a:srgbClr val="6b6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0"/>
          <p:cNvSpPr/>
          <p:nvPr/>
        </p:nvSpPr>
        <p:spPr>
          <a:xfrm>
            <a:off x="1941840" y="46404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1"/>
          <p:cNvSpPr/>
          <p:nvPr/>
        </p:nvSpPr>
        <p:spPr>
          <a:xfrm>
            <a:off x="1726920" y="156852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2"/>
          <p:cNvSpPr/>
          <p:nvPr/>
        </p:nvSpPr>
        <p:spPr>
          <a:xfrm>
            <a:off x="5941440" y="156852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3"/>
          <p:cNvSpPr/>
          <p:nvPr/>
        </p:nvSpPr>
        <p:spPr>
          <a:xfrm>
            <a:off x="6774840" y="478296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Tw Cen MT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ирог 65"/>
          <p:cNvSpPr/>
          <p:nvPr/>
        </p:nvSpPr>
        <p:spPr>
          <a:xfrm rot="3195600">
            <a:off x="2055960" y="4343400"/>
            <a:ext cx="1071360" cy="1192320"/>
          </a:xfrm>
          <a:custGeom>
            <a:avLst/>
            <a:gdLst/>
            <a:ahLst/>
            <a:rect l="l" t="t" r="r" b="b"/>
            <a:pathLst>
              <a:path w="1071563" h="1192212">
                <a:moveTo>
                  <a:pt x="32921" y="390372"/>
                </a:moveTo>
                <a:cubicBezTo>
                  <a:pt x="109906" y="157445"/>
                  <a:pt x="308546" y="1955"/>
                  <a:pt x="531601" y="18"/>
                </a:cubicBezTo>
                <a:cubicBezTo>
                  <a:pt x="532995" y="198714"/>
                  <a:pt x="534388" y="397410"/>
                  <a:pt x="535782" y="596106"/>
                </a:cubicBezTo>
                <a:lnTo>
                  <a:pt x="32921" y="390372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ирог 66"/>
          <p:cNvSpPr/>
          <p:nvPr/>
        </p:nvSpPr>
        <p:spPr>
          <a:xfrm rot="13609200">
            <a:off x="5614560" y="1569600"/>
            <a:ext cx="1114200" cy="1241280"/>
          </a:xfrm>
          <a:custGeom>
            <a:avLst/>
            <a:gdLst/>
            <a:ahLst/>
            <a:rect l="l" t="t" r="r" b="b"/>
            <a:pathLst>
              <a:path w="1114425" h="1241425">
                <a:moveTo>
                  <a:pt x="60931" y="338482"/>
                </a:moveTo>
                <a:cubicBezTo>
                  <a:pt x="166722" y="107641"/>
                  <a:pt x="390134" y="-25677"/>
                  <a:pt x="621260" y="4114"/>
                </a:cubicBezTo>
                <a:lnTo>
                  <a:pt x="557213" y="620713"/>
                </a:lnTo>
                <a:lnTo>
                  <a:pt x="60931" y="338482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илиния 63"/>
          <p:cNvSpPr/>
          <p:nvPr/>
        </p:nvSpPr>
        <p:spPr>
          <a:xfrm>
            <a:off x="4224240" y="3211560"/>
            <a:ext cx="500040" cy="571320"/>
          </a:xfrm>
          <a:custGeom>
            <a:avLst/>
            <a:gdLst/>
            <a:ahLst/>
            <a:rect l="l" t="t" r="r" b="b"/>
            <a:pathLst>
              <a:path w="538162" h="671512">
                <a:moveTo>
                  <a:pt x="142875" y="671512"/>
                </a:moveTo>
                <a:cubicBezTo>
                  <a:pt x="71437" y="471487"/>
                  <a:pt x="0" y="271462"/>
                  <a:pt x="57150" y="242887"/>
                </a:cubicBezTo>
                <a:cubicBezTo>
                  <a:pt x="114300" y="214312"/>
                  <a:pt x="433388" y="540543"/>
                  <a:pt x="485775" y="500062"/>
                </a:cubicBezTo>
                <a:cubicBezTo>
                  <a:pt x="538162" y="459581"/>
                  <a:pt x="371475" y="0"/>
                  <a:pt x="371475" y="0"/>
                </a:cubicBezTo>
                <a:lnTo>
                  <a:pt x="371475" y="0"/>
                </a:lnTo>
              </a:path>
            </a:pathLst>
          </a:custGeom>
          <a:noFill/>
          <a:ln w="28440">
            <a:solidFill>
              <a:srgbClr val="2626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0"/>
          <p:cNvSpPr/>
          <p:nvPr/>
        </p:nvSpPr>
        <p:spPr>
          <a:xfrm>
            <a:off x="2581200" y="38545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1"/>
          <p:cNvSpPr/>
          <p:nvPr/>
        </p:nvSpPr>
        <p:spPr>
          <a:xfrm>
            <a:off x="5796000" y="27115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ирог 72"/>
          <p:cNvSpPr/>
          <p:nvPr/>
        </p:nvSpPr>
        <p:spPr>
          <a:xfrm rot="6996000">
            <a:off x="1933920" y="4334760"/>
            <a:ext cx="1254240" cy="1195200"/>
          </a:xfrm>
          <a:custGeom>
            <a:avLst/>
            <a:gdLst/>
            <a:ahLst/>
            <a:rect l="l" t="t" r="r" b="b"/>
            <a:pathLst>
              <a:path w="1254125" h="1195387">
                <a:moveTo>
                  <a:pt x="73511" y="316893"/>
                </a:moveTo>
                <a:cubicBezTo>
                  <a:pt x="136986" y="203209"/>
                  <a:pt x="237286" y="112107"/>
                  <a:pt x="359476" y="57152"/>
                </a:cubicBezTo>
                <a:lnTo>
                  <a:pt x="627063" y="597694"/>
                </a:lnTo>
                <a:lnTo>
                  <a:pt x="73511" y="316893"/>
                </a:lnTo>
                <a:close/>
              </a:path>
            </a:pathLst>
          </a:cu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ирог 73"/>
          <p:cNvSpPr/>
          <p:nvPr/>
        </p:nvSpPr>
        <p:spPr>
          <a:xfrm rot="17866800">
            <a:off x="5546520" y="1681200"/>
            <a:ext cx="1185840" cy="1058760"/>
          </a:xfrm>
          <a:custGeom>
            <a:avLst/>
            <a:gdLst/>
            <a:ahLst/>
            <a:rect l="l" t="t" r="r" b="b"/>
            <a:pathLst>
              <a:path w="1185862" h="1058863">
                <a:moveTo>
                  <a:pt x="53060" y="310520"/>
                </a:moveTo>
                <a:cubicBezTo>
                  <a:pt x="112459" y="193728"/>
                  <a:pt x="217325" y="100163"/>
                  <a:pt x="348169" y="47213"/>
                </a:cubicBezTo>
                <a:lnTo>
                  <a:pt x="592931" y="529432"/>
                </a:lnTo>
                <a:lnTo>
                  <a:pt x="53060" y="310520"/>
                </a:lnTo>
                <a:close/>
              </a:path>
            </a:pathLst>
          </a:cu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57"/>
          <p:cNvSpPr/>
          <p:nvPr/>
        </p:nvSpPr>
        <p:spPr>
          <a:xfrm flipV="1">
            <a:off x="2571840" y="2214360"/>
            <a:ext cx="3581280" cy="272412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4"/>
          <p:cNvSpPr/>
          <p:nvPr/>
        </p:nvSpPr>
        <p:spPr>
          <a:xfrm>
            <a:off x="3152880" y="43545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5"/>
          <p:cNvSpPr/>
          <p:nvPr/>
        </p:nvSpPr>
        <p:spPr>
          <a:xfrm>
            <a:off x="5224320" y="221148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ирог 76"/>
          <p:cNvSpPr/>
          <p:nvPr/>
        </p:nvSpPr>
        <p:spPr>
          <a:xfrm rot="20742000">
            <a:off x="6183360" y="4361040"/>
            <a:ext cx="1257120" cy="1172880"/>
          </a:xfrm>
          <a:custGeom>
            <a:avLst/>
            <a:gdLst/>
            <a:ahLst/>
            <a:rect l="l" t="t" r="r" b="b"/>
            <a:pathLst>
              <a:path w="1257300" h="1173162">
                <a:moveTo>
                  <a:pt x="23705" y="427022"/>
                </a:moveTo>
                <a:cubicBezTo>
                  <a:pt x="98624" y="179723"/>
                  <a:pt x="337338" y="6723"/>
                  <a:pt x="612669" y="190"/>
                </a:cubicBezTo>
                <a:lnTo>
                  <a:pt x="628650" y="586581"/>
                </a:lnTo>
                <a:lnTo>
                  <a:pt x="23705" y="427022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1"/>
          <p:cNvSpPr/>
          <p:nvPr/>
        </p:nvSpPr>
        <p:spPr>
          <a:xfrm>
            <a:off x="6164280" y="2190600"/>
            <a:ext cx="635040" cy="277200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7"/>
          <p:cNvSpPr/>
          <p:nvPr/>
        </p:nvSpPr>
        <p:spPr>
          <a:xfrm>
            <a:off x="2571120" y="4929120"/>
            <a:ext cx="4227480" cy="1116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ирог 77"/>
          <p:cNvSpPr/>
          <p:nvPr/>
        </p:nvSpPr>
        <p:spPr>
          <a:xfrm rot="10124400">
            <a:off x="1270800" y="1655280"/>
            <a:ext cx="1368360" cy="1105200"/>
          </a:xfrm>
          <a:custGeom>
            <a:avLst/>
            <a:gdLst/>
            <a:ahLst/>
            <a:rect l="l" t="t" r="r" b="b"/>
            <a:pathLst>
              <a:path w="1368425" h="1104900">
                <a:moveTo>
                  <a:pt x="18509" y="424821"/>
                </a:moveTo>
                <a:cubicBezTo>
                  <a:pt x="89762" y="182530"/>
                  <a:pt x="352970" y="8681"/>
                  <a:pt x="661218" y="312"/>
                </a:cubicBezTo>
                <a:lnTo>
                  <a:pt x="684213" y="552450"/>
                </a:lnTo>
                <a:lnTo>
                  <a:pt x="18509" y="424821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6"/>
          <p:cNvSpPr/>
          <p:nvPr/>
        </p:nvSpPr>
        <p:spPr>
          <a:xfrm>
            <a:off x="1925640" y="2189160"/>
            <a:ext cx="4243320" cy="1260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1939320" y="2187720"/>
            <a:ext cx="631800" cy="276372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00120" y="214200"/>
            <a:ext cx="6143760" cy="96048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19194d"/>
                </a:solidFill>
                <a:latin typeface="Arial"/>
              </a:rPr>
              <a:t>Какими свойствами обладает параллелограмм?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33"/>
          <p:cNvSpPr/>
          <p:nvPr/>
        </p:nvSpPr>
        <p:spPr>
          <a:xfrm>
            <a:off x="6319800" y="3497400"/>
            <a:ext cx="285840" cy="1440"/>
          </a:xfrm>
          <a:prstGeom prst="line">
            <a:avLst/>
          </a:prstGeom>
          <a:ln w="284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4"/>
          <p:cNvSpPr/>
          <p:nvPr/>
        </p:nvSpPr>
        <p:spPr>
          <a:xfrm>
            <a:off x="2081160" y="3425760"/>
            <a:ext cx="285840" cy="1800"/>
          </a:xfrm>
          <a:prstGeom prst="line">
            <a:avLst/>
          </a:prstGeom>
          <a:ln w="284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Группа 40"/>
          <p:cNvGrpSpPr/>
          <p:nvPr/>
        </p:nvGrpSpPr>
        <p:grpSpPr>
          <a:xfrm>
            <a:off x="3866400" y="2068560"/>
            <a:ext cx="214200" cy="285840"/>
            <a:chOff x="3866400" y="2068560"/>
            <a:chExt cx="214200" cy="285840"/>
          </a:xfrm>
        </p:grpSpPr>
        <p:sp>
          <p:nvSpPr>
            <p:cNvPr id="72" name="Прямая соединительная линия 35"/>
            <p:cNvSpPr/>
            <p:nvPr/>
          </p:nvSpPr>
          <p:spPr>
            <a:xfrm>
              <a:off x="3937680" y="206856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Прямая соединительная линия 36"/>
            <p:cNvSpPr/>
            <p:nvPr/>
          </p:nvSpPr>
          <p:spPr>
            <a:xfrm>
              <a:off x="3866400" y="206856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Группа 41"/>
          <p:cNvGrpSpPr/>
          <p:nvPr/>
        </p:nvGrpSpPr>
        <p:grpSpPr>
          <a:xfrm>
            <a:off x="4580640" y="4782960"/>
            <a:ext cx="214560" cy="285840"/>
            <a:chOff x="4580640" y="4782960"/>
            <a:chExt cx="214560" cy="285840"/>
          </a:xfrm>
        </p:grpSpPr>
        <p:sp>
          <p:nvSpPr>
            <p:cNvPr id="75" name="Прямая соединительная линия 37"/>
            <p:cNvSpPr/>
            <p:nvPr/>
          </p:nvSpPr>
          <p:spPr>
            <a:xfrm>
              <a:off x="4652280" y="478296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рямая соединительная линия 38"/>
            <p:cNvSpPr/>
            <p:nvPr/>
          </p:nvSpPr>
          <p:spPr>
            <a:xfrm>
              <a:off x="4580640" y="478296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Прямая соединительная линия 40"/>
          <p:cNvSpPr/>
          <p:nvPr/>
        </p:nvSpPr>
        <p:spPr>
          <a:xfrm>
            <a:off x="1946160" y="2214720"/>
            <a:ext cx="4840560" cy="2714400"/>
          </a:xfrm>
          <a:prstGeom prst="line">
            <a:avLst/>
          </a:prstGeom>
          <a:ln w="381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орем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тиволежащие стороны параллелограмма 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657600" y="1371240"/>
            <a:ext cx="5029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араллел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=CD, BC=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араллелограмм 3"/>
          <p:cNvSpPr/>
          <p:nvPr/>
        </p:nvSpPr>
        <p:spPr>
          <a:xfrm>
            <a:off x="838080" y="2133720"/>
            <a:ext cx="2362320" cy="1371600"/>
          </a:xfrm>
          <a:prstGeom prst="parallelogram">
            <a:avLst>
              <a:gd name="adj" fmla="val 24997"/>
            </a:avLst>
          </a:prstGeom>
          <a:noFill/>
          <a:ln w="63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609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26668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3124080" y="1676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762120" y="1676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одержимое 2"/>
          <p:cNvSpPr/>
          <p:nvPr/>
        </p:nvSpPr>
        <p:spPr>
          <a:xfrm>
            <a:off x="3657600" y="2819520"/>
            <a:ext cx="5029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Проведем диагональ 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одержимое 2"/>
          <p:cNvSpPr/>
          <p:nvPr/>
        </p:nvSpPr>
        <p:spPr>
          <a:xfrm>
            <a:off x="3809880" y="358128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Рассмотрим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11"/>
          <p:cNvSpPr/>
          <p:nvPr/>
        </p:nvSpPr>
        <p:spPr>
          <a:xfrm flipV="1">
            <a:off x="838080" y="2133720"/>
            <a:ext cx="2362320" cy="1371600"/>
          </a:xfrm>
          <a:prstGeom prst="line">
            <a:avLst/>
          </a:prstGeom>
          <a:ln w="63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лилиния 16"/>
          <p:cNvSpPr/>
          <p:nvPr/>
        </p:nvSpPr>
        <p:spPr>
          <a:xfrm>
            <a:off x="2870280" y="2349360"/>
            <a:ext cx="268200" cy="185760"/>
          </a:xfrm>
          <a:custGeom>
            <a:avLst/>
            <a:gdLst/>
            <a:ahLst/>
            <a:rect l="l" t="t" r="r" b="b"/>
            <a:pathLst>
              <a:path w="268146" h="185195">
                <a:moveTo>
                  <a:pt x="0" y="0"/>
                </a:moveTo>
                <a:cubicBezTo>
                  <a:pt x="84881" y="62696"/>
                  <a:pt x="169762" y="125393"/>
                  <a:pt x="208344" y="150471"/>
                </a:cubicBezTo>
                <a:cubicBezTo>
                  <a:pt x="246926" y="175549"/>
                  <a:pt x="221848" y="148542"/>
                  <a:pt x="231493" y="150471"/>
                </a:cubicBezTo>
                <a:cubicBezTo>
                  <a:pt x="241138" y="152400"/>
                  <a:pt x="264288" y="156258"/>
                  <a:pt x="266217" y="162045"/>
                </a:cubicBezTo>
                <a:cubicBezTo>
                  <a:pt x="268146" y="167832"/>
                  <a:pt x="255607" y="176513"/>
                  <a:pt x="243068" y="185195"/>
                </a:cubicBez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олилиния 17"/>
          <p:cNvSpPr/>
          <p:nvPr/>
        </p:nvSpPr>
        <p:spPr>
          <a:xfrm>
            <a:off x="2778120" y="2408400"/>
            <a:ext cx="351000" cy="236520"/>
          </a:xfrm>
          <a:custGeom>
            <a:avLst/>
            <a:gdLst/>
            <a:ahLst/>
            <a:rect l="l" t="t" r="r" b="b"/>
            <a:pathLst>
              <a:path w="351099" h="237281">
                <a:moveTo>
                  <a:pt x="0" y="0"/>
                </a:moveTo>
                <a:cubicBezTo>
                  <a:pt x="125392" y="89703"/>
                  <a:pt x="250785" y="179407"/>
                  <a:pt x="300942" y="208344"/>
                </a:cubicBezTo>
                <a:cubicBezTo>
                  <a:pt x="351099" y="237281"/>
                  <a:pt x="326020" y="205450"/>
                  <a:pt x="300942" y="173620"/>
                </a:cubicBez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лилиния 18"/>
          <p:cNvSpPr/>
          <p:nvPr/>
        </p:nvSpPr>
        <p:spPr>
          <a:xfrm>
            <a:off x="960480" y="3159000"/>
            <a:ext cx="264960" cy="150840"/>
          </a:xfrm>
          <a:custGeom>
            <a:avLst/>
            <a:gdLst/>
            <a:ahLst/>
            <a:rect l="l" t="t" r="r" b="b"/>
            <a:pathLst>
              <a:path w="264288" h="150470">
                <a:moveTo>
                  <a:pt x="0" y="0"/>
                </a:moveTo>
                <a:cubicBezTo>
                  <a:pt x="99349" y="52086"/>
                  <a:pt x="198698" y="104172"/>
                  <a:pt x="231493" y="127321"/>
                </a:cubicBezTo>
                <a:cubicBezTo>
                  <a:pt x="264288" y="150470"/>
                  <a:pt x="198698" y="142754"/>
                  <a:pt x="196769" y="138896"/>
                </a:cubicBezTo>
                <a:cubicBezTo>
                  <a:pt x="194840" y="135038"/>
                  <a:pt x="214132" y="113818"/>
                  <a:pt x="219919" y="104172"/>
                </a:cubicBez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лилиния 19"/>
          <p:cNvSpPr/>
          <p:nvPr/>
        </p:nvSpPr>
        <p:spPr>
          <a:xfrm>
            <a:off x="949320" y="3021120"/>
            <a:ext cx="324000" cy="220680"/>
          </a:xfrm>
          <a:custGeom>
            <a:avLst/>
            <a:gdLst/>
            <a:ahLst/>
            <a:rect l="l" t="t" r="r" b="b"/>
            <a:pathLst>
              <a:path w="324091" h="219919">
                <a:moveTo>
                  <a:pt x="0" y="0"/>
                </a:moveTo>
                <a:lnTo>
                  <a:pt x="324091" y="219919"/>
                </a:lnTo>
                <a:lnTo>
                  <a:pt x="324091" y="219919"/>
                </a:ln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0"/>
          <p:cNvSpPr/>
          <p:nvPr/>
        </p:nvSpPr>
        <p:spPr>
          <a:xfrm flipV="1" rot="10800000">
            <a:off x="990720" y="2894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1"/>
          <p:cNvSpPr/>
          <p:nvPr/>
        </p:nvSpPr>
        <p:spPr>
          <a:xfrm>
            <a:off x="2743200" y="2514600"/>
            <a:ext cx="2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олилиния 25"/>
          <p:cNvSpPr/>
          <p:nvPr/>
        </p:nvSpPr>
        <p:spPr>
          <a:xfrm>
            <a:off x="2581200" y="2130480"/>
            <a:ext cx="177840" cy="282600"/>
          </a:xfrm>
          <a:custGeom>
            <a:avLst/>
            <a:gdLst/>
            <a:ahLst/>
            <a:rect l="l" t="t" r="r" b="b"/>
            <a:pathLst>
              <a:path w="177479" h="283579">
                <a:moveTo>
                  <a:pt x="0" y="0"/>
                </a:moveTo>
                <a:cubicBezTo>
                  <a:pt x="50157" y="81023"/>
                  <a:pt x="123463" y="202557"/>
                  <a:pt x="150471" y="243068"/>
                </a:cubicBezTo>
                <a:cubicBezTo>
                  <a:pt x="177479" y="283579"/>
                  <a:pt x="169762" y="263323"/>
                  <a:pt x="162046" y="243068"/>
                </a:cubicBez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олилиния 27"/>
          <p:cNvSpPr/>
          <p:nvPr/>
        </p:nvSpPr>
        <p:spPr>
          <a:xfrm>
            <a:off x="1273320" y="3252960"/>
            <a:ext cx="36360" cy="320400"/>
          </a:xfrm>
          <a:custGeom>
            <a:avLst/>
            <a:gdLst/>
            <a:ahLst/>
            <a:rect l="l" t="t" r="r" b="b"/>
            <a:pathLst>
              <a:path w="36653" h="320232">
                <a:moveTo>
                  <a:pt x="0" y="0"/>
                </a:moveTo>
                <a:cubicBezTo>
                  <a:pt x="16397" y="117676"/>
                  <a:pt x="32795" y="235352"/>
                  <a:pt x="34724" y="277792"/>
                </a:cubicBezTo>
                <a:cubicBezTo>
                  <a:pt x="36653" y="320232"/>
                  <a:pt x="24114" y="287437"/>
                  <a:pt x="11575" y="254643"/>
                </a:cubicBez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8"/>
          <p:cNvSpPr/>
          <p:nvPr/>
        </p:nvSpPr>
        <p:spPr>
          <a:xfrm flipV="1" rot="10800000">
            <a:off x="1371600" y="3123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9"/>
          <p:cNvSpPr/>
          <p:nvPr/>
        </p:nvSpPr>
        <p:spPr>
          <a:xfrm flipV="1" rot="10800000">
            <a:off x="2286000" y="21326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31"/>
          <p:cNvSpPr/>
          <p:nvPr/>
        </p:nvSpPr>
        <p:spPr>
          <a:xfrm>
            <a:off x="914400" y="2666880"/>
            <a:ext cx="228600" cy="7632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33"/>
          <p:cNvSpPr/>
          <p:nvPr/>
        </p:nvSpPr>
        <p:spPr>
          <a:xfrm>
            <a:off x="2895480" y="2971800"/>
            <a:ext cx="228600" cy="7632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35"/>
          <p:cNvSpPr/>
          <p:nvPr/>
        </p:nvSpPr>
        <p:spPr>
          <a:xfrm>
            <a:off x="914400" y="2743200"/>
            <a:ext cx="228600" cy="7632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36"/>
          <p:cNvSpPr/>
          <p:nvPr/>
        </p:nvSpPr>
        <p:spPr>
          <a:xfrm>
            <a:off x="2895480" y="3048120"/>
            <a:ext cx="228600" cy="7596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37"/>
          <p:cNvSpPr/>
          <p:nvPr/>
        </p:nvSpPr>
        <p:spPr>
          <a:xfrm flipH="1">
            <a:off x="1904760" y="1981080"/>
            <a:ext cx="75960" cy="30492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39"/>
          <p:cNvSpPr/>
          <p:nvPr/>
        </p:nvSpPr>
        <p:spPr>
          <a:xfrm flipH="1">
            <a:off x="1904760" y="3276720"/>
            <a:ext cx="75960" cy="30456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914400" y="38862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-общая стор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держимое 2"/>
          <p:cNvSpPr/>
          <p:nvPr/>
        </p:nvSpPr>
        <p:spPr>
          <a:xfrm>
            <a:off x="914400" y="41911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˪1=˪2 –накрест лежащие при ВС|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секущей А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одержимое 2"/>
          <p:cNvSpPr/>
          <p:nvPr/>
        </p:nvSpPr>
        <p:spPr>
          <a:xfrm>
            <a:off x="914400" y="4495680"/>
            <a:ext cx="7620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˪3=˪4 –накрест лежащие при АВ||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секущей 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одержимое 2"/>
          <p:cNvSpPr/>
          <p:nvPr/>
        </p:nvSpPr>
        <p:spPr>
          <a:xfrm>
            <a:off x="838080" y="4876920"/>
            <a:ext cx="7620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овательно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второму признаку равенства треугольник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одержимое 2"/>
          <p:cNvSpPr/>
          <p:nvPr/>
        </p:nvSpPr>
        <p:spPr>
          <a:xfrm>
            <a:off x="914400" y="5638680"/>
            <a:ext cx="388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=CD, BC=A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0"/>
          <p:cNvSpPr/>
          <p:nvPr/>
        </p:nvSpPr>
        <p:spPr>
          <a:xfrm>
            <a:off x="5105520" y="5867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орем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тиволежащие углы параллелограмма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047760" cy="1628640"/>
          </a:xfrm>
          <a:prstGeom prst="rect">
            <a:avLst/>
          </a:prstGeom>
          <a:ln w="0">
            <a:noFill/>
          </a:ln>
        </p:spPr>
      </p:pic>
      <p:sp>
        <p:nvSpPr>
          <p:cNvPr id="112" name="Заголовок 1"/>
          <p:cNvSpPr/>
          <p:nvPr/>
        </p:nvSpPr>
        <p:spPr>
          <a:xfrm>
            <a:off x="3886200" y="1600200"/>
            <a:ext cx="3429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араллел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533520" y="320040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орем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иагонали параллелограмма точкой пересе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лятся попо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838080" y="4419720"/>
            <a:ext cx="2943360" cy="1638360"/>
          </a:xfrm>
          <a:prstGeom prst="rect">
            <a:avLst/>
          </a:prstGeom>
          <a:ln w="0">
            <a:noFill/>
          </a:ln>
        </p:spPr>
      </p:pic>
      <p:sp>
        <p:nvSpPr>
          <p:cNvPr id="115" name="Заголовок 1"/>
          <p:cNvSpPr/>
          <p:nvPr/>
        </p:nvSpPr>
        <p:spPr>
          <a:xfrm>
            <a:off x="4419720" y="4572000"/>
            <a:ext cx="3429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араллел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О=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сотой параллелограмма называют перпендикуляр, опущенный из любой точки прямой, содержащей сторону параллелограмма, на прямую, содержащую противолежащую стор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араллелограмм 3"/>
          <p:cNvSpPr/>
          <p:nvPr/>
        </p:nvSpPr>
        <p:spPr>
          <a:xfrm>
            <a:off x="1447920" y="2438280"/>
            <a:ext cx="2743200" cy="1752840"/>
          </a:xfrm>
          <a:prstGeom prst="parallelogram">
            <a:avLst>
              <a:gd name="adj" fmla="val 24997"/>
            </a:avLst>
          </a:prstGeom>
          <a:noFill/>
          <a:ln w="63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914400" y="4191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7"/>
          <p:cNvSpPr/>
          <p:nvPr/>
        </p:nvSpPr>
        <p:spPr>
          <a:xfrm>
            <a:off x="1066680" y="3048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6"/>
          <p:cNvSpPr/>
          <p:nvPr/>
        </p:nvSpPr>
        <p:spPr>
          <a:xfrm>
            <a:off x="4267080" y="1981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6"/>
          <p:cNvSpPr/>
          <p:nvPr/>
        </p:nvSpPr>
        <p:spPr>
          <a:xfrm>
            <a:off x="3657600" y="4191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9"/>
          <p:cNvSpPr/>
          <p:nvPr/>
        </p:nvSpPr>
        <p:spPr>
          <a:xfrm>
            <a:off x="1905120" y="2438280"/>
            <a:ext cx="0" cy="175284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6"/>
          <p:cNvSpPr/>
          <p:nvPr/>
        </p:nvSpPr>
        <p:spPr>
          <a:xfrm>
            <a:off x="1752480" y="42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12"/>
          <p:cNvSpPr/>
          <p:nvPr/>
        </p:nvSpPr>
        <p:spPr>
          <a:xfrm>
            <a:off x="1447920" y="4191120"/>
            <a:ext cx="487656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14"/>
          <p:cNvSpPr/>
          <p:nvPr/>
        </p:nvSpPr>
        <p:spPr>
          <a:xfrm>
            <a:off x="4191120" y="2438280"/>
            <a:ext cx="0" cy="175284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6"/>
          <p:cNvSpPr/>
          <p:nvPr/>
        </p:nvSpPr>
        <p:spPr>
          <a:xfrm>
            <a:off x="4191120" y="42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19"/>
          <p:cNvSpPr/>
          <p:nvPr/>
        </p:nvSpPr>
        <p:spPr>
          <a:xfrm flipH="1" flipV="1">
            <a:off x="1599840" y="3504960"/>
            <a:ext cx="2133720" cy="6858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144792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23"/>
          <p:cNvSpPr/>
          <p:nvPr/>
        </p:nvSpPr>
        <p:spPr>
          <a:xfrm>
            <a:off x="1905120" y="2514600"/>
            <a:ext cx="2133360" cy="60948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4267080" y="289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Заголовок 1"/>
          <p:cNvSpPr/>
          <p:nvPr/>
        </p:nvSpPr>
        <p:spPr>
          <a:xfrm>
            <a:off x="4343400" y="4648320"/>
            <a:ext cx="5257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N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та к стор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та к стор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M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та к стор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K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та к стор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та к стор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8"/>
          <p:cNvSpPr/>
          <p:nvPr/>
        </p:nvSpPr>
        <p:spPr>
          <a:xfrm flipH="1">
            <a:off x="3276360" y="3962520"/>
            <a:ext cx="533160" cy="198108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30"/>
          <p:cNvSpPr/>
          <p:nvPr/>
        </p:nvSpPr>
        <p:spPr>
          <a:xfrm>
            <a:off x="1447920" y="4191120"/>
            <a:ext cx="2133360" cy="6858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3657600" y="4800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Определите, не выполняя измерений, на каких рисунках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величины углов или длины отрезков обозначен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неправильно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2695320" cy="1886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3581280" y="1752480"/>
            <a:ext cx="3314880" cy="1762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6019920" y="2895480"/>
            <a:ext cx="2790720" cy="2057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4"/>
          <a:stretch/>
        </p:blipFill>
        <p:spPr>
          <a:xfrm>
            <a:off x="838080" y="4038480"/>
            <a:ext cx="2847960" cy="195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5"/>
          <a:stretch/>
        </p:blipFill>
        <p:spPr>
          <a:xfrm>
            <a:off x="3962520" y="4648320"/>
            <a:ext cx="3295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араллелограмм 3"/>
          <p:cNvSpPr/>
          <p:nvPr/>
        </p:nvSpPr>
        <p:spPr>
          <a:xfrm>
            <a:off x="2008080" y="1995480"/>
            <a:ext cx="4572000" cy="2571840"/>
          </a:xfrm>
          <a:prstGeom prst="parallelogram">
            <a:avLst>
              <a:gd name="adj" fmla="val 25003"/>
            </a:avLst>
          </a:prstGeom>
          <a:solidFill>
            <a:srgbClr val="a3a3e0"/>
          </a:solidFill>
          <a:ln w="2844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те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4"/>
          <p:cNvSpPr/>
          <p:nvPr/>
        </p:nvSpPr>
        <p:spPr>
          <a:xfrm>
            <a:off x="1857240" y="428760"/>
            <a:ext cx="642960" cy="642960"/>
          </a:xfrm>
          <a:prstGeom prst="ellipse">
            <a:avLst/>
          </a:prstGeom>
          <a:solidFill>
            <a:srgbClr val="a3a3e0"/>
          </a:solidFill>
          <a:ln w="25560">
            <a:solidFill>
              <a:srgbClr val="a3a3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2000160" y="42876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6"/>
          <p:cNvSpPr/>
          <p:nvPr/>
        </p:nvSpPr>
        <p:spPr>
          <a:xfrm>
            <a:off x="1428840" y="428616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7"/>
          <p:cNvSpPr/>
          <p:nvPr/>
        </p:nvSpPr>
        <p:spPr>
          <a:xfrm>
            <a:off x="2143080" y="15001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8"/>
          <p:cNvSpPr/>
          <p:nvPr/>
        </p:nvSpPr>
        <p:spPr>
          <a:xfrm>
            <a:off x="6572160" y="15001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9"/>
          <p:cNvSpPr/>
          <p:nvPr/>
        </p:nvSpPr>
        <p:spPr>
          <a:xfrm>
            <a:off x="6000840" y="42148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3500280" y="149688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6357960" y="292896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714240" y="51436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периметр параллелограмма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NP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17"/>
          <p:cNvSpPr/>
          <p:nvPr/>
        </p:nvSpPr>
        <p:spPr>
          <a:xfrm>
            <a:off x="1071720" y="428760"/>
            <a:ext cx="642960" cy="633240"/>
          </a:xfrm>
          <a:prstGeom prst="ellipse">
            <a:avLst/>
          </a:prstGeom>
          <a:solidFill>
            <a:srgbClr val="a3a3e0"/>
          </a:solidFill>
          <a:ln w="25560">
            <a:solidFill>
              <a:srgbClr val="a3a3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8"/>
          <p:cNvSpPr/>
          <p:nvPr/>
        </p:nvSpPr>
        <p:spPr>
          <a:xfrm>
            <a:off x="1214280" y="50004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Дуга 19"/>
          <p:cNvSpPr/>
          <p:nvPr/>
        </p:nvSpPr>
        <p:spPr>
          <a:xfrm>
            <a:off x="1785960" y="4214880"/>
            <a:ext cx="571320" cy="642960"/>
          </a:xfrm>
          <a:custGeom>
            <a:avLst/>
            <a:gdLst/>
            <a:ahLst/>
            <a:rect l="l" t="t" r="r" b="b"/>
            <a:pathLst>
              <a:path stroke="0" w="571500" h="642937">
                <a:moveTo>
                  <a:pt x="324406" y="2955"/>
                </a:moveTo>
                <a:cubicBezTo>
                  <a:pt x="471176" y="25499"/>
                  <a:pt x="578299" y="170485"/>
                  <a:pt x="571169" y="336941"/>
                </a:cubicBezTo>
                <a:lnTo>
                  <a:pt x="285750" y="321469"/>
                </a:lnTo>
                <a:lnTo>
                  <a:pt x="324406" y="2955"/>
                </a:lnTo>
                <a:close/>
              </a:path>
              <a:path fill="none" w="571500" h="642937">
                <a:moveTo>
                  <a:pt x="324406" y="2955"/>
                </a:moveTo>
                <a:cubicBezTo>
                  <a:pt x="471176" y="25499"/>
                  <a:pt x="578299" y="170485"/>
                  <a:pt x="571169" y="33694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0"/>
          <p:cNvSpPr/>
          <p:nvPr/>
        </p:nvSpPr>
        <p:spPr>
          <a:xfrm>
            <a:off x="2571840" y="392904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70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1"/>
          <p:cNvSpPr/>
          <p:nvPr/>
        </p:nvSpPr>
        <p:spPr>
          <a:xfrm>
            <a:off x="714240" y="5786280"/>
            <a:ext cx="742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все углы параллелограмма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NP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3"/>
          <p:cNvSpPr/>
          <p:nvPr/>
        </p:nvSpPr>
        <p:spPr>
          <a:xfrm>
            <a:off x="3071880" y="285840"/>
            <a:ext cx="257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4"/>
          <p:cNvSpPr/>
          <p:nvPr/>
        </p:nvSpPr>
        <p:spPr>
          <a:xfrm>
            <a:off x="3143160" y="464328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5"/>
          <p:cNvSpPr/>
          <p:nvPr/>
        </p:nvSpPr>
        <p:spPr>
          <a:xfrm>
            <a:off x="1500120" y="29289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6"/>
          <p:cNvSpPr/>
          <p:nvPr/>
        </p:nvSpPr>
        <p:spPr>
          <a:xfrm>
            <a:off x="1428840" y="514368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 = (7 + 4) </a:t>
            </a:r>
            <a:r>
              <a:rPr b="1" lang="ru-RU" sz="2800" spc="-1" strike="noStrike">
                <a:solidFill>
                  <a:srgbClr val="000000"/>
                </a:solidFill>
                <a:latin typeface="Sylfaen"/>
              </a:rPr>
              <a:t>·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= 22 (с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Группа 103"/>
          <p:cNvGrpSpPr/>
          <p:nvPr/>
        </p:nvGrpSpPr>
        <p:grpSpPr>
          <a:xfrm>
            <a:off x="-1663200" y="5357880"/>
            <a:ext cx="6228000" cy="520560"/>
            <a:chOff x="-1663200" y="5357880"/>
            <a:chExt cx="6228000" cy="520560"/>
          </a:xfrm>
        </p:grpSpPr>
        <p:sp>
          <p:nvSpPr>
            <p:cNvPr id="164" name="Прямоугольник 28"/>
            <p:cNvSpPr/>
            <p:nvPr/>
          </p:nvSpPr>
          <p:spPr>
            <a:xfrm>
              <a:off x="-1663200" y="5357880"/>
              <a:ext cx="622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        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М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=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Р = 70</a:t>
              </a:r>
              <a:r>
                <a:rPr b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Object 38"/>
                <p:cNvSpPr txBox="1"/>
                <p:nvPr/>
              </p:nvSpPr>
              <p:spPr>
                <a:xfrm>
                  <a:off x="1811520" y="5480640"/>
                  <a:ext cx="357120" cy="28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6" name="Object 39"/>
                <p:cNvSpPr txBox="1"/>
                <p:nvPr/>
              </p:nvSpPr>
              <p:spPr>
                <a:xfrm>
                  <a:off x="2692440" y="5488920"/>
                  <a:ext cx="357120" cy="28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7" name="Группа 103"/>
          <p:cNvGrpSpPr/>
          <p:nvPr/>
        </p:nvGrpSpPr>
        <p:grpSpPr>
          <a:xfrm>
            <a:off x="-2096640" y="5857920"/>
            <a:ext cx="8026920" cy="520560"/>
            <a:chOff x="-2096640" y="5857920"/>
            <a:chExt cx="8026920" cy="520560"/>
          </a:xfrm>
        </p:grpSpPr>
        <p:sp>
          <p:nvSpPr>
            <p:cNvPr id="168" name="Прямоугольник 32"/>
            <p:cNvSpPr/>
            <p:nvPr/>
          </p:nvSpPr>
          <p:spPr>
            <a:xfrm>
              <a:off x="-2096640" y="5857920"/>
              <a:ext cx="80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N =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K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80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-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70</a:t>
              </a:r>
              <a:r>
                <a:rPr b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= 110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4"/>
                <p:cNvSpPr txBox="1"/>
                <p:nvPr/>
              </p:nvSpPr>
              <p:spPr>
                <a:xfrm>
                  <a:off x="1311480" y="5980680"/>
                  <a:ext cx="357120" cy="28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Object 5"/>
                <p:cNvSpPr txBox="1"/>
                <p:nvPr/>
              </p:nvSpPr>
              <p:spPr>
                <a:xfrm>
                  <a:off x="2180520" y="5988960"/>
                  <a:ext cx="357120" cy="28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1" name="Дуга 35"/>
          <p:cNvSpPr/>
          <p:nvPr/>
        </p:nvSpPr>
        <p:spPr>
          <a:xfrm rot="10282200">
            <a:off x="6187680" y="1682640"/>
            <a:ext cx="571680" cy="642960"/>
          </a:xfrm>
          <a:custGeom>
            <a:avLst/>
            <a:gdLst/>
            <a:ahLst/>
            <a:rect l="l" t="t" r="r" b="b"/>
            <a:pathLst>
              <a:path stroke="0" w="571500" h="642938">
                <a:moveTo>
                  <a:pt x="327868" y="3511"/>
                </a:moveTo>
                <a:cubicBezTo>
                  <a:pt x="407372" y="16840"/>
                  <a:pt x="478209" y="67223"/>
                  <a:pt x="523007" y="142307"/>
                </a:cubicBezTo>
                <a:cubicBezTo>
                  <a:pt x="561686" y="207133"/>
                  <a:pt x="578071" y="285579"/>
                  <a:pt x="569105" y="363001"/>
                </a:cubicBezTo>
                <a:lnTo>
                  <a:pt x="285750" y="321469"/>
                </a:lnTo>
                <a:lnTo>
                  <a:pt x="327868" y="3511"/>
                </a:lnTo>
                <a:close/>
              </a:path>
              <a:path fill="none" w="571500" h="642938">
                <a:moveTo>
                  <a:pt x="327868" y="3511"/>
                </a:moveTo>
                <a:cubicBezTo>
                  <a:pt x="407372" y="16840"/>
                  <a:pt x="478209" y="67223"/>
                  <a:pt x="523007" y="142307"/>
                </a:cubicBezTo>
                <a:cubicBezTo>
                  <a:pt x="561686" y="207133"/>
                  <a:pt x="578071" y="285579"/>
                  <a:pt x="569105" y="36300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6"/>
          <p:cNvSpPr/>
          <p:nvPr/>
        </p:nvSpPr>
        <p:spPr>
          <a:xfrm>
            <a:off x="5572080" y="214308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70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9"/>
          <p:cNvSpPr/>
          <p:nvPr/>
        </p:nvSpPr>
        <p:spPr>
          <a:xfrm>
            <a:off x="2786040" y="221472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110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0"/>
          <p:cNvSpPr/>
          <p:nvPr/>
        </p:nvSpPr>
        <p:spPr>
          <a:xfrm>
            <a:off x="4857840" y="378612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110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Дуга 41"/>
          <p:cNvSpPr/>
          <p:nvPr/>
        </p:nvSpPr>
        <p:spPr>
          <a:xfrm rot="16200000">
            <a:off x="5679360" y="4250520"/>
            <a:ext cx="571680" cy="642960"/>
          </a:xfrm>
          <a:custGeom>
            <a:avLst/>
            <a:gdLst/>
            <a:ahLst/>
            <a:rect l="l" t="t" r="r" b="b"/>
            <a:pathLst>
              <a:path stroke="0" w="571500" h="642937">
                <a:moveTo>
                  <a:pt x="313036" y="1469"/>
                </a:moveTo>
                <a:cubicBezTo>
                  <a:pt x="465977" y="17974"/>
                  <a:pt x="579939" y="167579"/>
                  <a:pt x="571017" y="340136"/>
                </a:cubicBezTo>
                <a:lnTo>
                  <a:pt x="285750" y="321469"/>
                </a:lnTo>
                <a:lnTo>
                  <a:pt x="313036" y="1469"/>
                </a:lnTo>
                <a:close/>
              </a:path>
              <a:path fill="none" w="571500" h="642937">
                <a:moveTo>
                  <a:pt x="313036" y="1469"/>
                </a:moveTo>
                <a:cubicBezTo>
                  <a:pt x="465977" y="17974"/>
                  <a:pt x="579939" y="167579"/>
                  <a:pt x="571017" y="34013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Дуга 42"/>
          <p:cNvSpPr/>
          <p:nvPr/>
        </p:nvSpPr>
        <p:spPr>
          <a:xfrm rot="16200000">
            <a:off x="5500440" y="4143240"/>
            <a:ext cx="928800" cy="928440"/>
          </a:xfrm>
          <a:custGeom>
            <a:avLst/>
            <a:gdLst/>
            <a:ahLst/>
            <a:rect l="l" t="t" r="r" b="b"/>
            <a:pathLst>
              <a:path stroke="0" w="928688" h="928687">
                <a:moveTo>
                  <a:pt x="522796" y="3694"/>
                </a:moveTo>
                <a:cubicBezTo>
                  <a:pt x="645651" y="19283"/>
                  <a:pt x="757189" y="83301"/>
                  <a:pt x="832618" y="181520"/>
                </a:cubicBezTo>
                <a:cubicBezTo>
                  <a:pt x="908047" y="279738"/>
                  <a:pt x="941117" y="404018"/>
                  <a:pt x="924478" y="526735"/>
                </a:cubicBezTo>
                <a:lnTo>
                  <a:pt x="464344" y="464344"/>
                </a:lnTo>
                <a:lnTo>
                  <a:pt x="522796" y="3694"/>
                </a:lnTo>
                <a:close/>
              </a:path>
              <a:path fill="none" w="928688" h="928687">
                <a:moveTo>
                  <a:pt x="522796" y="3694"/>
                </a:moveTo>
                <a:cubicBezTo>
                  <a:pt x="645651" y="19283"/>
                  <a:pt x="757189" y="83301"/>
                  <a:pt x="832618" y="181520"/>
                </a:cubicBezTo>
                <a:cubicBezTo>
                  <a:pt x="908047" y="279738"/>
                  <a:pt x="941117" y="404018"/>
                  <a:pt x="924478" y="52673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43"/>
          <p:cNvSpPr/>
          <p:nvPr/>
        </p:nvSpPr>
        <p:spPr>
          <a:xfrm>
            <a:off x="2238480" y="3000240"/>
            <a:ext cx="285480" cy="1800"/>
          </a:xfrm>
          <a:prstGeom prst="line">
            <a:avLst/>
          </a:prstGeom>
          <a:ln w="284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44"/>
          <p:cNvSpPr/>
          <p:nvPr/>
        </p:nvSpPr>
        <p:spPr>
          <a:xfrm>
            <a:off x="6143760" y="3071880"/>
            <a:ext cx="285480" cy="1440"/>
          </a:xfrm>
          <a:prstGeom prst="line">
            <a:avLst/>
          </a:prstGeom>
          <a:ln w="284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Группа 45"/>
          <p:cNvGrpSpPr/>
          <p:nvPr/>
        </p:nvGrpSpPr>
        <p:grpSpPr>
          <a:xfrm>
            <a:off x="4214160" y="1857240"/>
            <a:ext cx="214200" cy="285840"/>
            <a:chOff x="4214160" y="1857240"/>
            <a:chExt cx="214200" cy="285840"/>
          </a:xfrm>
        </p:grpSpPr>
        <p:sp>
          <p:nvSpPr>
            <p:cNvPr id="180" name="Прямая соединительная линия 46"/>
            <p:cNvSpPr/>
            <p:nvPr/>
          </p:nvSpPr>
          <p:spPr>
            <a:xfrm>
              <a:off x="4285440" y="185724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Прямая соединительная линия 47"/>
            <p:cNvSpPr/>
            <p:nvPr/>
          </p:nvSpPr>
          <p:spPr>
            <a:xfrm>
              <a:off x="4214160" y="185724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Группа 48"/>
          <p:cNvGrpSpPr/>
          <p:nvPr/>
        </p:nvGrpSpPr>
        <p:grpSpPr>
          <a:xfrm>
            <a:off x="4071240" y="4429080"/>
            <a:ext cx="214200" cy="285840"/>
            <a:chOff x="4071240" y="4429080"/>
            <a:chExt cx="214200" cy="285840"/>
          </a:xfrm>
        </p:grpSpPr>
        <p:sp>
          <p:nvSpPr>
            <p:cNvPr id="183" name="Прямая соединительная линия 49"/>
            <p:cNvSpPr/>
            <p:nvPr/>
          </p:nvSpPr>
          <p:spPr>
            <a:xfrm>
              <a:off x="4142520" y="442908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ая соединительная линия 50"/>
            <p:cNvSpPr/>
            <p:nvPr/>
          </p:nvSpPr>
          <p:spPr>
            <a:xfrm>
              <a:off x="4071240" y="442908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Дуга 37"/>
          <p:cNvSpPr/>
          <p:nvPr/>
        </p:nvSpPr>
        <p:spPr>
          <a:xfrm rot="5400000">
            <a:off x="2321640" y="1678680"/>
            <a:ext cx="571320" cy="642960"/>
          </a:xfrm>
          <a:custGeom>
            <a:avLst/>
            <a:gdLst/>
            <a:ahLst/>
            <a:rect l="l" t="t" r="r" b="b"/>
            <a:pathLst>
              <a:path stroke="0" w="571500" h="642938">
                <a:moveTo>
                  <a:pt x="286489" y="1"/>
                </a:moveTo>
                <a:cubicBezTo>
                  <a:pt x="370349" y="245"/>
                  <a:pt x="449881" y="41919"/>
                  <a:pt x="504008" y="113978"/>
                </a:cubicBezTo>
                <a:cubicBezTo>
                  <a:pt x="550316" y="175628"/>
                  <a:pt x="574315" y="254620"/>
                  <a:pt x="571237" y="335260"/>
                </a:cubicBezTo>
                <a:lnTo>
                  <a:pt x="285750" y="321469"/>
                </a:lnTo>
                <a:cubicBezTo>
                  <a:pt x="285996" y="214313"/>
                  <a:pt x="286243" y="107157"/>
                  <a:pt x="286489" y="1"/>
                </a:cubicBezTo>
                <a:close/>
              </a:path>
              <a:path fill="none" w="571500" h="642938">
                <a:moveTo>
                  <a:pt x="286489" y="1"/>
                </a:moveTo>
                <a:cubicBezTo>
                  <a:pt x="370349" y="245"/>
                  <a:pt x="449881" y="41919"/>
                  <a:pt x="504008" y="113978"/>
                </a:cubicBezTo>
                <a:cubicBezTo>
                  <a:pt x="550316" y="175628"/>
                  <a:pt x="574315" y="254620"/>
                  <a:pt x="571237" y="33526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Дуга 38"/>
          <p:cNvSpPr/>
          <p:nvPr/>
        </p:nvSpPr>
        <p:spPr>
          <a:xfrm rot="5400000">
            <a:off x="2143080" y="1500120"/>
            <a:ext cx="928800" cy="928800"/>
          </a:xfrm>
          <a:custGeom>
            <a:avLst/>
            <a:gdLst/>
            <a:ahLst/>
            <a:rect l="l" t="t" r="r" b="b"/>
            <a:pathLst>
              <a:path stroke="0" w="928687" h="928688">
                <a:moveTo>
                  <a:pt x="503815" y="1681"/>
                </a:moveTo>
                <a:cubicBezTo>
                  <a:pt x="627197" y="12207"/>
                  <a:pt x="741263" y="71579"/>
                  <a:pt x="820664" y="166601"/>
                </a:cubicBezTo>
                <a:cubicBezTo>
                  <a:pt x="900065" y="261624"/>
                  <a:pt x="938223" y="384425"/>
                  <a:pt x="926657" y="507713"/>
                </a:cubicBezTo>
                <a:lnTo>
                  <a:pt x="464344" y="464344"/>
                </a:lnTo>
                <a:lnTo>
                  <a:pt x="503815" y="1681"/>
                </a:lnTo>
                <a:close/>
              </a:path>
              <a:path fill="none" w="928687" h="928688">
                <a:moveTo>
                  <a:pt x="503815" y="1681"/>
                </a:moveTo>
                <a:cubicBezTo>
                  <a:pt x="627197" y="12207"/>
                  <a:pt x="741263" y="71579"/>
                  <a:pt x="820664" y="166601"/>
                </a:cubicBezTo>
                <a:cubicBezTo>
                  <a:pt x="900065" y="261624"/>
                  <a:pt x="938223" y="384425"/>
                  <a:pt x="926657" y="50771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етматика_1</cp:lastModifiedBy>
  <dcterms:modified xsi:type="dcterms:W3CDTF">2022-09-15T04:41:3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