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FF4-0847-41A8-A8CC-AE508954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3F2-DF78-43AA-9CC9-DB4F844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4C5-B710-4593-944D-004527C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647-003C-43C3-AC3F-A8B1ECD8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2B7-C90D-4CA8-B6DF-CB8A8097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A00-E79C-4DF0-8DD9-AEF56523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E33-78D0-43FF-B800-31029B8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DBB-79BC-43A3-8606-92E750B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CA0-B7D4-44B7-B22E-274D2DCC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A2B-F726-4252-ADB4-BE6E038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8B4-A167-43B8-9BE5-DF44387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7E2-DE6F-4ABB-BDA2-5547809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D20F-1844-4234-BD9E-BBF1D0AEF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0"/>
            <a:ext cx="82087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ТАЛАНТЛИВЫХ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ЕЙ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й прибор явля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новным прибором астрологов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микр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324000" y="5157720"/>
            <a:ext cx="3168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алейд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ильм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5724360" y="3933720"/>
            <a:ext cx="302436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теле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форму принима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ля во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невесомости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468360" y="5084640"/>
            <a:ext cx="30970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линд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572436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у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5651640" y="3860640"/>
            <a:ext cx="288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он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9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ТЬ ЕЩЁ ПОРОХ В ПОРОХОВНИЦ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ь такое крылатое выражение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И на Солнце есть ..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го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пят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5796000" y="5157720"/>
            <a:ext cx="2879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ке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рате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29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30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зодиакальное созвезд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едует за созвездием Водоле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Теле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зеро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Рыб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5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96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то свой первый полёт  соверша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голубом воздушном шаре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онгольфь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24000" y="5157720"/>
            <a:ext cx="32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олковск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инни - Пу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енделее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769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70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539640" y="1052640"/>
            <a:ext cx="813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имая песня космонавтов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395280" y="3860640"/>
            <a:ext cx="3097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"Катю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324000" y="5229360"/>
            <a:ext cx="3241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"Алё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"Надежд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"Антошк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839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840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ДА  МОЯ  СЕМЬЯ  СО  МНО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539640" y="69228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каком из этих устройст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рон Мюнхгауз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етел на Лун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250920" y="3860640"/>
            <a:ext cx="3241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рак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250920" y="5157720"/>
            <a:ext cx="33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й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вёр-сам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1"/>
          <p:cNvSpPr txBox="1"/>
          <p:nvPr/>
        </p:nvSpPr>
        <p:spPr>
          <a:xfrm>
            <a:off x="5508720" y="386064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пушечное ядр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05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06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сатель, который за 104 г. до полёта человека на Луну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писал книгу "С Земли на Луну", в котор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робно описывал полет астронавтов на Луну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арк Т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468360" y="515772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орган Роберт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оберт Стивен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Жюль Ве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75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76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95280" y="4292640"/>
            <a:ext cx="85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ПЛАНЕТАМ НА РАКЕ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форму ковш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з. Ль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324000" y="5084640"/>
            <a:ext cx="32414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оз. Плея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5364000" y="515772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. Больш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WordArt 11"/>
          <p:cNvSpPr txBox="1"/>
          <p:nvPr/>
        </p:nvSpPr>
        <p:spPr>
          <a:xfrm>
            <a:off x="5364000" y="386064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. Мал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9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0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чём космонавты храня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ринимают пищ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 кастрюл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 тюби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5580000" y="5157720"/>
            <a:ext cx="30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 бан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5364000" y="3860640"/>
            <a:ext cx="338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 термо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19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20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395280" y="1341360"/>
            <a:ext cx="8353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ПЕР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9640" y="549360"/>
            <a:ext cx="813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евятый день девятого месяц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тайского календаря отмеч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аздник высокого полёта"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он посвящаетс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оздушным замк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468360" y="5084640"/>
            <a:ext cx="3097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м шар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5867280" y="515772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оздушным зме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ыльным пузыр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89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90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всех звёзд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димых зимой на небе России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а (звезда) самая ярка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лнц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9"/>
          <p:cNvSpPr txBox="1"/>
          <p:nvPr/>
        </p:nvSpPr>
        <p:spPr>
          <a:xfrm>
            <a:off x="539640" y="5157720"/>
            <a:ext cx="26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ег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5651640" y="5157720"/>
            <a:ext cx="316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Поляр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5651640" y="3860640"/>
            <a:ext cx="31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ири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9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0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лунная валю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версии Николая Носов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рубл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508720" y="3860640"/>
            <a:ext cx="3240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долл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25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326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из эт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кольц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324000" y="515772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5364000" y="5157720"/>
            <a:ext cx="345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364000" y="386064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99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0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395280" y="333360"/>
            <a:ext cx="835344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планета назыв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луб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5867280" y="522936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0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лизкая к Солнц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ета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651640" y="515772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611280" y="3860640"/>
            <a:ext cx="2665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9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40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планету называют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0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1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ольшая план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нечной системы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395280" y="386064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79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80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95280" y="4292640"/>
            <a:ext cx="8569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ОДИН  ЗА  ВСЕХ!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место старта космических корабле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аэропор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осм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акет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аэр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345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346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тносится к зодиакальным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Лебед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Близне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724360" y="5229360"/>
            <a:ext cx="2954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Де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5651640" y="3933720"/>
            <a:ext cx="28810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9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0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9:23:14Z</dcterms:created>
  <dc:creator>Наталья</dc:creator>
  <dc:description/>
  <dc:language>en-US</dc:language>
  <cp:lastModifiedBy>HOME</cp:lastModifiedBy>
  <dcterms:modified xsi:type="dcterms:W3CDTF">2022-11-17T07:50:14Z</dcterms:modified>
  <cp:revision>8</cp:revision>
  <dc:subject/>
  <dc:title>Игра</dc:title>
</cp:coreProperties>
</file>