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2B7-DA9C-44FC-A92B-729E06D0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305-5E3F-45B7-ADC5-65FB9AC1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A54-6A86-4DA8-AD15-B555A618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2D2-4379-46F3-9458-246D7390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BBD-40AB-4ED6-B20F-8967EDB9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FFF-499E-4AA7-ADC6-15CD2346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035-1DFF-4A08-B4A0-2D328A8D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3C4-8549-4144-8258-E0567DAC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B67-662E-4547-B0BD-C8346F04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5C1-BC33-4FF1-A076-9EC275A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BFF-C636-4D07-9873-9F09378B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C5D-2246-4A12-B5B4-D8F4FE0D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971F-EDE7-4DB6-B022-87112D9C51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0"/>
            <a:ext cx="82087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ЛЯ ТАЛАНТЛИВЫХ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ТЕЙ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й прибор являетс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новным прибором астрологов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микро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324000" y="5157720"/>
            <a:ext cx="3168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калейдо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WordArt 10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фильмо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5724360" y="3933720"/>
            <a:ext cx="302436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теле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9" dur="2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0" dur="2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ую форму принима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пля вод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невесомости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ша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468360" y="5084640"/>
            <a:ext cx="30970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цилинд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4" name="WordArt 10"/>
          <p:cNvSpPr txBox="1"/>
          <p:nvPr/>
        </p:nvSpPr>
        <p:spPr>
          <a:xfrm>
            <a:off x="5724360" y="5157720"/>
            <a:ext cx="280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ку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WordArt 11"/>
          <p:cNvSpPr txBox="1"/>
          <p:nvPr/>
        </p:nvSpPr>
        <p:spPr>
          <a:xfrm>
            <a:off x="5651640" y="3860640"/>
            <a:ext cx="288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кону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2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9" dur="2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0" dur="2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395280" y="429264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ТЬ ЕЩЁ ПОРОХ В ПОРОХОВНИЦЕ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ть такое крылатое выражение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И на Солнце есть ...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гор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468360" y="5157720"/>
            <a:ext cx="309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пят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5796000" y="5157720"/>
            <a:ext cx="2879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факе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WordArt 11"/>
          <p:cNvSpPr txBox="1"/>
          <p:nvPr/>
        </p:nvSpPr>
        <p:spPr>
          <a:xfrm>
            <a:off x="565164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кратер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629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630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е зодиакальное созвезди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едует за созвездием Водолея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Ов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Теле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10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Козеро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Рыб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695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696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то свой первый полёт  соверша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голубом воздушном шаре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онгольфь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324000" y="5157720"/>
            <a:ext cx="324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Циолковск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5867280" y="5157720"/>
            <a:ext cx="288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Винни - Пу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Менделее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2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769" dur="2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770" dur="2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539640" y="1052640"/>
            <a:ext cx="8136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юбимая песня космонавтов - э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395280" y="3860640"/>
            <a:ext cx="3097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"Катюш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9"/>
          <p:cNvSpPr txBox="1"/>
          <p:nvPr/>
        </p:nvSpPr>
        <p:spPr>
          <a:xfrm>
            <a:off x="324000" y="5229360"/>
            <a:ext cx="3241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"Алёш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10"/>
          <p:cNvSpPr txBox="1"/>
          <p:nvPr/>
        </p:nvSpPr>
        <p:spPr>
          <a:xfrm>
            <a:off x="5867280" y="5157720"/>
            <a:ext cx="288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"Надежд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"Антошк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8" dur="2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839" dur="2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840" dur="2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395280" y="429264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ДА  МОЯ  СЕМЬЯ  СО  МНО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539640" y="692280"/>
            <a:ext cx="813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каком из этих устройст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рон Мюнхгауз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етел на Луну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250920" y="3860640"/>
            <a:ext cx="3241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раке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250920" y="5157720"/>
            <a:ext cx="3314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воздушный ша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5508720" y="5157720"/>
            <a:ext cx="33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ковёр-сам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WordArt 11"/>
          <p:cNvSpPr txBox="1"/>
          <p:nvPr/>
        </p:nvSpPr>
        <p:spPr>
          <a:xfrm>
            <a:off x="5508720" y="386064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пушечное ядр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905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906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539640" y="549360"/>
            <a:ext cx="813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сатель, который за 104 г. до полёта человека на Луну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писал книгу "С Земли на Луну", в котор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робно описывал полет астронавтов на Луну - э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арк Тв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WordArt 9"/>
          <p:cNvSpPr txBox="1"/>
          <p:nvPr/>
        </p:nvSpPr>
        <p:spPr>
          <a:xfrm>
            <a:off x="468360" y="5157720"/>
            <a:ext cx="331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Морган Робертсо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8" name="WordArt 10"/>
          <p:cNvSpPr txBox="1"/>
          <p:nvPr/>
        </p:nvSpPr>
        <p:spPr>
          <a:xfrm>
            <a:off x="5508720" y="5157720"/>
            <a:ext cx="33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Роберт Стивенсо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WordArt 11"/>
          <p:cNvSpPr txBox="1"/>
          <p:nvPr/>
        </p:nvSpPr>
        <p:spPr>
          <a:xfrm>
            <a:off x="565164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Жюль Вер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0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0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975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976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95280" y="4292640"/>
            <a:ext cx="85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ПЛАНЕТАМ НА РАКЕТ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е из этих созвезди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имеет форму ковша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соз. Ль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7" name="WordArt 9"/>
          <p:cNvSpPr txBox="1"/>
          <p:nvPr/>
        </p:nvSpPr>
        <p:spPr>
          <a:xfrm>
            <a:off x="324000" y="5084640"/>
            <a:ext cx="324144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соз. Плеяд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WordArt 10"/>
          <p:cNvSpPr txBox="1"/>
          <p:nvPr/>
        </p:nvSpPr>
        <p:spPr>
          <a:xfrm>
            <a:off x="5364000" y="5157720"/>
            <a:ext cx="345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с. Большой медведиц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9" name="WordArt 11"/>
          <p:cNvSpPr txBox="1"/>
          <p:nvPr/>
        </p:nvSpPr>
        <p:spPr>
          <a:xfrm>
            <a:off x="5364000" y="3860640"/>
            <a:ext cx="345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с. Малой медведиц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25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9" dur="25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0" dur="25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чём космонавты храня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принимают пищу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в кастрюл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468360" y="5157720"/>
            <a:ext cx="309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в тюбик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5580000" y="5157720"/>
            <a:ext cx="309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в банк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9" name="WordArt 11"/>
          <p:cNvSpPr txBox="1"/>
          <p:nvPr/>
        </p:nvSpPr>
        <p:spPr>
          <a:xfrm>
            <a:off x="5364000" y="3860640"/>
            <a:ext cx="338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 термос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1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8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119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120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395280" y="1341360"/>
            <a:ext cx="83534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ПЕР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WordArt 7"/>
          <p:cNvSpPr txBox="1"/>
          <p:nvPr/>
        </p:nvSpPr>
        <p:spPr>
          <a:xfrm>
            <a:off x="539640" y="549360"/>
            <a:ext cx="8136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евятый день девятого месяц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итайского календаря отмечаетс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раздник высокого полёта"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он посвящается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7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воздушным замка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468360" y="5084640"/>
            <a:ext cx="3097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воздушным шара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5867280" y="515772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воздушным змея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>
            <a:off x="565164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мыльным пузыря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189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190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7"/>
          <p:cNvSpPr txBox="1"/>
          <p:nvPr/>
        </p:nvSpPr>
        <p:spPr>
          <a:xfrm>
            <a:off x="539640" y="549360"/>
            <a:ext cx="813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всех звёзд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идимых зимой на небе России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а (звезда) самая ярка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Солнц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WordArt 9"/>
          <p:cNvSpPr txBox="1"/>
          <p:nvPr/>
        </p:nvSpPr>
        <p:spPr>
          <a:xfrm>
            <a:off x="539640" y="5157720"/>
            <a:ext cx="266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Вег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9" name="WordArt 10"/>
          <p:cNvSpPr txBox="1"/>
          <p:nvPr/>
        </p:nvSpPr>
        <p:spPr>
          <a:xfrm>
            <a:off x="5651640" y="5157720"/>
            <a:ext cx="316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Поляр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0" name="WordArt 11"/>
          <p:cNvSpPr txBox="1"/>
          <p:nvPr/>
        </p:nvSpPr>
        <p:spPr>
          <a:xfrm>
            <a:off x="5651640" y="3860640"/>
            <a:ext cx="31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Сириу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8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9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0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называется лунная валют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 версии Николая Носова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рубл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8" name="WordArt 9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санти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9" name="WordArt 10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фанти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5508720" y="3860640"/>
            <a:ext cx="32400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долла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2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2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325" dur="2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326" dur="2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ая из этих план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имеет кольца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WordArt 9"/>
          <p:cNvSpPr txBox="1"/>
          <p:nvPr/>
        </p:nvSpPr>
        <p:spPr>
          <a:xfrm>
            <a:off x="324000" y="5157720"/>
            <a:ext cx="28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WordArt 10"/>
          <p:cNvSpPr txBox="1"/>
          <p:nvPr/>
        </p:nvSpPr>
        <p:spPr>
          <a:xfrm>
            <a:off x="5364000" y="5157720"/>
            <a:ext cx="3456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Сатур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0" name="WordArt 11"/>
          <p:cNvSpPr txBox="1"/>
          <p:nvPr/>
        </p:nvSpPr>
        <p:spPr>
          <a:xfrm>
            <a:off x="5364000" y="3860640"/>
            <a:ext cx="302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Ур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8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99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00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395280" y="333360"/>
            <a:ext cx="835344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У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ая планета называетс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лубой плането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468360" y="5157720"/>
            <a:ext cx="309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Земл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5867280" y="5229360"/>
            <a:ext cx="2665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Мар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69" dur="2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70" dur="2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мая близкая к Солнц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ета - это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5651640" y="515772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еркур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468360" y="5157720"/>
            <a:ext cx="309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Земл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611280" y="3860640"/>
            <a:ext cx="2665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39" dur="2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40" dur="2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ую планету называют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асной плането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еркур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9"/>
          <p:cNvSpPr txBox="1"/>
          <p:nvPr/>
        </p:nvSpPr>
        <p:spPr>
          <a:xfrm>
            <a:off x="468360" y="5157720"/>
            <a:ext cx="309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Мар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WordArt 10"/>
          <p:cNvSpPr txBox="1"/>
          <p:nvPr/>
        </p:nvSpPr>
        <p:spPr>
          <a:xfrm>
            <a:off x="5867280" y="5157720"/>
            <a:ext cx="280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209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210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мая большая плане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лнечной системы - это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395280" y="386064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Сатур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468360" y="5157720"/>
            <a:ext cx="309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Ур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5867280" y="5157720"/>
            <a:ext cx="280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279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280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395280" y="4292640"/>
            <a:ext cx="8569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НКУРС КАПИТАН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ОДИН  ЗА  ВСЕХ!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называется место старта космических корабле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аэропор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12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космодр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ракетодр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аэродр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345" dur="2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346" dur="2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е из этих созвезд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относится к зодиакальным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Лебед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Близнец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5724360" y="5229360"/>
            <a:ext cx="2954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Де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5651640" y="3933720"/>
            <a:ext cx="288108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Ов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9" dur="2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0" dur="2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9:23:14Z</dcterms:created>
  <dc:creator>Наталья</dc:creator>
  <dc:description/>
  <dc:language>en-US</dc:language>
  <cp:lastModifiedBy>HOME</cp:lastModifiedBy>
  <dcterms:modified xsi:type="dcterms:W3CDTF">2022-11-17T07:50:14Z</dcterms:modified>
  <cp:revision>8</cp:revision>
  <dc:subject/>
  <dc:title>Игра</dc:title>
</cp:coreProperties>
</file>