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183-BFC2-45DB-AE82-57C4C4A8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266-EE89-434F-81CE-E46F4A8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348-7935-4638-A7B6-63D3BD74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46F-5BA9-4E10-9436-55EF4E6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204-5869-421A-811D-C6150BC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FE9-E17C-4B3F-91A6-E4083CAC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E81-4AB2-4CED-AF92-0298049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CF5-DE02-489B-827B-8158C17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749-1ADC-4227-BCA4-861F03FF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FFA-260A-4EAF-B635-F16AFA1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71D-4CBE-4B92-AA5E-F492238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841-EDD1-4864-8AA5-E20982D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9B88-96DD-4732-9266-74977109A7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0"/>
            <a:ext cx="82087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ТАЛАНТЛИВЫХ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ЕЙ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й прибор явля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новным прибором астрологов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микр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324000" y="5157720"/>
            <a:ext cx="3168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калейд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ильмо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5724360" y="3933720"/>
            <a:ext cx="302436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телеско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ую форму принима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ля во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невесомости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ш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468360" y="5084640"/>
            <a:ext cx="30970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цилинд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572436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у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5651640" y="3860640"/>
            <a:ext cx="288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кон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9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0" dur="2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395280" y="429264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ТЬ ЕЩЁ ПОРОХ В ПОРОХОВНИЦ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ть такое крылатое выражение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И на Солнце есть ..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го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пят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5796000" y="5157720"/>
            <a:ext cx="2879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аке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крате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29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630" dur="2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зодиакальное созвезд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едует за созвездием Водоле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О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Теле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озеро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Рыб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95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696" dur="2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то свой первый полёт  соверша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голубом воздушном шаре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онгольфь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24000" y="5157720"/>
            <a:ext cx="324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Циолковск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5867280" y="5157720"/>
            <a:ext cx="288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инни - Пу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Менделее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769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770" dur="2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539640" y="1052640"/>
            <a:ext cx="813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имая песня космонавтов - э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395280" y="3860640"/>
            <a:ext cx="3097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"Катюш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324000" y="5229360"/>
            <a:ext cx="3241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"Алёш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10"/>
          <p:cNvSpPr txBox="1"/>
          <p:nvPr/>
        </p:nvSpPr>
        <p:spPr>
          <a:xfrm>
            <a:off x="5867280" y="5157720"/>
            <a:ext cx="288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"Надежд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"Антошк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839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840" dur="2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95280" y="429264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ДА  МОЯ  СЕМЬЯ  СО  МНО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539640" y="692280"/>
            <a:ext cx="813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каком из этих устройст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рон Мюнхгауз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етел на Луну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250920" y="3860640"/>
            <a:ext cx="3241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раке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250920" y="5157720"/>
            <a:ext cx="33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воздушный ш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550872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ковёр-сам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11"/>
          <p:cNvSpPr txBox="1"/>
          <p:nvPr/>
        </p:nvSpPr>
        <p:spPr>
          <a:xfrm>
            <a:off x="5508720" y="386064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пушечное ядр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905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906" dur="2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539640" y="549360"/>
            <a:ext cx="813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сатель, который за 104 г. до полёта человека на Луну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писал книгу "С Земли на Луну", в котор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робно описывал полет астронавтов на Луну - э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арк Т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468360" y="515772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Морган Робертс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WordArt 10"/>
          <p:cNvSpPr txBox="1"/>
          <p:nvPr/>
        </p:nvSpPr>
        <p:spPr>
          <a:xfrm>
            <a:off x="5508720" y="515772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Роберт Стивенс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Жюль Ве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975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976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95280" y="4292640"/>
            <a:ext cx="85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ПЛАНЕТАМ НА РАКЕ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из этих созвезди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меет форму ковш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оз. Ль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324000" y="5084640"/>
            <a:ext cx="32414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соз. Плея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5364000" y="515772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с. Большой медведи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WordArt 11"/>
          <p:cNvSpPr txBox="1"/>
          <p:nvPr/>
        </p:nvSpPr>
        <p:spPr>
          <a:xfrm>
            <a:off x="5364000" y="386064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с. Малой медведи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9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0" dur="250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чём космонавты храня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принимают пищу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 кастрюл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в тюбик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5580000" y="5157720"/>
            <a:ext cx="30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 банк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5364000" y="3860640"/>
            <a:ext cx="338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 термо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8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119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120" dur="250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395280" y="1341360"/>
            <a:ext cx="8353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ПЕР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539640" y="549360"/>
            <a:ext cx="813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евятый день девятого месяц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тайского календаря отмеча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аздник высокого полёта"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он посвящаетс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оздушным замк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468360" y="5084640"/>
            <a:ext cx="3097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воздушным шар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5867280" y="515772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воздушным змея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565164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мыльным пузыря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189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190" dur="2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539640" y="549360"/>
            <a:ext cx="813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всех звёзд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димых зимой на небе России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а (звезда) самая ярка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олнц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9"/>
          <p:cNvSpPr txBox="1"/>
          <p:nvPr/>
        </p:nvSpPr>
        <p:spPr>
          <a:xfrm>
            <a:off x="539640" y="5157720"/>
            <a:ext cx="266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Вег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5651640" y="5157720"/>
            <a:ext cx="316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Поляр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5651640" y="3860640"/>
            <a:ext cx="31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Сири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9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0" dur="250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называется лунная валю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версии Николая Носов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рубл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сант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фант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5508720" y="3860640"/>
            <a:ext cx="3240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долла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25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326" dur="2500" autoRev="1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ая из эт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имеет кольца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324000" y="515772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10"/>
          <p:cNvSpPr txBox="1"/>
          <p:nvPr/>
        </p:nvSpPr>
        <p:spPr>
          <a:xfrm>
            <a:off x="5364000" y="5157720"/>
            <a:ext cx="345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Сату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5364000" y="3860640"/>
            <a:ext cx="30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У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99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0" dur="250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395280" y="333360"/>
            <a:ext cx="835344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ая планета называетс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лубой плането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Земл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5867280" y="5229360"/>
            <a:ext cx="266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Мар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69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70" dur="2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ая близкая к Солнц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ета - это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5651640" y="515772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еркур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68360" y="5157720"/>
            <a:ext cx="30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Земл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611280" y="3860640"/>
            <a:ext cx="2665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139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140" dur="2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ую планету называют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ой плането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395280" y="3860640"/>
            <a:ext cx="309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Меркур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Мар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586728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09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10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ая большая плане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лнечной системы - это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395280" y="386064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Сатур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468360" y="5157720"/>
            <a:ext cx="309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У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5867280" y="5157720"/>
            <a:ext cx="2808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Юпите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Вене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279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280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124000" y="1341360"/>
            <a:ext cx="48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395280" y="4292640"/>
            <a:ext cx="8569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ОДИН  ЗА  ВСЕХ!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называется место старта космических кораблей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аэропор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косм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5724360" y="5157720"/>
            <a:ext cx="3097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ракет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565164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аэродр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animClr clrSpc="rgb">
                                      <p:cBhvr>
                                        <p:cTn id="345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a4"/>
                                      </p:to>
                                    </p:animClr>
                                    <p:set>
                                      <p:cBhvr>
                                        <p:cTn id="346" dur="2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549360"/>
            <a:ext cx="8497800" cy="194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79280" y="3716280"/>
            <a:ext cx="4464000" cy="64944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50920" y="5013360"/>
            <a:ext cx="4319640" cy="64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 rot="10800000">
            <a:off x="4716360" y="5013000"/>
            <a:ext cx="4176720" cy="64908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 rot="10800000">
            <a:off x="4716360" y="3716280"/>
            <a:ext cx="4176720" cy="6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539640" y="692280"/>
            <a:ext cx="813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е из этих созвезд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относится к зодиакальным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95280" y="386064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.  Лебед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68360" y="5157720"/>
            <a:ext cx="309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 Близнец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5724360" y="5229360"/>
            <a:ext cx="2954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. Де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5651640" y="3933720"/>
            <a:ext cx="288108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  Ове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9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0" dur="250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9:23:14Z</dcterms:created>
  <dc:creator>Наталья</dc:creator>
  <dc:description/>
  <dc:language>en-US</dc:language>
  <cp:lastModifiedBy>HOME</cp:lastModifiedBy>
  <dcterms:modified xsi:type="dcterms:W3CDTF">2022-11-17T07:50:14Z</dcterms:modified>
  <cp:revision>8</cp:revision>
  <dc:subject/>
  <dc:title>Игра</dc:title>
</cp:coreProperties>
</file>