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A6EE-C288-4075-BB20-D6A66633BE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2600-E104-45E9-B63D-3E24420F8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1D2-8284-40CD-A73F-00FF6265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EF5-0BC0-46CE-AA1E-CB7CE7D4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CE3A7-9D00-4891-8C78-41D610D4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28143-AB9D-43B7-8212-8A958318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E0988-B1E7-468F-AA96-BFA3B3F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787D0-0D5E-4DA5-B986-EBEA7F2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CA1AD-EFB1-44EF-93E5-A1E6FD7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E4095-A987-4EB2-BBA1-B4987AB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DEE8C-4EB5-4FCB-9BAF-1F9AF2E2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804D9-A519-4C92-ACAF-F1E62094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0ACF8-1A9B-420C-A5E9-9752A08E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C3892-8156-4527-96BD-7B0BAF90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B41-784E-4FF6-A636-337F7E86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B3F32-3A32-4BFA-9F9E-EE0B138E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DAF1E-E735-4472-8414-166399B0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9DDE5-71B9-4CD3-9CD6-B0044E9A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EFCC7-7EC4-4484-ADA6-F5B389A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84DA4-6193-4308-8927-35C1158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EA73F-B795-486B-BE26-D8CC41C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53252-F8A9-4FE3-8618-7732B8E9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DB29B-831A-4165-BCD5-613A5DD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4181B-6AF8-488B-851B-738577E6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F8C59-5BB3-4BF4-9B83-AAA6DFD3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906-ECDA-499B-A45C-C6271E04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166B7-7F32-492C-8328-384765F3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D7E63-B89D-47B4-875F-F09B56E4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023B4-8647-47BE-BBE6-A2C3444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4C5A4-6EA3-403B-9373-9FD7297B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B35AD-2214-472E-802E-4755623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CB41E-C64B-4381-8E32-9506E824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85FD5-F356-41A4-90D0-592FED48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4F3D0-01AD-4930-AA4B-34CB948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EE066-6B19-479D-8928-DAB7A42C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F0F74-5EDC-4F66-9FFF-91849FFE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490E-350F-47C6-B1F2-1D916056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BA1D9-105D-4C35-BE2D-4307B3DD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98860-1882-4B0E-BD09-3B0C65B8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6AAD3-FA35-4C90-BA10-BAE1DFD6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80FDC-ABC4-4C94-BD0C-5BCA24D7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61CBB-D350-4FCC-9477-F2697265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83771-B982-4103-BFC1-8FE40909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5AB9A-C2C1-4B45-832A-A434F2DB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23B69-2F86-4172-B32A-25BDE17E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610B0-1F2B-4FFB-8400-2378B9B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D8755-A797-460D-A0FD-28015BA6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CE99-7409-4727-A325-12E1F4BE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6D27C-9631-4F09-B875-B61374B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B2CD9-DCD3-43A4-BEDF-A3A10365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BEF69-9F08-43D1-8539-C2DBDC1D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E1D83-0EED-4B00-A592-2648DBAB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BB215-2FD5-4F08-946D-9B74E829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3469B-8FFA-4A56-A8D3-32DA48E1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FA189-44FD-4BBA-A724-502F0C9B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9D888-1DD7-4910-8C4A-37E21775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03961-67D2-42A6-BB77-32CA350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0D7E1-2171-453F-AE1D-F89D8B7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AB45-8BE6-4786-85DD-84E0563A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DDA07-76FB-4B32-BABF-C34995FF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A5803-A791-4653-98FF-4C384144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7D3C7-0ED2-467A-BCD1-A613DB7C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60CA9-C7B3-4C44-8DDD-06564D2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E766D-5B1F-487C-B8C7-8639C108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FD032-DC3C-46DE-84A6-B3576D5C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27537-4571-4FF7-A7CB-97EE4EF6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796AF-D40A-43B7-BCCF-C4CD274B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ECD9D-7DDF-49B4-837C-EC7535EF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1DA23-FB52-49A9-9A66-5B036E1E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F944-CB4F-496B-BAE7-100EC97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04C42-0353-4550-9600-D1480E94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231A8-7F01-4C77-B66C-22327D94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9C1DD-2751-4D3E-AD3C-66684C66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7B237-4098-4117-A9BB-D617C71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E4693-5ED3-42A2-AACA-1CBACBCD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4328B-70B4-4535-9DDF-84BCF827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E3CBA-4FAE-48CD-96C2-029F913B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59F68-3858-4B99-95EB-21D4754C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EF81D-C7A6-4316-A0C7-4685BE0D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682A7-864B-4E7C-92EC-4786152B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3F81-FDC9-4581-9AF7-F28D2D6D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A7416-0697-4C7D-8D43-D4EEA0FC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C5DA0-20C3-4ECE-A2F3-1634B579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31B1C-2505-437C-A23A-68352085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3B334-D503-4209-9FE2-427E75A7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1A330-52DE-4E53-AE5D-FFE3E573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0AA6E-2BCB-45E4-BC51-C716589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38112-4F99-4D7A-A57B-BD7FEE15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BA00B-A1C4-42D9-BB0B-665AF5E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A2EBB-3866-4C2B-B2BA-162EAC50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58A28-92FF-4107-BFE5-470D357C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C6FE-E2A8-4A10-A9A5-96E351D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CE7FC-8AF0-4624-B097-44839904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D078E-AA86-4073-ACB4-4941F67B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1E55C-9836-46DE-A57F-0230D333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5578F-4F81-4C5C-84B6-5820F5FF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B3BBF-8D69-4B95-A62D-18F07A06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039DC-6B70-4E12-9DF2-0FAD38C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C85FC-B9CA-423B-94FE-690A1B3E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9243B-8F9D-4AC1-A52A-5E66D647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91BA8-5CC9-44A7-98CF-16EA00D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09918-AD40-40AA-8A9A-28A68FB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4914-3B9E-4A9F-81E8-388BEA06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54A7C-2984-4824-BABB-2A6913C1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4EA50-7711-479C-AC3C-4D873689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8EA06-DA45-4A69-B8C3-3E8740FA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360DA-66A2-4F2E-9047-906124DA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D2E7C-4A03-4C79-BBB4-012AE67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9EE5D-7B73-4707-A5AE-68F40566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60E27-6E73-4687-995B-85F46992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BB842-453B-4FDA-9B2C-28909B47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8EC7B-2AF0-497B-9051-D121AC25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4A348-7E2C-4DBC-BBE4-26F276A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699-3C5B-4E12-8699-73C0583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8671-7A1F-4174-9B81-28E46D48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04ED2F-001E-4655-9F4D-7B3A149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B0FF1-C8F3-4729-BE55-50021E49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7B343-A876-4E6C-A91E-C41A0E67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8E4C2-AD70-47F0-95D1-57EB970E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18960-A221-4617-8D7D-B2088257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0BF28-9CC9-45FB-B461-909BBCBD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CD3E71-4BDD-4ED0-8A1B-C10A56FC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10774-07FC-41FA-BF21-B440D849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EE28F-1315-4976-B906-B4A91805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DDF05-D5C1-42AC-9C4C-FB6E2605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A623-4B1D-4AC3-BBE4-830D1FDE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AFF02-71F5-4225-8D33-D7D3F593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71DF9-D441-445C-92E3-9994CA2D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C4995-9D1E-4C20-B840-D4075B14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1398E-A35C-4755-A860-5395D92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3C213-A10C-4BA7-AB66-0A0E185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E643D-5D52-40D2-B9DE-35B7CC0F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1584D-A733-4629-BF1C-BDDFFB36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898C7-63FB-4DFB-98A7-52F04A42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53C20-5E0E-466C-B5B3-29897F3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48832-8E11-4D75-A680-8AB8102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1281-892E-485B-A987-83AE39C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754941-8874-43E7-89E5-43EBAD5D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7FD6C6-595C-4B63-8B30-C3458FBA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39A66-A7EA-42A1-94FB-69077B30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85025-4DB1-4064-A90A-C86A7F52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58B03-4888-449A-A096-D8E2BAD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E5682-6BDC-4BFB-B478-FBBA0AC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F463F-AC6F-4549-9E67-8BBCA724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9E443-A081-45B7-9BED-6A9E2D01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607A2-F591-40B9-A14D-3DB738B7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DDCD2-27EF-4608-9575-0517F899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C4C9-EBE7-45DD-840D-CFFFB92F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EEDE3-3891-4350-9F93-84DA67B5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82858-0F20-496D-B3B5-9DDB3E37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F54A7-3351-4A75-8AC7-42BFA79F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7A226-DA13-472D-B0A3-ED92EB4D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96CF8-24B2-42B0-9DD0-1498E45D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FF234-F5E2-4DC4-8653-C4D758A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289033-6A1B-4CD4-B6B9-4BC02CBC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71B21-4A53-4163-B3B6-7105C000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28C8E-F0F3-4832-A736-556AB2C5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5CB33-BC28-4666-A77E-0ED52BCD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1F5F-4A27-4242-A565-D1FD10E5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2B6717-3AF3-4216-9D11-195BF53A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6BD8E-5688-4F47-8B7F-47938CDF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3F14FF-97DE-4244-BFDD-6D7CB03E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F2EE6C-E5E5-46D3-BE96-D2144623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8AE9D-8660-43E5-B386-50AD21E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E40C3-559F-4C56-8E85-A6D5479E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6525A-BF65-4DFB-A183-BA817F07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83946-2DE4-4888-8D0C-EDCF4A4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AED0A-4794-424D-B3FB-23164CA3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46B47-A30F-4AA0-BA99-14CF688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B7D5-5E12-433B-8880-D4480E29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C983E-4032-4E64-BEB0-B52EF10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C3BB7-9607-4372-83CE-A466BF42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06686-3D6D-4757-95B0-FC0B18FD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003377-6074-4B33-8A63-5F3EA95F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AC5C75-37D4-4CFB-A408-EA9B9DD4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375CB6-EA4A-4AFE-A78B-AD72C9DC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71EE13-F5A0-4662-BA7F-DA91F17B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3AA8ED-3FDE-4AE0-AD20-FAF11CB4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D822F-5966-4D52-AA59-6FD328AA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53E3FC-AE0D-4E32-88AC-3FE6F940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4D19-A250-43D4-B506-97E3854F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E3E611-9EFF-43EE-BC94-5DF5D520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18C77-4093-43B9-A519-AC7C8A0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10C476-E013-4512-A8B9-A3ACAD64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BCCF1-C7FF-4646-9918-72678B0C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04FBF3-46A4-487E-ACE3-76EB2162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0226CE-7787-418C-9EF9-06A24FEA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64E660-06E4-4D8D-942B-787F7AFA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72AEF5-8703-49A9-9DC8-06A92B48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862B3C-E16D-42F4-A5DF-018697B6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C1E742-C363-48BF-93AF-8B526605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C081-E59D-40E9-939E-C366392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CE3D4A-6382-4B9B-81B0-C5C411C7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281D7D-2867-4A04-ABAC-EFA6316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0BE112-27CA-4F23-BF8B-FF953E0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60175B-3766-442D-8B0A-4F881F9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D5E6AA-13AB-408F-8A72-67BA3674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F1E9B0-370C-4769-87D2-D5AEC7AE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22236A-4C09-41AB-A895-25FF26CD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DE8DFD-C1E5-44CC-B8F0-514260A3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274638-2D56-451C-B164-E3A1DF51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633E50-3946-4A95-824C-143127A8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AA5B-79FC-4F02-AB48-50C6BC3E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F0AAAC-344C-465A-A2F5-C60F8276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9B3D59-4C24-4FE5-9BDF-D5A75D33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1049C1-8528-4169-8970-6CB351AC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30AFDD-D070-44F6-81E3-81D5A31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CB1785-8036-48A3-9F48-77572D8F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9F92C2-0C80-4528-80F1-650302C8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0F1CA3-25B4-4312-A43A-24B61809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C7B902-77D9-442B-92FA-E6CAAF4B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B943C1-5644-4921-BD9C-A4D9AA01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604ACC-F147-4B9C-A4FC-0BF317FE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7873-FBCF-4491-92EA-AD66AB05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280DAD-DFAA-4B51-96DE-590C6CC8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489837-16E4-4017-90FB-7296C21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F58379-8B18-4797-9759-A8B17E2F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0E743E-837D-42D4-A5D1-BC30CDE7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1B7B8E-035F-4337-A598-EE61BC39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05C77A-97E3-4E49-BC97-E02FE19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E6F77F-4B95-4617-ABE8-2FA0D90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DC5DAB-FD7E-46A9-BD55-4209367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E14F7D-6CF8-433F-98C4-DE9C03DD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888E28-7B8A-491A-8D3B-CDE3C70B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01E-6902-4EAA-B79D-40DCC464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15BB-3C96-4507-9BBE-6EB0E9D4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F77A32-1058-48BC-8B99-99B952BE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BC72F9-37CE-4F5A-86EA-727D84B1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450269-29A3-41CC-90D5-9BB0AB32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5F6F63-2870-4167-8735-3BAF67D8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F0706C-D7B4-4F4D-A0A4-16C4ABE1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B8CA60-A69B-4F9B-AF30-AB3C8B6A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3BC08C-9E3D-4630-865B-8C91E80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562DE2-8EC4-45D7-8D01-235137B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D2E44B-EA32-450A-AB09-2C3B304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79FABF-A350-43E1-B9F1-49EFB7F2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F348-3056-4B69-AC51-D2AA823D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ED66D9-9DC4-49EB-AABA-382C9D65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A86275-99E0-431B-BD33-004219AA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081790-B099-4619-B27B-6E6C9637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A2692F-05C2-4070-AA4F-805AD2A0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9347DD-73E0-4A8D-80FA-E6801362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58039F-00D6-4478-9FAB-7E669A72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EF7BBF-E336-40B7-9AD1-4BF6905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C3DE48-DC35-4B9E-A55E-C4587A04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9B90A8-D075-4369-871F-E23E7DE7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D69F95-67BD-466C-B4EB-EF5813DB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7498-F514-4292-8D1D-C41C86E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851405-8311-455C-8908-19DE8AF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FEE93D-775D-4DDD-8006-26112705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BFEB4F-582B-4FD9-9001-FFD74104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15562F-FA86-4902-924C-547A60C7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EEEA4C-05FF-456D-AA9E-AE9E6B46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6D6326-661D-4396-A2D0-96EE32BF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C11CE7-B6B9-4FC3-A0DE-B04E6212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48F92B-3C52-40EF-93C2-A2CB885E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7DDF91-3161-4682-BF15-6E70D95A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6693FA-5FEC-4334-8959-D5453A42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248B-0E62-41C6-8528-616B095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1C93B7-1412-4D75-9437-317D0E76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A6EE7B-D083-42F5-8A90-659A2319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C1A399-C8D0-43D0-8C21-A2A0F71C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A9228A-25E6-4721-987B-3A6B8703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AD0BD9-0CDC-49A3-B403-F5D5303B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CAE92E-DA8F-46DC-9E85-B8D893A2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0CED63-F8A3-4491-A343-D0A2310D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3F9E0D-91C1-4B7C-BBF2-EE1CF84C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9D2819-1241-4083-87A5-F3D0156C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A94376-345B-440B-B5B9-214BE2D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31BA-E1A2-40B1-9C10-688B3D0B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D47E84-F1AA-45FD-BCD0-94DECF1F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A80BC9-78FC-4035-8973-E9521675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22FB10-719E-4714-B1A3-EE01886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E1473C-34D5-450F-8643-80BB29F3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558A76-943C-4B16-AB71-AE7E208A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5F9BC1-D648-43CE-A2DD-AA7F6EA8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700C8F-49F1-4114-B2F7-4821725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A88BD3-DFF7-486F-9887-88BE82C2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A370F6-7EC4-49B5-BEAE-1A655175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74CB1F-056C-46A6-8720-8FF4E128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BA26-7A57-4AC3-8442-2BB0F157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2F70FD-42A1-4212-A11E-58FA3AD5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B13F32-DCDF-4723-A319-522C1F62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3AA7AD-8A72-4FE7-A735-7F8C19E5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71474A-4201-45E1-897D-832B1864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310051-560E-4A12-AB46-E5E1293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A65233-4B2D-41E7-AE08-3D8EBA78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5B5458-760C-4996-9BE5-3F81667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99D51A-AA08-4431-927F-752F486E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32C7F7-6E50-4600-B7E8-D4F7BBC6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678C6A-A222-40C7-B566-DC0E6046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D379-7916-41FA-A810-7BB5A4F1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A888F5-563E-4100-B470-09E2B449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9B0776-F263-41B6-ADEA-E9788372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F6272A-1AAC-490F-B7B8-8B230E84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BC8FC5-70B6-461C-8A7B-49BF83B4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12A23C-0AB0-4DB6-ABBD-AA68AE4A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A59C70-4628-4B5E-A475-4B889572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1E0DAB-5195-4E70-AF1E-4247707D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10AC45-9FB5-4A78-8294-3ABFC073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33C1D9-3331-4987-8D95-E362196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1E2DD5-241E-49CD-85F0-E7489DAF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7320-ECDA-44EF-A77F-4884D590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EA1780-1696-47E3-9F14-9001F37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4551F6-F7B4-49A3-B1A8-BEBAD023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15C5B6-71DE-4291-B9BF-AA87F540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A0C877-3DC7-4542-AFEA-FADEFE65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FD9B4A-9A30-4259-81CE-F3A28CAA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843A14-A79D-4936-BD8E-39BFC07B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60C175-E28C-45F3-86CD-69BB131E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9FDE55-F87B-4BF4-9041-B113B390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B1C6F0-3A4E-4F90-94AA-47BF0337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CD7EA6-9FE0-4680-998F-A4F0B6A0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E3ED-22B6-48F5-8F1C-79E46944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BF279A-81CB-4C58-846A-E7D5CDCF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3CFE6B-906F-45A2-A0B1-F9E81699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6C0D5C-BF90-4CBF-8D35-7A8E3FF6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9C683D-6F0C-4622-951B-BC74A5CC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CB45B2-9534-4FE3-A802-8B76188D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B914B4-F611-4604-9EE1-19692A54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6FDE1B-5B9F-4B23-ABA9-9D9A20E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6C08AA-9E86-4BB4-B009-E9E67FEE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019F1B-D462-44C7-B66F-096F44A3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B30AA7-09BD-41C7-AD04-E9EF3032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C64F-AD87-4324-ACAD-003F6A9A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C7424A-4EEB-4676-BFE1-4ABE2BF5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F1FEDF-9D38-4051-A565-52DD03A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330A5B-225C-45A8-9FAE-427EC3D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47E489-D702-4FA1-9824-EEDDB6B1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03507D-1C3D-4D9D-B31B-3CF8CCBF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0716E3-0678-40E8-B3A8-0B750ED9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D5DB6C-31A9-47B7-A841-BEF970A7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2FDDD2-C789-4B55-8F6F-567E6F7A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DC5155-1BB1-42CD-B6C8-C9F1F8C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23E19A-D0CE-4608-9DCB-6727ACA3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F2F-CC42-4E7D-8667-1CA846FA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D775-FB66-4697-A109-DBDB56E2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B0BD30-BC11-42C6-8DC6-6E6B73EF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16CCDD-F4CF-4BA8-B018-0D2EE0D7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1E4372-2674-40BB-B964-4B35C807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4C9AFD-843D-440B-A6F1-1F3EBBDA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9E15A8-48A8-4AAF-BA66-A37F7B50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E33FF2-BD8A-439F-9D57-C7D9CC4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DC1AEE-A11D-486F-B10B-5C3722C2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55DC10-EB05-47FD-8E58-16A72129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99DCF6-9572-43D8-8705-EBF0FF1D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E8ADF5-5794-40B8-BA7C-8A1D0D01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63F7-FA44-4FDE-9DC7-A1DCE174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556FF6-9873-4A78-91C3-6C50227A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86ECFD-3BE3-4C60-9466-67ED8230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604815-E833-4814-B564-2B4B016B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B0DBCE-F6E8-43D9-8DB1-D373583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98E329-6853-4000-ABF4-37A9B221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E023DD-6E03-487A-AC3E-4C65E03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BD93AA-B762-408F-AC53-26B0DBA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BB5513-393B-4AC3-A1EC-9E898F61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171C9B-1084-4039-B9D3-303ECEE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EAE7F1-A6CF-434E-817E-1B0429E5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A9C7-5559-40F3-8DC9-1ED7207E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91C15C-2EAC-43B7-A90E-3042C0CD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12EDC0-B39E-479D-A5CC-9F53EF23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1FF450-B640-4F8F-885D-460E1C3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5067A0-A45C-4012-B05A-ACC2B8D4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645351-D9C0-4A7B-9B30-64A355E9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D1A46A-9190-4470-8D5A-F411C36A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469434-D3D6-482C-9647-44EE1BE7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882127-FF82-46F8-BF48-130CC959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CC4684-B9E2-43BB-AEAB-1B91704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D7193D-7B33-4BA1-82D3-A5D8237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EEC8-7594-46DA-9182-43A39FA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9CB0D9-463E-4A8A-8905-E3C18631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F11EDF-7E74-4418-B8AA-E7F304DF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E8110D-12FA-4C65-9968-50348CA8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E88ABD-871B-4D02-A64E-69C36218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FA0FD2-1325-47D2-A68C-036936E0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211ABB-727E-40EC-88E5-CAFA7D96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B32DEE-348E-492C-939E-7FFB733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E15126-3E41-4490-A53E-2A1F1C2F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DA2E76-A83C-43C1-9763-134E9286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E8A5AD-F04F-4959-8A14-EE9E23F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1AC4-EEAF-4D1D-8D41-D6E6746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3282A0-40E3-4993-9BE7-F6683FE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8ACB15-014C-4F74-B7D2-BEC0D25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41A0D4-F77F-4A02-9119-18971644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DDFB7E-29E6-49FB-9397-6370AFE7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A5B457-CCC1-4E76-AD55-452D6D28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846003-D9AF-4891-9B67-1AF9678B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55C38A-8F89-4452-98EE-960E33FB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844DE4-8FDD-4711-92F6-330B647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E8F63F-D78C-4FEA-8C9E-C89C5F8B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1F9217-B3DA-431A-B736-4A6D7020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1484-04AE-4015-B757-6561F1E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6C2B042-1BC4-429E-8727-60B39546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17F5FD-1CF7-4AF3-915C-53BDB219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4B8213-DECD-401A-B869-05786CD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0A0B1D-7422-4B79-86A6-04C90F69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994E57-CB3A-4AF6-A580-EB59A523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898EDD-BB6C-4679-8F0F-0CE070DC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8D2C77-19C4-4836-B216-4B2B3570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5C6A-6DB0-458E-82F6-0CF92915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FDF4F-A530-4EA2-A220-3500FF3E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9A7F-A002-4A32-B9C4-8AB14AF3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CC1BB-4B4F-4D8E-8FF9-00E3D596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29F-34B6-41D4-83F9-D1C47276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8AE20-D489-4EC8-9BA7-6FC54AE9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1F841-A920-4B91-BC18-41E175A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6228D-6377-40D6-9544-88935F57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7ED5A-ACA1-4661-9F86-522D1C5A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E6E5-0357-4D9E-9EDD-F4F3CDAD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3207-5C31-4C19-8B3E-90642420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EF49-2025-416B-AFBA-0004A2F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9F900-8859-4210-A19D-ED09DD3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52EC6-4CE0-4F04-8CAD-9FC689AC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E5710-C5F0-4CFF-94B1-6E7CBF0D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AEA-8ABB-45F3-A090-D32FFF31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AD9C-84B8-4857-8F47-F6B281CA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09203-DCCA-40DA-AEEB-E328065A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3D451-850C-4F7E-9901-2B86F202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CE5BB-9629-4222-8864-F946E7E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346CC-888C-45D0-97E9-E8ACC24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E860-D6A7-4D7F-B839-5DDD236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5EFE6-14D9-47E8-BCFB-8E20F58D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593C-62DD-4C71-BB69-71874A98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3E12-6EFE-41E1-86C2-EC28AF0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9FEEC-96FB-43BC-892C-0FAAE096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6FF-4724-4F3A-8B63-0E1CBF7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BD2F-E273-4148-89BD-BC102D2D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1DCAC-47AA-402E-8286-FE317A12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0A37-0A1E-4CBB-9520-2D5CA2D2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C3E72-1FB0-428A-B370-A4808682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9F63-8060-4BE9-969E-A7AE55D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5C14-C3EC-487E-AE25-369AE096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7931-EE3D-40E7-85E2-807664A7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CA9F3-563C-49BD-BE70-F1CD13C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FA272-49BF-455B-9E37-29219A93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ECD7-833E-4E69-8A29-0828044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1DB-4F8F-4137-BD00-AC75D0CD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0039D-34BA-4C75-82FC-2E707E8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94C70-D74B-4787-8CB9-D0852B7A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C078-FE3B-4275-AE9C-C0E22D4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265A-B9CA-4D98-8817-6F666AC9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EAD4F-4336-437D-89F3-1E12ACE8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32B77-0FE9-4E57-9208-CABE9E54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EC198-F92D-4D9A-B679-9239E313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079F2-F86C-477B-91D7-8F35182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CC611-825B-49AB-BB0F-DFC11501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8336D-9EDC-4A4A-A369-8D96BF11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047-7722-443A-B378-16D086C7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C7F4F-2F66-4A10-A0B7-405DA85F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A3888-073D-4A1A-BE2D-BDA118EF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7F217-5E31-4AB4-B794-02BE221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4A122-7313-4B45-B93A-6B9ED4CD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1418D-8C7B-432D-ABE9-B745B6B2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8648E-1A5B-40DE-8806-85F41418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54F1-A5DA-4898-80BA-818CFD79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0D1E9-055D-4D14-8779-8BDC35A4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ACE36-FAA1-41DC-B1B5-5034565D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4C1A9-D144-482F-831D-C7CEDD29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81D2-45BB-4F2A-8B30-C8F3F963D9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5CB4-1758-47E1-A11C-7378E640A6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16CA-2C02-4431-8DD7-0CBC83E478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2A9-CB4E-46EC-B765-730A99DC92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B91B-98CC-459F-B8AC-07B5F4D3F2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C564-76C7-4704-8080-72D580955C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565-61B0-40A5-83DC-FA28538A54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0A1-3800-4BF5-B9CF-98DCA64DF7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469A-4258-487A-BDFC-782A81A076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7108-6D43-43AC-821F-E8B2B84105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47D-FD44-436C-B274-3C548B70CB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D9CE-116F-4CCC-911B-E2102CB09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228C-4F11-4A35-8D60-63B620A3AC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9970-5CC1-4078-9F00-88446A0276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3344-7490-4A1D-AA92-D4DF294640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2045-8B84-4A06-90AF-868BC5F761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AD9B-A80E-48F5-B974-D36E64A8C8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D774-5304-47BB-A55C-6200C9D7E1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1455-F717-488C-8AE8-020639E2C8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3924-E3CD-4691-A565-E014763923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2FF9-E4A9-4FFB-87C1-35F5664373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8455-FD38-415B-B890-D189B11B14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F8A5-C941-4F80-AC78-FD34330EF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2C6E-A873-4141-A185-30A1A44D7C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FB8C-9C56-41B9-AE37-3D47AC510E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18CB-98C7-4FFA-A309-4AD9F0A273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4AA3-A453-471C-8D83-1E3E7D4C45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E56-DD29-422A-9553-FA9F84097F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9F55-5522-4BD1-8BC6-700E41A6B8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4DD9-ADF8-4274-84C2-C7248E6DB5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F010-8EDD-47F3-B8ED-98439AC6C1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3CF4-9BB4-48FB-8A58-D1BB0347C1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3AA-F250-4658-B5D3-F4B73EC03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8C21-4BE9-4332-A25B-618EECEA3D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0C67-0B25-4AAF-B9A0-1C3AD978F6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ABED-BD25-441D-8179-8B2E9F746F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D8A9-2E94-4502-A58A-AF8C018C52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D7B5-F943-46BE-845E-38C0427EED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Мораль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Рисунок 1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64669" r="4680" b="4331"/>
          <a:stretch/>
        </p:blipFill>
        <p:spPr>
          <a:xfrm>
            <a:off x="609480" y="990720"/>
            <a:ext cx="7848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ъясните сущность каждой из фун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Прямоугольник 3"/>
          <p:cNvSpPr/>
          <p:nvPr/>
        </p:nvSpPr>
        <p:spPr>
          <a:xfrm>
            <a:off x="317520" y="2781360"/>
            <a:ext cx="1878120" cy="119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4"/>
          <p:cNvSpPr/>
          <p:nvPr/>
        </p:nvSpPr>
        <p:spPr>
          <a:xfrm>
            <a:off x="4427640" y="1019160"/>
            <a:ext cx="2867040" cy="57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ва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5"/>
          <p:cNvSpPr/>
          <p:nvPr/>
        </p:nvSpPr>
        <p:spPr>
          <a:xfrm>
            <a:off x="4451400" y="3011400"/>
            <a:ext cx="3168720" cy="67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о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6"/>
          <p:cNvSpPr/>
          <p:nvPr/>
        </p:nvSpPr>
        <p:spPr>
          <a:xfrm>
            <a:off x="4508640" y="4894200"/>
            <a:ext cx="3456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муника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Прямоугольник 7"/>
          <p:cNvSpPr/>
          <p:nvPr/>
        </p:nvSpPr>
        <p:spPr>
          <a:xfrm>
            <a:off x="4422600" y="5811840"/>
            <a:ext cx="3816360" cy="66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8"/>
          <p:cNvSpPr/>
          <p:nvPr/>
        </p:nvSpPr>
        <p:spPr>
          <a:xfrm>
            <a:off x="4433760" y="1959120"/>
            <a:ext cx="2764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гуля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Прямоугольник 10"/>
          <p:cNvSpPr/>
          <p:nvPr/>
        </p:nvSpPr>
        <p:spPr>
          <a:xfrm>
            <a:off x="4473720" y="3946680"/>
            <a:ext cx="300816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Прямая соединительная линия 12"/>
          <p:cNvSpPr/>
          <p:nvPr/>
        </p:nvSpPr>
        <p:spPr>
          <a:xfrm flipV="1">
            <a:off x="3238560" y="1306080"/>
            <a:ext cx="0" cy="500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Прямая соединительная линия 17"/>
          <p:cNvSpPr/>
          <p:nvPr/>
        </p:nvSpPr>
        <p:spPr>
          <a:xfrm>
            <a:off x="2195640" y="3379680"/>
            <a:ext cx="104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8" name="Прямая со стрелкой 20"/>
          <p:cNvCxnSpPr>
            <a:endCxn id="1600" idx="1"/>
          </p:cNvCxnSpPr>
          <p:nvPr/>
        </p:nvCxnSpPr>
        <p:spPr>
          <a:xfrm>
            <a:off x="3238200" y="1306080"/>
            <a:ext cx="11898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09" name="Прямая со стрелкой 23"/>
          <p:cNvCxnSpPr>
            <a:endCxn id="1604" idx="1"/>
          </p:cNvCxnSpPr>
          <p:nvPr/>
        </p:nvCxnSpPr>
        <p:spPr>
          <a:xfrm>
            <a:off x="3238560" y="2282400"/>
            <a:ext cx="11959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0" name="Прямая со стрелкой 25"/>
          <p:cNvCxnSpPr/>
          <p:nvPr/>
        </p:nvCxnSpPr>
        <p:spPr>
          <a:xfrm>
            <a:off x="3255480" y="339048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1" name="Прямая со стрелкой 26"/>
          <p:cNvCxnSpPr/>
          <p:nvPr/>
        </p:nvCxnSpPr>
        <p:spPr>
          <a:xfrm>
            <a:off x="3304800" y="426996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2" name="Прямая со стрелкой 27"/>
          <p:cNvCxnSpPr/>
          <p:nvPr/>
        </p:nvCxnSpPr>
        <p:spPr>
          <a:xfrm>
            <a:off x="3304800" y="521604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3" name="Прямая со стрелкой 28"/>
          <p:cNvCxnSpPr/>
          <p:nvPr/>
        </p:nvCxnSpPr>
        <p:spPr>
          <a:xfrm>
            <a:off x="3209400" y="630828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04920" y="115560"/>
            <a:ext cx="868680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льтура – совокупность результатов творческой деятельности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Прямоугольник 4"/>
          <p:cNvSpPr/>
          <p:nvPr/>
        </p:nvSpPr>
        <p:spPr>
          <a:xfrm>
            <a:off x="2411280" y="1268280"/>
            <a:ext cx="3803760" cy="86544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ы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Прямоугольник 5"/>
          <p:cNvSpPr/>
          <p:nvPr/>
        </p:nvSpPr>
        <p:spPr>
          <a:xfrm>
            <a:off x="625320" y="2643120"/>
            <a:ext cx="3571920" cy="71460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атериа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6"/>
          <p:cNvSpPr/>
          <p:nvPr/>
        </p:nvSpPr>
        <p:spPr>
          <a:xfrm>
            <a:off x="4859280" y="2708280"/>
            <a:ext cx="3571920" cy="71424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ух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Стрелка вниз 10"/>
          <p:cNvSpPr/>
          <p:nvPr/>
        </p:nvSpPr>
        <p:spPr>
          <a:xfrm>
            <a:off x="5334120" y="2133720"/>
            <a:ext cx="250560" cy="57456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Стрелка вниз 11"/>
          <p:cNvSpPr/>
          <p:nvPr/>
        </p:nvSpPr>
        <p:spPr>
          <a:xfrm>
            <a:off x="2830680" y="2133720"/>
            <a:ext cx="249120" cy="5745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Прямоугольник 7"/>
          <p:cNvSpPr/>
          <p:nvPr/>
        </p:nvSpPr>
        <p:spPr>
          <a:xfrm>
            <a:off x="530280" y="3351240"/>
            <a:ext cx="374472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совокупность физических объектов, созданных человеческими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рямоугольник 8"/>
          <p:cNvSpPr/>
          <p:nvPr/>
        </p:nvSpPr>
        <p:spPr>
          <a:xfrm>
            <a:off x="4844880" y="3422520"/>
            <a:ext cx="36007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оцесс духовного творчества и его результаты: научные открытия, произведения искусства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пределите объекты на 2 колонки: материальную и духовную куль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4" name="Picture 2" descr="D:\Documents and Settings\Admin\Рабочий стол\п.jpg"/>
          <p:cNvPicPr/>
          <p:nvPr/>
        </p:nvPicPr>
        <p:blipFill>
          <a:blip r:embed="rId1"/>
          <a:stretch/>
        </p:blipFill>
        <p:spPr>
          <a:xfrm>
            <a:off x="214200" y="1500120"/>
            <a:ext cx="3071880" cy="239544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D:\Documents and Settings\Admin\Рабочий стол\пп.jpg"/>
          <p:cNvPicPr/>
          <p:nvPr/>
        </p:nvPicPr>
        <p:blipFill>
          <a:blip r:embed="rId2"/>
          <a:stretch/>
        </p:blipFill>
        <p:spPr>
          <a:xfrm>
            <a:off x="3419640" y="1628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D:\Documents and Settings\Admin\Рабочий стол\ппп.jpg"/>
          <p:cNvPicPr/>
          <p:nvPr/>
        </p:nvPicPr>
        <p:blipFill>
          <a:blip r:embed="rId3"/>
          <a:stretch/>
        </p:blipFill>
        <p:spPr>
          <a:xfrm>
            <a:off x="5867280" y="148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D:\Documents and Settings\Admin\Рабочий стол\ппппjpg.jpg"/>
          <p:cNvPicPr/>
          <p:nvPr/>
        </p:nvPicPr>
        <p:blipFill>
          <a:blip r:embed="rId4"/>
          <a:stretch/>
        </p:blipFill>
        <p:spPr>
          <a:xfrm>
            <a:off x="179280" y="4292640"/>
            <a:ext cx="3643560" cy="240012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D:\Documents and Settings\Admin\Рабочий стол\рр.jpg"/>
          <p:cNvPicPr/>
          <p:nvPr/>
        </p:nvPicPr>
        <p:blipFill>
          <a:blip r:embed="rId5"/>
          <a:stretch/>
        </p:blipFill>
        <p:spPr>
          <a:xfrm>
            <a:off x="543564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8" descr="http://dlm5.meta.ua/pic/0/76/43/08ug75NWe5.jpg"/>
          <p:cNvPicPr/>
          <p:nvPr/>
        </p:nvPicPr>
        <p:blipFill>
          <a:blip r:embed="rId6"/>
          <a:stretch/>
        </p:blipFill>
        <p:spPr>
          <a:xfrm>
            <a:off x="3203640" y="4365720"/>
            <a:ext cx="2879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108000" y="642960"/>
            <a:ext cx="892800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Bookman Old Style"/>
              </a:rPr>
              <a:t>Социальные нормы</a:t>
            </a: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oper Std Black"/>
              </a:rPr>
              <a:t>– правила поведения, которые складывались в соответствии с потребностями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Выноска со стрелкой вниз 1"/>
          <p:cNvSpPr/>
          <p:nvPr/>
        </p:nvSpPr>
        <p:spPr>
          <a:xfrm>
            <a:off x="250920" y="2565360"/>
            <a:ext cx="2563560" cy="1150920"/>
          </a:xfrm>
          <a:prstGeom prst="downArrowCallout">
            <a:avLst>
              <a:gd name="adj1" fmla="val 24999"/>
              <a:gd name="adj2" fmla="val 24996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озво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Выноска со стрелкой вниз 2"/>
          <p:cNvSpPr/>
          <p:nvPr/>
        </p:nvSpPr>
        <p:spPr>
          <a:xfrm>
            <a:off x="3059280" y="2565360"/>
            <a:ext cx="2952720" cy="1150920"/>
          </a:xfrm>
          <a:prstGeom prst="downArrowCallout">
            <a:avLst>
              <a:gd name="adj1" fmla="val 24992"/>
              <a:gd name="adj2" fmla="val 25002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едпис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Выноска со стрелкой вниз 3"/>
          <p:cNvSpPr/>
          <p:nvPr/>
        </p:nvSpPr>
        <p:spPr>
          <a:xfrm>
            <a:off x="6372360" y="2565360"/>
            <a:ext cx="2087280" cy="1150920"/>
          </a:xfrm>
          <a:prstGeom prst="downArrowCallout">
            <a:avLst>
              <a:gd name="adj1" fmla="val 25006"/>
              <a:gd name="adj2" fmla="val 24995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апр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Блок-схема: процесс 4"/>
          <p:cNvSpPr/>
          <p:nvPr/>
        </p:nvSpPr>
        <p:spPr>
          <a:xfrm>
            <a:off x="250920" y="3921120"/>
            <a:ext cx="2563560" cy="1884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сти себя определенны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276720" y="3949560"/>
            <a:ext cx="2447640" cy="185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зани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у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10"/>
          <p:cNvSpPr/>
          <p:nvPr/>
        </p:nvSpPr>
        <p:spPr>
          <a:xfrm>
            <a:off x="6300720" y="3971880"/>
            <a:ext cx="208764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зания на действия, которые не следует совер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ораль –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оведения, установленные и охраняемые общ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а общественного сознания, состоящая из системы ценностей и требований, регулирующих поведение лю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Прямоугольник 1"/>
          <p:cNvSpPr/>
          <p:nvPr/>
        </p:nvSpPr>
        <p:spPr>
          <a:xfrm>
            <a:off x="3211560" y="4419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Группа 5"/>
          <p:cNvGrpSpPr/>
          <p:nvPr/>
        </p:nvGrpSpPr>
        <p:grpSpPr>
          <a:xfrm>
            <a:off x="144360" y="4789440"/>
            <a:ext cx="3741840" cy="1001880"/>
            <a:chOff x="144360" y="4789440"/>
            <a:chExt cx="3741840" cy="1001880"/>
          </a:xfrm>
        </p:grpSpPr>
        <p:sp>
          <p:nvSpPr>
            <p:cNvPr id="1576" name="Скругленный прямоугольник 6"/>
            <p:cNvSpPr/>
            <p:nvPr/>
          </p:nvSpPr>
          <p:spPr>
            <a:xfrm>
              <a:off x="144360" y="4789440"/>
              <a:ext cx="3741840" cy="10018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Скругленный прямоугольник 4"/>
            <p:cNvSpPr/>
            <p:nvPr/>
          </p:nvSpPr>
          <p:spPr>
            <a:xfrm>
              <a:off x="187920" y="4838040"/>
              <a:ext cx="365436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2560" rIns="232560" tIns="232560" bIns="232560" anchor="ctr">
              <a:noAutofit/>
            </a:bodyPr>
            <a:p>
              <a:pPr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2711520"/>
                  <a:tab algn="l" pos="5423040"/>
                  <a:tab algn="l" pos="8134200"/>
                  <a:tab algn="l" pos="1084572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всеобщн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Группа 8"/>
          <p:cNvGrpSpPr/>
          <p:nvPr/>
        </p:nvGrpSpPr>
        <p:grpSpPr>
          <a:xfrm>
            <a:off x="3841920" y="4902120"/>
            <a:ext cx="5073480" cy="1001880"/>
            <a:chOff x="3841920" y="4902120"/>
            <a:chExt cx="5073480" cy="1001880"/>
          </a:xfrm>
        </p:grpSpPr>
        <p:sp>
          <p:nvSpPr>
            <p:cNvPr id="1579" name="Скругленный прямоугольник 9"/>
            <p:cNvSpPr/>
            <p:nvPr/>
          </p:nvSpPr>
          <p:spPr>
            <a:xfrm>
              <a:off x="4326120" y="4902120"/>
              <a:ext cx="4589280" cy="10018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Скругленный прямоугольник 4"/>
            <p:cNvSpPr/>
            <p:nvPr/>
          </p:nvSpPr>
          <p:spPr>
            <a:xfrm>
              <a:off x="3841920" y="4950720"/>
              <a:ext cx="5019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2560" rIns="232560" tIns="232560" bIns="232560" anchor="ctr">
              <a:noAutofit/>
            </a:bodyPr>
            <a:p>
              <a:pPr algn="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2711520"/>
                  <a:tab algn="l" pos="5423040"/>
                  <a:tab algn="l" pos="8134200"/>
                  <a:tab algn="l" pos="1084572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добровольн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произошла мораль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82" name=""/>
          <p:cNvGraphicFramePr/>
          <p:nvPr/>
        </p:nvGraphicFramePr>
        <p:xfrm>
          <a:off x="380880" y="1066680"/>
          <a:ext cx="8534520" cy="5220000"/>
        </p:xfrm>
        <a:graphic>
          <a:graphicData uri="http://schemas.openxmlformats.org/drawingml/2006/table">
            <a:tbl>
              <a:tblPr/>
              <a:tblGrid>
                <a:gridCol w="3505320"/>
                <a:gridCol w="5029200"/>
              </a:tblGrid>
              <a:tr h="16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истический подхо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присуща человеку от природы и является результатом биологического развит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дарована человеку бог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появляется в процессе исторического развития общест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– один из элементов культур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азличия в понятиях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ораль                 -    нравственност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должно быть, к чему человек должен стремитьс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сли, иде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мир должно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о практикуемые нормы, с которыми человек сталкивается в повседневной жизн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поступ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мир суще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7"/>
          <p:cNvSpPr/>
          <p:nvPr/>
        </p:nvSpPr>
        <p:spPr>
          <a:xfrm>
            <a:off x="213372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8"/>
          <p:cNvSpPr/>
          <p:nvPr/>
        </p:nvSpPr>
        <p:spPr>
          <a:xfrm>
            <a:off x="63244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ункции мора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ностно-ориента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ститутивная (установленн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цион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ажнейшие принципы нравственной культуры лич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Золотое правило нравственности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оступай по отношению к другим так, как ты хотел бы, чтобы они поступали по отношению к тебе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ральная автономия лич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свобода  выбора и ответственность лич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манизм, гражданственность и патриотиз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человеколюб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40384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«добро» отражает стремление к человечности, гуманиз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раведливость, милосердие, любовь к ближнему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64832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, что противоположно добру, есть з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ло – нарушение мора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ман, насилие, подлость, жестокость, предательство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ло часто прикрывается маской доб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TextBox 1"/>
          <p:cNvSpPr/>
          <p:nvPr/>
        </p:nvSpPr>
        <p:spPr>
          <a:xfrm>
            <a:off x="671400" y="457200"/>
            <a:ext cx="801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о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поведения, установл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охраняемые государ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Рисунок 2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9174" r="4680" b="83825"/>
          <a:stretch/>
        </p:blipFill>
        <p:spPr>
          <a:xfrm>
            <a:off x="762120" y="335268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Рисунок 1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15899" r="4680" b="35335"/>
          <a:stretch/>
        </p:blipFill>
        <p:spPr>
          <a:xfrm>
            <a:off x="457200" y="6858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1:21:32Z</dcterms:created>
  <dc:creator>MacBook</dc:creator>
  <dc:description/>
  <dc:language>en-US</dc:language>
  <cp:lastModifiedBy>admin</cp:lastModifiedBy>
  <dcterms:modified xsi:type="dcterms:W3CDTF">2022-10-17T15:38:5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