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1ABC-192F-4E6F-BAB4-F5E07C0AD9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2664-D9EA-4FCF-BF5A-98295B845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179-99A8-4E7B-BA8D-2A038D89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721-B46A-459C-B361-28EA7045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10B60-0439-4E59-AAC9-A24124D1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9E500-7238-4C41-94A0-C8713FDF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7AF00-F846-4148-AD82-88C22CE8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5B396-5A1B-448C-88E9-0863BFC0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6136B-FEB5-48ED-A03F-168E49D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705A2-4B7A-4622-ACE5-81851007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E8FA5-68E2-400E-BCA4-766D18CB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C81AA-B501-4B9E-BBEC-F3D9DF57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D687B-8A34-4036-9FE1-8B04DAE6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13B83-A39C-4F51-8884-16D4F904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5F8-C560-4B6A-8BC5-7DA2DD74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192ED-72AE-4EBB-BE07-9F9956D7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E2C81-47EC-43C6-8B45-ED6C2410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7CCE6-EC8C-4187-BB80-8E420641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7CCF3-D1A9-4752-BCFA-6D4642DE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4BB2D-DDD1-4624-898F-3A2A7EC0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C54B9-260A-4D56-9A0D-91F64DEA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C9D9F-C122-4594-82BF-544D9AEB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C49D9-30EF-46DD-AA88-33AE79F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F5B69-F82C-415B-8A3A-BBDE84EB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9F5DB-1EAB-4F9F-904D-F39B345F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DE2-C824-4E9F-8607-D926AA9A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D7A1D-5CA4-4410-B91C-277C7E51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9720C-7658-415F-8DB8-1080E13C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2831C-B863-4AFB-89CE-E2E7175F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9C562-27A9-46BA-9D1B-43FDE857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4C33B-17FA-41D9-96FA-B1281E3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3617C-C263-40C2-8583-E1A782E3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83398-E5B7-4C96-994F-F548DA01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9D6AD-EC11-4E62-9A4D-17840212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075C3-0EE9-40C3-B022-134FD121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06ABB-E198-40BD-9F3F-7BFF223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09F4-AACB-430E-A578-CC50EED8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85EE9-DBE1-4A01-9BD3-E98CD0F6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48DDC-F42A-470C-8248-F22AA59D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8D2C7-2F07-4BC8-8FC0-608CDC73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C3EE2-4A70-4F69-90F9-BEA1E1A4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A5349-348A-458E-8D23-6544043E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CD3DA-C738-4730-B86B-26E42127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810A6-7181-4D69-81CC-4CA436D4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D92BC-9EFA-4D28-925F-5BC19973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07495-A5C7-4E1C-BBE9-01C1DFF9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0B31F-9E04-47D6-8872-8D4E0C39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093F-0780-4530-8011-12295E31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30B83-0EF2-4EE0-844C-E4774637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35720-8FCB-445A-9F2E-1CE38D2E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E9AAB-91EA-44DD-A702-4E0121A6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5C291-36FA-47C7-A201-1E407140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AF64A-FF3A-481D-9BE8-E6746200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AF5AC-2D10-40B6-80A0-323CFF17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C4E0A-2A99-4FFC-8BAB-86A70B73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C0FFB-3BCB-4519-AEDE-0BB8E247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96403-9087-415D-8B96-ABC2157A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07F95-30B7-4255-AC67-911C8A71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F14D-796F-4A04-AC85-FD4CE7C9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82F82-A404-4327-BB0C-3CB3A529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56757-C005-451D-B2D3-861A420C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C5EAB-25E2-4148-B406-21D2EB9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469B7-40D8-4586-8AB7-80814B95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F6486-7D22-4E13-AFF4-BDDCE533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78CE6-E88B-4A34-86D7-D66BB8FC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28A17-0CED-40A2-8491-E9B419AD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990E7-A85F-4D86-B4BF-15B5D0CC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3B38C-533F-4FA5-9908-F6CBDFB1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3F3CC-73EB-4662-9B1B-56BAC923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4170-7E8A-40DF-B9FF-94F565E2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64682-C3A7-48AA-96CE-4719AABA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43811-A7BC-4088-BF0A-C6B9039B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6D8BF-21DD-4AED-AC07-BB09177E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CFBBA-89BA-4C57-B120-93A966C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8096D-5206-4A6F-9ABC-8F064BA6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B742F-B283-4754-9A23-464601E0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108EA-CEBE-4541-8C74-0CA414E0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03974-20A3-4D43-9F22-599FC736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E2426-0348-45CB-A65F-5D41CA10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0D38A-7750-4284-8593-EE1C1570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ED95-DBF8-4845-8A1C-5ACEFB4F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75C56-456A-40BB-BCC6-1490DDFA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72168-F1C7-4A64-8BB6-F1450804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A5752-1BAB-4951-A7DE-03484594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64901-44DE-45D3-B7F7-67888CB2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5EA10-115D-4CDC-8A08-85914C21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46F15-67E3-4A66-BC24-5FCAC1E2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00CDE1-2AC7-46D1-B639-F18506D7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CC787-CD34-43D4-B6F5-47F94DB2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4E3E9-8151-4371-AAB6-BD9265E1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92978-7C14-4D1F-AA53-0CC2C8DA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909D-E18B-4C6F-98C0-0CDD55D9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ADA6A-4F7C-43A2-A801-86919C01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503B3-1F12-4A65-93C7-6A99118D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A2D4A2-4321-4039-9BB8-26535C7A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30140-28AC-48A1-BEA5-C2B297F5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66B5C-1B2A-418E-9D06-36FBC886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E9DAC-8B01-407B-95A1-A97DEF76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C6EA3-F501-4C79-9776-0F9CC4FC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26BAD-6CFC-477D-8688-BE2C0CD9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85EB4-0922-4E50-8A1A-E7E48BE7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7AA9C0-8A3C-4852-AE36-D99DD98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9F0B-5EF7-4F00-A215-208BEABA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15BEC-5C9D-4F70-B31D-46A0DEDC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B15F4-CACD-41DD-B0FF-CD7600E1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BC708-847F-4F01-AB0A-25135B80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510CA-9F03-42AA-A67A-492D669D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6EAF1F-161C-4B4D-A9E8-71F9019F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DC427-2587-47E0-9E54-91118767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46848-5FF3-4484-BD25-59D387C2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B8B6E-BE8F-4A4B-848A-7D6C656F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4E27E-0B9C-4D54-B6D6-5AE8EDFC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FB70C3-EEB9-4793-A71E-0247F0B2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D66-544E-48F4-8CFC-99DE3BDA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C793-2B6D-47AD-AC6E-3803BC4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C9FE0-8620-4A8E-9991-1DF706B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73329-977B-4CE1-A9CF-0DAE53E2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62B11-9884-43C4-870A-FEEF911B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1115F1-8CA6-4A24-9DC9-0F6248FF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02AF1-49BF-4EBF-A039-1CDFC5F9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93008B-6780-4948-9713-DBA4FAB7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A49C1-8D6D-4015-82E0-62D73C6F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BB7259-6C29-40EB-976E-97BCBB4B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20F82-71D3-40FA-98C1-898FFA4F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F1C9CD-D1F5-4E72-A1DD-573CBE4E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6479-E340-4E05-A14B-7AC1C725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579542-CBC0-4691-B84A-D5FCC6A0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CAD9E-292D-4210-93E0-0FDA9355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65B3CB-F83D-4A39-A90F-331960E3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A832B5-C5E1-4A3A-B2BF-1A8761D6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41593-14F8-4BED-9074-E063E0BD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88FD58-86D6-4321-A9B9-1C45A5E5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BF001-571A-4008-8194-7EFF49E4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CA12A-837C-4C3C-9D29-1871F397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D7E89-67FD-44F4-AF8F-5BC3095B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ACF8D-2A45-4110-8A80-C178653F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4EFC-E224-4BEF-91C6-E326DE64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A9CDB5-3F5B-4DBF-82A9-D6226107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1BE4B-2AF1-49EA-B88F-F36A7C83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E41D4-C68C-4AF5-BFFA-717A747B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7D84C-9076-4A37-B3CA-2E649FA7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71E60-F5FD-4452-95FA-9AC92160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81CDF7-3F46-4EF3-9843-C03DD3B0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91FCF-E4A1-4E13-8AB0-B19AED1C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66CB7-BCB1-440F-B7EC-557C52E2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F5D4B-8356-4657-83B3-CC44F4F9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2164B-B496-4E55-9589-F5F5A4DA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CEC8-0CDD-4B75-BC4E-D675E0DC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F0EBF8-3547-459C-8CC5-123EC896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334049-C560-4553-B646-B563C0EC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8F5110-BD34-40CF-A7FD-7DBF84A5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07B5B9-BE1E-4C93-89A2-152BB00B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7F2F8-90E2-4D7D-B2D8-0BB7DB7A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57AB98-E3A2-42F4-BD26-7F698656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288016-BB95-4A90-BD81-A8D59D43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C4B635-4964-4D46-AC08-3BF4E1DE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76C197-FF58-461B-A10A-D2E0EB81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68041-ED6D-44B9-BD1C-CC2B71C2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DCC7-7916-4A1A-9D2F-5D349B8F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D7583-812C-43C0-9786-B2C924F1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40072-5764-41BF-BC72-500F7FBF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ACAAC0-21FE-4921-8921-AC614D9B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6C28B-1242-4D7C-A2B9-A84C4832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D0607E-DE0B-4691-B527-0825E01D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5C62BC-1D95-4F56-BC8E-3DAD9C54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C9DBAA-2F18-4F79-A3DF-2DDFDA8D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979EC-7998-4AFD-B608-D70EB25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B7BAF0-7070-4ECD-BE97-4A742BDA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D4575-4D90-4A7C-BF48-DA8D9E83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5817-8F80-4A5F-A2F3-6EBC4C6D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AC5F5-B375-4507-86D6-DA61E663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FB1A8B-4D46-42D8-9271-64CFF373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525FE3-51C7-459B-B054-434B72EF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DA68AA-E54E-4CCA-A2B5-FA7C783A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FD309D-4D6D-4A5E-9CB6-2CD74466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EF16F1-EE5E-4992-815C-3AE3F634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BAB8FF-37C1-40B9-80F2-0056E89A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A76B32-0FDB-4D71-8E45-9F59F5CE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2BF040-6F21-4A9C-B28F-707E7E33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3DCBB8-1799-4B03-8F5E-7FDDCF48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E0E55-645D-4536-ACAA-B7F276FA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CA72CC-0E55-4821-BAB3-F1A719C0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E8DA77-98D6-4B86-9CE5-36B513C6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78EB4E-9F8B-4874-8511-E33F0BC9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ED5D2F-44C3-4D2A-8E29-DBFFFDB9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EDCF33-D107-4044-91A2-AADEDD09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CDA245-449A-4F9C-B926-390386EC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6A9AF2-FD40-4233-A1CF-0EDC3C9D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7F92A9-0F9D-481F-9288-B991413F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7E2BEA-2DE5-4BED-A95D-CA3F7406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1C159B-EAE7-4621-81ED-E775ED56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3D28-684F-4EF5-898E-6572A1CB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972CD7-C4EB-4871-9F98-1419949D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BDACFC-821F-42F8-932D-CEAFC57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389A6A-4F01-43A9-8BA1-72B248E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E97F0F-3FBB-49C4-9BBB-FDFB684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7DDAC-D273-4A62-9400-CF462BE3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731518-307E-4181-99C5-79EC35F2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2BE2A5-3638-4DBB-AC8B-0467650E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3A87CB-497D-4A6B-AAFB-7A0AB85C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CED97B-3112-4471-86DD-EBC053D7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957265-33BF-489E-8CF8-BF05C0AA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8434-F19E-4F78-8C87-5C703F23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E9961E-074C-47A3-BA78-B3FA9C33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6C6FE2-B92C-4EDB-A857-70CE9A1F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E5FF0C-2556-4B57-8B84-8E7635EA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C9E384-9B3B-4473-92B3-54390242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4ED91A-0F82-4861-80F3-A60C3E78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6AF8F0-E571-421D-86BA-BBB60960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548ADA-A186-4A26-87AB-AAFE3807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0920F4-EA2F-44AC-A0B5-53E056C8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388253-2F45-4D6F-BB39-CC8016D0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550E40-9E50-46EB-A3FF-89CDF4E4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27A5-6326-49AE-A7FE-6A7A019D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53C53A-4C1B-4FB5-BB38-2D7C49C9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496A31-2364-4D97-AC15-F1392DC5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9C3A7B-68AD-4C31-A45F-574B56B1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B66948-018F-4549-B932-F0EAC95F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4E6273-BDFF-4E0E-85E8-68C55239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A26FC6-7D70-4743-B5B5-A3280619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5F8171-B982-476E-A05E-4419FD86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B845A9-A65A-4771-8773-EEA6D943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BCB4F3-4EC3-41B3-BF2B-A8DBBA9C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03EC82-1218-45B2-87C0-5D4F9531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BF1-CAED-43B4-9FB5-60595B02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43A2-90DF-4C11-AC55-DCAEE81D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5430A7-E8A6-45B2-B694-221EBAAD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64AD76-17E9-412C-97BF-D7AB9979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B5C9F5-6A99-4283-B334-9BD4BFCD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95D7D8-D508-418F-BE67-507FCC0D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E1104E-FE3E-4B8C-983D-3933B8CB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11E00B-8855-45E4-814A-72EFE3A7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21FA46-0916-40AA-B281-622463F6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99059C-40BE-4194-BDF6-104829D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665070-10AB-4438-ADFC-78DBE3CE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E2C246-376A-46B9-98C6-EA790988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6FF9-50E7-4007-BCEB-4224DDE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1DE92C-B418-42C0-8832-DAF44A4E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1A93C5-41BE-49CB-A466-41B64471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5F3681-46D4-4048-B647-6F21F013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86391D-B158-4D50-A2AD-B0626F17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91D90F-3ADC-494A-B2F7-3C6FEBAF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FCA0E4-E67D-48B0-9C48-8E72C1A8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70F5BC-FD8B-4FB8-B0AB-D22C10FF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CD23A9-78C9-4FFD-861C-540E2349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02C6B8-DA8F-49BE-BFAF-BFBC0128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6E260F-932E-44A3-AB50-19694130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7DFD-0152-49CF-B6C5-7DE63894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A61944-2FC9-4564-9EA2-9D63A7B8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2EB314-5299-4916-9FB0-9919A100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589E96-4833-4B72-B2A4-1BEE2CF5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4B6119-BAFA-482C-9851-D071B817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8CBF80-FF14-4CB5-B7E3-6443F329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70C795-7D32-4842-945B-BD2BAB4E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FB05E0-D3F4-47F0-90D8-7CC33F80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702E93-A3E2-4805-B3D3-8E0AECB5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336C40-D992-4E2B-B6BA-D0B0B32F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DDB893-A31D-4886-A1C8-2BDE5C72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0BC9-7947-488B-9446-817F8590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83F47F-23A3-44F4-9789-8E0B3801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8B7C72-2C5E-480A-9491-140F06C8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61B059-E359-4DD1-B359-0B7D99A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ABCFA1-F417-45FC-8780-E8EC0A7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C02CD0-863D-4E9B-9DC6-ED71013A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8BA71E-D591-415E-9729-29F5DD47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80A9D8-DEBD-4D22-8327-BC24A0E7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54296E-D4A1-4067-9EE1-1693E60E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56D076-1FBD-4FAC-B338-A5B17764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7BAA2B-88B7-4D79-86C6-B32A41C0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72E9-9750-4512-8A56-05713940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B467CD-3C62-43A4-A42A-4A69FD23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83EA40-05DF-4396-8788-ECB809D0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47FDE2-081E-43C9-B8DC-4D12CBE0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260C00-E39F-4675-98B9-6AEF6047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FC2C71-14C4-4599-BD8B-E99F930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DA0241-1993-4A25-9F68-38DBDED0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F8DEFA-F1E8-414F-AAB3-BCFE25B8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1A06F3-F048-47FE-901E-41EFD677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EEEE25-E42F-4A92-80EE-D7C6E988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C8BD17-05EF-4ABD-9D47-D9FE1CD2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591C-0ABF-48CE-946D-6B49C8EC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F76DF6-811C-4070-A832-1A2C0D0B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394ABC-71FA-4F71-B7F2-91D829EC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8F8370-6ADA-4EE6-AC1A-5C48B475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3A208F-FE92-436E-93B9-B09677CD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8CD4FE-BEC4-4427-A9A0-6CD343F3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BF186D-994F-4092-AE57-7FBB5AD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457C4A-EF27-4661-8336-D1D65C16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3D56C9-C836-4CAE-BEFD-89FB6F19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32836D-D59E-4946-9610-2772FB2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88F0E0-4672-46C9-85A0-BEBA500A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EF3BA-C4BD-4986-AACB-0C70428D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00B4B2-9336-4ABA-A171-82BC9737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B7C64B-C730-412F-85C9-EAC5E876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A05AFB-FDA3-4FBD-BA67-F1159116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D93B7A-CA2E-43B4-83F4-208854AC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15CD5D-9DB1-48AD-AF1A-D4FE38A9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CF336E-A180-4266-B9CD-557428BF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F73BC3-1547-4D54-AEBF-F94FAB3B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C26B76-3A40-4C5A-BEFB-F137E82A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6FB756-3502-4C02-A1C9-6581727A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A06665-1071-4C57-86B4-FA37066B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C9AEA-ADCE-4C91-ACB4-F5BBF207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05424C-DF25-4510-BE54-9D804D98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E4CB7E-C1BC-4196-AF94-50B151DE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AAAB6A-3CCF-4B22-A8FA-FCAAAA7D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232E68-0746-4559-8D01-AA32C095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4C651C-33FB-44F8-939A-498C877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895B26-D197-4F3E-9EF7-C7685551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E1A8CC-AC86-4893-88BC-67312F28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B8DD20-4C8E-4032-8C6D-21FF2763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8A4F2A-C5E1-4E4E-8052-7A34C7B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127093-E471-462B-8BD2-D392FCC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BD5D-F2B1-4B9A-BDA0-D1283B44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08ECD8-5363-4499-B8CA-73F6AFF4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1FF2F7-57D6-4F3E-B128-133404DF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DF5C7D-BFF7-4065-B482-7900E368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C01EC8-AF56-4346-AFD2-365A7FD5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9F5925-11BE-499D-B7F3-46AA9B5F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E7E083-19BE-4DCA-BD1F-00CE822E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B45260-DB23-4759-A73B-312388D9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E50E5B-9122-4CF9-BF74-AC584309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49E1CA-EBAF-4584-8C1A-EDCF70E6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92FA09-8767-4340-8A36-808A8152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FC31-C946-4937-A1F5-3F5CF56C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244664-2DE0-48F1-A0BA-2A576947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4D2F3F-068B-428F-9EB0-BC118512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A38BCD-923B-42D9-8445-FB4D231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C88A38-0F43-4017-B81F-3C4584A8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35D752-EE66-4D73-9DA1-D6C6A7CE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502325-D71C-4D47-ABDF-4014704D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E632D6-2E30-4261-8B66-7E8AEAFD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5C9EFF-D3E5-40BF-8437-AE5C935F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25A91C-64A8-4179-A52B-0E685E98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9236EC-9C27-41EC-8921-1608D032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26C-BBFF-4DC6-855E-D4F17C85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AABB4-DF45-448C-861D-62541D35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09E2F5-872F-48BF-8796-BFB9B0FA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87B0C6-054B-44C0-87B5-96979915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1FCFCD-D248-482C-A72B-FE0FC62B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BE35A0-499B-4E30-9647-B06068CF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F2FB44-F2DA-4C58-A704-31F1A41B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D405ED-5FD7-493C-B445-8FF69379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F5E480-98F7-4DED-A74E-17883D18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39219D-BB0B-4B46-9C08-CC8862D9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E06E11-5746-4002-AC98-8124E898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BA2DEF-BE56-4C5D-BDE9-0AC5A76B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7146-63F4-493B-A4C4-35AE2B69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2BA6B3-02F6-40F5-9D4C-307FC420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212CFC-E399-4979-9C6E-316ED9D3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B56DA8-E608-40B9-AF4F-7A67F4E8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7DBCA5-C253-4B36-B42C-DDE3A063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F5B192-0A18-4A29-AFB0-255299EE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26EF90-08DD-4E10-BD4C-B1F54EAF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268B9D-BF8A-48A0-9400-13917244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1EB902-660D-45F1-9288-EC8518D6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4A0008-81AC-4742-89D2-D89DD272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AFD15A-5D4F-4477-AE8B-E7381FE8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08F92-095F-4D60-9328-EDFA4D85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512AF6-8BD5-4B4D-8828-C31721B1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B8C243-CC7E-4A27-9762-20EEA245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4C1121-012F-4A9E-AD6F-1B214AED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A83750-ADA5-47E0-AF77-DE92ACF0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A5F7E4-8E2D-410F-840F-0925E836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B58184-542C-47E6-A558-5550B97C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2BC3FB-DC89-414D-938B-D5257026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D6422F-082C-474F-A9AF-34A57340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6A68FE-BAAE-46CE-BE9D-9AF72A0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08339E-F475-4C85-8C2F-6C970A16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E43F-8E5A-407C-A1FD-51C0D5E2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65349F-390F-48C0-91B3-6E02FEA3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10C39A-9E48-48B8-BFED-17BD2292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76D3E3-CE9E-4354-B72B-B5508B48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35B1EE-0970-43C0-9A43-D20153D1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9F9A2F-003D-408F-8C11-3ED02B62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7AA0C7-6666-438F-948B-B681A640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07ACC8-5661-462E-B683-E1742DE8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3A6E57-FF87-4445-BCA6-9AF53299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DA15C4-5164-484F-8F47-E68D861E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BB1405-62D9-4A72-A642-5AB9A875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73957-D0E8-40C7-8C35-961FFACE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99F5FC4-2FD7-4985-8CFF-1B890933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2A690D-89F9-462B-8ACC-6E7C8F0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F174EE-CDBC-4F76-AB8A-19FFE4EB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686408-DEF4-438A-9FF4-2A7C10BA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9A7B0C-3F98-4350-8DD0-1632B583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959D2B-17D0-4C68-9003-2F754EF0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980369-9DD7-4F4F-9723-BE675173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F2A556-BE64-474C-BDDC-9EC6A81A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3284007-8EB4-44FC-A280-2126E71B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B89960-FA8F-41F5-A416-C02454F3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0852B-453C-4FF8-8875-36EF4E65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332E62-FAAE-4DF4-A3D4-F780BD97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51A984-DB85-4EBE-BD58-C7B2541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4891E0-B3E3-4857-B0DA-F494697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83201C-7176-42B2-80E0-07DADA4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1EEBEB-165A-403B-AF81-7B485175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7C1E15-5ADE-480D-A272-48F89EC7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7A8362-B7D5-4E44-964F-6A3C1C5F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F1D5-7584-4166-9D93-E4B12DC8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39E7-DCA5-4442-A556-44DFF1FD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06AE-1AE1-49FE-98D2-D0B0134B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08C21-2197-4C8A-94CE-CA415A14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FBC-3B7B-4217-ABC8-FD0F651F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A2730-AA5D-4484-9258-61B7780A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1AB08-7354-4951-8488-4C6C94CF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3DFEC-2715-4E16-9DBB-79EB4A6C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96EF-1D2C-4CCB-B2C0-DB2ACC8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267E-E2DC-4BA6-B052-1A47207E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851F9-2B44-4378-B373-9638B103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9DF33-19CB-46F3-B4B0-EA0BFA52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FAF42-F570-4951-AEC3-BEE37988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FF127-8BE5-4823-A665-08F65EDF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10A51-6661-4786-B8FF-C0949A74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BF5-90A8-46CD-8A0F-3970FA9B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F4690-2BAC-495C-9FD9-FF3FD7F2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265CA-6C87-4752-9994-4D961DEF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17D6F-40E6-4231-8D5C-4A4C971D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25562-E677-4E20-A40A-7E1A6584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02B75-19F3-4D57-8A46-5E117DBE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3A89C-8047-42B2-828D-2776EFF6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33CFD-4542-4723-8637-EEA7DD4A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D235F-F4BB-4602-998B-FE5434B0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E918E-3D0A-4AD7-8896-A553D729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9CD0F-B904-46DC-91B9-BEFF44D6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045-F3C4-457A-B11A-57903A2A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A32F5-7729-44EA-9E97-1300858C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1C3D6-9FB3-48E6-95DA-09C04489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B3681-50E0-4695-9752-C2DC7915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09AAF-80A4-42F9-9FEF-45CCCE9B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04088-2EA9-4E83-A8BA-215F1F00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BF9B4-0F1F-43BF-80D6-F6CD2BF3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B655E-D6FC-4913-B59A-70E54C34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BA010-3017-4DF7-8378-CB5700DB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BC291-E794-4784-8A06-239BCD91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D6950-76D7-41DA-BD5A-B08919A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DB8-7B25-4993-BA6F-0CA5BDB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81D19-6D0B-4CB5-8C5B-C506886B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A69CD-16E4-40D0-AD26-1D678212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76D5A-8500-418A-A295-BFC2D0AD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73FA3-735C-40BA-836F-9614E120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2BD4D-45B3-4CD7-BED8-354B50D0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D6C56-1CB4-45E6-BF1A-42539DB5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A703B-3E07-4783-9371-F9FE7DE6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BEF97-A5B9-4039-AFF6-CC37B6D6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B1E3D-54CB-4887-887E-BE2F8B74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0BC74-DA75-4D17-B7C5-F886D872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3C7-04C4-404C-BEAD-8E883406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B7367-79C6-4AE5-B99F-30D253BB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16323-EF91-4C4F-A74E-9663F737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2836E-D0B4-473F-8B39-70658628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A6113-8D6D-4EC5-8719-0C51E190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CBD0C-66D3-43D5-8005-460B9C27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A9AD0-01E4-4BA9-8327-F42B8FEC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E6B77-60ED-4478-8C19-94972491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78AE7-FCF0-40FB-8822-351CC97A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CFB1B-8368-4F73-AADD-69F3BB61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E2FFA-778D-4461-9241-C6CC83F4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E56B-E7BB-4FE6-A750-09FC8417D63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B612-0493-4C26-9257-30530019FF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B87A-5A86-41BD-B667-BDFDF9A998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BD3F-8165-4A53-9395-3F9DCE8D08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5BD0-D863-4DC3-852D-5CA5C3E88E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AC09-F31E-4926-A033-1ACA2F396D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8355-728A-468F-99B4-909EAA4DDB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35B1-3F5E-4940-94C6-9563D04E1D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C8E6-3BA5-4EA6-99B8-7A2F09E578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59D1-27A9-46AE-9D8F-C07ABE3BCD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CC48-BAFA-4FB1-9848-A483AA5D36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35D8-7D0A-4B50-8AF7-54DC2177B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6AEA-9505-4B0D-B514-768B1FED56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B91A-98A1-460A-A0F1-419876F32B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85DB-FC4D-480D-822D-56E5D8EE3A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3281-20F3-4C55-A0D7-4A919575F7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DE74-5252-485F-A48D-ACB97708AF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CDA1-2D37-493F-91B8-E3BB9AA794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4748-17B1-4010-9877-46546DC764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589E-6734-4C5A-BB53-F41EB2E9DF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30E0-F30D-42F1-BED7-054428D328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345C-EEA9-4812-9150-2481D4D9FB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B3BC-D7DE-447C-AFED-9A394F0404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5043-8B0F-40BE-AA5E-0C9AE2DFED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3BF7-D7B1-43BA-8B42-D83F2330D3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5D18-A2E2-405A-A5E1-D5EBBF41F4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1C55-D5F1-4A76-B009-5D2DA9E0D5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C8B5-B86A-4872-9796-FB1B867D33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846E-3BAF-459D-9E2B-F3E0517276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BCAA-D3A2-4A7F-BB3D-26741F6EF3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4345-5785-456E-B1AC-F1DBA3A63F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1EDA-8945-4B44-8828-FB31731A74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F5A9-0BB2-4400-914F-61E3D6A49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C545-B566-4912-8D00-056694922C7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C5B9-6FCB-423A-A48B-071C5CBBED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6458-6EC9-40AD-ABC5-6142A37161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D2F5-B443-40D8-864B-223A18A994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9A93-C1DF-4AE5-8FBA-B8222E1AE4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Мораль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Рисунок 1" descr="F:\я класс\Screenshot 2022-06-30 at 09-11-07 Мораль и право — урок. Обществознание 7 класс.png"/>
          <p:cNvPicPr/>
          <p:nvPr/>
        </p:nvPicPr>
        <p:blipFill>
          <a:blip r:embed="rId1"/>
          <a:srcRect l="0" t="64669" r="4680" b="4331"/>
          <a:stretch/>
        </p:blipFill>
        <p:spPr>
          <a:xfrm>
            <a:off x="609480" y="990720"/>
            <a:ext cx="7848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бъясните сущность каждой из фун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Прямоугольник 3"/>
          <p:cNvSpPr/>
          <p:nvPr/>
        </p:nvSpPr>
        <p:spPr>
          <a:xfrm>
            <a:off x="317520" y="2781360"/>
            <a:ext cx="1878120" cy="119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Прямоугольник 4"/>
          <p:cNvSpPr/>
          <p:nvPr/>
        </p:nvSpPr>
        <p:spPr>
          <a:xfrm>
            <a:off x="4427640" y="1019160"/>
            <a:ext cx="2867040" cy="57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нава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Прямоугольник 5"/>
          <p:cNvSpPr/>
          <p:nvPr/>
        </p:nvSpPr>
        <p:spPr>
          <a:xfrm>
            <a:off x="4451400" y="3011400"/>
            <a:ext cx="3168720" cy="67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оч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Прямоугольник 6"/>
          <p:cNvSpPr/>
          <p:nvPr/>
        </p:nvSpPr>
        <p:spPr>
          <a:xfrm>
            <a:off x="4508640" y="4894200"/>
            <a:ext cx="3456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муника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Прямоугольник 7"/>
          <p:cNvSpPr/>
          <p:nvPr/>
        </p:nvSpPr>
        <p:spPr>
          <a:xfrm>
            <a:off x="4422600" y="5811840"/>
            <a:ext cx="3816360" cy="66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Прямоугольник 8"/>
          <p:cNvSpPr/>
          <p:nvPr/>
        </p:nvSpPr>
        <p:spPr>
          <a:xfrm>
            <a:off x="4433760" y="1959120"/>
            <a:ext cx="2764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гуля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Прямоугольник 10"/>
          <p:cNvSpPr/>
          <p:nvPr/>
        </p:nvSpPr>
        <p:spPr>
          <a:xfrm>
            <a:off x="4473720" y="3946680"/>
            <a:ext cx="300816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ци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Прямая соединительная линия 12"/>
          <p:cNvSpPr/>
          <p:nvPr/>
        </p:nvSpPr>
        <p:spPr>
          <a:xfrm flipV="1">
            <a:off x="3238560" y="1306080"/>
            <a:ext cx="0" cy="500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Прямая соединительная линия 17"/>
          <p:cNvSpPr/>
          <p:nvPr/>
        </p:nvSpPr>
        <p:spPr>
          <a:xfrm>
            <a:off x="2195640" y="3379680"/>
            <a:ext cx="104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8" name="Прямая со стрелкой 20"/>
          <p:cNvCxnSpPr>
            <a:endCxn id="1600" idx="1"/>
          </p:cNvCxnSpPr>
          <p:nvPr/>
        </p:nvCxnSpPr>
        <p:spPr>
          <a:xfrm>
            <a:off x="3238200" y="1306080"/>
            <a:ext cx="11898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09" name="Прямая со стрелкой 23"/>
          <p:cNvCxnSpPr>
            <a:endCxn id="1604" idx="1"/>
          </p:cNvCxnSpPr>
          <p:nvPr/>
        </p:nvCxnSpPr>
        <p:spPr>
          <a:xfrm>
            <a:off x="3238560" y="2282400"/>
            <a:ext cx="11959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0" name="Прямая со стрелкой 25"/>
          <p:cNvCxnSpPr/>
          <p:nvPr/>
        </p:nvCxnSpPr>
        <p:spPr>
          <a:xfrm>
            <a:off x="3255480" y="339048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1" name="Прямая со стрелкой 26"/>
          <p:cNvCxnSpPr/>
          <p:nvPr/>
        </p:nvCxnSpPr>
        <p:spPr>
          <a:xfrm>
            <a:off x="3304800" y="426996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2" name="Прямая со стрелкой 27"/>
          <p:cNvCxnSpPr/>
          <p:nvPr/>
        </p:nvCxnSpPr>
        <p:spPr>
          <a:xfrm>
            <a:off x="3304800" y="521604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3" name="Прямая со стрелкой 28"/>
          <p:cNvCxnSpPr/>
          <p:nvPr/>
        </p:nvCxnSpPr>
        <p:spPr>
          <a:xfrm>
            <a:off x="3209400" y="630828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04920" y="115560"/>
            <a:ext cx="8686800" cy="62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ультура – совокупность результатов творческой деятельности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Прямоугольник 4"/>
          <p:cNvSpPr/>
          <p:nvPr/>
        </p:nvSpPr>
        <p:spPr>
          <a:xfrm>
            <a:off x="2411280" y="1268280"/>
            <a:ext cx="3803760" cy="86544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рмы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Прямоугольник 5"/>
          <p:cNvSpPr/>
          <p:nvPr/>
        </p:nvSpPr>
        <p:spPr>
          <a:xfrm>
            <a:off x="625320" y="2643120"/>
            <a:ext cx="3571920" cy="71460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атериа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6"/>
          <p:cNvSpPr/>
          <p:nvPr/>
        </p:nvSpPr>
        <p:spPr>
          <a:xfrm>
            <a:off x="4859280" y="2708280"/>
            <a:ext cx="3571920" cy="71424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ухо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Стрелка вниз 10"/>
          <p:cNvSpPr/>
          <p:nvPr/>
        </p:nvSpPr>
        <p:spPr>
          <a:xfrm>
            <a:off x="5334120" y="2133720"/>
            <a:ext cx="250560" cy="57456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Стрелка вниз 11"/>
          <p:cNvSpPr/>
          <p:nvPr/>
        </p:nvSpPr>
        <p:spPr>
          <a:xfrm>
            <a:off x="2830680" y="2133720"/>
            <a:ext cx="249120" cy="5745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Прямоугольник 7"/>
          <p:cNvSpPr/>
          <p:nvPr/>
        </p:nvSpPr>
        <p:spPr>
          <a:xfrm>
            <a:off x="530280" y="3351240"/>
            <a:ext cx="374472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  <a:ea typeface="Times New Roman"/>
              </a:rPr>
              <a:t>совокупность физических объектов, созданных человеческими р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рямоугольник 8"/>
          <p:cNvSpPr/>
          <p:nvPr/>
        </p:nvSpPr>
        <p:spPr>
          <a:xfrm>
            <a:off x="4844880" y="3422520"/>
            <a:ext cx="360072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оцесс духовного творчества и его результаты: научные открытия, произведения искусства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спределите объекты на 2 колонки: материальную и духовную культ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4" name="Picture 2" descr="D:\Documents and Settings\Admin\Рабочий стол\п.jpg"/>
          <p:cNvPicPr/>
          <p:nvPr/>
        </p:nvPicPr>
        <p:blipFill>
          <a:blip r:embed="rId1"/>
          <a:stretch/>
        </p:blipFill>
        <p:spPr>
          <a:xfrm>
            <a:off x="214200" y="1500120"/>
            <a:ext cx="3071880" cy="239544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D:\Documents and Settings\Admin\Рабочий стол\пп.jpg"/>
          <p:cNvPicPr/>
          <p:nvPr/>
        </p:nvPicPr>
        <p:blipFill>
          <a:blip r:embed="rId2"/>
          <a:stretch/>
        </p:blipFill>
        <p:spPr>
          <a:xfrm>
            <a:off x="3419640" y="1628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D:\Documents and Settings\Admin\Рабочий стол\ппп.jpg"/>
          <p:cNvPicPr/>
          <p:nvPr/>
        </p:nvPicPr>
        <p:blipFill>
          <a:blip r:embed="rId3"/>
          <a:stretch/>
        </p:blipFill>
        <p:spPr>
          <a:xfrm>
            <a:off x="5867280" y="1484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D:\Documents and Settings\Admin\Рабочий стол\ппппjpg.jpg"/>
          <p:cNvPicPr/>
          <p:nvPr/>
        </p:nvPicPr>
        <p:blipFill>
          <a:blip r:embed="rId4"/>
          <a:stretch/>
        </p:blipFill>
        <p:spPr>
          <a:xfrm>
            <a:off x="179280" y="4292640"/>
            <a:ext cx="3643560" cy="240012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D:\Documents and Settings\Admin\Рабочий стол\рр.jpg"/>
          <p:cNvPicPr/>
          <p:nvPr/>
        </p:nvPicPr>
        <p:blipFill>
          <a:blip r:embed="rId5"/>
          <a:stretch/>
        </p:blipFill>
        <p:spPr>
          <a:xfrm>
            <a:off x="543564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8" descr="http://dlm5.meta.ua/pic/0/76/43/08ug75NWe5.jpg"/>
          <p:cNvPicPr/>
          <p:nvPr/>
        </p:nvPicPr>
        <p:blipFill>
          <a:blip r:embed="rId6"/>
          <a:stretch/>
        </p:blipFill>
        <p:spPr>
          <a:xfrm>
            <a:off x="3203640" y="4365720"/>
            <a:ext cx="2879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108000" y="642960"/>
            <a:ext cx="892800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Bookman Old Style"/>
              </a:rPr>
              <a:t>Социальные нормы</a:t>
            </a: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oper Std Black"/>
              </a:rPr>
              <a:t>– правила поведения, которые складывались в соответствии с потребностями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Выноска со стрелкой вниз 1"/>
          <p:cNvSpPr/>
          <p:nvPr/>
        </p:nvSpPr>
        <p:spPr>
          <a:xfrm>
            <a:off x="250920" y="2565360"/>
            <a:ext cx="2563560" cy="1150920"/>
          </a:xfrm>
          <a:prstGeom prst="downArrowCallout">
            <a:avLst>
              <a:gd name="adj1" fmla="val 24999"/>
              <a:gd name="adj2" fmla="val 24996"/>
              <a:gd name="adj3" fmla="val 25000"/>
              <a:gd name="adj4" fmla="val 6497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Дозво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Выноска со стрелкой вниз 2"/>
          <p:cNvSpPr/>
          <p:nvPr/>
        </p:nvSpPr>
        <p:spPr>
          <a:xfrm>
            <a:off x="3059280" y="2565360"/>
            <a:ext cx="2952720" cy="1150920"/>
          </a:xfrm>
          <a:prstGeom prst="downArrowCallout">
            <a:avLst>
              <a:gd name="adj1" fmla="val 24992"/>
              <a:gd name="adj2" fmla="val 25002"/>
              <a:gd name="adj3" fmla="val 25000"/>
              <a:gd name="adj4" fmla="val 6497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едпис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Выноска со стрелкой вниз 3"/>
          <p:cNvSpPr/>
          <p:nvPr/>
        </p:nvSpPr>
        <p:spPr>
          <a:xfrm>
            <a:off x="6372360" y="2565360"/>
            <a:ext cx="2087280" cy="1150920"/>
          </a:xfrm>
          <a:prstGeom prst="downArrowCallout">
            <a:avLst>
              <a:gd name="adj1" fmla="val 25006"/>
              <a:gd name="adj2" fmla="val 24995"/>
              <a:gd name="adj3" fmla="val 25000"/>
              <a:gd name="adj4" fmla="val 6497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Запре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Блок-схема: процесс 4"/>
          <p:cNvSpPr/>
          <p:nvPr/>
        </p:nvSpPr>
        <p:spPr>
          <a:xfrm>
            <a:off x="250920" y="3921120"/>
            <a:ext cx="2563560" cy="18842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сти себя определенным обр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Прямоугольник 5"/>
          <p:cNvSpPr/>
          <p:nvPr/>
        </p:nvSpPr>
        <p:spPr>
          <a:xfrm>
            <a:off x="3276720" y="3949560"/>
            <a:ext cx="2447640" cy="185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зани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у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Прямоугольник 10"/>
          <p:cNvSpPr/>
          <p:nvPr/>
        </p:nvSpPr>
        <p:spPr>
          <a:xfrm>
            <a:off x="6300720" y="3971880"/>
            <a:ext cx="2087640" cy="233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зания на действия, которые не следует совер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ораль –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оведения, установленные и охраняемые общ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а общественного сознания, состоящая из системы ценностей и требований, регулирующих поведение люд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Прямоугольник 1"/>
          <p:cNvSpPr/>
          <p:nvPr/>
        </p:nvSpPr>
        <p:spPr>
          <a:xfrm>
            <a:off x="3211560" y="4419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знаки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Группа 5"/>
          <p:cNvGrpSpPr/>
          <p:nvPr/>
        </p:nvGrpSpPr>
        <p:grpSpPr>
          <a:xfrm>
            <a:off x="144360" y="4789440"/>
            <a:ext cx="3741840" cy="1001880"/>
            <a:chOff x="144360" y="4789440"/>
            <a:chExt cx="3741840" cy="1001880"/>
          </a:xfrm>
        </p:grpSpPr>
        <p:sp>
          <p:nvSpPr>
            <p:cNvPr id="1576" name="Скругленный прямоугольник 6"/>
            <p:cNvSpPr/>
            <p:nvPr/>
          </p:nvSpPr>
          <p:spPr>
            <a:xfrm>
              <a:off x="144360" y="4789440"/>
              <a:ext cx="3741840" cy="10018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Скругленный прямоугольник 4"/>
            <p:cNvSpPr/>
            <p:nvPr/>
          </p:nvSpPr>
          <p:spPr>
            <a:xfrm>
              <a:off x="187920" y="4838040"/>
              <a:ext cx="365436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2560" rIns="232560" tIns="232560" bIns="232560" anchor="ctr">
              <a:noAutofit/>
            </a:bodyPr>
            <a:p>
              <a:pPr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2711520"/>
                  <a:tab algn="l" pos="5423040"/>
                  <a:tab algn="l" pos="8134200"/>
                  <a:tab algn="l" pos="1084572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всеобщнос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Группа 8"/>
          <p:cNvGrpSpPr/>
          <p:nvPr/>
        </p:nvGrpSpPr>
        <p:grpSpPr>
          <a:xfrm>
            <a:off x="3841920" y="4902120"/>
            <a:ext cx="5073480" cy="1001880"/>
            <a:chOff x="3841920" y="4902120"/>
            <a:chExt cx="5073480" cy="1001880"/>
          </a:xfrm>
        </p:grpSpPr>
        <p:sp>
          <p:nvSpPr>
            <p:cNvPr id="1579" name="Скругленный прямоугольник 9"/>
            <p:cNvSpPr/>
            <p:nvPr/>
          </p:nvSpPr>
          <p:spPr>
            <a:xfrm>
              <a:off x="4326120" y="4902120"/>
              <a:ext cx="4589280" cy="10018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Скругленный прямоугольник 4"/>
            <p:cNvSpPr/>
            <p:nvPr/>
          </p:nvSpPr>
          <p:spPr>
            <a:xfrm>
              <a:off x="3841920" y="4950720"/>
              <a:ext cx="50198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2560" rIns="232560" tIns="232560" bIns="232560" anchor="ctr">
              <a:noAutofit/>
            </a:bodyPr>
            <a:p>
              <a:pPr algn="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2711520"/>
                  <a:tab algn="l" pos="5423040"/>
                  <a:tab algn="l" pos="8134200"/>
                  <a:tab algn="l" pos="1084572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добровольнос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к произошла мораль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82" name=""/>
          <p:cNvGraphicFramePr/>
          <p:nvPr/>
        </p:nvGraphicFramePr>
        <p:xfrm>
          <a:off x="380880" y="1066680"/>
          <a:ext cx="8534520" cy="5220000"/>
        </p:xfrm>
        <a:graphic>
          <a:graphicData uri="http://schemas.openxmlformats.org/drawingml/2006/table">
            <a:tbl>
              <a:tblPr/>
              <a:tblGrid>
                <a:gridCol w="3505320"/>
                <a:gridCol w="5029200"/>
              </a:tblGrid>
              <a:tr h="16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уралистический подхо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присуща человеку от природы и является результатом биологического развит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логически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дарована человеку бог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ологически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появляется в процессе исторического развития общест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ологически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– один из элементов культур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азличия в понятиях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ораль                 -    нравственност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должно быть, к чему человек должен стремитьс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сли, иде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мир должног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о практикуемые нормы, с которыми человек сталкивается в повседневной жизн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ческие поступ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мир сущег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7"/>
          <p:cNvSpPr/>
          <p:nvPr/>
        </p:nvSpPr>
        <p:spPr>
          <a:xfrm>
            <a:off x="213372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8"/>
          <p:cNvSpPr/>
          <p:nvPr/>
        </p:nvSpPr>
        <p:spPr>
          <a:xfrm>
            <a:off x="63244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ункции морал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ностно-ориентацио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тивацио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ститутивная (установленн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цион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ажнейшие принципы нравственной культуры личнос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Золотое правило нравственности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Поступай по отношению к другим так, как ты хотел бы, чтобы они поступали по отношению к тебе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ральная автономия лич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свобода  выбора и ответственность лич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уманизм, гражданственность и патриотиз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человеколюб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40384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«добро» отражает стремление к человечности, гуманиз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раведливость, милосердие, любовь к ближнему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648320" y="8380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, что противоположно добру, есть з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ло – нарушение мора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ман, насилие, подлость, жестокость, предательство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ло часто прикрывается маской доб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TextBox 1"/>
          <p:cNvSpPr/>
          <p:nvPr/>
        </p:nvSpPr>
        <p:spPr>
          <a:xfrm>
            <a:off x="671400" y="457200"/>
            <a:ext cx="801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о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а поведения, установл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охраняемые государ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Рисунок 2" descr="F:\я класс\Screenshot 2022-06-30 at 09-11-07 Мораль и право — урок. Обществознание 7 класс.png"/>
          <p:cNvPicPr/>
          <p:nvPr/>
        </p:nvPicPr>
        <p:blipFill>
          <a:blip r:embed="rId1"/>
          <a:srcRect l="0" t="9174" r="4680" b="83825"/>
          <a:stretch/>
        </p:blipFill>
        <p:spPr>
          <a:xfrm>
            <a:off x="762120" y="3352680"/>
            <a:ext cx="81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6" name="Рисунок 1" descr="F:\я класс\Screenshot 2022-06-30 at 09-11-07 Мораль и право — урок. Обществознание 7 класс.png"/>
          <p:cNvPicPr/>
          <p:nvPr/>
        </p:nvPicPr>
        <p:blipFill>
          <a:blip r:embed="rId1"/>
          <a:srcRect l="0" t="15899" r="4680" b="35335"/>
          <a:stretch/>
        </p:blipFill>
        <p:spPr>
          <a:xfrm>
            <a:off x="457200" y="6858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1:21:32Z</dcterms:created>
  <dc:creator>MacBook</dc:creator>
  <dc:description/>
  <dc:language>en-US</dc:language>
  <cp:lastModifiedBy>admin</cp:lastModifiedBy>
  <dcterms:modified xsi:type="dcterms:W3CDTF">2022-10-17T15:38:5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