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A98C-974F-40F5-9A89-A115429500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A426-C8F7-4E21-8365-95A3C2BB5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9F0-4C36-41F7-950C-50557F98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B71-A55B-4403-B315-73CD6334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5F8DC-A33F-42B8-B60D-0A11B0BF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FB6D5-8C78-4358-A989-EA72AEF2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DA78F-793E-495B-9DE8-7A709018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593D8-230D-4729-8916-FA63BCEA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F28F3-8730-4302-84FA-024230B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94AE3-2259-40D1-947B-71097CAC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37E02-B379-42DF-A9B3-E9C5D20A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D180D-174F-4593-AB8F-95F11F8C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29A83-0A80-4BAA-98C8-B71D9266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48E18-7431-4E4E-AB1D-718CD9CB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55A-C901-4DD2-A969-92437B00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A0C00-2E43-4E09-B45D-732685A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1E67B-8D4A-417F-B2BF-C6B282A3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D2D90-4912-48F8-B6D8-60A1D9CD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D3D6D-789A-42E0-8E3E-03519949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92FD9-9CFC-4D1D-A257-CEB35122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A32B2-8E05-4B3C-B161-8FC2F6D1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2A6FE-EF0C-475C-B152-2B61416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7B631-E3E8-4F11-BAD6-2897E291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A54F7-8B11-49A5-9676-620DF347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ECD42-5130-411B-AF57-A8B1322C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E68-B724-4B3A-8F3B-2FD0E67B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D9447-D845-4769-AA6D-37F678BE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33E2E-47A4-474A-979F-B862EA50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060FF-4602-4863-BABD-400F551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01617-2822-44F0-A1DE-88D635F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68C16-91A4-4D5F-8A9A-CE3C5A0D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29312-2A05-4B1C-B059-2CC4903B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8C618-28F5-49FE-9561-F69D7237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C3E13-798E-47E1-9F37-4DD1E5F6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8D148-DECF-428E-AF66-F0960922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948D0-523A-46B9-B2E7-065A25CD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0D59-EDD9-4465-A468-7BA84EDA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8E35F-868B-4900-B228-92E4C84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CC208-988B-4CCE-B672-15DF7503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CF8A6-0191-49E3-A90D-DDEC2BF3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7AA18-AC7E-4855-99E9-FA8FDE6C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7D465-40AF-4C5D-ABB4-F7B0EA99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A40CA-5610-4C61-89BB-FC292894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69E32-BB9A-4DFC-8EDE-5864C950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94ACE-F3CA-49CB-AF28-919703B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687DA-49BA-4A01-A4AB-F04526EA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6661A-43C2-40D8-8ABC-CEDA6010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2243-04C3-4DA4-9FFF-5CEF958F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0F7EB-C1C6-4E47-B3CF-A01B3B3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DEBC0-4CF1-402A-AF5D-A6C7F5D5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70D10-2F8E-4D9C-8A64-59FC3B1B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33431-3370-4E99-8F4D-D586F43A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60E4F-1F02-4B43-A31D-06F53074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ADF8E-6379-4D9D-B5A0-9CFF4B97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A7EEC-BDC7-4434-BB17-5B8619F7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139B0-781D-415D-9546-067EB47D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15462-EFCD-40E4-8212-23F58EEA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30B45-1638-4782-BA9F-BCDCCC8A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726E-72B1-4E96-92CF-9AAF53DE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4C52F-CDDB-4718-B9B1-CCE0C9A2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8770A-6275-4BB7-82EA-4A413460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8AD4C-5C10-4CF7-9ED0-D93AA981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0170A-DF34-496E-B48D-8B4D3DA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6C1CD-E2B9-4977-A737-00B77F20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4990C-4128-4294-A816-9168F69A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ABE22-ABA5-486A-AEA9-C0527151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C2064-9D2D-496B-B620-E07ED53D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58B93-B009-462D-93DF-37ABC72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7869A-708C-4516-AB15-1B027100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9B3B-2C92-4713-A407-1130A211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0F6A1-3ED8-4EFD-9559-55D3F0C8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D5275-8BD1-46F7-AC1E-8676F973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6F441-8627-4409-8D60-2AC45626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FAD99-48C0-4764-B764-38D8B87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48C84-39CE-4AE5-9057-ECD2E328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24071-D2F9-4807-836B-7DF665E4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7199B-1C5B-4504-8B4D-83FEDBB2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84339-162A-4F6C-96A7-126636BB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4759F-C1DF-4B18-BBCB-E8D0E987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4D79E-AD23-4020-B7B3-17D20111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801B-86D0-4D69-B86A-4A9664A5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985B2-E186-41D6-942C-1301EA3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E5902-CBB1-4A75-9F65-698A01C5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E568F-86D7-45A6-8E64-74BF662B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75C73-257E-496F-BBBF-413D0B6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084E3-87F7-4B53-AACF-B6AC504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A3931-97AD-480B-B678-A969B8CE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45B8C-42D4-408A-A28E-DB31F099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C32DB-450E-4A97-BED3-CB48D534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46140-C451-400C-88A2-356E54EF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9FF2C-4662-4463-B085-05ABF40A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6294-5ACA-463F-9F0D-E2462DEF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6AB02-A3AA-4341-9EBB-67BF3E2F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FDF3D-DBD6-4B1E-9B4F-F85002C2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295A4-5A26-4498-88E2-28DF4EB3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C2BA7-736E-4910-84B2-AB01ED78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50CE7-5782-4760-AE95-C2C3CF0B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F6365-6000-4A32-9EA3-015A1838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0E15A-10F0-46C6-AA83-40195FFD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B1D06-9F95-4257-A69A-D07A670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F35B1-F92C-43E1-B480-39DDE9A7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79C6C-E67E-4501-AC43-1635B410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57E6-F514-48D6-8F69-F6E1206E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417BB-3157-4303-BE7C-A1172800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B3BE1-5436-4004-833F-4DA11DAA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8F9F7-6AFB-4607-B2C2-AADE4225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B2C21-3D83-4B21-B373-A86C583B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F5EA5-5F72-436F-AB5E-79E831E8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6F8A9-D115-4E48-9BF9-6FFCE72C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685EB-A6EA-4C2D-A39F-75425B7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D4DC9-B911-4FA2-B57B-EC5BC1EA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2E3F6-F7AE-4DED-BCDA-216295EE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988E9-2F02-4F9B-901B-ACE5F35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D9D-7D21-4023-91D1-EC9FAC75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ABD1-8F5D-4ADC-901A-D0438284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58CF3-ECF0-4861-B176-9A6B684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B626D-7799-4404-BCD5-CCA3974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FEFE8-A813-41D8-A06D-C756292D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B2F45-6AA7-42AD-A875-7EA5F7F9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58713-DC3A-4CA8-8432-EB373CCD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340AF-7379-4CD4-A856-D6C35CBA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7B318-A331-4169-8BE9-9FBB1179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23409-A813-4489-9BC5-A89D407A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09FA6-9BFC-412E-8758-06B96B83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9C18A-991C-407D-A788-78492321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EEE3-9963-48CD-84C5-E594C14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5CB2C-A1D2-4A68-8E16-46E170E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91562-D902-41B8-A218-85D482A1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64B0D-5D91-438F-ABD2-15D7AD2B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483F0-655A-4475-B1F0-C92D832A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EA86E-2925-4474-AD1A-376FF79F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E8ECF-7AC4-4125-AE80-DBE1E917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3FD7A1-BC86-4B60-A548-C8FD5D21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4EF96E-31A0-4EA8-96D9-56C51D0F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B2E2BA-55DB-42AA-BE6D-9450709A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0C444-70CF-4B8E-8480-9CD14E24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8CC6-2D20-499D-9DED-C8BF5E3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71C7C-97DD-4720-B6E0-9A0D9453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F3B9D-E97B-4918-AE8E-DD5782EF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419CF-42CE-430C-A2AD-ABE2600F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73AFD-DEFC-478C-A07B-E9B23D6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A0D50C-7649-4FFE-9375-E58AFE6E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BF4CD-8F2A-4110-A447-041A129C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80517D-BFA3-49BD-A45A-EA320DBE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4AE4DB-E47F-47F3-A611-3DA2E40C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8FF2B2-8681-4F11-B87F-4FA934C2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32B65-4188-4A92-9151-6FA9870F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1A67-4D84-4126-8271-F1695EE5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5DA65B-E766-4231-9EB9-5C634693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AFAEF-3E6B-4BD0-A8B2-39411B7F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776BB2-0B7F-482A-B77E-2BA83126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7D6E58-66EE-4D5B-A188-5149FF5A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8B0E8-504F-4852-91B8-D14D6ADE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566468-31F6-4200-8736-C82225D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52599-09AA-498D-952E-17966405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717485-2B85-40B6-ABAB-9FB6D6CF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DE07B-4735-4F4A-A641-B889DCA5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62595-3BDA-4BDE-A4CC-84B9A891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0D15-9AC1-436D-9E81-096D9F5A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6F1EDF-CBCF-4A6C-B12A-2C3C5C6E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513F5-65B8-492A-95FE-268C044A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CC981-AF56-4508-87C4-03C15FCC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C5A74E-91BE-4BAA-B4C5-DC1BE27C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313B8-4662-44AF-9B4A-98496776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EE0A0-43B4-487E-B0C9-FBE9EFB2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5F6DE-57DA-46E5-97D8-4BFCD1B3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CA8EF-2013-491A-87B4-4FB60CC1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358AD3-830F-45E2-B467-B18E8B4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D641E-6D54-449C-9E97-C68DB3B0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9D88-A321-4A6A-9036-4AB4B880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3F1C1-279F-4F26-B86F-6E5BAC3B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B5ADF-FBDE-4F8C-9C39-9F0932B3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8D53A-7D26-4422-BA2C-92CCD42A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09F0B-877A-49AB-AA0A-1F248C30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B6046F-190C-439D-89EF-673A459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D04F3E-1CE5-4257-BCD8-4C5D8408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ACAB5D-9FEF-4F77-81ED-04A7190F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4EA88E-9F27-4943-9DD3-71FFECDC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ED1DD-95FA-4713-BE0C-7B19E32D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A685DC-01AE-4BAA-A6FB-2A0BA7D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92A81-B141-41F3-BCA0-75F5671E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AB3564-7EE6-4E93-9A5C-5B65460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00A50D-1338-470C-B723-83F34C69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C76826-2FE0-48FD-B815-284DFF85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09103-D54F-42B3-9A14-9D177ACC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DA86BC-12A0-4CCD-B8D8-08339E6D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8D18D3-048A-44EF-9C09-A4D049FC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BC076C-CF76-4ED1-9A15-1C206323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BC781F-8B22-4DB9-A8AC-197A103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F6A240-800E-4774-AD55-A9FEEE9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56AEEC-21B7-4B19-B461-E281ED48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E7C9-8F47-451F-B721-C16B3B20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72603A-61C4-4DA2-82DB-0E1D5852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666D1A-9C01-4DD3-AAB4-D613B59E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857099-2FCE-4843-8DA6-CBB853F7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726774-4DA3-40C6-B522-5697A536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211120-84BD-47DE-A952-95F1C51F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80954C-35E4-4B3A-BD44-3246E59A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FB71DA-30FC-44D4-85B0-99D6EE40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782CE3-AD53-4F12-AEBD-A119B9D8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3AAFD8-7495-4B1F-9D8B-7486482D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40C5D7-B706-45FB-9690-D4985E6C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CD23-5CA3-4F58-8A68-37712730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72D3A-133F-4BB4-8E85-03D9FCE6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3F0B2D-6E56-463D-A05A-7291205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242272-5E7C-4B4F-9283-2487266F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D97F93-EBF5-4438-B620-DE24C217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2F8207-9990-41FB-B7F3-B587B614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EBD0E8-670A-4265-9E01-E23EBE13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843D19-BC52-41F3-8190-273D5807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6DA67E-503F-431D-A036-B0A6FAD1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A45E75-ACDB-4759-AEC3-6773AF32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38CF38-F331-443E-BE16-35632489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03C7-7D30-4723-921F-8B67C0DA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E8F45F-3723-41DC-AF8D-A0478326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15CFA2-C5CF-4DFD-8E0B-FBF619DC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E54D3F-25E6-4F22-8469-F927168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292A41-C572-41F6-82EB-E5CB6D61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2C5C1E-3925-4D74-B7E3-ADC04EA0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90BC5E-71FB-4716-8164-B46E3489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D12E0C-55A3-482E-8F57-8FCD621A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6FC612-D9F6-4D15-BB50-D4C0E21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F795A0-F9F3-4459-94C1-F265243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91642D-421C-43F2-AB18-1AAB297B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DA3-DEB6-4E9A-90B7-2F4F7F41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7BB4-8452-414B-BA24-D52A4459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A1CA61-CEE1-41E8-BD7B-7F093C20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B33069-C915-4E89-B453-21809920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83D645-B262-49FF-98A9-5193E656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34A9E6-E7BF-4212-8361-3D40D338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F34A04-6D44-4A91-A159-5E7ED6EF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F0C65F-DCC4-473F-B8D6-9683AD1F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69A970-C664-4626-83F7-9601348C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0E39FD-AFB9-4F42-BD7C-8FBFAAC4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CB6677-945C-44D8-9477-EAAA3B1B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6BD592-0469-4BEA-8F7F-43FCD32B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9BDD-1B89-4FFE-B42A-DF2E9F1E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1CD746-DB6F-4DB8-AFDF-E7B5FC39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98BC56-6499-4314-8DBD-F5CEACEF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EDD276-48D6-45D2-89E9-C262B835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226B52-734C-4F0C-B842-0C8369D2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F43915-0C70-4DD5-9667-7B390852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499E8F-F478-4B05-BCB9-27C38B35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57BC71-23FD-4DD6-AE8F-8224F14D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FC27DA-4EC7-43A9-B15A-A7B05252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0FE526-BA20-48A7-8C54-C94D8C7A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8937CD-F540-4B5D-BB53-87FAA116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A337-CAF1-4DD9-BAD9-D8473B2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A23FDD-08EF-4D90-A77D-D89B906F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43FBEB-FA0F-40E0-98B6-A3242A5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9B0ABC-95BA-4A4C-B156-2BA6CF39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8809CA-9FC4-4DCF-B69D-FE34ABD5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9E54EB-ADCD-469C-8D95-DCD0EE94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B7B1E9-25FF-4220-9237-9C964F52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952C53-C9CD-433B-B17D-7A670615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8EAF23-C72E-46EE-AD19-79D9D97B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203C3C-A839-40E6-8B43-4C8E9B35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171DBA-FBF1-4F89-9269-8517B1E4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2581-C020-4057-9ED2-D12A1B9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F246AF-3591-4F55-AF27-719D860B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7B7161-5C75-485A-A85F-061A520C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995F6A-6C7F-4318-9175-1EC72A70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78E429-3D63-44F0-840F-396AEFEC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C826B6-F470-4501-81CB-980547FD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88EB17-9711-4A4F-86D0-9D8977F4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15BAF4-618A-48E9-B2D7-0ED18A80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A0C6B3-1D28-43CC-8A11-F9259EF3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4E6D9C-F842-489C-A417-52C41E4F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1688D8-F6A5-49D3-9FEC-FCFA99EA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14E9-3DA7-42F6-9A9F-027F3A2C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90395E-E680-4AB4-8E08-8FE8177E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914189-6A64-4FF6-B272-6A9949B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767EAA-6AD8-44E9-838A-2E3C4D83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1DCA0A-EC74-4A40-B97B-96507DE9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501373-C7F9-4A16-AE47-B6B254F2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8A4510-F1AD-4B7B-A34A-B755780E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2D2206-B286-4601-B247-C0E128F4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DA3D66-F59A-4613-BBBC-B19070E2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E70783-F7CE-4234-91D3-5A9CA9FB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560FBD-08C2-42A1-9CA2-44F0740D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5877-E3FA-450C-AADB-5B84C3C7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7B816D-E3CB-4B98-AF47-161F7BA4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9130CA-0BD7-47E5-80B8-2EC3F99A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3DBD91-A539-4806-B871-C4D3C53A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6DABA7-D3AB-47C9-87B4-230351D8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CFE630-F5ED-43A2-9B54-7CB11A0F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2E430E-77CA-4546-9AD5-90965198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BA7567-DDE8-47E0-BF9A-BBC5438D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441D26-9661-42BB-A704-B62A0A2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0B4373-A599-4110-B3E2-01534010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CEBD18-DE16-4FCD-8C67-DFA45AE3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82D2-5B46-4326-897B-E9BD7109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6200F0-765C-4878-8215-232757F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427648-589A-4C7B-9B14-E4B68D60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38FE73-95DF-430E-B32B-3F638763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2D2B8B-0A64-424B-8610-A0185C1D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2D1FC9-6FBD-470C-926F-3F41D6F0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062B62-5910-4D46-A096-CADD12A8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21C1DD-9D63-4348-AF50-EF025B92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D5018E-6594-4AA1-A091-E5D890F1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AEE230-C67A-4F1E-8E90-22054334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0E20A9-F325-42FA-96FD-934B41D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3769-ACF2-4235-99C0-677C9FD8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3C441E-B270-4B42-A3A0-8865368C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54775B-2F8D-4081-97B5-C9718A93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41E0A3-E722-46E3-84F8-0BFC1A26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58401B-B6A2-4FA0-958A-61BE4A3B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061E44-5AE4-409A-81FE-9BD2AA2C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D3C1BC-240C-4BB3-A51D-AB963158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54C22C-F925-4DF5-860D-E2179FF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59525F-52D5-4349-9BC1-02E73097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E72665-6E92-437A-BDF8-0187B757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1012E9-A40C-4C3D-928F-ECA7213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7965E-D00F-4C0D-A0C0-16D763E2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D5C7F1-A36E-4583-9ABA-6CB8AE7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BF1AF1-2FD0-4DE1-A16D-B49C516F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9E3206-1921-4838-9171-E811E71F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7C399D-3B78-4271-BD69-CA3F019B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E10519-574C-4F16-9C62-BDEBF41E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BDE1BC-405D-4D1E-B114-670450FF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FF3122-E51F-415B-843F-5CBCD74D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22F10F-07A6-441C-B1A7-9CF4FB11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9C3D74-23FD-4ED6-B7D3-B4E78884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4A273A-525B-4FAB-AEEF-14C65D6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42BD-2405-492E-8400-71F34C3F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D5EB93-D6A0-48AD-AE80-E16569AC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49A839-AA7F-4781-83AB-8D00984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89C3A1-D292-4687-B647-1D607EF6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8CD727-C970-4BCB-B383-2A0C05A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E1BF29-F609-47E5-9C18-3456B2D4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0E6C67-69A2-4992-AE4C-38CC0B97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AF4E4A-0CF5-4E67-AFE0-E9F2F4CF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D66386-7311-49DD-A79F-39BA1ECE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B1A27C-D82D-498A-B849-7855F6CE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A45439-C97B-4186-A0CE-2D3107AF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A21-0FDE-4ECD-AA42-859CFB2F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1FCD-24DE-4E15-8793-83F29E5C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1D4136-AF69-40E0-81F9-4933322C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B9527D-B7A9-4BB5-9993-C636BD84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33A2D8-7781-42C6-8877-8D3B1E20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051091-7CC5-46BF-B808-DF1F1F3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E3FF05-79AC-4091-9FF7-A20ADD52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C87AD4-BF6F-4E14-87AD-7DD1FFB0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00C55E-1F50-4744-92BF-342C3E5C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5CD4B6-73CD-41FB-ABDD-F429580F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93B4AB-41E0-4438-810B-35EE5B94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238AF2-6E9D-47DA-94A4-6FABAE74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7557-2576-4DDF-9D05-F7DFED35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8625D8-19D1-47C0-86F9-92F17236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2BD8EC-EC2F-401D-83A8-A2FE2B3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C0F7AF-F056-4BB0-AA8A-4A355448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33F4B6-AE2D-41CE-8C50-A98F9339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2700F8-3A6B-4177-B7AD-C09F9DCB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489021-D135-405B-B134-BF70EC1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484B5B-5273-4F25-A455-110E105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840595-8BB5-4887-8025-F2285057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4049D0-8F6D-4F40-B479-1B6F4567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BC40D8-5666-48D5-A592-772DEDA8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0B46-6516-4D92-9D9E-DE0D05D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3EDE94-349C-4E5F-9F17-1C1A7808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86264B-11ED-4574-8C52-7D51F0BC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5CAA41-67D2-465B-9864-364D9BC9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041E70-5D19-429A-9CA5-A59849E2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57FCE6-3638-408E-9489-561C3C84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9ECD81-8CB3-47E0-858E-2F5CE213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E2EBF2-5331-4F83-8140-14351870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970615-6ABD-48DC-95F7-FF4ADB3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BD65D0-06AA-4726-A978-983DA9ED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C2231D-6609-4205-8532-BA6BE0E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9DF4B-675B-444F-B00E-4E9744E4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AA3DCA-F62E-48C1-A81F-B9C7ED7B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0E30A8-6C91-42BF-9680-4BC416D7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6A1426-F814-470E-AD17-CB59FB1A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C5D312-C5C4-4777-8998-609E5F8C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F147DE-C766-4DE5-A4FD-0A86E418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823B3D-CCCE-4D4B-8318-FE0D6DCF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3A6D2D-1B11-486D-B9AA-FAC95615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A1B9AA-5B57-4F53-9DAF-388D57B8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CAE750-1F39-49B8-A239-1E3CABEA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EF53C8-2B08-4271-A870-871B5E63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C4A63-8747-4D7F-A133-98E2238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90E5C2-869F-4CA2-A481-FB141CCD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9C7DFE-1A86-4049-B0B3-F5CB0A3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43803E-0B83-46E2-AB99-AC3FE4E4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A05E6C-753C-4B7A-857F-A2C7BD97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EABD31-C147-4358-BD5E-84E74F03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BF503B-3AB6-45A7-BDC4-8B7A4090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0FB77D-9573-45C8-A5CA-035B9981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DC3FD6-A7A5-4F75-B120-72F86AA0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BFD214-663F-4F15-AC67-05D12519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BBADDDF-3E20-4DA5-80F4-23E247D8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B8FC-CD57-4482-A966-4DD02FF4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A0F5FC-7483-4CEC-99C8-52623DA0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509C3D-976D-4B34-A678-F1DA9472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42841E-AADF-4D95-B880-7EAA239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DF968F-972A-4C97-9DF3-77DC9B4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287C5B-5AA1-4F73-A508-4D293EF7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D3A9DD-3FE0-4703-AF96-2D143435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79940E-4B07-497B-956A-8B48F9E3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1023-7EAD-4EBC-84A4-F72433F0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C779-200C-47E8-90A1-D463654C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7AE5-435A-439B-A417-29D774D3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0B38-DFA7-41BA-98D8-E8B762D0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205-0046-4741-BF5B-5AE9FE75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CD80A-8BB1-46C7-9F12-E8D08D46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FBB30-8410-4AD6-8AD5-59FAD163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EF789-69CE-4249-B77C-1893D7D0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182F-5666-47AA-BE54-87E970C6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E68F4-CF79-4D6D-9818-2F3EA7B5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2C881-277E-4AAA-A030-6E554C7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97D3-3EA5-4E4F-B431-CC17AD5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AD92-E988-438B-A128-13D3140F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4769-5EC0-47D7-90FC-98F65D52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DDBD-57AB-4A13-BD6D-9D09D603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F35-4B71-4B77-9292-96FE5134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8C4E-DF19-4CF3-8808-FF2181AD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882EF-0CDD-4AB2-822D-6F25BD54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14385-416C-4BA6-B788-B24EE69D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FCC18-2877-4998-8BA9-1862CCE3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2D19-CBE6-49DE-8E5A-5C9AEDB4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AF4F3-0495-4829-ACE5-FE3F8F1F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94CB3-60EA-470C-A5DB-5D3E0B3E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A2F17-3C0C-4FA6-84E6-F9543E5E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87016-D264-48E6-AC38-598411E4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42139-29F8-48F4-8FC4-1B9293AD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518-08C0-4C57-A5FF-BCD4A2F2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8996A-FE28-4A6A-B552-1EA7568F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B7FB3-AE91-4C55-A845-BBF26A9A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30234-D347-4E8E-B1D6-8F8755B2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FC6FD-796E-4F91-9ABC-7ED36C7B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CC49-4482-4C6C-A1A5-0DBA619C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549BB-225E-4EB5-9584-729F00D3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9F168-E8D3-4DCC-BB94-206C931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6CD8B-EE6A-4268-B30D-D78D588D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59747-2C55-4916-8844-9AC67E4F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CFE74-B3B1-4CAE-8CEE-072FDEB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501-5883-4728-A32A-401C5393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52F14-6C98-45F8-8AFA-E14FF28D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109C7-0830-4A00-ADA9-E6C0AC6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2F8A9-AD28-4BA7-A46F-49E77138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9A05-2CD6-41F7-8385-E973AB0B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17512-C943-4BAF-9057-3A4AAA06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368A6-20E6-4016-B269-BCB985D6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C060A-D59D-4C1E-8BE4-E72BF7B0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3B102-6823-415D-84B2-4AF881AD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48716-01C3-402D-B08F-0AAAD87D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34D17-836E-4E2A-834B-FC7454C3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553-3A7F-47DE-BB59-1919893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ED799-A1AD-490F-A402-42E1D9C0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CC314-373B-4256-A06B-2C8BB882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64739-1778-4900-90A8-FC77204F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1557A-BF5B-4BA0-949C-E4828B3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C46CC-47A3-4F56-91DD-4FF86A63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97003-BBE6-459B-A431-1DD1AFA1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AA04D-E604-4F9F-BBA9-61B3CFCD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79C7B-007D-4A28-9311-562D4B4B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29283-1115-4E23-BBDB-224F47B3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CAD6C-089E-4D36-A625-13324A48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9F4-27B9-4615-94D6-DB7F590E8F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3F96-A1CD-4236-9B1B-5C7AAABC5E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F051-027E-43E8-B7C1-D9773CB2C1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BE29-A28D-4582-A851-0FB426D842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F011-A841-405E-A12B-5C2F5DF403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6A8B-A991-453B-834F-98EE77D3FA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C2FB-50E5-46F2-84D2-7579EA2391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E9E3-468B-4221-B0DD-1122286555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A15A-BF7F-4028-A07B-56D7B160ED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C197-C0FA-4420-9870-EC76A82D81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ED87-9E41-4730-ADA3-143BAB770D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8F72-678E-4C7E-8848-1204A3B4F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AE5A-FE64-4AA5-A1F0-279D75443A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6ED4-F55D-4B19-8C01-E85A016576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8C0C-1033-4E9E-9876-4E5BD9072F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9E9D-5590-4478-9588-2D791951F3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5585-374D-4E62-9307-700541754A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5717-6138-4CD3-851F-D7E1A933E0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9644-65EF-4602-A314-C296FDB51C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839B-3F25-42DF-AE40-6D41974A47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5D60-983C-4C36-ACF5-A418AC5E69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FC99-0B7A-4B11-BFF2-6D596BD8F9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2ADD-7E74-4C96-90D6-CCC5D3B468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A55-3132-4C31-9A0A-60D72DE33C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9FE1-8157-4EEC-95D0-AD2B568AFE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7414-A204-493A-807D-69BFAF3C7B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D84C-1E54-403A-8751-8226298B93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9307-E5D5-46E4-81FB-22EB58DB95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DEF9-AA6C-4011-B231-EBCC5A20B7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254E-A39C-48F9-B39F-DD29A168E3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155-23A0-4AE2-9472-91C3B8CCD9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B3FA-8F9C-45E1-A213-FF1E5A62E4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E420-104B-4EDB-BAA1-8091D5FAF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853B-07F2-4B23-8665-194CF169DA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6069-308D-45A2-B09C-27C27D6403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011B-1274-4743-9D89-73F257DA2D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D829-69E7-4C31-8D3C-C34D282BE9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967E-A00A-4FCF-B383-04DD071495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Мораль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Рисунок 1" descr="F:\я класс\Screenshot 2022-06-30 at 09-11-07 Мораль и право — урок. Обществознание 7 класс.png"/>
          <p:cNvPicPr/>
          <p:nvPr/>
        </p:nvPicPr>
        <p:blipFill>
          <a:blip r:embed="rId1"/>
          <a:srcRect l="0" t="64669" r="4680" b="4331"/>
          <a:stretch/>
        </p:blipFill>
        <p:spPr>
          <a:xfrm>
            <a:off x="609480" y="990720"/>
            <a:ext cx="7848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ъясните сущность каждой из фун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Прямоугольник 3"/>
          <p:cNvSpPr/>
          <p:nvPr/>
        </p:nvSpPr>
        <p:spPr>
          <a:xfrm>
            <a:off x="317520" y="2781360"/>
            <a:ext cx="1878120" cy="119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4"/>
          <p:cNvSpPr/>
          <p:nvPr/>
        </p:nvSpPr>
        <p:spPr>
          <a:xfrm>
            <a:off x="4427640" y="1019160"/>
            <a:ext cx="2867040" cy="57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нава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Прямоугольник 5"/>
          <p:cNvSpPr/>
          <p:nvPr/>
        </p:nvSpPr>
        <p:spPr>
          <a:xfrm>
            <a:off x="4451400" y="3011400"/>
            <a:ext cx="3168720" cy="67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о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6"/>
          <p:cNvSpPr/>
          <p:nvPr/>
        </p:nvSpPr>
        <p:spPr>
          <a:xfrm>
            <a:off x="4508640" y="4894200"/>
            <a:ext cx="3456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муника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Прямоугольник 7"/>
          <p:cNvSpPr/>
          <p:nvPr/>
        </p:nvSpPr>
        <p:spPr>
          <a:xfrm>
            <a:off x="4422600" y="5811840"/>
            <a:ext cx="3816360" cy="66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Прямоугольник 8"/>
          <p:cNvSpPr/>
          <p:nvPr/>
        </p:nvSpPr>
        <p:spPr>
          <a:xfrm>
            <a:off x="4433760" y="1959120"/>
            <a:ext cx="2764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гуля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Прямоугольник 10"/>
          <p:cNvSpPr/>
          <p:nvPr/>
        </p:nvSpPr>
        <p:spPr>
          <a:xfrm>
            <a:off x="4473720" y="3946680"/>
            <a:ext cx="300816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Прямая соединительная линия 12"/>
          <p:cNvSpPr/>
          <p:nvPr/>
        </p:nvSpPr>
        <p:spPr>
          <a:xfrm flipV="1">
            <a:off x="3238560" y="1306080"/>
            <a:ext cx="0" cy="500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Прямая соединительная линия 17"/>
          <p:cNvSpPr/>
          <p:nvPr/>
        </p:nvSpPr>
        <p:spPr>
          <a:xfrm>
            <a:off x="2195640" y="3379680"/>
            <a:ext cx="104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8" name="Прямая со стрелкой 20"/>
          <p:cNvCxnSpPr>
            <a:endCxn id="1600" idx="1"/>
          </p:cNvCxnSpPr>
          <p:nvPr/>
        </p:nvCxnSpPr>
        <p:spPr>
          <a:xfrm>
            <a:off x="3238200" y="1306080"/>
            <a:ext cx="11898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09" name="Прямая со стрелкой 23"/>
          <p:cNvCxnSpPr>
            <a:endCxn id="1604" idx="1"/>
          </p:cNvCxnSpPr>
          <p:nvPr/>
        </p:nvCxnSpPr>
        <p:spPr>
          <a:xfrm>
            <a:off x="3238560" y="2282400"/>
            <a:ext cx="11959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0" name="Прямая со стрелкой 25"/>
          <p:cNvCxnSpPr/>
          <p:nvPr/>
        </p:nvCxnSpPr>
        <p:spPr>
          <a:xfrm>
            <a:off x="3255480" y="339048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1" name="Прямая со стрелкой 26"/>
          <p:cNvCxnSpPr/>
          <p:nvPr/>
        </p:nvCxnSpPr>
        <p:spPr>
          <a:xfrm>
            <a:off x="3304800" y="426996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2" name="Прямая со стрелкой 27"/>
          <p:cNvCxnSpPr/>
          <p:nvPr/>
        </p:nvCxnSpPr>
        <p:spPr>
          <a:xfrm>
            <a:off x="3304800" y="521604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13" name="Прямая со стрелкой 28"/>
          <p:cNvCxnSpPr/>
          <p:nvPr/>
        </p:nvCxnSpPr>
        <p:spPr>
          <a:xfrm>
            <a:off x="3209400" y="6308280"/>
            <a:ext cx="11962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04920" y="115560"/>
            <a:ext cx="868680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ультура – совокупность результатов творческой деятельности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Прямоугольник 4"/>
          <p:cNvSpPr/>
          <p:nvPr/>
        </p:nvSpPr>
        <p:spPr>
          <a:xfrm>
            <a:off x="2411280" y="1268280"/>
            <a:ext cx="3803760" cy="86544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рмы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Прямоугольник 5"/>
          <p:cNvSpPr/>
          <p:nvPr/>
        </p:nvSpPr>
        <p:spPr>
          <a:xfrm>
            <a:off x="625320" y="2643120"/>
            <a:ext cx="3571920" cy="71460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атериа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6"/>
          <p:cNvSpPr/>
          <p:nvPr/>
        </p:nvSpPr>
        <p:spPr>
          <a:xfrm>
            <a:off x="4859280" y="2708280"/>
            <a:ext cx="3571920" cy="71424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ухо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Стрелка вниз 10"/>
          <p:cNvSpPr/>
          <p:nvPr/>
        </p:nvSpPr>
        <p:spPr>
          <a:xfrm>
            <a:off x="5334120" y="2133720"/>
            <a:ext cx="250560" cy="57456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Стрелка вниз 11"/>
          <p:cNvSpPr/>
          <p:nvPr/>
        </p:nvSpPr>
        <p:spPr>
          <a:xfrm>
            <a:off x="2830680" y="2133720"/>
            <a:ext cx="249120" cy="5745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Прямоугольник 7"/>
          <p:cNvSpPr/>
          <p:nvPr/>
        </p:nvSpPr>
        <p:spPr>
          <a:xfrm>
            <a:off x="530280" y="3351240"/>
            <a:ext cx="374472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совокупность физических объектов, созданных человеческими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рямоугольник 8"/>
          <p:cNvSpPr/>
          <p:nvPr/>
        </p:nvSpPr>
        <p:spPr>
          <a:xfrm>
            <a:off x="4844880" y="3422520"/>
            <a:ext cx="36007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  <a:ea typeface="Times New Roman"/>
              </a:rPr>
              <a:t>процесс духовного творчества и его результаты: научные открытия, произведения искусства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пределите объекты на 2 колонки: материальную и духовную куль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4" name="Picture 2" descr="D:\Documents and Settings\Admin\Рабочий стол\п.jpg"/>
          <p:cNvPicPr/>
          <p:nvPr/>
        </p:nvPicPr>
        <p:blipFill>
          <a:blip r:embed="rId1"/>
          <a:stretch/>
        </p:blipFill>
        <p:spPr>
          <a:xfrm>
            <a:off x="214200" y="1500120"/>
            <a:ext cx="3071880" cy="239544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D:\Documents and Settings\Admin\Рабочий стол\пп.jpg"/>
          <p:cNvPicPr/>
          <p:nvPr/>
        </p:nvPicPr>
        <p:blipFill>
          <a:blip r:embed="rId2"/>
          <a:stretch/>
        </p:blipFill>
        <p:spPr>
          <a:xfrm>
            <a:off x="3419640" y="1628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D:\Documents and Settings\Admin\Рабочий стол\ппп.jpg"/>
          <p:cNvPicPr/>
          <p:nvPr/>
        </p:nvPicPr>
        <p:blipFill>
          <a:blip r:embed="rId3"/>
          <a:stretch/>
        </p:blipFill>
        <p:spPr>
          <a:xfrm>
            <a:off x="5867280" y="1484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D:\Documents and Settings\Admin\Рабочий стол\ппппjpg.jpg"/>
          <p:cNvPicPr/>
          <p:nvPr/>
        </p:nvPicPr>
        <p:blipFill>
          <a:blip r:embed="rId4"/>
          <a:stretch/>
        </p:blipFill>
        <p:spPr>
          <a:xfrm>
            <a:off x="179280" y="4292640"/>
            <a:ext cx="3643560" cy="240012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D:\Documents and Settings\Admin\Рабочий стол\рр.jpg"/>
          <p:cNvPicPr/>
          <p:nvPr/>
        </p:nvPicPr>
        <p:blipFill>
          <a:blip r:embed="rId5"/>
          <a:stretch/>
        </p:blipFill>
        <p:spPr>
          <a:xfrm>
            <a:off x="543564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8" descr="http://dlm5.meta.ua/pic/0/76/43/08ug75NWe5.jpg"/>
          <p:cNvPicPr/>
          <p:nvPr/>
        </p:nvPicPr>
        <p:blipFill>
          <a:blip r:embed="rId6"/>
          <a:stretch/>
        </p:blipFill>
        <p:spPr>
          <a:xfrm>
            <a:off x="3203640" y="4365720"/>
            <a:ext cx="28796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108000" y="642960"/>
            <a:ext cx="892800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Bookman Old Style"/>
              </a:rPr>
              <a:t>Социальные нормы</a:t>
            </a: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oper Std Black"/>
              </a:rPr>
              <a:t>– правила поведения, которые складывались в соответствии с потребностями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Выноска со стрелкой вниз 1"/>
          <p:cNvSpPr/>
          <p:nvPr/>
        </p:nvSpPr>
        <p:spPr>
          <a:xfrm>
            <a:off x="250920" y="2565360"/>
            <a:ext cx="2563560" cy="1150920"/>
          </a:xfrm>
          <a:prstGeom prst="downArrowCallout">
            <a:avLst>
              <a:gd name="adj1" fmla="val 24999"/>
              <a:gd name="adj2" fmla="val 24996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Дозво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Выноска со стрелкой вниз 2"/>
          <p:cNvSpPr/>
          <p:nvPr/>
        </p:nvSpPr>
        <p:spPr>
          <a:xfrm>
            <a:off x="3059280" y="2565360"/>
            <a:ext cx="2952720" cy="1150920"/>
          </a:xfrm>
          <a:prstGeom prst="downArrowCallout">
            <a:avLst>
              <a:gd name="adj1" fmla="val 24992"/>
              <a:gd name="adj2" fmla="val 25002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едпис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Выноска со стрелкой вниз 3"/>
          <p:cNvSpPr/>
          <p:nvPr/>
        </p:nvSpPr>
        <p:spPr>
          <a:xfrm>
            <a:off x="6372360" y="2565360"/>
            <a:ext cx="2087280" cy="1150920"/>
          </a:xfrm>
          <a:prstGeom prst="downArrowCallout">
            <a:avLst>
              <a:gd name="adj1" fmla="val 25006"/>
              <a:gd name="adj2" fmla="val 24995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Запр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Блок-схема: процесс 4"/>
          <p:cNvSpPr/>
          <p:nvPr/>
        </p:nvSpPr>
        <p:spPr>
          <a:xfrm>
            <a:off x="250920" y="3921120"/>
            <a:ext cx="2563560" cy="1884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сти себя определенны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Прямоугольник 5"/>
          <p:cNvSpPr/>
          <p:nvPr/>
        </p:nvSpPr>
        <p:spPr>
          <a:xfrm>
            <a:off x="3276720" y="3949560"/>
            <a:ext cx="2447640" cy="185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зани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у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оугольник 10"/>
          <p:cNvSpPr/>
          <p:nvPr/>
        </p:nvSpPr>
        <p:spPr>
          <a:xfrm>
            <a:off x="6300720" y="3971880"/>
            <a:ext cx="2087640" cy="233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зания на действия, которые не следует совер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ораль –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оведения, установленные и охраняемые общ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а общественного сознания, состоящая из системы ценностей и требований, регулирующих поведение люд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Прямоугольник 1"/>
          <p:cNvSpPr/>
          <p:nvPr/>
        </p:nvSpPr>
        <p:spPr>
          <a:xfrm>
            <a:off x="3211560" y="4419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Группа 5"/>
          <p:cNvGrpSpPr/>
          <p:nvPr/>
        </p:nvGrpSpPr>
        <p:grpSpPr>
          <a:xfrm>
            <a:off x="144360" y="4789440"/>
            <a:ext cx="3741840" cy="1001880"/>
            <a:chOff x="144360" y="4789440"/>
            <a:chExt cx="3741840" cy="1001880"/>
          </a:xfrm>
        </p:grpSpPr>
        <p:sp>
          <p:nvSpPr>
            <p:cNvPr id="1576" name="Скругленный прямоугольник 6"/>
            <p:cNvSpPr/>
            <p:nvPr/>
          </p:nvSpPr>
          <p:spPr>
            <a:xfrm>
              <a:off x="144360" y="4789440"/>
              <a:ext cx="3741840" cy="10018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Скругленный прямоугольник 4"/>
            <p:cNvSpPr/>
            <p:nvPr/>
          </p:nvSpPr>
          <p:spPr>
            <a:xfrm>
              <a:off x="187920" y="4838040"/>
              <a:ext cx="365436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2560" rIns="232560" tIns="232560" bIns="232560" anchor="ctr">
              <a:noAutofit/>
            </a:bodyPr>
            <a:p>
              <a:pPr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2711520"/>
                  <a:tab algn="l" pos="5423040"/>
                  <a:tab algn="l" pos="8134200"/>
                  <a:tab algn="l" pos="1084572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всеобщно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Группа 8"/>
          <p:cNvGrpSpPr/>
          <p:nvPr/>
        </p:nvGrpSpPr>
        <p:grpSpPr>
          <a:xfrm>
            <a:off x="3841920" y="4902120"/>
            <a:ext cx="5073480" cy="1001880"/>
            <a:chOff x="3841920" y="4902120"/>
            <a:chExt cx="5073480" cy="1001880"/>
          </a:xfrm>
        </p:grpSpPr>
        <p:sp>
          <p:nvSpPr>
            <p:cNvPr id="1579" name="Скругленный прямоугольник 9"/>
            <p:cNvSpPr/>
            <p:nvPr/>
          </p:nvSpPr>
          <p:spPr>
            <a:xfrm>
              <a:off x="4326120" y="4902120"/>
              <a:ext cx="4589280" cy="10018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Скругленный прямоугольник 4"/>
            <p:cNvSpPr/>
            <p:nvPr/>
          </p:nvSpPr>
          <p:spPr>
            <a:xfrm>
              <a:off x="3841920" y="4950720"/>
              <a:ext cx="5019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2560" rIns="232560" tIns="232560" bIns="232560" anchor="ctr">
              <a:noAutofit/>
            </a:bodyPr>
            <a:p>
              <a:pPr algn="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2711520"/>
                  <a:tab algn="l" pos="5423040"/>
                  <a:tab algn="l" pos="8134200"/>
                  <a:tab algn="l" pos="1084572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добровольно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к произошла мораль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82" name=""/>
          <p:cNvGraphicFramePr/>
          <p:nvPr/>
        </p:nvGraphicFramePr>
        <p:xfrm>
          <a:off x="380880" y="1066680"/>
          <a:ext cx="8534520" cy="5220000"/>
        </p:xfrm>
        <a:graphic>
          <a:graphicData uri="http://schemas.openxmlformats.org/drawingml/2006/table">
            <a:tbl>
              <a:tblPr/>
              <a:tblGrid>
                <a:gridCol w="3505320"/>
                <a:gridCol w="5029200"/>
              </a:tblGrid>
              <a:tr h="16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уралистический подхо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присуща человеку от природы и является результатом биологического развит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логически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дарована человеку бог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ологически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появляется в процессе исторического развития общест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ологически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 – один из элементов культур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азличия в понятиях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ораль                 -    нравственност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должно быть, к чему человек должен стремитьс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сли, иде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мир должно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о практикуемые нормы, с которыми человек сталкивается в повседневной жизн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ие поступ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мир суще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7"/>
          <p:cNvSpPr/>
          <p:nvPr/>
        </p:nvSpPr>
        <p:spPr>
          <a:xfrm>
            <a:off x="213372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8"/>
          <p:cNvSpPr/>
          <p:nvPr/>
        </p:nvSpPr>
        <p:spPr>
          <a:xfrm>
            <a:off x="63244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ункции морал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ностно-ориента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ститутивная (установленн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цион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ажнейшие принципы нравственной культуры личн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Золотое правило нравственности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Поступай по отношению к другим так, как ты хотел бы, чтобы они поступали по отношению к тебе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ральная автономия лич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свобода  выбора и ответственность лич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манизм, гражданственность и патриотиз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человеколюб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40384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«добро» отражает стремление к человечности, гуманиз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раведливость, милосердие, любовь к ближнему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64832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, что противоположно добру, есть зл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ло – нарушение мора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ман, насилие, подлость, жестокость, предательство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ло часто прикрывается маской доб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TextBox 1"/>
          <p:cNvSpPr/>
          <p:nvPr/>
        </p:nvSpPr>
        <p:spPr>
          <a:xfrm>
            <a:off x="671400" y="457200"/>
            <a:ext cx="801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о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а поведения, установл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охраняемые государ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Рисунок 2" descr="F:\я класс\Screenshot 2022-06-30 at 09-11-07 Мораль и право — урок. Обществознание 7 класс.png"/>
          <p:cNvPicPr/>
          <p:nvPr/>
        </p:nvPicPr>
        <p:blipFill>
          <a:blip r:embed="rId1"/>
          <a:srcRect l="0" t="9174" r="4680" b="83825"/>
          <a:stretch/>
        </p:blipFill>
        <p:spPr>
          <a:xfrm>
            <a:off x="762120" y="335268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Рисунок 1" descr="F:\я класс\Screenshot 2022-06-30 at 09-11-07 Мораль и право — урок. Обществознание 7 класс.png"/>
          <p:cNvPicPr/>
          <p:nvPr/>
        </p:nvPicPr>
        <p:blipFill>
          <a:blip r:embed="rId1"/>
          <a:srcRect l="0" t="15899" r="4680" b="35335"/>
          <a:stretch/>
        </p:blipFill>
        <p:spPr>
          <a:xfrm>
            <a:off x="457200" y="6858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1:21:32Z</dcterms:created>
  <dc:creator>MacBook</dc:creator>
  <dc:description/>
  <dc:language>en-US</dc:language>
  <cp:lastModifiedBy>admin</cp:lastModifiedBy>
  <dcterms:modified xsi:type="dcterms:W3CDTF">2022-10-17T15:38:5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