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C15-BAE0-43A4-A004-5E51A223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F68-8240-4E3C-B735-4ECB9955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40C-E750-4777-BD49-8F356BC1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E3B-1884-47F8-8482-70CA4479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2CC7-7C4E-48F3-9AAF-D4A24F23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7FE6-E843-49BD-8EBE-17805A4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7462-08C6-42BE-B6D1-59AACDB8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409C-F5AC-4E10-B712-31084836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D26-A9E7-40AB-8BB9-3893412B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AC47-A534-475F-BB9F-0D303ABE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1203-D0B7-4B13-84BF-30158973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417-E2F1-4B7B-8AC5-4073491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B758-EE02-41B0-AFAF-6222B00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DDF7-0F0B-40DE-BA78-3652997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BEE1-F5BB-445B-920F-03BE841D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550E-017C-458B-BCB7-9BEB04A4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A4BE-110E-47C4-8220-15081584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9A9-C11D-4A01-8C6B-97401A6B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7EC-8D49-4D36-8519-28C06D4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1DE-F058-4C68-BAF6-E13A75BF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414-ECA6-484D-B7A9-A783E520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9D9-5CB5-47DE-94AB-A85DF1E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886-AD24-4BAF-91E1-016B60A6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1F3-E108-4760-A296-F9F568C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6B5824-0334-4D50-B132-BDCD38120665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3CD653-9788-455E-8F77-6DF9696FA4F2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4200" y="2133720"/>
            <a:ext cx="7419600" cy="26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chemeClr val="accent1"/>
                </a:solidFill>
                <a:latin typeface="Trebuchet MS"/>
              </a:rPr>
              <a:t>Правописание окончаний имён прилагательны</a:t>
            </a:r>
            <a:r>
              <a:rPr b="0" lang="en-US" sz="7200" spc="-1" strike="noStrike">
                <a:solidFill>
                  <a:schemeClr val="accent1"/>
                </a:solidFill>
                <a:latin typeface="Trebuchet MS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Вставьте пропущенные букв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5640" y="223668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дышать свеж..м воздухом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гулять на свеж..м ветр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обдумать на свеж..ю голов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щи из свеж..й капуст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                        </a:t>
            </a: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4880" y="177948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дышать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И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воздухом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гулять на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ветр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обдумать на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У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ю голов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щи из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й капуст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0440" y="10288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Вставьте пропущенные букв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04920" y="2527200"/>
            <a:ext cx="95785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3600" spc="-1" strike="noStrike">
                <a:solidFill>
                  <a:srgbClr val="0d0d0d"/>
                </a:solidFill>
                <a:latin typeface="Trebuchet MS"/>
              </a:rPr>
              <a:t>Гордиться рыж..м жеребц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3600" spc="-1" strike="noStrike">
                <a:solidFill>
                  <a:srgbClr val="0d0d0d"/>
                </a:solidFill>
                <a:latin typeface="Trebuchet MS"/>
              </a:rPr>
              <a:t>Скакать на рыж..м жеребц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3600" spc="-1" strike="noStrike">
                <a:solidFill>
                  <a:srgbClr val="0d0d0d"/>
                </a:solidFill>
                <a:latin typeface="Trebuchet MS"/>
              </a:rPr>
              <a:t>Тряхнуть рыж..й чёлко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1"/>
                </a:solidFill>
                <a:latin typeface="Trebuchet MS"/>
              </a:rPr>
              <a:t>               </a:t>
            </a: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160" y="1803240"/>
            <a:ext cx="8596440" cy="362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Гордиться ры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И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жеребцом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Скакать на ры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жеребце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Тряхнуть ры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й чёлкой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42</TotalTime>
  <Application>LibreOffice/7.4.7.2$Linux_X86_64 LibreOffice_project/40$Build-2</Application>
  <AppVersion>15.0000</AppVersion>
  <Words>79</Words>
  <Paragraphs>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5:39:42Z</dcterms:created>
  <dc:creator>HOME</dc:creator>
  <dc:description/>
  <dc:language>en-US</dc:language>
  <cp:lastModifiedBy>user</cp:lastModifiedBy>
  <dcterms:modified xsi:type="dcterms:W3CDTF">2022-11-16T20:12:54Z</dcterms:modified>
  <cp:revision>15</cp:revision>
  <dc:subject/>
  <dc:title>Правописание окончаний имен прилагательныx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