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0D6-095B-4CD3-AA9D-792E6626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7C2-4822-4526-8F20-F9012D39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EBC-D85B-4601-A6CD-D5BA1F6E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FA6-2416-4B69-808C-2CE0E434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ADC3-ED55-425D-802F-C4AFC893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BD3A-B2F9-400B-8C71-7B812B44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6FFA-09C6-4009-85D8-63E9C37E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4787-8F4E-4C8C-8E7B-F0E59303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AB12-D209-4FB3-A2D9-D1AA3C18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ED2D-770A-4FCC-AF43-CBDF9D8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D786-AA92-4A93-ADBB-6216BFC8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C83-1E8F-4248-95C5-61890C0B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DDC6-543F-49B2-B986-12A4B41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CF5F-F961-4CB0-848E-0A39362E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B99E-AC77-4054-9C7B-BDFBA775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6955-8C4B-4214-A31F-445C526B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8951-1146-4020-ABEA-6B56FAA5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5EA-68CB-4A5A-A608-88B26A73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025-8DA7-4730-877C-5ED694AB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974-A41E-44BA-AB9C-443A770B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BD2-9378-4833-8A7C-5923486C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BD2-E9DE-4500-8405-525E9FD0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F45-B0D6-41A9-B873-04326E7A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7D5-624E-47A0-A5B9-301A7D4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385F3C-A9C3-4F37-837C-062470A0166D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FC0E6E-5EDF-4465-97FC-6B25771C8274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4200" y="2133720"/>
            <a:ext cx="7419600" cy="26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chemeClr val="accent1"/>
                </a:solidFill>
                <a:latin typeface="Trebuchet MS"/>
              </a:rPr>
              <a:t>Правописание окончаний имён прилагательны</a:t>
            </a:r>
            <a:r>
              <a:rPr b="0" lang="en-US" sz="7200" spc="-1" strike="noStrike">
                <a:solidFill>
                  <a:schemeClr val="accent1"/>
                </a:solidFill>
                <a:latin typeface="Trebuchet MS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Вставьте пропущенные букв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5640" y="223668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дышать свеж..м воздухом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гулять на свеж..м ветр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обдумать на свеж..ю голов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щи из свеж..й капуст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                        </a:t>
            </a: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4880" y="177948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дышать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И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воздухом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гулять на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ветр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обдумать на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У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ю голов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щи из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й капуст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0440" y="10288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Вставьте пропущенные букв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04920" y="2527200"/>
            <a:ext cx="95785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3600" spc="-1" strike="noStrike">
                <a:solidFill>
                  <a:srgbClr val="0d0d0d"/>
                </a:solidFill>
                <a:latin typeface="Trebuchet MS"/>
              </a:rPr>
              <a:t>Гордиться рыж..м жеребц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3600" spc="-1" strike="noStrike">
                <a:solidFill>
                  <a:srgbClr val="0d0d0d"/>
                </a:solidFill>
                <a:latin typeface="Trebuchet MS"/>
              </a:rPr>
              <a:t>Скакать на рыж..м жеребц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3600" spc="-1" strike="noStrike">
                <a:solidFill>
                  <a:srgbClr val="0d0d0d"/>
                </a:solidFill>
                <a:latin typeface="Trebuchet MS"/>
              </a:rPr>
              <a:t>Тряхнуть рыж..й чёлко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1"/>
                </a:solidFill>
                <a:latin typeface="Trebuchet MS"/>
              </a:rPr>
              <a:t>               </a:t>
            </a: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160" y="1803240"/>
            <a:ext cx="8596440" cy="362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Гордиться ры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И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жеребцом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Скакать на ры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жеребце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Тряхнуть ры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й чёлкой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42</TotalTime>
  <Application>LibreOffice/7.4.7.2$Linux_X86_64 LibreOffice_project/40$Build-2</Application>
  <AppVersion>15.0000</AppVersion>
  <Words>79</Words>
  <Paragraphs>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5:39:42Z</dcterms:created>
  <dc:creator>HOME</dc:creator>
  <dc:description/>
  <dc:language>en-US</dc:language>
  <cp:lastModifiedBy>user</cp:lastModifiedBy>
  <dcterms:modified xsi:type="dcterms:W3CDTF">2022-11-16T20:12:54Z</dcterms:modified>
  <cp:revision>15</cp:revision>
  <dc:subject/>
  <dc:title>Правописание окончаний имен прилагательныx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