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03AA-FA79-4A92-8642-7575813C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48F6-0B96-493C-955D-3FED80A2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0DFF-6DF2-4139-8639-BA80E956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3A75-3B55-46C1-A1C7-8FC04BA5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2D75-DB00-4C28-9F7E-52909368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3061-56B4-400D-B296-94AA6153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8871-E3BA-4362-A5B9-71CF501F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30D7-6800-47C6-BC39-BFECD38D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996C-665E-4FE2-B4C4-FDED3AEA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7639-12F4-4329-9D1D-04E5C03D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7595-5CA1-45E9-96F4-450790B1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E749-9CD4-419A-A128-8285B562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205F-7BDC-4E54-AF8C-C20976E2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CE5F-0116-49A4-9788-4782EF33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8D73-5860-4D52-B36B-8B354711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22BD-1C1F-49D3-8A21-9637A984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68CF-36D9-4F15-827F-8F3C2D7F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38A5-4B71-45D7-97D8-8D528983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F315-667D-4D4C-A277-1C311AB9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EDE3-A154-4EF4-9AFF-5094DF92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259B-1812-483E-8271-2F969CBC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B61-7EB6-4E88-AE3A-A0887A2C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1967-5561-4589-9618-4000D369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0B3D-46FD-4444-9385-BF7689C7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2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3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15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sp>
          <p:nvSpPr>
            <p:cNvPr id="12" name="Freeform 14"/>
            <p:cNvSpPr/>
            <p:nvPr/>
          </p:nvSpPr>
          <p:spPr>
            <a:xfrm>
              <a:off x="0" y="-7920"/>
              <a:ext cx="863280" cy="56977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5697720"/>
                <a:gd name="textAreaBottom" fmla="*/ 5698080 h 5697720"/>
              </a:gdLst>
              <a:ahLst/>
              <a:rect l="textAreaLeft" t="textAreaTop" r="textAreaRight" b="textAreaBottom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" name="Straight Connector 18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14" name="Straight Connector 19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15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Isosceles Triangle 22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Isosceles Triangle 26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6960" y="240444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CA634F-F748-4338-9DB3-0A1715A19EBE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43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64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65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66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1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67FEEA-240C-483F-8FD1-9B2B6E5A776C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84200" y="2133720"/>
            <a:ext cx="7419600" cy="26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7200" spc="-1" strike="noStrike">
                <a:solidFill>
                  <a:schemeClr val="accent1"/>
                </a:solidFill>
                <a:latin typeface="Trebuchet MS"/>
              </a:rPr>
              <a:t>Правописание окончаний имён прилагательны</a:t>
            </a:r>
            <a:r>
              <a:rPr b="0" lang="en-US" sz="7200" spc="-1" strike="noStrike">
                <a:solidFill>
                  <a:schemeClr val="accent1"/>
                </a:solidFill>
                <a:latin typeface="Trebuchet MS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Trebuchet MS"/>
              </a:rPr>
              <a:t>Вставьте пропущенные буквы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5640" y="223668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дышать свеж..м воздухом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гулять на свеж..м ветру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обдумать на свеж..ю голову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щи из свеж..й капусты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Trebuchet MS"/>
              </a:rPr>
              <a:t>                        </a:t>
            </a:r>
            <a:r>
              <a:rPr b="1" lang="ru-RU" sz="4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Trebuchet MS"/>
              </a:rPr>
              <a:t>Ответы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24880" y="177948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дышать свеж</a:t>
            </a:r>
            <a:r>
              <a:rPr b="1" lang="ru-RU" sz="4000" spc="-1" strike="noStrike">
                <a:solidFill>
                  <a:srgbClr val="0d0d0d"/>
                </a:solidFill>
                <a:latin typeface="Trebuchet MS"/>
              </a:rPr>
              <a:t>И</a:t>
            </a: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м воздухом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гулять на свеж</a:t>
            </a:r>
            <a:r>
              <a:rPr b="1" lang="ru-RU" sz="4000" spc="-1" strike="noStrike">
                <a:solidFill>
                  <a:srgbClr val="0d0d0d"/>
                </a:solidFill>
                <a:latin typeface="Trebuchet MS"/>
              </a:rPr>
              <a:t>Е</a:t>
            </a: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м ветру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обдумать на свеж</a:t>
            </a:r>
            <a:r>
              <a:rPr b="1" lang="ru-RU" sz="4000" spc="-1" strike="noStrike">
                <a:solidFill>
                  <a:srgbClr val="0d0d0d"/>
                </a:solidFill>
                <a:latin typeface="Trebuchet MS"/>
              </a:rPr>
              <a:t>У</a:t>
            </a: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ю голову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щи из свеж</a:t>
            </a:r>
            <a:r>
              <a:rPr b="1" lang="ru-RU" sz="4000" spc="-1" strike="noStrike">
                <a:solidFill>
                  <a:srgbClr val="0d0d0d"/>
                </a:solidFill>
                <a:latin typeface="Trebuchet MS"/>
              </a:rPr>
              <a:t>Е</a:t>
            </a: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й капусты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50440" y="10288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Trebuchet MS"/>
              </a:rPr>
              <a:t>Вставьте пропущенные буквы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04920" y="2527200"/>
            <a:ext cx="9578520" cy="20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3600" spc="-1" strike="noStrike">
                <a:solidFill>
                  <a:srgbClr val="0d0d0d"/>
                </a:solidFill>
                <a:latin typeface="Trebuchet MS"/>
              </a:rPr>
              <a:t>Гордиться рыж..м жеребцом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3600" spc="-1" strike="noStrike">
                <a:solidFill>
                  <a:srgbClr val="0d0d0d"/>
                </a:solidFill>
                <a:latin typeface="Trebuchet MS"/>
              </a:rPr>
              <a:t>Скакать на рыж..м жеребце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3600" spc="-1" strike="noStrike">
                <a:solidFill>
                  <a:srgbClr val="0d0d0d"/>
                </a:solidFill>
                <a:latin typeface="Trebuchet MS"/>
              </a:rPr>
              <a:t>Тряхнуть рыж..й чёлкой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chemeClr val="accent1"/>
                </a:solidFill>
                <a:latin typeface="Trebuchet MS"/>
              </a:rPr>
              <a:t>               </a:t>
            </a:r>
            <a:r>
              <a:rPr b="1" lang="ru-RU" sz="4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Trebuchet MS"/>
              </a:rPr>
              <a:t>Ответы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77160" y="1803240"/>
            <a:ext cx="8596440" cy="362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Гордиться рыж</a:t>
            </a:r>
            <a:r>
              <a:rPr b="1" lang="ru-RU" sz="4000" spc="-1" strike="noStrike">
                <a:solidFill>
                  <a:srgbClr val="0d0d0d"/>
                </a:solidFill>
                <a:latin typeface="Trebuchet MS"/>
              </a:rPr>
              <a:t>И</a:t>
            </a: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м жеребцом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Скакать на рыж</a:t>
            </a:r>
            <a:r>
              <a:rPr b="1" lang="ru-RU" sz="4000" spc="-1" strike="noStrike">
                <a:solidFill>
                  <a:srgbClr val="0d0d0d"/>
                </a:solidFill>
                <a:latin typeface="Trebuchet MS"/>
              </a:rPr>
              <a:t>Е</a:t>
            </a: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м жеребце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Тряхнуть рыж</a:t>
            </a:r>
            <a:r>
              <a:rPr b="1" lang="ru-RU" sz="4000" spc="-1" strike="noStrike">
                <a:solidFill>
                  <a:srgbClr val="0d0d0d"/>
                </a:solidFill>
                <a:latin typeface="Trebuchet MS"/>
              </a:rPr>
              <a:t>Е</a:t>
            </a:r>
            <a:r>
              <a:rPr b="0" lang="ru-RU" sz="4000" spc="-1" strike="noStrike">
                <a:solidFill>
                  <a:srgbClr val="0d0d0d"/>
                </a:solidFill>
                <a:latin typeface="Trebuchet MS"/>
              </a:rPr>
              <a:t>й чёлкой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Аспект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5fcbef"/>
      </a:accent1>
      <a:accent2>
        <a:srgbClr val="2e83c3"/>
      </a:accent2>
      <a:accent3>
        <a:srgbClr val="42d0a2"/>
      </a:accent3>
      <a:accent4>
        <a:srgbClr val="2e946b"/>
      </a:accent4>
      <a:accent5>
        <a:srgbClr val="42b051"/>
      </a:accent5>
      <a:accent6>
        <a:srgbClr val="96d141"/>
      </a:accent6>
      <a:hlink>
        <a:srgbClr val="3fcde7"/>
      </a:hlink>
      <a:folHlink>
        <a:srgbClr val="a9d3e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5fcbef"/>
      </a:accent1>
      <a:accent2>
        <a:srgbClr val="2e83c3"/>
      </a:accent2>
      <a:accent3>
        <a:srgbClr val="42d0a2"/>
      </a:accent3>
      <a:accent4>
        <a:srgbClr val="2e946b"/>
      </a:accent4>
      <a:accent5>
        <a:srgbClr val="42b051"/>
      </a:accent5>
      <a:accent6>
        <a:srgbClr val="96d141"/>
      </a:accent6>
      <a:hlink>
        <a:srgbClr val="3fcde7"/>
      </a:hlink>
      <a:folHlink>
        <a:srgbClr val="a9d3e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42</TotalTime>
  <Application>LibreOffice/7.4.7.2$Linux_X86_64 LibreOffice_project/40$Build-2</Application>
  <AppVersion>15.0000</AppVersion>
  <Words>79</Words>
  <Paragraphs>1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1T15:39:42Z</dcterms:created>
  <dc:creator>HOME</dc:creator>
  <dc:description/>
  <dc:language>en-US</dc:language>
  <cp:lastModifiedBy>user</cp:lastModifiedBy>
  <dcterms:modified xsi:type="dcterms:W3CDTF">2022-11-16T20:12:54Z</dcterms:modified>
  <cp:revision>15</cp:revision>
  <dc:subject/>
  <dc:title>Правописание окончаний имен прилагательныx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5</vt:r8>
  </property>
</Properties>
</file>