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7C26-B529-4163-BC5F-ED05CCF1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9B5-1699-48B1-965A-0496D8E0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F02-C7CC-499D-9801-81D94283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57C-F97B-4226-8AA9-AC26E1AE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2A4E-B640-48EE-B887-CD7C66D2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0646-710F-4CA5-8525-62D6F26B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F8E6-B247-41AB-9405-6DBD3EBF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BEE8-6B2C-4A7C-B3FA-31571611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B174-A2C6-4836-9A67-A5C3BCEA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8744-575B-42D4-91C9-7ECB6FEA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B688-556D-4543-9344-7F4821E1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FCC2-9701-4516-BC5F-5F3E0F42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C03C-9D0C-4C3E-AB65-75A9CB50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2DB9-37EC-43A7-A131-3A0B0087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7C3C-70EA-474B-8DAB-CBB8870D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A543-B868-4E9F-88CF-7FDE3C90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0507-4A7A-4363-8935-318E8A39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3BE62-6084-42A7-A1E8-6814851F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0F4B1-F36D-467A-8B27-8FE2233F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10CAF-7AF3-4160-848E-8F12A8F0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61A36-C839-48EE-9E3E-59C076AD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528FD-5C34-434F-B99F-8E9F9388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596-1A58-4810-AA16-3B5D1F84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F0653-7968-45E7-8DD9-86B95C06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F6BD9-3FCC-41C9-BEA6-2B31BD04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39787F-B48F-4FEF-8DF1-6CA401FF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47EBF-4CDB-4113-9E5C-9D1D40EA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7DA1B-01E7-459D-AEA7-BE8EAA3B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0EF71-71AD-4FDC-A18B-8680EAA8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13958-B7FA-45D1-9D58-28B2D321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A5A3B-6E48-425A-8705-55A4481A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A5FA7-87E7-4FDC-89B7-B6355888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C3BA4-9255-4F78-AB32-62017A08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C5C-CD1D-4BB2-8DAD-823D321E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7317A-70F0-43D1-ABD5-22C22F16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93EB9-7805-4F0F-A37C-3A478A35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996E1-A960-4411-B102-4540A595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45298-3EB1-47E5-8CDC-88842447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48112-41A1-4444-BCB8-8A1FDAA1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D5105-4B50-4AE7-BA2A-52142627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A840B-7C27-4992-9703-EA1D1189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320FC-DA48-4D7E-8306-5EA4FE4F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F7B7F-7BB8-4ABF-8936-B2593E72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8B95D-4E34-43CE-A0E8-09DEDA60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C8F9-7AB8-43D9-96D9-883B0EEE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00845D-43EC-404D-9821-C03CF579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AA4168-90D7-4A4E-A83D-50046DAE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C9C6B-7E45-48B4-8A0B-76D6D84D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9FC62-ABF2-41D4-98EC-121DACB9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17ECBE-30F1-435D-8CF0-44A99A93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CF831C-2E14-4FC1-A756-6F271A50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10CA08-17C0-46C4-97F8-F5544A31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200484-BF4D-4B3C-91A9-27045F98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2E0BAC-8F50-4E79-883B-50040559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24C2B-83E4-404E-BD88-9E116A88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CD86-BD1D-4277-BD26-96994266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1AD67E-3146-46AF-9EC7-E4E81611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215764-74F0-47AF-90E5-7B09AA40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D30EA8-670F-4E50-B106-37865B05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4039A-79DE-4D33-8C38-62654B4F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1F4610-2A5A-4F98-AEF6-47F7E650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7D18C5-8F76-4BF9-9857-5038A9AD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46A048-BEFA-4276-9CAE-F885E558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847F9E-CE3E-4571-9971-7017429B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F85215-AA01-4976-AB28-96D6919C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F1FDA8-4397-4E50-A69B-4911B26D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98C-C70A-41E6-9875-180DD04B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EC6B0D-C132-4126-9E20-B3E9B242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ECA296-447F-4852-AEDB-FEB3A1F4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E67030-40AE-47F6-9B50-771B0D37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2DCEB0-BD13-4522-B059-0DDB10F1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8C9E64-2B06-4749-A2EF-04D436A9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DD6E4B-60CD-4E40-A550-E8B177DC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6C495B-48F8-43F5-A0D0-6A2D1CD4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DA293-B7A5-4296-AD3F-BA98A34D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8D9E6A-5C49-4F6D-83DC-CF6A1EE3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F4487B-EDAE-4CE5-B4AA-7A131DEB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B9F-0171-49D0-93E0-6F44B664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A2725A-DA74-4F79-A81B-76EBD9AF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11B2B2-A847-4181-95D7-EBB764E0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578490-3AF3-485E-A7D4-E8FBF059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9A8BE4-DF2B-4877-A224-3E99CB5F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D8A904-4506-45E2-9FC2-3DC8B7D5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E31C4-77F1-4B6B-9821-9018D967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822B2-CF27-4C14-A579-E9389793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19282-CE7D-4050-8BE8-EBFD7002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5B797-1566-46A8-8BBC-6A11B9F3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F13F3-B278-4B55-9DFA-C835B8EF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65A0-6F72-4CB8-9027-847E974B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2C525-2839-40B7-9282-C1A66FE1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A9A71-9517-4E90-B0D8-C369C28D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9CAAA-13EF-4390-AF22-7DA06925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6B01D-3A6A-460E-B0B2-B6F5BE20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31D90-84BF-40D2-9F48-009A0D26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89CD8-1BC4-4891-BBC9-DF840E83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F216E-8B5E-4C47-A9F5-60AA4E86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A9C5-D140-4FF8-99ED-A8F6686E15E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CA5C-51C8-4054-82A3-E5E635F73BC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2BF8-547D-481A-9EEC-8E110F5D987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92B3-0F5E-4AA5-9B09-5FB13154387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B975-4000-4EB1-9508-CC4FEAD0735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43A2-6233-461A-A76F-3A1062692F8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E842-2009-4745-81B2-2159421F71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BB08-5BE3-4088-BBD7-1A9099E7537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3.gif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5f6d"/>
                </a:solidFill>
                <a:latin typeface="Century Schoolbook"/>
              </a:rPr>
              <a:t>ДЕНЬ МАТЕРИ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76360" y="5013360"/>
            <a:ext cx="64008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АЛИКУЕВА Е.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ГБОУ ШКОЛА №1981 г.МОСКВЫ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4" descr="24-mama-1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6" name="Picture 3" descr="фото (19)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8487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6" descr="f84[1]"/>
          <p:cNvPicPr/>
          <p:nvPr/>
        </p:nvPicPr>
        <p:blipFill>
          <a:blip r:embed="rId2"/>
          <a:stretch/>
        </p:blipFill>
        <p:spPr>
          <a:xfrm>
            <a:off x="8001000" y="-819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ПОГОВОРИ СО МНОЮ, МАМА...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95280" y="169992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648320" y="1412640"/>
            <a:ext cx="40384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2268360" y="3141720"/>
            <a:ext cx="45720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d2611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324000" y="2556720"/>
            <a:ext cx="424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инуты сказочные эти навек оставлю в сердце 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роже всех наград на свет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не песня тихая тво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Виктор Ги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3" name="Picture 4" descr="f_18158510"/>
          <p:cNvPicPr/>
          <p:nvPr/>
        </p:nvPicPr>
        <p:blipFill>
          <a:blip r:embed="rId1"/>
          <a:srcRect l="0" t="0" r="-1465" b="7403"/>
          <a:stretch/>
        </p:blipFill>
        <p:spPr>
          <a:xfrm>
            <a:off x="4932360" y="1700280"/>
            <a:ext cx="4211640" cy="5157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МОЛИТВА МАТЕРИ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0" y="10526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Храни судьба, моих детей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Да будет ровной их дорога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 пусть богатства чашу не долей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 мира и  здоровья дай им много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8" name="Picture 13" descr="images"/>
          <p:cNvPicPr/>
          <p:nvPr/>
        </p:nvPicPr>
        <p:blipFill>
          <a:blip r:embed="rId1"/>
          <a:stretch/>
        </p:blipFill>
        <p:spPr>
          <a:xfrm>
            <a:off x="0" y="1197000"/>
            <a:ext cx="2843280" cy="18478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4" descr="tYzkzNy00"/>
          <p:cNvPicPr/>
          <p:nvPr/>
        </p:nvPicPr>
        <p:blipFill>
          <a:blip r:embed="rId2"/>
          <a:stretch/>
        </p:blipFill>
        <p:spPr>
          <a:xfrm>
            <a:off x="6659640" y="3141720"/>
            <a:ext cx="2484360" cy="37162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6" descr="f84[1]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6" descr="images (1)"/>
          <p:cNvPicPr/>
          <p:nvPr/>
        </p:nvPicPr>
        <p:blipFill>
          <a:blip r:embed="rId4"/>
          <a:stretch/>
        </p:blipFill>
        <p:spPr>
          <a:xfrm>
            <a:off x="0" y="3068640"/>
            <a:ext cx="3017880" cy="1873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7" descr="images (3)"/>
          <p:cNvPicPr/>
          <p:nvPr/>
        </p:nvPicPr>
        <p:blipFill>
          <a:blip r:embed="rId5"/>
          <a:stretch/>
        </p:blipFill>
        <p:spPr>
          <a:xfrm>
            <a:off x="3059280" y="4941720"/>
            <a:ext cx="3666960" cy="19162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8" descr="images (4)"/>
          <p:cNvPicPr/>
          <p:nvPr/>
        </p:nvPicPr>
        <p:blipFill>
          <a:blip r:embed="rId6"/>
          <a:stretch/>
        </p:blipFill>
        <p:spPr>
          <a:xfrm>
            <a:off x="2916360" y="3141720"/>
            <a:ext cx="3857400" cy="17906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9" descr="images (5)"/>
          <p:cNvPicPr/>
          <p:nvPr/>
        </p:nvPicPr>
        <p:blipFill>
          <a:blip r:embed="rId7"/>
          <a:stretch/>
        </p:blipFill>
        <p:spPr>
          <a:xfrm>
            <a:off x="0" y="4941720"/>
            <a:ext cx="30225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БАБУШКИ – ЭТО ТОЖЕ МАМЫ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7" name="Picture 4" descr="images (3)"/>
          <p:cNvPicPr/>
          <p:nvPr/>
        </p:nvPicPr>
        <p:blipFill>
          <a:blip r:embed="rId1"/>
          <a:stretch/>
        </p:blipFill>
        <p:spPr>
          <a:xfrm>
            <a:off x="2268360" y="3068640"/>
            <a:ext cx="3168720" cy="20178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images (2)"/>
          <p:cNvPicPr/>
          <p:nvPr/>
        </p:nvPicPr>
        <p:blipFill>
          <a:blip r:embed="rId2"/>
          <a:stretch/>
        </p:blipFill>
        <p:spPr>
          <a:xfrm>
            <a:off x="2195640" y="1484280"/>
            <a:ext cx="3313080" cy="17622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фото (18)"/>
          <p:cNvPicPr/>
          <p:nvPr/>
        </p:nvPicPr>
        <p:blipFill>
          <a:blip r:embed="rId3"/>
          <a:stretch/>
        </p:blipFill>
        <p:spPr>
          <a:xfrm>
            <a:off x="5148360" y="1484280"/>
            <a:ext cx="3671640" cy="53737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8" descr="kaverinskie_babushki_t1"/>
          <p:cNvPicPr/>
          <p:nvPr/>
        </p:nvPicPr>
        <p:blipFill>
          <a:blip r:embed="rId4"/>
          <a:stretch/>
        </p:blipFill>
        <p:spPr>
          <a:xfrm>
            <a:off x="5003640" y="4653000"/>
            <a:ext cx="3851280" cy="2205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3" descr="92056668_0001xpzs"/>
          <p:cNvPicPr/>
          <p:nvPr/>
        </p:nvPicPr>
        <p:blipFill>
          <a:blip r:embed="rId5"/>
          <a:stretch/>
        </p:blipFill>
        <p:spPr>
          <a:xfrm>
            <a:off x="468360" y="4336920"/>
            <a:ext cx="2138400" cy="25210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4" descr="images (4)"/>
          <p:cNvPicPr/>
          <p:nvPr/>
        </p:nvPicPr>
        <p:blipFill>
          <a:blip r:embed="rId6"/>
          <a:stretch/>
        </p:blipFill>
        <p:spPr>
          <a:xfrm>
            <a:off x="468360" y="1484280"/>
            <a:ext cx="1790640" cy="28814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5" descr="big_1045157"/>
          <p:cNvPicPr/>
          <p:nvPr/>
        </p:nvPicPr>
        <p:blipFill>
          <a:blip r:embed="rId7"/>
          <a:stretch/>
        </p:blipFill>
        <p:spPr>
          <a:xfrm>
            <a:off x="2411280" y="4869000"/>
            <a:ext cx="2886120" cy="19890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6" descr="f84[1]"/>
          <p:cNvPicPr/>
          <p:nvPr/>
        </p:nvPicPr>
        <p:blipFill>
          <a:blip r:embed="rId8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БАБУШКА ВСЕЙ РОССИИ АНТОНИНА ПЕТРОВНА МАКАРОВА</a:t>
            </a:r>
            <a:br>
              <a:rPr sz="4000"/>
            </a:b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городе Суздаль жила  бабушка Антонина Петровна. Она  жила не для славы и популярности.  Бабушка в одном и том же месте, возле храма, каждый день торговала крошечными войлочными валеночками-сувенирами, отдавая их за "кто сколько даст", а то и вовсе даром. На вырученные деньги помогала местным сиротским приютам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8" name="Picture 5" descr="1354304350_ad922ea6b35bc2f75537348fe0cd4e40"/>
          <p:cNvPicPr/>
          <p:nvPr/>
        </p:nvPicPr>
        <p:blipFill>
          <a:blip r:embed="rId1"/>
          <a:stretch/>
        </p:blipFill>
        <p:spPr>
          <a:xfrm>
            <a:off x="468360" y="1557360"/>
            <a:ext cx="4070160" cy="50482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УСТЬ ВСЕГДА БУДЕТ МАМА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2" name="Picture 4" descr="75971988186498f69c91d55d94ce3bc2be99cec1570_b"/>
          <p:cNvPicPr/>
          <p:nvPr/>
        </p:nvPicPr>
        <p:blipFill>
          <a:blip r:embed="rId1"/>
          <a:stretch/>
        </p:blipFill>
        <p:spPr>
          <a:xfrm>
            <a:off x="0" y="1235160"/>
            <a:ext cx="9144000" cy="56228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МАМА - ОСНОВА СЕМЬ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0" y="1700280"/>
            <a:ext cx="4495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новой любой семьи являются наши матери. Только мать способна принести себя в жертву ради своих детей.  Не забывайте, кто по ночам не спал, когда мы болели, кто отдавал последнее, чтобы мы смогли учиться и хорошо жить. В Д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ень матер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вспомните, кому вы обязаны жизнью. Самой главной ценностью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7" name="Picture 6" descr="nursingpillow"/>
          <p:cNvPicPr/>
          <p:nvPr/>
        </p:nvPicPr>
        <p:blipFill>
          <a:blip r:embed="rId1"/>
          <a:stretch/>
        </p:blipFill>
        <p:spPr>
          <a:xfrm>
            <a:off x="4648320" y="1746360"/>
            <a:ext cx="4495680" cy="51116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МАКСИМ ГОРЬКИЙ СКАЗАЛ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«Без солнца не цветут цветы, без любви нет счастья, без женщины нет любви, без матери нет ни поэта, ни героя»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2" name="Picture 14" descr="baby"/>
          <p:cNvPicPr/>
          <p:nvPr/>
        </p:nvPicPr>
        <p:blipFill>
          <a:blip r:embed="rId1"/>
          <a:stretch/>
        </p:blipFill>
        <p:spPr>
          <a:xfrm>
            <a:off x="4572000" y="1844640"/>
            <a:ext cx="4572000" cy="50133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БЕРЕГИТЕ МАТЕРЕЙ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95280" y="-360"/>
            <a:ext cx="8229600" cy="61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.. Заклинаю: берегите маму!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ти мира, берегите мать!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ы в душу не проникла плесень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 не стала наша жизнь темна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ы не забыть прекрасных песен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х, что в детстве пела нам она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Расул Гамзат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6" name="Picture 16" descr="f84[1]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images (6)"/>
          <p:cNvPicPr/>
          <p:nvPr/>
        </p:nvPicPr>
        <p:blipFill>
          <a:blip r:embed="rId2"/>
          <a:stretch/>
        </p:blipFill>
        <p:spPr>
          <a:xfrm>
            <a:off x="0" y="4724280"/>
            <a:ext cx="356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ПАСИБО, МАМЫ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9" name="Picture 4" descr="5de75a1d-88ab-4f5d-bb76-0c12ce0e7a0f"/>
          <p:cNvPicPr/>
          <p:nvPr/>
        </p:nvPicPr>
        <p:blipFill>
          <a:blip r:embed="rId1"/>
          <a:stretch/>
        </p:blipFill>
        <p:spPr>
          <a:xfrm>
            <a:off x="0" y="1197000"/>
            <a:ext cx="4500720" cy="5661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den_mam_09"/>
          <p:cNvPicPr/>
          <p:nvPr/>
        </p:nvPicPr>
        <p:blipFill>
          <a:blip r:embed="rId2"/>
          <a:stretch/>
        </p:blipFill>
        <p:spPr>
          <a:xfrm>
            <a:off x="4381560" y="1197000"/>
            <a:ext cx="4762440" cy="56610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6" descr="f84[1]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ОДНА ИЗ ОСНОВАТЕЛЬНИЦ ПРАЗДНИК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дной из основательниц современного Дня матери считается американская активистка женского движения Джулия Уорд Хоу (Julia Ward Howe)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1870 году она опубликовала Прокламацию Дня матери, обратившись ко "всем женщинам, у которых есть сердца" к борьбе за мир.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3" name="Picture 5" descr="911930874"/>
          <p:cNvPicPr/>
          <p:nvPr/>
        </p:nvPicPr>
        <p:blipFill>
          <a:blip r:embed="rId1"/>
          <a:stretch/>
        </p:blipFill>
        <p:spPr>
          <a:xfrm>
            <a:off x="5038560" y="2133720"/>
            <a:ext cx="4105440" cy="34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СПИСОК ИСПОЛЬЗОВАННЫХ МАТЕРИАЛОВ, ИНТЕРНЕТ - РЕСУРСОВ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http://ria.ru/spravka/20121125/911892061.html#ixzz3rxb61au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https://www.google.ru/search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http://www.perunica.ru/geroi/6755-babushka-vsey-rossii-antonina-petrovna-makarova.htm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pozdrav.a-angel.ru/prazdniki/den-materi.html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2611c"/>
                </a:solidFill>
                <a:latin typeface="Century Schoolbook"/>
              </a:rPr>
              <a:t>фото из личного архив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4" name="Picture 16" descr="f84[1]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ИСТОРИЯ ПРАЗДНИКА В РОССИ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267920"/>
            <a:ext cx="40384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ень матери в Росси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 был установлен по Указу от 30.01.1998 года за № 120 Президента Российской Федерации Б.Н. Ельциным. Инициативу выразил Комитет Государственной Думы по делам женщин, семьи и молодежи. С этого момента 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ень матер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стал ежегодным праздником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6" descr="file_37a2ef6"/>
          <p:cNvPicPr/>
          <p:nvPr/>
        </p:nvPicPr>
        <p:blipFill>
          <a:blip r:embed="rId1"/>
          <a:stretch/>
        </p:blipFill>
        <p:spPr>
          <a:xfrm>
            <a:off x="4384800" y="2405160"/>
            <a:ext cx="3429000" cy="2962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a107af7f7a56631866be65b8d692456f"/>
          <p:cNvPicPr/>
          <p:nvPr/>
        </p:nvPicPr>
        <p:blipFill>
          <a:blip r:embed="rId2"/>
          <a:stretch/>
        </p:blipFill>
        <p:spPr>
          <a:xfrm>
            <a:off x="5524560" y="1341360"/>
            <a:ext cx="3619440" cy="26672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6" descr="f84[1]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ЕНЬ МАТЕРИ В РОССИИ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..отмечают в 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следнее воскресение ноябр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В 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015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году День матери приходится на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9 ноябр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Праздник еще очень молод. Но он плотно вошел в нашу жизнь, именно в этот день мы чествуем самого главного человека для каждого из нас – маму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3" name="Picture 4" descr="ead47d36e50510c345eb86a3568f763f_XL"/>
          <p:cNvPicPr/>
          <p:nvPr/>
        </p:nvPicPr>
        <p:blipFill>
          <a:blip r:embed="rId1"/>
          <a:stretch/>
        </p:blipFill>
        <p:spPr>
          <a:xfrm>
            <a:off x="4381560" y="1916280"/>
            <a:ext cx="4762440" cy="4941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ДЕНЬ МАТЕРИ ОТМЕЧАЕТС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8360" y="14126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1914 году президент США Вудро Вилсон (Woodrow Wilson) узаконил национальный праздник День матери, который был установлен на второе воскресенье мая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День матери принято навещать свою маму и преподносить символический подарок. В Америке традиционно носят в День матери цветок гвоздики: цветную гвоздику прикалывают в честь здравствующей матери, а белую — в память об ушедшей матер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Picture 4" descr="images (1)"/>
          <p:cNvPicPr/>
          <p:nvPr/>
        </p:nvPicPr>
        <p:blipFill>
          <a:blip r:embed="rId1"/>
          <a:stretch/>
        </p:blipFill>
        <p:spPr>
          <a:xfrm>
            <a:off x="6588000" y="4508640"/>
            <a:ext cx="2556000" cy="23493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6" descr="f84[1]"/>
          <p:cNvPicPr/>
          <p:nvPr/>
        </p:nvPicPr>
        <p:blipFill>
          <a:blip r:embed="rId2"/>
          <a:stretch/>
        </p:blipFill>
        <p:spPr>
          <a:xfrm>
            <a:off x="7812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ДЕНЬ МАТЕРИ ОТМЕЧАЕТСЯ ВО ВТОРОЕ ВОСКРЕСЕНИЕ МАЯ…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50560" y="1905120"/>
            <a:ext cx="4244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 Австралии, Бельгии, Дании, Италии, на Мальте, в Турции, на Украине, Финляндии, Эстонии, Япони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 Германии и Швейцарии. Швейцария  ввела День Матери в 1917г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Picture 7" descr="1336721619_254676_63"/>
          <p:cNvPicPr/>
          <p:nvPr/>
        </p:nvPicPr>
        <p:blipFill>
          <a:blip r:embed="rId1"/>
          <a:stretch/>
        </p:blipFill>
        <p:spPr>
          <a:xfrm>
            <a:off x="4270320" y="2670120"/>
            <a:ext cx="3657600" cy="2432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ДЕНЬ МАТЕРИ ОТМЕЧАЕТСЯ…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последнее воскресенье мая в Швеции и во Франции, в первое воскресенье мая — в ЮАР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Греции День матери празднуется 9 ма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Бахрейне, Гонконге, Индии, Малайзии, Мексике, Омане, Пакистане, Катаре, Саудовской Аравии, Сингапуре и Объединенных Арабских Эмиратах День матери отмечается 10 ма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5" name="Picture 16" descr="f84[1]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images (8)"/>
          <p:cNvPicPr/>
          <p:nvPr/>
        </p:nvPicPr>
        <p:blipFill>
          <a:blip r:embed="rId2"/>
          <a:stretch/>
        </p:blipFill>
        <p:spPr>
          <a:xfrm>
            <a:off x="6676920" y="5010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ДЕНЬ МАТЕРИ ОТМЕЧАЕТСЯ…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0" y="11966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 второе воскресенье февраля  в Норвегии, 14 октября — в Белоруссии, 8 декабря — в Испании и Португал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Армении 7 апреля отмечают День материнства и красоты, в Узбекистане -8 март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9" name="Picture 4" descr="911901667"/>
          <p:cNvPicPr/>
          <p:nvPr/>
        </p:nvPicPr>
        <p:blipFill>
          <a:blip r:embed="rId1"/>
          <a:stretch/>
        </p:blipFill>
        <p:spPr>
          <a:xfrm>
            <a:off x="4284720" y="3789360"/>
            <a:ext cx="4859280" cy="30686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МАМЕ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3" name="Picture 4" descr="26716f95e3cc5995a2362b0df26544d0"/>
          <p:cNvPicPr/>
          <p:nvPr/>
        </p:nvPicPr>
        <p:blipFill>
          <a:blip r:embed="rId1"/>
          <a:stretch/>
        </p:blipFill>
        <p:spPr>
          <a:xfrm>
            <a:off x="324000" y="1268280"/>
            <a:ext cx="8353440" cy="5229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6" descr="f84[1]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17:05:42Z</dcterms:created>
  <dc:creator>user</dc:creator>
  <dc:description/>
  <dc:language>en-US</dc:language>
  <cp:lastModifiedBy>User</cp:lastModifiedBy>
  <dcterms:modified xsi:type="dcterms:W3CDTF">2022-11-17T12:15:53Z</dcterms:modified>
  <cp:revision>10</cp:revision>
  <dc:subject/>
  <dc:title>ДЕНЬ МАТЕРИ</dc:title>
</cp:coreProperties>
</file>