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760-8C7F-42FA-9ADB-6BC146F2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210-4161-4A2C-98BC-D4D363D1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4C9-9F8E-4E43-8C3F-78FA580A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9F6-9F2C-4DCB-86C3-6086BE7E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99AB-7126-4307-A528-5C980E16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0C52-C303-4CD0-8A0E-F7A35256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FBA6-0C04-448B-AB46-6A1F6C1F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EB11-3EAF-4F65-9C27-26B4DAA1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D24C-DEA8-416D-89E2-D0744388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7340-8D43-45C8-B184-283AC2DE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C459-E2C7-4120-A962-034AF30E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AA2-2008-4468-81FC-E1A8DED0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A8D7-26BE-448F-A522-0C32C5C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0FA0-90F6-4A77-A20A-7BC1EAAD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93CD-532A-4602-AFD8-E7BA36CA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CB21-AD24-4C67-BB6A-A1FF2D1D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7F38-1355-41F7-BE94-57E68519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08CFA-F6FA-464A-8AED-37978954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9D2C2-171E-4AC9-9099-FBFED0B5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0C72A-B7F8-4AC8-95E5-2794B3AC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BA4BB-E658-41DB-B72F-73BBDABA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BC201-2614-4AF7-AE93-EA85117E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230-2103-4D49-835E-F2DFF3CF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986B0-0BE7-4344-AE93-2ED46D3E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47630-4ABF-405D-B407-1A984CF8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EB2B5-FCA0-485A-AFB4-E8C7816F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281D9-AE90-4A78-935A-474505A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A3974-4AFE-4E05-8C46-306DAD65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91DB5-5527-431E-8311-C7A0D408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EA9B7-743D-47A2-A211-BC4A749E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B2ADE-023E-4D16-BBAD-1198F482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95A7D-DC10-4074-BE76-26AD6E84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F3D6-759B-4D52-A7BF-A381E581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B94-6D57-41A9-81DA-5717297C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B3F2-85BA-49A3-9640-AA7A5C73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97BE-F1C5-4540-BA0A-24FDA626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BB79-C80A-4141-AE0F-1C043732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B31AC-974B-4EA9-A226-DFF3F7FE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845C-7C77-4D2B-8D6B-85F8E25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71A53-E067-46D3-8C92-F998104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0C98E-0B22-4BC5-A95A-102D67D2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836F3-E69A-4A46-A928-5230861B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FB5B-770F-4C1A-8148-3A139752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7CD65-5906-4BA8-B8AA-B39A7043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52D-AE40-4213-BAFD-83767E92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EF426-CD91-49D0-A8E2-34911FDD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15B15-23FC-410F-9346-BAFB4F3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0B6B5-4FE9-407F-BCCE-36FA66AB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3C72C-EB75-4BDF-8C89-C22821FD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BF220-7DA2-4F41-A595-583DC786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8E8FC-DE08-4162-97C4-DCE743C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217C8-D8AE-4FCF-937A-0984A3A3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7B751-CE20-40C5-A2A6-4263B1F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2F3F3-983D-4C83-8430-434E8576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576C9-D8D7-43BA-B2C9-076A7E46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3E3-5722-4FDF-8914-3C1CBF6F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12147-9418-4D78-AC35-133287AE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CFF2C-98B7-4AF6-A08A-3017197A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6B847-996C-42D0-8D33-3E01B463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23C55-B05C-4507-BBEA-CC21E26C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99020-E327-419E-A726-0EB10A5F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A15A3-0B4C-48F4-A6AA-1AD644C5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5D864-904C-4FA4-A120-440EB12E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7F2A8-B03B-408F-A744-8D8B76A8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10D42F-CE79-451C-B914-67A7A7C4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C8B8A-D3F1-4451-A283-0414B7B9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40B-25BE-4D34-BC87-B1F3E873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E6F1F-2D1D-4354-88C9-630BB2E2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477C7-8FA2-4CB3-A065-F4D0A510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FFF5E-3566-4923-8B0C-D9AF308A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455E4-7BA0-4F50-83CD-546920AD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2E92C-8207-4133-B242-01C8C84D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8055D-B5F8-4FF8-A9C4-7F9E1EEA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56601-9856-404E-9A60-A0E554E7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DF0FC-5E94-4690-94B6-2677D9BD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8C15E-AA1B-48D3-B8E1-57EF6EC2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0F96D-CA9C-480B-B13D-FD3FE500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2E8-C5DD-454C-9AE9-A742E15B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6B1D8-7D96-4824-BA9A-6B6AA33F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0A6D6-D186-4F3F-83FE-79297D6E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BEF2C-EA38-4A87-8C2D-F794E6FD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2C88D-5C5F-4174-B7F8-683FDA8E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255D7-3696-4B16-9A19-842113AC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E28BD-A189-45F2-9A23-B0085B07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D1C42-7256-4657-80F6-22C81999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0364E-E320-4F33-B69F-F160E3D5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F5CC9-2E3A-48EE-B218-6FEE0C86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EBC64-AA3F-4509-B31C-1833CEC6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9AA-9D08-45D5-BACB-6631087E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A1430-0FC3-442C-8150-14CF4801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AC8DB-6CCD-45BD-93FD-FB33D80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79DFC-4FE2-4DD6-81B7-A290B95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0023C-E884-437E-9CE2-0B2DF55D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450F8-0CC6-4886-9C88-E21F784F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D31DC-2A7A-4387-8222-76D5F762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312B9-EEE8-4AE9-94F7-DC017F1F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213C-05B2-4C80-93A5-E7CF7647B7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DD77-2674-4A53-B35F-07B2A514C8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C8EC-07A4-48A1-8BB0-AF6EB89566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AE67-904F-4E73-A636-50963D9BF8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D060-437D-4E6D-89BE-EAFB06D3A3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B955-BFDA-4015-91BB-5A39183C93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305C-F4AB-4CF4-AE02-09C5D7B38B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DDF0-DA50-46F1-94AC-4B2B0B442D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gi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5f6d"/>
                </a:solidFill>
                <a:latin typeface="Century Schoolbook"/>
              </a:rPr>
              <a:t>ДЕНЬ МАТЕРИ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76360" y="5013360"/>
            <a:ext cx="64008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АЛИКУЕВА Е.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ГБОУ ШКОЛА №1981 г.МОСКВ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4" descr="24-mama-1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6" name="Picture 3" descr="фото (19)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848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f84[1]"/>
          <p:cNvPicPr/>
          <p:nvPr/>
        </p:nvPicPr>
        <p:blipFill>
          <a:blip r:embed="rId2"/>
          <a:stretch/>
        </p:blipFill>
        <p:spPr>
          <a:xfrm>
            <a:off x="8001000" y="-819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ПОГОВОРИ СО МНОЮ, МАМА..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5280" y="169992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412640"/>
            <a:ext cx="40384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2268360" y="3141720"/>
            <a:ext cx="45720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d2611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324000" y="2556720"/>
            <a:ext cx="424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нуты сказочные эти навек оставлю в сердце 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роже всех наград на свет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е песня тихая тво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иктор Г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Picture 4" descr="f_18158510"/>
          <p:cNvPicPr/>
          <p:nvPr/>
        </p:nvPicPr>
        <p:blipFill>
          <a:blip r:embed="rId1"/>
          <a:srcRect l="0" t="0" r="-1465" b="7403"/>
          <a:stretch/>
        </p:blipFill>
        <p:spPr>
          <a:xfrm>
            <a:off x="4932360" y="1700280"/>
            <a:ext cx="4211640" cy="5157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МОЛИТВА МАТЕРИ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0" y="1052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Храни судьба, моих детей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а будет ровной их дорога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 пусть богатства чашу не долей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 мира и  здоровья дай им много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8" name="Picture 13" descr="images"/>
          <p:cNvPicPr/>
          <p:nvPr/>
        </p:nvPicPr>
        <p:blipFill>
          <a:blip r:embed="rId1"/>
          <a:stretch/>
        </p:blipFill>
        <p:spPr>
          <a:xfrm>
            <a:off x="0" y="1197000"/>
            <a:ext cx="2843280" cy="18478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4" descr="tYzkzNy00"/>
          <p:cNvPicPr/>
          <p:nvPr/>
        </p:nvPicPr>
        <p:blipFill>
          <a:blip r:embed="rId2"/>
          <a:stretch/>
        </p:blipFill>
        <p:spPr>
          <a:xfrm>
            <a:off x="6659640" y="3141720"/>
            <a:ext cx="2484360" cy="3716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6" descr="f84[1]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6" descr="images (1)"/>
          <p:cNvPicPr/>
          <p:nvPr/>
        </p:nvPicPr>
        <p:blipFill>
          <a:blip r:embed="rId4"/>
          <a:stretch/>
        </p:blipFill>
        <p:spPr>
          <a:xfrm>
            <a:off x="0" y="3068640"/>
            <a:ext cx="3017880" cy="1873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7" descr="images (3)"/>
          <p:cNvPicPr/>
          <p:nvPr/>
        </p:nvPicPr>
        <p:blipFill>
          <a:blip r:embed="rId5"/>
          <a:stretch/>
        </p:blipFill>
        <p:spPr>
          <a:xfrm>
            <a:off x="3059280" y="4941720"/>
            <a:ext cx="3666960" cy="1916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8" descr="images (4)"/>
          <p:cNvPicPr/>
          <p:nvPr/>
        </p:nvPicPr>
        <p:blipFill>
          <a:blip r:embed="rId6"/>
          <a:stretch/>
        </p:blipFill>
        <p:spPr>
          <a:xfrm>
            <a:off x="2916360" y="3141720"/>
            <a:ext cx="3857400" cy="1790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9" descr="images (5)"/>
          <p:cNvPicPr/>
          <p:nvPr/>
        </p:nvPicPr>
        <p:blipFill>
          <a:blip r:embed="rId7"/>
          <a:stretch/>
        </p:blipFill>
        <p:spPr>
          <a:xfrm>
            <a:off x="0" y="4941720"/>
            <a:ext cx="30225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БАБУШКИ – ЭТО ТОЖЕ МАМЫ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7" name="Picture 4" descr="images (3)"/>
          <p:cNvPicPr/>
          <p:nvPr/>
        </p:nvPicPr>
        <p:blipFill>
          <a:blip r:embed="rId1"/>
          <a:stretch/>
        </p:blipFill>
        <p:spPr>
          <a:xfrm>
            <a:off x="2268360" y="3068640"/>
            <a:ext cx="3168720" cy="2017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images (2)"/>
          <p:cNvPicPr/>
          <p:nvPr/>
        </p:nvPicPr>
        <p:blipFill>
          <a:blip r:embed="rId2"/>
          <a:stretch/>
        </p:blipFill>
        <p:spPr>
          <a:xfrm>
            <a:off x="2195640" y="1484280"/>
            <a:ext cx="3313080" cy="1762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фото (18)"/>
          <p:cNvPicPr/>
          <p:nvPr/>
        </p:nvPicPr>
        <p:blipFill>
          <a:blip r:embed="rId3"/>
          <a:stretch/>
        </p:blipFill>
        <p:spPr>
          <a:xfrm>
            <a:off x="5148360" y="1484280"/>
            <a:ext cx="3671640" cy="5373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kaverinskie_babushki_t1"/>
          <p:cNvPicPr/>
          <p:nvPr/>
        </p:nvPicPr>
        <p:blipFill>
          <a:blip r:embed="rId4"/>
          <a:stretch/>
        </p:blipFill>
        <p:spPr>
          <a:xfrm>
            <a:off x="5003640" y="4653000"/>
            <a:ext cx="3851280" cy="2205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92056668_0001xpzs"/>
          <p:cNvPicPr/>
          <p:nvPr/>
        </p:nvPicPr>
        <p:blipFill>
          <a:blip r:embed="rId5"/>
          <a:stretch/>
        </p:blipFill>
        <p:spPr>
          <a:xfrm>
            <a:off x="468360" y="4336920"/>
            <a:ext cx="2138400" cy="25210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4" descr="images (4)"/>
          <p:cNvPicPr/>
          <p:nvPr/>
        </p:nvPicPr>
        <p:blipFill>
          <a:blip r:embed="rId6"/>
          <a:stretch/>
        </p:blipFill>
        <p:spPr>
          <a:xfrm>
            <a:off x="468360" y="1484280"/>
            <a:ext cx="1790640" cy="2881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5" descr="big_1045157"/>
          <p:cNvPicPr/>
          <p:nvPr/>
        </p:nvPicPr>
        <p:blipFill>
          <a:blip r:embed="rId7"/>
          <a:stretch/>
        </p:blipFill>
        <p:spPr>
          <a:xfrm>
            <a:off x="2411280" y="4869000"/>
            <a:ext cx="2886120" cy="1989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6" descr="f84[1]"/>
          <p:cNvPicPr/>
          <p:nvPr/>
        </p:nvPicPr>
        <p:blipFill>
          <a:blip r:embed="rId8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БАБУШКА ВСЕЙ РОССИИ АНТОНИНА ПЕТРОВНА МАКАРОВА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городе Суздаль жила  бабушка Антонина Петровна. Она  жила не для славы и популярности.  Бабушка в одном и том же месте, возле храма, каждый день торговала крошечными войлочными валеночками-сувенирами, отдавая их за "кто сколько даст", а то и вовсе даром. На вырученные деньги помогала местным сиротским приютам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8" name="Picture 5" descr="1354304350_ad922ea6b35bc2f75537348fe0cd4e40"/>
          <p:cNvPicPr/>
          <p:nvPr/>
        </p:nvPicPr>
        <p:blipFill>
          <a:blip r:embed="rId1"/>
          <a:stretch/>
        </p:blipFill>
        <p:spPr>
          <a:xfrm>
            <a:off x="468360" y="1557360"/>
            <a:ext cx="4070160" cy="5048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УСТЬ ВСЕГДА БУДЕТ МАМА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2" name="Picture 4" descr="75971988186498f69c91d55d94ce3bc2be99cec1570_b"/>
          <p:cNvPicPr/>
          <p:nvPr/>
        </p:nvPicPr>
        <p:blipFill>
          <a:blip r:embed="rId1"/>
          <a:stretch/>
        </p:blipFill>
        <p:spPr>
          <a:xfrm>
            <a:off x="0" y="1235160"/>
            <a:ext cx="9144000" cy="56228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МА - ОСНОВА СЕМЬ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1700280"/>
            <a:ext cx="4495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ой любой семьи являются наши матери. Только мать способна принести себя в жертву ради своих детей.  Не забывайте, кто по ночам не спал, когда мы болели, кто отдавал последнее, чтобы мы смогли учиться и хорошо жить. В Д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нь матер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вспомните, кому вы обязаны жизнью. Самой главной ценностью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7" name="Picture 6" descr="nursingpillow"/>
          <p:cNvPicPr/>
          <p:nvPr/>
        </p:nvPicPr>
        <p:blipFill>
          <a:blip r:embed="rId1"/>
          <a:stretch/>
        </p:blipFill>
        <p:spPr>
          <a:xfrm>
            <a:off x="4648320" y="1746360"/>
            <a:ext cx="4495680" cy="51116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КСИМ ГОРЬКИЙ СКАЗАЛ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«Без солнца не цветут цветы, без любви нет счастья, без женщины нет любви, без матери нет ни поэта, ни героя»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2" name="Picture 14" descr="baby"/>
          <p:cNvPicPr/>
          <p:nvPr/>
        </p:nvPicPr>
        <p:blipFill>
          <a:blip r:embed="rId1"/>
          <a:stretch/>
        </p:blipFill>
        <p:spPr>
          <a:xfrm>
            <a:off x="4572000" y="1844640"/>
            <a:ext cx="4572000" cy="50133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БЕРЕГИТЕ МАТЕРЕЙ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95280" y="-360"/>
            <a:ext cx="8229600" cy="61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.. Заклинаю: берегите маму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ти мира, берегите мать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в душу не проникла плесень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 не стала наша жизнь темна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не забыть прекрасных песен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, что в детстве пела нам она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Расул Гамзат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6" name="Picture 16" descr="f84[1]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images (6)"/>
          <p:cNvPicPr/>
          <p:nvPr/>
        </p:nvPicPr>
        <p:blipFill>
          <a:blip r:embed="rId2"/>
          <a:stretch/>
        </p:blipFill>
        <p:spPr>
          <a:xfrm>
            <a:off x="0" y="4724280"/>
            <a:ext cx="356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ПАСИБО, МАМЫ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9" name="Picture 4" descr="5de75a1d-88ab-4f5d-bb76-0c12ce0e7a0f"/>
          <p:cNvPicPr/>
          <p:nvPr/>
        </p:nvPicPr>
        <p:blipFill>
          <a:blip r:embed="rId1"/>
          <a:stretch/>
        </p:blipFill>
        <p:spPr>
          <a:xfrm>
            <a:off x="0" y="1197000"/>
            <a:ext cx="4500720" cy="5661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den_mam_09"/>
          <p:cNvPicPr/>
          <p:nvPr/>
        </p:nvPicPr>
        <p:blipFill>
          <a:blip r:embed="rId2"/>
          <a:stretch/>
        </p:blipFill>
        <p:spPr>
          <a:xfrm>
            <a:off x="4381560" y="1197000"/>
            <a:ext cx="4762440" cy="5661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6" descr="f84[1]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ОДНА ИЗ ОСНОВАТЕЛЬНИЦ ПРАЗДНИК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дной из основательниц современного Дня матери считается американская активистка женского движения Джулия Уорд Хоу (Julia Ward Howe)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1870 году она опубликовала Прокламацию Дня матери, обратившись ко "всем женщинам, у которых есть сердца" к борьбе за мир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5" descr="911930874"/>
          <p:cNvPicPr/>
          <p:nvPr/>
        </p:nvPicPr>
        <p:blipFill>
          <a:blip r:embed="rId1"/>
          <a:stretch/>
        </p:blipFill>
        <p:spPr>
          <a:xfrm>
            <a:off x="5038560" y="2133720"/>
            <a:ext cx="4105440" cy="34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СПИСОК ИСПОЛЬЗОВАННЫХ МАТЕРИАЛОВ, ИНТЕРНЕТ - РЕСУРСОВ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http://ria.ru/spravka/20121125/911892061.html#ixzz3rxb61au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https://www.google.ru/search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http://www.perunica.ru/geroi/6755-babushka-vsey-rossii-antonina-petrovna-makarova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pozdrav.a-angel.ru/prazdniki/den-materi.html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Century Schoolbook"/>
              </a:rPr>
              <a:t>фото из личного архив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4" name="Picture 16" descr="f84[1]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ИСТОРИЯ ПРАЗДНИКА В РОССИ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67920"/>
            <a:ext cx="40384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ень матери в Росси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 был установлен по Указу от 30.01.1998 года за № 120 Президента Российской Федерации Б.Н. Ельциным. Инициативу выразил Комитет Государственной Думы по делам женщин, семьи и молодежи. С этого момента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ень матер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стал ежегодным праздником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6" descr="file_37a2ef6"/>
          <p:cNvPicPr/>
          <p:nvPr/>
        </p:nvPicPr>
        <p:blipFill>
          <a:blip r:embed="rId1"/>
          <a:stretch/>
        </p:blipFill>
        <p:spPr>
          <a:xfrm>
            <a:off x="4384800" y="2405160"/>
            <a:ext cx="3429000" cy="2962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a107af7f7a56631866be65b8d692456f"/>
          <p:cNvPicPr/>
          <p:nvPr/>
        </p:nvPicPr>
        <p:blipFill>
          <a:blip r:embed="rId2"/>
          <a:stretch/>
        </p:blipFill>
        <p:spPr>
          <a:xfrm>
            <a:off x="5524560" y="1341360"/>
            <a:ext cx="3619440" cy="2667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6" descr="f84[1]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ЕНЬ МАТЕРИ В РОССИИ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..отмечают в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следнее воскресение ноябр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В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01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году День матери приходится на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9 ноябр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раздник еще очень молод. Но он плотно вошел в нашу жизнь, именно в этот день мы чествуем самого главного человека для каждого из нас – мам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4" descr="ead47d36e50510c345eb86a3568f763f_XL"/>
          <p:cNvPicPr/>
          <p:nvPr/>
        </p:nvPicPr>
        <p:blipFill>
          <a:blip r:embed="rId1"/>
          <a:stretch/>
        </p:blipFill>
        <p:spPr>
          <a:xfrm>
            <a:off x="4381560" y="1916280"/>
            <a:ext cx="4762440" cy="4941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ДЕНЬ МАТЕРИ ОТМЕЧАЕТС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14126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1914 году президент США Вудро Вилсон (Woodrow Wilson) узаконил национальный праздник День матери, который был установлен на второе воскресенье мая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День матери принято навещать свою маму и преподносить символический подарок. В Америке традиционно носят в День матери цветок гвоздики: цветную гвоздику прикалывают в честь здравствующей матери, а белую — в память об ушедшей матер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4" descr="images (1)"/>
          <p:cNvPicPr/>
          <p:nvPr/>
        </p:nvPicPr>
        <p:blipFill>
          <a:blip r:embed="rId1"/>
          <a:stretch/>
        </p:blipFill>
        <p:spPr>
          <a:xfrm>
            <a:off x="6588000" y="4508640"/>
            <a:ext cx="2556000" cy="2349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6" descr="f84[1]"/>
          <p:cNvPicPr/>
          <p:nvPr/>
        </p:nvPicPr>
        <p:blipFill>
          <a:blip r:embed="rId2"/>
          <a:stretch/>
        </p:blipFill>
        <p:spPr>
          <a:xfrm>
            <a:off x="7812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ДЕНЬ МАТЕРИ ОТМЕЧАЕТСЯ ВО ВТОРОЕ ВОСКРЕСЕНИЕ МАЯ…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50560" y="1905120"/>
            <a:ext cx="4244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 Австралии, Бельгии, Дании, Италии, на Мальте, в Турции, на Украине, Финляндии, Эстонии, Япони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 Германии и Швейцарии. Швейцария  ввела День Матери в 1917г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7" descr="1336721619_254676_63"/>
          <p:cNvPicPr/>
          <p:nvPr/>
        </p:nvPicPr>
        <p:blipFill>
          <a:blip r:embed="rId1"/>
          <a:stretch/>
        </p:blipFill>
        <p:spPr>
          <a:xfrm>
            <a:off x="4270320" y="2670120"/>
            <a:ext cx="3657600" cy="2432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ДЕНЬ МАТЕРИ ОТМЕЧАЕТСЯ…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последнее воскресенье мая в Швеции и во Франции, в первое воскресенье мая — в ЮАР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Греции День матери празднуется 9 ма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Бахрейне, Гонконге, Индии, Малайзии, Мексике, Омане, Пакистане, Катаре, Саудовской Аравии, Сингапуре и Объединенных Арабских Эмиратах День матери отмечается 10 ма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16" descr="f84[1]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images (8)"/>
          <p:cNvPicPr/>
          <p:nvPr/>
        </p:nvPicPr>
        <p:blipFill>
          <a:blip r:embed="rId2"/>
          <a:stretch/>
        </p:blipFill>
        <p:spPr>
          <a:xfrm>
            <a:off x="6676920" y="5010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ДЕНЬ МАТЕРИ ОТМЕЧАЕТСЯ…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11966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 второе воскресенье февраля  в Норвегии, 14 октября — в Белоруссии, 8 декабря — в Испании и Португал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Армении 7 апреля отмечают День материнства и красоты, в Узбекистане -8 март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9" name="Picture 4" descr="911901667"/>
          <p:cNvPicPr/>
          <p:nvPr/>
        </p:nvPicPr>
        <p:blipFill>
          <a:blip r:embed="rId1"/>
          <a:stretch/>
        </p:blipFill>
        <p:spPr>
          <a:xfrm>
            <a:off x="4284720" y="3789360"/>
            <a:ext cx="4859280" cy="3068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МЕ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4" descr="26716f95e3cc5995a2362b0df26544d0"/>
          <p:cNvPicPr/>
          <p:nvPr/>
        </p:nvPicPr>
        <p:blipFill>
          <a:blip r:embed="rId1"/>
          <a:stretch/>
        </p:blipFill>
        <p:spPr>
          <a:xfrm>
            <a:off x="324000" y="1268280"/>
            <a:ext cx="8353440" cy="5229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7:05:42Z</dcterms:created>
  <dc:creator>user</dc:creator>
  <dc:description/>
  <dc:language>en-US</dc:language>
  <cp:lastModifiedBy>User</cp:lastModifiedBy>
  <dcterms:modified xsi:type="dcterms:W3CDTF">2022-11-17T12:15:53Z</dcterms:modified>
  <cp:revision>10</cp:revision>
  <dc:subject/>
  <dc:title>ДЕНЬ МАТЕРИ</dc:title>
</cp:coreProperties>
</file>