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389-5C9C-4089-898B-5476C867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DAD-EDCB-429F-A8DE-B652262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F8F-C999-4E26-81E2-64EDF95D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EFD-525F-42FB-8A15-8627A6F7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493A-0E1B-4738-8DEC-E04D0B79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9CAC-5C21-4120-9530-F37E342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E466-7C63-4B01-89AD-4E90408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74AD-DB12-4B93-B457-E2D0ABA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81DE-636E-4B6C-9F91-54051231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222-140D-41E0-A9CE-2A7FBA6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E80-D6FD-4541-8A32-75B671A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D8B-234B-4DCF-9DDE-B4D91AD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8C5-F162-4BF9-8129-9A71076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6B24-3A22-4DE9-A4D1-DCB322E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888D-BD4A-4B59-B1BD-485352C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39F-3248-4840-BB6B-AF1DD01E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B414-D0E3-48FA-A85B-7C4A5470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8FB78-93E4-4E9D-8888-F7B71B99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C6B62-6666-47D0-99AD-D5CC5848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F18E-5CE2-4BE5-9E59-199B9524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5D905-D253-404B-9BDE-A95E2D6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D7DAA-65B1-46ED-BECA-0A249666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BB6-E24D-4B61-A658-516C6187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C13EE-7FEB-4238-9E82-6BFC5718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E8770-090D-4474-A626-C9B2F3A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B8357-104A-4234-A989-7DCB40B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A4CEB-E5D5-4844-ACBF-6ADF5276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F9343-1D49-42A7-8FCB-02151A0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83847-D05E-452D-BBEB-EA5085A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816B6-EEFF-4E60-8398-E833058E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7EAA-1216-4B4D-8E69-0BA28243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F454-2DD1-4676-84A8-BC77B7E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5D51-AA25-4005-9328-291BAA8A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6AD-D336-44B2-8EC2-7EBB588C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2375-3FD1-40D1-A9DC-2AF9AB2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8BD8-43BF-4B2E-B91C-320D873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DF4E-1A8B-458E-B3CA-A317C6F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2C3F-FCB7-463B-B055-CFFE0A2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EF10-7DC6-44E2-B717-4188BCBE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9F85-C31F-46F7-8F9F-FBD47F4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651D-B786-49C8-A3F1-E568F67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683B-0B9A-4650-B89A-E8504F8C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340B-C0E6-4635-B802-2CFA552E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BDDFF-A9F4-44D6-99BA-1A887608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C67-28C8-4D71-A7F7-97EF4581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1287F-B057-48CB-8C17-4A59AD43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3FE27-5D21-4BD7-B4F1-7D2EB8F7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F433B-23C0-4FDF-B290-B4130BF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F5602-141B-4ABE-BE05-83ED2E9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01145-95E3-4DC4-9850-6B4D838B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5B9B2-2155-41CF-80B6-CCBBAD9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5F52C-FE6E-4439-BB4C-EAEDC50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CB611-062C-4EE9-911B-0CC9129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4A945-A1BE-42CD-B5CE-084C597E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F2FBF-8A8A-44A1-B5B4-3ECBC6C1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F53-533B-4B3A-93C9-BB81A1D8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38CE4-17AC-4188-BA89-70D5A47A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7BD1E-B716-43AB-95C4-85C44080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0384E-C8B4-4C71-BB71-14A39C4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A24A1-D462-4218-AA54-3E4542AE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75B46-6187-4A63-9451-64823A63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495A2-A63C-4D47-8867-998B05F1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E3F46-5536-469E-A271-852180A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B5381-B7DB-49FE-B046-CD3AA38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612BE-08AF-4826-A265-B6DF892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EC087-A469-4DE6-8997-976CA20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98B-6022-4FB9-A780-B96026B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3F726-A7A8-4317-B008-20B3AE9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99BB4-A891-4B4E-9A40-4F6AA39A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E85EE-74FA-4D74-A25D-35F81809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DC35F-6D10-4E15-A3F0-8B380EC6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7BA78-2626-4A90-A405-2D41A60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29459-808C-48AC-99D3-EA4B084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C38A-9BCA-447F-A454-B140641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CA203-A841-40CA-A8D4-D3528A0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40D94-5FFB-4D5D-9EA3-D2D4964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1DA6F-3679-49DA-8817-E1210F7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4AB-BB1C-4D9D-A53B-3054151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88760-BB1B-4D1C-A4A3-F945154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1605D-9703-4DEE-BE96-50A2F1B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E1CB5-D7EB-49B4-8FE5-194480F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C5CFB-5F27-4104-BCAE-D4D3B6CF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056CE-7118-4A2F-88D3-3F5A546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554B-6035-4C2E-9815-B680BF1A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FAB1-5FBF-48FF-AE76-0EE8DD33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9858-2AE4-482F-8DF7-5E306BB2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8F1B-8004-429E-BE1E-DFBFE65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B98D-CE11-4347-9B58-4C369F7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CA6-AC2E-41F4-A954-6ADBC98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C6B48-1822-4A2E-9942-4542704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18CF-D51E-4EE5-B6DE-0E4F0CB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3B923-E380-469A-B56A-3507530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06F3-D5F7-4579-BD76-4097818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E1B7-ADA3-4D85-839F-60F9EA1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C4F4-17E7-428E-9E0D-DE71CA52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0A42-F2B6-4987-AAAA-8E4CBD27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5CE7-ABEE-4C3C-9681-39197136CD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B3A-427E-460D-81E6-C37CF7684E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E45-F6D0-4015-B072-4690788A50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45E-E62F-4B87-8B6D-C497D59AAE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B4E-7542-430D-90B7-620410AF9A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7B04-0CC6-4135-ABC2-DC32740107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A46-3442-4DAC-98FB-13E45D2187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09E-92B7-4F71-A41E-74E77C5A4A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ДЕНЬ МАТЕР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ЛИКУЕВА Е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БОУ ШКОЛА №1981 г.МОСКВ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24-mama-1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Picture 3" descr="фото (19)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848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f84[1]"/>
          <p:cNvPicPr/>
          <p:nvPr/>
        </p:nvPicPr>
        <p:blipFill>
          <a:blip r:embed="rId2"/>
          <a:stretch/>
        </p:blipFill>
        <p:spPr>
          <a:xfrm>
            <a:off x="8001000" y="-819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ПОГОВОРИ СО МНОЮ, МАМА.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412640"/>
            <a:ext cx="4038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268360" y="3141720"/>
            <a:ext cx="45720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d2611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324000" y="2556720"/>
            <a:ext cx="424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уты сказочные эти навек оставлю в сердце 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роже всех наград на све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е песня тихая тво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иктор Г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4932360" y="1700280"/>
            <a:ext cx="4211640" cy="5157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ОЛИТВА МАТЕРИ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0" y="1052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рани судьба, моих детей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а будет ровной их дорог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пусть богатства чашу не долей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 мира и  здоровья дай им много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Picture 13" descr="images"/>
          <p:cNvPicPr/>
          <p:nvPr/>
        </p:nvPicPr>
        <p:blipFill>
          <a:blip r:embed="rId1"/>
          <a:stretch/>
        </p:blipFill>
        <p:spPr>
          <a:xfrm>
            <a:off x="0" y="1197000"/>
            <a:ext cx="2843280" cy="1847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tYzkzNy00"/>
          <p:cNvPicPr/>
          <p:nvPr/>
        </p:nvPicPr>
        <p:blipFill>
          <a:blip r:embed="rId2"/>
          <a:stretch/>
        </p:blipFill>
        <p:spPr>
          <a:xfrm>
            <a:off x="6659640" y="3141720"/>
            <a:ext cx="2484360" cy="3716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images (1)"/>
          <p:cNvPicPr/>
          <p:nvPr/>
        </p:nvPicPr>
        <p:blipFill>
          <a:blip r:embed="rId4"/>
          <a:stretch/>
        </p:blipFill>
        <p:spPr>
          <a:xfrm>
            <a:off x="0" y="3068640"/>
            <a:ext cx="3017880" cy="1873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images (3)"/>
          <p:cNvPicPr/>
          <p:nvPr/>
        </p:nvPicPr>
        <p:blipFill>
          <a:blip r:embed="rId5"/>
          <a:stretch/>
        </p:blipFill>
        <p:spPr>
          <a:xfrm>
            <a:off x="3059280" y="4941720"/>
            <a:ext cx="3666960" cy="1916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8" descr="images (4)"/>
          <p:cNvPicPr/>
          <p:nvPr/>
        </p:nvPicPr>
        <p:blipFill>
          <a:blip r:embed="rId6"/>
          <a:stretch/>
        </p:blipFill>
        <p:spPr>
          <a:xfrm>
            <a:off x="2916360" y="3141720"/>
            <a:ext cx="3857400" cy="1790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9" descr="images (5)"/>
          <p:cNvPicPr/>
          <p:nvPr/>
        </p:nvPicPr>
        <p:blipFill>
          <a:blip r:embed="rId7"/>
          <a:stretch/>
        </p:blipFill>
        <p:spPr>
          <a:xfrm>
            <a:off x="0" y="4941720"/>
            <a:ext cx="30225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АБУШКИ – ЭТО ТОЖЕ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4" descr="images (3)"/>
          <p:cNvPicPr/>
          <p:nvPr/>
        </p:nvPicPr>
        <p:blipFill>
          <a:blip r:embed="rId1"/>
          <a:stretch/>
        </p:blipFill>
        <p:spPr>
          <a:xfrm>
            <a:off x="2268360" y="3068640"/>
            <a:ext cx="3168720" cy="2017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images (2)"/>
          <p:cNvPicPr/>
          <p:nvPr/>
        </p:nvPicPr>
        <p:blipFill>
          <a:blip r:embed="rId2"/>
          <a:stretch/>
        </p:blipFill>
        <p:spPr>
          <a:xfrm>
            <a:off x="2195640" y="1484280"/>
            <a:ext cx="3313080" cy="1762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фото (18)"/>
          <p:cNvPicPr/>
          <p:nvPr/>
        </p:nvPicPr>
        <p:blipFill>
          <a:blip r:embed="rId3"/>
          <a:stretch/>
        </p:blipFill>
        <p:spPr>
          <a:xfrm>
            <a:off x="5148360" y="1484280"/>
            <a:ext cx="3671640" cy="5373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kaverinskie_babushki_t1"/>
          <p:cNvPicPr/>
          <p:nvPr/>
        </p:nvPicPr>
        <p:blipFill>
          <a:blip r:embed="rId4"/>
          <a:stretch/>
        </p:blipFill>
        <p:spPr>
          <a:xfrm>
            <a:off x="5003640" y="4653000"/>
            <a:ext cx="3851280" cy="2205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92056668_0001xpzs"/>
          <p:cNvPicPr/>
          <p:nvPr/>
        </p:nvPicPr>
        <p:blipFill>
          <a:blip r:embed="rId5"/>
          <a:stretch/>
        </p:blipFill>
        <p:spPr>
          <a:xfrm>
            <a:off x="468360" y="4336920"/>
            <a:ext cx="2138400" cy="2521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images (4)"/>
          <p:cNvPicPr/>
          <p:nvPr/>
        </p:nvPicPr>
        <p:blipFill>
          <a:blip r:embed="rId6"/>
          <a:stretch/>
        </p:blipFill>
        <p:spPr>
          <a:xfrm>
            <a:off x="468360" y="1484280"/>
            <a:ext cx="1790640" cy="2881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5" descr="big_1045157"/>
          <p:cNvPicPr/>
          <p:nvPr/>
        </p:nvPicPr>
        <p:blipFill>
          <a:blip r:embed="rId7"/>
          <a:stretch/>
        </p:blipFill>
        <p:spPr>
          <a:xfrm>
            <a:off x="2411280" y="4869000"/>
            <a:ext cx="2886120" cy="1989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6" descr="f84[1]"/>
          <p:cNvPicPr/>
          <p:nvPr/>
        </p:nvPicPr>
        <p:blipFill>
          <a:blip r:embed="rId8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БАБУШКА ВСЕЙ РОССИИ АНТОНИНА ПЕТРОВНА МАКАРОВА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городе Суздаль жила  бабушка Антонина Петровна. Она  жила не для славы и популярности.  Бабушка в одном и том же месте, возле храма, каждый день торговала крошечными войлочными валеночками-сувенирами, отдавая их за "кто сколько даст", а то и вовсе даром. На вырученные деньги помогала местным сиротским приютам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Picture 5" descr="1354304350_ad922ea6b35bc2f75537348fe0cd4e40"/>
          <p:cNvPicPr/>
          <p:nvPr/>
        </p:nvPicPr>
        <p:blipFill>
          <a:blip r:embed="rId1"/>
          <a:stretch/>
        </p:blipFill>
        <p:spPr>
          <a:xfrm>
            <a:off x="468360" y="1557360"/>
            <a:ext cx="4070160" cy="5048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УСТЬ ВСЕГДА БУДЕТ МАМА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2" name="Picture 4" descr="75971988186498f69c91d55d94ce3bc2be99cec1570_b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5622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А - ОСНОВА СЕМЬ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1700280"/>
            <a:ext cx="4495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ой любой семьи являются наши матери. Только мать способна принести себя в жертву ради своих детей.  Не забывайте, кто по ночам не спал, когда мы болели, кто отдавал последнее, чтобы мы смогли учиться и хорошо жить. В 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спомните, кому вы обязаны жизнью. Самой главной ценностью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7" name="Picture 6" descr="nursingpillow"/>
          <p:cNvPicPr/>
          <p:nvPr/>
        </p:nvPicPr>
        <p:blipFill>
          <a:blip r:embed="rId1"/>
          <a:stretch/>
        </p:blipFill>
        <p:spPr>
          <a:xfrm>
            <a:off x="4648320" y="1746360"/>
            <a:ext cx="4495680" cy="5111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КСИМ ГОРЬКИЙ СКАЗАЛ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Без солнца не цветут цветы, без любви нет счастья, без женщины нет любви, без матери нет ни поэта, ни героя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14" descr="baby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5013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БЕРЕГИТЕ МАТЕРЕЙ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5280" y="-36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 Заклинаю: берегите маму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и мира, берегите мать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в душу не проникла плесень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 не стала наша жизнь темн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не забыть прекрасных песен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, что в детстве пела нам она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Расул Гамзат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6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images (6)"/>
          <p:cNvPicPr/>
          <p:nvPr/>
        </p:nvPicPr>
        <p:blipFill>
          <a:blip r:embed="rId2"/>
          <a:stretch/>
        </p:blipFill>
        <p:spPr>
          <a:xfrm>
            <a:off x="0" y="4724280"/>
            <a:ext cx="356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,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9" name="Picture 4" descr="5de75a1d-88ab-4f5d-bb76-0c12ce0e7a0f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5661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en_mam_09"/>
          <p:cNvPicPr/>
          <p:nvPr/>
        </p:nvPicPr>
        <p:blipFill>
          <a:blip r:embed="rId2"/>
          <a:stretch/>
        </p:blipFill>
        <p:spPr>
          <a:xfrm>
            <a:off x="4381560" y="1197000"/>
            <a:ext cx="4762440" cy="5661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ОДНА ИЗ ОСНОВАТЕЛЬНИЦ ПРАЗДНИ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дной из основательниц современного Дня матери считается американская активистка женского движения Джулия Уорд Хоу (Julia Ward Howe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1870 году она опубликовала Прокламацию Дня матери, обратившись ко "всем женщинам, у которых есть сердца" к борьбе за мир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5" descr="911930874"/>
          <p:cNvPicPr/>
          <p:nvPr/>
        </p:nvPicPr>
        <p:blipFill>
          <a:blip r:embed="rId1"/>
          <a:stretch/>
        </p:blipFill>
        <p:spPr>
          <a:xfrm>
            <a:off x="5038560" y="2133720"/>
            <a:ext cx="4105440" cy="34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ПИСОК ИСПОЛЬЗОВАННЫХ МАТЕРИАЛОВ, ИНТЕРНЕТ - РЕСУРСОВ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ria.ru/spravka/20121125/911892061.html#ixzz3rxb61au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s://www.google.ru/search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www.perunica.ru/geroi/6755-babushka-vsey-rossii-antonina-petrovna-makarova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pozdrav.a-angel.ru/prazdniki/den-materi.htm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Century Schoolbook"/>
              </a:rPr>
              <a:t>фото из личного архи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4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ИСТОРИЯ ПРАЗДНИКА В РОСС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6792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 в Росс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был установлен по Указу от 30.01.1998 года за № 120 Президента Российской Федерации Б.Н. Ельциным. Инициативу выразил Комитет Государственной Думы по делам женщин, семьи и молодежи. С этого момента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стал ежегодным праздником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6" descr="file_37a2ef6"/>
          <p:cNvPicPr/>
          <p:nvPr/>
        </p:nvPicPr>
        <p:blipFill>
          <a:blip r:embed="rId1"/>
          <a:stretch/>
        </p:blipFill>
        <p:spPr>
          <a:xfrm>
            <a:off x="4384800" y="2405160"/>
            <a:ext cx="3429000" cy="2962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a107af7f7a56631866be65b8d692456f"/>
          <p:cNvPicPr/>
          <p:nvPr/>
        </p:nvPicPr>
        <p:blipFill>
          <a:blip r:embed="rId2"/>
          <a:stretch/>
        </p:blipFill>
        <p:spPr>
          <a:xfrm>
            <a:off x="5524560" y="1341360"/>
            <a:ext cx="3619440" cy="2667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ЕНЬ МАТЕРИ В РОССИИ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отмечают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следнее воскресение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1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году День матери приходится на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раздник еще очень молод. Но он плотно вошел в нашу жизнь, именно в этот день мы чествуем самого главного человека для каждого из нас – мам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ead47d36e50510c345eb86a3568f763f_XL"/>
          <p:cNvPicPr/>
          <p:nvPr/>
        </p:nvPicPr>
        <p:blipFill>
          <a:blip r:embed="rId1"/>
          <a:stretch/>
        </p:blipFill>
        <p:spPr>
          <a:xfrm>
            <a:off x="4381560" y="1916280"/>
            <a:ext cx="4762440" cy="4941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4126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1914 году президент США Вудро Вилсон (Woodrow Wilson) узаконил национальный праздник День матери, который был установлен на второе воскресенье ма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ень матери принято навещать свою маму и преподносить символический подарок. В Америке традиционно носят в День матери цветок гвоздики: цветную гвоздику прикалывают в честь здравствующей матери, а белую — в память об ушедшей матер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images (1)"/>
          <p:cNvPicPr/>
          <p:nvPr/>
        </p:nvPicPr>
        <p:blipFill>
          <a:blip r:embed="rId1"/>
          <a:stretch/>
        </p:blipFill>
        <p:spPr>
          <a:xfrm>
            <a:off x="6588000" y="4508640"/>
            <a:ext cx="2556000" cy="2349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f84[1]"/>
          <p:cNvPicPr/>
          <p:nvPr/>
        </p:nvPicPr>
        <p:blipFill>
          <a:blip r:embed="rId2"/>
          <a:stretch/>
        </p:blipFill>
        <p:spPr>
          <a:xfrm>
            <a:off x="7812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ЕНЬ МАТЕРИ ОТМЕЧАЕТСЯ ВО ВТОРОЕ ВОСКРЕСЕНИЕ МАЯ…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50560" y="1905120"/>
            <a:ext cx="4244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Австралии, Бельгии, Дании, Италии, на Мальте, в Турции, на Украине, Финляндии, Эстонии, Япон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Германии и Швейцарии. Швейцария  ввела День Матери в 1917г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7" descr="1336721619_254676_63"/>
          <p:cNvPicPr/>
          <p:nvPr/>
        </p:nvPicPr>
        <p:blipFill>
          <a:blip r:embed="rId1"/>
          <a:stretch/>
        </p:blipFill>
        <p:spPr>
          <a:xfrm>
            <a:off x="4270320" y="267012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оследнее воскресенье мая в Швеции и во Франции, в первое воскресенье мая — в ЮА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Греции День матери празднуется 9 ма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Бахрейне, Гонконге, Индии, Малайзии, Мексике, Омане, Пакистане, Катаре, Саудовской Аравии, Сингапуре и Объединенных Арабских Эмиратах День матери отмечается 10 ма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images (8)"/>
          <p:cNvPicPr/>
          <p:nvPr/>
        </p:nvPicPr>
        <p:blipFill>
          <a:blip r:embed="rId2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торое воскресенье февраля  в Норвегии, 14 октября — в Белоруссии, 8 декабря — в Испании и Португал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Армении 7 апреля отмечают День материнства и красоты, в Узбекистане -8 мар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4" descr="911901667"/>
          <p:cNvPicPr/>
          <p:nvPr/>
        </p:nvPicPr>
        <p:blipFill>
          <a:blip r:embed="rId1"/>
          <a:stretch/>
        </p:blipFill>
        <p:spPr>
          <a:xfrm>
            <a:off x="4284720" y="378936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Е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4" descr="26716f95e3cc5995a2362b0df26544d0"/>
          <p:cNvPicPr/>
          <p:nvPr/>
        </p:nvPicPr>
        <p:blipFill>
          <a:blip r:embed="rId1"/>
          <a:stretch/>
        </p:blipFill>
        <p:spPr>
          <a:xfrm>
            <a:off x="324000" y="1268280"/>
            <a:ext cx="8353440" cy="5229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05:42Z</dcterms:created>
  <dc:creator>user</dc:creator>
  <dc:description/>
  <dc:language>en-US</dc:language>
  <cp:lastModifiedBy>User</cp:lastModifiedBy>
  <dcterms:modified xsi:type="dcterms:W3CDTF">2022-11-17T12:15:53Z</dcterms:modified>
  <cp:revision>10</cp:revision>
  <dc:subject/>
  <dc:title>ДЕНЬ МАТЕРИ</dc:title>
</cp:coreProperties>
</file>