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2FB-C650-46C5-BEBF-EE5FFEEF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742-7CB2-47FF-9F35-41FC4855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369-105A-4A45-87B0-D4D7FCB0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848-567C-4B93-8D13-FE9D24A4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FCE6-914E-43BD-BFB9-5C140E99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CD11-C7B7-4F28-9C4A-A7212D2E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BF8B-1A65-43D6-BAA6-FB9C56EB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CDC1-03F5-45EB-A43B-92D88E08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DCC9-8E61-4896-94A2-058E205D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C6EE-FE12-4051-846B-ABE6C1CE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F679-2514-4E0F-95F4-B18254FA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B9C-B206-4578-B92B-C9BC8FDF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AB79-D5AD-4780-9927-F7DFB68E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644-78F9-40AB-8387-B5E38FBA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8987-2BC8-4B0D-8726-F6758BA0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CA9C-68F6-4429-89D1-60AAF5B4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2491-0D94-443D-A82B-3D425A26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88CE-77E8-407E-B55D-A4100B99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BE1E-FB91-4FBF-B419-A3C006C4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5349-8858-4896-B9AB-B0339874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7AA5-BE59-4D2B-B245-D7451B41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2B88-3B65-4A8F-A4D5-844FFB87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330-6439-449E-8916-A7F24FF7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EECD-8D17-48E3-BE4E-71556DFE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6EA6-17B8-4BB4-8BAA-A1B161E0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2B1E-8A99-4845-9947-328E2C9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F825-63D2-4177-BE4C-A208A22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F306-ACAF-462B-9EF3-6632EEC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7113-8659-4129-8F49-650706C8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88BD-FF15-4526-B7F9-4361A00F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DD2-67A0-4EC6-97C4-4E032E77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A17-3253-4F82-9D89-A3960A00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255-2C6E-41C9-90B7-44259D63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B1B-CF38-4FC0-AF1D-256E1F9B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A2D-F517-44A2-BF14-EB26BB7C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915-6CD6-40CB-98EF-0815B3A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9989-F0B6-44EA-B4DE-4F775B36FE6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211A-A0DD-4ACF-A8E6-1757B1CFA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7C9D-A9BC-4DBD-96B2-AD4062A6192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Verdana"/>
              </a:rPr>
              <a:t>Фрукты, овощи и ягоды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ЯБЛОК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яблоко4"/>
          <p:cNvPicPr/>
          <p:nvPr/>
        </p:nvPicPr>
        <p:blipFill>
          <a:blip r:embed="rId1"/>
          <a:stretch/>
        </p:blipFill>
        <p:spPr>
          <a:xfrm>
            <a:off x="1979640" y="1341360"/>
            <a:ext cx="5472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4400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9900"/>
                </a:solidFill>
                <a:latin typeface="Verdana"/>
              </a:rPr>
              <a:t>ОВОЩИ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b6bcf"/>
                </a:solidFill>
                <a:latin typeface="Arial"/>
              </a:rPr>
              <a:t>БАКЛАЖ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баклажан2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АПУС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капуста"/>
          <p:cNvPicPr/>
          <p:nvPr/>
        </p:nvPicPr>
        <p:blipFill>
          <a:blip r:embed="rId1"/>
          <a:stretch/>
        </p:blipFill>
        <p:spPr>
          <a:xfrm>
            <a:off x="826920" y="1413000"/>
            <a:ext cx="792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МОРКО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морковь"/>
          <p:cNvPicPr/>
          <p:nvPr/>
        </p:nvPicPr>
        <p:blipFill>
          <a:blip r:embed="rId1"/>
          <a:stretch/>
        </p:blipFill>
        <p:spPr>
          <a:xfrm>
            <a:off x="755640" y="1341360"/>
            <a:ext cx="784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f7f7f"/>
                </a:solidFill>
                <a:latin typeface="Arial"/>
              </a:rPr>
              <a:t>КАРТОФ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картофель3"/>
          <p:cNvPicPr/>
          <p:nvPr/>
        </p:nvPicPr>
        <p:blipFill>
          <a:blip r:embed="rId1"/>
          <a:stretch/>
        </p:blipFill>
        <p:spPr>
          <a:xfrm>
            <a:off x="324000" y="3645000"/>
            <a:ext cx="4038480" cy="2808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картофель"/>
          <p:cNvPicPr/>
          <p:nvPr/>
        </p:nvPicPr>
        <p:blipFill>
          <a:blip r:embed="rId2"/>
          <a:stretch/>
        </p:blipFill>
        <p:spPr>
          <a:xfrm>
            <a:off x="4500720" y="1484280"/>
            <a:ext cx="43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лук репчатый"/>
          <p:cNvPicPr/>
          <p:nvPr/>
        </p:nvPicPr>
        <p:blipFill>
          <a:blip r:embed="rId1"/>
          <a:stretch/>
        </p:blipFill>
        <p:spPr>
          <a:xfrm>
            <a:off x="179280" y="1341360"/>
            <a:ext cx="4105440" cy="295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лук"/>
          <p:cNvPicPr/>
          <p:nvPr/>
        </p:nvPicPr>
        <p:blipFill>
          <a:blip r:embed="rId2"/>
          <a:stretch/>
        </p:blipFill>
        <p:spPr>
          <a:xfrm>
            <a:off x="4572000" y="3141720"/>
            <a:ext cx="43257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ОГУР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огурцы"/>
          <p:cNvPicPr/>
          <p:nvPr/>
        </p:nvPicPr>
        <p:blipFill>
          <a:blip r:embed="rId1"/>
          <a:stretch/>
        </p:blipFill>
        <p:spPr>
          <a:xfrm>
            <a:off x="1042920" y="1413000"/>
            <a:ext cx="734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ПЕР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перец"/>
          <p:cNvPicPr/>
          <p:nvPr/>
        </p:nvPicPr>
        <p:blipFill>
          <a:blip r:embed="rId1"/>
          <a:stretch/>
        </p:blipFill>
        <p:spPr>
          <a:xfrm>
            <a:off x="2627280" y="1600200"/>
            <a:ext cx="3960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ПОМИДО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помидоры2"/>
          <p:cNvPicPr/>
          <p:nvPr/>
        </p:nvPicPr>
        <p:blipFill>
          <a:blip r:embed="rId1"/>
          <a:stretch/>
        </p:blipFill>
        <p:spPr>
          <a:xfrm>
            <a:off x="971640" y="141300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999720"/>
            <a:ext cx="824400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Verdana"/>
              </a:rPr>
              <a:t>ФРУКТЫ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rial"/>
              </a:rPr>
              <a:t>ТЫК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тыква3"/>
          <p:cNvPicPr/>
          <p:nvPr/>
        </p:nvPicPr>
        <p:blipFill>
          <a:blip r:embed="rId1"/>
          <a:stretch/>
        </p:blipFill>
        <p:spPr>
          <a:xfrm>
            <a:off x="1258920" y="1557360"/>
            <a:ext cx="6912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440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4d73"/>
                </a:solidFill>
                <a:latin typeface="Verdana"/>
              </a:rPr>
              <a:t>ЯГОДЫ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ИШН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вишня"/>
          <p:cNvPicPr/>
          <p:nvPr/>
        </p:nvPicPr>
        <p:blipFill>
          <a:blip r:embed="rId1"/>
          <a:stretch/>
        </p:blipFill>
        <p:spPr>
          <a:xfrm>
            <a:off x="2268360" y="1341360"/>
            <a:ext cx="4535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22268"/>
                </a:solidFill>
                <a:latin typeface="Arial"/>
              </a:rPr>
              <a:t>ЕЖЕВ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ежевика"/>
          <p:cNvPicPr/>
          <p:nvPr/>
        </p:nvPicPr>
        <p:blipFill>
          <a:blip r:embed="rId1"/>
          <a:stretch/>
        </p:blipFill>
        <p:spPr>
          <a:xfrm>
            <a:off x="2843280" y="1413000"/>
            <a:ext cx="3744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ЕМЛЯН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земляника"/>
          <p:cNvPicPr/>
          <p:nvPr/>
        </p:nvPicPr>
        <p:blipFill>
          <a:blip r:embed="rId1"/>
          <a:stretch/>
        </p:blipFill>
        <p:spPr>
          <a:xfrm>
            <a:off x="1835280" y="1341360"/>
            <a:ext cx="5545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ЛУБН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клубника2"/>
          <p:cNvPicPr/>
          <p:nvPr/>
        </p:nvPicPr>
        <p:blipFill>
          <a:blip r:embed="rId1"/>
          <a:stretch/>
        </p:blipFill>
        <p:spPr>
          <a:xfrm>
            <a:off x="1332000" y="1484280"/>
            <a:ext cx="691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АЛ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малина"/>
          <p:cNvPicPr/>
          <p:nvPr/>
        </p:nvPicPr>
        <p:blipFill>
          <a:blip r:embed="rId1"/>
          <a:stretch/>
        </p:blipFill>
        <p:spPr>
          <a:xfrm>
            <a:off x="2340000" y="1413000"/>
            <a:ext cx="453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b6bcf"/>
                </a:solidFill>
                <a:latin typeface="Arial"/>
              </a:rPr>
              <a:t>ЧЕРН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черника"/>
          <p:cNvPicPr/>
          <p:nvPr/>
        </p:nvPicPr>
        <p:blipFill>
          <a:blip r:embed="rId1"/>
          <a:stretch/>
        </p:blipFill>
        <p:spPr>
          <a:xfrm>
            <a:off x="2700360" y="141300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9194d"/>
                </a:solidFill>
                <a:latin typeface="Arial"/>
              </a:rPr>
              <a:t>ЧЁРНАЯ СМОРОД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черная смородина"/>
          <p:cNvPicPr/>
          <p:nvPr/>
        </p:nvPicPr>
        <p:blipFill>
          <a:blip r:embed="rId1"/>
          <a:stretch/>
        </p:blipFill>
        <p:spPr>
          <a:xfrm>
            <a:off x="2484360" y="2421000"/>
            <a:ext cx="40323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ЧЕРЕШН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черешня"/>
          <p:cNvPicPr/>
          <p:nvPr/>
        </p:nvPicPr>
        <p:blipFill>
          <a:blip r:embed="rId1"/>
          <a:stretch/>
        </p:blipFill>
        <p:spPr>
          <a:xfrm>
            <a:off x="1116000" y="1484280"/>
            <a:ext cx="6767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6600"/>
                </a:solidFill>
                <a:latin typeface="Arial"/>
              </a:rPr>
              <a:t>АБРИКОС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абрикосы"/>
          <p:cNvPicPr/>
          <p:nvPr/>
        </p:nvPicPr>
        <p:blipFill>
          <a:blip r:embed="rId1"/>
          <a:stretch/>
        </p:blipFill>
        <p:spPr>
          <a:xfrm>
            <a:off x="1258920" y="162864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АНАНА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ананас"/>
          <p:cNvPicPr/>
          <p:nvPr/>
        </p:nvPicPr>
        <p:blipFill>
          <a:blip r:embed="rId1"/>
          <a:stretch/>
        </p:blipFill>
        <p:spPr>
          <a:xfrm>
            <a:off x="2700360" y="1413000"/>
            <a:ext cx="360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rial"/>
              </a:rPr>
              <a:t>АПЕЛЬС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апельсин"/>
          <p:cNvPicPr/>
          <p:nvPr/>
        </p:nvPicPr>
        <p:blipFill>
          <a:blip r:embed="rId1"/>
          <a:stretch/>
        </p:blipFill>
        <p:spPr>
          <a:xfrm>
            <a:off x="971640" y="1413000"/>
            <a:ext cx="7561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БАН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банан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ИНОГРА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виноград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РУШ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грушы"/>
          <p:cNvPicPr/>
          <p:nvPr/>
        </p:nvPicPr>
        <p:blipFill>
          <a:blip r:embed="rId1"/>
          <a:stretch/>
        </p:blipFill>
        <p:spPr>
          <a:xfrm>
            <a:off x="971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ЛИМО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лимон"/>
          <p:cNvPicPr/>
          <p:nvPr/>
        </p:nvPicPr>
        <p:blipFill>
          <a:blip r:embed="rId1"/>
          <a:stretch/>
        </p:blipFill>
        <p:spPr>
          <a:xfrm>
            <a:off x="826920" y="1413000"/>
            <a:ext cx="7490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1:19:27Z</dcterms:created>
  <dc:creator>Maxima</dc:creator>
  <dc:description/>
  <dc:language>en-US</dc:language>
  <cp:lastModifiedBy>Алексей</cp:lastModifiedBy>
  <dcterms:modified xsi:type="dcterms:W3CDTF">2022-10-19T18:34:11Z</dcterms:modified>
  <cp:revision>31</cp:revision>
  <dc:subject/>
  <dc:title>ЧТО РАСТЁТ В САДУ И В ОГОРОДЕ</dc:title>
</cp:coreProperties>
</file>