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DE9-391A-4566-A89A-A67B35D9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0C2-6E81-4860-B5D3-08CA4894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1AA-04FB-4A4E-9ADB-51C36EF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8A4-0DB1-48E7-9AC0-AC7EDE2E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B9FF-C992-4AE2-AAD5-BB177A33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1AFF-8A38-4BB8-A4B9-41B72E40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8AC-6425-478E-96CC-52A4D62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CCC6-174F-4A91-A707-087114D3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18DE-5B1D-4884-8A55-83575E0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BBDC-8C12-467D-B934-719C370D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CE65-996B-4BF7-8675-E1230F0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DCC-2316-4A15-98ED-D5EE380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4AD8-8FB4-45B6-88F6-0FE7386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9A3-3474-4C85-A723-2DC8679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831F-E0BA-4238-8241-0B7F67A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837-74B7-4050-8F87-1461FD58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D2B-EC30-437D-9B84-28DC0838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FAE0-E3D1-41D9-AAD1-6756413E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606A-C869-4739-B63C-3580345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0B62-245E-4719-8B40-B8D8026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AC12-0760-4313-9199-B6DB35E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A6F0-DAD8-4A60-9AE8-FEE9E02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14F-3552-447B-82F2-519D992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AE13-8750-4EAC-A598-9539B35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9622-43C2-44E4-BA54-9AE35B3C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8490-5582-48E6-9B59-F55E553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310E-CF68-427C-9C92-856AB19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7811-6EDD-4B2A-9EC7-47DD897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7454-079C-4215-ADF9-FD9330E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72DE-512A-4FA1-B74E-0E1F0B70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6DE-0590-4BE2-A280-32C80AE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9A0-6A80-49E1-ADCA-7A82F62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53C-76E9-49A2-9D02-5633A4C7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D3F-3B64-4656-9F91-6251D05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871-E610-40E1-92B0-6770419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0D0-E3F3-4612-8150-DEB9C83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6FF7-034D-4974-A2E1-1787B0D6E41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87B-8022-48C6-B3E3-C32AC9CAD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73F-74F6-4FB8-9EEB-04826B2791C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Verdana"/>
              </a:rPr>
              <a:t>Фрукты, овощи и 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ЯБЛОК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яблоко4"/>
          <p:cNvPicPr/>
          <p:nvPr/>
        </p:nvPicPr>
        <p:blipFill>
          <a:blip r:embed="rId1"/>
          <a:stretch/>
        </p:blipFill>
        <p:spPr>
          <a:xfrm>
            <a:off x="1979640" y="1341360"/>
            <a:ext cx="547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440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9900"/>
                </a:solidFill>
                <a:latin typeface="Verdana"/>
              </a:rPr>
              <a:t>ОВОЩИ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БАКЛАЖ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баклажан2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А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капуста"/>
          <p:cNvPicPr/>
          <p:nvPr/>
        </p:nvPicPr>
        <p:blipFill>
          <a:blip r:embed="rId1"/>
          <a:stretch/>
        </p:blipFill>
        <p:spPr>
          <a:xfrm>
            <a:off x="826920" y="1413000"/>
            <a:ext cx="792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МО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морковь"/>
          <p:cNvPicPr/>
          <p:nvPr/>
        </p:nvPicPr>
        <p:blipFill>
          <a:blip r:embed="rId1"/>
          <a:stretch/>
        </p:blipFill>
        <p:spPr>
          <a:xfrm>
            <a:off x="755640" y="1341360"/>
            <a:ext cx="784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f7f7f"/>
                </a:solidFill>
                <a:latin typeface="Arial"/>
              </a:rPr>
              <a:t>КАРТОФ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картофель3"/>
          <p:cNvPicPr/>
          <p:nvPr/>
        </p:nvPicPr>
        <p:blipFill>
          <a:blip r:embed="rId1"/>
          <a:stretch/>
        </p:blipFill>
        <p:spPr>
          <a:xfrm>
            <a:off x="324000" y="364500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картофель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лук репчатый"/>
          <p:cNvPicPr/>
          <p:nvPr/>
        </p:nvPicPr>
        <p:blipFill>
          <a:blip r:embed="rId1"/>
          <a:stretch/>
        </p:blipFill>
        <p:spPr>
          <a:xfrm>
            <a:off x="179280" y="1341360"/>
            <a:ext cx="4105440" cy="295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лук"/>
          <p:cNvPicPr/>
          <p:nvPr/>
        </p:nvPicPr>
        <p:blipFill>
          <a:blip r:embed="rId2"/>
          <a:stretch/>
        </p:blipFill>
        <p:spPr>
          <a:xfrm>
            <a:off x="4572000" y="3141720"/>
            <a:ext cx="4325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ГУР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огурцы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Е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перец"/>
          <p:cNvPicPr/>
          <p:nvPr/>
        </p:nvPicPr>
        <p:blipFill>
          <a:blip r:embed="rId1"/>
          <a:stretch/>
        </p:blipFill>
        <p:spPr>
          <a:xfrm>
            <a:off x="2627280" y="1600200"/>
            <a:ext cx="3960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ПОМИДО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помидоры2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999720"/>
            <a:ext cx="824400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Verdana"/>
              </a:rPr>
              <a:t>ФРУКТ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ТЫ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тыква3"/>
          <p:cNvPicPr/>
          <p:nvPr/>
        </p:nvPicPr>
        <p:blipFill>
          <a:blip r:embed="rId1"/>
          <a:stretch/>
        </p:blipFill>
        <p:spPr>
          <a:xfrm>
            <a:off x="1258920" y="1557360"/>
            <a:ext cx="691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4d73"/>
                </a:solidFill>
                <a:latin typeface="Verdana"/>
              </a:rPr>
              <a:t>ЯГОД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И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вишня"/>
          <p:cNvPicPr/>
          <p:nvPr/>
        </p:nvPicPr>
        <p:blipFill>
          <a:blip r:embed="rId1"/>
          <a:stretch/>
        </p:blipFill>
        <p:spPr>
          <a:xfrm>
            <a:off x="2268360" y="1341360"/>
            <a:ext cx="453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22268"/>
                </a:solidFill>
                <a:latin typeface="Arial"/>
              </a:rPr>
              <a:t>ЕЖЕВ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ежевика"/>
          <p:cNvPicPr/>
          <p:nvPr/>
        </p:nvPicPr>
        <p:blipFill>
          <a:blip r:embed="rId1"/>
          <a:stretch/>
        </p:blipFill>
        <p:spPr>
          <a:xfrm>
            <a:off x="2843280" y="1413000"/>
            <a:ext cx="374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ЕМЛЯ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земляника"/>
          <p:cNvPicPr/>
          <p:nvPr/>
        </p:nvPicPr>
        <p:blipFill>
          <a:blip r:embed="rId1"/>
          <a:stretch/>
        </p:blipFill>
        <p:spPr>
          <a:xfrm>
            <a:off x="1835280" y="1341360"/>
            <a:ext cx="5545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ЛУБ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клубника2"/>
          <p:cNvPicPr/>
          <p:nvPr/>
        </p:nvPicPr>
        <p:blipFill>
          <a:blip r:embed="rId1"/>
          <a:stretch/>
        </p:blipFill>
        <p:spPr>
          <a:xfrm>
            <a:off x="1332000" y="1484280"/>
            <a:ext cx="69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АЛ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малина"/>
          <p:cNvPicPr/>
          <p:nvPr/>
        </p:nvPicPr>
        <p:blipFill>
          <a:blip r:embed="rId1"/>
          <a:stretch/>
        </p:blipFill>
        <p:spPr>
          <a:xfrm>
            <a:off x="2340000" y="1413000"/>
            <a:ext cx="453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b6bcf"/>
                </a:solidFill>
                <a:latin typeface="Arial"/>
              </a:rPr>
              <a:t>ЧЕРН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черника"/>
          <p:cNvPicPr/>
          <p:nvPr/>
        </p:nvPicPr>
        <p:blipFill>
          <a:blip r:embed="rId1"/>
          <a:stretch/>
        </p:blipFill>
        <p:spPr>
          <a:xfrm>
            <a:off x="2700360" y="1413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9194d"/>
                </a:solidFill>
                <a:latin typeface="Arial"/>
              </a:rPr>
              <a:t>ЧЁРНАЯ СМОРОД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черная смородина"/>
          <p:cNvPicPr/>
          <p:nvPr/>
        </p:nvPicPr>
        <p:blipFill>
          <a:blip r:embed="rId1"/>
          <a:stretch/>
        </p:blipFill>
        <p:spPr>
          <a:xfrm>
            <a:off x="2484360" y="2421000"/>
            <a:ext cx="4032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ЧЕРЕШ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черешня"/>
          <p:cNvPicPr/>
          <p:nvPr/>
        </p:nvPicPr>
        <p:blipFill>
          <a:blip r:embed="rId1"/>
          <a:stretch/>
        </p:blipFill>
        <p:spPr>
          <a:xfrm>
            <a:off x="1116000" y="1484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00"/>
                </a:solidFill>
                <a:latin typeface="Arial"/>
              </a:rPr>
              <a:t>АБРИКОС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абрикосы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АНАНА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ананас"/>
          <p:cNvPicPr/>
          <p:nvPr/>
        </p:nvPicPr>
        <p:blipFill>
          <a:blip r:embed="rId1"/>
          <a:stretch/>
        </p:blipFill>
        <p:spPr>
          <a:xfrm>
            <a:off x="2700360" y="141300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АПЕЛЬС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апельсин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БАН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банан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ИНОГРА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виноград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РУШ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грушы"/>
          <p:cNvPicPr/>
          <p:nvPr/>
        </p:nvPicPr>
        <p:blipFill>
          <a:blip r:embed="rId1"/>
          <a:stretch/>
        </p:blipFill>
        <p:spPr>
          <a:xfrm>
            <a:off x="971640" y="1413000"/>
            <a:ext cx="763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"/>
              </a:rPr>
              <a:t>ЛИМО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лимон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19:27Z</dcterms:created>
  <dc:creator>Maxima</dc:creator>
  <dc:description/>
  <dc:language>en-US</dc:language>
  <cp:lastModifiedBy>Алексей</cp:lastModifiedBy>
  <dcterms:modified xsi:type="dcterms:W3CDTF">2022-10-19T18:34:11Z</dcterms:modified>
  <cp:revision>31</cp:revision>
  <dc:subject/>
  <dc:title>ЧТО РАСТЁТ В САДУ И В ОГОРОДЕ</dc:title>
</cp:coreProperties>
</file>