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A70-9748-4B1D-B1BB-9E7CFF6F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009-6EB5-4D3E-950A-32848A32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88B-D080-470D-8EE7-FB76CCC3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17E-1C02-4941-AD50-1DE849B2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F064-55F3-409B-BE00-224B0F1E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916A-0346-497B-8BE9-DD3540E0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3F6C-AA54-4967-A766-C7EC72B2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F168-81E3-4883-BDAB-14DE3C54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EE46-8981-44EB-979E-6589DA96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E7D1-2F41-4C65-9409-07075F9D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60F4-4CF3-420D-9E8C-FC00396D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77A-6144-4011-83D2-A106E107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2628-144A-4C55-893A-10963FAB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422F-1C76-456E-8701-DBFFE62E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D382-1CDD-4B56-B274-DBE0B704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385C-D49F-455C-AA07-C7F472D3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26B9-CDEA-4BD8-A158-2D851D43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A2D-3827-49FA-92BE-237F68BF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7AE-BC36-4950-AC1A-4EAF1982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664-2DAE-48F7-B429-09123806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C1D-9A1C-440A-A627-FA3993E5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44F-73C1-41AC-8A36-28FF4C82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BB1-8BB4-4AFC-B990-F54DF3C6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733-CAFB-4EFE-BDAC-1FE863F7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5448-E941-451C-B553-D41F4BB263A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2837-042A-4BBB-9BC1-3ECF8E67D4A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84360" y="836280"/>
            <a:ext cx="7775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Владимир и Маша: история любв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блемно-эвристический ур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84360" y="836280"/>
            <a:ext cx="7775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ить исследование (анализ) текс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ь взаимоотношения Маши и Владими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ься подтверждать ответы цитат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ь что такое романтическая любов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ывать в себе «чувства добрые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785880" y="0"/>
            <a:ext cx="83581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" descr="ccc22c2785ef.gif"/>
          <p:cNvPicPr/>
          <p:nvPr/>
        </p:nvPicPr>
        <p:blipFill>
          <a:blip r:embed="rId2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"/>
          <p:cNvPicPr/>
          <p:nvPr/>
        </p:nvPicPr>
        <p:blipFill>
          <a:blip r:embed="rId3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4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928800" y="214200"/>
            <a:ext cx="2857320" cy="38671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3786120" y="214200"/>
            <a:ext cx="335772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1b"/>
                </a:solidFill>
                <a:latin typeface="Century"/>
              </a:rPr>
              <a:t>Дубровский и Маш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3929040" y="1357200"/>
            <a:ext cx="4388040" cy="3800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юбовь - глубокое эмоциональное влечение, сильное сердечное чувство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4" descr=""/>
          <p:cNvPicPr/>
          <p:nvPr/>
        </p:nvPicPr>
        <p:blipFill>
          <a:blip r:embed="rId1"/>
          <a:stretch/>
        </p:blipFill>
        <p:spPr>
          <a:xfrm>
            <a:off x="785880" y="0"/>
            <a:ext cx="83581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ccc22c2785ef.gif"/>
          <p:cNvPicPr/>
          <p:nvPr/>
        </p:nvPicPr>
        <p:blipFill>
          <a:blip r:embed="rId2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4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5"/>
          <a:stretch/>
        </p:blipFill>
        <p:spPr>
          <a:xfrm>
            <a:off x="928800" y="214200"/>
            <a:ext cx="2857320" cy="3867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0"/>
          <p:cNvSpPr/>
          <p:nvPr/>
        </p:nvSpPr>
        <p:spPr>
          <a:xfrm>
            <a:off x="3786120" y="214200"/>
            <a:ext cx="335772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1b"/>
                </a:solidFill>
                <a:latin typeface="Century"/>
              </a:rPr>
              <a:t>Дубровский и Маш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3929040" y="1357200"/>
            <a:ext cx="3224160" cy="192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1b"/>
                </a:solidFill>
                <a:latin typeface="Century"/>
              </a:rPr>
              <a:t>Живя в доме Троекурова, Владимир Дубровский влюбляется в его дочь, Марию Троекурову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Прямоугольник 12"/>
          <p:cNvSpPr/>
          <p:nvPr/>
        </p:nvSpPr>
        <p:spPr>
          <a:xfrm>
            <a:off x="857160" y="4000680"/>
            <a:ext cx="428652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  <a:ea typeface="Arial"/>
              </a:rPr>
              <a:t>"...Думайте иногда о Дубровском. Знайте, что он рожден был для иного назначения, что душа его умела вас любить…"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579640" y="333000"/>
            <a:ext cx="331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асилий Пукирев "Неравный брак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862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25560" y="0"/>
            <a:ext cx="53384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4"/>
          <a:stretch/>
        </p:blipFill>
        <p:spPr>
          <a:xfrm>
            <a:off x="5052960" y="2494080"/>
            <a:ext cx="3865680" cy="4479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0"/>
          <p:cNvSpPr/>
          <p:nvPr/>
        </p:nvSpPr>
        <p:spPr>
          <a:xfrm>
            <a:off x="928800" y="1428840"/>
            <a:ext cx="764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  <a:ea typeface="Arial"/>
              </a:rPr>
              <a:t>Но Машу Троекурову выдают насильно замуж за богатого старика, князя Верейского.                                                                          А Дубровский оставляет свою разбойничью жизни                  и, судя по слухам, уезжает за границу: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1143000" y="357120"/>
            <a:ext cx="7500960" cy="914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Судьба Маши и Владимира Дубровског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000080" y="3297240"/>
            <a:ext cx="4214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"/>
                <a:ea typeface="Times New Roman"/>
              </a:rPr>
              <a:t>"Никто не знал, куда он девался. &lt;...&gt; ... грозные посещения, пожары и грабежи прекратились. &lt;...&gt; По другим известиям узнали, что Дубровский скрылся за границу."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8"/>
          <p:cNvSpPr/>
          <p:nvPr/>
        </p:nvSpPr>
        <p:spPr>
          <a:xfrm>
            <a:off x="1143000" y="28584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Почему Владимир отказался от мести?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1143000" y="135720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"/>
                <a:ea typeface="Arial"/>
              </a:rPr>
              <a:t>«Я понял, что дом, где обитаете вы, священен, что ни единое существо, связанное с вами узами крови, не подлежит моему проклятию. Я отказался от мщения, как от безумства»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143000" y="36529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Развивая сюжетную линию именно так, Пушкин приводит читателя к выводу о том, </a:t>
            </a:r>
            <a:r>
              <a:rPr b="1" lang="ru-RU" sz="2400" spc="-1" strike="noStrike">
                <a:solidFill>
                  <a:srgbClr val="c00000"/>
                </a:solidFill>
                <a:latin typeface="Century"/>
                <a:ea typeface="Calibri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Century"/>
                <a:ea typeface="Times New Roman"/>
              </a:rPr>
              <a:t>юбовь рождает в человеке самые лучшие чувства</a:t>
            </a:r>
            <a:r>
              <a:rPr b="0" lang="ru-RU" sz="2400" spc="-1" strike="noStrike">
                <a:solidFill>
                  <a:srgbClr val="c00000"/>
                </a:solidFill>
                <a:latin typeface="Century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Маша, его любимая, одним своим существованием заставила Владимира отказаться от мест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928800" y="35712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  <a:ea typeface="Arial"/>
              </a:rPr>
              <a:t>Дубровский - благородный разбойник 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Рисунок 9" descr=""/>
          <p:cNvPicPr/>
          <p:nvPr/>
        </p:nvPicPr>
        <p:blipFill>
          <a:blip r:embed="rId4"/>
          <a:stretch/>
        </p:blipFill>
        <p:spPr>
          <a:xfrm>
            <a:off x="1000080" y="4643280"/>
            <a:ext cx="7786800" cy="2003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1143000" y="994680"/>
            <a:ext cx="7500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entury"/>
                <a:ea typeface="Times New Roman"/>
              </a:rPr>
              <a:t>Главный герой Дубровский терпит поражение, потому что убийство солдат, офицера не укладывается в понятие чести и справедливости, которых он придерживался. Так Пушкин развенчивает миф “о благородном разбойнике”. Возможно, он хочет показать, что разбой может привести к убийству, что грех может породить еще больший грех.</a:t>
            </a:r>
            <a:br>
              <a:rPr sz="2000"/>
            </a:br>
            <a:r>
              <a:rPr b="1" lang="ru-RU" sz="2000" spc="-1" strike="noStrike">
                <a:solidFill>
                  <a:srgbClr val="4a452a"/>
                </a:solidFill>
                <a:latin typeface="Century"/>
                <a:ea typeface="Times New Roman"/>
              </a:rPr>
              <a:t>Пушкин показал благородного разбойника, но в то же время подталкивает к мысли, что понятия “благородный” и “разбойник” трудно совместимы, так как оправдать убийства – значит оправдать зло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143000" y="357120"/>
            <a:ext cx="7429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                      </a:t>
            </a: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тветьте письменно на вопрос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1)Кем, по вашему мнению, был Владимир Дубровский : разбойник или благородный человек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2)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Кто виноват в том, что судьбы Владимира и Маши сложились столь трагически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3:14:30Z</dcterms:created>
  <dc:creator>Kristina</dc:creator>
  <dc:description/>
  <dc:language>en-US</dc:language>
  <cp:lastModifiedBy>Admin</cp:lastModifiedBy>
  <dcterms:modified xsi:type="dcterms:W3CDTF">2022-11-17T14:38:29Z</dcterms:modified>
  <cp:revision>17</cp:revision>
  <dc:subject/>
  <dc:title>     </dc:title>
</cp:coreProperties>
</file>