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2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A86E-951C-400C-A6F7-2A772272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67A5-24D7-4C71-A5F9-8464A5DA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BFAC-2A14-467B-8874-EAF4CEB7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FE5-19CA-448B-A1F2-6CC92F96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DAB4-CC95-4177-B7AB-D0FE9789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A16E-ECD0-43C5-BADB-C96755FE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EEE4-8CB3-407D-8F23-EEFB9093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636B-9E30-4936-972F-EE653B9A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0BD5-17C9-4CA5-9188-0E4EE37F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49E3-0714-4DFE-8EAE-CB37FB16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CBF9-8BBF-4F67-815C-EBD56832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C269-3A74-41B3-B553-149F7F19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628F-7131-4B14-8995-1E54FF5C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B1BD-AF8A-4F00-B86E-C404F1FF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1F88-E584-4314-915A-93B301F8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9E5E-4941-48FF-A434-830433DD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CE36-0BC2-4454-B35D-317070FE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5FDA-3F8A-4537-B42D-C5F395BD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E917-304B-4A9A-9C82-1885E8E3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CE1-6E21-4911-B196-B8C01145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B6DC-3520-4F81-B806-A4ED49CC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FC2-F210-4EE2-9D6B-94097962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24D4-946C-4760-862C-F720B7B5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3230-E809-4B36-B1BF-20982146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8791-E196-43ED-ACDE-FA35057A0EF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1218-936C-41C1-BE70-1EF82583315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84360" y="836280"/>
            <a:ext cx="7775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Владимир и Маша: история любв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блемно-эвристический ур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1397160" y="254160"/>
            <a:ext cx="634968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1397160" y="254160"/>
            <a:ext cx="634968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84360" y="836280"/>
            <a:ext cx="7775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олжить исследование (анализ) текс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нять взаимоотношения Маши и Владими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ься подтверждать ответы цитата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нять что такое романтическая любов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ывать в себе «чувства добрые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4" descr=""/>
          <p:cNvPicPr/>
          <p:nvPr/>
        </p:nvPicPr>
        <p:blipFill>
          <a:blip r:embed="rId1"/>
          <a:stretch/>
        </p:blipFill>
        <p:spPr>
          <a:xfrm>
            <a:off x="785880" y="0"/>
            <a:ext cx="83581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" descr="ccc22c2785ef.gif"/>
          <p:cNvPicPr/>
          <p:nvPr/>
        </p:nvPicPr>
        <p:blipFill>
          <a:blip r:embed="rId2"/>
          <a:stretch/>
        </p:blipFill>
        <p:spPr>
          <a:xfrm>
            <a:off x="0" y="0"/>
            <a:ext cx="80496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"/>
          <p:cNvPicPr/>
          <p:nvPr/>
        </p:nvPicPr>
        <p:blipFill>
          <a:blip r:embed="rId3"/>
          <a:stretch/>
        </p:blipFill>
        <p:spPr>
          <a:xfrm>
            <a:off x="-3240" y="0"/>
            <a:ext cx="31428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"/>
          <p:cNvPicPr/>
          <p:nvPr/>
        </p:nvPicPr>
        <p:blipFill>
          <a:blip r:embed="rId4"/>
          <a:stretch/>
        </p:blipFill>
        <p:spPr>
          <a:xfrm>
            <a:off x="-285840" y="300024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5"/>
          <a:stretch/>
        </p:blipFill>
        <p:spPr>
          <a:xfrm>
            <a:off x="928800" y="214200"/>
            <a:ext cx="2857320" cy="38671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3786120" y="214200"/>
            <a:ext cx="3357720" cy="914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5f5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1a1b"/>
                </a:solidFill>
                <a:latin typeface="Century"/>
              </a:rPr>
              <a:t>Дубровский и Маш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3929040" y="1357200"/>
            <a:ext cx="4388040" cy="3800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5f5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Любовь - глубокое эмоциональное влечение, сильное сердечное чувство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4" descr=""/>
          <p:cNvPicPr/>
          <p:nvPr/>
        </p:nvPicPr>
        <p:blipFill>
          <a:blip r:embed="rId1"/>
          <a:stretch/>
        </p:blipFill>
        <p:spPr>
          <a:xfrm>
            <a:off x="785880" y="0"/>
            <a:ext cx="83581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" descr="ccc22c2785ef.gif"/>
          <p:cNvPicPr/>
          <p:nvPr/>
        </p:nvPicPr>
        <p:blipFill>
          <a:blip r:embed="rId2"/>
          <a:stretch/>
        </p:blipFill>
        <p:spPr>
          <a:xfrm>
            <a:off x="0" y="0"/>
            <a:ext cx="80496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" descr=""/>
          <p:cNvPicPr/>
          <p:nvPr/>
        </p:nvPicPr>
        <p:blipFill>
          <a:blip r:embed="rId3"/>
          <a:stretch/>
        </p:blipFill>
        <p:spPr>
          <a:xfrm>
            <a:off x="-3240" y="0"/>
            <a:ext cx="31428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"/>
          <p:cNvPicPr/>
          <p:nvPr/>
        </p:nvPicPr>
        <p:blipFill>
          <a:blip r:embed="rId4"/>
          <a:stretch/>
        </p:blipFill>
        <p:spPr>
          <a:xfrm>
            <a:off x="-285840" y="300024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5"/>
          <a:stretch/>
        </p:blipFill>
        <p:spPr>
          <a:xfrm>
            <a:off x="928800" y="214200"/>
            <a:ext cx="2857320" cy="38671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0"/>
          <p:cNvSpPr/>
          <p:nvPr/>
        </p:nvSpPr>
        <p:spPr>
          <a:xfrm>
            <a:off x="3786120" y="214200"/>
            <a:ext cx="3357720" cy="914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5f5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1a1b"/>
                </a:solidFill>
                <a:latin typeface="Century"/>
              </a:rPr>
              <a:t>Дубровский и Маш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Прямоугольник 11"/>
          <p:cNvSpPr/>
          <p:nvPr/>
        </p:nvSpPr>
        <p:spPr>
          <a:xfrm>
            <a:off x="3929040" y="1357200"/>
            <a:ext cx="3224160" cy="192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5f5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1a1b"/>
                </a:solidFill>
                <a:latin typeface="Century"/>
              </a:rPr>
              <a:t>Живя в доме Троекурова, Владимир Дубровский влюбляется в его дочь, Марию Троекурову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Прямоугольник 12"/>
          <p:cNvSpPr/>
          <p:nvPr/>
        </p:nvSpPr>
        <p:spPr>
          <a:xfrm>
            <a:off x="857160" y="4000680"/>
            <a:ext cx="428652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  <a:ea typeface="Arial"/>
              </a:rPr>
              <a:t>"...Думайте иногда о Дубровском. Знайте, что он рожден был для иного назначения, что душа его умела вас любить…"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1828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579640" y="333000"/>
            <a:ext cx="3313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асилий Пукирев "Неравный брак"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862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25560" y="0"/>
            <a:ext cx="533844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ccc22c2785ef.gif"/>
          <p:cNvPicPr/>
          <p:nvPr/>
        </p:nvPicPr>
        <p:blipFill>
          <a:blip r:embed="rId1"/>
          <a:stretch/>
        </p:blipFill>
        <p:spPr>
          <a:xfrm>
            <a:off x="0" y="0"/>
            <a:ext cx="80496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" descr=""/>
          <p:cNvPicPr/>
          <p:nvPr/>
        </p:nvPicPr>
        <p:blipFill>
          <a:blip r:embed="rId2"/>
          <a:stretch/>
        </p:blipFill>
        <p:spPr>
          <a:xfrm>
            <a:off x="-3240" y="0"/>
            <a:ext cx="31428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"/>
          <p:cNvPicPr/>
          <p:nvPr/>
        </p:nvPicPr>
        <p:blipFill>
          <a:blip r:embed="rId3"/>
          <a:stretch/>
        </p:blipFill>
        <p:spPr>
          <a:xfrm>
            <a:off x="-285840" y="300024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4"/>
          <a:stretch/>
        </p:blipFill>
        <p:spPr>
          <a:xfrm>
            <a:off x="5052960" y="2494080"/>
            <a:ext cx="3865680" cy="44798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0"/>
          <p:cNvSpPr/>
          <p:nvPr/>
        </p:nvSpPr>
        <p:spPr>
          <a:xfrm>
            <a:off x="928800" y="1428840"/>
            <a:ext cx="7643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"/>
                <a:ea typeface="Arial"/>
              </a:rPr>
              <a:t>Но Машу Троекурову выдают насильно замуж за богатого старика, князя Верейского.                                                                          А Дубровский оставляет свою разбойничью жизни                  и, судя по слухам, уезжает за границу: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Прямоугольник 11"/>
          <p:cNvSpPr/>
          <p:nvPr/>
        </p:nvSpPr>
        <p:spPr>
          <a:xfrm>
            <a:off x="1143000" y="357120"/>
            <a:ext cx="7500960" cy="914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5f5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1a1b"/>
                </a:solidFill>
                <a:latin typeface="Century"/>
              </a:rPr>
              <a:t>Судьба Маши и Владимира Дубровског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1000080" y="3297240"/>
            <a:ext cx="42148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entury"/>
                <a:ea typeface="Times New Roman"/>
              </a:rPr>
              <a:t>"Никто не знал, куда он девался. &lt;...&gt; ... грозные посещения, пожары и грабежи прекратились. &lt;...&gt; По другим известиям узнали, что Дубровский скрылся за границу."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ccc22c2785ef.gif"/>
          <p:cNvPicPr/>
          <p:nvPr/>
        </p:nvPicPr>
        <p:blipFill>
          <a:blip r:embed="rId1"/>
          <a:stretch/>
        </p:blipFill>
        <p:spPr>
          <a:xfrm>
            <a:off x="0" y="0"/>
            <a:ext cx="80496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" descr=""/>
          <p:cNvPicPr/>
          <p:nvPr/>
        </p:nvPicPr>
        <p:blipFill>
          <a:blip r:embed="rId2"/>
          <a:stretch/>
        </p:blipFill>
        <p:spPr>
          <a:xfrm>
            <a:off x="-3240" y="0"/>
            <a:ext cx="31428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"/>
          <p:cNvPicPr/>
          <p:nvPr/>
        </p:nvPicPr>
        <p:blipFill>
          <a:blip r:embed="rId3"/>
          <a:stretch/>
        </p:blipFill>
        <p:spPr>
          <a:xfrm>
            <a:off x="-285840" y="3000240"/>
            <a:ext cx="871560" cy="8715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8"/>
          <p:cNvSpPr/>
          <p:nvPr/>
        </p:nvSpPr>
        <p:spPr>
          <a:xfrm>
            <a:off x="1143000" y="28584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1a1b"/>
                </a:solidFill>
                <a:latin typeface="Century"/>
              </a:rPr>
              <a:t>Почему Владимир отказался от мести?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Прямоугольник 9"/>
          <p:cNvSpPr/>
          <p:nvPr/>
        </p:nvSpPr>
        <p:spPr>
          <a:xfrm>
            <a:off x="1143000" y="1357200"/>
            <a:ext cx="72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"/>
                <a:ea typeface="Arial"/>
              </a:rPr>
              <a:t>«Я понял, что дом, где обитаете вы, священен, что ни единое существо, связанное с вами узами крови, не подлежит моему проклятию. Я отказался от мщения, как от безумства»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1143000" y="365292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Развивая сюжетную линию именно так, Пушкин приводит читателя к выводу о том, </a:t>
            </a:r>
            <a:r>
              <a:rPr b="1" lang="ru-RU" sz="2400" spc="-1" strike="noStrike">
                <a:solidFill>
                  <a:srgbClr val="c00000"/>
                </a:solidFill>
                <a:latin typeface="Century"/>
                <a:ea typeface="Calibri"/>
              </a:rPr>
              <a:t>л</a:t>
            </a:r>
            <a:r>
              <a:rPr b="1" lang="ru-RU" sz="2400" spc="-1" strike="noStrike">
                <a:solidFill>
                  <a:srgbClr val="c00000"/>
                </a:solidFill>
                <a:latin typeface="Century"/>
                <a:ea typeface="Times New Roman"/>
              </a:rPr>
              <a:t>юбовь рождает в человеке самые лучшие чувства</a:t>
            </a:r>
            <a:r>
              <a:rPr b="0" lang="ru-RU" sz="2400" spc="-1" strike="noStrike">
                <a:solidFill>
                  <a:srgbClr val="c00000"/>
                </a:solidFill>
                <a:latin typeface="Century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Маша, его любимая, одним своим существованием заставила Владимира отказаться от мести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ccc22c2785ef.gif"/>
          <p:cNvPicPr/>
          <p:nvPr/>
        </p:nvPicPr>
        <p:blipFill>
          <a:blip r:embed="rId1"/>
          <a:stretch/>
        </p:blipFill>
        <p:spPr>
          <a:xfrm>
            <a:off x="0" y="0"/>
            <a:ext cx="80496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" descr=""/>
          <p:cNvPicPr/>
          <p:nvPr/>
        </p:nvPicPr>
        <p:blipFill>
          <a:blip r:embed="rId2"/>
          <a:stretch/>
        </p:blipFill>
        <p:spPr>
          <a:xfrm>
            <a:off x="-3240" y="0"/>
            <a:ext cx="31428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"/>
          <p:cNvPicPr/>
          <p:nvPr/>
        </p:nvPicPr>
        <p:blipFill>
          <a:blip r:embed="rId3"/>
          <a:stretch/>
        </p:blipFill>
        <p:spPr>
          <a:xfrm>
            <a:off x="-285840" y="3000240"/>
            <a:ext cx="871560" cy="871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928800" y="35712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"/>
                <a:ea typeface="Arial"/>
              </a:rPr>
              <a:t>Дубровский - благородный разбойник 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Рисунок 9" descr=""/>
          <p:cNvPicPr/>
          <p:nvPr/>
        </p:nvPicPr>
        <p:blipFill>
          <a:blip r:embed="rId4"/>
          <a:stretch/>
        </p:blipFill>
        <p:spPr>
          <a:xfrm>
            <a:off x="1000080" y="4643280"/>
            <a:ext cx="7786800" cy="2003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1143000" y="994680"/>
            <a:ext cx="7500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entury"/>
                <a:ea typeface="Times New Roman"/>
              </a:rPr>
              <a:t>Главный герой Дубровский терпит поражение, потому что убийство солдат, офицера не укладывается в понятие чести и справедливости, которых он придерживался. Так Пушкин развенчивает миф “о благородном разбойнике”. Возможно, он хочет показать, что разбой может привести к убийству, что грех может породить еще больший грех.</a:t>
            </a:r>
            <a:br>
              <a:rPr sz="2000"/>
            </a:br>
            <a:r>
              <a:rPr b="1" lang="ru-RU" sz="2000" spc="-1" strike="noStrike">
                <a:solidFill>
                  <a:srgbClr val="4a452a"/>
                </a:solidFill>
                <a:latin typeface="Century"/>
                <a:ea typeface="Times New Roman"/>
              </a:rPr>
              <a:t>Пушкин показал благородного разбойника, но в то же время подталкивает к мысли, что понятия “благородный” и “разбойник” трудно совместимы, так как оправдать убийства – значит оправдать зло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ccc22c2785ef.gif"/>
          <p:cNvPicPr/>
          <p:nvPr/>
        </p:nvPicPr>
        <p:blipFill>
          <a:blip r:embed="rId1"/>
          <a:stretch/>
        </p:blipFill>
        <p:spPr>
          <a:xfrm>
            <a:off x="0" y="0"/>
            <a:ext cx="80496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2" descr=""/>
          <p:cNvPicPr/>
          <p:nvPr/>
        </p:nvPicPr>
        <p:blipFill>
          <a:blip r:embed="rId2"/>
          <a:stretch/>
        </p:blipFill>
        <p:spPr>
          <a:xfrm>
            <a:off x="-3240" y="0"/>
            <a:ext cx="31428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3" descr=""/>
          <p:cNvPicPr/>
          <p:nvPr/>
        </p:nvPicPr>
        <p:blipFill>
          <a:blip r:embed="rId3"/>
          <a:stretch/>
        </p:blipFill>
        <p:spPr>
          <a:xfrm>
            <a:off x="-285840" y="3000240"/>
            <a:ext cx="871560" cy="8715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1143000" y="357120"/>
            <a:ext cx="7429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1a1b"/>
                </a:solidFill>
                <a:latin typeface="Century"/>
              </a:rPr>
              <a:t>                      </a:t>
            </a:r>
            <a:r>
              <a:rPr b="1" lang="ru-RU" sz="2800" spc="-1" strike="noStrike">
                <a:solidFill>
                  <a:srgbClr val="1a1a1b"/>
                </a:solidFill>
                <a:latin typeface="Century"/>
              </a:rPr>
              <a:t>Домашнее задани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Ответьте письменно на вопрос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1)Кем, по вашему мнению, был Владимир Дубровский : разбойник или благородный человек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2)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Кто виноват в том, что судьбы Владимира и Маши сложились столь трагически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03:14:30Z</dcterms:created>
  <dc:creator>Kristina</dc:creator>
  <dc:description/>
  <dc:language>en-US</dc:language>
  <cp:lastModifiedBy>Admin</cp:lastModifiedBy>
  <dcterms:modified xsi:type="dcterms:W3CDTF">2022-11-17T14:38:29Z</dcterms:modified>
  <cp:revision>17</cp:revision>
  <dc:subject/>
  <dc:title>     </dc:title>
</cp:coreProperties>
</file>