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AB9-1D89-4677-AE4C-03453E14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727-BC8A-4858-9CBD-55DEA718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AF1-DD9D-4F13-A64F-24909C34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851-61FA-462C-AA4F-62856EDF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1D7-62CE-4B46-A66E-8D46B2C1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70A-4398-4BF9-AF67-C01FF18B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F3B-3BED-4EEB-A41A-FC55C058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8AB-6FBB-438B-82B0-C97F2486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8BE-C9AB-44EB-A85E-A2FDCF3D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FA9-FCDD-4B9F-9143-D18A5A8A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486-623D-40CD-9FAC-183F1542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327-E725-4DFB-A9BB-B6AB0D1D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9146-C9C3-48FF-90EA-B82434CF9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6.jpeg"/><Relationship Id="rId6" Type="http://schemas.openxmlformats.org/officeDocument/2006/relationships/image" Target="../media/image13.jpeg"/><Relationship Id="rId7" Type="http://schemas.openxmlformats.org/officeDocument/2006/relationships/image" Target="../media/image17.jpe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28880" y="3214440"/>
            <a:ext cx="56433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и обучении грамоте и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6" descr=""/>
          <p:cNvPicPr/>
          <p:nvPr/>
        </p:nvPicPr>
        <p:blipFill>
          <a:blip r:embed="rId1"/>
          <a:stretch/>
        </p:blipFill>
        <p:spPr>
          <a:xfrm>
            <a:off x="1195560" y="353880"/>
            <a:ext cx="6911640" cy="3462480"/>
          </a:xfrm>
          <a:prstGeom prst="rect">
            <a:avLst/>
          </a:prstGeom>
          <a:ln w="0">
            <a:noFill/>
          </a:ln>
        </p:spPr>
      </p:pic>
      <p:pic>
        <p:nvPicPr>
          <p:cNvPr id="43" name="Text Box 10" descr=""/>
          <p:cNvPicPr/>
          <p:nvPr/>
        </p:nvPicPr>
        <p:blipFill>
          <a:blip r:embed="rId2"/>
          <a:stretch/>
        </p:blipFill>
        <p:spPr>
          <a:xfrm>
            <a:off x="1133640" y="4475160"/>
            <a:ext cx="708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6" descr="fonf6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WordArt 9"/>
          <p:cNvSpPr txBox="1"/>
          <p:nvPr/>
        </p:nvSpPr>
        <p:spPr>
          <a:xfrm>
            <a:off x="1332000" y="115920"/>
            <a:ext cx="6192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да причалят лодки</a:t>
            </a:r>
            <a:endParaRPr b="0" i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AutoShape 10"/>
          <p:cNvSpPr/>
          <p:nvPr/>
        </p:nvSpPr>
        <p:spPr>
          <a:xfrm rot="546000">
            <a:off x="468360" y="2781360"/>
            <a:ext cx="2522520" cy="503280"/>
          </a:xfrm>
          <a:custGeom>
            <a:avLst/>
            <a:gdLst>
              <a:gd name="textAreaLeft" fmla="*/ 525600 w 2522520"/>
              <a:gd name="textAreaRight" fmla="*/ 1997280 w 252252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rot="16743000">
            <a:off x="757080" y="1191960"/>
            <a:ext cx="1295280" cy="1590840"/>
          </a:xfrm>
          <a:prstGeom prst="rtTriangle">
            <a:avLst/>
          </a:prstGeom>
          <a:blipFill rotWithShape="0">
            <a:blip r:embed="rId2">
              <a:alphaModFix amt="62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10800000">
            <a:off x="2268360" y="1412640"/>
            <a:ext cx="935280" cy="1447560"/>
          </a:xfrm>
          <a:custGeom>
            <a:avLst/>
            <a:gdLst>
              <a:gd name="textAreaLeft" fmla="*/ 245160 w 935280"/>
              <a:gd name="textAreaRight" fmla="*/ 649800 w 935280"/>
              <a:gd name="textAreaTop" fmla="*/ 235080 h 1447560"/>
              <a:gd name="textAreaBottom" fmla="*/ 121248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302" y="2692"/>
                  <a:pt x="15004" y="5080"/>
                  <a:pt x="15004" y="10800"/>
                </a:cubicBezTo>
                <a:cubicBezTo>
                  <a:pt x="15004" y="16520"/>
                  <a:pt x="18302" y="1890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rot="21252000">
            <a:off x="5508360" y="3141720"/>
            <a:ext cx="2522520" cy="503280"/>
          </a:xfrm>
          <a:custGeom>
            <a:avLst/>
            <a:gdLst>
              <a:gd name="textAreaLeft" fmla="*/ 525600 w 2522520"/>
              <a:gd name="textAreaRight" fmla="*/ 1997280 w 252252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 rot="21214200">
            <a:off x="6656040" y="1395000"/>
            <a:ext cx="1585800" cy="1590840"/>
          </a:xfrm>
          <a:prstGeom prst="rtTriangl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5580000" y="1484280"/>
            <a:ext cx="1008000" cy="1584360"/>
          </a:xfrm>
          <a:custGeom>
            <a:avLst/>
            <a:gdLst>
              <a:gd name="textAreaLeft" fmla="*/ 264240 w 1008000"/>
              <a:gd name="textAreaRight" fmla="*/ 700200 w 1008000"/>
              <a:gd name="textAreaTop" fmla="*/ 257400 h 1584360"/>
              <a:gd name="textAreaBottom" fmla="*/ 13269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302" y="2692"/>
                  <a:pt x="15004" y="5080"/>
                  <a:pt x="15004" y="10800"/>
                </a:cubicBezTo>
                <a:cubicBezTo>
                  <a:pt x="15004" y="16520"/>
                  <a:pt x="18302" y="1890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1763640" y="11970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37080 h 287280"/>
              <a:gd name="textAreaBottom" fmla="*/ 25020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8"/>
          <p:cNvSpPr/>
          <p:nvPr/>
        </p:nvSpPr>
        <p:spPr>
          <a:xfrm>
            <a:off x="6588000" y="1268280"/>
            <a:ext cx="505080" cy="287640"/>
          </a:xfrm>
          <a:custGeom>
            <a:avLst/>
            <a:gdLst>
              <a:gd name="textAreaLeft" fmla="*/ 0 w 505080"/>
              <a:gd name="textAreaRight" fmla="*/ 505440 w 505080"/>
              <a:gd name="textAreaTop" fmla="*/ 37080 h 287640"/>
              <a:gd name="textAreaBottom" fmla="*/ 25056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422520" y="1484280"/>
            <a:ext cx="18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3566880" y="2060640"/>
            <a:ext cx="175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3710520" y="2565360"/>
            <a:ext cx="15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ю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3350520" y="2997360"/>
            <a:ext cx="197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но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3637440" y="3500280"/>
            <a:ext cx="16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е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3350160" y="4365720"/>
            <a:ext cx="19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у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637080" y="4869000"/>
            <a:ext cx="16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у…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9"/>
          <p:cNvSpPr/>
          <p:nvPr/>
        </p:nvSpPr>
        <p:spPr>
          <a:xfrm>
            <a:off x="3422520" y="3933720"/>
            <a:ext cx="188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а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637800" y="5300640"/>
            <a:ext cx="17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у…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3711240" y="580536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а…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8"/>
          <p:cNvSpPr/>
          <p:nvPr/>
        </p:nvSpPr>
        <p:spPr>
          <a:xfrm>
            <a:off x="1258920" y="3284640"/>
            <a:ext cx="2521080" cy="22096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588" h="1392">
                <a:moveTo>
                  <a:pt x="227" y="0"/>
                </a:moveTo>
                <a:cubicBezTo>
                  <a:pt x="113" y="484"/>
                  <a:pt x="0" y="968"/>
                  <a:pt x="227" y="1180"/>
                </a:cubicBezTo>
                <a:cubicBezTo>
                  <a:pt x="454" y="1392"/>
                  <a:pt x="1021" y="1331"/>
                  <a:pt x="1588" y="127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9"/>
          <p:cNvSpPr/>
          <p:nvPr/>
        </p:nvSpPr>
        <p:spPr>
          <a:xfrm>
            <a:off x="5364000" y="3645000"/>
            <a:ext cx="1860840" cy="3095640"/>
          </a:xfrm>
          <a:custGeom>
            <a:avLst/>
            <a:gdLst>
              <a:gd name="textAreaLeft" fmla="*/ 0 w 1860840"/>
              <a:gd name="textAreaRight" fmla="*/ 1861200 w 186084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1172" h="1950">
                <a:moveTo>
                  <a:pt x="1043" y="0"/>
                </a:moveTo>
                <a:cubicBezTo>
                  <a:pt x="1107" y="703"/>
                  <a:pt x="1172" y="1406"/>
                  <a:pt x="998" y="1678"/>
                </a:cubicBezTo>
                <a:cubicBezTo>
                  <a:pt x="824" y="1950"/>
                  <a:pt x="166" y="1640"/>
                  <a:pt x="0" y="163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7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48"/>
          <p:cNvSpPr txBox="1"/>
          <p:nvPr/>
        </p:nvSpPr>
        <p:spPr>
          <a:xfrm rot="5400000">
            <a:off x="4282920" y="162864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2" name="WordArt 49"/>
          <p:cNvSpPr txBox="1"/>
          <p:nvPr/>
        </p:nvSpPr>
        <p:spPr>
          <a:xfrm rot="5400000">
            <a:off x="4317480" y="231588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WordArt 50"/>
          <p:cNvSpPr txBox="1"/>
          <p:nvPr/>
        </p:nvSpPr>
        <p:spPr>
          <a:xfrm rot="5400000">
            <a:off x="4248360" y="4617000"/>
            <a:ext cx="432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WordArt 51"/>
          <p:cNvSpPr txBox="1"/>
          <p:nvPr/>
        </p:nvSpPr>
        <p:spPr>
          <a:xfrm rot="5400000">
            <a:off x="4175640" y="274572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5" name="WordArt 52"/>
          <p:cNvSpPr txBox="1"/>
          <p:nvPr/>
        </p:nvSpPr>
        <p:spPr>
          <a:xfrm rot="5400000">
            <a:off x="4320720" y="5121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6" name="WordArt 53"/>
          <p:cNvSpPr txBox="1"/>
          <p:nvPr/>
        </p:nvSpPr>
        <p:spPr>
          <a:xfrm rot="5400000">
            <a:off x="4284360" y="551664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7" name="WordArt 54"/>
          <p:cNvSpPr txBox="1"/>
          <p:nvPr/>
        </p:nvSpPr>
        <p:spPr>
          <a:xfrm rot="5400000">
            <a:off x="4317480" y="317952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8" name="WordArt 55"/>
          <p:cNvSpPr txBox="1"/>
          <p:nvPr/>
        </p:nvSpPr>
        <p:spPr>
          <a:xfrm rot="5400000">
            <a:off x="4317480" y="368280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9" name="WordArt 56"/>
          <p:cNvSpPr txBox="1"/>
          <p:nvPr/>
        </p:nvSpPr>
        <p:spPr>
          <a:xfrm rot="5400000">
            <a:off x="4317480" y="418752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0" name="WordArt 57"/>
          <p:cNvSpPr txBox="1"/>
          <p:nvPr/>
        </p:nvSpPr>
        <p:spPr>
          <a:xfrm rot="5400000">
            <a:off x="4460400" y="598788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2"/>
          <p:cNvSpPr/>
          <p:nvPr/>
        </p:nvSpPr>
        <p:spPr>
          <a:xfrm>
            <a:off x="2917800" y="378936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23"/>
          <p:cNvSpPr txBox="1"/>
          <p:nvPr/>
        </p:nvSpPr>
        <p:spPr>
          <a:xfrm>
            <a:off x="2700360" y="0"/>
            <a:ext cx="309564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919"/>
                    </a:gs>
                    <a:gs pos="50000">
                      <a:srgbClr val="ff3300"/>
                    </a:gs>
                    <a:gs pos="100000">
                      <a:srgbClr val="ffe91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919"/>
                  </a:gs>
                  <a:gs pos="50000">
                    <a:srgbClr val="ff3300"/>
                  </a:gs>
                  <a:gs pos="100000">
                    <a:srgbClr val="ffe91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AutoShape 27"/>
          <p:cNvSpPr/>
          <p:nvPr/>
        </p:nvSpPr>
        <p:spPr>
          <a:xfrm rot="362400">
            <a:off x="34560" y="404640"/>
            <a:ext cx="3492360" cy="3157560"/>
          </a:xfrm>
          <a:prstGeom prst="irregularSeal2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900000" y="1413000"/>
            <a:ext cx="149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3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67800" y="25369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триж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3"/>
          <p:cNvSpPr/>
          <p:nvPr/>
        </p:nvSpPr>
        <p:spPr>
          <a:xfrm>
            <a:off x="2987640" y="549360"/>
            <a:ext cx="3168720" cy="424800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6"/>
          <p:cNvSpPr/>
          <p:nvPr/>
        </p:nvSpPr>
        <p:spPr>
          <a:xfrm>
            <a:off x="5940360" y="1989000"/>
            <a:ext cx="3203640" cy="381636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7"/>
          <p:cNvSpPr/>
          <p:nvPr/>
        </p:nvSpPr>
        <p:spPr>
          <a:xfrm>
            <a:off x="6264360" y="0"/>
            <a:ext cx="2879640" cy="292428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8"/>
          <p:cNvSpPr/>
          <p:nvPr/>
        </p:nvSpPr>
        <p:spPr>
          <a:xfrm>
            <a:off x="3564000" y="3933720"/>
            <a:ext cx="3313080" cy="292428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9"/>
          <p:cNvSpPr/>
          <p:nvPr/>
        </p:nvSpPr>
        <p:spPr>
          <a:xfrm>
            <a:off x="0" y="3068640"/>
            <a:ext cx="3203640" cy="324000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43"/>
          <p:cNvSpPr txBox="1"/>
          <p:nvPr/>
        </p:nvSpPr>
        <p:spPr>
          <a:xfrm rot="5400000">
            <a:off x="7452360" y="90864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92" name="WordArt 45"/>
          <p:cNvSpPr txBox="1"/>
          <p:nvPr/>
        </p:nvSpPr>
        <p:spPr>
          <a:xfrm rot="5400000">
            <a:off x="6959880" y="967320"/>
            <a:ext cx="868320" cy="749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93" name="Text Box 46"/>
          <p:cNvSpPr/>
          <p:nvPr/>
        </p:nvSpPr>
        <p:spPr>
          <a:xfrm>
            <a:off x="7309080" y="177336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аяц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50"/>
          <p:cNvSpPr txBox="1"/>
          <p:nvPr/>
        </p:nvSpPr>
        <p:spPr>
          <a:xfrm rot="5400000">
            <a:off x="1382040" y="402588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5" name="WordArt 52"/>
          <p:cNvSpPr txBox="1"/>
          <p:nvPr/>
        </p:nvSpPr>
        <p:spPr>
          <a:xfrm rot="5400000">
            <a:off x="1449000" y="4535280"/>
            <a:ext cx="288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6" name="Line 53"/>
          <p:cNvSpPr/>
          <p:nvPr/>
        </p:nvSpPr>
        <p:spPr>
          <a:xfrm>
            <a:off x="1042920" y="4581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4"/>
          <p:cNvSpPr/>
          <p:nvPr/>
        </p:nvSpPr>
        <p:spPr>
          <a:xfrm>
            <a:off x="1115640" y="49417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ау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5"/>
          <p:cNvSpPr/>
          <p:nvPr/>
        </p:nvSpPr>
        <p:spPr>
          <a:xfrm>
            <a:off x="3995640" y="1773360"/>
            <a:ext cx="914400" cy="1368360"/>
          </a:xfrm>
          <a:prstGeom prst="ellipse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7"/>
          <p:cNvSpPr/>
          <p:nvPr/>
        </p:nvSpPr>
        <p:spPr>
          <a:xfrm>
            <a:off x="4068000" y="32130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ол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4358160" y="4724280"/>
            <a:ext cx="15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0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1"/>
          <p:cNvSpPr/>
          <p:nvPr/>
        </p:nvSpPr>
        <p:spPr>
          <a:xfrm>
            <a:off x="4550760" y="55879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оро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2"/>
          <p:cNvSpPr/>
          <p:nvPr/>
        </p:nvSpPr>
        <p:spPr>
          <a:xfrm>
            <a:off x="6374880" y="3213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3"/>
          <p:cNvSpPr/>
          <p:nvPr/>
        </p:nvSpPr>
        <p:spPr>
          <a:xfrm>
            <a:off x="7308720" y="3284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9d3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4"/>
          <p:cNvSpPr/>
          <p:nvPr/>
        </p:nvSpPr>
        <p:spPr>
          <a:xfrm>
            <a:off x="7956720" y="3141720"/>
            <a:ext cx="502920" cy="503280"/>
          </a:xfrm>
          <a:prstGeom prst="smileyFace">
            <a:avLst>
              <a:gd name="adj" fmla="val 9282"/>
            </a:avLst>
          </a:prstGeom>
          <a:solidFill>
            <a:srgbClr val="f9d3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5"/>
          <p:cNvSpPr/>
          <p:nvPr/>
        </p:nvSpPr>
        <p:spPr>
          <a:xfrm>
            <a:off x="7740720" y="3573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9d3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6855840" y="414828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толиц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68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99ff33"/>
              </a:gs>
              <a:gs pos="50000">
                <a:srgbClr val="0fc6f1"/>
              </a:gs>
              <a:gs pos="100000">
                <a:srgbClr val="99ff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5"/>
          <p:cNvSpPr txBox="1"/>
          <p:nvPr/>
        </p:nvSpPr>
        <p:spPr>
          <a:xfrm>
            <a:off x="826920" y="189000"/>
            <a:ext cx="39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547640" y="126828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843280" y="1268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2195640" y="1268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492360" y="126828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4140360" y="1268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1547640" y="184464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2195640" y="1844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1547640" y="242100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2843280" y="1844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900000" y="1844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2195640" y="242100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3492360" y="242100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1"/>
          <p:cNvSpPr/>
          <p:nvPr/>
        </p:nvSpPr>
        <p:spPr>
          <a:xfrm>
            <a:off x="2843280" y="242100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2"/>
          <p:cNvSpPr/>
          <p:nvPr/>
        </p:nvSpPr>
        <p:spPr>
          <a:xfrm>
            <a:off x="90000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1547640" y="2997360"/>
            <a:ext cx="648000" cy="57600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219564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3492360" y="2997360"/>
            <a:ext cx="64800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284328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414036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1547640" y="357336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2843280" y="357336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1"/>
          <p:cNvSpPr/>
          <p:nvPr/>
        </p:nvSpPr>
        <p:spPr>
          <a:xfrm>
            <a:off x="2195640" y="357336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2"/>
          <p:cNvSpPr/>
          <p:nvPr/>
        </p:nvSpPr>
        <p:spPr>
          <a:xfrm>
            <a:off x="2195640" y="414972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4"/>
          <p:cNvSpPr/>
          <p:nvPr/>
        </p:nvSpPr>
        <p:spPr>
          <a:xfrm>
            <a:off x="3492360" y="357336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5"/>
          <p:cNvSpPr/>
          <p:nvPr/>
        </p:nvSpPr>
        <p:spPr>
          <a:xfrm>
            <a:off x="1547640" y="414972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6"/>
          <p:cNvSpPr/>
          <p:nvPr/>
        </p:nvSpPr>
        <p:spPr>
          <a:xfrm>
            <a:off x="2843280" y="414972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7"/>
          <p:cNvSpPr/>
          <p:nvPr/>
        </p:nvSpPr>
        <p:spPr>
          <a:xfrm>
            <a:off x="3492360" y="414972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8"/>
          <p:cNvSpPr/>
          <p:nvPr/>
        </p:nvSpPr>
        <p:spPr>
          <a:xfrm>
            <a:off x="1547640" y="472428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9"/>
          <p:cNvSpPr/>
          <p:nvPr/>
        </p:nvSpPr>
        <p:spPr>
          <a:xfrm>
            <a:off x="2195640" y="4724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0"/>
          <p:cNvSpPr/>
          <p:nvPr/>
        </p:nvSpPr>
        <p:spPr>
          <a:xfrm>
            <a:off x="2843280" y="4724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1"/>
          <p:cNvSpPr/>
          <p:nvPr/>
        </p:nvSpPr>
        <p:spPr>
          <a:xfrm>
            <a:off x="3492360" y="472428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4140360" y="414972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3"/>
          <p:cNvSpPr/>
          <p:nvPr/>
        </p:nvSpPr>
        <p:spPr>
          <a:xfrm>
            <a:off x="1547640" y="530064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4"/>
          <p:cNvSpPr/>
          <p:nvPr/>
        </p:nvSpPr>
        <p:spPr>
          <a:xfrm>
            <a:off x="900000" y="5300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5"/>
          <p:cNvSpPr/>
          <p:nvPr/>
        </p:nvSpPr>
        <p:spPr>
          <a:xfrm>
            <a:off x="2195640" y="5300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6"/>
          <p:cNvSpPr/>
          <p:nvPr/>
        </p:nvSpPr>
        <p:spPr>
          <a:xfrm>
            <a:off x="2843280" y="5300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1"/>
          <p:cNvSpPr/>
          <p:nvPr/>
        </p:nvSpPr>
        <p:spPr>
          <a:xfrm>
            <a:off x="3492360" y="530064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3"/>
          <p:cNvSpPr/>
          <p:nvPr/>
        </p:nvSpPr>
        <p:spPr>
          <a:xfrm>
            <a:off x="4788000" y="193680"/>
            <a:ext cx="410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акого африканского животного длинная ш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зверь в сказках самый хи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ночью во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ий пугливый 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крупная кошка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рёк похожий на хор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, да не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ноух, да не зая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пытами, да не лош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Кто в дупле орешки прячет, сушит на зиму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8"/>
          <p:cNvSpPr/>
          <p:nvPr/>
        </p:nvSpPr>
        <p:spPr>
          <a:xfrm>
            <a:off x="25092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7"/>
          <p:cNvSpPr/>
          <p:nvPr/>
        </p:nvSpPr>
        <p:spPr>
          <a:xfrm>
            <a:off x="118944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8"/>
          <p:cNvSpPr/>
          <p:nvPr/>
        </p:nvSpPr>
        <p:spPr>
          <a:xfrm>
            <a:off x="665640" y="19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124164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0"/>
          <p:cNvSpPr/>
          <p:nvPr/>
        </p:nvSpPr>
        <p:spPr>
          <a:xfrm>
            <a:off x="66564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1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2"/>
          <p:cNvSpPr/>
          <p:nvPr/>
        </p:nvSpPr>
        <p:spPr>
          <a:xfrm>
            <a:off x="126072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3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4"/>
          <p:cNvSpPr/>
          <p:nvPr/>
        </p:nvSpPr>
        <p:spPr>
          <a:xfrm>
            <a:off x="541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"/>
          <p:cNvSpPr/>
          <p:nvPr/>
        </p:nvSpPr>
        <p:spPr>
          <a:xfrm>
            <a:off x="820440" y="1052640"/>
            <a:ext cx="59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ить текст по картинкам и запис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img192"/>
          <p:cNvPicPr/>
          <p:nvPr/>
        </p:nvPicPr>
        <p:blipFill>
          <a:blip r:embed="rId1"/>
          <a:stretch/>
        </p:blipFill>
        <p:spPr>
          <a:xfrm>
            <a:off x="971640" y="4149720"/>
            <a:ext cx="1152360" cy="792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img082"/>
          <p:cNvPicPr/>
          <p:nvPr/>
        </p:nvPicPr>
        <p:blipFill>
          <a:blip r:embed="rId2"/>
          <a:stretch/>
        </p:blipFill>
        <p:spPr>
          <a:xfrm>
            <a:off x="2916360" y="5229360"/>
            <a:ext cx="1008000" cy="1008000"/>
          </a:xfrm>
          <a:prstGeom prst="rect">
            <a:avLst/>
          </a:prstGeom>
          <a:ln w="9360">
            <a:solidFill>
              <a:srgbClr val="0fc6f1"/>
            </a:solidFill>
            <a:miter/>
          </a:ln>
        </p:spPr>
      </p:pic>
      <p:pic>
        <p:nvPicPr>
          <p:cNvPr id="359" name="Picture 19" descr=""/>
          <p:cNvPicPr/>
          <p:nvPr/>
        </p:nvPicPr>
        <p:blipFill>
          <a:blip r:embed="rId3"/>
          <a:stretch/>
        </p:blipFill>
        <p:spPr>
          <a:xfrm>
            <a:off x="108000" y="227664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360" name="Tree"/>
          <p:cNvSpPr/>
          <p:nvPr/>
        </p:nvSpPr>
        <p:spPr>
          <a:xfrm>
            <a:off x="1547640" y="1413000"/>
            <a:ext cx="648000" cy="1081080"/>
          </a:xfrm>
          <a:custGeom>
            <a:avLst/>
            <a:gdLst>
              <a:gd name="textAreaLeft" fmla="*/ 22680 w 648000"/>
              <a:gd name="textAreaRight" fmla="*/ 632160 w 648000"/>
              <a:gd name="textAreaTop" fmla="*/ 1123920 h 1081080"/>
              <a:gd name="textAreaBottom" fmla="*/ 14158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ree"/>
          <p:cNvSpPr/>
          <p:nvPr/>
        </p:nvSpPr>
        <p:spPr>
          <a:xfrm>
            <a:off x="1258920" y="1484280"/>
            <a:ext cx="647640" cy="1081080"/>
          </a:xfrm>
          <a:custGeom>
            <a:avLst/>
            <a:gdLst>
              <a:gd name="textAreaLeft" fmla="*/ 22680 w 647640"/>
              <a:gd name="textAreaRight" fmla="*/ 631800 w 647640"/>
              <a:gd name="textAreaTop" fmla="*/ 1123920 h 1081080"/>
              <a:gd name="textAreaBottom" fmla="*/ 14158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0" y="0"/>
            <a:ext cx="91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5"/>
          <p:cNvSpPr/>
          <p:nvPr/>
        </p:nvSpPr>
        <p:spPr>
          <a:xfrm>
            <a:off x="5435640" y="2421000"/>
            <a:ext cx="825480" cy="901800"/>
          </a:xfrm>
          <a:custGeom>
            <a:avLst/>
            <a:gdLst>
              <a:gd name="textAreaLeft" fmla="*/ 0 w 825480"/>
              <a:gd name="textAreaRight" fmla="*/ 825840 w 825480"/>
              <a:gd name="textAreaTop" fmla="*/ 0 h 901800"/>
              <a:gd name="textAreaBottom" fmla="*/ 901800 h 901800"/>
            </a:gdLst>
            <a:ahLst/>
            <a:rect l="textAreaLeft" t="textAreaTop" r="textAreaRight" b="textAreaBottom"/>
            <a:pathLst>
              <a:path w="520" h="568">
                <a:moveTo>
                  <a:pt x="0" y="488"/>
                </a:moveTo>
                <a:cubicBezTo>
                  <a:pt x="13" y="449"/>
                  <a:pt x="6" y="386"/>
                  <a:pt x="32" y="352"/>
                </a:cubicBezTo>
                <a:cubicBezTo>
                  <a:pt x="46" y="334"/>
                  <a:pt x="80" y="304"/>
                  <a:pt x="80" y="304"/>
                </a:cubicBezTo>
                <a:cubicBezTo>
                  <a:pt x="87" y="282"/>
                  <a:pt x="98" y="230"/>
                  <a:pt x="112" y="208"/>
                </a:cubicBezTo>
                <a:cubicBezTo>
                  <a:pt x="117" y="200"/>
                  <a:pt x="124" y="193"/>
                  <a:pt x="128" y="184"/>
                </a:cubicBezTo>
                <a:cubicBezTo>
                  <a:pt x="156" y="121"/>
                  <a:pt x="125" y="149"/>
                  <a:pt x="168" y="120"/>
                </a:cubicBezTo>
                <a:cubicBezTo>
                  <a:pt x="180" y="73"/>
                  <a:pt x="202" y="43"/>
                  <a:pt x="248" y="24"/>
                </a:cubicBezTo>
                <a:cubicBezTo>
                  <a:pt x="264" y="18"/>
                  <a:pt x="280" y="13"/>
                  <a:pt x="296" y="8"/>
                </a:cubicBezTo>
                <a:cubicBezTo>
                  <a:pt x="304" y="5"/>
                  <a:pt x="320" y="0"/>
                  <a:pt x="320" y="0"/>
                </a:cubicBezTo>
                <a:cubicBezTo>
                  <a:pt x="456" y="10"/>
                  <a:pt x="402" y="0"/>
                  <a:pt x="488" y="64"/>
                </a:cubicBezTo>
                <a:cubicBezTo>
                  <a:pt x="513" y="164"/>
                  <a:pt x="520" y="275"/>
                  <a:pt x="456" y="360"/>
                </a:cubicBezTo>
                <a:cubicBezTo>
                  <a:pt x="445" y="394"/>
                  <a:pt x="429" y="412"/>
                  <a:pt x="400" y="432"/>
                </a:cubicBezTo>
                <a:cubicBezTo>
                  <a:pt x="379" y="464"/>
                  <a:pt x="389" y="476"/>
                  <a:pt x="352" y="488"/>
                </a:cubicBezTo>
                <a:cubicBezTo>
                  <a:pt x="323" y="517"/>
                  <a:pt x="330" y="508"/>
                  <a:pt x="304" y="544"/>
                </a:cubicBezTo>
                <a:cubicBezTo>
                  <a:pt x="298" y="552"/>
                  <a:pt x="288" y="568"/>
                  <a:pt x="288" y="568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ccccc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3" descr="img082"/>
          <p:cNvPicPr/>
          <p:nvPr/>
        </p:nvPicPr>
        <p:blipFill>
          <a:blip r:embed="rId4"/>
          <a:stretch/>
        </p:blipFill>
        <p:spPr>
          <a:xfrm>
            <a:off x="2627280" y="234936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4" descr="img190"/>
          <p:cNvPicPr/>
          <p:nvPr/>
        </p:nvPicPr>
        <p:blipFill>
          <a:blip r:embed="rId5"/>
          <a:stretch/>
        </p:blipFill>
        <p:spPr>
          <a:xfrm>
            <a:off x="3635280" y="1413000"/>
            <a:ext cx="792360" cy="1224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5" descr="img192"/>
          <p:cNvPicPr/>
          <p:nvPr/>
        </p:nvPicPr>
        <p:blipFill>
          <a:blip r:embed="rId6"/>
          <a:stretch/>
        </p:blipFill>
        <p:spPr>
          <a:xfrm>
            <a:off x="4859280" y="1557360"/>
            <a:ext cx="1152720" cy="79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6" descr="img189"/>
          <p:cNvPicPr/>
          <p:nvPr/>
        </p:nvPicPr>
        <p:blipFill>
          <a:blip r:embed="rId7"/>
          <a:stretch/>
        </p:blipFill>
        <p:spPr>
          <a:xfrm rot="20997600">
            <a:off x="6877080" y="1483920"/>
            <a:ext cx="1079640" cy="803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7" descr=""/>
          <p:cNvPicPr/>
          <p:nvPr/>
        </p:nvPicPr>
        <p:blipFill>
          <a:blip r:embed="rId8"/>
          <a:stretch/>
        </p:blipFill>
        <p:spPr>
          <a:xfrm>
            <a:off x="5292720" y="4221000"/>
            <a:ext cx="863640" cy="1008360"/>
          </a:xfrm>
          <a:prstGeom prst="rect">
            <a:avLst/>
          </a:prstGeom>
          <a:ln w="0">
            <a:noFill/>
          </a:ln>
        </p:spPr>
      </p:pic>
      <p:sp>
        <p:nvSpPr>
          <p:cNvPr id="369" name="WordArt 38"/>
          <p:cNvSpPr txBox="1"/>
          <p:nvPr/>
        </p:nvSpPr>
        <p:spPr>
          <a:xfrm>
            <a:off x="2195640" y="0"/>
            <a:ext cx="46814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cc00cc"/>
                    </a:gs>
                    <a:gs pos="100000">
                      <a:srgbClr val="99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cc00cc"/>
                    </a:gs>
                    <a:gs pos="100000">
                      <a:srgbClr val="99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_______ ________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cc00cc"/>
                  </a:gs>
                  <a:gs pos="100000">
                    <a:srgbClr val="99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Text Box 39"/>
          <p:cNvSpPr/>
          <p:nvPr/>
        </p:nvSpPr>
        <p:spPr>
          <a:xfrm>
            <a:off x="0" y="1484280"/>
            <a:ext cx="89298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        паслись       ,                и             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шёл           , махнул           и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лились                    . Почему? Потому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          и               с                    бы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ушечные, а          настоящий!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0" descr="img190"/>
          <p:cNvPicPr/>
          <p:nvPr/>
        </p:nvPicPr>
        <p:blipFill>
          <a:blip r:embed="rId9"/>
          <a:stretch/>
        </p:blipFill>
        <p:spPr>
          <a:xfrm>
            <a:off x="34920" y="4005360"/>
            <a:ext cx="792000" cy="1224000"/>
          </a:xfrm>
          <a:prstGeom prst="rect">
            <a:avLst/>
          </a:prstGeom>
          <a:ln w="0">
            <a:noFill/>
          </a:ln>
        </p:spPr>
      </p:pic>
      <p:sp>
        <p:nvSpPr>
          <p:cNvPr id="372" name="Line 41"/>
          <p:cNvSpPr/>
          <p:nvPr/>
        </p:nvSpPr>
        <p:spPr>
          <a:xfrm flipH="1">
            <a:off x="5940360" y="2421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2"/>
          <p:cNvSpPr/>
          <p:nvPr/>
        </p:nvSpPr>
        <p:spPr>
          <a:xfrm flipH="1">
            <a:off x="5796000" y="2421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3"/>
          <p:cNvSpPr/>
          <p:nvPr/>
        </p:nvSpPr>
        <p:spPr>
          <a:xfrm flipH="1">
            <a:off x="6011640" y="2565360"/>
            <a:ext cx="215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4" descr="img189"/>
          <p:cNvPicPr/>
          <p:nvPr/>
        </p:nvPicPr>
        <p:blipFill>
          <a:blip r:embed="rId10"/>
          <a:stretch/>
        </p:blipFill>
        <p:spPr>
          <a:xfrm>
            <a:off x="2916360" y="4292640"/>
            <a:ext cx="1079280" cy="80316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45"/>
          <p:cNvSpPr/>
          <p:nvPr/>
        </p:nvSpPr>
        <p:spPr>
          <a:xfrm>
            <a:off x="2627280" y="3357720"/>
            <a:ext cx="179280" cy="91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2987640" y="3284640"/>
            <a:ext cx="179280" cy="91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47"/>
          <p:cNvSpPr/>
          <p:nvPr/>
        </p:nvSpPr>
        <p:spPr>
          <a:xfrm>
            <a:off x="3635280" y="3284640"/>
            <a:ext cx="179640" cy="914400"/>
          </a:xfrm>
          <a:custGeom>
            <a:avLst/>
            <a:gdLst>
              <a:gd name="textAreaLeft" fmla="*/ 0 w 179640"/>
              <a:gd name="textAreaRight" fmla="*/ 180000 w 17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48"/>
          <p:cNvSpPr/>
          <p:nvPr/>
        </p:nvSpPr>
        <p:spPr>
          <a:xfrm>
            <a:off x="3995640" y="3284640"/>
            <a:ext cx="179640" cy="914400"/>
          </a:xfrm>
          <a:custGeom>
            <a:avLst/>
            <a:gdLst>
              <a:gd name="textAreaLeft" fmla="*/ 0 w 179640"/>
              <a:gd name="textAreaRight" fmla="*/ 180000 w 17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2627280" y="386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0"/>
          <p:cNvSpPr/>
          <p:nvPr/>
        </p:nvSpPr>
        <p:spPr>
          <a:xfrm>
            <a:off x="2987640" y="38606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3635280" y="3715920"/>
            <a:ext cx="14472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2"/>
          <p:cNvSpPr/>
          <p:nvPr/>
        </p:nvSpPr>
        <p:spPr>
          <a:xfrm>
            <a:off x="3995640" y="378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3"/>
          <p:cNvSpPr/>
          <p:nvPr/>
        </p:nvSpPr>
        <p:spPr>
          <a:xfrm>
            <a:off x="395280" y="260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203640" y="260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WordArt 8"/>
          <p:cNvSpPr txBox="1"/>
          <p:nvPr/>
        </p:nvSpPr>
        <p:spPr>
          <a:xfrm>
            <a:off x="2195640" y="0"/>
            <a:ext cx="3889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99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28440">
                <a:solidFill>
                  <a:srgbClr val="0099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7" name="Text Box 11"/>
          <p:cNvSpPr/>
          <p:nvPr/>
        </p:nvSpPr>
        <p:spPr>
          <a:xfrm rot="20465400">
            <a:off x="179280" y="1412640"/>
            <a:ext cx="321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 будке сп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ом сторож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Кто к хозяину ид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сем знать да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 rot="20279400">
            <a:off x="1837440" y="2636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оба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132000" y="1916280"/>
            <a:ext cx="276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Зимой белень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Летом серень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Никого не обиж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А всех бо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005080" y="31417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я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7"/>
          <p:cNvSpPr/>
          <p:nvPr/>
        </p:nvSpPr>
        <p:spPr>
          <a:xfrm rot="856800">
            <a:off x="5724000" y="1557360"/>
            <a:ext cx="366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В огороде выраст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А когда я созре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Варят из меня том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В щи кладут и так е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 rot="1011600">
            <a:off x="7094520" y="31413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мид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 rot="2181600">
            <a:off x="466560" y="4149360"/>
            <a:ext cx="362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Есть у савки пят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Два блина и кренделё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Без шнурков его ботин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А костюмчик из ще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 rot="2013600">
            <a:off x="1454040" y="565596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росё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4500360" y="4149720"/>
            <a:ext cx="392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Кто без нот и без свир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Лучше всех выводит тр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Голосистее, нежн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Кто же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6589800" y="52293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олов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0"/>
          <p:cNvSpPr/>
          <p:nvPr/>
        </p:nvSpPr>
        <p:spPr>
          <a:xfrm>
            <a:off x="25092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5"/>
          <p:cNvSpPr txBox="1"/>
          <p:nvPr/>
        </p:nvSpPr>
        <p:spPr>
          <a:xfrm>
            <a:off x="1692360" y="0"/>
            <a:ext cx="5400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33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 название овощей и фруктов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24000" y="981000"/>
          <a:ext cx="8229600" cy="5646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AutoShape 97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1"/>
          <p:cNvSpPr/>
          <p:nvPr/>
        </p:nvSpPr>
        <p:spPr>
          <a:xfrm>
            <a:off x="826920" y="1844640"/>
            <a:ext cx="496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5"/>
          <p:cNvSpPr/>
          <p:nvPr/>
        </p:nvSpPr>
        <p:spPr>
          <a:xfrm>
            <a:off x="5796000" y="1844640"/>
            <a:ext cx="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6"/>
          <p:cNvSpPr/>
          <p:nvPr/>
        </p:nvSpPr>
        <p:spPr>
          <a:xfrm>
            <a:off x="826920" y="2781360"/>
            <a:ext cx="4249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07"/>
          <p:cNvSpPr/>
          <p:nvPr/>
        </p:nvSpPr>
        <p:spPr>
          <a:xfrm>
            <a:off x="2771640" y="134136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8"/>
          <p:cNvSpPr/>
          <p:nvPr/>
        </p:nvSpPr>
        <p:spPr>
          <a:xfrm>
            <a:off x="7164360" y="1341360"/>
            <a:ext cx="0" cy="7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09"/>
          <p:cNvSpPr/>
          <p:nvPr/>
        </p:nvSpPr>
        <p:spPr>
          <a:xfrm>
            <a:off x="900000" y="3500280"/>
            <a:ext cx="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10"/>
          <p:cNvSpPr/>
          <p:nvPr/>
        </p:nvSpPr>
        <p:spPr>
          <a:xfrm>
            <a:off x="900000" y="4221000"/>
            <a:ext cx="201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11"/>
          <p:cNvSpPr/>
          <p:nvPr/>
        </p:nvSpPr>
        <p:spPr>
          <a:xfrm>
            <a:off x="3924360" y="4221000"/>
            <a:ext cx="417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2"/>
          <p:cNvSpPr/>
          <p:nvPr/>
        </p:nvSpPr>
        <p:spPr>
          <a:xfrm>
            <a:off x="8101080" y="4221000"/>
            <a:ext cx="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3"/>
          <p:cNvSpPr/>
          <p:nvPr/>
        </p:nvSpPr>
        <p:spPr>
          <a:xfrm>
            <a:off x="971640" y="4869000"/>
            <a:ext cx="6192720" cy="7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4"/>
          <p:cNvSpPr/>
          <p:nvPr/>
        </p:nvSpPr>
        <p:spPr>
          <a:xfrm flipV="1">
            <a:off x="1908000" y="5589720"/>
            <a:ext cx="6120000" cy="71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5"/>
          <p:cNvSpPr/>
          <p:nvPr/>
        </p:nvSpPr>
        <p:spPr>
          <a:xfrm>
            <a:off x="826920" y="544500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16"/>
          <p:cNvSpPr/>
          <p:nvPr/>
        </p:nvSpPr>
        <p:spPr>
          <a:xfrm>
            <a:off x="826920" y="6381720"/>
            <a:ext cx="324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7"/>
          <p:cNvSpPr/>
          <p:nvPr/>
        </p:nvSpPr>
        <p:spPr>
          <a:xfrm>
            <a:off x="8172360" y="5589720"/>
            <a:ext cx="0" cy="71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8"/>
          <p:cNvSpPr/>
          <p:nvPr/>
        </p:nvSpPr>
        <p:spPr>
          <a:xfrm flipH="1">
            <a:off x="4932360" y="6308640"/>
            <a:ext cx="3240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9"/>
          <p:cNvSpPr/>
          <p:nvPr/>
        </p:nvSpPr>
        <p:spPr>
          <a:xfrm>
            <a:off x="2916360" y="3500280"/>
            <a:ext cx="525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0"/>
          <p:cNvSpPr/>
          <p:nvPr/>
        </p:nvSpPr>
        <p:spPr>
          <a:xfrm flipV="1">
            <a:off x="8172360" y="1989000"/>
            <a:ext cx="0" cy="1511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ordArt 9" descr=""/>
          <p:cNvPicPr/>
          <p:nvPr/>
        </p:nvPicPr>
        <p:blipFill>
          <a:blip r:embed="rId1"/>
          <a:stretch/>
        </p:blipFill>
        <p:spPr>
          <a:xfrm>
            <a:off x="2341440" y="231840"/>
            <a:ext cx="4235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45" name="Содержимое 17"/>
          <p:cNvGrpSpPr/>
          <p:nvPr/>
        </p:nvGrpSpPr>
        <p:grpSpPr>
          <a:xfrm>
            <a:off x="642960" y="1428840"/>
            <a:ext cx="7000920" cy="4525920"/>
            <a:chOff x="642960" y="1428840"/>
            <a:chExt cx="7000920" cy="4525920"/>
          </a:xfrm>
        </p:grpSpPr>
        <p:sp>
          <p:nvSpPr>
            <p:cNvPr id="46" name="WordArt 19"/>
            <p:cNvSpPr txBox="1"/>
            <p:nvPr/>
          </p:nvSpPr>
          <p:spPr>
            <a:xfrm>
              <a:off x="642960" y="1428840"/>
              <a:ext cx="7000920" cy="313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сновные функции дидактических игр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" name="WordArt 21"/>
            <p:cNvSpPr txBox="1"/>
            <p:nvPr/>
          </p:nvSpPr>
          <p:spPr>
            <a:xfrm>
              <a:off x="735120" y="1805760"/>
              <a:ext cx="5090760" cy="314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ставь букву правильно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" name="Text Box 22"/>
            <p:cNvSpPr/>
            <p:nvPr/>
          </p:nvSpPr>
          <p:spPr>
            <a:xfrm>
              <a:off x="1280160" y="2497320"/>
              <a:ext cx="25495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WordArt 24"/>
            <p:cNvSpPr txBox="1"/>
            <p:nvPr/>
          </p:nvSpPr>
          <p:spPr>
            <a:xfrm>
              <a:off x="735120" y="2184120"/>
              <a:ext cx="2725920" cy="250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есная школ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0" name="WordArt 27"/>
            <p:cNvSpPr txBox="1"/>
            <p:nvPr/>
          </p:nvSpPr>
          <p:spPr>
            <a:xfrm>
              <a:off x="735120" y="2561400"/>
              <a:ext cx="3635640" cy="250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ставь ЖИ или Ш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" name="WordArt 29"/>
            <p:cNvSpPr txBox="1"/>
            <p:nvPr/>
          </p:nvSpPr>
          <p:spPr>
            <a:xfrm>
              <a:off x="735120" y="2938320"/>
              <a:ext cx="2000160" cy="2520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абей гол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" name="WordArt 31"/>
            <p:cNvSpPr txBox="1"/>
            <p:nvPr/>
          </p:nvSpPr>
          <p:spPr>
            <a:xfrm>
              <a:off x="825120" y="3315240"/>
              <a:ext cx="163728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ебусы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3" name="WordArt 33"/>
            <p:cNvSpPr txBox="1"/>
            <p:nvPr/>
          </p:nvSpPr>
          <p:spPr>
            <a:xfrm>
              <a:off x="825120" y="3692520"/>
              <a:ext cx="218268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россворд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6"/>
            <p:cNvSpPr txBox="1"/>
            <p:nvPr/>
          </p:nvSpPr>
          <p:spPr>
            <a:xfrm>
              <a:off x="825120" y="4069440"/>
              <a:ext cx="4000680" cy="314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мощник карандаш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5" name="WordArt 38"/>
            <p:cNvSpPr txBox="1"/>
            <p:nvPr/>
          </p:nvSpPr>
          <p:spPr>
            <a:xfrm>
              <a:off x="825120" y="4446720"/>
              <a:ext cx="390852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олшебные яблочк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6" name="WordArt 40"/>
            <p:cNvSpPr txBox="1"/>
            <p:nvPr/>
          </p:nvSpPr>
          <p:spPr>
            <a:xfrm>
              <a:off x="825120" y="4825080"/>
              <a:ext cx="154512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агадк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7" name="WordArt 42"/>
            <p:cNvSpPr txBox="1"/>
            <p:nvPr/>
          </p:nvSpPr>
          <p:spPr>
            <a:xfrm>
              <a:off x="825120" y="5202000"/>
              <a:ext cx="3908520" cy="314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уда причалят лодк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44"/>
            <p:cNvSpPr txBox="1"/>
            <p:nvPr/>
          </p:nvSpPr>
          <p:spPr>
            <a:xfrm>
              <a:off x="825120" y="5641560"/>
              <a:ext cx="6091200" cy="313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знай название овощей и фрукт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9"/>
          <p:cNvSpPr/>
          <p:nvPr/>
        </p:nvSpPr>
        <p:spPr>
          <a:xfrm>
            <a:off x="901440" y="1413000"/>
            <a:ext cx="30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428760" y="1413000"/>
            <a:ext cx="8143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интереса к учению и снятие на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сихических новообраз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собственно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общеучебных умений, навыков учебной 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я навыков самоконтроля и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адекватных взаимоотношений и освоения социальных 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2"/>
          <p:cNvSpPr txBox="1"/>
          <p:nvPr/>
        </p:nvSpPr>
        <p:spPr>
          <a:xfrm>
            <a:off x="1692360" y="115920"/>
            <a:ext cx="6165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Основные функции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дидактических иг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grpSp>
        <p:nvGrpSpPr>
          <p:cNvPr id="62" name="AutoShape 28"/>
          <p:cNvGrpSpPr/>
          <p:nvPr/>
        </p:nvGrpSpPr>
        <p:grpSpPr>
          <a:xfrm>
            <a:off x="512640" y="536400"/>
            <a:ext cx="908280" cy="609840"/>
            <a:chOff x="512640" y="536400"/>
            <a:chExt cx="908280" cy="609840"/>
          </a:xfrm>
        </p:grpSpPr>
        <p:pic>
          <p:nvPicPr>
            <p:cNvPr id="63" name="AutoShape 2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12640" y="536400"/>
              <a:ext cx="9082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9960" y="696960"/>
              <a:ext cx="693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 rot="5400000">
            <a:off x="826920" y="105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3203640" y="2205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5400000">
            <a:off x="5076720" y="2205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5400000">
            <a:off x="6948360" y="213372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 rot="10800000">
            <a:off x="1258920" y="2205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 rot="10800000">
            <a:off x="2484360" y="105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 rot="16200000">
            <a:off x="4211640" y="105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 rot="10800000">
            <a:off x="6156360" y="981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650520" y="3422520"/>
            <a:ext cx="801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квы стоят боком, вниз головой и т. д. Нужно исправить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50072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644364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1692360" y="429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90000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277164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3564000" y="429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35640" y="4221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7093080" y="4221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9"/>
          <p:cNvSpPr txBox="1"/>
          <p:nvPr/>
        </p:nvSpPr>
        <p:spPr>
          <a:xfrm rot="206400">
            <a:off x="1476000" y="0"/>
            <a:ext cx="5257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latin typeface="Impact"/>
              </a:rPr>
              <a:t>Поставь буквы 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latin typeface="Impact"/>
              <a:ea typeface="Impact"/>
            </a:endParaRPr>
          </a:p>
        </p:txBody>
      </p:sp>
      <p:sp>
        <p:nvSpPr>
          <p:cNvPr id="83" name="WordArt 32"/>
          <p:cNvSpPr txBox="1"/>
          <p:nvPr/>
        </p:nvSpPr>
        <p:spPr>
          <a:xfrm>
            <a:off x="1042920" y="1217520"/>
            <a:ext cx="4827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33"/>
          <p:cNvSpPr txBox="1"/>
          <p:nvPr/>
        </p:nvSpPr>
        <p:spPr>
          <a:xfrm rot="5400000">
            <a:off x="1933560" y="4483080"/>
            <a:ext cx="482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36"/>
          <p:cNvSpPr txBox="1"/>
          <p:nvPr/>
        </p:nvSpPr>
        <p:spPr>
          <a:xfrm rot="16200000">
            <a:off x="2678760" y="12891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37"/>
          <p:cNvSpPr txBox="1"/>
          <p:nvPr/>
        </p:nvSpPr>
        <p:spPr>
          <a:xfrm rot="5400000">
            <a:off x="3758040" y="4458600"/>
            <a:ext cx="576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38"/>
          <p:cNvSpPr txBox="1"/>
          <p:nvPr/>
        </p:nvSpPr>
        <p:spPr>
          <a:xfrm rot="10800000">
            <a:off x="4427640" y="126828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39"/>
          <p:cNvSpPr txBox="1"/>
          <p:nvPr/>
        </p:nvSpPr>
        <p:spPr>
          <a:xfrm rot="5400000">
            <a:off x="5652360" y="443628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WordArt 40"/>
          <p:cNvSpPr txBox="1"/>
          <p:nvPr/>
        </p:nvSpPr>
        <p:spPr>
          <a:xfrm rot="16200000">
            <a:off x="6400080" y="1168920"/>
            <a:ext cx="4777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0" name="WordArt 42"/>
          <p:cNvSpPr txBox="1"/>
          <p:nvPr/>
        </p:nvSpPr>
        <p:spPr>
          <a:xfrm rot="5400000">
            <a:off x="7263000" y="4409280"/>
            <a:ext cx="47808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43"/>
          <p:cNvSpPr txBox="1"/>
          <p:nvPr/>
        </p:nvSpPr>
        <p:spPr>
          <a:xfrm rot="16200000">
            <a:off x="1491480" y="240588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44"/>
          <p:cNvSpPr txBox="1"/>
          <p:nvPr/>
        </p:nvSpPr>
        <p:spPr>
          <a:xfrm rot="5400000">
            <a:off x="1131120" y="571896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45"/>
          <p:cNvSpPr txBox="1"/>
          <p:nvPr/>
        </p:nvSpPr>
        <p:spPr>
          <a:xfrm>
            <a:off x="3419640" y="2421000"/>
            <a:ext cx="5029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46"/>
          <p:cNvSpPr txBox="1"/>
          <p:nvPr/>
        </p:nvSpPr>
        <p:spPr>
          <a:xfrm rot="5400000">
            <a:off x="2988360" y="5733000"/>
            <a:ext cx="5029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47"/>
          <p:cNvSpPr txBox="1"/>
          <p:nvPr/>
        </p:nvSpPr>
        <p:spPr>
          <a:xfrm rot="10800000">
            <a:off x="5219280" y="2450880"/>
            <a:ext cx="647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48"/>
          <p:cNvSpPr txBox="1"/>
          <p:nvPr/>
        </p:nvSpPr>
        <p:spPr>
          <a:xfrm rot="5400000">
            <a:off x="4659120" y="5717880"/>
            <a:ext cx="647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49"/>
          <p:cNvSpPr txBox="1"/>
          <p:nvPr/>
        </p:nvSpPr>
        <p:spPr>
          <a:xfrm rot="10800000">
            <a:off x="7092720" y="2349360"/>
            <a:ext cx="539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WordArt 50"/>
          <p:cNvSpPr txBox="1"/>
          <p:nvPr/>
        </p:nvSpPr>
        <p:spPr>
          <a:xfrm rot="5400000">
            <a:off x="6656040" y="5737320"/>
            <a:ext cx="539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AutoShape 53">
            <a:hlinkClick r:id="rId1" action="ppaction://hlinksldjump"/>
          </p:cNvPr>
          <p:cNvSpPr/>
          <p:nvPr/>
        </p:nvSpPr>
        <p:spPr>
          <a:xfrm>
            <a:off x="324000" y="189000"/>
            <a:ext cx="863280" cy="576000"/>
          </a:xfrm>
          <a:prstGeom prst="leftArrow">
            <a:avLst>
              <a:gd name="adj1" fmla="val 50000"/>
              <a:gd name="adj2" fmla="val 37469"/>
            </a:avLst>
          </a:prstGeom>
          <a:gradFill rotWithShape="0">
            <a:gsLst>
              <a:gs pos="0">
                <a:srgbClr val="ffff00"/>
              </a:gs>
              <a:gs pos="50000">
                <a:srgbClr val="ff99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1" descr="150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Text Box 6" descr=""/>
          <p:cNvPicPr/>
          <p:nvPr/>
        </p:nvPicPr>
        <p:blipFill>
          <a:blip r:embed="rId3"/>
          <a:stretch/>
        </p:blipFill>
        <p:spPr>
          <a:xfrm>
            <a:off x="738360" y="878040"/>
            <a:ext cx="8003880" cy="56386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6"/>
          <p:cNvSpPr txBox="1"/>
          <p:nvPr/>
        </p:nvSpPr>
        <p:spPr>
          <a:xfrm>
            <a:off x="1835280" y="260280"/>
            <a:ext cx="511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Cambria"/>
              </a:rPr>
              <a:t>Лесная школа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03" name="AutoShape 100">
            <a:hlinkClick r:id="rId4" action="ppaction://hlinksldjump"/>
          </p:cNvPr>
          <p:cNvSpPr/>
          <p:nvPr/>
        </p:nvSpPr>
        <p:spPr>
          <a:xfrm>
            <a:off x="395280" y="18900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1" descr="150005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28760" y="836640"/>
            <a:ext cx="8286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буквы живут на первом этаже? Какие звуки они обозначают? Чем похожи жильцы нижнего этаж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зови жильцов второго этажа. Какие звуки они обозначают и в чём их сходств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буквы растут на грибах слева(справа)от дома? Почему эти грибы растут под синим облак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грибы И и Е спрятались под зелёной ёлочк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 rot="7946400">
            <a:off x="3235320" y="3324600"/>
            <a:ext cx="2205000" cy="2413080"/>
          </a:xfrm>
          <a:prstGeom prst="rtTriangl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700360" y="4508640"/>
            <a:ext cx="3240000" cy="2160360"/>
          </a:xfrm>
          <a:custGeom>
            <a:avLst/>
            <a:gdLst>
              <a:gd name="textAreaLeft" fmla="*/ 437400 w 3240000"/>
              <a:gd name="textAreaRight" fmla="*/ 2802600 w 3240000"/>
              <a:gd name="textAreaTop" fmla="*/ 291600 h 2160360"/>
              <a:gd name="textAreaBottom" fmla="*/ 186876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31" y="21600"/>
                </a:lnTo>
                <a:lnTo>
                  <a:pt x="1936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 rot="16200000">
            <a:off x="2987640" y="4652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16200000">
            <a:off x="3059280" y="5660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 rot="16200000">
            <a:off x="4932360" y="5660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16200000">
            <a:off x="4932360" y="4652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16200000">
            <a:off x="3995640" y="4652280"/>
            <a:ext cx="609480" cy="60984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16200000">
            <a:off x="3995640" y="5660280"/>
            <a:ext cx="609480" cy="60984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/>
          <p:cNvSpPr/>
          <p:nvPr/>
        </p:nvSpPr>
        <p:spPr>
          <a:xfrm rot="20395800">
            <a:off x="1967040" y="1995120"/>
            <a:ext cx="1701720" cy="1434960"/>
          </a:xfrm>
          <a:prstGeom prst="sun">
            <a:avLst>
              <a:gd name="adj" fmla="val 21046"/>
            </a:avLst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250920" y="2735280"/>
            <a:ext cx="1463760" cy="620640"/>
          </a:xfrm>
          <a:custGeom>
            <a:avLst/>
            <a:gdLst>
              <a:gd name="textAreaLeft" fmla="*/ 201600 w 1463760"/>
              <a:gd name="textAreaRight" fmla="*/ 1158120 w 1463760"/>
              <a:gd name="textAreaTop" fmla="*/ 93600 h 620640"/>
              <a:gd name="textAreaBottom" fmla="*/ 498240 h 620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fc6f1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 rot="576000">
            <a:off x="4949640" y="2511360"/>
            <a:ext cx="1150920" cy="525600"/>
          </a:xfrm>
          <a:custGeom>
            <a:avLst/>
            <a:gdLst>
              <a:gd name="textAreaLeft" fmla="*/ 158400 w 1150920"/>
              <a:gd name="textAreaRight" fmla="*/ 910440 w 1150920"/>
              <a:gd name="textAreaTop" fmla="*/ 79200 h 525600"/>
              <a:gd name="textAreaBottom" fmla="*/ 421920 h 525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0fc6f1"/>
              </a:gs>
              <a:gs pos="100000">
                <a:srgbClr val="f9feff"/>
              </a:gs>
            </a:gsLst>
            <a:lin ang="4824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6443640" y="2428920"/>
            <a:ext cx="1370160" cy="928800"/>
          </a:xfrm>
          <a:custGeom>
            <a:avLst/>
            <a:gdLst>
              <a:gd name="textAreaLeft" fmla="*/ 188640 w 1370160"/>
              <a:gd name="textAreaRight" fmla="*/ 1083960 w 1370160"/>
              <a:gd name="textAreaTop" fmla="*/ 140040 h 928800"/>
              <a:gd name="textAreaBottom" fmla="*/ 745560 h 92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0fc6f1"/>
              </a:gs>
              <a:gs pos="100000">
                <a:srgbClr val="e9fafe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ree"/>
          <p:cNvSpPr/>
          <p:nvPr/>
        </p:nvSpPr>
        <p:spPr>
          <a:xfrm>
            <a:off x="5857920" y="3071880"/>
            <a:ext cx="2916360" cy="3313080"/>
          </a:xfrm>
          <a:custGeom>
            <a:avLst/>
            <a:gdLst>
              <a:gd name="textAreaLeft" fmla="*/ 102600 w 2916360"/>
              <a:gd name="textAreaRight" fmla="*/ 2844720 w 2916360"/>
              <a:gd name="textAreaTop" fmla="*/ 3444120 h 3313080"/>
              <a:gd name="textAreaBottom" fmla="*/ 433836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4000" y="4941720"/>
            <a:ext cx="863280" cy="1089360"/>
          </a:xfrm>
          <a:custGeom>
            <a:avLst/>
            <a:gdLst>
              <a:gd name="textAreaLeft" fmla="*/ 0 w 863280"/>
              <a:gd name="textAreaRight" fmla="*/ 863640 w 863280"/>
              <a:gd name="textAreaTop" fmla="*/ 0 h 1089360"/>
              <a:gd name="textAreaBottom" fmla="*/ 1089720 h 108936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6"/>
          <p:cNvSpPr/>
          <p:nvPr/>
        </p:nvSpPr>
        <p:spPr>
          <a:xfrm flipV="1" rot="5916000">
            <a:off x="493920" y="433836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7"/>
          <p:cNvSpPr/>
          <p:nvPr/>
        </p:nvSpPr>
        <p:spPr>
          <a:xfrm>
            <a:off x="1476360" y="5769000"/>
            <a:ext cx="863640" cy="108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8"/>
          <p:cNvSpPr/>
          <p:nvPr/>
        </p:nvSpPr>
        <p:spPr>
          <a:xfrm>
            <a:off x="6012000" y="5722920"/>
            <a:ext cx="896760" cy="1135080"/>
          </a:xfrm>
          <a:custGeom>
            <a:avLst/>
            <a:gdLst>
              <a:gd name="textAreaLeft" fmla="*/ 0 w 896760"/>
              <a:gd name="textAreaRight" fmla="*/ 897120 w 8967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565" h="715">
                <a:moveTo>
                  <a:pt x="232" y="0"/>
                </a:moveTo>
                <a:cubicBezTo>
                  <a:pt x="212" y="32"/>
                  <a:pt x="185" y="51"/>
                  <a:pt x="169" y="86"/>
                </a:cubicBezTo>
                <a:cubicBezTo>
                  <a:pt x="144" y="137"/>
                  <a:pt x="128" y="195"/>
                  <a:pt x="85" y="234"/>
                </a:cubicBezTo>
                <a:cubicBezTo>
                  <a:pt x="69" y="270"/>
                  <a:pt x="51" y="302"/>
                  <a:pt x="37" y="339"/>
                </a:cubicBezTo>
                <a:cubicBezTo>
                  <a:pt x="29" y="411"/>
                  <a:pt x="16" y="482"/>
                  <a:pt x="10" y="554"/>
                </a:cubicBezTo>
                <a:cubicBezTo>
                  <a:pt x="0" y="653"/>
                  <a:pt x="183" y="675"/>
                  <a:pt x="255" y="694"/>
                </a:cubicBezTo>
                <a:cubicBezTo>
                  <a:pt x="425" y="713"/>
                  <a:pt x="338" y="715"/>
                  <a:pt x="442" y="678"/>
                </a:cubicBezTo>
                <a:cubicBezTo>
                  <a:pt x="565" y="478"/>
                  <a:pt x="477" y="632"/>
                  <a:pt x="554" y="97"/>
                </a:cubicBezTo>
                <a:cubicBezTo>
                  <a:pt x="556" y="83"/>
                  <a:pt x="551" y="55"/>
                  <a:pt x="551" y="55"/>
                </a:cubicBezTo>
                <a:cubicBezTo>
                  <a:pt x="551" y="55"/>
                  <a:pt x="232" y="0"/>
                  <a:pt x="232" y="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9"/>
          <p:cNvSpPr/>
          <p:nvPr/>
        </p:nvSpPr>
        <p:spPr>
          <a:xfrm rot="21168600">
            <a:off x="7884720" y="5949720"/>
            <a:ext cx="863640" cy="108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83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0"/>
          <p:cNvSpPr/>
          <p:nvPr/>
        </p:nvSpPr>
        <p:spPr>
          <a:xfrm>
            <a:off x="1547640" y="4365720"/>
            <a:ext cx="863640" cy="108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1"/>
          <p:cNvSpPr/>
          <p:nvPr/>
        </p:nvSpPr>
        <p:spPr>
          <a:xfrm flipV="1" rot="5916000">
            <a:off x="1646280" y="534636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2"/>
          <p:cNvSpPr/>
          <p:nvPr/>
        </p:nvSpPr>
        <p:spPr>
          <a:xfrm flipV="1" rot="5916000">
            <a:off x="1717560" y="397944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 flipV="1" rot="5880000">
            <a:off x="6254280" y="5419080"/>
            <a:ext cx="5745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4"/>
          <p:cNvSpPr/>
          <p:nvPr/>
        </p:nvSpPr>
        <p:spPr>
          <a:xfrm flipV="1" rot="5916000">
            <a:off x="8055000" y="549072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 rot="547200">
            <a:off x="6158160" y="594972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 rot="325800">
            <a:off x="8102160" y="6021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 rot="232800">
            <a:off x="469080" y="50353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1621080" y="44370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2"/>
          <p:cNvSpPr/>
          <p:nvPr/>
        </p:nvSpPr>
        <p:spPr>
          <a:xfrm rot="429000">
            <a:off x="1620720" y="6095880"/>
            <a:ext cx="5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3"/>
          <p:cNvSpPr/>
          <p:nvPr/>
        </p:nvSpPr>
        <p:spPr>
          <a:xfrm>
            <a:off x="1476360" y="4869000"/>
            <a:ext cx="776160" cy="641160"/>
          </a:xfrm>
          <a:custGeom>
            <a:avLst/>
            <a:gdLst>
              <a:gd name="textAreaLeft" fmla="*/ 0 w 776160"/>
              <a:gd name="textAreaRight" fmla="*/ 776520 w 776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489" h="404">
                <a:moveTo>
                  <a:pt x="108" y="328"/>
                </a:moveTo>
                <a:cubicBezTo>
                  <a:pt x="105" y="283"/>
                  <a:pt x="105" y="237"/>
                  <a:pt x="100" y="192"/>
                </a:cubicBezTo>
                <a:cubicBezTo>
                  <a:pt x="92" y="114"/>
                  <a:pt x="0" y="113"/>
                  <a:pt x="124" y="128"/>
                </a:cubicBezTo>
                <a:cubicBezTo>
                  <a:pt x="145" y="149"/>
                  <a:pt x="181" y="163"/>
                  <a:pt x="188" y="192"/>
                </a:cubicBezTo>
                <a:cubicBezTo>
                  <a:pt x="193" y="213"/>
                  <a:pt x="204" y="256"/>
                  <a:pt x="204" y="256"/>
                </a:cubicBezTo>
                <a:cubicBezTo>
                  <a:pt x="210" y="167"/>
                  <a:pt x="204" y="88"/>
                  <a:pt x="268" y="24"/>
                </a:cubicBezTo>
                <a:cubicBezTo>
                  <a:pt x="325" y="109"/>
                  <a:pt x="258" y="0"/>
                  <a:pt x="292" y="248"/>
                </a:cubicBezTo>
                <a:cubicBezTo>
                  <a:pt x="293" y="258"/>
                  <a:pt x="304" y="233"/>
                  <a:pt x="308" y="224"/>
                </a:cubicBezTo>
                <a:cubicBezTo>
                  <a:pt x="315" y="209"/>
                  <a:pt x="319" y="192"/>
                  <a:pt x="324" y="176"/>
                </a:cubicBezTo>
                <a:cubicBezTo>
                  <a:pt x="342" y="121"/>
                  <a:pt x="419" y="88"/>
                  <a:pt x="468" y="64"/>
                </a:cubicBezTo>
                <a:cubicBezTo>
                  <a:pt x="473" y="56"/>
                  <a:pt x="482" y="31"/>
                  <a:pt x="484" y="40"/>
                </a:cubicBezTo>
                <a:cubicBezTo>
                  <a:pt x="489" y="58"/>
                  <a:pt x="479" y="77"/>
                  <a:pt x="476" y="96"/>
                </a:cubicBezTo>
                <a:cubicBezTo>
                  <a:pt x="468" y="142"/>
                  <a:pt x="452" y="185"/>
                  <a:pt x="444" y="232"/>
                </a:cubicBezTo>
                <a:cubicBezTo>
                  <a:pt x="441" y="277"/>
                  <a:pt x="478" y="351"/>
                  <a:pt x="436" y="368"/>
                </a:cubicBezTo>
                <a:cubicBezTo>
                  <a:pt x="347" y="404"/>
                  <a:pt x="244" y="359"/>
                  <a:pt x="148" y="352"/>
                </a:cubicBezTo>
                <a:cubicBezTo>
                  <a:pt x="92" y="348"/>
                  <a:pt x="94" y="357"/>
                  <a:pt x="108" y="328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4"/>
          <p:cNvSpPr/>
          <p:nvPr/>
        </p:nvSpPr>
        <p:spPr>
          <a:xfrm>
            <a:off x="250920" y="5589720"/>
            <a:ext cx="776160" cy="641160"/>
          </a:xfrm>
          <a:custGeom>
            <a:avLst/>
            <a:gdLst>
              <a:gd name="textAreaLeft" fmla="*/ 0 w 776160"/>
              <a:gd name="textAreaRight" fmla="*/ 776520 w 776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489" h="404">
                <a:moveTo>
                  <a:pt x="108" y="328"/>
                </a:moveTo>
                <a:cubicBezTo>
                  <a:pt x="105" y="283"/>
                  <a:pt x="105" y="237"/>
                  <a:pt x="100" y="192"/>
                </a:cubicBezTo>
                <a:cubicBezTo>
                  <a:pt x="92" y="114"/>
                  <a:pt x="0" y="113"/>
                  <a:pt x="124" y="128"/>
                </a:cubicBezTo>
                <a:cubicBezTo>
                  <a:pt x="145" y="149"/>
                  <a:pt x="181" y="163"/>
                  <a:pt x="188" y="192"/>
                </a:cubicBezTo>
                <a:cubicBezTo>
                  <a:pt x="193" y="213"/>
                  <a:pt x="204" y="256"/>
                  <a:pt x="204" y="256"/>
                </a:cubicBezTo>
                <a:cubicBezTo>
                  <a:pt x="210" y="167"/>
                  <a:pt x="204" y="88"/>
                  <a:pt x="268" y="24"/>
                </a:cubicBezTo>
                <a:cubicBezTo>
                  <a:pt x="325" y="109"/>
                  <a:pt x="258" y="0"/>
                  <a:pt x="292" y="248"/>
                </a:cubicBezTo>
                <a:cubicBezTo>
                  <a:pt x="293" y="258"/>
                  <a:pt x="304" y="233"/>
                  <a:pt x="308" y="224"/>
                </a:cubicBezTo>
                <a:cubicBezTo>
                  <a:pt x="315" y="209"/>
                  <a:pt x="319" y="192"/>
                  <a:pt x="324" y="176"/>
                </a:cubicBezTo>
                <a:cubicBezTo>
                  <a:pt x="342" y="121"/>
                  <a:pt x="419" y="88"/>
                  <a:pt x="468" y="64"/>
                </a:cubicBezTo>
                <a:cubicBezTo>
                  <a:pt x="473" y="56"/>
                  <a:pt x="482" y="31"/>
                  <a:pt x="484" y="40"/>
                </a:cubicBezTo>
                <a:cubicBezTo>
                  <a:pt x="489" y="58"/>
                  <a:pt x="479" y="77"/>
                  <a:pt x="476" y="96"/>
                </a:cubicBezTo>
                <a:cubicBezTo>
                  <a:pt x="468" y="142"/>
                  <a:pt x="452" y="185"/>
                  <a:pt x="444" y="232"/>
                </a:cubicBezTo>
                <a:cubicBezTo>
                  <a:pt x="441" y="277"/>
                  <a:pt x="478" y="351"/>
                  <a:pt x="436" y="368"/>
                </a:cubicBezTo>
                <a:cubicBezTo>
                  <a:pt x="347" y="404"/>
                  <a:pt x="244" y="359"/>
                  <a:pt x="148" y="352"/>
                </a:cubicBezTo>
                <a:cubicBezTo>
                  <a:pt x="92" y="348"/>
                  <a:pt x="94" y="357"/>
                  <a:pt x="108" y="328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5"/>
          <p:cNvSpPr/>
          <p:nvPr/>
        </p:nvSpPr>
        <p:spPr>
          <a:xfrm rot="20848200">
            <a:off x="2410920" y="6308280"/>
            <a:ext cx="776520" cy="641520"/>
          </a:xfrm>
          <a:custGeom>
            <a:avLst/>
            <a:gdLst>
              <a:gd name="textAreaLeft" fmla="*/ 0 w 776520"/>
              <a:gd name="textAreaRight" fmla="*/ 776880 w 77652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489" h="404">
                <a:moveTo>
                  <a:pt x="108" y="328"/>
                </a:moveTo>
                <a:cubicBezTo>
                  <a:pt x="105" y="283"/>
                  <a:pt x="105" y="237"/>
                  <a:pt x="100" y="192"/>
                </a:cubicBezTo>
                <a:cubicBezTo>
                  <a:pt x="92" y="114"/>
                  <a:pt x="0" y="113"/>
                  <a:pt x="124" y="128"/>
                </a:cubicBezTo>
                <a:cubicBezTo>
                  <a:pt x="145" y="149"/>
                  <a:pt x="181" y="163"/>
                  <a:pt x="188" y="192"/>
                </a:cubicBezTo>
                <a:cubicBezTo>
                  <a:pt x="193" y="213"/>
                  <a:pt x="204" y="256"/>
                  <a:pt x="204" y="256"/>
                </a:cubicBezTo>
                <a:cubicBezTo>
                  <a:pt x="210" y="167"/>
                  <a:pt x="204" y="88"/>
                  <a:pt x="268" y="24"/>
                </a:cubicBezTo>
                <a:cubicBezTo>
                  <a:pt x="325" y="109"/>
                  <a:pt x="258" y="0"/>
                  <a:pt x="292" y="248"/>
                </a:cubicBezTo>
                <a:cubicBezTo>
                  <a:pt x="293" y="258"/>
                  <a:pt x="304" y="233"/>
                  <a:pt x="308" y="224"/>
                </a:cubicBezTo>
                <a:cubicBezTo>
                  <a:pt x="315" y="209"/>
                  <a:pt x="319" y="192"/>
                  <a:pt x="324" y="176"/>
                </a:cubicBezTo>
                <a:cubicBezTo>
                  <a:pt x="342" y="121"/>
                  <a:pt x="419" y="88"/>
                  <a:pt x="468" y="64"/>
                </a:cubicBezTo>
                <a:cubicBezTo>
                  <a:pt x="473" y="56"/>
                  <a:pt x="482" y="31"/>
                  <a:pt x="484" y="40"/>
                </a:cubicBezTo>
                <a:cubicBezTo>
                  <a:pt x="489" y="58"/>
                  <a:pt x="479" y="77"/>
                  <a:pt x="476" y="96"/>
                </a:cubicBezTo>
                <a:cubicBezTo>
                  <a:pt x="468" y="142"/>
                  <a:pt x="452" y="185"/>
                  <a:pt x="444" y="232"/>
                </a:cubicBezTo>
                <a:cubicBezTo>
                  <a:pt x="441" y="277"/>
                  <a:pt x="478" y="351"/>
                  <a:pt x="436" y="368"/>
                </a:cubicBezTo>
                <a:cubicBezTo>
                  <a:pt x="347" y="404"/>
                  <a:pt x="244" y="359"/>
                  <a:pt x="148" y="352"/>
                </a:cubicBezTo>
                <a:cubicBezTo>
                  <a:pt x="92" y="348"/>
                  <a:pt x="94" y="357"/>
                  <a:pt x="108" y="328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8"/>
          <p:cNvSpPr/>
          <p:nvPr/>
        </p:nvSpPr>
        <p:spPr>
          <a:xfrm rot="485400">
            <a:off x="5795640" y="6381360"/>
            <a:ext cx="1138320" cy="62712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717" h="395">
                <a:moveTo>
                  <a:pt x="280" y="293"/>
                </a:moveTo>
                <a:cubicBezTo>
                  <a:pt x="200" y="240"/>
                  <a:pt x="92" y="237"/>
                  <a:pt x="0" y="229"/>
                </a:cubicBezTo>
                <a:cubicBezTo>
                  <a:pt x="17" y="113"/>
                  <a:pt x="62" y="168"/>
                  <a:pt x="208" y="181"/>
                </a:cubicBezTo>
                <a:cubicBezTo>
                  <a:pt x="240" y="192"/>
                  <a:pt x="241" y="198"/>
                  <a:pt x="216" y="157"/>
                </a:cubicBezTo>
                <a:cubicBezTo>
                  <a:pt x="188" y="111"/>
                  <a:pt x="156" y="83"/>
                  <a:pt x="112" y="53"/>
                </a:cubicBezTo>
                <a:cubicBezTo>
                  <a:pt x="168" y="16"/>
                  <a:pt x="194" y="75"/>
                  <a:pt x="248" y="93"/>
                </a:cubicBezTo>
                <a:cubicBezTo>
                  <a:pt x="260" y="110"/>
                  <a:pt x="278" y="123"/>
                  <a:pt x="288" y="141"/>
                </a:cubicBezTo>
                <a:cubicBezTo>
                  <a:pt x="293" y="151"/>
                  <a:pt x="292" y="163"/>
                  <a:pt x="296" y="173"/>
                </a:cubicBezTo>
                <a:cubicBezTo>
                  <a:pt x="300" y="182"/>
                  <a:pt x="307" y="189"/>
                  <a:pt x="312" y="197"/>
                </a:cubicBezTo>
                <a:cubicBezTo>
                  <a:pt x="328" y="149"/>
                  <a:pt x="292" y="0"/>
                  <a:pt x="344" y="77"/>
                </a:cubicBezTo>
                <a:cubicBezTo>
                  <a:pt x="347" y="132"/>
                  <a:pt x="318" y="247"/>
                  <a:pt x="376" y="189"/>
                </a:cubicBezTo>
                <a:cubicBezTo>
                  <a:pt x="412" y="153"/>
                  <a:pt x="369" y="173"/>
                  <a:pt x="416" y="157"/>
                </a:cubicBezTo>
                <a:cubicBezTo>
                  <a:pt x="440" y="133"/>
                  <a:pt x="460" y="128"/>
                  <a:pt x="488" y="109"/>
                </a:cubicBezTo>
                <a:cubicBezTo>
                  <a:pt x="494" y="92"/>
                  <a:pt x="497" y="74"/>
                  <a:pt x="512" y="61"/>
                </a:cubicBezTo>
                <a:cubicBezTo>
                  <a:pt x="526" y="48"/>
                  <a:pt x="560" y="29"/>
                  <a:pt x="560" y="29"/>
                </a:cubicBezTo>
                <a:cubicBezTo>
                  <a:pt x="557" y="77"/>
                  <a:pt x="558" y="125"/>
                  <a:pt x="552" y="173"/>
                </a:cubicBezTo>
                <a:cubicBezTo>
                  <a:pt x="550" y="190"/>
                  <a:pt x="541" y="205"/>
                  <a:pt x="536" y="221"/>
                </a:cubicBezTo>
                <a:cubicBezTo>
                  <a:pt x="533" y="230"/>
                  <a:pt x="520" y="255"/>
                  <a:pt x="520" y="245"/>
                </a:cubicBezTo>
                <a:cubicBezTo>
                  <a:pt x="520" y="166"/>
                  <a:pt x="633" y="117"/>
                  <a:pt x="696" y="101"/>
                </a:cubicBezTo>
                <a:cubicBezTo>
                  <a:pt x="717" y="163"/>
                  <a:pt x="672" y="197"/>
                  <a:pt x="624" y="229"/>
                </a:cubicBezTo>
                <a:cubicBezTo>
                  <a:pt x="597" y="270"/>
                  <a:pt x="568" y="309"/>
                  <a:pt x="520" y="325"/>
                </a:cubicBezTo>
                <a:cubicBezTo>
                  <a:pt x="264" y="317"/>
                  <a:pt x="246" y="395"/>
                  <a:pt x="280" y="293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9"/>
          <p:cNvSpPr/>
          <p:nvPr/>
        </p:nvSpPr>
        <p:spPr>
          <a:xfrm>
            <a:off x="7667640" y="6524640"/>
            <a:ext cx="1138320" cy="62712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717" h="395">
                <a:moveTo>
                  <a:pt x="280" y="293"/>
                </a:moveTo>
                <a:cubicBezTo>
                  <a:pt x="200" y="240"/>
                  <a:pt x="92" y="237"/>
                  <a:pt x="0" y="229"/>
                </a:cubicBezTo>
                <a:cubicBezTo>
                  <a:pt x="17" y="113"/>
                  <a:pt x="62" y="168"/>
                  <a:pt x="208" y="181"/>
                </a:cubicBezTo>
                <a:cubicBezTo>
                  <a:pt x="240" y="192"/>
                  <a:pt x="241" y="198"/>
                  <a:pt x="216" y="157"/>
                </a:cubicBezTo>
                <a:cubicBezTo>
                  <a:pt x="188" y="111"/>
                  <a:pt x="156" y="83"/>
                  <a:pt x="112" y="53"/>
                </a:cubicBezTo>
                <a:cubicBezTo>
                  <a:pt x="168" y="16"/>
                  <a:pt x="194" y="75"/>
                  <a:pt x="248" y="93"/>
                </a:cubicBezTo>
                <a:cubicBezTo>
                  <a:pt x="260" y="110"/>
                  <a:pt x="278" y="123"/>
                  <a:pt x="288" y="141"/>
                </a:cubicBezTo>
                <a:cubicBezTo>
                  <a:pt x="293" y="151"/>
                  <a:pt x="292" y="163"/>
                  <a:pt x="296" y="173"/>
                </a:cubicBezTo>
                <a:cubicBezTo>
                  <a:pt x="300" y="182"/>
                  <a:pt x="307" y="189"/>
                  <a:pt x="312" y="197"/>
                </a:cubicBezTo>
                <a:cubicBezTo>
                  <a:pt x="328" y="149"/>
                  <a:pt x="292" y="0"/>
                  <a:pt x="344" y="77"/>
                </a:cubicBezTo>
                <a:cubicBezTo>
                  <a:pt x="347" y="132"/>
                  <a:pt x="318" y="247"/>
                  <a:pt x="376" y="189"/>
                </a:cubicBezTo>
                <a:cubicBezTo>
                  <a:pt x="412" y="153"/>
                  <a:pt x="369" y="173"/>
                  <a:pt x="416" y="157"/>
                </a:cubicBezTo>
                <a:cubicBezTo>
                  <a:pt x="440" y="133"/>
                  <a:pt x="460" y="128"/>
                  <a:pt x="488" y="109"/>
                </a:cubicBezTo>
                <a:cubicBezTo>
                  <a:pt x="494" y="92"/>
                  <a:pt x="497" y="74"/>
                  <a:pt x="512" y="61"/>
                </a:cubicBezTo>
                <a:cubicBezTo>
                  <a:pt x="526" y="48"/>
                  <a:pt x="560" y="29"/>
                  <a:pt x="560" y="29"/>
                </a:cubicBezTo>
                <a:cubicBezTo>
                  <a:pt x="557" y="77"/>
                  <a:pt x="558" y="125"/>
                  <a:pt x="552" y="173"/>
                </a:cubicBezTo>
                <a:cubicBezTo>
                  <a:pt x="550" y="190"/>
                  <a:pt x="541" y="205"/>
                  <a:pt x="536" y="221"/>
                </a:cubicBezTo>
                <a:cubicBezTo>
                  <a:pt x="533" y="230"/>
                  <a:pt x="520" y="255"/>
                  <a:pt x="520" y="245"/>
                </a:cubicBezTo>
                <a:cubicBezTo>
                  <a:pt x="520" y="166"/>
                  <a:pt x="633" y="117"/>
                  <a:pt x="696" y="101"/>
                </a:cubicBezTo>
                <a:cubicBezTo>
                  <a:pt x="717" y="163"/>
                  <a:pt x="672" y="197"/>
                  <a:pt x="624" y="229"/>
                </a:cubicBezTo>
                <a:cubicBezTo>
                  <a:pt x="597" y="270"/>
                  <a:pt x="568" y="309"/>
                  <a:pt x="520" y="325"/>
                </a:cubicBezTo>
                <a:cubicBezTo>
                  <a:pt x="264" y="317"/>
                  <a:pt x="246" y="395"/>
                  <a:pt x="280" y="293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46"/>
          <p:cNvSpPr txBox="1"/>
          <p:nvPr/>
        </p:nvSpPr>
        <p:spPr>
          <a:xfrm>
            <a:off x="1835280" y="260280"/>
            <a:ext cx="511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Cambria"/>
              </a:rPr>
              <a:t>Лесная школа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40" name="AutoShape 100">
            <a:hlinkClick r:id="rId2" action="ppaction://hlinksldjump"/>
          </p:cNvPr>
          <p:cNvSpPr/>
          <p:nvPr/>
        </p:nvSpPr>
        <p:spPr>
          <a:xfrm>
            <a:off x="395280" y="18900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835280" y="1557360"/>
          <a:ext cx="5400720" cy="4681440"/>
        </p:xfrm>
        <a:graphic>
          <a:graphicData uri="http://schemas.openxmlformats.org/drawingml/2006/table">
            <a:tbl>
              <a:tblPr/>
              <a:tblGrid>
                <a:gridCol w="1596960"/>
                <a:gridCol w="2054160"/>
                <a:gridCol w="174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42" name="WordArt 97"/>
          <p:cNvSpPr txBox="1"/>
          <p:nvPr/>
        </p:nvSpPr>
        <p:spPr>
          <a:xfrm>
            <a:off x="900000" y="189000"/>
            <a:ext cx="6777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ffff00"/>
                  </a:solidFill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 в клетки ЖИ или ШИ</a:t>
            </a:r>
            <a:endParaRPr b="0" lang="en-US" sz="1800" spc="1" strike="noStrike">
              <a:ln w="0">
                <a:solidFill>
                  <a:srgbClr val="ffff00"/>
                </a:solidFill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AutoShape 132">
            <a:hlinkClick r:id="rId1" action="ppaction://hlinksldjump"/>
          </p:cNvPr>
          <p:cNvSpPr/>
          <p:nvPr/>
        </p:nvSpPr>
        <p:spPr>
          <a:xfrm>
            <a:off x="179280" y="115920"/>
            <a:ext cx="792360" cy="485640"/>
          </a:xfrm>
          <a:prstGeom prst="leftArrow">
            <a:avLst>
              <a:gd name="adj1" fmla="val 50000"/>
              <a:gd name="adj2" fmla="val 40789"/>
            </a:avLst>
          </a:prstGeom>
          <a:gradFill rotWithShape="0">
            <a:gsLst>
              <a:gs pos="0">
                <a:srgbClr val="0fc6f1"/>
              </a:gs>
              <a:gs pos="100000">
                <a:srgbClr val="b7ee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33"/>
          <p:cNvSpPr txBox="1"/>
          <p:nvPr/>
        </p:nvSpPr>
        <p:spPr>
          <a:xfrm>
            <a:off x="3995640" y="162864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34"/>
          <p:cNvSpPr txBox="1"/>
          <p:nvPr/>
        </p:nvSpPr>
        <p:spPr>
          <a:xfrm>
            <a:off x="3995640" y="2276640"/>
            <a:ext cx="115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136"/>
          <p:cNvSpPr txBox="1"/>
          <p:nvPr/>
        </p:nvSpPr>
        <p:spPr>
          <a:xfrm>
            <a:off x="3995640" y="2924280"/>
            <a:ext cx="1035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7"/>
          <p:cNvSpPr txBox="1"/>
          <p:nvPr/>
        </p:nvSpPr>
        <p:spPr>
          <a:xfrm>
            <a:off x="3924360" y="3573360"/>
            <a:ext cx="115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38"/>
          <p:cNvSpPr txBox="1"/>
          <p:nvPr/>
        </p:nvSpPr>
        <p:spPr>
          <a:xfrm>
            <a:off x="3851280" y="4869000"/>
            <a:ext cx="115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39"/>
          <p:cNvSpPr txBox="1"/>
          <p:nvPr/>
        </p:nvSpPr>
        <p:spPr>
          <a:xfrm>
            <a:off x="3924360" y="4221000"/>
            <a:ext cx="1035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40"/>
          <p:cNvSpPr txBox="1"/>
          <p:nvPr/>
        </p:nvSpPr>
        <p:spPr>
          <a:xfrm>
            <a:off x="3924360" y="5516640"/>
            <a:ext cx="1035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771640" y="18900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8320" y="907920"/>
            <a:ext cx="87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оске записаны слова с безударной гласной в два столбика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 команд. У каждой команды набор мячей(круг с записанной на нё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сной). По сигналу члены команды забивают голы. Выигрывает т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 забьёт наибольшее количество точных 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836360" y="2708280"/>
            <a:ext cx="119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…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…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…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…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…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5078520" y="2565360"/>
            <a:ext cx="14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…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…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…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…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…р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7"/>
          <p:cNvSpPr/>
          <p:nvPr/>
        </p:nvSpPr>
        <p:spPr>
          <a:xfrm flipV="1">
            <a:off x="4788000" y="2421000"/>
            <a:ext cx="0" cy="194472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1"/>
          <p:cNvSpPr/>
          <p:nvPr/>
        </p:nvSpPr>
        <p:spPr>
          <a:xfrm>
            <a:off x="4859280" y="5950080"/>
            <a:ext cx="720720" cy="67284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2"/>
          <p:cNvSpPr/>
          <p:nvPr/>
        </p:nvSpPr>
        <p:spPr>
          <a:xfrm>
            <a:off x="5148360" y="4869000"/>
            <a:ext cx="720720" cy="67284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3"/>
          <p:cNvSpPr/>
          <p:nvPr/>
        </p:nvSpPr>
        <p:spPr>
          <a:xfrm>
            <a:off x="6156360" y="544500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7380360" y="573408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5"/>
          <p:cNvSpPr/>
          <p:nvPr/>
        </p:nvSpPr>
        <p:spPr>
          <a:xfrm>
            <a:off x="7236000" y="429264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6"/>
          <p:cNvSpPr/>
          <p:nvPr/>
        </p:nvSpPr>
        <p:spPr>
          <a:xfrm>
            <a:off x="2050920" y="587700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3203640" y="479736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8"/>
          <p:cNvSpPr/>
          <p:nvPr/>
        </p:nvSpPr>
        <p:spPr>
          <a:xfrm>
            <a:off x="1979640" y="472428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9"/>
          <p:cNvSpPr/>
          <p:nvPr/>
        </p:nvSpPr>
        <p:spPr>
          <a:xfrm>
            <a:off x="971640" y="537372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468360" y="429264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51"/>
          <p:cNvSpPr txBox="1"/>
          <p:nvPr/>
        </p:nvSpPr>
        <p:spPr>
          <a:xfrm rot="306000">
            <a:off x="2846160" y="-36360"/>
            <a:ext cx="37335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бей гол</a:t>
            </a:r>
            <a:endParaRPr b="0" lang="en-US" sz="18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Line 52"/>
          <p:cNvSpPr/>
          <p:nvPr/>
        </p:nvSpPr>
        <p:spPr>
          <a:xfrm>
            <a:off x="3419640" y="2565360"/>
            <a:ext cx="0" cy="180036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 flipH="1">
            <a:off x="1402920" y="2565360"/>
            <a:ext cx="201636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4"/>
          <p:cNvSpPr/>
          <p:nvPr/>
        </p:nvSpPr>
        <p:spPr>
          <a:xfrm>
            <a:off x="1403280" y="2781360"/>
            <a:ext cx="0" cy="20876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4788000" y="2421000"/>
            <a:ext cx="194472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6"/>
          <p:cNvSpPr/>
          <p:nvPr/>
        </p:nvSpPr>
        <p:spPr>
          <a:xfrm>
            <a:off x="6659640" y="2492280"/>
            <a:ext cx="0" cy="20890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58"/>
          <p:cNvSpPr/>
          <p:nvPr/>
        </p:nvSpPr>
        <p:spPr>
          <a:xfrm>
            <a:off x="755640" y="2852640"/>
            <a:ext cx="601560" cy="1486080"/>
          </a:xfrm>
          <a:custGeom>
            <a:avLst/>
            <a:gdLst>
              <a:gd name="textAreaLeft" fmla="*/ 0 w 601560"/>
              <a:gd name="textAreaRight" fmla="*/ 601920 w 60156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379" h="936">
                <a:moveTo>
                  <a:pt x="379" y="0"/>
                </a:moveTo>
                <a:cubicBezTo>
                  <a:pt x="350" y="44"/>
                  <a:pt x="319" y="64"/>
                  <a:pt x="275" y="88"/>
                </a:cubicBezTo>
                <a:cubicBezTo>
                  <a:pt x="192" y="134"/>
                  <a:pt x="257" y="110"/>
                  <a:pt x="203" y="128"/>
                </a:cubicBezTo>
                <a:cubicBezTo>
                  <a:pt x="165" y="166"/>
                  <a:pt x="125" y="180"/>
                  <a:pt x="83" y="208"/>
                </a:cubicBezTo>
                <a:cubicBezTo>
                  <a:pt x="0" y="456"/>
                  <a:pt x="59" y="535"/>
                  <a:pt x="59" y="9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60"/>
          <p:cNvSpPr/>
          <p:nvPr/>
        </p:nvSpPr>
        <p:spPr>
          <a:xfrm>
            <a:off x="6730920" y="2502000"/>
            <a:ext cx="482760" cy="1752480"/>
          </a:xfrm>
          <a:custGeom>
            <a:avLst/>
            <a:gdLst>
              <a:gd name="textAreaLeft" fmla="*/ 0 w 482760"/>
              <a:gd name="textAreaRight" fmla="*/ 483120 w 4827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304" h="1104">
                <a:moveTo>
                  <a:pt x="0" y="0"/>
                </a:moveTo>
                <a:cubicBezTo>
                  <a:pt x="24" y="3"/>
                  <a:pt x="48" y="3"/>
                  <a:pt x="72" y="8"/>
                </a:cubicBezTo>
                <a:cubicBezTo>
                  <a:pt x="89" y="11"/>
                  <a:pt x="120" y="24"/>
                  <a:pt x="120" y="24"/>
                </a:cubicBezTo>
                <a:cubicBezTo>
                  <a:pt x="185" y="89"/>
                  <a:pt x="155" y="64"/>
                  <a:pt x="208" y="104"/>
                </a:cubicBezTo>
                <a:cubicBezTo>
                  <a:pt x="223" y="148"/>
                  <a:pt x="255" y="171"/>
                  <a:pt x="280" y="208"/>
                </a:cubicBezTo>
                <a:cubicBezTo>
                  <a:pt x="286" y="511"/>
                  <a:pt x="304" y="801"/>
                  <a:pt x="304" y="11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1"/>
          <p:cNvSpPr/>
          <p:nvPr/>
        </p:nvSpPr>
        <p:spPr>
          <a:xfrm>
            <a:off x="1333440" y="4851360"/>
            <a:ext cx="50760" cy="12600"/>
          </a:xfrm>
          <a:custGeom>
            <a:avLst/>
            <a:gdLst>
              <a:gd name="textAreaLeft" fmla="*/ 0 w 50760"/>
              <a:gd name="textAreaRight" fmla="*/ 51120 w 50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2" h="8">
                <a:moveTo>
                  <a:pt x="32" y="8"/>
                </a:moveTo>
                <a:cubicBezTo>
                  <a:pt x="21" y="5"/>
                  <a:pt x="0" y="0"/>
                  <a:pt x="0" y="0"/>
                </a:cubicBezTo>
                <a:cubicBezTo>
                  <a:pt x="0" y="0"/>
                  <a:pt x="21" y="5"/>
                  <a:pt x="32" y="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67"/>
          <p:cNvSpPr/>
          <p:nvPr/>
        </p:nvSpPr>
        <p:spPr>
          <a:xfrm>
            <a:off x="4648320" y="4191120"/>
            <a:ext cx="355320" cy="387360"/>
          </a:xfrm>
          <a:custGeom>
            <a:avLst/>
            <a:gdLst>
              <a:gd name="textAreaLeft" fmla="*/ 0 w 355320"/>
              <a:gd name="textAreaRight" fmla="*/ 355680 w 355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24" h="244">
                <a:moveTo>
                  <a:pt x="0" y="136"/>
                </a:moveTo>
                <a:cubicBezTo>
                  <a:pt x="16" y="54"/>
                  <a:pt x="0" y="115"/>
                  <a:pt x="16" y="152"/>
                </a:cubicBezTo>
                <a:cubicBezTo>
                  <a:pt x="20" y="161"/>
                  <a:pt x="32" y="163"/>
                  <a:pt x="40" y="168"/>
                </a:cubicBezTo>
                <a:cubicBezTo>
                  <a:pt x="43" y="128"/>
                  <a:pt x="29" y="83"/>
                  <a:pt x="48" y="48"/>
                </a:cubicBezTo>
                <a:cubicBezTo>
                  <a:pt x="57" y="31"/>
                  <a:pt x="80" y="96"/>
                  <a:pt x="80" y="96"/>
                </a:cubicBezTo>
                <a:cubicBezTo>
                  <a:pt x="101" y="244"/>
                  <a:pt x="77" y="53"/>
                  <a:pt x="112" y="0"/>
                </a:cubicBezTo>
                <a:cubicBezTo>
                  <a:pt x="127" y="30"/>
                  <a:pt x="145" y="58"/>
                  <a:pt x="160" y="88"/>
                </a:cubicBezTo>
                <a:cubicBezTo>
                  <a:pt x="172" y="195"/>
                  <a:pt x="171" y="166"/>
                  <a:pt x="192" y="104"/>
                </a:cubicBezTo>
                <a:cubicBezTo>
                  <a:pt x="199" y="119"/>
                  <a:pt x="224" y="151"/>
                  <a:pt x="224" y="16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1"/>
          <p:cNvSpPr/>
          <p:nvPr/>
        </p:nvSpPr>
        <p:spPr>
          <a:xfrm>
            <a:off x="687708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2"/>
          <p:cNvSpPr/>
          <p:nvPr/>
        </p:nvSpPr>
        <p:spPr>
          <a:xfrm>
            <a:off x="7093080" y="2708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5"/>
          <p:cNvSpPr/>
          <p:nvPr/>
        </p:nvSpPr>
        <p:spPr>
          <a:xfrm>
            <a:off x="7020000" y="263700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6"/>
          <p:cNvSpPr/>
          <p:nvPr/>
        </p:nvSpPr>
        <p:spPr>
          <a:xfrm>
            <a:off x="6804000" y="2781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7"/>
          <p:cNvSpPr/>
          <p:nvPr/>
        </p:nvSpPr>
        <p:spPr>
          <a:xfrm>
            <a:off x="6804000" y="3068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8"/>
          <p:cNvSpPr/>
          <p:nvPr/>
        </p:nvSpPr>
        <p:spPr>
          <a:xfrm>
            <a:off x="6732720" y="335772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9"/>
          <p:cNvSpPr/>
          <p:nvPr/>
        </p:nvSpPr>
        <p:spPr>
          <a:xfrm>
            <a:off x="6732720" y="3716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0"/>
          <p:cNvSpPr/>
          <p:nvPr/>
        </p:nvSpPr>
        <p:spPr>
          <a:xfrm>
            <a:off x="6732720" y="400536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2"/>
          <p:cNvSpPr/>
          <p:nvPr/>
        </p:nvSpPr>
        <p:spPr>
          <a:xfrm>
            <a:off x="4788000" y="2421000"/>
            <a:ext cx="2887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3"/>
          <p:cNvSpPr/>
          <p:nvPr/>
        </p:nvSpPr>
        <p:spPr>
          <a:xfrm>
            <a:off x="1258920" y="2924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4"/>
          <p:cNvSpPr/>
          <p:nvPr/>
        </p:nvSpPr>
        <p:spPr>
          <a:xfrm>
            <a:off x="1116000" y="306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6"/>
          <p:cNvSpPr/>
          <p:nvPr/>
        </p:nvSpPr>
        <p:spPr>
          <a:xfrm>
            <a:off x="97164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7"/>
          <p:cNvSpPr/>
          <p:nvPr/>
        </p:nvSpPr>
        <p:spPr>
          <a:xfrm flipV="1">
            <a:off x="826920" y="3141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8"/>
          <p:cNvSpPr/>
          <p:nvPr/>
        </p:nvSpPr>
        <p:spPr>
          <a:xfrm flipV="1">
            <a:off x="826920" y="35002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9"/>
          <p:cNvSpPr/>
          <p:nvPr/>
        </p:nvSpPr>
        <p:spPr>
          <a:xfrm flipV="1">
            <a:off x="826920" y="3933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0"/>
          <p:cNvSpPr/>
          <p:nvPr/>
        </p:nvSpPr>
        <p:spPr>
          <a:xfrm flipV="1">
            <a:off x="1116000" y="4292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1"/>
          <p:cNvSpPr/>
          <p:nvPr/>
        </p:nvSpPr>
        <p:spPr>
          <a:xfrm flipH="1">
            <a:off x="3058920" y="256536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92"/>
          <p:cNvSpPr/>
          <p:nvPr/>
        </p:nvSpPr>
        <p:spPr>
          <a:xfrm>
            <a:off x="1200240" y="4656240"/>
            <a:ext cx="399960" cy="344520"/>
          </a:xfrm>
          <a:custGeom>
            <a:avLst/>
            <a:gdLst>
              <a:gd name="textAreaLeft" fmla="*/ 0 w 399960"/>
              <a:gd name="textAreaRight" fmla="*/ 400320 w 3999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52" h="217">
                <a:moveTo>
                  <a:pt x="4" y="155"/>
                </a:moveTo>
                <a:cubicBezTo>
                  <a:pt x="7" y="107"/>
                  <a:pt x="0" y="57"/>
                  <a:pt x="12" y="11"/>
                </a:cubicBezTo>
                <a:cubicBezTo>
                  <a:pt x="15" y="0"/>
                  <a:pt x="29" y="26"/>
                  <a:pt x="36" y="35"/>
                </a:cubicBezTo>
                <a:cubicBezTo>
                  <a:pt x="42" y="42"/>
                  <a:pt x="48" y="50"/>
                  <a:pt x="52" y="59"/>
                </a:cubicBezTo>
                <a:cubicBezTo>
                  <a:pt x="67" y="92"/>
                  <a:pt x="69" y="113"/>
                  <a:pt x="76" y="147"/>
                </a:cubicBezTo>
                <a:cubicBezTo>
                  <a:pt x="99" y="101"/>
                  <a:pt x="108" y="52"/>
                  <a:pt x="124" y="3"/>
                </a:cubicBezTo>
                <a:cubicBezTo>
                  <a:pt x="129" y="64"/>
                  <a:pt x="123" y="128"/>
                  <a:pt x="140" y="187"/>
                </a:cubicBezTo>
                <a:cubicBezTo>
                  <a:pt x="142" y="195"/>
                  <a:pt x="143" y="170"/>
                  <a:pt x="148" y="163"/>
                </a:cubicBezTo>
                <a:cubicBezTo>
                  <a:pt x="213" y="66"/>
                  <a:pt x="133" y="217"/>
                  <a:pt x="188" y="107"/>
                </a:cubicBezTo>
                <a:cubicBezTo>
                  <a:pt x="191" y="88"/>
                  <a:pt x="192" y="69"/>
                  <a:pt x="196" y="51"/>
                </a:cubicBezTo>
                <a:cubicBezTo>
                  <a:pt x="200" y="35"/>
                  <a:pt x="195" y="3"/>
                  <a:pt x="212" y="3"/>
                </a:cubicBezTo>
                <a:cubicBezTo>
                  <a:pt x="228" y="3"/>
                  <a:pt x="215" y="36"/>
                  <a:pt x="220" y="51"/>
                </a:cubicBezTo>
                <a:cubicBezTo>
                  <a:pt x="223" y="60"/>
                  <a:pt x="231" y="67"/>
                  <a:pt x="236" y="75"/>
                </a:cubicBezTo>
                <a:cubicBezTo>
                  <a:pt x="242" y="104"/>
                  <a:pt x="252" y="134"/>
                  <a:pt x="252" y="16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99"/>
          <p:cNvSpPr/>
          <p:nvPr/>
        </p:nvSpPr>
        <p:spPr>
          <a:xfrm rot="21009600">
            <a:off x="3058920" y="4005000"/>
            <a:ext cx="865080" cy="596880"/>
          </a:xfrm>
          <a:custGeom>
            <a:avLst/>
            <a:gdLst>
              <a:gd name="textAreaLeft" fmla="*/ 0 w 865080"/>
              <a:gd name="textAreaRight" fmla="*/ 865440 w 865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00"/>
          <p:cNvSpPr/>
          <p:nvPr/>
        </p:nvSpPr>
        <p:spPr>
          <a:xfrm rot="21009600">
            <a:off x="4355640" y="4005360"/>
            <a:ext cx="865440" cy="596880"/>
          </a:xfrm>
          <a:custGeom>
            <a:avLst/>
            <a:gdLst>
              <a:gd name="textAreaLeft" fmla="*/ 0 w 865440"/>
              <a:gd name="textAreaRight" fmla="*/ 865800 w 8654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1"/>
          <p:cNvSpPr/>
          <p:nvPr/>
        </p:nvSpPr>
        <p:spPr>
          <a:xfrm rot="20829000">
            <a:off x="1042920" y="4437000"/>
            <a:ext cx="865080" cy="596880"/>
          </a:xfrm>
          <a:custGeom>
            <a:avLst/>
            <a:gdLst>
              <a:gd name="textAreaLeft" fmla="*/ 0 w 865080"/>
              <a:gd name="textAreaRight" fmla="*/ 865440 w 865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2"/>
          <p:cNvSpPr/>
          <p:nvPr/>
        </p:nvSpPr>
        <p:spPr>
          <a:xfrm rot="21195600">
            <a:off x="6516360" y="4076640"/>
            <a:ext cx="865080" cy="596880"/>
          </a:xfrm>
          <a:custGeom>
            <a:avLst/>
            <a:gdLst>
              <a:gd name="textAreaLeft" fmla="*/ 0 w 865080"/>
              <a:gd name="textAreaRight" fmla="*/ 865440 w 865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4"/>
          <p:cNvSpPr/>
          <p:nvPr/>
        </p:nvSpPr>
        <p:spPr>
          <a:xfrm>
            <a:off x="32400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07"/>
          <p:cNvSpPr txBox="1"/>
          <p:nvPr/>
        </p:nvSpPr>
        <p:spPr>
          <a:xfrm rot="5400000">
            <a:off x="2204280" y="2772720"/>
            <a:ext cx="28728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0" name="WordArt 108"/>
          <p:cNvSpPr txBox="1"/>
          <p:nvPr/>
        </p:nvSpPr>
        <p:spPr>
          <a:xfrm rot="5400000">
            <a:off x="2268000" y="314136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WordArt 109"/>
          <p:cNvSpPr txBox="1"/>
          <p:nvPr/>
        </p:nvSpPr>
        <p:spPr>
          <a:xfrm rot="5400000">
            <a:off x="2326680" y="3514320"/>
            <a:ext cx="22536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WordArt 110"/>
          <p:cNvSpPr txBox="1"/>
          <p:nvPr/>
        </p:nvSpPr>
        <p:spPr>
          <a:xfrm rot="5400000">
            <a:off x="2367720" y="3906000"/>
            <a:ext cx="216000" cy="27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WordArt 111"/>
          <p:cNvSpPr txBox="1"/>
          <p:nvPr/>
        </p:nvSpPr>
        <p:spPr>
          <a:xfrm rot="5400000">
            <a:off x="2304360" y="425592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113"/>
          <p:cNvSpPr txBox="1"/>
          <p:nvPr/>
        </p:nvSpPr>
        <p:spPr>
          <a:xfrm rot="5400000">
            <a:off x="5435640" y="2708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WordArt 114"/>
          <p:cNvSpPr txBox="1"/>
          <p:nvPr/>
        </p:nvSpPr>
        <p:spPr>
          <a:xfrm rot="5400000">
            <a:off x="5372280" y="2988360"/>
            <a:ext cx="28728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115"/>
          <p:cNvSpPr txBox="1"/>
          <p:nvPr/>
        </p:nvSpPr>
        <p:spPr>
          <a:xfrm rot="5400000">
            <a:off x="5400000" y="346464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116"/>
          <p:cNvSpPr txBox="1"/>
          <p:nvPr/>
        </p:nvSpPr>
        <p:spPr>
          <a:xfrm rot="5400000">
            <a:off x="5502600" y="3794760"/>
            <a:ext cx="272880" cy="26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117"/>
          <p:cNvSpPr txBox="1"/>
          <p:nvPr/>
        </p:nvSpPr>
        <p:spPr>
          <a:xfrm rot="5400000">
            <a:off x="5472000" y="411336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2392200" y="22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1"/>
          <p:cNvSpPr/>
          <p:nvPr/>
        </p:nvSpPr>
        <p:spPr>
          <a:xfrm>
            <a:off x="5003640" y="2276640"/>
            <a:ext cx="739800" cy="2279520"/>
          </a:xfrm>
          <a:custGeom>
            <a:avLst/>
            <a:gdLst>
              <a:gd name="textAreaLeft" fmla="*/ 0 w 739800"/>
              <a:gd name="textAreaRight" fmla="*/ 740160 w 739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66" h="1436">
                <a:moveTo>
                  <a:pt x="66" y="1372"/>
                </a:moveTo>
                <a:cubicBezTo>
                  <a:pt x="80" y="1330"/>
                  <a:pt x="92" y="1286"/>
                  <a:pt x="106" y="1244"/>
                </a:cubicBezTo>
                <a:cubicBezTo>
                  <a:pt x="111" y="1228"/>
                  <a:pt x="122" y="1196"/>
                  <a:pt x="122" y="1196"/>
                </a:cubicBezTo>
                <a:cubicBezTo>
                  <a:pt x="125" y="1132"/>
                  <a:pt x="129" y="1068"/>
                  <a:pt x="130" y="1004"/>
                </a:cubicBezTo>
                <a:cubicBezTo>
                  <a:pt x="149" y="0"/>
                  <a:pt x="0" y="226"/>
                  <a:pt x="178" y="404"/>
                </a:cubicBezTo>
                <a:cubicBezTo>
                  <a:pt x="198" y="464"/>
                  <a:pt x="204" y="516"/>
                  <a:pt x="210" y="580"/>
                </a:cubicBezTo>
                <a:cubicBezTo>
                  <a:pt x="213" y="641"/>
                  <a:pt x="207" y="704"/>
                  <a:pt x="218" y="764"/>
                </a:cubicBezTo>
                <a:cubicBezTo>
                  <a:pt x="221" y="781"/>
                  <a:pt x="231" y="733"/>
                  <a:pt x="234" y="716"/>
                </a:cubicBezTo>
                <a:cubicBezTo>
                  <a:pt x="242" y="665"/>
                  <a:pt x="250" y="615"/>
                  <a:pt x="258" y="564"/>
                </a:cubicBezTo>
                <a:cubicBezTo>
                  <a:pt x="283" y="602"/>
                  <a:pt x="271" y="579"/>
                  <a:pt x="290" y="636"/>
                </a:cubicBezTo>
                <a:cubicBezTo>
                  <a:pt x="293" y="644"/>
                  <a:pt x="298" y="660"/>
                  <a:pt x="298" y="660"/>
                </a:cubicBezTo>
                <a:cubicBezTo>
                  <a:pt x="301" y="719"/>
                  <a:pt x="300" y="778"/>
                  <a:pt x="306" y="836"/>
                </a:cubicBezTo>
                <a:cubicBezTo>
                  <a:pt x="307" y="844"/>
                  <a:pt x="309" y="819"/>
                  <a:pt x="314" y="812"/>
                </a:cubicBezTo>
                <a:cubicBezTo>
                  <a:pt x="328" y="790"/>
                  <a:pt x="347" y="770"/>
                  <a:pt x="362" y="748"/>
                </a:cubicBezTo>
                <a:cubicBezTo>
                  <a:pt x="387" y="711"/>
                  <a:pt x="391" y="682"/>
                  <a:pt x="402" y="636"/>
                </a:cubicBezTo>
                <a:cubicBezTo>
                  <a:pt x="405" y="625"/>
                  <a:pt x="410" y="604"/>
                  <a:pt x="410" y="604"/>
                </a:cubicBezTo>
                <a:cubicBezTo>
                  <a:pt x="450" y="724"/>
                  <a:pt x="427" y="857"/>
                  <a:pt x="402" y="980"/>
                </a:cubicBezTo>
                <a:cubicBezTo>
                  <a:pt x="406" y="1103"/>
                  <a:pt x="399" y="1227"/>
                  <a:pt x="418" y="1348"/>
                </a:cubicBezTo>
                <a:cubicBezTo>
                  <a:pt x="421" y="1365"/>
                  <a:pt x="429" y="1380"/>
                  <a:pt x="434" y="1396"/>
                </a:cubicBezTo>
                <a:cubicBezTo>
                  <a:pt x="437" y="1404"/>
                  <a:pt x="435" y="1415"/>
                  <a:pt x="442" y="1420"/>
                </a:cubicBezTo>
                <a:cubicBezTo>
                  <a:pt x="450" y="1425"/>
                  <a:pt x="466" y="1436"/>
                  <a:pt x="466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8"/>
          <p:cNvSpPr/>
          <p:nvPr/>
        </p:nvSpPr>
        <p:spPr>
          <a:xfrm>
            <a:off x="20520" y="1332000"/>
            <a:ext cx="2446560" cy="2604960"/>
          </a:xfrm>
          <a:custGeom>
            <a:avLst/>
            <a:gdLst>
              <a:gd name="textAreaLeft" fmla="*/ 0 w 2446560"/>
              <a:gd name="textAreaRight" fmla="*/ 2446920 w 2446560"/>
              <a:gd name="textAreaTop" fmla="*/ 0 h 2604960"/>
              <a:gd name="textAreaBottom" fmla="*/ 2605320 h 2604960"/>
            </a:gdLst>
            <a:ahLst/>
            <a:rect l="textAreaLeft" t="textAreaTop" r="textAreaRight" b="textAreaBottom"/>
            <a:pathLst>
              <a:path w="1541" h="1641">
                <a:moveTo>
                  <a:pt x="451" y="1449"/>
                </a:moveTo>
                <a:cubicBezTo>
                  <a:pt x="442" y="1572"/>
                  <a:pt x="462" y="1575"/>
                  <a:pt x="355" y="1593"/>
                </a:cubicBezTo>
                <a:cubicBezTo>
                  <a:pt x="326" y="1588"/>
                  <a:pt x="293" y="1591"/>
                  <a:pt x="267" y="1577"/>
                </a:cubicBezTo>
                <a:cubicBezTo>
                  <a:pt x="211" y="1547"/>
                  <a:pt x="226" y="1455"/>
                  <a:pt x="203" y="1409"/>
                </a:cubicBezTo>
                <a:cubicBezTo>
                  <a:pt x="199" y="1400"/>
                  <a:pt x="187" y="1398"/>
                  <a:pt x="179" y="1393"/>
                </a:cubicBezTo>
                <a:cubicBezTo>
                  <a:pt x="135" y="1404"/>
                  <a:pt x="115" y="1401"/>
                  <a:pt x="83" y="1369"/>
                </a:cubicBezTo>
                <a:cubicBezTo>
                  <a:pt x="73" y="1340"/>
                  <a:pt x="59" y="1319"/>
                  <a:pt x="51" y="1289"/>
                </a:cubicBezTo>
                <a:cubicBezTo>
                  <a:pt x="43" y="1011"/>
                  <a:pt x="52" y="1086"/>
                  <a:pt x="11" y="921"/>
                </a:cubicBezTo>
                <a:cubicBezTo>
                  <a:pt x="14" y="814"/>
                  <a:pt x="14" y="708"/>
                  <a:pt x="19" y="601"/>
                </a:cubicBezTo>
                <a:cubicBezTo>
                  <a:pt x="21" y="548"/>
                  <a:pt x="48" y="540"/>
                  <a:pt x="67" y="497"/>
                </a:cubicBezTo>
                <a:cubicBezTo>
                  <a:pt x="74" y="482"/>
                  <a:pt x="83" y="449"/>
                  <a:pt x="83" y="449"/>
                </a:cubicBezTo>
                <a:cubicBezTo>
                  <a:pt x="88" y="212"/>
                  <a:pt x="0" y="54"/>
                  <a:pt x="211" y="1"/>
                </a:cubicBezTo>
                <a:cubicBezTo>
                  <a:pt x="243" y="4"/>
                  <a:pt x="276" y="0"/>
                  <a:pt x="307" y="9"/>
                </a:cubicBezTo>
                <a:cubicBezTo>
                  <a:pt x="321" y="13"/>
                  <a:pt x="326" y="48"/>
                  <a:pt x="331" y="57"/>
                </a:cubicBezTo>
                <a:cubicBezTo>
                  <a:pt x="353" y="95"/>
                  <a:pt x="387" y="116"/>
                  <a:pt x="427" y="129"/>
                </a:cubicBezTo>
                <a:cubicBezTo>
                  <a:pt x="478" y="126"/>
                  <a:pt x="528" y="126"/>
                  <a:pt x="579" y="121"/>
                </a:cubicBezTo>
                <a:cubicBezTo>
                  <a:pt x="625" y="117"/>
                  <a:pt x="677" y="97"/>
                  <a:pt x="723" y="89"/>
                </a:cubicBezTo>
                <a:cubicBezTo>
                  <a:pt x="873" y="100"/>
                  <a:pt x="828" y="70"/>
                  <a:pt x="851" y="185"/>
                </a:cubicBezTo>
                <a:cubicBezTo>
                  <a:pt x="899" y="182"/>
                  <a:pt x="947" y="183"/>
                  <a:pt x="995" y="177"/>
                </a:cubicBezTo>
                <a:cubicBezTo>
                  <a:pt x="1017" y="174"/>
                  <a:pt x="1059" y="161"/>
                  <a:pt x="1059" y="161"/>
                </a:cubicBezTo>
                <a:cubicBezTo>
                  <a:pt x="1118" y="164"/>
                  <a:pt x="1177" y="160"/>
                  <a:pt x="1235" y="169"/>
                </a:cubicBezTo>
                <a:cubicBezTo>
                  <a:pt x="1260" y="173"/>
                  <a:pt x="1292" y="248"/>
                  <a:pt x="1307" y="273"/>
                </a:cubicBezTo>
                <a:cubicBezTo>
                  <a:pt x="1317" y="289"/>
                  <a:pt x="1339" y="321"/>
                  <a:pt x="1339" y="321"/>
                </a:cubicBezTo>
                <a:cubicBezTo>
                  <a:pt x="1342" y="350"/>
                  <a:pt x="1345" y="380"/>
                  <a:pt x="1347" y="409"/>
                </a:cubicBezTo>
                <a:cubicBezTo>
                  <a:pt x="1353" y="505"/>
                  <a:pt x="1310" y="594"/>
                  <a:pt x="1403" y="617"/>
                </a:cubicBezTo>
                <a:cubicBezTo>
                  <a:pt x="1438" y="643"/>
                  <a:pt x="1475" y="668"/>
                  <a:pt x="1499" y="705"/>
                </a:cubicBezTo>
                <a:cubicBezTo>
                  <a:pt x="1512" y="725"/>
                  <a:pt x="1531" y="769"/>
                  <a:pt x="1531" y="769"/>
                </a:cubicBezTo>
                <a:cubicBezTo>
                  <a:pt x="1527" y="849"/>
                  <a:pt x="1541" y="914"/>
                  <a:pt x="1499" y="977"/>
                </a:cubicBezTo>
                <a:cubicBezTo>
                  <a:pt x="1486" y="1044"/>
                  <a:pt x="1496" y="1110"/>
                  <a:pt x="1507" y="1177"/>
                </a:cubicBezTo>
                <a:cubicBezTo>
                  <a:pt x="1504" y="1220"/>
                  <a:pt x="1503" y="1262"/>
                  <a:pt x="1499" y="1305"/>
                </a:cubicBezTo>
                <a:cubicBezTo>
                  <a:pt x="1498" y="1313"/>
                  <a:pt x="1497" y="1323"/>
                  <a:pt x="1491" y="1329"/>
                </a:cubicBezTo>
                <a:cubicBezTo>
                  <a:pt x="1478" y="1342"/>
                  <a:pt x="1458" y="1343"/>
                  <a:pt x="1443" y="1353"/>
                </a:cubicBezTo>
                <a:cubicBezTo>
                  <a:pt x="1414" y="1373"/>
                  <a:pt x="1396" y="1398"/>
                  <a:pt x="1363" y="1409"/>
                </a:cubicBezTo>
                <a:cubicBezTo>
                  <a:pt x="1333" y="1439"/>
                  <a:pt x="1333" y="1461"/>
                  <a:pt x="1315" y="1497"/>
                </a:cubicBezTo>
                <a:cubicBezTo>
                  <a:pt x="1293" y="1542"/>
                  <a:pt x="1235" y="1625"/>
                  <a:pt x="1187" y="1641"/>
                </a:cubicBezTo>
                <a:cubicBezTo>
                  <a:pt x="1147" y="1638"/>
                  <a:pt x="1107" y="1639"/>
                  <a:pt x="1067" y="1633"/>
                </a:cubicBezTo>
                <a:cubicBezTo>
                  <a:pt x="1033" y="1628"/>
                  <a:pt x="1016" y="1597"/>
                  <a:pt x="979" y="1593"/>
                </a:cubicBezTo>
                <a:cubicBezTo>
                  <a:pt x="936" y="1589"/>
                  <a:pt x="894" y="1588"/>
                  <a:pt x="851" y="1585"/>
                </a:cubicBezTo>
                <a:cubicBezTo>
                  <a:pt x="840" y="1569"/>
                  <a:pt x="830" y="1553"/>
                  <a:pt x="819" y="1537"/>
                </a:cubicBezTo>
                <a:cubicBezTo>
                  <a:pt x="802" y="1512"/>
                  <a:pt x="755" y="1504"/>
                  <a:pt x="755" y="1465"/>
                </a:cubicBezTo>
              </a:path>
            </a:pathLst>
          </a:custGeom>
          <a:solidFill>
            <a:srgbClr val="22aa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0"/>
          <p:cNvSpPr/>
          <p:nvPr/>
        </p:nvSpPr>
        <p:spPr>
          <a:xfrm>
            <a:off x="4140360" y="1628640"/>
            <a:ext cx="2712960" cy="25560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56000"/>
              <a:gd name="textAreaBottom" fmla="*/ 2556360 h 2556000"/>
            </a:gdLst>
            <a:ahLst/>
            <a:rect l="textAreaLeft" t="textAreaTop" r="textAreaRight" b="textAreaBottom"/>
            <a:pathLst>
              <a:path w="1709" h="1610">
                <a:moveTo>
                  <a:pt x="661" y="1383"/>
                </a:moveTo>
                <a:cubicBezTo>
                  <a:pt x="609" y="1400"/>
                  <a:pt x="587" y="1453"/>
                  <a:pt x="533" y="1471"/>
                </a:cubicBezTo>
                <a:cubicBezTo>
                  <a:pt x="485" y="1468"/>
                  <a:pt x="437" y="1469"/>
                  <a:pt x="389" y="1463"/>
                </a:cubicBezTo>
                <a:cubicBezTo>
                  <a:pt x="345" y="1457"/>
                  <a:pt x="297" y="1407"/>
                  <a:pt x="261" y="1383"/>
                </a:cubicBezTo>
                <a:cubicBezTo>
                  <a:pt x="240" y="1321"/>
                  <a:pt x="187" y="1329"/>
                  <a:pt x="133" y="1311"/>
                </a:cubicBezTo>
                <a:cubicBezTo>
                  <a:pt x="105" y="1283"/>
                  <a:pt x="112" y="1267"/>
                  <a:pt x="77" y="1255"/>
                </a:cubicBezTo>
                <a:cubicBezTo>
                  <a:pt x="72" y="1244"/>
                  <a:pt x="68" y="1233"/>
                  <a:pt x="61" y="1223"/>
                </a:cubicBezTo>
                <a:cubicBezTo>
                  <a:pt x="54" y="1214"/>
                  <a:pt x="42" y="1209"/>
                  <a:pt x="37" y="1199"/>
                </a:cubicBezTo>
                <a:cubicBezTo>
                  <a:pt x="28" y="1183"/>
                  <a:pt x="18" y="1140"/>
                  <a:pt x="13" y="1119"/>
                </a:cubicBezTo>
                <a:cubicBezTo>
                  <a:pt x="17" y="1034"/>
                  <a:pt x="0" y="911"/>
                  <a:pt x="53" y="831"/>
                </a:cubicBezTo>
                <a:cubicBezTo>
                  <a:pt x="48" y="750"/>
                  <a:pt x="40" y="678"/>
                  <a:pt x="29" y="599"/>
                </a:cubicBezTo>
                <a:cubicBezTo>
                  <a:pt x="32" y="522"/>
                  <a:pt x="27" y="444"/>
                  <a:pt x="37" y="367"/>
                </a:cubicBezTo>
                <a:cubicBezTo>
                  <a:pt x="38" y="357"/>
                  <a:pt x="54" y="357"/>
                  <a:pt x="61" y="351"/>
                </a:cubicBezTo>
                <a:cubicBezTo>
                  <a:pt x="77" y="337"/>
                  <a:pt x="88" y="319"/>
                  <a:pt x="109" y="311"/>
                </a:cubicBezTo>
                <a:cubicBezTo>
                  <a:pt x="130" y="303"/>
                  <a:pt x="173" y="295"/>
                  <a:pt x="173" y="295"/>
                </a:cubicBezTo>
                <a:cubicBezTo>
                  <a:pt x="176" y="287"/>
                  <a:pt x="175" y="277"/>
                  <a:pt x="181" y="271"/>
                </a:cubicBezTo>
                <a:cubicBezTo>
                  <a:pt x="200" y="252"/>
                  <a:pt x="267" y="224"/>
                  <a:pt x="293" y="207"/>
                </a:cubicBezTo>
                <a:cubicBezTo>
                  <a:pt x="311" y="152"/>
                  <a:pt x="376" y="124"/>
                  <a:pt x="429" y="111"/>
                </a:cubicBezTo>
                <a:cubicBezTo>
                  <a:pt x="509" y="119"/>
                  <a:pt x="535" y="126"/>
                  <a:pt x="621" y="111"/>
                </a:cubicBezTo>
                <a:cubicBezTo>
                  <a:pt x="639" y="108"/>
                  <a:pt x="657" y="79"/>
                  <a:pt x="669" y="71"/>
                </a:cubicBezTo>
                <a:cubicBezTo>
                  <a:pt x="695" y="54"/>
                  <a:pt x="736" y="41"/>
                  <a:pt x="765" y="31"/>
                </a:cubicBezTo>
                <a:cubicBezTo>
                  <a:pt x="773" y="28"/>
                  <a:pt x="789" y="23"/>
                  <a:pt x="789" y="23"/>
                </a:cubicBezTo>
                <a:cubicBezTo>
                  <a:pt x="858" y="26"/>
                  <a:pt x="939" y="0"/>
                  <a:pt x="997" y="39"/>
                </a:cubicBezTo>
                <a:cubicBezTo>
                  <a:pt x="1013" y="49"/>
                  <a:pt x="1021" y="69"/>
                  <a:pt x="1037" y="79"/>
                </a:cubicBezTo>
                <a:cubicBezTo>
                  <a:pt x="1046" y="92"/>
                  <a:pt x="1107" y="173"/>
                  <a:pt x="1109" y="175"/>
                </a:cubicBezTo>
                <a:cubicBezTo>
                  <a:pt x="1204" y="238"/>
                  <a:pt x="1300" y="244"/>
                  <a:pt x="1413" y="255"/>
                </a:cubicBezTo>
                <a:cubicBezTo>
                  <a:pt x="1431" y="261"/>
                  <a:pt x="1451" y="263"/>
                  <a:pt x="1469" y="271"/>
                </a:cubicBezTo>
                <a:cubicBezTo>
                  <a:pt x="1512" y="290"/>
                  <a:pt x="1546" y="329"/>
                  <a:pt x="1589" y="351"/>
                </a:cubicBezTo>
                <a:cubicBezTo>
                  <a:pt x="1592" y="359"/>
                  <a:pt x="1591" y="369"/>
                  <a:pt x="1597" y="375"/>
                </a:cubicBezTo>
                <a:cubicBezTo>
                  <a:pt x="1603" y="381"/>
                  <a:pt x="1616" y="376"/>
                  <a:pt x="1621" y="383"/>
                </a:cubicBezTo>
                <a:cubicBezTo>
                  <a:pt x="1631" y="397"/>
                  <a:pt x="1637" y="431"/>
                  <a:pt x="1637" y="431"/>
                </a:cubicBezTo>
                <a:cubicBezTo>
                  <a:pt x="1634" y="495"/>
                  <a:pt x="1634" y="559"/>
                  <a:pt x="1629" y="623"/>
                </a:cubicBezTo>
                <a:cubicBezTo>
                  <a:pt x="1627" y="647"/>
                  <a:pt x="1598" y="682"/>
                  <a:pt x="1589" y="695"/>
                </a:cubicBezTo>
                <a:cubicBezTo>
                  <a:pt x="1560" y="739"/>
                  <a:pt x="1526" y="812"/>
                  <a:pt x="1509" y="863"/>
                </a:cubicBezTo>
                <a:cubicBezTo>
                  <a:pt x="1512" y="919"/>
                  <a:pt x="1507" y="976"/>
                  <a:pt x="1517" y="1031"/>
                </a:cubicBezTo>
                <a:cubicBezTo>
                  <a:pt x="1519" y="1040"/>
                  <a:pt x="1534" y="1041"/>
                  <a:pt x="1541" y="1047"/>
                </a:cubicBezTo>
                <a:cubicBezTo>
                  <a:pt x="1550" y="1054"/>
                  <a:pt x="1556" y="1064"/>
                  <a:pt x="1565" y="1071"/>
                </a:cubicBezTo>
                <a:cubicBezTo>
                  <a:pt x="1620" y="1116"/>
                  <a:pt x="1676" y="1150"/>
                  <a:pt x="1709" y="1215"/>
                </a:cubicBezTo>
                <a:cubicBezTo>
                  <a:pt x="1706" y="1282"/>
                  <a:pt x="1706" y="1348"/>
                  <a:pt x="1701" y="1415"/>
                </a:cubicBezTo>
                <a:cubicBezTo>
                  <a:pt x="1692" y="1540"/>
                  <a:pt x="1574" y="1592"/>
                  <a:pt x="1469" y="1607"/>
                </a:cubicBezTo>
                <a:cubicBezTo>
                  <a:pt x="1152" y="1594"/>
                  <a:pt x="1355" y="1610"/>
                  <a:pt x="1213" y="1575"/>
                </a:cubicBezTo>
                <a:cubicBezTo>
                  <a:pt x="1205" y="1570"/>
                  <a:pt x="1196" y="1566"/>
                  <a:pt x="1189" y="1559"/>
                </a:cubicBezTo>
                <a:cubicBezTo>
                  <a:pt x="1182" y="1552"/>
                  <a:pt x="1180" y="1541"/>
                  <a:pt x="1173" y="1535"/>
                </a:cubicBezTo>
                <a:cubicBezTo>
                  <a:pt x="1097" y="1472"/>
                  <a:pt x="1186" y="1572"/>
                  <a:pt x="1109" y="1495"/>
                </a:cubicBezTo>
                <a:cubicBezTo>
                  <a:pt x="1102" y="1488"/>
                  <a:pt x="1101" y="1477"/>
                  <a:pt x="1093" y="1471"/>
                </a:cubicBezTo>
                <a:cubicBezTo>
                  <a:pt x="1086" y="1466"/>
                  <a:pt x="1077" y="1467"/>
                  <a:pt x="1069" y="1463"/>
                </a:cubicBezTo>
                <a:cubicBezTo>
                  <a:pt x="1024" y="1440"/>
                  <a:pt x="976" y="1428"/>
                  <a:pt x="933" y="1399"/>
                </a:cubicBezTo>
                <a:cubicBezTo>
                  <a:pt x="919" y="1378"/>
                  <a:pt x="910" y="1352"/>
                  <a:pt x="893" y="1335"/>
                </a:cubicBezTo>
              </a:path>
            </a:pathLst>
          </a:custGeom>
          <a:solidFill>
            <a:srgbClr val="22aa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4"/>
          <p:cNvSpPr/>
          <p:nvPr/>
        </p:nvSpPr>
        <p:spPr>
          <a:xfrm>
            <a:off x="250920" y="1773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5"/>
          <p:cNvSpPr/>
          <p:nvPr/>
        </p:nvSpPr>
        <p:spPr>
          <a:xfrm>
            <a:off x="900000" y="2276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6"/>
          <p:cNvSpPr/>
          <p:nvPr/>
        </p:nvSpPr>
        <p:spPr>
          <a:xfrm>
            <a:off x="179280" y="2924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8"/>
          <p:cNvSpPr/>
          <p:nvPr/>
        </p:nvSpPr>
        <p:spPr>
          <a:xfrm>
            <a:off x="1692360" y="2565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9"/>
          <p:cNvSpPr/>
          <p:nvPr/>
        </p:nvSpPr>
        <p:spPr>
          <a:xfrm>
            <a:off x="1403280" y="1773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0"/>
          <p:cNvSpPr/>
          <p:nvPr/>
        </p:nvSpPr>
        <p:spPr>
          <a:xfrm>
            <a:off x="736560" y="3498840"/>
            <a:ext cx="523800" cy="247680"/>
          </a:xfrm>
          <a:custGeom>
            <a:avLst/>
            <a:gdLst>
              <a:gd name="textAreaLeft" fmla="*/ 0 w 523800"/>
              <a:gd name="textAreaRight" fmla="*/ 524160 w 523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30" h="156">
                <a:moveTo>
                  <a:pt x="0" y="108"/>
                </a:moveTo>
                <a:cubicBezTo>
                  <a:pt x="16" y="35"/>
                  <a:pt x="10" y="18"/>
                  <a:pt x="80" y="4"/>
                </a:cubicBezTo>
                <a:cubicBezTo>
                  <a:pt x="128" y="8"/>
                  <a:pt x="180" y="0"/>
                  <a:pt x="224" y="20"/>
                </a:cubicBezTo>
                <a:cubicBezTo>
                  <a:pt x="236" y="25"/>
                  <a:pt x="245" y="36"/>
                  <a:pt x="256" y="44"/>
                </a:cubicBezTo>
                <a:cubicBezTo>
                  <a:pt x="272" y="55"/>
                  <a:pt x="304" y="76"/>
                  <a:pt x="304" y="76"/>
                </a:cubicBezTo>
                <a:cubicBezTo>
                  <a:pt x="330" y="116"/>
                  <a:pt x="320" y="90"/>
                  <a:pt x="320" y="156"/>
                </a:cubicBezTo>
              </a:path>
            </a:pathLst>
          </a:custGeom>
          <a:solidFill>
            <a:srgbClr val="22aa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61"/>
          <p:cNvSpPr/>
          <p:nvPr/>
        </p:nvSpPr>
        <p:spPr>
          <a:xfrm>
            <a:off x="5003640" y="2349360"/>
            <a:ext cx="739800" cy="2279880"/>
          </a:xfrm>
          <a:custGeom>
            <a:avLst/>
            <a:gdLst>
              <a:gd name="textAreaLeft" fmla="*/ 0 w 739800"/>
              <a:gd name="textAreaRight" fmla="*/ 740160 w 73980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66" h="1436">
                <a:moveTo>
                  <a:pt x="66" y="1372"/>
                </a:moveTo>
                <a:cubicBezTo>
                  <a:pt x="80" y="1330"/>
                  <a:pt x="92" y="1286"/>
                  <a:pt x="106" y="1244"/>
                </a:cubicBezTo>
                <a:cubicBezTo>
                  <a:pt x="111" y="1228"/>
                  <a:pt x="122" y="1196"/>
                  <a:pt x="122" y="1196"/>
                </a:cubicBezTo>
                <a:cubicBezTo>
                  <a:pt x="125" y="1132"/>
                  <a:pt x="129" y="1068"/>
                  <a:pt x="130" y="1004"/>
                </a:cubicBezTo>
                <a:cubicBezTo>
                  <a:pt x="149" y="0"/>
                  <a:pt x="0" y="226"/>
                  <a:pt x="178" y="404"/>
                </a:cubicBezTo>
                <a:cubicBezTo>
                  <a:pt x="198" y="464"/>
                  <a:pt x="204" y="516"/>
                  <a:pt x="210" y="580"/>
                </a:cubicBezTo>
                <a:cubicBezTo>
                  <a:pt x="213" y="641"/>
                  <a:pt x="207" y="704"/>
                  <a:pt x="218" y="764"/>
                </a:cubicBezTo>
                <a:cubicBezTo>
                  <a:pt x="221" y="781"/>
                  <a:pt x="231" y="733"/>
                  <a:pt x="234" y="716"/>
                </a:cubicBezTo>
                <a:cubicBezTo>
                  <a:pt x="242" y="665"/>
                  <a:pt x="250" y="615"/>
                  <a:pt x="258" y="564"/>
                </a:cubicBezTo>
                <a:cubicBezTo>
                  <a:pt x="283" y="602"/>
                  <a:pt x="271" y="579"/>
                  <a:pt x="290" y="636"/>
                </a:cubicBezTo>
                <a:cubicBezTo>
                  <a:pt x="293" y="644"/>
                  <a:pt x="298" y="660"/>
                  <a:pt x="298" y="660"/>
                </a:cubicBezTo>
                <a:cubicBezTo>
                  <a:pt x="301" y="719"/>
                  <a:pt x="300" y="778"/>
                  <a:pt x="306" y="836"/>
                </a:cubicBezTo>
                <a:cubicBezTo>
                  <a:pt x="307" y="844"/>
                  <a:pt x="309" y="819"/>
                  <a:pt x="314" y="812"/>
                </a:cubicBezTo>
                <a:cubicBezTo>
                  <a:pt x="328" y="790"/>
                  <a:pt x="347" y="770"/>
                  <a:pt x="362" y="748"/>
                </a:cubicBezTo>
                <a:cubicBezTo>
                  <a:pt x="387" y="711"/>
                  <a:pt x="391" y="682"/>
                  <a:pt x="402" y="636"/>
                </a:cubicBezTo>
                <a:cubicBezTo>
                  <a:pt x="405" y="625"/>
                  <a:pt x="410" y="604"/>
                  <a:pt x="410" y="604"/>
                </a:cubicBezTo>
                <a:cubicBezTo>
                  <a:pt x="450" y="724"/>
                  <a:pt x="427" y="857"/>
                  <a:pt x="402" y="980"/>
                </a:cubicBezTo>
                <a:cubicBezTo>
                  <a:pt x="406" y="1103"/>
                  <a:pt x="399" y="1227"/>
                  <a:pt x="418" y="1348"/>
                </a:cubicBezTo>
                <a:cubicBezTo>
                  <a:pt x="421" y="1365"/>
                  <a:pt x="429" y="1380"/>
                  <a:pt x="434" y="1396"/>
                </a:cubicBezTo>
                <a:cubicBezTo>
                  <a:pt x="437" y="1404"/>
                  <a:pt x="435" y="1415"/>
                  <a:pt x="442" y="1420"/>
                </a:cubicBezTo>
                <a:cubicBezTo>
                  <a:pt x="450" y="1425"/>
                  <a:pt x="466" y="1436"/>
                  <a:pt x="466" y="1436"/>
                </a:cubicBezTo>
              </a:path>
            </a:pathLst>
          </a:custGeom>
          <a:solidFill>
            <a:srgbClr val="7626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2"/>
          <p:cNvSpPr/>
          <p:nvPr/>
        </p:nvSpPr>
        <p:spPr>
          <a:xfrm>
            <a:off x="684360" y="2205000"/>
            <a:ext cx="739800" cy="2279520"/>
          </a:xfrm>
          <a:custGeom>
            <a:avLst/>
            <a:gdLst>
              <a:gd name="textAreaLeft" fmla="*/ 0 w 739800"/>
              <a:gd name="textAreaRight" fmla="*/ 740160 w 739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66" h="1436">
                <a:moveTo>
                  <a:pt x="66" y="1372"/>
                </a:moveTo>
                <a:cubicBezTo>
                  <a:pt x="80" y="1330"/>
                  <a:pt x="92" y="1286"/>
                  <a:pt x="106" y="1244"/>
                </a:cubicBezTo>
                <a:cubicBezTo>
                  <a:pt x="111" y="1228"/>
                  <a:pt x="122" y="1196"/>
                  <a:pt x="122" y="1196"/>
                </a:cubicBezTo>
                <a:cubicBezTo>
                  <a:pt x="125" y="1132"/>
                  <a:pt x="129" y="1068"/>
                  <a:pt x="130" y="1004"/>
                </a:cubicBezTo>
                <a:cubicBezTo>
                  <a:pt x="149" y="0"/>
                  <a:pt x="0" y="226"/>
                  <a:pt x="178" y="404"/>
                </a:cubicBezTo>
                <a:cubicBezTo>
                  <a:pt x="198" y="464"/>
                  <a:pt x="204" y="516"/>
                  <a:pt x="210" y="580"/>
                </a:cubicBezTo>
                <a:cubicBezTo>
                  <a:pt x="213" y="641"/>
                  <a:pt x="207" y="704"/>
                  <a:pt x="218" y="764"/>
                </a:cubicBezTo>
                <a:cubicBezTo>
                  <a:pt x="221" y="781"/>
                  <a:pt x="231" y="733"/>
                  <a:pt x="234" y="716"/>
                </a:cubicBezTo>
                <a:cubicBezTo>
                  <a:pt x="242" y="665"/>
                  <a:pt x="250" y="615"/>
                  <a:pt x="258" y="564"/>
                </a:cubicBezTo>
                <a:cubicBezTo>
                  <a:pt x="283" y="602"/>
                  <a:pt x="271" y="579"/>
                  <a:pt x="290" y="636"/>
                </a:cubicBezTo>
                <a:cubicBezTo>
                  <a:pt x="293" y="644"/>
                  <a:pt x="298" y="660"/>
                  <a:pt x="298" y="660"/>
                </a:cubicBezTo>
                <a:cubicBezTo>
                  <a:pt x="301" y="719"/>
                  <a:pt x="300" y="778"/>
                  <a:pt x="306" y="836"/>
                </a:cubicBezTo>
                <a:cubicBezTo>
                  <a:pt x="307" y="844"/>
                  <a:pt x="309" y="819"/>
                  <a:pt x="314" y="812"/>
                </a:cubicBezTo>
                <a:cubicBezTo>
                  <a:pt x="328" y="790"/>
                  <a:pt x="347" y="770"/>
                  <a:pt x="362" y="748"/>
                </a:cubicBezTo>
                <a:cubicBezTo>
                  <a:pt x="387" y="711"/>
                  <a:pt x="391" y="682"/>
                  <a:pt x="402" y="636"/>
                </a:cubicBezTo>
                <a:cubicBezTo>
                  <a:pt x="405" y="625"/>
                  <a:pt x="410" y="604"/>
                  <a:pt x="410" y="604"/>
                </a:cubicBezTo>
                <a:cubicBezTo>
                  <a:pt x="450" y="724"/>
                  <a:pt x="427" y="857"/>
                  <a:pt x="402" y="980"/>
                </a:cubicBezTo>
                <a:cubicBezTo>
                  <a:pt x="406" y="1103"/>
                  <a:pt x="399" y="1227"/>
                  <a:pt x="418" y="1348"/>
                </a:cubicBezTo>
                <a:cubicBezTo>
                  <a:pt x="421" y="1365"/>
                  <a:pt x="429" y="1380"/>
                  <a:pt x="434" y="1396"/>
                </a:cubicBezTo>
                <a:cubicBezTo>
                  <a:pt x="437" y="1404"/>
                  <a:pt x="435" y="1415"/>
                  <a:pt x="442" y="1420"/>
                </a:cubicBezTo>
                <a:cubicBezTo>
                  <a:pt x="450" y="1425"/>
                  <a:pt x="466" y="1436"/>
                  <a:pt x="466" y="1436"/>
                </a:cubicBezTo>
              </a:path>
            </a:pathLst>
          </a:custGeom>
          <a:solidFill>
            <a:srgbClr val="7626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3"/>
          <p:cNvSpPr/>
          <p:nvPr/>
        </p:nvSpPr>
        <p:spPr>
          <a:xfrm>
            <a:off x="4572000" y="314172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4"/>
          <p:cNvSpPr/>
          <p:nvPr/>
        </p:nvSpPr>
        <p:spPr>
          <a:xfrm>
            <a:off x="5292720" y="1773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5"/>
          <p:cNvSpPr/>
          <p:nvPr/>
        </p:nvSpPr>
        <p:spPr>
          <a:xfrm>
            <a:off x="4427640" y="2349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6"/>
          <p:cNvSpPr/>
          <p:nvPr/>
        </p:nvSpPr>
        <p:spPr>
          <a:xfrm>
            <a:off x="5364000" y="2637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7"/>
          <p:cNvSpPr/>
          <p:nvPr/>
        </p:nvSpPr>
        <p:spPr>
          <a:xfrm>
            <a:off x="6012000" y="2205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8"/>
          <p:cNvSpPr/>
          <p:nvPr/>
        </p:nvSpPr>
        <p:spPr>
          <a:xfrm>
            <a:off x="5938920" y="3284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9"/>
          <p:cNvSpPr/>
          <p:nvPr/>
        </p:nvSpPr>
        <p:spPr>
          <a:xfrm>
            <a:off x="179280" y="4076640"/>
            <a:ext cx="1714680" cy="54144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1080" h="341">
                <a:moveTo>
                  <a:pt x="81" y="224"/>
                </a:moveTo>
                <a:cubicBezTo>
                  <a:pt x="130" y="192"/>
                  <a:pt x="98" y="191"/>
                  <a:pt x="121" y="144"/>
                </a:cubicBezTo>
                <a:cubicBezTo>
                  <a:pt x="126" y="134"/>
                  <a:pt x="138" y="129"/>
                  <a:pt x="145" y="120"/>
                </a:cubicBezTo>
                <a:cubicBezTo>
                  <a:pt x="157" y="105"/>
                  <a:pt x="177" y="72"/>
                  <a:pt x="177" y="72"/>
                </a:cubicBezTo>
                <a:cubicBezTo>
                  <a:pt x="180" y="80"/>
                  <a:pt x="184" y="88"/>
                  <a:pt x="185" y="96"/>
                </a:cubicBezTo>
                <a:cubicBezTo>
                  <a:pt x="189" y="122"/>
                  <a:pt x="187" y="150"/>
                  <a:pt x="193" y="176"/>
                </a:cubicBezTo>
                <a:cubicBezTo>
                  <a:pt x="197" y="193"/>
                  <a:pt x="211" y="207"/>
                  <a:pt x="217" y="224"/>
                </a:cubicBezTo>
                <a:cubicBezTo>
                  <a:pt x="260" y="213"/>
                  <a:pt x="245" y="224"/>
                  <a:pt x="273" y="184"/>
                </a:cubicBezTo>
                <a:cubicBezTo>
                  <a:pt x="284" y="168"/>
                  <a:pt x="305" y="136"/>
                  <a:pt x="305" y="136"/>
                </a:cubicBezTo>
                <a:cubicBezTo>
                  <a:pt x="312" y="96"/>
                  <a:pt x="321" y="56"/>
                  <a:pt x="329" y="16"/>
                </a:cubicBezTo>
                <a:cubicBezTo>
                  <a:pt x="340" y="37"/>
                  <a:pt x="350" y="59"/>
                  <a:pt x="361" y="80"/>
                </a:cubicBezTo>
                <a:cubicBezTo>
                  <a:pt x="366" y="91"/>
                  <a:pt x="377" y="112"/>
                  <a:pt x="377" y="112"/>
                </a:cubicBezTo>
                <a:cubicBezTo>
                  <a:pt x="390" y="341"/>
                  <a:pt x="368" y="254"/>
                  <a:pt x="409" y="192"/>
                </a:cubicBezTo>
                <a:cubicBezTo>
                  <a:pt x="412" y="181"/>
                  <a:pt x="411" y="169"/>
                  <a:pt x="417" y="160"/>
                </a:cubicBezTo>
                <a:cubicBezTo>
                  <a:pt x="430" y="141"/>
                  <a:pt x="465" y="112"/>
                  <a:pt x="465" y="112"/>
                </a:cubicBezTo>
                <a:cubicBezTo>
                  <a:pt x="477" y="75"/>
                  <a:pt x="483" y="38"/>
                  <a:pt x="489" y="0"/>
                </a:cubicBezTo>
                <a:cubicBezTo>
                  <a:pt x="536" y="93"/>
                  <a:pt x="518" y="121"/>
                  <a:pt x="529" y="264"/>
                </a:cubicBezTo>
                <a:cubicBezTo>
                  <a:pt x="554" y="213"/>
                  <a:pt x="585" y="159"/>
                  <a:pt x="601" y="104"/>
                </a:cubicBezTo>
                <a:cubicBezTo>
                  <a:pt x="611" y="69"/>
                  <a:pt x="633" y="0"/>
                  <a:pt x="633" y="0"/>
                </a:cubicBezTo>
                <a:cubicBezTo>
                  <a:pt x="678" y="34"/>
                  <a:pt x="661" y="11"/>
                  <a:pt x="681" y="72"/>
                </a:cubicBezTo>
                <a:cubicBezTo>
                  <a:pt x="686" y="88"/>
                  <a:pt x="697" y="120"/>
                  <a:pt x="697" y="120"/>
                </a:cubicBezTo>
                <a:cubicBezTo>
                  <a:pt x="702" y="160"/>
                  <a:pt x="683" y="213"/>
                  <a:pt x="713" y="240"/>
                </a:cubicBezTo>
                <a:cubicBezTo>
                  <a:pt x="726" y="252"/>
                  <a:pt x="772" y="179"/>
                  <a:pt x="785" y="160"/>
                </a:cubicBezTo>
                <a:cubicBezTo>
                  <a:pt x="808" y="51"/>
                  <a:pt x="780" y="19"/>
                  <a:pt x="841" y="72"/>
                </a:cubicBezTo>
                <a:cubicBezTo>
                  <a:pt x="850" y="79"/>
                  <a:pt x="857" y="88"/>
                  <a:pt x="865" y="96"/>
                </a:cubicBezTo>
                <a:cubicBezTo>
                  <a:pt x="870" y="112"/>
                  <a:pt x="876" y="128"/>
                  <a:pt x="881" y="144"/>
                </a:cubicBezTo>
                <a:cubicBezTo>
                  <a:pt x="884" y="152"/>
                  <a:pt x="889" y="168"/>
                  <a:pt x="889" y="168"/>
                </a:cubicBezTo>
                <a:cubicBezTo>
                  <a:pt x="892" y="189"/>
                  <a:pt x="885" y="214"/>
                  <a:pt x="897" y="232"/>
                </a:cubicBezTo>
                <a:cubicBezTo>
                  <a:pt x="902" y="240"/>
                  <a:pt x="914" y="223"/>
                  <a:pt x="921" y="216"/>
                </a:cubicBezTo>
                <a:cubicBezTo>
                  <a:pt x="953" y="184"/>
                  <a:pt x="981" y="145"/>
                  <a:pt x="1001" y="104"/>
                </a:cubicBezTo>
                <a:cubicBezTo>
                  <a:pt x="1035" y="115"/>
                  <a:pt x="1038" y="135"/>
                  <a:pt x="1049" y="168"/>
                </a:cubicBezTo>
                <a:cubicBezTo>
                  <a:pt x="1044" y="216"/>
                  <a:pt x="1080" y="300"/>
                  <a:pt x="1033" y="312"/>
                </a:cubicBezTo>
                <a:cubicBezTo>
                  <a:pt x="976" y="326"/>
                  <a:pt x="222" y="293"/>
                  <a:pt x="105" y="288"/>
                </a:cubicBezTo>
                <a:cubicBezTo>
                  <a:pt x="99" y="287"/>
                  <a:pt x="0" y="263"/>
                  <a:pt x="49" y="232"/>
                </a:cubicBezTo>
                <a:cubicBezTo>
                  <a:pt x="65" y="222"/>
                  <a:pt x="86" y="221"/>
                  <a:pt x="105" y="216"/>
                </a:cubicBezTo>
                <a:cubicBezTo>
                  <a:pt x="113" y="214"/>
                  <a:pt x="89" y="221"/>
                  <a:pt x="81" y="224"/>
                </a:cubicBezTo>
                <a:close/>
              </a:path>
            </a:pathLst>
          </a:custGeom>
          <a:solidFill>
            <a:srgbClr val="3cd43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0"/>
          <p:cNvSpPr/>
          <p:nvPr/>
        </p:nvSpPr>
        <p:spPr>
          <a:xfrm>
            <a:off x="4500720" y="4149720"/>
            <a:ext cx="1714320" cy="54144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1080" h="341">
                <a:moveTo>
                  <a:pt x="81" y="224"/>
                </a:moveTo>
                <a:cubicBezTo>
                  <a:pt x="130" y="192"/>
                  <a:pt x="98" y="191"/>
                  <a:pt x="121" y="144"/>
                </a:cubicBezTo>
                <a:cubicBezTo>
                  <a:pt x="126" y="134"/>
                  <a:pt x="138" y="129"/>
                  <a:pt x="145" y="120"/>
                </a:cubicBezTo>
                <a:cubicBezTo>
                  <a:pt x="157" y="105"/>
                  <a:pt x="177" y="72"/>
                  <a:pt x="177" y="72"/>
                </a:cubicBezTo>
                <a:cubicBezTo>
                  <a:pt x="180" y="80"/>
                  <a:pt x="184" y="88"/>
                  <a:pt x="185" y="96"/>
                </a:cubicBezTo>
                <a:cubicBezTo>
                  <a:pt x="189" y="122"/>
                  <a:pt x="187" y="150"/>
                  <a:pt x="193" y="176"/>
                </a:cubicBezTo>
                <a:cubicBezTo>
                  <a:pt x="197" y="193"/>
                  <a:pt x="211" y="207"/>
                  <a:pt x="217" y="224"/>
                </a:cubicBezTo>
                <a:cubicBezTo>
                  <a:pt x="260" y="213"/>
                  <a:pt x="245" y="224"/>
                  <a:pt x="273" y="184"/>
                </a:cubicBezTo>
                <a:cubicBezTo>
                  <a:pt x="284" y="168"/>
                  <a:pt x="305" y="136"/>
                  <a:pt x="305" y="136"/>
                </a:cubicBezTo>
                <a:cubicBezTo>
                  <a:pt x="312" y="96"/>
                  <a:pt x="321" y="56"/>
                  <a:pt x="329" y="16"/>
                </a:cubicBezTo>
                <a:cubicBezTo>
                  <a:pt x="340" y="37"/>
                  <a:pt x="350" y="59"/>
                  <a:pt x="361" y="80"/>
                </a:cubicBezTo>
                <a:cubicBezTo>
                  <a:pt x="366" y="91"/>
                  <a:pt x="377" y="112"/>
                  <a:pt x="377" y="112"/>
                </a:cubicBezTo>
                <a:cubicBezTo>
                  <a:pt x="390" y="341"/>
                  <a:pt x="368" y="254"/>
                  <a:pt x="409" y="192"/>
                </a:cubicBezTo>
                <a:cubicBezTo>
                  <a:pt x="412" y="181"/>
                  <a:pt x="411" y="169"/>
                  <a:pt x="417" y="160"/>
                </a:cubicBezTo>
                <a:cubicBezTo>
                  <a:pt x="430" y="141"/>
                  <a:pt x="465" y="112"/>
                  <a:pt x="465" y="112"/>
                </a:cubicBezTo>
                <a:cubicBezTo>
                  <a:pt x="477" y="75"/>
                  <a:pt x="483" y="38"/>
                  <a:pt x="489" y="0"/>
                </a:cubicBezTo>
                <a:cubicBezTo>
                  <a:pt x="536" y="93"/>
                  <a:pt x="518" y="121"/>
                  <a:pt x="529" y="264"/>
                </a:cubicBezTo>
                <a:cubicBezTo>
                  <a:pt x="554" y="213"/>
                  <a:pt x="585" y="159"/>
                  <a:pt x="601" y="104"/>
                </a:cubicBezTo>
                <a:cubicBezTo>
                  <a:pt x="611" y="69"/>
                  <a:pt x="633" y="0"/>
                  <a:pt x="633" y="0"/>
                </a:cubicBezTo>
                <a:cubicBezTo>
                  <a:pt x="678" y="34"/>
                  <a:pt x="661" y="11"/>
                  <a:pt x="681" y="72"/>
                </a:cubicBezTo>
                <a:cubicBezTo>
                  <a:pt x="686" y="88"/>
                  <a:pt x="697" y="120"/>
                  <a:pt x="697" y="120"/>
                </a:cubicBezTo>
                <a:cubicBezTo>
                  <a:pt x="702" y="160"/>
                  <a:pt x="683" y="213"/>
                  <a:pt x="713" y="240"/>
                </a:cubicBezTo>
                <a:cubicBezTo>
                  <a:pt x="726" y="252"/>
                  <a:pt x="772" y="179"/>
                  <a:pt x="785" y="160"/>
                </a:cubicBezTo>
                <a:cubicBezTo>
                  <a:pt x="808" y="51"/>
                  <a:pt x="780" y="19"/>
                  <a:pt x="841" y="72"/>
                </a:cubicBezTo>
                <a:cubicBezTo>
                  <a:pt x="850" y="79"/>
                  <a:pt x="857" y="88"/>
                  <a:pt x="865" y="96"/>
                </a:cubicBezTo>
                <a:cubicBezTo>
                  <a:pt x="870" y="112"/>
                  <a:pt x="876" y="128"/>
                  <a:pt x="881" y="144"/>
                </a:cubicBezTo>
                <a:cubicBezTo>
                  <a:pt x="884" y="152"/>
                  <a:pt x="889" y="168"/>
                  <a:pt x="889" y="168"/>
                </a:cubicBezTo>
                <a:cubicBezTo>
                  <a:pt x="892" y="189"/>
                  <a:pt x="885" y="214"/>
                  <a:pt x="897" y="232"/>
                </a:cubicBezTo>
                <a:cubicBezTo>
                  <a:pt x="902" y="240"/>
                  <a:pt x="914" y="223"/>
                  <a:pt x="921" y="216"/>
                </a:cubicBezTo>
                <a:cubicBezTo>
                  <a:pt x="953" y="184"/>
                  <a:pt x="981" y="145"/>
                  <a:pt x="1001" y="104"/>
                </a:cubicBezTo>
                <a:cubicBezTo>
                  <a:pt x="1035" y="115"/>
                  <a:pt x="1038" y="135"/>
                  <a:pt x="1049" y="168"/>
                </a:cubicBezTo>
                <a:cubicBezTo>
                  <a:pt x="1044" y="216"/>
                  <a:pt x="1080" y="300"/>
                  <a:pt x="1033" y="312"/>
                </a:cubicBezTo>
                <a:cubicBezTo>
                  <a:pt x="976" y="326"/>
                  <a:pt x="222" y="293"/>
                  <a:pt x="105" y="288"/>
                </a:cubicBezTo>
                <a:cubicBezTo>
                  <a:pt x="99" y="287"/>
                  <a:pt x="0" y="263"/>
                  <a:pt x="49" y="232"/>
                </a:cubicBezTo>
                <a:cubicBezTo>
                  <a:pt x="65" y="222"/>
                  <a:pt x="86" y="221"/>
                  <a:pt x="105" y="216"/>
                </a:cubicBezTo>
                <a:cubicBezTo>
                  <a:pt x="113" y="214"/>
                  <a:pt x="89" y="221"/>
                  <a:pt x="81" y="224"/>
                </a:cubicBezTo>
                <a:close/>
              </a:path>
            </a:pathLst>
          </a:custGeom>
          <a:solidFill>
            <a:srgbClr val="3cd43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0" y="5084640"/>
            <a:ext cx="8916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их необычных яблонях выросли не только обыкновенные ябло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яблоки с буквами. Сорвать яблоко сможет только тот ,кто прави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ёт букву к слову и назовёт правило. Какое слово в каждом столбике «лишне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1"/>
          <p:cNvSpPr txBox="1"/>
          <p:nvPr/>
        </p:nvSpPr>
        <p:spPr>
          <a:xfrm rot="244200">
            <a:off x="1547640" y="188640"/>
            <a:ext cx="525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19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Impact"/>
              </a:rPr>
              <a:t>Волшебные яблоч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Impact"/>
              <a:ea typeface="Impact"/>
            </a:endParaRPr>
          </a:p>
        </p:txBody>
      </p:sp>
      <p:sp>
        <p:nvSpPr>
          <p:cNvPr id="231" name="AutoShape 82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3"/>
          <p:cNvSpPr/>
          <p:nvPr/>
        </p:nvSpPr>
        <p:spPr>
          <a:xfrm>
            <a:off x="2484360" y="1557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6950520" y="1341360"/>
            <a:ext cx="2079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р…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2415240" y="1268280"/>
            <a:ext cx="2036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…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…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…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…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…ль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2"/>
          <p:cNvSpPr/>
          <p:nvPr/>
        </p:nvSpPr>
        <p:spPr>
          <a:xfrm>
            <a:off x="3059280" y="1413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3"/>
          <p:cNvSpPr/>
          <p:nvPr/>
        </p:nvSpPr>
        <p:spPr>
          <a:xfrm>
            <a:off x="2771640" y="2060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6"/>
          <p:cNvSpPr/>
          <p:nvPr/>
        </p:nvSpPr>
        <p:spPr>
          <a:xfrm>
            <a:off x="2771640" y="2708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97"/>
          <p:cNvSpPr/>
          <p:nvPr/>
        </p:nvSpPr>
        <p:spPr>
          <a:xfrm>
            <a:off x="2916360" y="3284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8"/>
          <p:cNvSpPr/>
          <p:nvPr/>
        </p:nvSpPr>
        <p:spPr>
          <a:xfrm>
            <a:off x="2843280" y="3860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9"/>
          <p:cNvSpPr/>
          <p:nvPr/>
        </p:nvSpPr>
        <p:spPr>
          <a:xfrm>
            <a:off x="1547640" y="3429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0"/>
          <p:cNvSpPr/>
          <p:nvPr/>
        </p:nvSpPr>
        <p:spPr>
          <a:xfrm>
            <a:off x="2771640" y="4508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1"/>
          <p:cNvSpPr/>
          <p:nvPr/>
        </p:nvSpPr>
        <p:spPr>
          <a:xfrm>
            <a:off x="7812000" y="1484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2"/>
          <p:cNvSpPr/>
          <p:nvPr/>
        </p:nvSpPr>
        <p:spPr>
          <a:xfrm>
            <a:off x="7812000" y="213372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3"/>
          <p:cNvSpPr/>
          <p:nvPr/>
        </p:nvSpPr>
        <p:spPr>
          <a:xfrm>
            <a:off x="7956720" y="2708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4"/>
          <p:cNvSpPr/>
          <p:nvPr/>
        </p:nvSpPr>
        <p:spPr>
          <a:xfrm>
            <a:off x="8028000" y="3284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5"/>
          <p:cNvSpPr/>
          <p:nvPr/>
        </p:nvSpPr>
        <p:spPr>
          <a:xfrm>
            <a:off x="7812000" y="393372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6"/>
          <p:cNvSpPr/>
          <p:nvPr/>
        </p:nvSpPr>
        <p:spPr>
          <a:xfrm>
            <a:off x="7885080" y="4508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1:52:29Z</dcterms:created>
  <dc:creator>ttt</dc:creator>
  <dc:description/>
  <dc:language>en-US</dc:language>
  <cp:lastModifiedBy>User</cp:lastModifiedBy>
  <dcterms:modified xsi:type="dcterms:W3CDTF">2022-11-17T14:32:08Z</dcterms:modified>
  <cp:revision>40</cp:revision>
  <dc:subject/>
  <dc:title>Дидактические   игры</dc:title>
</cp:coreProperties>
</file>