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A2A-409F-4B8F-B668-E1254B32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DE8-265F-4E64-9779-4B996E89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59F-7201-4C02-BB14-1E1E0F61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E9B-311B-44EA-934A-11DE0691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6AC0-6B5E-44DB-81DE-AFE931E8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C4DB-1E87-42DC-A214-814B6D00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A87F-0678-41C4-8A49-E868EBAD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B0FA-DF8C-4D3C-AC79-231BB4BA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6B3F-7BD8-47E7-80E4-862AC82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8D19-7F9B-4ADA-B361-2F7D4CAA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B31D-E1F0-4576-B838-DBF3B68B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F74-1A14-4DCD-8539-90EFC0EA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D2DA-C1AC-48C8-BEAF-393B926A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3910-F9AC-46B5-AA33-2F24850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9097-AA27-4AC6-A2FA-0FE8588E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5AC6-63E4-4FD5-B636-4C584EA4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EC5B-0527-47E1-9263-99A2B377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212-4893-4BCB-886B-2265BD1B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D9D-EF03-4268-9513-5E4355C2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B5E-EDB9-46EE-8BAD-7CF13348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19B-54C0-48DD-B3FB-86579A47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783-1C61-4047-B42C-6D316B2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61C-ACFC-4184-A1CA-5652D715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3D3-A6C2-401F-BE55-5EA7ECB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D861-29C7-430B-8B29-45BD73C50C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6E61-1D7B-4799-85F4-A29378406E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3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52578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5334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ФЕСТИВАЛЬ «Хоровод дружбы народ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380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САБАНТУ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39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87692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0669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181480" y="914400"/>
            <a:ext cx="3733920" cy="2563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9625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839880"/>
            <a:ext cx="83059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5840" y="471600"/>
            <a:ext cx="85723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562360" cy="370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532116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785880"/>
            <a:ext cx="73915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72560" cy="551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19320" y="1066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РОССИЯ – САМАЯ МНОГОНАЦИОНАЛЬНАЯ СТРАНА В МИР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38098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1722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687240"/>
            <a:ext cx="762012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858960"/>
            <a:ext cx="72388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22-11-06T13:12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