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C73-0154-47D2-BB66-C36BA4F9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7A6A-3369-43B0-BAB0-8E6A3292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CD6-79E4-4F70-9431-8AB9683F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BC4-65D0-4CCD-A876-4B216211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3ED1-3493-4E10-BB48-A029763C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0858-0767-4A74-91FF-2EFC4A30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01DF-2BC1-4C15-851C-E4C70A17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A3DB-40D6-45F0-9060-CF143177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91DE-0360-4BE9-9758-11CE16FD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A3C6-8CCF-40AA-B199-8337EC8B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54CB-D1FB-4FD5-AC63-BC51495F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ADE7-0ED6-4685-9805-ABEF7009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B65E-C275-4903-B967-DB5D9CE0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1B11-1173-40A5-9C2D-4FF20A14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CFC2-6A77-4E34-98D5-8A7AC5B2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EECD-9D10-4988-A1CA-55229F3E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A18B-57A7-4B97-9A42-4068EAD5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0AF-C3C4-42E7-91E9-77F66AE7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55FC-599F-44D4-88D4-7DC17D14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0C60-77DD-4C5C-9EAE-C0A7B5A5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2DBA-69E6-4E7C-A71D-F66FAC04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88C5-0F88-4130-A17D-A820502D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59A-75C5-4F9B-9F9F-00834AE8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8263-EE38-4077-B906-DA5D0E5D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AD40-909B-468E-84D0-A69BB22FC8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5A26-00EA-4FE7-B8F9-5C487AD6A93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343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38080" y="525780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5334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ФЕСТИВАЛЬ «Хоровод дружбы народ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001000" cy="5333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19320" y="3808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САБАНТУ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3963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876920" cy="273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4066920" cy="3048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181480" y="914400"/>
            <a:ext cx="3733920" cy="2563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029200" y="3657600"/>
            <a:ext cx="39625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839880"/>
            <a:ext cx="830592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5840" y="471600"/>
            <a:ext cx="857232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5562360" cy="370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505320" y="3048120"/>
            <a:ext cx="532116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785880"/>
            <a:ext cx="739152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8224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72560" cy="5510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219320" y="1066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РОССИЯ – САМАЯ МНОГОНАЦИОНАЛЬНАЯ СТРАНА В МИР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38098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9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17220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687240"/>
            <a:ext cx="762012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858960"/>
            <a:ext cx="72388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22-11-06T13:12:1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