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F5E-C037-40EB-A39E-D70457F4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337-3CCF-4BC4-8DB0-9F501060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7CA-BA60-4B2B-9422-D5BDFCD2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7ED-8C9C-4DA5-9EC6-195B197A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7AD-03B7-4E00-BA9E-F8DF952B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BF48-76FC-4F34-9648-550C9F6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7E6-5FA0-4B3C-BF48-5DE59CB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6DB5-FBEC-44CD-8615-9528CAA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4DD9-CC3E-4F0C-914F-18C25CA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FAF-C254-407A-A1EB-A20A20A7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483-F899-4643-868D-2616235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E3D-F552-4894-8AB0-AA7A66F4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A8B0-0206-4F8B-9868-9E0D212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2F65-F3DD-49FA-AC35-549CC6B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9421-2DB4-491C-BA76-2140E202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C8ED-96DB-4462-A211-58F96D59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911-CCC3-47C2-A93C-B9D85E78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DB3-6EEF-4961-B509-EB4C9FB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37C-4823-43F2-9D6F-A044E5D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261-21E9-44EB-910C-3091CE2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121-154C-4E81-80C9-BAE476B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336-FE08-425D-9122-B4777D9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F59-CD2C-4A8A-ABB8-66FDE68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8F0-F86F-4882-8147-1BDA122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4E73-0D69-4125-9D18-CE0648885F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05FB-C70F-47FB-B77E-2589F327DD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52578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334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ФЕСТИВАЛЬ «Хоровод дружбы народ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380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САБАНТУ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39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87692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0669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81480" y="914400"/>
            <a:ext cx="3733920" cy="2563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9625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839880"/>
            <a:ext cx="830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840" y="471600"/>
            <a:ext cx="85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562360" cy="370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5321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785880"/>
            <a:ext cx="73915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72560" cy="551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1066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РОССИЯ – САМАЯ МНОГОНАЦИОНАЛЬНАЯ СТРАНА В МИР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38098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1722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687240"/>
            <a:ext cx="7620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858960"/>
            <a:ext cx="7238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22-11-06T13:1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