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40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2.jpeg" ContentType="image/jpeg"/>
  <Override PartName="/ppt/media/image30.jpeg" ContentType="image/jpeg"/>
  <Override PartName="/ppt/media/image4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4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27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20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93.xml" ContentType="application/vnd.openxmlformats-officedocument.presentationml.slide+xml"/>
  <Override PartName="/ppt/slides/slide121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22.xml" ContentType="application/vnd.openxmlformats-officedocument.presentationml.slide+xml"/>
  <Override PartName="/ppt/slides/slide71.xml" ContentType="application/vnd.openxmlformats-officedocument.presentationml.slide+xml"/>
  <Override PartName="/ppt/slides/slide118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70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60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8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9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  <p:sldId id="336" r:id="rId96"/>
    <p:sldId id="337" r:id="rId97"/>
    <p:sldId id="338" r:id="rId98"/>
    <p:sldId id="339" r:id="rId99"/>
    <p:sldId id="340" r:id="rId100"/>
    <p:sldId id="341" r:id="rId101"/>
    <p:sldId id="342" r:id="rId102"/>
    <p:sldId id="343" r:id="rId103"/>
    <p:sldId id="344" r:id="rId104"/>
    <p:sldId id="345" r:id="rId105"/>
    <p:sldId id="346" r:id="rId106"/>
    <p:sldId id="347" r:id="rId107"/>
    <p:sldId id="348" r:id="rId108"/>
    <p:sldId id="349" r:id="rId109"/>
    <p:sldId id="350" r:id="rId110"/>
    <p:sldId id="351" r:id="rId111"/>
    <p:sldId id="352" r:id="rId112"/>
    <p:sldId id="353" r:id="rId113"/>
    <p:sldId id="354" r:id="rId114"/>
    <p:sldId id="355" r:id="rId115"/>
    <p:sldId id="356" r:id="rId116"/>
    <p:sldId id="357" r:id="rId117"/>
    <p:sldId id="358" r:id="rId118"/>
    <p:sldId id="359" r:id="rId119"/>
    <p:sldId id="360" r:id="rId120"/>
    <p:sldId id="361" r:id="rId121"/>
    <p:sldId id="362" r:id="rId122"/>
    <p:sldId id="363" r:id="rId123"/>
    <p:sldId id="364" r:id="rId124"/>
    <p:sldId id="365" r:id="rId125"/>
    <p:sldId id="366" r:id="rId126"/>
    <p:sldId id="367" r:id="rId127"/>
    <p:sldId id="368" r:id="rId128"/>
    <p:sldId id="369" r:id="rId129"/>
    <p:sldId id="370" r:id="rId130"/>
    <p:sldId id="371" r:id="rId131"/>
    <p:sldId id="372" r:id="rId132"/>
    <p:sldId id="373" r:id="rId133"/>
    <p:sldId id="374" r:id="rId134"/>
    <p:sldId id="375" r:id="rId135"/>
    <p:sldId id="376" r:id="rId136"/>
    <p:sldId id="377" r:id="rId137"/>
    <p:sldId id="378" r:id="rId138"/>
    <p:sldId id="379" r:id="rId139"/>
    <p:sldId id="380" r:id="rId140"/>
    <p:sldId id="381" r:id="rId141"/>
    <p:sldId id="382" r:id="rId1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slide" Target="slides/slide81.xml"/><Relationship Id="rId97" Type="http://schemas.openxmlformats.org/officeDocument/2006/relationships/slide" Target="slides/slide82.xml"/><Relationship Id="rId98" Type="http://schemas.openxmlformats.org/officeDocument/2006/relationships/slide" Target="slides/slide83.xml"/><Relationship Id="rId99" Type="http://schemas.openxmlformats.org/officeDocument/2006/relationships/slide" Target="slides/slide84.xml"/><Relationship Id="rId100" Type="http://schemas.openxmlformats.org/officeDocument/2006/relationships/slide" Target="slides/slide85.xml"/><Relationship Id="rId101" Type="http://schemas.openxmlformats.org/officeDocument/2006/relationships/slide" Target="slides/slide86.xml"/><Relationship Id="rId102" Type="http://schemas.openxmlformats.org/officeDocument/2006/relationships/slide" Target="slides/slide87.xml"/><Relationship Id="rId103" Type="http://schemas.openxmlformats.org/officeDocument/2006/relationships/slide" Target="slides/slide88.xml"/><Relationship Id="rId104" Type="http://schemas.openxmlformats.org/officeDocument/2006/relationships/slide" Target="slides/slide89.xml"/><Relationship Id="rId105" Type="http://schemas.openxmlformats.org/officeDocument/2006/relationships/slide" Target="slides/slide90.xml"/><Relationship Id="rId106" Type="http://schemas.openxmlformats.org/officeDocument/2006/relationships/slide" Target="slides/slide91.xml"/><Relationship Id="rId107" Type="http://schemas.openxmlformats.org/officeDocument/2006/relationships/slide" Target="slides/slide92.xml"/><Relationship Id="rId108" Type="http://schemas.openxmlformats.org/officeDocument/2006/relationships/slide" Target="slides/slide93.xml"/><Relationship Id="rId109" Type="http://schemas.openxmlformats.org/officeDocument/2006/relationships/slide" Target="slides/slide94.xml"/><Relationship Id="rId110" Type="http://schemas.openxmlformats.org/officeDocument/2006/relationships/slide" Target="slides/slide95.xml"/><Relationship Id="rId111" Type="http://schemas.openxmlformats.org/officeDocument/2006/relationships/slide" Target="slides/slide96.xml"/><Relationship Id="rId112" Type="http://schemas.openxmlformats.org/officeDocument/2006/relationships/slide" Target="slides/slide97.xml"/><Relationship Id="rId113" Type="http://schemas.openxmlformats.org/officeDocument/2006/relationships/slide" Target="slides/slide98.xml"/><Relationship Id="rId114" Type="http://schemas.openxmlformats.org/officeDocument/2006/relationships/slide" Target="slides/slide99.xml"/><Relationship Id="rId115" Type="http://schemas.openxmlformats.org/officeDocument/2006/relationships/slide" Target="slides/slide100.xml"/><Relationship Id="rId116" Type="http://schemas.openxmlformats.org/officeDocument/2006/relationships/slide" Target="slides/slide101.xml"/><Relationship Id="rId117" Type="http://schemas.openxmlformats.org/officeDocument/2006/relationships/slide" Target="slides/slide102.xml"/><Relationship Id="rId118" Type="http://schemas.openxmlformats.org/officeDocument/2006/relationships/slide" Target="slides/slide103.xml"/><Relationship Id="rId119" Type="http://schemas.openxmlformats.org/officeDocument/2006/relationships/slide" Target="slides/slide104.xml"/><Relationship Id="rId120" Type="http://schemas.openxmlformats.org/officeDocument/2006/relationships/slide" Target="slides/slide105.xml"/><Relationship Id="rId121" Type="http://schemas.openxmlformats.org/officeDocument/2006/relationships/slide" Target="slides/slide106.xml"/><Relationship Id="rId122" Type="http://schemas.openxmlformats.org/officeDocument/2006/relationships/slide" Target="slides/slide107.xml"/><Relationship Id="rId123" Type="http://schemas.openxmlformats.org/officeDocument/2006/relationships/slide" Target="slides/slide108.xml"/><Relationship Id="rId124" Type="http://schemas.openxmlformats.org/officeDocument/2006/relationships/slide" Target="slides/slide109.xml"/><Relationship Id="rId125" Type="http://schemas.openxmlformats.org/officeDocument/2006/relationships/slide" Target="slides/slide110.xml"/><Relationship Id="rId126" Type="http://schemas.openxmlformats.org/officeDocument/2006/relationships/slide" Target="slides/slide111.xml"/><Relationship Id="rId127" Type="http://schemas.openxmlformats.org/officeDocument/2006/relationships/slide" Target="slides/slide112.xml"/><Relationship Id="rId128" Type="http://schemas.openxmlformats.org/officeDocument/2006/relationships/slide" Target="slides/slide113.xml"/><Relationship Id="rId129" Type="http://schemas.openxmlformats.org/officeDocument/2006/relationships/slide" Target="slides/slide114.xml"/><Relationship Id="rId130" Type="http://schemas.openxmlformats.org/officeDocument/2006/relationships/slide" Target="slides/slide115.xml"/><Relationship Id="rId131" Type="http://schemas.openxmlformats.org/officeDocument/2006/relationships/slide" Target="slides/slide116.xml"/><Relationship Id="rId132" Type="http://schemas.openxmlformats.org/officeDocument/2006/relationships/slide" Target="slides/slide117.xml"/><Relationship Id="rId133" Type="http://schemas.openxmlformats.org/officeDocument/2006/relationships/slide" Target="slides/slide118.xml"/><Relationship Id="rId134" Type="http://schemas.openxmlformats.org/officeDocument/2006/relationships/slide" Target="slides/slide119.xml"/><Relationship Id="rId135" Type="http://schemas.openxmlformats.org/officeDocument/2006/relationships/slide" Target="slides/slide120.xml"/><Relationship Id="rId136" Type="http://schemas.openxmlformats.org/officeDocument/2006/relationships/slide" Target="slides/slide121.xml"/><Relationship Id="rId137" Type="http://schemas.openxmlformats.org/officeDocument/2006/relationships/slide" Target="slides/slide122.xml"/><Relationship Id="rId138" Type="http://schemas.openxmlformats.org/officeDocument/2006/relationships/slide" Target="slides/slide123.xml"/><Relationship Id="rId139" Type="http://schemas.openxmlformats.org/officeDocument/2006/relationships/slide" Target="slides/slide124.xml"/><Relationship Id="rId140" Type="http://schemas.openxmlformats.org/officeDocument/2006/relationships/slide" Target="slides/slide125.xml"/><Relationship Id="rId141" Type="http://schemas.openxmlformats.org/officeDocument/2006/relationships/slide" Target="slides/slide126.xml"/><Relationship Id="rId142" Type="http://schemas.openxmlformats.org/officeDocument/2006/relationships/slide" Target="slides/slide127.xml"/><Relationship Id="rId1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B1A-945D-4D7F-9325-EA1790CC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87B-40B2-48B3-96C6-87863A46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25CCB-A4EC-4B32-86EE-B2BB4932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3AA46-DEBD-411B-BC61-17DABA02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340EF-D737-4BAA-B37E-03D2D4E7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AEA58-4BBB-4D89-931C-C7AACF79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8A00B-3916-489F-A43E-A8D88F98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A28A9-BDCA-4AB2-AD9A-A3C434C1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4B7DE-052A-4883-8669-C91B88B5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38EDB-E26F-451D-968A-ADE07892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7FAFA-1632-44CE-81C0-6FF9CDD1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BAE8B-28D6-4DC6-92BB-58A88CDE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FD88-26B8-4A50-89F7-A358FCF1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E73F7-3C9A-45DC-A494-FE0B604A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70482-E9F7-4847-93DA-E7754415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10160-6074-4317-9CDE-8DC4B0AF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91B4E-237F-4EB3-8F25-BFA2CD65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67DE0-AC15-429B-9F8A-2B90F9B6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6B541-2A96-45CF-B471-F31D3C7C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BC203-0027-423D-A050-A5D5D82A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CA85E-B9FD-48A9-8AEA-1DC116A8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FE04D-101A-4A33-BC00-279253F0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51C7E-A634-4583-9204-DC40B0B2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2A2A-F669-492A-BF04-6D3C62BA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3262C-47E5-4CB3-B918-DAC640BF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15657-2E9C-465A-A52D-FFA39678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4EAEB-E0B8-4630-A2AE-23D794E9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8961A-E461-448A-A36D-ABB43B6F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131E9-1FAE-45DC-8F59-C7543229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192B4-201F-4598-94DD-D962DAD2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5918B-86A5-4D6F-890C-E6A84C10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987DC-3AE4-43D4-816E-65E52662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33A95-0D46-49AE-A2B6-B30DDA54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C43E7-25D7-440C-A5A3-9A940D4E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3B13-614F-47E8-9A72-057EB087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0EA2A-3D4A-49B6-A9E9-E0F98D4A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27E8A-5253-438B-AA21-2833D1B3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6A495-F1BE-4B18-9A7D-A0D38AB4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F1541-961B-4AFD-BE04-DABB7D2A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00DB7-232B-4862-A3B8-9017AF9D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F72DD-10AD-4D79-9225-F9F6FDC3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60575-8B34-4977-AE65-CF6623F3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1C24C-A02B-48B0-836A-15AE05F0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65D71-CD0E-49DC-8238-95281B06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81A61-A5DE-4E9D-9EB6-1CFD124E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E2C2-6E16-4600-AE29-A312961E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184CE-5D26-463B-AEC6-44A0A6B0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F08D9-42C8-4BE9-A506-FA67B902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A1BEA-89C7-4BCC-ABBD-7D36F901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031B8-D974-4A2C-93E1-4F75A921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B1D99-948D-482C-9681-F5EEC259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7EA525-1B94-4A37-9AE6-9CF995FC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804C73-95F4-4A09-A333-6B11314A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DC9672-500E-4B46-B83F-5397062E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DDA5B-04F0-4F0E-8090-179B0E44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DE49B1-1082-44BA-B39C-E2C17A1A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05CE-68C2-4639-AE2F-56FDF189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D8B05-D0C4-4805-82AF-7F46219E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4A09F7-DE13-4D53-976C-ED81A861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901C2B-4A45-44F6-A891-D6D390DF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0B401A-5641-4831-A95C-EBA694BA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C5B0F-B3BC-4625-9367-9F31603E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1FDAE-50A8-4548-8895-8CE1F5C9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BC3D8-6D01-427E-97C0-2A52AEF1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3BF36E-9524-4B1D-8560-DC53056C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A71297-2573-4A73-B191-932C485E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524D40-1756-4DCD-90D2-5352A432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E546-9537-4438-A563-127BBFE1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70EF5A-1331-4771-AA7F-A37506F3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702AFE-DBD1-46FD-A046-C0132FCB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1408D4-76B7-44B3-A589-A09408A8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83BF97-8BCC-47A7-9AFF-0EBCC2FF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333D4F-BBAD-4569-A717-00A4C8B2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783E2A-7714-49C7-8D9B-3B4A5565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0C77BB-52DA-438C-9266-1D2DFC28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6FD895-9EAF-4351-8A26-A18C9186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DA618F-BD2B-462E-AEAC-18A0348E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FD57-7634-4F03-B9E9-FB621330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F98C-6D50-4070-816A-4306957F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9A6E-7100-42C5-8362-31040F5C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639-EFA2-4EF3-93B7-1CE20CA4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570F-91B0-4804-B9FF-6BA24767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77BA-224F-4294-866E-091146C8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C8E5-D652-4F12-8954-CC3B11AA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E473-E812-4514-A11F-C1418153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7D2F-B9FF-4972-914C-9D58C114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09D2D-F80E-40B3-9E9D-A82AA0E8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5BFC7-6CB6-4718-BB37-AE5EE56C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E64D2-2A27-4D08-A1F8-47B77190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4589B-C29A-4864-B5F3-31C58B8C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87B68-238A-401F-8049-BD816CEE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1651-13CE-44A7-820A-EB3FDD83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E75DA-A2B7-4A93-A396-5041A9E0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78A30-B0C4-449F-BD41-7BB46A4A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4AF43-9A05-4C22-9E43-69713B88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C2B8A-B3C8-470E-9CFC-3B6F60B2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6C720-3FB1-4BCE-85D2-06A18ACE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7D8B5-08F4-4155-A4D8-A7EE6DA0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7B538-3C0D-4F42-91F6-47C846A6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FD5AD-973D-45E1-890F-AA9CDF01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5976B-F64A-493D-8F8D-EEE3ED2C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57BE8-3DA6-4E91-9865-8F065FF4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A417-B675-46B0-8F95-D6974CB3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B29C9-DB4C-49DB-B477-0F51CB06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CF350-58A1-4B8B-A8ED-5110F05B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0DEDD-4DE0-487E-9074-77E5B4A6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0BC32-4E2C-4F1D-9FDF-4B61ECBC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C5DAC-A943-4ABE-8596-8F9F5991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7F517-2CFF-4AD5-9465-CDF29E64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F1A49-64F1-47F5-BBAE-C97211E0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27910-0269-4909-8A49-ABC10A29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0DB8C-8E56-41F4-BD2D-AB8E1099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A7E53-F6DF-4219-8A12-2E1CD7E2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979-A7ED-437F-AF66-E1BFA2D3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98A0D-051D-49E8-8EB1-D5E9267E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05C1A-459D-424B-B73F-A4C50111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0235A-D197-4B32-B6AB-31F4AFA4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8F3A6-9738-4228-B425-BF423FE1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E8236-C2EB-415A-AA15-562BD9A4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31352-3B37-44A6-B8EE-7D0EFB14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423E3-8C92-4AD1-B81C-C674EED1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BCE4F-1586-4C56-978A-570C58F1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46796-FE27-496A-8F01-9B77B435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36D45-F37E-42CD-B040-41210ED1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596B-00D2-4FBD-BA22-424E2910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CC3AE-BCD9-4A3D-8AAE-50337739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9E168-6F59-49C9-AEF3-5C2F6F35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937CB-327D-489A-AC09-178B484A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79CDD-2C69-4542-B74A-4B0F03CA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7AB8F-548C-4651-98E9-98873BF1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75213-7E71-4AD5-9EC8-D8E0675B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C5EB9-C479-4D8A-9601-1F7F9191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B6DD1-08DF-4859-8148-5B136A7E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10DEB-10CC-4464-913F-07942D66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C22EF-4F56-4B5D-B4E9-898C4C34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62F7-C51F-4FD9-8BB3-9437F1E4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D128C-17A9-4A41-A9E9-0156E600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299D5-AEBF-449B-9A95-FB5E30E7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436E7-8D1D-455B-86D7-63B6F00C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9090E-9890-4AAD-9B8F-FFA6BAB6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33BEB-273E-4FCD-8464-87AFAB33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C3432-CB41-43CF-A13C-567DA04E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72D11-6862-4F29-BFF2-25BC0D47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37D0A-2EC2-4659-9EF1-D484BC23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04D2A-1CD6-45AC-827E-3A5BA6A8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1C41B-65F4-453E-95B2-A952FE89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4CC-2A9A-40E7-8D76-8F575986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3DDF0-BECE-481E-9FE8-0993C2E5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B6F58-B958-4DE4-974A-3AD90163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0EE63-9995-4592-BB21-A75E582F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5245D-6592-4749-AFCD-C2A8A33C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E8D22-9415-4179-BC79-7647758E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2FA4B-BBEB-43E1-A483-0ED72F14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08FD9-137E-4C2F-9DF2-CE9E6A97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D9F5C-DF2A-40F5-AC68-D743DF60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1335A-71E2-4DA4-A3F8-6F16F796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A9C90-66F1-4076-AB9B-52D6B711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85E-3B65-4049-9F13-3DA64AD0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E128D-34CF-4FF6-BF13-B9BBDDF0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E2201-EDAE-40E2-9A4F-744C2179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3D3C3-9DD3-43DD-B0F5-4B47D87A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248EF-3C39-450F-9B14-CCD5A912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10ABE-ABDA-41CC-BF42-8A92088F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9DEE5-07AF-48DB-94DF-1A4873B6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9EF92-E823-43F5-9061-50C86F9E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AE38B-DBC3-4F62-8E94-BB2E4C1E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17176-2E05-47FF-AB5D-40D5C758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E7BDD-ECC6-4925-A8D6-2A520E95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C5BB-DDF5-4372-BA70-D8419BDC77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3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A65F-3DF7-4545-82F4-66E2B8A5A7C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D017-A645-4237-A983-DF3616A5678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3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2377-41F9-4CED-8656-4203A290433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06A8-17A1-496B-BE9C-52E47CA8B05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3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6227-9090-4E0B-A7DD-EF841CA2E72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37DD-BB7E-42FF-9A5D-39F0B076DB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7889-5903-41D9-B8D9-58EA59C6ED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690F-2FCA-4480-BBDE-568D057804E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0727-FCD2-4CEC-A33B-6BDE0DFBD87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3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1591-8AEE-43C0-AF9F-1093951CA82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318E-F4F4-4D6A-8093-DECF15CDF24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3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1B27-4EAB-4F7A-B767-4F73912722E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213E-29E0-4A3F-AF82-046A4E54618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3" descr="H:\4 класс\УРОКИ\РУС ЯЗ\части речи\3.jpg"/>
          <p:cNvPicPr/>
          <p:nvPr/>
        </p:nvPicPr>
        <p:blipFill>
          <a:blip r:embed="rId1"/>
          <a:stretch/>
        </p:blipFill>
        <p:spPr>
          <a:xfrm>
            <a:off x="468360" y="692280"/>
            <a:ext cx="8172360" cy="281916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71600" y="42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Задание.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1. поставь ударение и подчеркни безударные гласные в корнях слов.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2. придумай три предложения с любыми словами и сделай разбор по членам предло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читай и запомн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Picture 3" descr="F:\4 класс\УРОКИ\РУС ЯЗ\части речи\0911.jpg"/>
          <p:cNvPicPr/>
          <p:nvPr/>
        </p:nvPicPr>
        <p:blipFill>
          <a:blip r:embed="rId1"/>
          <a:stretch/>
        </p:blipFill>
        <p:spPr>
          <a:xfrm>
            <a:off x="539640" y="2060640"/>
            <a:ext cx="8136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5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ыучи правил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6" name="Picture 2" descr="F:\4 класс\УРОКИ\РУС ЯЗ\части речи\09111.jpg"/>
          <p:cNvPicPr/>
          <p:nvPr/>
        </p:nvPicPr>
        <p:blipFill>
          <a:blip r:embed="rId1"/>
          <a:stretch/>
        </p:blipFill>
        <p:spPr>
          <a:xfrm>
            <a:off x="468360" y="1916280"/>
            <a:ext cx="82296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Найди имена существительные 1-го склон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8" name="Picture 2" descr="F:\4 класс\УРОКИ\РУС ЯЗ\части речи\09112.jpg"/>
          <p:cNvPicPr/>
          <p:nvPr/>
        </p:nvPicPr>
        <p:blipFill>
          <a:blip r:embed="rId1"/>
          <a:stretch/>
        </p:blipFill>
        <p:spPr>
          <a:xfrm>
            <a:off x="971640" y="1916280"/>
            <a:ext cx="734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Picture 2" descr="F:\4 класс\УРОКИ\РУС ЯЗ\части речи\опеределить склонение ИС.jpg"/>
          <p:cNvPicPr/>
          <p:nvPr/>
        </p:nvPicPr>
        <p:blipFill>
          <a:blip r:embed="rId1"/>
          <a:stretch/>
        </p:blipFill>
        <p:spPr>
          <a:xfrm>
            <a:off x="539640" y="620640"/>
            <a:ext cx="7993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1" name="Picture 2" descr="F:\4 класс\УРОКИ\РУС ЯЗ\части речи\09113.jpg"/>
          <p:cNvPicPr/>
          <p:nvPr/>
        </p:nvPicPr>
        <p:blipFill>
          <a:blip r:embed="rId1"/>
          <a:stretch/>
        </p:blipFill>
        <p:spPr>
          <a:xfrm>
            <a:off x="1547640" y="1989000"/>
            <a:ext cx="633420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9280" y="-1755720"/>
          <a:ext cx="8964720" cy="8931240"/>
        </p:xfrm>
        <a:graphic>
          <a:graphicData uri="http://schemas.openxmlformats.org/drawingml/2006/table">
            <a:tbl>
              <a:tblPr/>
              <a:tblGrid>
                <a:gridCol w="4105440"/>
                <a:gridCol w="4859280"/>
              </a:tblGrid>
              <a:tr h="962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егодн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рок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знал, открыл для себя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учился…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огу похвалить себя и своих одноклассников за 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17"/>
          <p:cNvSpPr/>
          <p:nvPr/>
        </p:nvSpPr>
        <p:spPr>
          <a:xfrm>
            <a:off x="2556000" y="2637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Line 18"/>
          <p:cNvSpPr/>
          <p:nvPr/>
        </p:nvSpPr>
        <p:spPr>
          <a:xfrm flipV="1">
            <a:off x="3492360" y="836640"/>
            <a:ext cx="720720" cy="1512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Line 19"/>
          <p:cNvSpPr/>
          <p:nvPr/>
        </p:nvSpPr>
        <p:spPr>
          <a:xfrm>
            <a:off x="3492360" y="3502080"/>
            <a:ext cx="792360" cy="201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Line 20"/>
          <p:cNvSpPr/>
          <p:nvPr/>
        </p:nvSpPr>
        <p:spPr>
          <a:xfrm>
            <a:off x="3564000" y="285264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но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Те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мена существительные 1-го скло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Цели и задач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ознакомиться……………………………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читься правильно их …………………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Повтор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колько склонений имени существительного ты знаеш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Что такое существительные 1-го склонен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веди пример им.сущ. 1-го склон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5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9" name="Picture 2" descr="F:\4 класс\УРОКИ\РУС ЯЗ\части речи\1-е склон.jpg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росклоняй им.сущ. в единственном чис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вц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Вод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Юноша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Выпиши им.сущ. 1-го скло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артофель, ласточки, пояс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ьюга, лебедь, сетка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ечь, печки, лошадь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лошадки, мышка, о Ван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6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2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7" name=""/>
          <p:cNvGraphicFramePr/>
          <p:nvPr/>
        </p:nvGraphicFramePr>
        <p:xfrm>
          <a:off x="179280" y="-1755720"/>
          <a:ext cx="8964720" cy="8931240"/>
        </p:xfrm>
        <a:graphic>
          <a:graphicData uri="http://schemas.openxmlformats.org/drawingml/2006/table">
            <a:tbl>
              <a:tblPr/>
              <a:tblGrid>
                <a:gridCol w="4105440"/>
                <a:gridCol w="4859280"/>
              </a:tblGrid>
              <a:tr h="962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егодн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рок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знал, открыл для себя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учился…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огу похвалить себя и своих одноклассников за 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8" name="Text Box 17"/>
          <p:cNvSpPr/>
          <p:nvPr/>
        </p:nvSpPr>
        <p:spPr>
          <a:xfrm>
            <a:off x="2556000" y="2637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Line 18"/>
          <p:cNvSpPr/>
          <p:nvPr/>
        </p:nvSpPr>
        <p:spPr>
          <a:xfrm flipV="1">
            <a:off x="3492360" y="836640"/>
            <a:ext cx="720720" cy="1512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Line 19"/>
          <p:cNvSpPr/>
          <p:nvPr/>
        </p:nvSpPr>
        <p:spPr>
          <a:xfrm>
            <a:off x="3492360" y="3502080"/>
            <a:ext cx="792360" cy="201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Line 20"/>
          <p:cNvSpPr/>
          <p:nvPr/>
        </p:nvSpPr>
        <p:spPr>
          <a:xfrm>
            <a:off x="3564000" y="285264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 но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Те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2-е склонение имени существительн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Повтор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ак определить 1-е склонение имени существительног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Тем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такое части речи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Цели и задач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ознакомиться……………………………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читься правильно их …………………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робле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ак определить 2-е склонение имени существительног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6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5" name="Picture 2" descr="H:\4 класс\УРОКИ\РУС ЯЗ\части речи\1111.jpg"/>
          <p:cNvPicPr/>
          <p:nvPr/>
        </p:nvPicPr>
        <p:blipFill>
          <a:blip r:embed="rId1"/>
          <a:stretch/>
        </p:blipFill>
        <p:spPr>
          <a:xfrm>
            <a:off x="468360" y="1989000"/>
            <a:ext cx="82296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6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Раздели на 2 груп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царь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едушка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 деревне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 городу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воры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 Колей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текло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рава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354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Calibri"/>
              </a:rPr>
              <a:t>Словарная работ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1" name="Picture 3" descr="H:\4 класс\УРОКИ\РУС ЯЗ\части речи\агроном.jpg"/>
          <p:cNvPicPr/>
          <p:nvPr/>
        </p:nvPicPr>
        <p:blipFill>
          <a:blip r:embed="rId1"/>
          <a:stretch/>
        </p:blipFill>
        <p:spPr>
          <a:xfrm>
            <a:off x="625320" y="1628640"/>
            <a:ext cx="2816280" cy="1152720"/>
          </a:xfrm>
          <a:prstGeom prst="rect">
            <a:avLst/>
          </a:prstGeom>
          <a:ln w="0">
            <a:noFill/>
          </a:ln>
        </p:spPr>
      </p:pic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39280" y="2997000"/>
            <a:ext cx="3008520" cy="23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пециалист сельского хозяйства, обладающий всесторонними знаниями в области агроном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3" name="Picture 2" descr="H:\4 класс\УРОКИ\РУС ЯЗ\части речи\1641809147_6-flomaster-club-p-risunki-na-temu-agronom-krasivie-risunki-14.png"/>
          <p:cNvPicPr/>
          <p:nvPr/>
        </p:nvPicPr>
        <p:blipFill>
          <a:blip r:embed="rId2"/>
          <a:stretch/>
        </p:blipFill>
        <p:spPr>
          <a:xfrm>
            <a:off x="4500720" y="2595600"/>
            <a:ext cx="303660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2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5" name=""/>
          <p:cNvGraphicFramePr/>
          <p:nvPr/>
        </p:nvGraphicFramePr>
        <p:xfrm>
          <a:off x="179280" y="-1755720"/>
          <a:ext cx="8964720" cy="8931240"/>
        </p:xfrm>
        <a:graphic>
          <a:graphicData uri="http://schemas.openxmlformats.org/drawingml/2006/table">
            <a:tbl>
              <a:tblPr/>
              <a:tblGrid>
                <a:gridCol w="3888000"/>
                <a:gridCol w="5076720"/>
              </a:tblGrid>
              <a:tr h="962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егодн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рок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знал, открыл для себя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учился…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огу похвалить себя и своих одноклассников за 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6" name="Text Box 17"/>
          <p:cNvSpPr/>
          <p:nvPr/>
        </p:nvSpPr>
        <p:spPr>
          <a:xfrm>
            <a:off x="2556000" y="2637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Line 18"/>
          <p:cNvSpPr/>
          <p:nvPr/>
        </p:nvSpPr>
        <p:spPr>
          <a:xfrm flipV="1">
            <a:off x="3149640" y="836640"/>
            <a:ext cx="720720" cy="1512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3238560" y="3502080"/>
            <a:ext cx="792000" cy="201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Line 20"/>
          <p:cNvSpPr/>
          <p:nvPr/>
        </p:nvSpPr>
        <p:spPr>
          <a:xfrm>
            <a:off x="3274920" y="288612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C:\Users\Еленга\Desktop\методички\Чистописание 4 класс Палова\98771266_large_0014.jpg"/>
          <p:cNvPicPr/>
          <p:nvPr/>
        </p:nvPicPr>
        <p:blipFill>
          <a:blip r:embed="rId1"/>
          <a:srcRect l="5620" t="4576" r="5620" b="37022"/>
          <a:stretch/>
        </p:blipFill>
        <p:spPr>
          <a:xfrm>
            <a:off x="1332000" y="189000"/>
            <a:ext cx="6912000" cy="64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1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H:\4 класс\УРОКИ\РУС ЯЗ\части речи\5.jpg"/>
          <p:cNvPicPr/>
          <p:nvPr/>
        </p:nvPicPr>
        <p:blipFill>
          <a:blip r:embed="rId1"/>
          <a:stretch/>
        </p:blipFill>
        <p:spPr>
          <a:xfrm>
            <a:off x="1332000" y="1442880"/>
            <a:ext cx="6597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Существительное – э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Прилагательное - эт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C:\Users\Еленга\Desktop\методички\Чистописание 4 класс Палова\98771270_large_0018.jpg"/>
          <p:cNvPicPr/>
          <p:nvPr/>
        </p:nvPicPr>
        <p:blipFill>
          <a:blip r:embed="rId1"/>
          <a:srcRect l="5620" t="5656" r="4089" b="55408"/>
          <a:stretch/>
        </p:blipFill>
        <p:spPr>
          <a:xfrm>
            <a:off x="468360" y="404640"/>
            <a:ext cx="84963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Тем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такое части речи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Найди глагол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95280" y="1628640"/>
            <a:ext cx="8569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Умей не только брать, но и отдава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Хорошие люди умирают, а дела их живу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*Подчеркни глагол. Каким членом </a:t>
            </a: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предложения он являетс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**Определи число глаго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*** Какие слова являются антонимами.           </a:t>
            </a: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Объясни</a:t>
            </a: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4" descr="https://encrypted-tbn2.gstatic.com/images?q=tbn:ANd9GcSh6mWZ-cu7lt--freLNNyEPYd1WL01dVd9-7JIwsuXFSVFgUZy"/>
          <p:cNvPicPr/>
          <p:nvPr/>
        </p:nvPicPr>
        <p:blipFill>
          <a:blip r:embed="rId1"/>
          <a:stretch/>
        </p:blipFill>
        <p:spPr>
          <a:xfrm>
            <a:off x="5607000" y="4898880"/>
            <a:ext cx="2005200" cy="1500480"/>
          </a:xfrm>
          <a:prstGeom prst="rect">
            <a:avLst/>
          </a:prstGeom>
          <a:ln w="0">
            <a:noFill/>
          </a:ln>
        </p:spPr>
      </p:pic>
      <p:sp>
        <p:nvSpPr>
          <p:cNvPr id="722" name="Прямоугольник 3"/>
          <p:cNvSpPr/>
          <p:nvPr/>
        </p:nvSpPr>
        <p:spPr>
          <a:xfrm>
            <a:off x="1928880" y="357120"/>
            <a:ext cx="4929120" cy="714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Имя числитель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Прямоугольник 4"/>
          <p:cNvSpPr/>
          <p:nvPr/>
        </p:nvSpPr>
        <p:spPr>
          <a:xfrm>
            <a:off x="714240" y="1714680"/>
            <a:ext cx="2786040" cy="642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кой? Который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Прямоугольник 5"/>
          <p:cNvSpPr/>
          <p:nvPr/>
        </p:nvSpPr>
        <p:spPr>
          <a:xfrm>
            <a:off x="5143680" y="1714680"/>
            <a:ext cx="2928600" cy="642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кольк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Прямоугольник 6"/>
          <p:cNvSpPr/>
          <p:nvPr/>
        </p:nvSpPr>
        <p:spPr>
          <a:xfrm>
            <a:off x="785880" y="3214800"/>
            <a:ext cx="264312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ядок при сче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Прямоугольник 7"/>
          <p:cNvSpPr/>
          <p:nvPr/>
        </p:nvSpPr>
        <p:spPr>
          <a:xfrm>
            <a:off x="5143680" y="3214800"/>
            <a:ext cx="29286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личест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Прямоугольник 8"/>
          <p:cNvSpPr/>
          <p:nvPr/>
        </p:nvSpPr>
        <p:spPr>
          <a:xfrm>
            <a:off x="785880" y="4221000"/>
            <a:ext cx="2643120" cy="56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ЯДКОВ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Прямоугольник 9"/>
          <p:cNvSpPr/>
          <p:nvPr/>
        </p:nvSpPr>
        <p:spPr>
          <a:xfrm>
            <a:off x="5143680" y="4287960"/>
            <a:ext cx="2928600" cy="581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ЛИЧЕСТВЕН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Прямая соединительная линия 11"/>
          <p:cNvSpPr/>
          <p:nvPr/>
        </p:nvSpPr>
        <p:spPr>
          <a:xfrm flipH="1">
            <a:off x="2106360" y="1071720"/>
            <a:ext cx="393480" cy="642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Прямая соединительная линия 13"/>
          <p:cNvSpPr/>
          <p:nvPr/>
        </p:nvSpPr>
        <p:spPr>
          <a:xfrm>
            <a:off x="6000840" y="1071720"/>
            <a:ext cx="428400" cy="642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Прямая соединительная линия 15"/>
          <p:cNvSpPr/>
          <p:nvPr/>
        </p:nvSpPr>
        <p:spPr>
          <a:xfrm>
            <a:off x="2106720" y="2357280"/>
            <a:ext cx="0" cy="857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2" name="Прямая со стрелкой 17"/>
          <p:cNvCxnSpPr>
            <a:stCxn id="725" idx="2"/>
            <a:endCxn id="727" idx="0"/>
          </p:cNvCxnSpPr>
          <p:nvPr/>
        </p:nvCxnSpPr>
        <p:spPr>
          <a:xfrm>
            <a:off x="2107800" y="3857400"/>
            <a:ext cx="1080" cy="36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3" name="Прямая соединительная линия 19"/>
          <p:cNvSpPr/>
          <p:nvPr/>
        </p:nvSpPr>
        <p:spPr>
          <a:xfrm>
            <a:off x="6608880" y="2357280"/>
            <a:ext cx="0" cy="857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4" name="Прямая со стрелкой 21"/>
          <p:cNvCxnSpPr>
            <a:stCxn id="726" idx="2"/>
            <a:endCxn id="728" idx="0"/>
          </p:cNvCxnSpPr>
          <p:nvPr/>
        </p:nvCxnSpPr>
        <p:spPr>
          <a:xfrm>
            <a:off x="6608520" y="3857400"/>
            <a:ext cx="1080" cy="430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735" name="Picture 2" descr="http://entropiya-blog.ru/wp-content/uploads/2012/03/6312.jpg"/>
          <p:cNvPicPr/>
          <p:nvPr/>
        </p:nvPicPr>
        <p:blipFill>
          <a:blip r:embed="rId2"/>
          <a:stretch/>
        </p:blipFill>
        <p:spPr>
          <a:xfrm>
            <a:off x="1035000" y="4869000"/>
            <a:ext cx="214308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Найди имя числитель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рой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ятёр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тор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сьмё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Вставь имена числи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Объект 7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480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1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2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Числительное – э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Глагол - эт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Те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Calibri"/>
              </a:rPr>
              <a:t>Наречие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2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Прямоугольник 1"/>
          <p:cNvSpPr/>
          <p:nvPr/>
        </p:nvSpPr>
        <p:spPr>
          <a:xfrm>
            <a:off x="324000" y="81000"/>
            <a:ext cx="8712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Прямоугольник 2"/>
          <p:cNvSpPr/>
          <p:nvPr/>
        </p:nvSpPr>
        <p:spPr>
          <a:xfrm>
            <a:off x="1187280" y="666720"/>
            <a:ext cx="561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уществительное -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школ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росыпается -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глагол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 прилагательным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весёлы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овый школьный день пришел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стали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мы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- местоименье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Бьёт числительное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семь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За ученье, без сомненья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риниматься надо всем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Скругленный прямоугольник 3"/>
          <p:cNvSpPr/>
          <p:nvPr/>
        </p:nvSpPr>
        <p:spPr>
          <a:xfrm>
            <a:off x="0" y="1501920"/>
            <a:ext cx="8893080" cy="634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Прямоугольник 4"/>
          <p:cNvSpPr/>
          <p:nvPr/>
        </p:nvSpPr>
        <p:spPr>
          <a:xfrm>
            <a:off x="789120" y="4740120"/>
            <a:ext cx="543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libri"/>
              </a:rPr>
              <a:t>Названия каких частей речи прозвучали в этом стихотворении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libri"/>
              </a:rPr>
              <a:t>Какие части речи не назван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Рисунок 6" descr=""/>
          <p:cNvPicPr/>
          <p:nvPr/>
        </p:nvPicPr>
        <p:blipFill>
          <a:blip r:embed="rId1"/>
          <a:stretch/>
        </p:blipFill>
        <p:spPr>
          <a:xfrm>
            <a:off x="6384960" y="3879720"/>
            <a:ext cx="206064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2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Прочитай и запомн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5" name="Picture 2" descr="H:\4 класс\УРОКИ\РУС ЯЗ\части речи\6.jpg"/>
          <p:cNvPicPr/>
          <p:nvPr/>
        </p:nvPicPr>
        <p:blipFill>
          <a:blip r:embed="rId1"/>
          <a:stretch/>
        </p:blipFill>
        <p:spPr>
          <a:xfrm>
            <a:off x="468360" y="2276640"/>
            <a:ext cx="82296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вп</a:t>
            </a:r>
            <a:r>
              <a:rPr b="0" lang="ru-RU" sz="7200" spc="-1" strike="noStrike" u="sng">
                <a:solidFill>
                  <a:srgbClr val="92d050"/>
                </a:solidFill>
                <a:uFillTx/>
                <a:latin typeface="Calibri"/>
              </a:rPr>
              <a:t>е</a:t>
            </a: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р</a:t>
            </a:r>
            <a:r>
              <a:rPr b="0" lang="ru-RU" sz="7200" spc="-1" strike="noStrike" u="sng">
                <a:solidFill>
                  <a:srgbClr val="92d050"/>
                </a:solidFill>
                <a:uFillTx/>
                <a:latin typeface="Calibri"/>
              </a:rPr>
              <a:t>е</a:t>
            </a: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д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медл</a:t>
            </a:r>
            <a:r>
              <a:rPr b="0" lang="ru-RU" sz="7200" spc="-1" strike="noStrike" u="sng">
                <a:solidFill>
                  <a:srgbClr val="92d050"/>
                </a:solidFill>
                <a:uFillTx/>
                <a:latin typeface="Calibri"/>
              </a:rPr>
              <a:t>енн</a:t>
            </a: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На уроке я познакомился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Наречие отвечает на вопросы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Наречие является … членом предлож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Те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Calibri"/>
              </a:rPr>
              <a:t>Образование и употребление наречий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збери слова по состав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изредк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задолг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" descr="H:\4 класс\УРОКИ\РУС ЯЗ\части речи\7.jpg"/>
          <p:cNvPicPr/>
          <p:nvPr/>
        </p:nvPicPr>
        <p:blipFill>
          <a:blip r:embed="rId2"/>
          <a:stretch/>
        </p:blipFill>
        <p:spPr>
          <a:xfrm>
            <a:off x="539640" y="620640"/>
            <a:ext cx="7993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3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Вставь пропущенные бу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прав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мест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осыт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Засветл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лев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скор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зж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егодня на уроке я повторю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4" name="Picture 2" descr="H:\4 класс\УРОКИ\РУС ЯЗ\части речи\8.jpg"/>
          <p:cNvPicPr/>
          <p:nvPr/>
        </p:nvPicPr>
        <p:blipFill>
          <a:blip r:embed="rId1"/>
          <a:stretch/>
        </p:blipFill>
        <p:spPr>
          <a:xfrm>
            <a:off x="395280" y="2133720"/>
            <a:ext cx="8229600" cy="89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Наречия образованы с помощью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Суффикс А пишется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Суффикс О пишется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Наречия нужны для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Вставь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Нам весело живет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Мы (песенка) поём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А в (песенка) поёт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О том, как мы живём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Те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Изменение по падежам имен существительных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На уроке я вспомню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На уроке повторю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росклоняйт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Ночь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Соба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204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 txBox="1"/>
          <p:nvPr/>
        </p:nvSpPr>
        <p:spPr>
          <a:xfrm>
            <a:off x="539640" y="148428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а дерев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для работ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о дорожк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без подсказк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о 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грибы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507672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в спектак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ад землёй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о другу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о лу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1" name="Picture 2" descr="F:\4 класс\УРОКИ\РУС ЯЗ\части речи\9.jpg"/>
          <p:cNvPicPr/>
          <p:nvPr/>
        </p:nvPicPr>
        <p:blipFill>
          <a:blip r:embed="rId1"/>
          <a:stretch/>
        </p:blipFill>
        <p:spPr>
          <a:xfrm>
            <a:off x="457200" y="1803240"/>
            <a:ext cx="8229600" cy="41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На уроке повтори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Изменение существительного по падежам называется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При изменении сущ. по падежам изменяется их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читай и запомни!(стр.6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H:\4 класс\УРОКИ\РУС ЯЗ\части речи\1.jpg"/>
          <p:cNvPicPr/>
          <p:nvPr/>
        </p:nvPicPr>
        <p:blipFill>
          <a:blip r:embed="rId2"/>
          <a:stretch/>
        </p:blipFill>
        <p:spPr>
          <a:xfrm>
            <a:off x="468360" y="1916280"/>
            <a:ext cx="8064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</a:t>
            </a: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Calibri"/>
              </a:rPr>
              <a:t>Тем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пражнение в определен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И.п., Р.п., В.п. имени существительног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еодушевленные имена существительны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Calibri"/>
              </a:rPr>
              <a:t>Тем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И.п., Р.п., В.п. имени существительног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одума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На какие вопросы отвечает существительное в Именительном падеж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им членом предложения являетс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росклоняй существитель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b0f0"/>
                </a:solidFill>
                <a:latin typeface="Calibri"/>
              </a:rPr>
              <a:t>снегир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f0"/>
                </a:solidFill>
                <a:latin typeface="Calibri"/>
              </a:rPr>
              <a:t>р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alibri"/>
              </a:rPr>
              <a:t>Вывод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Существительное в И.п.  В предложении является…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Учебник стр.8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3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Box 1"/>
          <p:cNvSpPr/>
          <p:nvPr/>
        </p:nvSpPr>
        <p:spPr>
          <a:xfrm>
            <a:off x="285840" y="714240"/>
            <a:ext cx="8572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Закончи фраз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я существительное в В. п. отвечает на вопросы___________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Box 5"/>
          <p:cNvSpPr/>
          <p:nvPr/>
        </p:nvSpPr>
        <p:spPr>
          <a:xfrm>
            <a:off x="755640" y="278136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мя сущ. в В.п.  употребляется с предлогами 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Я сижу едва не плача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очень сложная задача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различить два падеж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9" name="Объект 3" descr=""/>
          <p:cNvPicPr/>
          <p:nvPr/>
        </p:nvPicPr>
        <p:blipFill>
          <a:blip r:embed="rId1"/>
          <a:stretch/>
        </p:blipFill>
        <p:spPr>
          <a:xfrm>
            <a:off x="255600" y="3236760"/>
            <a:ext cx="4243320" cy="2889360"/>
          </a:xfrm>
          <a:prstGeom prst="rect">
            <a:avLst/>
          </a:prstGeom>
          <a:ln w="0">
            <a:noFill/>
          </a:ln>
        </p:spPr>
      </p:pic>
      <p:pic>
        <p:nvPicPr>
          <p:cNvPr id="810" name="Объект 4" descr=""/>
          <p:cNvPicPr/>
          <p:nvPr/>
        </p:nvPicPr>
        <p:blipFill>
          <a:blip r:embed="rId2"/>
          <a:stretch/>
        </p:blipFill>
        <p:spPr>
          <a:xfrm>
            <a:off x="4449600" y="3309840"/>
            <a:ext cx="42372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4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Box 1"/>
          <p:cNvSpPr/>
          <p:nvPr/>
        </p:nvSpPr>
        <p:spPr>
          <a:xfrm>
            <a:off x="285840" y="714240"/>
            <a:ext cx="8572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Закончи фраз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я существительное в Р. п. отвечает на вопросы___________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Box 5"/>
          <p:cNvSpPr/>
          <p:nvPr/>
        </p:nvSpPr>
        <p:spPr>
          <a:xfrm>
            <a:off x="755640" y="278136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мя сущ. в Р.п.  употребляется с предлогами 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с учебником (стр.6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H:\4 класс\УРОКИ\РУС ЯЗ\части речи\2.jpg"/>
          <p:cNvPicPr/>
          <p:nvPr/>
        </p:nvPicPr>
        <p:blipFill>
          <a:blip r:embed="rId1"/>
          <a:stretch/>
        </p:blipFill>
        <p:spPr>
          <a:xfrm>
            <a:off x="971640" y="1341360"/>
            <a:ext cx="6553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оставь И.С. из И.п в Р.п.-В.п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Кот-..-.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Ложка -.. -.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Птица -.. -.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На уроке повтори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Для определения падежа И.С. нужн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1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В определении падежа И.с. помогут служебные части речи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Р.п., В.п., Д.п. неодушевленных И.С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Box 1"/>
          <p:cNvSpPr/>
          <p:nvPr/>
        </p:nvSpPr>
        <p:spPr>
          <a:xfrm>
            <a:off x="1785960" y="71424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домашнего зад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2"/>
          <p:cNvSpPr/>
          <p:nvPr/>
        </p:nvSpPr>
        <p:spPr>
          <a:xfrm>
            <a:off x="1979640" y="117648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   </a:t>
            </a: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Закончи предложен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3"/>
          <p:cNvSpPr/>
          <p:nvPr/>
        </p:nvSpPr>
        <p:spPr>
          <a:xfrm>
            <a:off x="755640" y="2133720"/>
            <a:ext cx="770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1. В русском языке падежей  – 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2. Чтобы определить падеж им. сущ.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3. Имя сущ. изменяется ….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4. Склонение – это…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5. Р.п. отвечает на вопросы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6. В.п. отвечает на вопросы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2" descr="C:\Users\Еленга\Desktop\методички\Чистописание 4 класс Палова\98771267_large_0015.jpg"/>
          <p:cNvPicPr/>
          <p:nvPr/>
        </p:nvPicPr>
        <p:blipFill>
          <a:blip r:embed="rId1"/>
          <a:srcRect l="6120" t="29451" r="5119" b="33777"/>
          <a:stretch/>
        </p:blipFill>
        <p:spPr>
          <a:xfrm>
            <a:off x="374760" y="476280"/>
            <a:ext cx="85978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в пар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Упражнение 142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Box 1"/>
          <p:cNvSpPr/>
          <p:nvPr/>
        </p:nvSpPr>
        <p:spPr>
          <a:xfrm>
            <a:off x="285840" y="714240"/>
            <a:ext cx="8572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Закончи фраз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я существительное в Д. п. отвечает на вопросы___________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5"/>
          <p:cNvSpPr/>
          <p:nvPr/>
        </p:nvSpPr>
        <p:spPr>
          <a:xfrm>
            <a:off x="755640" y="278136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мя сущ. в Д.п.  употребляется с предлогами 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4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2" descr="H:\4 класс\УРОКИ\РУС ЯЗ\части речи\10.jpg"/>
          <p:cNvPicPr/>
          <p:nvPr/>
        </p:nvPicPr>
        <p:blipFill>
          <a:blip r:embed="rId1"/>
          <a:stretch/>
        </p:blipFill>
        <p:spPr>
          <a:xfrm>
            <a:off x="900000" y="2028960"/>
            <a:ext cx="7096320" cy="942840"/>
          </a:xfrm>
          <a:prstGeom prst="rect">
            <a:avLst/>
          </a:prstGeom>
          <a:ln w="0">
            <a:noFill/>
          </a:ln>
        </p:spPr>
      </p:pic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Словарная рабо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2"/>
          <a:stretch/>
        </p:blipFill>
        <p:spPr>
          <a:xfrm>
            <a:off x="539640" y="2852280"/>
            <a:ext cx="82296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1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7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Сегодня мы вспомнили падеж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Р.п. отвечает на вопросы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Р.п. можно спутать с …. Для правильного определения падежа нужно обратить внимание на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Д.п. отвечает на вопросы… Наприм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00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Т.п.и П.п. имен существительны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2" descr="C:\Users\Еленга\Desktop\методички\Чистописание 4 класс Палова\98771268_large_0016.jpg"/>
          <p:cNvPicPr/>
          <p:nvPr/>
        </p:nvPicPr>
        <p:blipFill>
          <a:blip r:embed="rId1"/>
          <a:srcRect l="6592" t="26205" r="6059" b="35941"/>
          <a:stretch/>
        </p:blipFill>
        <p:spPr>
          <a:xfrm>
            <a:off x="395280" y="404640"/>
            <a:ext cx="84549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Просклоняй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Осина</a:t>
            </a:r>
            <a:r>
              <a:rPr b="1" i="1" lang="ru-RU" sz="40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ru-RU" sz="4000" spc="-1" strike="noStrike" baseline="30000">
                <a:solidFill>
                  <a:srgbClr val="00b0f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Заяц </a:t>
            </a:r>
            <a:r>
              <a:rPr b="1" lang="ru-RU" sz="4000" spc="-1" strike="noStrike" baseline="30000">
                <a:solidFill>
                  <a:srgbClr val="00b0f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Жу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Облак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f0"/>
                </a:solidFill>
                <a:latin typeface="Calibri"/>
              </a:rPr>
              <a:t>Придумай 4 предложения. Разберите по членам предложения. Подпишите падеж И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ная рабо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Calibri"/>
              </a:rPr>
              <a:t>С.87 учебни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Диктант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ПР (стр.9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Замени слово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«старый» </a:t>
            </a: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близким по значению словом. Запиши это сло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ак-то ёж поймал в сенях мышонка и показал его коту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Задание: </a:t>
            </a:r>
            <a:r>
              <a:rPr b="1" i="1" lang="ru-RU" sz="2800" spc="-1" strike="noStrike">
                <a:solidFill>
                  <a:srgbClr val="00b0f0"/>
                </a:solidFill>
                <a:latin typeface="Calibri"/>
              </a:rPr>
              <a:t>найди слово, в состав которого соответствует схеме. Выпиши и обознач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Дуга 6"/>
          <p:cNvSpPr/>
          <p:nvPr/>
        </p:nvSpPr>
        <p:spPr>
          <a:xfrm rot="19942200">
            <a:off x="1012680" y="5106960"/>
            <a:ext cx="1204920" cy="787320"/>
          </a:xfrm>
          <a:custGeom>
            <a:avLst/>
            <a:gdLst/>
            <a:ahLst/>
            <a:rect l="l" t="t" r="r" b="b"/>
            <a:pathLst>
              <a:path stroke="0" w="1204913" h="787400">
                <a:moveTo>
                  <a:pt x="602456" y="0"/>
                </a:moveTo>
                <a:cubicBezTo>
                  <a:pt x="935184" y="0"/>
                  <a:pt x="1204913" y="176265"/>
                  <a:pt x="1204913" y="393700"/>
                </a:cubicBezTo>
                <a:lnTo>
                  <a:pt x="602457" y="393700"/>
                </a:lnTo>
                <a:cubicBezTo>
                  <a:pt x="602457" y="262467"/>
                  <a:pt x="602456" y="131233"/>
                  <a:pt x="602456" y="0"/>
                </a:cubicBezTo>
                <a:close/>
              </a:path>
              <a:path fill="none" w="1204913" h="787400">
                <a:moveTo>
                  <a:pt x="602456" y="0"/>
                </a:moveTo>
                <a:cubicBezTo>
                  <a:pt x="935184" y="0"/>
                  <a:pt x="1204913" y="176265"/>
                  <a:pt x="1204913" y="393700"/>
                </a:cubicBezTo>
              </a:path>
            </a:pathLst>
          </a:custGeom>
          <a:noFill/>
          <a:ln w="3816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Полилиния 7"/>
          <p:cNvSpPr/>
          <p:nvPr/>
        </p:nvSpPr>
        <p:spPr>
          <a:xfrm>
            <a:off x="2217600" y="4937040"/>
            <a:ext cx="482760" cy="357120"/>
          </a:xfrm>
          <a:custGeom>
            <a:avLst/>
            <a:gdLst/>
            <a:ahLst/>
            <a:rect l="l" t="t" r="r" b="b"/>
            <a:pathLst>
              <a:path w="1222646" h="405825">
                <a:moveTo>
                  <a:pt x="0" y="374073"/>
                </a:moveTo>
                <a:lnTo>
                  <a:pt x="665018" y="0"/>
                </a:lnTo>
                <a:lnTo>
                  <a:pt x="665018" y="0"/>
                </a:lnTo>
                <a:lnTo>
                  <a:pt x="1177636" y="374073"/>
                </a:lnTo>
                <a:cubicBezTo>
                  <a:pt x="1260763" y="434110"/>
                  <a:pt x="1212272" y="397164"/>
                  <a:pt x="1163782" y="360219"/>
                </a:cubicBezTo>
              </a:path>
            </a:pathLst>
          </a:custGeom>
          <a:noFill/>
          <a:ln w="3816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Прямоугольник 8"/>
          <p:cNvSpPr/>
          <p:nvPr/>
        </p:nvSpPr>
        <p:spPr>
          <a:xfrm>
            <a:off x="2843280" y="5103720"/>
            <a:ext cx="360360" cy="308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но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Те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есклоняемые Имена существитель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240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в группе. Исследовательск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Цели и задач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знакомиться……………………………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читься правильно их …………………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общить знания 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рфографическая разми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37720" y="1628280"/>
            <a:ext cx="80074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орога с рядами деревьев, посаженных по обеим её сторон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2" name="Picture 7" descr="i?id=77396289-08-72&amp;n=21"/>
          <p:cNvPicPr/>
          <p:nvPr/>
        </p:nvPicPr>
        <p:blipFill>
          <a:blip r:embed="rId1"/>
          <a:stretch/>
        </p:blipFill>
        <p:spPr>
          <a:xfrm>
            <a:off x="1547640" y="2714760"/>
            <a:ext cx="612000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208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чреждение, собирающее и хранящее произведения печати для общего поль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85316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9" descr="library"/>
          <p:cNvPicPr/>
          <p:nvPr/>
        </p:nvPicPr>
        <p:blipFill>
          <a:blip r:embed="rId2"/>
          <a:stretch/>
        </p:blipFill>
        <p:spPr>
          <a:xfrm>
            <a:off x="1403280" y="1844640"/>
            <a:ext cx="6264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анимательный, любопытный, привлекающий интере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000"/>
                </a:solidFill>
                <a:latin typeface="Calibri"/>
              </a:rPr>
              <a:t>Какой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9" name="Picture 6" descr="4506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ровер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Аллея, библиотека, интересный, дорога, шос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2"/>
          <p:cNvSpPr/>
          <p:nvPr/>
        </p:nvSpPr>
        <p:spPr>
          <a:xfrm>
            <a:off x="571680" y="982440"/>
            <a:ext cx="7488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го рода бывают имена существительные?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изменяются имена существительны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иначе называется изменение по падежам?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Rectangle 2"/>
          <p:cNvSpPr/>
          <p:nvPr/>
        </p:nvSpPr>
        <p:spPr>
          <a:xfrm>
            <a:off x="714240" y="214200"/>
            <a:ext cx="68709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2"/>
          <p:cNvSpPr/>
          <p:nvPr/>
        </p:nvSpPr>
        <p:spPr>
          <a:xfrm>
            <a:off x="539640" y="25124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ectangle 3"/>
          <p:cNvSpPr/>
          <p:nvPr/>
        </p:nvSpPr>
        <p:spPr>
          <a:xfrm>
            <a:off x="539640" y="404640"/>
            <a:ext cx="820908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000"/>
                </a:solidFill>
                <a:uFillTx/>
                <a:latin typeface="Arial"/>
              </a:rPr>
              <a:t>Чтобы определить падеж существительного, надо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Найти слово , к которому относится имя существительное и поставить от него во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По вопросу и предлогу                                                                                                                                                                         определить падеж.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росклоняйте с предлогами</a:t>
            </a:r>
            <a:br>
              <a:rPr sz="4400"/>
            </a:b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 (по выбору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457200" y="2637000"/>
            <a:ext cx="403848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Журавл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4648320" y="2565000"/>
            <a:ext cx="40384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Сосн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Прямоугольник 1"/>
          <p:cNvSpPr/>
          <p:nvPr/>
        </p:nvSpPr>
        <p:spPr>
          <a:xfrm>
            <a:off x="932040" y="189000"/>
            <a:ext cx="7279920" cy="23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5040" algn="ctr"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Работа в группе. Исследовательск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0360" indent="5040"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0360" indent="5040"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0360" indent="5040"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Прямоугольник 3"/>
          <p:cNvSpPr/>
          <p:nvPr/>
        </p:nvSpPr>
        <p:spPr>
          <a:xfrm>
            <a:off x="297000" y="388800"/>
            <a:ext cx="8091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5040" algn="ctr"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826920" y="1362240"/>
          <a:ext cx="7490160" cy="4944960"/>
        </p:xfrm>
        <a:graphic>
          <a:graphicData uri="http://schemas.openxmlformats.org/drawingml/2006/table">
            <a:tbl>
              <a:tblPr/>
              <a:tblGrid>
                <a:gridCol w="2305080"/>
                <a:gridCol w="1409760"/>
                <a:gridCol w="1857600"/>
                <a:gridCol w="1917720"/>
              </a:tblGrid>
              <a:tr h="3916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асти ре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5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еет ли лексическое значени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яемая или неизменяемая часть реч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вляется ли членом предложени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мя существ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мя прилаг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лаг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ю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редло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Част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Прочитайте предложения, спишите, определите падеж слова «пальто»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78920" y="2276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магазине продаются разные пальт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 пальто меховой воротни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 пальто пришили пуговиц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ама купила мне пальт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Я доволен своим пальт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не было тепло в пальт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9" descr="zuz_1001228999"/>
          <p:cNvPicPr/>
          <p:nvPr/>
        </p:nvPicPr>
        <p:blipFill>
          <a:blip r:embed="rId2"/>
          <a:stretch/>
        </p:blipFill>
        <p:spPr>
          <a:xfrm>
            <a:off x="2195640" y="620640"/>
            <a:ext cx="4751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2"/>
          <p:cNvSpPr/>
          <p:nvPr/>
        </p:nvSpPr>
        <p:spPr>
          <a:xfrm>
            <a:off x="611280" y="302400"/>
            <a:ext cx="7488000" cy="66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либри, кенгуру, шо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ламинго, пони, шимпанз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ао, кофе, доми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оэ, радио, ки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кси, метро, купе, паль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шне, кофе, трюмо, ман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какаду, драже, па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интервью, рагу, жю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пианино и фой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юре, бюро и ател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ы все слова запомин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 никогда их не склоняй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Rectangle 2"/>
          <p:cNvSpPr/>
          <p:nvPr/>
        </p:nvSpPr>
        <p:spPr>
          <a:xfrm>
            <a:off x="714240" y="214200"/>
            <a:ext cx="68709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8" name="Picture 5" descr="7250_0_2"/>
          <p:cNvPicPr/>
          <p:nvPr/>
        </p:nvPicPr>
        <p:blipFill>
          <a:blip r:embed="rId1"/>
          <a:stretch/>
        </p:blipFill>
        <p:spPr>
          <a:xfrm>
            <a:off x="7236000" y="1484280"/>
            <a:ext cx="1643040" cy="119052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7" descr="avatar-117224-20111215005130"/>
          <p:cNvPicPr/>
          <p:nvPr/>
        </p:nvPicPr>
        <p:blipFill>
          <a:blip r:embed="rId2"/>
          <a:stretch/>
        </p:blipFill>
        <p:spPr>
          <a:xfrm>
            <a:off x="144360" y="544680"/>
            <a:ext cx="1511280" cy="104436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9" descr="i?id=538967408-32-72&amp;n=21"/>
          <p:cNvPicPr/>
          <p:nvPr/>
        </p:nvPicPr>
        <p:blipFill>
          <a:blip r:embed="rId3"/>
          <a:stretch/>
        </p:blipFill>
        <p:spPr>
          <a:xfrm>
            <a:off x="7236000" y="4292640"/>
            <a:ext cx="1547640" cy="107964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11" descr="i?id=185676225-13-72&amp;n=21"/>
          <p:cNvPicPr/>
          <p:nvPr/>
        </p:nvPicPr>
        <p:blipFill>
          <a:blip r:embed="rId4"/>
          <a:stretch/>
        </p:blipFill>
        <p:spPr>
          <a:xfrm>
            <a:off x="395280" y="4113360"/>
            <a:ext cx="1548000" cy="122364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13" descr="i?id=75438619-18-72&amp;n=21"/>
          <p:cNvPicPr/>
          <p:nvPr/>
        </p:nvPicPr>
        <p:blipFill>
          <a:blip r:embed="rId5"/>
          <a:stretch/>
        </p:blipFill>
        <p:spPr>
          <a:xfrm>
            <a:off x="539640" y="1989000"/>
            <a:ext cx="111600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5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2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179280" y="-1755720"/>
          <a:ext cx="8964720" cy="8931240"/>
        </p:xfrm>
        <a:graphic>
          <a:graphicData uri="http://schemas.openxmlformats.org/drawingml/2006/table">
            <a:tbl>
              <a:tblPr/>
              <a:tblGrid>
                <a:gridCol w="4105440"/>
                <a:gridCol w="4859280"/>
              </a:tblGrid>
              <a:tr h="962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егодн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рок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знал, открыл для себя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учился…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огу похвалить себя и своих одноклассников за …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7" name="Text Box 17"/>
          <p:cNvSpPr/>
          <p:nvPr/>
        </p:nvSpPr>
        <p:spPr>
          <a:xfrm>
            <a:off x="2556000" y="2637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Line 18"/>
          <p:cNvSpPr/>
          <p:nvPr/>
        </p:nvSpPr>
        <p:spPr>
          <a:xfrm flipV="1">
            <a:off x="3492360" y="836640"/>
            <a:ext cx="720720" cy="1512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Line 19"/>
          <p:cNvSpPr/>
          <p:nvPr/>
        </p:nvSpPr>
        <p:spPr>
          <a:xfrm>
            <a:off x="3492360" y="3502080"/>
            <a:ext cx="792360" cy="201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Line 20"/>
          <p:cNvSpPr/>
          <p:nvPr/>
        </p:nvSpPr>
        <p:spPr>
          <a:xfrm>
            <a:off x="3564000" y="285264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но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Те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ри склонения имени существительн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Цели и задач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ознакомиться……………………………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читься правильно их …………………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C:\Users\Еленга\Desktop\методички\Чистописание 4 класс Палова\98771268_large_0016.jpg"/>
          <p:cNvPicPr/>
          <p:nvPr/>
        </p:nvPicPr>
        <p:blipFill>
          <a:blip r:embed="rId1"/>
          <a:srcRect l="6938" t="70549" r="7150" b="11066"/>
          <a:stretch/>
        </p:blipFill>
        <p:spPr>
          <a:xfrm>
            <a:off x="395280" y="549360"/>
            <a:ext cx="8323200" cy="252072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3" descr="H:\4 класс\УРОКИ\РУС ЯЗ\части речи\12.jpg"/>
          <p:cNvPicPr/>
          <p:nvPr/>
        </p:nvPicPr>
        <p:blipFill>
          <a:blip r:embed="rId2"/>
          <a:stretch/>
        </p:blipFill>
        <p:spPr>
          <a:xfrm>
            <a:off x="419040" y="3213000"/>
            <a:ext cx="832320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Упражнение 15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Пользователь Windows</cp:lastModifiedBy>
  <dcterms:modified xsi:type="dcterms:W3CDTF">2022-11-09T13:48:19Z</dcterms:modified>
  <cp:revision>192</cp:revision>
  <dc:subject/>
  <dc:title>Заголовок слайда</dc:title>
</cp:coreProperties>
</file>