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jpeg" ContentType="image/jpeg"/>
  <Override PartName="/ppt/media/image37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40.jpeg" ContentType="image/jpeg"/>
  <Override PartName="/ppt/media/image1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2.jpeg" ContentType="image/jpeg"/>
  <Override PartName="/ppt/media/image30.jpeg" ContentType="image/jpeg"/>
  <Override PartName="/ppt/media/image43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5.xml.rels" ContentType="application/vnd.openxmlformats-package.relationships+xml"/>
  <Override PartName="/ppt/slides/_rels/slide95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4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27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2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03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1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20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93.xml" ContentType="application/vnd.openxmlformats-officedocument.presentationml.slide+xml"/>
  <Override PartName="/ppt/slides/slide121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94.xml" ContentType="application/vnd.openxmlformats-officedocument.presentationml.slide+xml"/>
  <Override PartName="/ppt/slides/slide122.xml" ContentType="application/vnd.openxmlformats-officedocument.presentationml.slide+xml"/>
  <Override PartName="/ppt/slides/slide71.xml" ContentType="application/vnd.openxmlformats-officedocument.presentationml.slide+xml"/>
  <Override PartName="/ppt/slides/slide118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70.xml" ContentType="application/vnd.openxmlformats-officedocument.presentationml.slide+xml"/>
  <Override PartName="/ppt/slides/slide99.xml" ContentType="application/vnd.openxmlformats-officedocument.presentationml.slide+xml"/>
  <Override PartName="/ppt/slides/slide127.xml" ContentType="application/vnd.openxmlformats-officedocument.presentationml.slide+xml"/>
  <Override PartName="/ppt/slides/slide27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60.xml" ContentType="application/vnd.openxmlformats-officedocument.presentationml.slide+xml"/>
  <Override PartName="/ppt/slides/slide29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8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91.xml" ContentType="application/vnd.openxmlformats-officedocument.presentationml.slide+xml"/>
  <Override PartName="/ppt/slides/slide23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47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8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49.xml" ContentType="application/vnd.openxmlformats-officedocument.presentationml.slide+xml"/>
  <Override PartName="/ppt/slides/slide6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  <p:sldId id="315" r:id="rId75"/>
    <p:sldId id="316" r:id="rId76"/>
    <p:sldId id="317" r:id="rId77"/>
    <p:sldId id="318" r:id="rId78"/>
    <p:sldId id="319" r:id="rId79"/>
    <p:sldId id="320" r:id="rId80"/>
    <p:sldId id="321" r:id="rId81"/>
    <p:sldId id="322" r:id="rId82"/>
    <p:sldId id="323" r:id="rId83"/>
    <p:sldId id="324" r:id="rId84"/>
    <p:sldId id="325" r:id="rId85"/>
    <p:sldId id="326" r:id="rId86"/>
    <p:sldId id="327" r:id="rId87"/>
    <p:sldId id="328" r:id="rId88"/>
    <p:sldId id="329" r:id="rId89"/>
    <p:sldId id="330" r:id="rId90"/>
    <p:sldId id="331" r:id="rId91"/>
    <p:sldId id="332" r:id="rId92"/>
    <p:sldId id="333" r:id="rId93"/>
    <p:sldId id="334" r:id="rId94"/>
    <p:sldId id="335" r:id="rId95"/>
    <p:sldId id="336" r:id="rId96"/>
    <p:sldId id="337" r:id="rId97"/>
    <p:sldId id="338" r:id="rId98"/>
    <p:sldId id="339" r:id="rId99"/>
    <p:sldId id="340" r:id="rId100"/>
    <p:sldId id="341" r:id="rId101"/>
    <p:sldId id="342" r:id="rId102"/>
    <p:sldId id="343" r:id="rId103"/>
    <p:sldId id="344" r:id="rId104"/>
    <p:sldId id="345" r:id="rId105"/>
    <p:sldId id="346" r:id="rId106"/>
    <p:sldId id="347" r:id="rId107"/>
    <p:sldId id="348" r:id="rId108"/>
    <p:sldId id="349" r:id="rId109"/>
    <p:sldId id="350" r:id="rId110"/>
    <p:sldId id="351" r:id="rId111"/>
    <p:sldId id="352" r:id="rId112"/>
    <p:sldId id="353" r:id="rId113"/>
    <p:sldId id="354" r:id="rId114"/>
    <p:sldId id="355" r:id="rId115"/>
    <p:sldId id="356" r:id="rId116"/>
    <p:sldId id="357" r:id="rId117"/>
    <p:sldId id="358" r:id="rId118"/>
    <p:sldId id="359" r:id="rId119"/>
    <p:sldId id="360" r:id="rId120"/>
    <p:sldId id="361" r:id="rId121"/>
    <p:sldId id="362" r:id="rId122"/>
    <p:sldId id="363" r:id="rId123"/>
    <p:sldId id="364" r:id="rId124"/>
    <p:sldId id="365" r:id="rId125"/>
    <p:sldId id="366" r:id="rId126"/>
    <p:sldId id="367" r:id="rId127"/>
    <p:sldId id="368" r:id="rId128"/>
    <p:sldId id="369" r:id="rId129"/>
    <p:sldId id="370" r:id="rId130"/>
    <p:sldId id="371" r:id="rId131"/>
    <p:sldId id="372" r:id="rId132"/>
    <p:sldId id="373" r:id="rId133"/>
    <p:sldId id="374" r:id="rId134"/>
    <p:sldId id="375" r:id="rId135"/>
    <p:sldId id="376" r:id="rId136"/>
    <p:sldId id="377" r:id="rId137"/>
    <p:sldId id="378" r:id="rId138"/>
    <p:sldId id="379" r:id="rId139"/>
    <p:sldId id="380" r:id="rId140"/>
    <p:sldId id="381" r:id="rId141"/>
    <p:sldId id="382" r:id="rId1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slide" Target="slides/slide60.xml"/><Relationship Id="rId76" Type="http://schemas.openxmlformats.org/officeDocument/2006/relationships/slide" Target="slides/slide61.xml"/><Relationship Id="rId77" Type="http://schemas.openxmlformats.org/officeDocument/2006/relationships/slide" Target="slides/slide62.xml"/><Relationship Id="rId78" Type="http://schemas.openxmlformats.org/officeDocument/2006/relationships/slide" Target="slides/slide63.xml"/><Relationship Id="rId79" Type="http://schemas.openxmlformats.org/officeDocument/2006/relationships/slide" Target="slides/slide64.xml"/><Relationship Id="rId80" Type="http://schemas.openxmlformats.org/officeDocument/2006/relationships/slide" Target="slides/slide65.xml"/><Relationship Id="rId81" Type="http://schemas.openxmlformats.org/officeDocument/2006/relationships/slide" Target="slides/slide66.xml"/><Relationship Id="rId82" Type="http://schemas.openxmlformats.org/officeDocument/2006/relationships/slide" Target="slides/slide67.xml"/><Relationship Id="rId83" Type="http://schemas.openxmlformats.org/officeDocument/2006/relationships/slide" Target="slides/slide68.xml"/><Relationship Id="rId84" Type="http://schemas.openxmlformats.org/officeDocument/2006/relationships/slide" Target="slides/slide69.xml"/><Relationship Id="rId85" Type="http://schemas.openxmlformats.org/officeDocument/2006/relationships/slide" Target="slides/slide70.xml"/><Relationship Id="rId86" Type="http://schemas.openxmlformats.org/officeDocument/2006/relationships/slide" Target="slides/slide71.xml"/><Relationship Id="rId87" Type="http://schemas.openxmlformats.org/officeDocument/2006/relationships/slide" Target="slides/slide72.xml"/><Relationship Id="rId88" Type="http://schemas.openxmlformats.org/officeDocument/2006/relationships/slide" Target="slides/slide73.xml"/><Relationship Id="rId89" Type="http://schemas.openxmlformats.org/officeDocument/2006/relationships/slide" Target="slides/slide74.xml"/><Relationship Id="rId90" Type="http://schemas.openxmlformats.org/officeDocument/2006/relationships/slide" Target="slides/slide75.xml"/><Relationship Id="rId91" Type="http://schemas.openxmlformats.org/officeDocument/2006/relationships/slide" Target="slides/slide76.xml"/><Relationship Id="rId92" Type="http://schemas.openxmlformats.org/officeDocument/2006/relationships/slide" Target="slides/slide77.xml"/><Relationship Id="rId93" Type="http://schemas.openxmlformats.org/officeDocument/2006/relationships/slide" Target="slides/slide78.xml"/><Relationship Id="rId94" Type="http://schemas.openxmlformats.org/officeDocument/2006/relationships/slide" Target="slides/slide79.xml"/><Relationship Id="rId95" Type="http://schemas.openxmlformats.org/officeDocument/2006/relationships/slide" Target="slides/slide80.xml"/><Relationship Id="rId96" Type="http://schemas.openxmlformats.org/officeDocument/2006/relationships/slide" Target="slides/slide81.xml"/><Relationship Id="rId97" Type="http://schemas.openxmlformats.org/officeDocument/2006/relationships/slide" Target="slides/slide82.xml"/><Relationship Id="rId98" Type="http://schemas.openxmlformats.org/officeDocument/2006/relationships/slide" Target="slides/slide83.xml"/><Relationship Id="rId99" Type="http://schemas.openxmlformats.org/officeDocument/2006/relationships/slide" Target="slides/slide84.xml"/><Relationship Id="rId100" Type="http://schemas.openxmlformats.org/officeDocument/2006/relationships/slide" Target="slides/slide85.xml"/><Relationship Id="rId101" Type="http://schemas.openxmlformats.org/officeDocument/2006/relationships/slide" Target="slides/slide86.xml"/><Relationship Id="rId102" Type="http://schemas.openxmlformats.org/officeDocument/2006/relationships/slide" Target="slides/slide87.xml"/><Relationship Id="rId103" Type="http://schemas.openxmlformats.org/officeDocument/2006/relationships/slide" Target="slides/slide88.xml"/><Relationship Id="rId104" Type="http://schemas.openxmlformats.org/officeDocument/2006/relationships/slide" Target="slides/slide89.xml"/><Relationship Id="rId105" Type="http://schemas.openxmlformats.org/officeDocument/2006/relationships/slide" Target="slides/slide90.xml"/><Relationship Id="rId106" Type="http://schemas.openxmlformats.org/officeDocument/2006/relationships/slide" Target="slides/slide91.xml"/><Relationship Id="rId107" Type="http://schemas.openxmlformats.org/officeDocument/2006/relationships/slide" Target="slides/slide92.xml"/><Relationship Id="rId108" Type="http://schemas.openxmlformats.org/officeDocument/2006/relationships/slide" Target="slides/slide93.xml"/><Relationship Id="rId109" Type="http://schemas.openxmlformats.org/officeDocument/2006/relationships/slide" Target="slides/slide94.xml"/><Relationship Id="rId110" Type="http://schemas.openxmlformats.org/officeDocument/2006/relationships/slide" Target="slides/slide95.xml"/><Relationship Id="rId111" Type="http://schemas.openxmlformats.org/officeDocument/2006/relationships/slide" Target="slides/slide96.xml"/><Relationship Id="rId112" Type="http://schemas.openxmlformats.org/officeDocument/2006/relationships/slide" Target="slides/slide97.xml"/><Relationship Id="rId113" Type="http://schemas.openxmlformats.org/officeDocument/2006/relationships/slide" Target="slides/slide98.xml"/><Relationship Id="rId114" Type="http://schemas.openxmlformats.org/officeDocument/2006/relationships/slide" Target="slides/slide99.xml"/><Relationship Id="rId115" Type="http://schemas.openxmlformats.org/officeDocument/2006/relationships/slide" Target="slides/slide100.xml"/><Relationship Id="rId116" Type="http://schemas.openxmlformats.org/officeDocument/2006/relationships/slide" Target="slides/slide101.xml"/><Relationship Id="rId117" Type="http://schemas.openxmlformats.org/officeDocument/2006/relationships/slide" Target="slides/slide102.xml"/><Relationship Id="rId118" Type="http://schemas.openxmlformats.org/officeDocument/2006/relationships/slide" Target="slides/slide103.xml"/><Relationship Id="rId119" Type="http://schemas.openxmlformats.org/officeDocument/2006/relationships/slide" Target="slides/slide104.xml"/><Relationship Id="rId120" Type="http://schemas.openxmlformats.org/officeDocument/2006/relationships/slide" Target="slides/slide105.xml"/><Relationship Id="rId121" Type="http://schemas.openxmlformats.org/officeDocument/2006/relationships/slide" Target="slides/slide106.xml"/><Relationship Id="rId122" Type="http://schemas.openxmlformats.org/officeDocument/2006/relationships/slide" Target="slides/slide107.xml"/><Relationship Id="rId123" Type="http://schemas.openxmlformats.org/officeDocument/2006/relationships/slide" Target="slides/slide108.xml"/><Relationship Id="rId124" Type="http://schemas.openxmlformats.org/officeDocument/2006/relationships/slide" Target="slides/slide109.xml"/><Relationship Id="rId125" Type="http://schemas.openxmlformats.org/officeDocument/2006/relationships/slide" Target="slides/slide110.xml"/><Relationship Id="rId126" Type="http://schemas.openxmlformats.org/officeDocument/2006/relationships/slide" Target="slides/slide111.xml"/><Relationship Id="rId127" Type="http://schemas.openxmlformats.org/officeDocument/2006/relationships/slide" Target="slides/slide112.xml"/><Relationship Id="rId128" Type="http://schemas.openxmlformats.org/officeDocument/2006/relationships/slide" Target="slides/slide113.xml"/><Relationship Id="rId129" Type="http://schemas.openxmlformats.org/officeDocument/2006/relationships/slide" Target="slides/slide114.xml"/><Relationship Id="rId130" Type="http://schemas.openxmlformats.org/officeDocument/2006/relationships/slide" Target="slides/slide115.xml"/><Relationship Id="rId131" Type="http://schemas.openxmlformats.org/officeDocument/2006/relationships/slide" Target="slides/slide116.xml"/><Relationship Id="rId132" Type="http://schemas.openxmlformats.org/officeDocument/2006/relationships/slide" Target="slides/slide117.xml"/><Relationship Id="rId133" Type="http://schemas.openxmlformats.org/officeDocument/2006/relationships/slide" Target="slides/slide118.xml"/><Relationship Id="rId134" Type="http://schemas.openxmlformats.org/officeDocument/2006/relationships/slide" Target="slides/slide119.xml"/><Relationship Id="rId135" Type="http://schemas.openxmlformats.org/officeDocument/2006/relationships/slide" Target="slides/slide120.xml"/><Relationship Id="rId136" Type="http://schemas.openxmlformats.org/officeDocument/2006/relationships/slide" Target="slides/slide121.xml"/><Relationship Id="rId137" Type="http://schemas.openxmlformats.org/officeDocument/2006/relationships/slide" Target="slides/slide122.xml"/><Relationship Id="rId138" Type="http://schemas.openxmlformats.org/officeDocument/2006/relationships/slide" Target="slides/slide123.xml"/><Relationship Id="rId139" Type="http://schemas.openxmlformats.org/officeDocument/2006/relationships/slide" Target="slides/slide124.xml"/><Relationship Id="rId140" Type="http://schemas.openxmlformats.org/officeDocument/2006/relationships/slide" Target="slides/slide125.xml"/><Relationship Id="rId141" Type="http://schemas.openxmlformats.org/officeDocument/2006/relationships/slide" Target="slides/slide126.xml"/><Relationship Id="rId142" Type="http://schemas.openxmlformats.org/officeDocument/2006/relationships/slide" Target="slides/slide127.xml"/><Relationship Id="rId1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DE13-CB1A-4B16-8142-9951E6F7F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58FC-900A-4942-BD68-4777CA6B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C0511B-5E3D-4F79-B0D4-9E3E82C2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4AF8F6-BD1E-44F8-A190-CE2A0C5D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0740AE-E545-4403-987B-D94AE0D5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6F61F1-91D1-41DB-80D3-8A64E7AF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70B8A-27E3-4915-8D25-DC5D03E3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0EA4B2-A2CB-4584-9ACF-A7DE0C06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F762D5-12A3-4C4C-B92D-CB3A2C1D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594666-941A-41D0-83CE-E5777B19A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B2FF64-7145-4523-A84F-A3C4DB4D9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421A3C-70B8-4A97-ADB0-965A4038A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CAEA-69D9-4F1B-9011-10FC28205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47DA97-A9DB-4C06-A450-C523AA6B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9BB876-6ED3-4A97-804F-90E05964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85E087-9580-4859-95DE-867DDA1F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186997-BF35-40D1-ABBC-6DF399E8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C1E045-199D-44BC-B559-971E2DD8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1652A2-2FF7-4116-8671-6CF0A72D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D080AD-4066-43BA-AFAC-04351ED2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D1CCA7-21F3-489F-9F02-D83AD663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CF1DC1-5D22-45B6-B6EE-9DCB7BB1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FE0013-882C-4458-B584-A99B6FCFE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7DEA-E367-48FE-B8E1-8E67CD0DC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F50BEE-FF4E-4B52-98D7-6BF7ECC65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23FBE1-0195-4DE8-AC17-6C8CD391F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7A31D-CB07-4B7B-A599-0641C08C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2AB406-6C9D-42E5-A0FC-12A4D66E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D0891-C1E4-44D0-9935-94453D4E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FEB5E-CF34-4157-AB9E-0EA4EC58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8CCFF-B1D8-40A6-A6F6-E1552CFD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CFD8B-F104-425F-BC3F-94D940E8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2F7338-5700-4881-A44F-597D9513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E2616-D68A-4E71-A784-5ADB8394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D567-D5A7-4B66-8C22-9CA2FAD2B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A1CBC-A0F9-4F0A-A073-7AA70116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799C77-3878-4108-BF35-052116C0A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0F7F9-8549-4F62-86FB-58EDA6B10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D03C67-9E46-4149-9E28-59BE1D8EE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F7B068-0A53-4726-9542-73A5DF45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1B78DF-880A-4FE3-B5F5-37489FF7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1E008E-A760-485D-93AC-3FE32766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461975-D8BB-43D4-A403-02852FAD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575FDC-69FE-40F8-9E6F-EBA38418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49ADA3-7E31-4D6F-8DD4-090FD201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BC5A-14F7-4A98-A4E2-87D85F28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70359B-5AC6-4B0D-9501-F6124A37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0C9EF2-D4AC-42B7-AAEE-FEC6699E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08209E-ACC4-41CF-9440-52853B62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A81A91-3DA6-4C3E-8995-9A082FB3F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74CBE6-FCB0-4CC4-86B9-601814E57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C0BC59-64EE-48E5-A949-CF7C68F58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E9E1C3-B231-4363-8121-DF284974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EE411C-98E1-4B71-8900-68CA0FB4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A8F3D0-FE94-424B-B571-B6D0A045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B3F80D-3DC3-4FDA-9C4E-3CDA5103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5AA4-D4A7-4355-9CCE-ADBCB633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759342-D3B6-48B4-8322-565261C5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2D579A-BFF4-4F6A-83EA-CC10B16B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A1261C-3AC6-4647-BB47-EBE90FFD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C6A8BF-03D3-4062-BEAB-D78671D0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AFEB02-317A-4FA6-AADF-80DE7D38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A45C14-ADB1-4991-9F69-8B555A976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182C79-ABA3-4F16-8596-E362A8C4A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82C1AB-4646-41A6-A1BE-EB870A3FC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EB6BB2-CE03-4A36-AABD-881F3674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D429C7-B27C-4987-8208-6233BFFF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A0E1-C63A-4A31-A4D8-5AA626A0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9C6F04-C9AD-4859-BC93-35F55202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1A4579-C672-4715-8385-2E236511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DC6144-9EC2-4A46-93EB-D941CE03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6D00F4-879F-4208-AB28-26FE7622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D788C1-5EB2-4669-9F13-76340065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143731-4E77-4E2C-A2F6-9E1D0962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10702E-835B-4FD7-BB8F-B5C61878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A0F3F7-FFCD-4B98-BE3C-559087C4A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43F487-B09B-44FE-AEDF-07420871D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7B69-2871-4A89-B95A-4FD856F2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BEA4-2AC9-4905-903B-66C82E6F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CE6F-BCF6-4589-A68A-5D073089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1947-1B4B-4845-8222-1B37CACF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2DF1-4071-4944-8420-00B58E8B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BB5D1-D9AF-4DC7-80C4-DB9BF65F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142B-25E5-4168-868D-C0C1E1E8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2A01-39F4-4A7D-ADB1-E613C51D6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20CE-9DD2-46D3-8BBD-4C13E70BC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A4298-E8C8-4B8C-B5BA-048D64BE0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4EF6D-F758-4646-AE19-C3411034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ACF9D-03D3-4F4A-8018-D83F3ECB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42C46-E169-4763-AA22-160485FA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45C7E-B807-42BB-BE0B-04CD7913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F47D-A288-4D76-9F78-59D685B3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777F5-9904-43A9-8AE9-0BB2B04E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3301E-2333-4D1E-9AFF-F6FA722A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F311D-3497-46EC-9565-18E851C0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66D5A-46FB-414B-9B06-A36585D6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BA225-9012-4899-B4BB-E11FA878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160B4-DB15-473C-A89E-B8162D87A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030CA-2203-48C7-ACF2-E865978BA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6FE17-85E9-4A2D-8493-83670686F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81C2B-6F8E-4792-942A-E35A4BD3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AA55B-08DF-4D7C-94B2-EC9C3D8F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07BE-DD84-417B-A26B-2C1EAC06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A0E6F-28FF-4F2D-A3CC-AC59C629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EDDF6-8E0A-4DCA-B30C-AC2B062C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65F92-28FF-4E69-91B9-7B4F1E6F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A66FD-FEA0-42FA-A7DC-1A42A8A0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45F66-7D4C-4678-8463-FB4D2229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877FE-AFAF-4548-A811-6D788DCD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A127C-A29B-4FF9-8D04-29CF55EB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DFCC4-A2EC-4EDF-B480-E97517C8D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E8ABF-60FF-4FF0-85CE-B36CB74EB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D2165-3373-464F-9067-8C733D35C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AC96-13F3-456A-A8E1-76472027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A2DB2-D491-43BC-A26E-1F18E532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9E82D-2897-4121-B61A-B60CC50F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DE22E-2F85-461F-8303-D4221B31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254D1-1075-4472-9962-51DC6933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ED87F-2862-4A99-88B4-6A31A4FE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D1E2B-2459-478D-8684-38FCB530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252F2-6938-4C27-83FE-358EB1DF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0E100-0B1E-47E3-9A58-6FC9FD84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6286A-8500-48BF-BB28-6EDF271F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6EA40-6099-4483-9385-1FB9A9C11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B2B8-A187-4891-9ABD-7F7AB8F8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429A5-FEA6-4306-9819-C14839072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09B5E-6574-42E5-86A7-3997AC32E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CB122-7ADB-4001-A068-50220550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2ABAC-C1AA-497E-B04E-19F5C93F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84D11-5C39-4740-8FC6-5CAC0D6E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249E1-B278-4BB2-97E1-4BF4EEA5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5EFF3-92BD-473D-BE94-307C8B44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164E0-B99E-4498-86F2-DDF06E63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45A83-0F81-42F5-86A3-ADF39585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303DD-4247-4AE4-A43D-13D72FC9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0BE4-22AE-4C1F-8712-D645DA18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46798-CE56-41AF-BA35-A2F4A29E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8EEED-2B4B-43BF-8957-3CC720E35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16439-FDFC-4FE9-AF1E-5C65D2A87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5D305-583A-483C-AC44-D520A0BF7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5595B-716B-4EF4-B368-409C9DD2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01FD0-790F-439D-97EE-7B9285EE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409EF-917D-4D5C-97AC-DB9DFADF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415DB-5D5F-418E-8508-0AE03723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41149-A77A-475E-B3D6-13D5A603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9764B-BB83-4A08-9720-3808C93C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97C0-98E9-40F5-B337-9075499C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9E054-59CD-400D-A6F4-66FDE340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A4BE9-5F23-4577-9B72-1B21B27A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A4C2D-2FEB-4D86-BCB7-DD743330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F35CF-2683-44D1-B5C8-F18A7E098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B6426-73DD-4C75-ABC3-FC7E7DFC2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250A4-F1EF-4678-978F-5A186872B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24CC2-E6DF-40FF-BD82-1A4EFCC1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63785-07A6-4AE6-8DEC-D76CC100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7B9A5-248E-47D3-9DE4-1EC830EF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FE6E6-8B93-4E7B-B92F-0EA6DD5D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8CF6-8E6D-4BAA-B1F8-7113609E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67857-B4C8-44FA-A1C1-9B949E47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C7DD7-13CA-42BB-94AE-F8018EA9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59FEF-AA2A-4F0E-8051-863D2962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20287-5CF0-4D9A-8351-526DAC65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5EDED-8F2A-4163-9F68-7D5B773A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96476-D6B2-426C-8525-C984B44D7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76BFC-7836-418F-875B-83CA4C9C4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F092C3-0931-4826-883F-09C20A281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8227EA-BA11-47D1-9526-ADF687FA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2839C6-022B-4BDE-9CAE-C9ED97F0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D51C-A31A-4694-B5E4-94B3C8567D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3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28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29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F433-F064-45A7-A9E4-D03B371302B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8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7089-3597-4256-8B12-07AB5CB9078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3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3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3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6752-21A8-4A44-8754-56906AD6673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8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3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3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EDB4-EECA-40C3-8A6A-C9B4A474A28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63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4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4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sldNum" idx="4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FFE3-C697-4101-83FB-FFADE38117D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28E1-702C-48CE-9672-EF6571107E6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7BAB-993A-4444-AD03-5099D132D2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33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9205-26D7-48A9-83C9-FAF5E0458D5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8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0AB8-AA93-421A-B285-E02B5943934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3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209F-9660-4C0E-8D2D-2E3489C5F84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8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CE72-D9A4-4E63-BD5D-C0D3E26C3F9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3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0451-9F14-4CD1-BCB1-F7A8451C367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8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50D8-3AA9-45BB-A0C9-ABB77607B95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 октябр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611280" y="278136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ная рабо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Picture 3" descr="H:\4 класс\УРОКИ\РУС ЯЗ\части речи\3.jpg"/>
          <p:cNvPicPr/>
          <p:nvPr/>
        </p:nvPicPr>
        <p:blipFill>
          <a:blip r:embed="rId1"/>
          <a:stretch/>
        </p:blipFill>
        <p:spPr>
          <a:xfrm>
            <a:off x="468360" y="692280"/>
            <a:ext cx="8172360" cy="2819160"/>
          </a:xfrm>
          <a:prstGeom prst="rect">
            <a:avLst/>
          </a:prstGeom>
          <a:ln w="0">
            <a:noFill/>
          </a:ln>
        </p:spPr>
      </p:pic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71600" y="42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Calibri"/>
              </a:rPr>
              <a:t>Задание.</a:t>
            </a:r>
            <a:br>
              <a:rPr sz="2400"/>
            </a:br>
            <a:r>
              <a:rPr b="0" lang="ru-RU" sz="2400" spc="-1" strike="noStrike">
                <a:solidFill>
                  <a:srgbClr val="00b0f0"/>
                </a:solidFill>
                <a:latin typeface="Calibri"/>
              </a:rPr>
              <a:t>1. поставь ударение и подчеркни безударные гласные в корнях слов.</a:t>
            </a:r>
            <a:br>
              <a:rPr sz="2400"/>
            </a:br>
            <a:r>
              <a:rPr b="0" lang="ru-RU" sz="2400" spc="-1" strike="noStrike">
                <a:solidFill>
                  <a:srgbClr val="00b0f0"/>
                </a:solidFill>
                <a:latin typeface="Calibri"/>
              </a:rPr>
              <a:t>2. придумай три предложения с любыми словами и сделай разбор по членам предлож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читай и запомни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2" name="Picture 3" descr="F:\4 класс\УРОКИ\РУС ЯЗ\части речи\0911.jpg"/>
          <p:cNvPicPr/>
          <p:nvPr/>
        </p:nvPicPr>
        <p:blipFill>
          <a:blip r:embed="rId1"/>
          <a:stretch/>
        </p:blipFill>
        <p:spPr>
          <a:xfrm>
            <a:off x="539640" y="2060640"/>
            <a:ext cx="81360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Упражнение 154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Выучи правило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6" name="Picture 2" descr="F:\4 класс\УРОКИ\РУС ЯЗ\части речи\09111.jpg"/>
          <p:cNvPicPr/>
          <p:nvPr/>
        </p:nvPicPr>
        <p:blipFill>
          <a:blip r:embed="rId1"/>
          <a:stretch/>
        </p:blipFill>
        <p:spPr>
          <a:xfrm>
            <a:off x="468360" y="1916280"/>
            <a:ext cx="82296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Найди имена существительные 1-го склоне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8" name="Picture 2" descr="F:\4 класс\УРОКИ\РУС ЯЗ\части речи\09112.jpg"/>
          <p:cNvPicPr/>
          <p:nvPr/>
        </p:nvPicPr>
        <p:blipFill>
          <a:blip r:embed="rId1"/>
          <a:stretch/>
        </p:blipFill>
        <p:spPr>
          <a:xfrm>
            <a:off x="971640" y="1916280"/>
            <a:ext cx="7345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9" name="Picture 2" descr="F:\4 класс\УРОКИ\РУС ЯЗ\части речи\опеределить склонение ИС.jpg"/>
          <p:cNvPicPr/>
          <p:nvPr/>
        </p:nvPicPr>
        <p:blipFill>
          <a:blip r:embed="rId1"/>
          <a:stretch/>
        </p:blipFill>
        <p:spPr>
          <a:xfrm>
            <a:off x="539640" y="620640"/>
            <a:ext cx="7993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1" name="Picture 2" descr="F:\4 класс\УРОКИ\РУС ЯЗ\части речи\09113.jpg"/>
          <p:cNvPicPr/>
          <p:nvPr/>
        </p:nvPicPr>
        <p:blipFill>
          <a:blip r:embed="rId1"/>
          <a:stretch/>
        </p:blipFill>
        <p:spPr>
          <a:xfrm>
            <a:off x="1547640" y="1989000"/>
            <a:ext cx="633420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2"/>
          <p:cNvSpPr/>
          <p:nvPr/>
        </p:nvSpPr>
        <p:spPr>
          <a:xfrm>
            <a:off x="0" y="292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23" name=""/>
          <p:cNvGraphicFramePr/>
          <p:nvPr/>
        </p:nvGraphicFramePr>
        <p:xfrm>
          <a:off x="179280" y="-1755720"/>
          <a:ext cx="8964720" cy="8931240"/>
        </p:xfrm>
        <a:graphic>
          <a:graphicData uri="http://schemas.openxmlformats.org/drawingml/2006/table">
            <a:tbl>
              <a:tblPr/>
              <a:tblGrid>
                <a:gridCol w="4105440"/>
                <a:gridCol w="4859280"/>
              </a:tblGrid>
              <a:tr h="962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Сегодня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н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урок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узнал, открыл для себя…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научился… 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могу похвалить себя и своих одноклассников за …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4" name="Text Box 17"/>
          <p:cNvSpPr/>
          <p:nvPr/>
        </p:nvSpPr>
        <p:spPr>
          <a:xfrm>
            <a:off x="2556000" y="2637000"/>
            <a:ext cx="107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Line 18"/>
          <p:cNvSpPr/>
          <p:nvPr/>
        </p:nvSpPr>
        <p:spPr>
          <a:xfrm flipV="1">
            <a:off x="3492360" y="836640"/>
            <a:ext cx="720720" cy="15127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Line 19"/>
          <p:cNvSpPr/>
          <p:nvPr/>
        </p:nvSpPr>
        <p:spPr>
          <a:xfrm>
            <a:off x="3492360" y="3502080"/>
            <a:ext cx="792360" cy="20145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Line 20"/>
          <p:cNvSpPr/>
          <p:nvPr/>
        </p:nvSpPr>
        <p:spPr>
          <a:xfrm>
            <a:off x="3564000" y="2852640"/>
            <a:ext cx="72072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 ноябр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subTitle"/>
          </p:nvPr>
        </p:nvSpPr>
        <p:spPr>
          <a:xfrm>
            <a:off x="611280" y="278136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ная рабо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c000"/>
                </a:solidFill>
                <a:latin typeface="Calibri"/>
              </a:rPr>
              <a:t>Тем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Имена существительные 1-го склон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Цели и задач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Познакомиться……………………………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Учиться правильно их …………………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 октябр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611280" y="278136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ная рабо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Повтор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колько склонений имени существительного ты знаешь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Что такое существительные 1-го склонения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Приведи пример им.сущ. 1-го склон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Упражнение 158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9" name="Picture 2" descr="F:\4 класс\УРОКИ\РУС ЯЗ\части речи\1-е склон.jpg"/>
          <p:cNvPicPr/>
          <p:nvPr/>
        </p:nvPicPr>
        <p:blipFill>
          <a:blip r:embed="rId1"/>
          <a:stretch/>
        </p:blipFill>
        <p:spPr>
          <a:xfrm>
            <a:off x="755640" y="549360"/>
            <a:ext cx="7561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Просклоняй им.сущ. в единственном числ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Овц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Вод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Юноша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Выпиши им.сущ. 1-го склон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картофель, ласточки, пояс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вьюга, лебедь, сетка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ечь, печки, лошадь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лошадки, мышка, о Ван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Упражнение 160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2"/>
          <p:cNvSpPr/>
          <p:nvPr/>
        </p:nvSpPr>
        <p:spPr>
          <a:xfrm>
            <a:off x="0" y="292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7" name=""/>
          <p:cNvGraphicFramePr/>
          <p:nvPr/>
        </p:nvGraphicFramePr>
        <p:xfrm>
          <a:off x="179280" y="-1755720"/>
          <a:ext cx="8964720" cy="8931240"/>
        </p:xfrm>
        <a:graphic>
          <a:graphicData uri="http://schemas.openxmlformats.org/drawingml/2006/table">
            <a:tbl>
              <a:tblPr/>
              <a:tblGrid>
                <a:gridCol w="4105440"/>
                <a:gridCol w="4859280"/>
              </a:tblGrid>
              <a:tr h="962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Сегодня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н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урок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узнал, открыл для себя…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научился… 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могу похвалить себя и своих одноклассников за …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8" name="Text Box 17"/>
          <p:cNvSpPr/>
          <p:nvPr/>
        </p:nvSpPr>
        <p:spPr>
          <a:xfrm>
            <a:off x="2556000" y="2637000"/>
            <a:ext cx="107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Line 18"/>
          <p:cNvSpPr/>
          <p:nvPr/>
        </p:nvSpPr>
        <p:spPr>
          <a:xfrm flipV="1">
            <a:off x="3492360" y="836640"/>
            <a:ext cx="720720" cy="15127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Line 19"/>
          <p:cNvSpPr/>
          <p:nvPr/>
        </p:nvSpPr>
        <p:spPr>
          <a:xfrm>
            <a:off x="3492360" y="3502080"/>
            <a:ext cx="792360" cy="20145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Line 20"/>
          <p:cNvSpPr/>
          <p:nvPr/>
        </p:nvSpPr>
        <p:spPr>
          <a:xfrm>
            <a:off x="3564000" y="2852640"/>
            <a:ext cx="72072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 ноябр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ubTitle"/>
          </p:nvPr>
        </p:nvSpPr>
        <p:spPr>
          <a:xfrm>
            <a:off x="611280" y="278136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ная рабо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c000"/>
                </a:solidFill>
                <a:latin typeface="Calibri"/>
              </a:rPr>
              <a:t>Тем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2-е склонение имени существительно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Повтор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Как определить 1-е склонение имени существительного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Тем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Что такое части речи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Цели и задач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Познакомиться……………………………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Учиться правильно их …………………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Проблем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Как определить 2-е склонение имени существительного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Упражнение 16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5" name="Picture 2" descr="H:\4 класс\УРОКИ\РУС ЯЗ\части речи\1111.jpg"/>
          <p:cNvPicPr/>
          <p:nvPr/>
        </p:nvPicPr>
        <p:blipFill>
          <a:blip r:embed="rId1"/>
          <a:stretch/>
        </p:blipFill>
        <p:spPr>
          <a:xfrm>
            <a:off x="468360" y="1989000"/>
            <a:ext cx="8229600" cy="20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Упражнение 163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Раздели на 2 групп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царь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дедушка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в деревне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к городу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дворы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с Колей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стекло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карава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73548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000"/>
                </a:solidFill>
                <a:latin typeface="Calibri"/>
              </a:rPr>
              <a:t>Словарная работа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1" name="Picture 3" descr="H:\4 класс\УРОКИ\РУС ЯЗ\части речи\агроном.jpg"/>
          <p:cNvPicPr/>
          <p:nvPr/>
        </p:nvPicPr>
        <p:blipFill>
          <a:blip r:embed="rId1"/>
          <a:stretch/>
        </p:blipFill>
        <p:spPr>
          <a:xfrm>
            <a:off x="625320" y="1628640"/>
            <a:ext cx="2816280" cy="1152720"/>
          </a:xfrm>
          <a:prstGeom prst="rect">
            <a:avLst/>
          </a:prstGeom>
          <a:ln w="0">
            <a:noFill/>
          </a:ln>
        </p:spPr>
      </p:pic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39280" y="2997000"/>
            <a:ext cx="3008520" cy="23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пециалист сельского хозяйства, обладающий всесторонними знаниями в области агроном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3" name="Picture 2" descr="H:\4 класс\УРОКИ\РУС ЯЗ\части речи\1641809147_6-flomaster-club-p-risunki-na-temu-agronom-krasivie-risunki-14.png"/>
          <p:cNvPicPr/>
          <p:nvPr/>
        </p:nvPicPr>
        <p:blipFill>
          <a:blip r:embed="rId2"/>
          <a:stretch/>
        </p:blipFill>
        <p:spPr>
          <a:xfrm>
            <a:off x="4500720" y="2595600"/>
            <a:ext cx="303660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2"/>
          <p:cNvSpPr/>
          <p:nvPr/>
        </p:nvSpPr>
        <p:spPr>
          <a:xfrm>
            <a:off x="0" y="292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5" name=""/>
          <p:cNvGraphicFramePr/>
          <p:nvPr/>
        </p:nvGraphicFramePr>
        <p:xfrm>
          <a:off x="179280" y="-1755720"/>
          <a:ext cx="8964720" cy="8931240"/>
        </p:xfrm>
        <a:graphic>
          <a:graphicData uri="http://schemas.openxmlformats.org/drawingml/2006/table">
            <a:tbl>
              <a:tblPr/>
              <a:tblGrid>
                <a:gridCol w="3888000"/>
                <a:gridCol w="5076720"/>
              </a:tblGrid>
              <a:tr h="962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Сегодня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н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урок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узнал, открыл для себя…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научился… 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могу похвалить себя и своих одноклассников за …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6" name="Text Box 17"/>
          <p:cNvSpPr/>
          <p:nvPr/>
        </p:nvSpPr>
        <p:spPr>
          <a:xfrm>
            <a:off x="2556000" y="2637000"/>
            <a:ext cx="107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Line 18"/>
          <p:cNvSpPr/>
          <p:nvPr/>
        </p:nvSpPr>
        <p:spPr>
          <a:xfrm flipV="1">
            <a:off x="3149640" y="836640"/>
            <a:ext cx="720720" cy="15127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Line 19"/>
          <p:cNvSpPr/>
          <p:nvPr/>
        </p:nvSpPr>
        <p:spPr>
          <a:xfrm>
            <a:off x="3238560" y="3502080"/>
            <a:ext cx="792000" cy="20145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Line 20"/>
          <p:cNvSpPr/>
          <p:nvPr/>
        </p:nvSpPr>
        <p:spPr>
          <a:xfrm>
            <a:off x="3274920" y="2886120"/>
            <a:ext cx="72072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2" descr="C:\Users\Еленга\Desktop\методички\Чистописание 4 класс Палова\98771266_large_0014.jpg"/>
          <p:cNvPicPr/>
          <p:nvPr/>
        </p:nvPicPr>
        <p:blipFill>
          <a:blip r:embed="rId1"/>
          <a:srcRect l="5620" t="4576" r="5620" b="37022"/>
          <a:stretch/>
        </p:blipFill>
        <p:spPr>
          <a:xfrm>
            <a:off x="1332000" y="189000"/>
            <a:ext cx="6912000" cy="64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Упражнение 116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2" descr="H:\4 класс\УРОКИ\РУС ЯЗ\части речи\5.jpg"/>
          <p:cNvPicPr/>
          <p:nvPr/>
        </p:nvPicPr>
        <p:blipFill>
          <a:blip r:embed="rId1"/>
          <a:stretch/>
        </p:blipFill>
        <p:spPr>
          <a:xfrm>
            <a:off x="1332000" y="1442880"/>
            <a:ext cx="65977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Рефлекс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1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Существительное – это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11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Прилагательное - это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 октябр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611280" y="278136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ная рабо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2" descr="C:\Users\Еленга\Desktop\методички\Чистописание 4 класс Палова\98771270_large_0018.jpg"/>
          <p:cNvPicPr/>
          <p:nvPr/>
        </p:nvPicPr>
        <p:blipFill>
          <a:blip r:embed="rId1"/>
          <a:srcRect l="5620" t="5656" r="4089" b="55408"/>
          <a:stretch/>
        </p:blipFill>
        <p:spPr>
          <a:xfrm>
            <a:off x="468360" y="404640"/>
            <a:ext cx="8496360" cy="518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Тем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Что такое части речи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Найди глагол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395280" y="1628640"/>
            <a:ext cx="8569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Умей не только брать, но и отдават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Хорошие люди умирают, а дела их живут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Calibri"/>
              </a:rPr>
              <a:t>*Подчеркни глагол. Каким членом </a:t>
            </a:r>
            <a:r>
              <a:rPr b="1" i="1" lang="ru-RU" sz="2800" spc="-1" strike="noStrike">
                <a:solidFill>
                  <a:srgbClr val="00b0f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b0f0"/>
                </a:solidFill>
                <a:latin typeface="Calibri"/>
              </a:rPr>
              <a:t>предложения он являетс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Calibri"/>
              </a:rPr>
              <a:t>**Определи число глагол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Calibri"/>
              </a:rPr>
              <a:t>*** Какие слова являются антонимами.           </a:t>
            </a:r>
            <a:r>
              <a:rPr b="1" i="1" lang="ru-RU" sz="2800" spc="-1" strike="noStrike">
                <a:solidFill>
                  <a:srgbClr val="00b0f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b0f0"/>
                </a:solidFill>
                <a:latin typeface="Calibri"/>
              </a:rPr>
              <a:t>Объясни</a:t>
            </a:r>
            <a:r>
              <a:rPr b="1" lang="ru-RU" sz="2800" spc="-1" strike="noStrike">
                <a:solidFill>
                  <a:srgbClr val="00b0f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4" descr="https://encrypted-tbn2.gstatic.com/images?q=tbn:ANd9GcSh6mWZ-cu7lt--freLNNyEPYd1WL01dVd9-7JIwsuXFSVFgUZy"/>
          <p:cNvPicPr/>
          <p:nvPr/>
        </p:nvPicPr>
        <p:blipFill>
          <a:blip r:embed="rId1"/>
          <a:stretch/>
        </p:blipFill>
        <p:spPr>
          <a:xfrm>
            <a:off x="5607000" y="4898880"/>
            <a:ext cx="2005200" cy="1500480"/>
          </a:xfrm>
          <a:prstGeom prst="rect">
            <a:avLst/>
          </a:prstGeom>
          <a:ln w="0">
            <a:noFill/>
          </a:ln>
        </p:spPr>
      </p:pic>
      <p:sp>
        <p:nvSpPr>
          <p:cNvPr id="722" name="Прямоугольник 3"/>
          <p:cNvSpPr/>
          <p:nvPr/>
        </p:nvSpPr>
        <p:spPr>
          <a:xfrm>
            <a:off x="1928880" y="357120"/>
            <a:ext cx="4929120" cy="714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Имя числительно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Прямоугольник 4"/>
          <p:cNvSpPr/>
          <p:nvPr/>
        </p:nvSpPr>
        <p:spPr>
          <a:xfrm>
            <a:off x="714240" y="1714680"/>
            <a:ext cx="2786040" cy="642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акой? Который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Прямоугольник 5"/>
          <p:cNvSpPr/>
          <p:nvPr/>
        </p:nvSpPr>
        <p:spPr>
          <a:xfrm>
            <a:off x="5143680" y="1714680"/>
            <a:ext cx="2928600" cy="642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колько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Прямоугольник 6"/>
          <p:cNvSpPr/>
          <p:nvPr/>
        </p:nvSpPr>
        <p:spPr>
          <a:xfrm>
            <a:off x="785880" y="3214800"/>
            <a:ext cx="264312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рядок при сче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Прямоугольник 7"/>
          <p:cNvSpPr/>
          <p:nvPr/>
        </p:nvSpPr>
        <p:spPr>
          <a:xfrm>
            <a:off x="5143680" y="3214800"/>
            <a:ext cx="292860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оличеств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Прямоугольник 8"/>
          <p:cNvSpPr/>
          <p:nvPr/>
        </p:nvSpPr>
        <p:spPr>
          <a:xfrm>
            <a:off x="785880" y="4221000"/>
            <a:ext cx="2643120" cy="56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РЯДКОВО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Прямоугольник 9"/>
          <p:cNvSpPr/>
          <p:nvPr/>
        </p:nvSpPr>
        <p:spPr>
          <a:xfrm>
            <a:off x="5143680" y="4287960"/>
            <a:ext cx="2928600" cy="581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ОЛИЧЕСТВЕННО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Прямая соединительная линия 11"/>
          <p:cNvSpPr/>
          <p:nvPr/>
        </p:nvSpPr>
        <p:spPr>
          <a:xfrm flipH="1">
            <a:off x="2106360" y="1071720"/>
            <a:ext cx="393480" cy="6429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Прямая соединительная линия 13"/>
          <p:cNvSpPr/>
          <p:nvPr/>
        </p:nvSpPr>
        <p:spPr>
          <a:xfrm>
            <a:off x="6000840" y="1071720"/>
            <a:ext cx="428400" cy="6429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Прямая соединительная линия 15"/>
          <p:cNvSpPr/>
          <p:nvPr/>
        </p:nvSpPr>
        <p:spPr>
          <a:xfrm>
            <a:off x="2106720" y="2357280"/>
            <a:ext cx="0" cy="857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2" name="Прямая со стрелкой 17"/>
          <p:cNvCxnSpPr>
            <a:stCxn id="725" idx="2"/>
            <a:endCxn id="727" idx="0"/>
          </p:cNvCxnSpPr>
          <p:nvPr/>
        </p:nvCxnSpPr>
        <p:spPr>
          <a:xfrm>
            <a:off x="2107800" y="3857400"/>
            <a:ext cx="1080" cy="363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33" name="Прямая соединительная линия 19"/>
          <p:cNvSpPr/>
          <p:nvPr/>
        </p:nvSpPr>
        <p:spPr>
          <a:xfrm>
            <a:off x="6608880" y="2357280"/>
            <a:ext cx="0" cy="857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4" name="Прямая со стрелкой 21"/>
          <p:cNvCxnSpPr>
            <a:stCxn id="726" idx="2"/>
            <a:endCxn id="728" idx="0"/>
          </p:cNvCxnSpPr>
          <p:nvPr/>
        </p:nvCxnSpPr>
        <p:spPr>
          <a:xfrm>
            <a:off x="6608520" y="3857400"/>
            <a:ext cx="1080" cy="430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735" name="Picture 2" descr="http://entropiya-blog.ru/wp-content/uploads/2012/03/6312.jpg"/>
          <p:cNvPicPr/>
          <p:nvPr/>
        </p:nvPicPr>
        <p:blipFill>
          <a:blip r:embed="rId2"/>
          <a:stretch/>
        </p:blipFill>
        <p:spPr>
          <a:xfrm>
            <a:off x="1035000" y="4869000"/>
            <a:ext cx="2143080" cy="142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Найди имя числительн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Трой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ятёр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тор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осьмёр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Вставь имена числитель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9" name="Объект 7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84805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Упражнение 118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Упражнение 121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Рефлекс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1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Числительное – это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11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Глагол - это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1 октябр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611280" y="278136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ная рабо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Тем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Calibri"/>
              </a:rPr>
              <a:t>Наречие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Упражнение 124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Прямоугольник 1"/>
          <p:cNvSpPr/>
          <p:nvPr/>
        </p:nvSpPr>
        <p:spPr>
          <a:xfrm>
            <a:off x="324000" y="81000"/>
            <a:ext cx="87120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Прямоугольник 2"/>
          <p:cNvSpPr/>
          <p:nvPr/>
        </p:nvSpPr>
        <p:spPr>
          <a:xfrm>
            <a:off x="1187280" y="666720"/>
            <a:ext cx="5616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Существительное -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Calibri"/>
              </a:rPr>
              <a:t>школа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росыпается -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Calibri"/>
              </a:rPr>
              <a:t>глагол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С прилагательным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Calibri"/>
              </a:rPr>
              <a:t>весёлый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Новый школьный день пришел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Встали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Calibri"/>
              </a:rPr>
              <a:t>мы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- местоименье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Бьёт числительное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Calibri"/>
              </a:rPr>
              <a:t>семь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За ученье, без сомненья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риниматься надо всем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Скругленный прямоугольник 3"/>
          <p:cNvSpPr/>
          <p:nvPr/>
        </p:nvSpPr>
        <p:spPr>
          <a:xfrm>
            <a:off x="0" y="1501920"/>
            <a:ext cx="8893080" cy="6346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Прямоугольник 4"/>
          <p:cNvSpPr/>
          <p:nvPr/>
        </p:nvSpPr>
        <p:spPr>
          <a:xfrm>
            <a:off x="789120" y="4740120"/>
            <a:ext cx="543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alibri"/>
              </a:rPr>
              <a:t>Названия каких частей речи прозвучали в этом стихотворении</a:t>
            </a:r>
            <a:r>
              <a:rPr b="1" lang="en-US" sz="2400" spc="-1" strike="noStrike">
                <a:solidFill>
                  <a:srgbClr val="ffc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alibri"/>
              </a:rPr>
              <a:t>Какие части речи не назван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8" name="Рисунок 6" descr=""/>
          <p:cNvPicPr/>
          <p:nvPr/>
        </p:nvPicPr>
        <p:blipFill>
          <a:blip r:embed="rId1"/>
          <a:stretch/>
        </p:blipFill>
        <p:spPr>
          <a:xfrm>
            <a:off x="6384960" y="3879720"/>
            <a:ext cx="2060640" cy="2060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Упражнение 126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Прочитай и запомни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5" name="Picture 2" descr="H:\4 класс\УРОКИ\РУС ЯЗ\части речи\6.jpg"/>
          <p:cNvPicPr/>
          <p:nvPr/>
        </p:nvPicPr>
        <p:blipFill>
          <a:blip r:embed="rId1"/>
          <a:stretch/>
        </p:blipFill>
        <p:spPr>
          <a:xfrm>
            <a:off x="468360" y="2276640"/>
            <a:ext cx="822960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Calibri"/>
              </a:rPr>
              <a:t>вп</a:t>
            </a:r>
            <a:r>
              <a:rPr b="0" lang="ru-RU" sz="7200" spc="-1" strike="noStrike" u="sng">
                <a:solidFill>
                  <a:srgbClr val="92d050"/>
                </a:solidFill>
                <a:uFillTx/>
                <a:latin typeface="Calibri"/>
              </a:rPr>
              <a:t>е</a:t>
            </a:r>
            <a:r>
              <a:rPr b="0" lang="ru-RU" sz="7200" spc="-1" strike="noStrike">
                <a:solidFill>
                  <a:srgbClr val="ffffff"/>
                </a:solidFill>
                <a:latin typeface="Calibri"/>
              </a:rPr>
              <a:t>р</a:t>
            </a:r>
            <a:r>
              <a:rPr b="0" lang="ru-RU" sz="7200" spc="-1" strike="noStrike" u="sng">
                <a:solidFill>
                  <a:srgbClr val="92d050"/>
                </a:solidFill>
                <a:uFillTx/>
                <a:latin typeface="Calibri"/>
              </a:rPr>
              <a:t>е</a:t>
            </a:r>
            <a:r>
              <a:rPr b="0" lang="ru-RU" sz="7200" spc="-1" strike="noStrike">
                <a:solidFill>
                  <a:srgbClr val="ffffff"/>
                </a:solidFill>
                <a:latin typeface="Calibri"/>
              </a:rPr>
              <a:t>д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Calibri"/>
              </a:rPr>
              <a:t>медл</a:t>
            </a:r>
            <a:r>
              <a:rPr b="0" lang="ru-RU" sz="7200" spc="-1" strike="noStrike" u="sng">
                <a:solidFill>
                  <a:srgbClr val="92d050"/>
                </a:solidFill>
                <a:uFillTx/>
                <a:latin typeface="Calibri"/>
              </a:rPr>
              <a:t>енн</a:t>
            </a:r>
            <a:r>
              <a:rPr b="0" lang="ru-RU" sz="72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Рефлекс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1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На уроке я познакомился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11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Наречие отвечает на вопросы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11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Наречие является … членом предложе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 октябр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611280" y="278136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ная рабо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Тем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Calibri"/>
              </a:rPr>
              <a:t>Образование и употребление наречий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збери слова по составу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изредка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задолго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3" descr="H:\4 класс\УРОКИ\РУС ЯЗ\части речи\7.jpg"/>
          <p:cNvPicPr/>
          <p:nvPr/>
        </p:nvPicPr>
        <p:blipFill>
          <a:blip r:embed="rId2"/>
          <a:stretch/>
        </p:blipFill>
        <p:spPr>
          <a:xfrm>
            <a:off x="539640" y="620640"/>
            <a:ext cx="7993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Упражнение 130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Вставь пропущенные букв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прав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мест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осыт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Засветл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лев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скор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озж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Цели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Сегодня на уроке я повторю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4" name="Picture 2" descr="H:\4 класс\УРОКИ\РУС ЯЗ\части речи\8.jpg"/>
          <p:cNvPicPr/>
          <p:nvPr/>
        </p:nvPicPr>
        <p:blipFill>
          <a:blip r:embed="rId1"/>
          <a:stretch/>
        </p:blipFill>
        <p:spPr>
          <a:xfrm>
            <a:off x="395280" y="2133720"/>
            <a:ext cx="8229600" cy="89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Рефлекс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1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Наречия образованы с помощью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11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Суффикс А пишется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11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Суффикс О пишется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11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Наречия нужны для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октябр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611280" y="278136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ная рабо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Вставь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Нам весело живетс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Мы (песенка) поём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А в (песенка) поётс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О том, как мы живём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Тем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Изменение по падежам имен существительных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Цели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На уроке я вспомню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На уроке повторю 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Просклоняйт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Ночь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Соба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9204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 txBox="1"/>
          <p:nvPr/>
        </p:nvSpPr>
        <p:spPr>
          <a:xfrm>
            <a:off x="539640" y="148428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на дерев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для работ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по дорожке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без подсказк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по </a:t>
            </a: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грибы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5076720" y="1600200"/>
            <a:ext cx="36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в спектакл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над землёй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по другу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про лу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1" name="Picture 2" descr="F:\4 класс\УРОКИ\РУС ЯЗ\части речи\9.jpg"/>
          <p:cNvPicPr/>
          <p:nvPr/>
        </p:nvPicPr>
        <p:blipFill>
          <a:blip r:embed="rId1"/>
          <a:stretch/>
        </p:blipFill>
        <p:spPr>
          <a:xfrm>
            <a:off x="457200" y="1803240"/>
            <a:ext cx="8229600" cy="41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Рефлекс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1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На уроке повторил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11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Изменение существительного по падежам называется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11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При изменении сущ. по падежам изменяется их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читай и запомни!(стр.67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3" descr="H:\4 класс\УРОКИ\РУС ЯЗ\части речи\1.jpg"/>
          <p:cNvPicPr/>
          <p:nvPr/>
        </p:nvPicPr>
        <p:blipFill>
          <a:blip r:embed="rId2"/>
          <a:stretch/>
        </p:blipFill>
        <p:spPr>
          <a:xfrm>
            <a:off x="468360" y="1916280"/>
            <a:ext cx="806436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6</a:t>
            </a: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ктябр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611280" y="278136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ная рабо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000"/>
                </a:solidFill>
                <a:latin typeface="Calibri"/>
              </a:rPr>
              <a:t>Тем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Упражнение в определени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И.п., Р.п., В.п. имени существительног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Неодушевленные имена существительны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000"/>
                </a:solidFill>
                <a:latin typeface="Calibri"/>
              </a:rPr>
              <a:t>Тем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И.п., Р.п., В.п. имени существительног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Подума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На какие вопросы отвечает существительное в Именительном падеж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Каким членом предложения является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Просклоняй существительны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i="1" lang="ru-RU" sz="3600" spc="-1" strike="noStrike">
                <a:solidFill>
                  <a:srgbClr val="00b0f0"/>
                </a:solidFill>
                <a:latin typeface="Calibri"/>
              </a:rPr>
              <a:t>снегир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b0f0"/>
                </a:solidFill>
                <a:latin typeface="Calibri"/>
              </a:rPr>
              <a:t>ре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Calibri"/>
              </a:rPr>
              <a:t>Вывод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Существительное в И.п.  В предложении является…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Учебник стр.8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Упражнение 139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Box 1"/>
          <p:cNvSpPr/>
          <p:nvPr/>
        </p:nvSpPr>
        <p:spPr>
          <a:xfrm>
            <a:off x="285840" y="714240"/>
            <a:ext cx="8572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Закончи фраз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я существительное в В. п. отвечает на вопросы___________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TextBox 5"/>
          <p:cNvSpPr/>
          <p:nvPr/>
        </p:nvSpPr>
        <p:spPr>
          <a:xfrm>
            <a:off x="755640" y="278136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Имя сущ. в В.п.  употребляется с предлогами  </a:t>
            </a: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______________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Calibri"/>
              </a:rPr>
              <a:t>Я сижу едва не плача</a:t>
            </a:r>
            <a:br>
              <a:rPr sz="4400"/>
            </a:br>
            <a:r>
              <a:rPr b="1" i="1" lang="ru-RU" sz="4400" spc="-1" strike="noStrike">
                <a:solidFill>
                  <a:srgbClr val="ffff00"/>
                </a:solidFill>
                <a:latin typeface="Calibri"/>
              </a:rPr>
              <a:t>очень сложная задача</a:t>
            </a:r>
            <a:br>
              <a:rPr sz="4400"/>
            </a:br>
            <a:r>
              <a:rPr b="1" i="1" lang="ru-RU" sz="4400" spc="-1" strike="noStrike">
                <a:solidFill>
                  <a:srgbClr val="ffff00"/>
                </a:solidFill>
                <a:latin typeface="Calibri"/>
              </a:rPr>
              <a:t>различить два падежа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9" name="Объект 3" descr=""/>
          <p:cNvPicPr/>
          <p:nvPr/>
        </p:nvPicPr>
        <p:blipFill>
          <a:blip r:embed="rId1"/>
          <a:stretch/>
        </p:blipFill>
        <p:spPr>
          <a:xfrm>
            <a:off x="255600" y="3236760"/>
            <a:ext cx="4243320" cy="2889360"/>
          </a:xfrm>
          <a:prstGeom prst="rect">
            <a:avLst/>
          </a:prstGeom>
          <a:ln w="0">
            <a:noFill/>
          </a:ln>
        </p:spPr>
      </p:pic>
      <p:pic>
        <p:nvPicPr>
          <p:cNvPr id="810" name="Объект 4" descr=""/>
          <p:cNvPicPr/>
          <p:nvPr/>
        </p:nvPicPr>
        <p:blipFill>
          <a:blip r:embed="rId2"/>
          <a:stretch/>
        </p:blipFill>
        <p:spPr>
          <a:xfrm>
            <a:off x="4449600" y="3309840"/>
            <a:ext cx="423720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Упражнение 14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TextBox 1"/>
          <p:cNvSpPr/>
          <p:nvPr/>
        </p:nvSpPr>
        <p:spPr>
          <a:xfrm>
            <a:off x="285840" y="714240"/>
            <a:ext cx="8572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Закончи фраз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я существительное в Р. п. отвечает на вопросы___________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TextBox 5"/>
          <p:cNvSpPr/>
          <p:nvPr/>
        </p:nvSpPr>
        <p:spPr>
          <a:xfrm>
            <a:off x="755640" y="278136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Имя сущ. в Р.п.  употребляется с предлогами  </a:t>
            </a: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______________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с учебником (стр.68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H:\4 класс\УРОКИ\РУС ЯЗ\части речи\2.jpg"/>
          <p:cNvPicPr/>
          <p:nvPr/>
        </p:nvPicPr>
        <p:blipFill>
          <a:blip r:embed="rId1"/>
          <a:stretch/>
        </p:blipFill>
        <p:spPr>
          <a:xfrm>
            <a:off x="971640" y="1341360"/>
            <a:ext cx="65530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Поставь И.С. из И.п в Р.п.-В.п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Кот-..-.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Ложка -.. -.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Птица -.. -.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Рефлекс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1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На уроке повторил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11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Для определения падежа И.С. нужно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11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В определении падежа И.с. помогут служебные части речи -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 октябр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611280" y="278136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ная рабо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Р.п., В.п., Д.п. неодушевленных И.С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Box 1"/>
          <p:cNvSpPr/>
          <p:nvPr/>
        </p:nvSpPr>
        <p:spPr>
          <a:xfrm>
            <a:off x="1785960" y="714240"/>
            <a:ext cx="57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рка домашнего зада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extBox 2"/>
          <p:cNvSpPr/>
          <p:nvPr/>
        </p:nvSpPr>
        <p:spPr>
          <a:xfrm>
            <a:off x="1979640" y="117648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   </a:t>
            </a:r>
            <a:r>
              <a:rPr b="1" lang="ru-RU" sz="4800" spc="-1" strike="noStrike">
                <a:solidFill>
                  <a:srgbClr val="ffc000"/>
                </a:solidFill>
                <a:latin typeface="Calibri"/>
              </a:rPr>
              <a:t>  </a:t>
            </a: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c000"/>
                </a:solidFill>
                <a:latin typeface="Calibri"/>
              </a:rPr>
              <a:t>Закончи предложени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TextBox 3"/>
          <p:cNvSpPr/>
          <p:nvPr/>
        </p:nvSpPr>
        <p:spPr>
          <a:xfrm>
            <a:off x="755640" y="2133720"/>
            <a:ext cx="770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1. В русском языке падежей  – 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2. Чтобы определить падеж им. сущ.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3. Имя сущ. изменяется ….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4. Склонение – это…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5. Р.п. отвечает на вопросы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6. В.п. отвечает на вопросы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Picture 2" descr="C:\Users\Еленга\Desktop\методички\Чистописание 4 класс Палова\98771267_large_0015.jpg"/>
          <p:cNvPicPr/>
          <p:nvPr/>
        </p:nvPicPr>
        <p:blipFill>
          <a:blip r:embed="rId1"/>
          <a:srcRect l="6120" t="29451" r="5119" b="33777"/>
          <a:stretch/>
        </p:blipFill>
        <p:spPr>
          <a:xfrm>
            <a:off x="374760" y="476280"/>
            <a:ext cx="859788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в пар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Упражнение 142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TextBox 1"/>
          <p:cNvSpPr/>
          <p:nvPr/>
        </p:nvSpPr>
        <p:spPr>
          <a:xfrm>
            <a:off x="285840" y="714240"/>
            <a:ext cx="8572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Закончи фраз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я существительное в Д. п. отвечает на вопросы___________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TextBox 5"/>
          <p:cNvSpPr/>
          <p:nvPr/>
        </p:nvSpPr>
        <p:spPr>
          <a:xfrm>
            <a:off x="755640" y="278136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Имя сущ. в Д.п.  употребляется с предлогами  </a:t>
            </a: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______________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Упражнение 145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3" name="Picture 2" descr="H:\4 класс\УРОКИ\РУС ЯЗ\части речи\10.jpg"/>
          <p:cNvPicPr/>
          <p:nvPr/>
        </p:nvPicPr>
        <p:blipFill>
          <a:blip r:embed="rId1"/>
          <a:stretch/>
        </p:blipFill>
        <p:spPr>
          <a:xfrm>
            <a:off x="900000" y="2028960"/>
            <a:ext cx="7096320" cy="942840"/>
          </a:xfrm>
          <a:prstGeom prst="rect">
            <a:avLst/>
          </a:prstGeom>
          <a:ln w="0">
            <a:noFill/>
          </a:ln>
        </p:spPr>
      </p:pic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Словарная работ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5" name="" descr=""/>
          <p:cNvPicPr/>
          <p:nvPr/>
        </p:nvPicPr>
        <p:blipFill>
          <a:blip r:embed="rId2"/>
          <a:stretch/>
        </p:blipFill>
        <p:spPr>
          <a:xfrm>
            <a:off x="539640" y="2852280"/>
            <a:ext cx="82296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Упражнение 111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Рефлекс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7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alibri"/>
              </a:rPr>
              <a:t>Сегодня мы вспомнили падежи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7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alibri"/>
              </a:rPr>
              <a:t>Р.п. отвечает на вопросы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7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alibri"/>
              </a:rPr>
              <a:t>Р.п. можно спутать с …. Для правильного определения падежа нужно обратить внимание на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7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alibri"/>
              </a:rPr>
              <a:t>Д.п. отвечает на вопросы… Наприме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7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 октябр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611280" y="278136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ная рабо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Тема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Т.п.и П.п. имен существительных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Picture 2" descr="C:\Users\Еленга\Desktop\методички\Чистописание 4 класс Палова\98771268_large_0016.jpg"/>
          <p:cNvPicPr/>
          <p:nvPr/>
        </p:nvPicPr>
        <p:blipFill>
          <a:blip r:embed="rId1"/>
          <a:srcRect l="6592" t="26205" r="6059" b="35941"/>
          <a:stretch/>
        </p:blipFill>
        <p:spPr>
          <a:xfrm>
            <a:off x="395280" y="404640"/>
            <a:ext cx="8454960" cy="518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Calibri"/>
              </a:rPr>
              <a:t>Просклоняй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Осина</a:t>
            </a:r>
            <a:r>
              <a:rPr b="1" i="1" lang="ru-RU" sz="40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lang="ru-RU" sz="4000" spc="-1" strike="noStrike" baseline="30000">
                <a:solidFill>
                  <a:srgbClr val="00b0f0"/>
                </a:solidFill>
                <a:latin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Заяц </a:t>
            </a:r>
            <a:r>
              <a:rPr b="1" lang="ru-RU" sz="4000" spc="-1" strike="noStrike" baseline="30000">
                <a:solidFill>
                  <a:srgbClr val="00b0f0"/>
                </a:solidFill>
                <a:latin typeface="Calibri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Жук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Облако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b0f0"/>
                </a:solidFill>
                <a:latin typeface="Calibri"/>
              </a:rPr>
              <a:t>Придумай 4 предложения. Разберите по членам предложения. Подпишите падеж И.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ловарная работ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f0"/>
                </a:solidFill>
                <a:latin typeface="Calibri"/>
              </a:rPr>
              <a:t>С.87 учебника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Диктант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ПР (стр.9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alibri"/>
              </a:rPr>
              <a:t>Замени слово 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«старый» </a:t>
            </a:r>
            <a:r>
              <a:rPr b="1" lang="ru-RU" sz="3600" spc="-1" strike="noStrike">
                <a:solidFill>
                  <a:srgbClr val="00b0f0"/>
                </a:solidFill>
                <a:latin typeface="Calibri"/>
              </a:rPr>
              <a:t>близким по значению словом. Запиши это слов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Как-то ёж поймал в сенях мышонка и показал его коту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Задание: </a:t>
            </a:r>
            <a:r>
              <a:rPr b="1" i="1" lang="ru-RU" sz="2800" spc="-1" strike="noStrike">
                <a:solidFill>
                  <a:srgbClr val="00b0f0"/>
                </a:solidFill>
                <a:latin typeface="Calibri"/>
              </a:rPr>
              <a:t>найди слово, в состав которого соответствует схеме. Выпиши и обознач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Дуга 6"/>
          <p:cNvSpPr/>
          <p:nvPr/>
        </p:nvSpPr>
        <p:spPr>
          <a:xfrm rot="19942200">
            <a:off x="1012680" y="5106960"/>
            <a:ext cx="1204920" cy="787320"/>
          </a:xfrm>
          <a:custGeom>
            <a:avLst/>
            <a:gdLst/>
            <a:ahLst/>
            <a:rect l="l" t="t" r="r" b="b"/>
            <a:pathLst>
              <a:path stroke="0" w="1204913" h="787400">
                <a:moveTo>
                  <a:pt x="602456" y="0"/>
                </a:moveTo>
                <a:cubicBezTo>
                  <a:pt x="935184" y="0"/>
                  <a:pt x="1204913" y="176265"/>
                  <a:pt x="1204913" y="393700"/>
                </a:cubicBezTo>
                <a:lnTo>
                  <a:pt x="602457" y="393700"/>
                </a:lnTo>
                <a:cubicBezTo>
                  <a:pt x="602457" y="262467"/>
                  <a:pt x="602456" y="131233"/>
                  <a:pt x="602456" y="0"/>
                </a:cubicBezTo>
                <a:close/>
              </a:path>
              <a:path fill="none" w="1204913" h="787400">
                <a:moveTo>
                  <a:pt x="602456" y="0"/>
                </a:moveTo>
                <a:cubicBezTo>
                  <a:pt x="935184" y="0"/>
                  <a:pt x="1204913" y="176265"/>
                  <a:pt x="1204913" y="393700"/>
                </a:cubicBezTo>
              </a:path>
            </a:pathLst>
          </a:custGeom>
          <a:noFill/>
          <a:ln w="38160">
            <a:solidFill>
              <a:srgbClr val="c0504d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Полилиния 7"/>
          <p:cNvSpPr/>
          <p:nvPr/>
        </p:nvSpPr>
        <p:spPr>
          <a:xfrm>
            <a:off x="2217600" y="4937040"/>
            <a:ext cx="482760" cy="357120"/>
          </a:xfrm>
          <a:custGeom>
            <a:avLst/>
            <a:gdLst/>
            <a:ahLst/>
            <a:rect l="l" t="t" r="r" b="b"/>
            <a:pathLst>
              <a:path w="1222646" h="405825">
                <a:moveTo>
                  <a:pt x="0" y="374073"/>
                </a:moveTo>
                <a:lnTo>
                  <a:pt x="665018" y="0"/>
                </a:lnTo>
                <a:lnTo>
                  <a:pt x="665018" y="0"/>
                </a:lnTo>
                <a:lnTo>
                  <a:pt x="1177636" y="374073"/>
                </a:lnTo>
                <a:cubicBezTo>
                  <a:pt x="1260763" y="434110"/>
                  <a:pt x="1212272" y="397164"/>
                  <a:pt x="1163782" y="360219"/>
                </a:cubicBezTo>
              </a:path>
            </a:pathLst>
          </a:custGeom>
          <a:noFill/>
          <a:ln w="38160">
            <a:solidFill>
              <a:srgbClr val="c0504d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Прямоугольник 8"/>
          <p:cNvSpPr/>
          <p:nvPr/>
        </p:nvSpPr>
        <p:spPr>
          <a:xfrm>
            <a:off x="2843280" y="5103720"/>
            <a:ext cx="360360" cy="308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 ноябр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611280" y="278136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ная рабо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c000"/>
                </a:solidFill>
                <a:latin typeface="Calibri"/>
              </a:rPr>
              <a:t>Тем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Несклоняемые Имена существительны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240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в группе. Исследовательская рабо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Цели и задач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ознакомиться……………………………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Учиться правильно их …………………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бобщить знания 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Орфографическая размин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837720" y="1628280"/>
            <a:ext cx="80074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Дорога с рядами деревьев, посаженных по обеим её сторона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2" name="Picture 7" descr="i?id=77396289-08-72&amp;n=21"/>
          <p:cNvPicPr/>
          <p:nvPr/>
        </p:nvPicPr>
        <p:blipFill>
          <a:blip r:embed="rId1"/>
          <a:stretch/>
        </p:blipFill>
        <p:spPr>
          <a:xfrm>
            <a:off x="1547640" y="2714760"/>
            <a:ext cx="6120000" cy="39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208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Учреждение, собирающее и хранящее произведения печати для общего польз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85316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9" descr="library"/>
          <p:cNvPicPr/>
          <p:nvPr/>
        </p:nvPicPr>
        <p:blipFill>
          <a:blip r:embed="rId2"/>
          <a:stretch/>
        </p:blipFill>
        <p:spPr>
          <a:xfrm>
            <a:off x="1403280" y="1844640"/>
            <a:ext cx="6264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Занимательный, любопытный, привлекающий интере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c000"/>
                </a:solidFill>
                <a:latin typeface="Calibri"/>
              </a:rPr>
              <a:t>Какой?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9" name="Picture 6" descr="45066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Провер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Аллея, библиотека, интересный, дорога, шосс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2"/>
          <p:cNvSpPr/>
          <p:nvPr/>
        </p:nvSpPr>
        <p:spPr>
          <a:xfrm>
            <a:off x="571680" y="982440"/>
            <a:ext cx="7488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ого рода бывают имена существительные?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 изменяются имена существительны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 иначе называется изменение по падежам?      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Rectangle 2"/>
          <p:cNvSpPr/>
          <p:nvPr/>
        </p:nvSpPr>
        <p:spPr>
          <a:xfrm>
            <a:off x="714240" y="214200"/>
            <a:ext cx="687096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Имя существительн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2"/>
          <p:cNvSpPr/>
          <p:nvPr/>
        </p:nvSpPr>
        <p:spPr>
          <a:xfrm>
            <a:off x="539640" y="251244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Rectangle 3"/>
          <p:cNvSpPr/>
          <p:nvPr/>
        </p:nvSpPr>
        <p:spPr>
          <a:xfrm>
            <a:off x="539640" y="404640"/>
            <a:ext cx="8209080" cy="61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c000"/>
                </a:solidFill>
                <a:uFillTx/>
                <a:latin typeface="Arial"/>
              </a:rPr>
              <a:t>Чтобы определить падеж существительного, надо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Найти слово , к которому относится имя существительное и поставить от него вопро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 По вопросу и предлогу                                                                                                                                                                         определить падеж.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Просклоняйте с предлогами</a:t>
            </a:r>
            <a:br>
              <a:rPr sz="4400"/>
            </a:b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 (по выбору)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457200" y="2637000"/>
            <a:ext cx="403848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Журавль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4648320" y="2565000"/>
            <a:ext cx="403848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Сосна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Прямоугольник 1"/>
          <p:cNvSpPr/>
          <p:nvPr/>
        </p:nvSpPr>
        <p:spPr>
          <a:xfrm>
            <a:off x="932040" y="189000"/>
            <a:ext cx="7279920" cy="23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5040" algn="ctr">
              <a:lnSpc>
                <a:spcPct val="11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Работа в группе. Исследовательская рабо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90360" indent="5040">
              <a:lnSpc>
                <a:spcPct val="11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90360" indent="5040">
              <a:lnSpc>
                <a:spcPct val="11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90360" indent="5040">
              <a:lnSpc>
                <a:spcPct val="11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Прямоугольник 3"/>
          <p:cNvSpPr/>
          <p:nvPr/>
        </p:nvSpPr>
        <p:spPr>
          <a:xfrm>
            <a:off x="297000" y="388800"/>
            <a:ext cx="809136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5040" algn="ctr">
              <a:lnSpc>
                <a:spcPct val="11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2" name=""/>
          <p:cNvGraphicFramePr/>
          <p:nvPr/>
        </p:nvGraphicFramePr>
        <p:xfrm>
          <a:off x="826920" y="1362240"/>
          <a:ext cx="7490160" cy="4944960"/>
        </p:xfrm>
        <a:graphic>
          <a:graphicData uri="http://schemas.openxmlformats.org/drawingml/2006/table">
            <a:tbl>
              <a:tblPr/>
              <a:tblGrid>
                <a:gridCol w="2305080"/>
                <a:gridCol w="1409760"/>
                <a:gridCol w="1857600"/>
                <a:gridCol w="1917720"/>
              </a:tblGrid>
              <a:tr h="39168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асти реч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5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меет ли лексическое значение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меняемая или неизменяемая часть реч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вляется ли членом предложения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9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мя существитель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8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мя прилагатель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52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лаго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оюз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Предло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Части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Прочитайте предложения, спишите, определите падеж слова «пальто»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178920" y="227628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 магазине продаются разные пальт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У пальто меховой воротник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К пальто пришили пуговиц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Мама купила мне пальт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Я доволен своим пальт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Мне было тепло в пальт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85" name="Picture 9" descr="zuz_1001228999"/>
          <p:cNvPicPr/>
          <p:nvPr/>
        </p:nvPicPr>
        <p:blipFill>
          <a:blip r:embed="rId2"/>
          <a:stretch/>
        </p:blipFill>
        <p:spPr>
          <a:xfrm>
            <a:off x="2195640" y="620640"/>
            <a:ext cx="47512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2"/>
          <p:cNvSpPr/>
          <p:nvPr/>
        </p:nvSpPr>
        <p:spPr>
          <a:xfrm>
            <a:off x="611280" y="302400"/>
            <a:ext cx="7488000" cy="66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либри, кенгуру, шос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ламинго, пони, шимпанз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ао, кофе, доми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лоэ, радио, ки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акси, метро, купе, пальт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шне, кофе, трюмо, мант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какаду, драже, па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интервью, рагу, жю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пианино и фой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юре, бюро и атель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ы все слова запомина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о никогда их не склоняй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Rectangle 2"/>
          <p:cNvSpPr/>
          <p:nvPr/>
        </p:nvSpPr>
        <p:spPr>
          <a:xfrm>
            <a:off x="714240" y="214200"/>
            <a:ext cx="687096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8" name="Picture 5" descr="7250_0_2"/>
          <p:cNvPicPr/>
          <p:nvPr/>
        </p:nvPicPr>
        <p:blipFill>
          <a:blip r:embed="rId1"/>
          <a:stretch/>
        </p:blipFill>
        <p:spPr>
          <a:xfrm>
            <a:off x="7236000" y="1484280"/>
            <a:ext cx="1643040" cy="119052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7" descr="avatar-117224-20111215005130"/>
          <p:cNvPicPr/>
          <p:nvPr/>
        </p:nvPicPr>
        <p:blipFill>
          <a:blip r:embed="rId2"/>
          <a:stretch/>
        </p:blipFill>
        <p:spPr>
          <a:xfrm>
            <a:off x="144360" y="544680"/>
            <a:ext cx="1511280" cy="1044360"/>
          </a:xfrm>
          <a:prstGeom prst="rect">
            <a:avLst/>
          </a:prstGeom>
          <a:ln w="0">
            <a:noFill/>
          </a:ln>
        </p:spPr>
      </p:pic>
      <p:pic>
        <p:nvPicPr>
          <p:cNvPr id="890" name="Picture 9" descr="i?id=538967408-32-72&amp;n=21"/>
          <p:cNvPicPr/>
          <p:nvPr/>
        </p:nvPicPr>
        <p:blipFill>
          <a:blip r:embed="rId3"/>
          <a:stretch/>
        </p:blipFill>
        <p:spPr>
          <a:xfrm>
            <a:off x="7236000" y="4292640"/>
            <a:ext cx="1547640" cy="1079640"/>
          </a:xfrm>
          <a:prstGeom prst="rect">
            <a:avLst/>
          </a:prstGeom>
          <a:ln w="0">
            <a:noFill/>
          </a:ln>
        </p:spPr>
      </p:pic>
      <p:pic>
        <p:nvPicPr>
          <p:cNvPr id="891" name="Picture 11" descr="i?id=185676225-13-72&amp;n=21"/>
          <p:cNvPicPr/>
          <p:nvPr/>
        </p:nvPicPr>
        <p:blipFill>
          <a:blip r:embed="rId4"/>
          <a:stretch/>
        </p:blipFill>
        <p:spPr>
          <a:xfrm>
            <a:off x="395280" y="4113360"/>
            <a:ext cx="1548000" cy="1223640"/>
          </a:xfrm>
          <a:prstGeom prst="rect">
            <a:avLst/>
          </a:prstGeom>
          <a:ln w="0">
            <a:noFill/>
          </a:ln>
        </p:spPr>
      </p:pic>
      <p:pic>
        <p:nvPicPr>
          <p:cNvPr id="892" name="Picture 13" descr="i?id=75438619-18-72&amp;n=21"/>
          <p:cNvPicPr/>
          <p:nvPr/>
        </p:nvPicPr>
        <p:blipFill>
          <a:blip r:embed="rId5"/>
          <a:stretch/>
        </p:blipFill>
        <p:spPr>
          <a:xfrm>
            <a:off x="539640" y="1989000"/>
            <a:ext cx="111600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Упражнение 15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2"/>
          <p:cNvSpPr/>
          <p:nvPr/>
        </p:nvSpPr>
        <p:spPr>
          <a:xfrm>
            <a:off x="0" y="292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6" name=""/>
          <p:cNvGraphicFramePr/>
          <p:nvPr/>
        </p:nvGraphicFramePr>
        <p:xfrm>
          <a:off x="179280" y="-1755720"/>
          <a:ext cx="8964720" cy="8931240"/>
        </p:xfrm>
        <a:graphic>
          <a:graphicData uri="http://schemas.openxmlformats.org/drawingml/2006/table">
            <a:tbl>
              <a:tblPr/>
              <a:tblGrid>
                <a:gridCol w="4105440"/>
                <a:gridCol w="4859280"/>
              </a:tblGrid>
              <a:tr h="962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Сегодня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н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урок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узнал, открыл для себя…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научился… 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могу похвалить себя и своих одноклассников за …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7" name="Text Box 17"/>
          <p:cNvSpPr/>
          <p:nvPr/>
        </p:nvSpPr>
        <p:spPr>
          <a:xfrm>
            <a:off x="2556000" y="2637000"/>
            <a:ext cx="107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Line 18"/>
          <p:cNvSpPr/>
          <p:nvPr/>
        </p:nvSpPr>
        <p:spPr>
          <a:xfrm flipV="1">
            <a:off x="3492360" y="836640"/>
            <a:ext cx="720720" cy="15127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Line 19"/>
          <p:cNvSpPr/>
          <p:nvPr/>
        </p:nvSpPr>
        <p:spPr>
          <a:xfrm>
            <a:off x="3492360" y="3502080"/>
            <a:ext cx="792360" cy="20145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Line 20"/>
          <p:cNvSpPr/>
          <p:nvPr/>
        </p:nvSpPr>
        <p:spPr>
          <a:xfrm>
            <a:off x="3564000" y="2852640"/>
            <a:ext cx="72072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 ноябр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611280" y="278136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ная рабо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c000"/>
                </a:solidFill>
                <a:latin typeface="Calibri"/>
              </a:rPr>
              <a:t>Тем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Три склонения имени существительно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Цели и задач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Познакомиться……………………………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Учиться правильно их …………………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2" descr="C:\Users\Еленга\Desktop\методички\Чистописание 4 класс Палова\98771268_large_0016.jpg"/>
          <p:cNvPicPr/>
          <p:nvPr/>
        </p:nvPicPr>
        <p:blipFill>
          <a:blip r:embed="rId1"/>
          <a:srcRect l="6938" t="70549" r="7150" b="11066"/>
          <a:stretch/>
        </p:blipFill>
        <p:spPr>
          <a:xfrm>
            <a:off x="395280" y="549360"/>
            <a:ext cx="8323200" cy="252072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3" descr="H:\4 класс\УРОКИ\РУС ЯЗ\части речи\12.jpg"/>
          <p:cNvPicPr/>
          <p:nvPr/>
        </p:nvPicPr>
        <p:blipFill>
          <a:blip r:embed="rId2"/>
          <a:stretch/>
        </p:blipFill>
        <p:spPr>
          <a:xfrm>
            <a:off x="419040" y="3213000"/>
            <a:ext cx="8323200" cy="29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Упражнение 153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8:27:45Z</dcterms:created>
  <dc:creator>ViTark</dc:creator>
  <dc:description/>
  <dc:language>en-US</dc:language>
  <cp:lastModifiedBy>Пользователь Windows</cp:lastModifiedBy>
  <dcterms:modified xsi:type="dcterms:W3CDTF">2022-11-09T13:48:19Z</dcterms:modified>
  <cp:revision>192</cp:revision>
  <dc:subject/>
  <dc:title>Заголовок слайда</dc:title>
</cp:coreProperties>
</file>