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  <p:sldId id="370" r:id="rId130"/>
    <p:sldId id="371" r:id="rId131"/>
    <p:sldId id="372" r:id="rId132"/>
    <p:sldId id="373" r:id="rId133"/>
    <p:sldId id="374" r:id="rId134"/>
    <p:sldId id="375" r:id="rId135"/>
    <p:sldId id="376" r:id="rId136"/>
    <p:sldId id="377" r:id="rId137"/>
    <p:sldId id="378" r:id="rId138"/>
    <p:sldId id="379" r:id="rId139"/>
    <p:sldId id="380" r:id="rId140"/>
    <p:sldId id="381" r:id="rId141"/>
    <p:sldId id="382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slide" Target="slides/slide115.xml"/><Relationship Id="rId131" Type="http://schemas.openxmlformats.org/officeDocument/2006/relationships/slide" Target="slides/slide116.xml"/><Relationship Id="rId132" Type="http://schemas.openxmlformats.org/officeDocument/2006/relationships/slide" Target="slides/slide117.xml"/><Relationship Id="rId133" Type="http://schemas.openxmlformats.org/officeDocument/2006/relationships/slide" Target="slides/slide118.xml"/><Relationship Id="rId134" Type="http://schemas.openxmlformats.org/officeDocument/2006/relationships/slide" Target="slides/slide119.xml"/><Relationship Id="rId135" Type="http://schemas.openxmlformats.org/officeDocument/2006/relationships/slide" Target="slides/slide120.xml"/><Relationship Id="rId136" Type="http://schemas.openxmlformats.org/officeDocument/2006/relationships/slide" Target="slides/slide121.xml"/><Relationship Id="rId137" Type="http://schemas.openxmlformats.org/officeDocument/2006/relationships/slide" Target="slides/slide122.xml"/><Relationship Id="rId138" Type="http://schemas.openxmlformats.org/officeDocument/2006/relationships/slide" Target="slides/slide123.xml"/><Relationship Id="rId139" Type="http://schemas.openxmlformats.org/officeDocument/2006/relationships/slide" Target="slides/slide124.xml"/><Relationship Id="rId140" Type="http://schemas.openxmlformats.org/officeDocument/2006/relationships/slide" Target="slides/slide125.xml"/><Relationship Id="rId141" Type="http://schemas.openxmlformats.org/officeDocument/2006/relationships/slide" Target="slides/slide126.xml"/><Relationship Id="rId142" Type="http://schemas.openxmlformats.org/officeDocument/2006/relationships/slide" Target="slides/slide127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DA7-7A58-427F-B70F-1546328E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76E-22CE-4471-8979-86007311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C887B-35C7-4934-A64C-631FBEF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9ECB6-C097-4AE5-9FEA-C5A2710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702D-E27C-44AF-92F7-93DC824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E93D-2746-4030-92AE-250C5A0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A7242-6B58-4C84-8A53-F653791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EEC19-D71B-4C71-86E0-7C9F980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7681-0A94-45FF-B47F-2894885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73D66-E5D1-4DB4-97D8-BE620C2F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17000-EE4B-4C1F-9E8D-21ECABCD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47B40-9E9C-4F28-8440-B9FF043D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A9D-5A4D-4355-8136-83336C21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7D037-85D2-4386-9D68-3FE2A09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29C1C-426B-48C8-8549-38832FD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AFC28-49D0-4189-8A89-0C3292BA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E01D1-3516-4A5C-9EDF-CF3CB50A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6212-1114-4023-A860-A2AAB00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FB423-7D65-4279-B277-3DBD008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C2554-DFCA-499E-8CE9-12483B3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7113C-E936-4FF4-B5C7-2700B28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C5C2D-328B-4532-8468-3154532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0E694-93A4-4678-8D73-5916BF90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859-90B2-4509-B825-179470EC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87174-2135-4AC6-8A9D-91D96604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EC20A-922A-4278-9858-70A8ACA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4424C-22B2-4878-9745-6622A5F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4E093-5EDE-468B-A825-0A76D3E9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633A0-B075-4962-9D39-A927FB97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B0BFD-4AB0-4E7D-A5CE-56520AB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6E9D5-EB28-40E8-AF3E-001D1C4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656CD-C1E6-4653-A4D4-2C6B6BA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852E9-32B7-42C3-BC78-C2B0516F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B6CD5-2990-40B0-A240-2F711E7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B054-FCDE-424C-9851-38E58B1B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881F-9EAA-4FD4-8F92-157DA39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8FE61-7D82-4970-8DB5-952EB8B1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1398F-067D-4768-B5B4-DB0C90DB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02A1D-3F62-48FE-B09E-67BEE50B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F79DF-3215-4905-AC91-8C24EDE4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34548-7255-45EF-B25D-A126F19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A7A1E-D852-46D5-A987-CB0B810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3D914-D298-4051-A4AD-C922E08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4B24-B2C4-4D26-926E-DF70E80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3B902-B7ED-4A76-902E-B45AB4BD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338C-DEEF-4E7C-AE59-FEAA4AFB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97A7D-747B-4CA0-BFF0-9F433D31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5557E-FAFF-4CD1-AA48-1AA605B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92640-8494-4743-B887-B9840B72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01C57-CF7A-4601-90F6-8B7CDCAA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0155A-850D-4CF2-ADA0-16D5A607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695FF-C3AB-48F7-BFEC-41B4619E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ACC08-B692-4094-8849-73306727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D0F01-58B2-400B-893B-B4E21092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5918E-BB2C-47C6-AA4F-B032C045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30372-E988-4DB0-BD4E-2197110D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A2E-D0CA-47D5-B573-B9CE4D7E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45210-5C70-44B4-8BF1-936F2B0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77B74-D482-4148-8961-2822433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D2721-553A-4D20-BFA3-CA5962F9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76595-6AA9-4760-99A8-8A99648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C84AA-DEFB-484F-BB2A-EB5BCF15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73826-5084-433D-8877-58705D00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32E2B-4146-41CF-B48C-331348E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870C5-342D-48EB-A029-2DD87782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7AB2D-7085-4862-996A-7C59647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BE8BF-CFC3-4736-8A95-FED4315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6556-A707-41A3-B895-9D73F295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AFA75-7820-454F-9CBD-31D6C9D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01FD8-07AA-409B-8BDB-72365444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34A4E-A7C6-4174-A8DE-9C04F9B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55345-C5D5-4BA0-8AD6-F60E7CA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BD3DA-53E5-417D-A4DC-5D994776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4FE1C-720C-4591-96E9-5AC08BF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BB036-ABF8-406E-BC2D-758369D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32B2A-D7E9-4E29-96BE-E1F0DA6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FB043-1E4B-4CE3-B66F-16431969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440-20E0-4195-9EFF-F57CC38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D81-CAFA-484C-B064-564479F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5EC6-88C3-405A-B250-43F5E23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4D9-86ED-4DE1-9A52-2F08040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C128-118F-4248-B243-5985B3F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5F0-22FD-445D-9A5A-E71F2E2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14A-5BF6-4E19-87CE-F563C6F6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BD95-900B-455A-9EF7-86EA1097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07C-A1E2-450E-8D35-F9640D0A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D2C6-51D8-4F9F-BC66-E51D318A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5E38-FC2D-4239-A39E-76A9C85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7856-8FFA-461C-8800-FD0A343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1EB7-29A9-46C2-B3DE-D2984993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1C15-A36A-4CFB-9A95-5A79594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C97-7AB2-4B6F-842A-31AB475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7541-08A1-46AD-9207-D63FD683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4970-9577-440B-BAB7-84DA5C5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319C-0343-4C07-BB86-FC6DF46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23EE-983F-407E-9967-6FC075B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7FDE-1E30-4AD3-9652-5C319B2D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4E62-17E2-42F3-9059-9BCAA472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C78B-F9F3-456F-81DB-1B4A1E2D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93A0-7B9F-4DC0-8A42-B9EA6D6C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9079-5929-478B-88F8-48AC6B5E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DB37-28E7-4174-82E4-8557346D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F41-F8D1-4F31-A159-E485E48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F71E-2442-42A3-B52E-826977F6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8C5F-7CB0-4E30-948C-AE4FA5B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373A-37AA-4738-84EC-E5E5564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3833-49C7-49C4-8A10-E09AA2A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3702-0BF2-43D3-88FA-24AE19E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A1E3-5378-4909-866F-22BBCC3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23C1-B68D-4F30-9FE9-0137B1BA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AC8E-A352-466B-89D3-FB768C15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E3C1-A6E4-44E4-83A0-3177215B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52DB4-2AB7-4819-9E57-155064AC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DF0-A8D7-41D2-8D61-1451607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5A41-96B5-4533-B2FD-B9169377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8D71-CDF8-4603-8D4C-F648838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0FCF-9CB5-4240-9A3E-F57B0DDE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3365-5D12-499E-A5FD-86D364B7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B1C6-93C6-4312-84E6-C471C98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0A0A-DA95-4AEF-9FC5-6B9F9BA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09B3-52B8-4D03-AC08-74F89DE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DF2A-E7C7-4ABA-8DE8-1586D1C8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9B01-1DF4-4DEF-BC85-FF8AA425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28C8-5FBD-43C0-B003-A1BEC955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BCC-8A73-4186-9D8B-72815E73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23DD-87C7-4B45-B30A-67069EC0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CB0D-63C8-41B6-AFF0-BDCE9500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6644-2F1B-41FD-A019-03DC6A7E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368FE-4F5F-4B75-B8F7-222C039E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3EEB2-F087-421A-9094-F86EEC9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46C5-3DB0-4413-98CC-EFAFC7DC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D716-5F73-4542-AF82-4115507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E0102-4B56-4892-AAF4-E3D14C3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7001-DD65-4185-AECC-670EC0A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9602-9B07-44D6-92C4-3B80CCFB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86B-5B9E-4E84-A8F3-220D669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3B04-817A-483D-B8E3-9CE8646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15733-AC5E-4761-919C-903531E6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9C57-B23E-41D5-AC8C-275EC629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65DD-3B71-47D1-A79E-48F1A731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9B27-428B-4ABA-AE96-BE417817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7CA4F-C2C6-47F7-B9C7-5EA671DA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DA1B-D695-4887-8E33-47F4F705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A00D-C69E-4C29-B4D0-81FC3D98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F046E-2B8D-4CF2-9133-24FD4EAA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9B4BB-E9A2-446D-9228-4059D6C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704-8D9F-4876-8AA3-4C1BB276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A8F7F-D91B-48CF-99EA-A39F1BA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A5CF-BDDD-4CB1-8B2C-CE72D4A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A85A5-209B-4BD1-A906-DE8EEF3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F43A-AB20-4CC2-8613-DF60446D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38E7E-425E-4FD5-A0E4-686CB113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82FF5-9116-4D63-8C22-831FED5D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E324B-186B-4F68-A942-8C6CAF2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DEE9-79E1-4415-8C24-41FFF4D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EE31-84EE-428D-9F4E-1228E16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86A8-119B-4EB5-BCC8-361E704C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0D7-34A7-464C-848E-DC52DC2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EBC66-9533-4738-8765-F93ACE39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ED29-F296-48EF-9826-7AFFA018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A6C9-A35D-4A40-9546-A9606832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07072-C2D5-4C4C-8EB2-825276B6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2DA54-E306-46E5-AD2B-25C1167F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A0F0B-0E51-4318-8F35-0DA5A8F5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EB8C-9F37-4BC7-A44E-BA58E31A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40A88-0061-46D2-9EFD-16E32C85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029E2-D04A-4FEA-BFA3-E435993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D2567-E146-43C0-ACA2-64E7C45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7EAC-0237-4782-B126-076D77ABD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9976-C79D-45CF-BBBF-703A3AD6F7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2899-EDBF-4DAA-8F64-40E18FFAF63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E96-3527-4600-8298-ACB26375CF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EDCB-2A7E-4D1F-91CF-C071E3AC62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83F-0CE6-4272-8A11-020EC7C961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55E-B999-4364-8F3C-3C23AEE6C7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9E33-E85F-4D00-AE20-69FC31197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6CF4-C488-401B-A0C1-AFF55D57FCB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3430-B5E3-4EB4-8207-0E32457339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0ACE-F805-4A5C-B411-C432564304B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4FE-71DE-49F4-95B7-BC67BD53DB3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89FC-F204-4C92-BD85-DA4B2E9999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765-8CFC-4F24-80D4-2AF2B02B01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3" descr="H:\4 класс\УРОКИ\РУС ЯЗ\части речи\3.jpg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28191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7160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1. поставь ударение и подчеркни безударные гласные в корнях слов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2. придумай три предложения с любыми словами и сделай разбор по членам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и 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3" descr="F:\4 класс\УРОКИ\РУС ЯЗ\части речи\0911.jpg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учи правил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2" descr="F:\4 класс\УРОКИ\РУС ЯЗ\части речи\09111.jpg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Найди имена существительные 1-го склон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Picture 2" descr="F:\4 класс\УРОКИ\РУС ЯЗ\части речи\09112.jpg"/>
          <p:cNvPicPr/>
          <p:nvPr/>
        </p:nvPicPr>
        <p:blipFill>
          <a:blip r:embed="rId1"/>
          <a:stretch/>
        </p:blipFill>
        <p:spPr>
          <a:xfrm>
            <a:off x="971640" y="191628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F:\4 класс\УРОКИ\РУС ЯЗ\части речи\опеределить склонение ИС.jpg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2" descr="F:\4 класс\УРОКИ\РУС ЯЗ\части речи\09113.jpg"/>
          <p:cNvPicPr/>
          <p:nvPr/>
        </p:nvPicPr>
        <p:blipFill>
          <a:blip r:embed="rId1"/>
          <a:stretch/>
        </p:blipFill>
        <p:spPr>
          <a:xfrm>
            <a:off x="1547640" y="1989000"/>
            <a:ext cx="633420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мена существительные 1-го скло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колько склонений имени существительного ты знаеш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Что такое существительные 1-го склон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веди пример им.сущ. 1-го склон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Picture 2" descr="F:\4 класс\УРОКИ\РУС ЯЗ\части речи\1-е склон.jpg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 им.сущ. в единственном чис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вц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Юноша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ыпиши им.сущ. 1-го скло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ртофель, ласточки, пояс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ьюга, лебедь, сетк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чь, печки, лошад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ошадки, мышка, о Ван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8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-е склонение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определить 1-е склонение имени существительн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части реч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определить 2-е склонение имени существительн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5" name="Picture 2" descr="H:\4 класс\УРОКИ\РУС ЯЗ\части речи\1111.jpg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здели на 2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ар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душк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деревн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 город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воры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Коле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текл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рава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354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Словарная работ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1" name="Picture 3" descr="H:\4 класс\УРОКИ\РУС ЯЗ\части речи\агроном.jpg"/>
          <p:cNvPicPr/>
          <p:nvPr/>
        </p:nvPicPr>
        <p:blipFill>
          <a:blip r:embed="rId1"/>
          <a:stretch/>
        </p:blipFill>
        <p:spPr>
          <a:xfrm>
            <a:off x="625320" y="1628640"/>
            <a:ext cx="2816280" cy="115272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3008520" cy="23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ециалист сельского хозяйства, обладающий всесторонними знаниями в области агроно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3" name="Picture 2" descr="H:\4 класс\УРОКИ\РУС ЯЗ\части речи\1641809147_6-flomaster-club-p-risunki-na-temu-agronom-krasivie-risunki-14.png"/>
          <p:cNvPicPr/>
          <p:nvPr/>
        </p:nvPicPr>
        <p:blipFill>
          <a:blip r:embed="rId2"/>
          <a:stretch/>
        </p:blipFill>
        <p:spPr>
          <a:xfrm>
            <a:off x="4500720" y="2595600"/>
            <a:ext cx="30366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3888000"/>
                <a:gridCol w="507672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6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Line 18"/>
          <p:cNvSpPr/>
          <p:nvPr/>
        </p:nvSpPr>
        <p:spPr>
          <a:xfrm flipV="1">
            <a:off x="314964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3238560" y="3502080"/>
            <a:ext cx="79200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Line 20"/>
          <p:cNvSpPr/>
          <p:nvPr/>
        </p:nvSpPr>
        <p:spPr>
          <a:xfrm>
            <a:off x="3274920" y="288612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C:\Users\Еленга\Desktop\методички\Чистописание 4 класс Палова\98771266_large_0014.jpg"/>
          <p:cNvPicPr/>
          <p:nvPr/>
        </p:nvPicPr>
        <p:blipFill>
          <a:blip r:embed="rId1"/>
          <a:srcRect l="5620" t="4576" r="5620" b="37022"/>
          <a:stretch/>
        </p:blipFill>
        <p:spPr>
          <a:xfrm>
            <a:off x="1332000" y="189000"/>
            <a:ext cx="691200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H:\4 класс\УРОКИ\РУС ЯЗ\части речи\5.jpg"/>
          <p:cNvPicPr/>
          <p:nvPr/>
        </p:nvPicPr>
        <p:blipFill>
          <a:blip r:embed="rId1"/>
          <a:stretch/>
        </p:blipFill>
        <p:spPr>
          <a:xfrm>
            <a:off x="1332000" y="1442880"/>
            <a:ext cx="6597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ществительное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рилагательное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C:\Users\Еленга\Desktop\методички\Чистописание 4 класс Палова\98771270_large_0018.jpg"/>
          <p:cNvPicPr/>
          <p:nvPr/>
        </p:nvPicPr>
        <p:blipFill>
          <a:blip r:embed="rId1"/>
          <a:srcRect l="5620" t="5656" r="4089" b="55408"/>
          <a:stretch/>
        </p:blipFill>
        <p:spPr>
          <a:xfrm>
            <a:off x="468360" y="404640"/>
            <a:ext cx="84963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части реч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Найди глагол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95280" y="1628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Умей не только брать, но и отдав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орошие люди умирают, а дела их живу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Подчеркни глагол. Каким членом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предложения он являе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*Определи число глаг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** Какие слова являются антонимами.          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Объясни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https://encrypted-tbn2.gstatic.com/images?q=tbn:ANd9GcSh6mWZ-cu7lt--freLNNyEPYd1WL01dVd9-7JIwsuXFSVFgUZy"/>
          <p:cNvPicPr/>
          <p:nvPr/>
        </p:nvPicPr>
        <p:blipFill>
          <a:blip r:embed="rId1"/>
          <a:stretch/>
        </p:blipFill>
        <p:spPr>
          <a:xfrm>
            <a:off x="5607000" y="4898880"/>
            <a:ext cx="2005200" cy="150048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3"/>
          <p:cNvSpPr/>
          <p:nvPr/>
        </p:nvSpPr>
        <p:spPr>
          <a:xfrm>
            <a:off x="1928880" y="357120"/>
            <a:ext cx="492912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мя числитель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Прямоугольник 4"/>
          <p:cNvSpPr/>
          <p:nvPr/>
        </p:nvSpPr>
        <p:spPr>
          <a:xfrm>
            <a:off x="714240" y="1714680"/>
            <a:ext cx="278604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ой? Которы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5143680" y="1714680"/>
            <a:ext cx="292860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ольк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785880" y="3214800"/>
            <a:ext cx="2643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ядок при сч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Прямоугольник 7"/>
          <p:cNvSpPr/>
          <p:nvPr/>
        </p:nvSpPr>
        <p:spPr>
          <a:xfrm>
            <a:off x="5143680" y="3214800"/>
            <a:ext cx="2928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Прямоугольник 8"/>
          <p:cNvSpPr/>
          <p:nvPr/>
        </p:nvSpPr>
        <p:spPr>
          <a:xfrm>
            <a:off x="785880" y="4221000"/>
            <a:ext cx="264312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ЯДКОВ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5143680" y="4287960"/>
            <a:ext cx="2928600" cy="581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ЕН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ая соединительная линия 11"/>
          <p:cNvSpPr/>
          <p:nvPr/>
        </p:nvSpPr>
        <p:spPr>
          <a:xfrm flipH="1">
            <a:off x="2106360" y="1071720"/>
            <a:ext cx="39348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ая соединительная линия 13"/>
          <p:cNvSpPr/>
          <p:nvPr/>
        </p:nvSpPr>
        <p:spPr>
          <a:xfrm>
            <a:off x="6000840" y="1071720"/>
            <a:ext cx="42840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Прямая соединительная линия 15"/>
          <p:cNvSpPr/>
          <p:nvPr/>
        </p:nvSpPr>
        <p:spPr>
          <a:xfrm>
            <a:off x="2106720" y="2357280"/>
            <a:ext cx="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2" name="Прямая со стрелкой 17"/>
          <p:cNvCxnSpPr>
            <a:stCxn id="725" idx="2"/>
            <a:endCxn id="727" idx="0"/>
          </p:cNvCxnSpPr>
          <p:nvPr/>
        </p:nvCxnSpPr>
        <p:spPr>
          <a:xfrm>
            <a:off x="2107800" y="3857400"/>
            <a:ext cx="1080" cy="36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3" name="Прямая соединительная линия 19"/>
          <p:cNvSpPr/>
          <p:nvPr/>
        </p:nvSpPr>
        <p:spPr>
          <a:xfrm>
            <a:off x="6608880" y="2357280"/>
            <a:ext cx="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4" name="Прямая со стрелкой 21"/>
          <p:cNvCxnSpPr>
            <a:stCxn id="726" idx="2"/>
            <a:endCxn id="728" idx="0"/>
          </p:cNvCxnSpPr>
          <p:nvPr/>
        </p:nvCxnSpPr>
        <p:spPr>
          <a:xfrm>
            <a:off x="6608520" y="3857400"/>
            <a:ext cx="1080" cy="43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35" name="Picture 2" descr="http://entropiya-blog.ru/wp-content/uploads/2012/03/6312.jpg"/>
          <p:cNvPicPr/>
          <p:nvPr/>
        </p:nvPicPr>
        <p:blipFill>
          <a:blip r:embed="rId2"/>
          <a:stretch/>
        </p:blipFill>
        <p:spPr>
          <a:xfrm>
            <a:off x="1035000" y="486900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Найди имя числ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рой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ятёр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то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ьмё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ставь имена числ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Объект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480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Числительное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Глагол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Наречие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1"/>
          <p:cNvSpPr/>
          <p:nvPr/>
        </p:nvSpPr>
        <p:spPr>
          <a:xfrm>
            <a:off x="324000" y="81000"/>
            <a:ext cx="8712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1187280" y="666720"/>
            <a:ext cx="56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уществительное -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школ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сыпается -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глагол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прилагательным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есёлы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й школьный день пришел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ста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мы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- местоимень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ьёт числительное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сем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 ученье, без сомнень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иниматься надо вс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Скругленный прямоугольник 3"/>
          <p:cNvSpPr/>
          <p:nvPr/>
        </p:nvSpPr>
        <p:spPr>
          <a:xfrm>
            <a:off x="0" y="1501920"/>
            <a:ext cx="8893080" cy="63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Прямоугольник 4"/>
          <p:cNvSpPr/>
          <p:nvPr/>
        </p:nvSpPr>
        <p:spPr>
          <a:xfrm>
            <a:off x="789120" y="4740120"/>
            <a:ext cx="54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Названия каких частей речи прозвучали в этом стихотворении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Какие части речи не назв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Рисунок 6" descr=""/>
          <p:cNvPicPr/>
          <p:nvPr/>
        </p:nvPicPr>
        <p:blipFill>
          <a:blip r:embed="rId1"/>
          <a:stretch/>
        </p:blipFill>
        <p:spPr>
          <a:xfrm>
            <a:off x="6384960" y="3879720"/>
            <a:ext cx="206064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рочитай и 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2" descr="H:\4 класс\УРОКИ\РУС ЯЗ\части речи\6.jpg"/>
          <p:cNvPicPr/>
          <p:nvPr/>
        </p:nvPicPr>
        <p:blipFill>
          <a:blip r:embed="rId1"/>
          <a:stretch/>
        </p:blipFill>
        <p:spPr>
          <a:xfrm>
            <a:off x="468360" y="2276640"/>
            <a:ext cx="82296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п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р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д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медл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нн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я познакомил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е отвечает на вопрос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е является … членом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Образование и употребление наречий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збери слова по соста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зред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адолг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H:\4 класс\УРОКИ\РУС ЯЗ\части речи\7.jpg"/>
          <p:cNvPicPr/>
          <p:nvPr/>
        </p:nvPicPr>
        <p:blipFill>
          <a:blip r:embed="rId2"/>
          <a:stretch/>
        </p:blipFill>
        <p:spPr>
          <a:xfrm>
            <a:off x="539640" y="62064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3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пра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мест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сыт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асветл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ле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скор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зж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егодня на уроке я повторю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2" descr="H:\4 класс\УРОКИ\РУС ЯЗ\части речи\8.jpg"/>
          <p:cNvPicPr/>
          <p:nvPr/>
        </p:nvPicPr>
        <p:blipFill>
          <a:blip r:embed="rId1"/>
          <a:stretch/>
        </p:blipFill>
        <p:spPr>
          <a:xfrm>
            <a:off x="395280" y="2133720"/>
            <a:ext cx="82296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я образованы с помощью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ффикс А пишется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ффикс О пише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я нужны дл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м весело живет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Мы (песенка) поё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 в (песенка) поёт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О том, как мы живё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Изменение по падежам имен существительных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На уроке я вспомню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На уроке повторю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Ноч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оба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 txBox="1"/>
          <p:nvPr/>
        </p:nvSpPr>
        <p:spPr>
          <a:xfrm>
            <a:off x="539640" y="1484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 дере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ля рабо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 дорож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без подсказ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грибы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спектак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д землё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 другу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 л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2" descr="F:\4 класс\УРОКИ\РУС ЯЗ\части речи\9.jpg"/>
          <p:cNvPicPr/>
          <p:nvPr/>
        </p:nvPicPr>
        <p:blipFill>
          <a:blip r:embed="rId1"/>
          <a:stretch/>
        </p:blipFill>
        <p:spPr>
          <a:xfrm>
            <a:off x="457200" y="1803240"/>
            <a:ext cx="822960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повтор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Изменение существительного по падежам называе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ри изменении сущ. по падежам изменяется их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и запомни!(стр.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H:\4 класс\УРОКИ\РУС ЯЗ\части речи\1.jpg"/>
          <p:cNvPicPr/>
          <p:nvPr/>
        </p:nvPicPr>
        <p:blipFill>
          <a:blip r:embed="rId2"/>
          <a:stretch/>
        </p:blipFill>
        <p:spPr>
          <a:xfrm>
            <a:off x="468360" y="1916280"/>
            <a:ext cx="8064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пражнение в определен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.п., Р.п., В.п. имени существитель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еодушевленные имена существитель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.п., Р.п., В.п. имени существитель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дум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 какие вопросы отвечает существительное в Именительном падеж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им членом предложения являе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склоняй существите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Вывод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уществительное в И.п.  В предложении является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чебник стр.8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В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В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Я сижу едва не плач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очень сложная задач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различить два падеж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Объект 3" descr=""/>
          <p:cNvPicPr/>
          <p:nvPr/>
        </p:nvPicPr>
        <p:blipFill>
          <a:blip r:embed="rId1"/>
          <a:stretch/>
        </p:blipFill>
        <p:spPr>
          <a:xfrm>
            <a:off x="255600" y="3236760"/>
            <a:ext cx="4243320" cy="2889360"/>
          </a:xfrm>
          <a:prstGeom prst="rect">
            <a:avLst/>
          </a:prstGeom>
          <a:ln w="0">
            <a:noFill/>
          </a:ln>
        </p:spPr>
      </p:pic>
      <p:pic>
        <p:nvPicPr>
          <p:cNvPr id="810" name="Объект 4" descr=""/>
          <p:cNvPicPr/>
          <p:nvPr/>
        </p:nvPicPr>
        <p:blipFill>
          <a:blip r:embed="rId2"/>
          <a:stretch/>
        </p:blipFill>
        <p:spPr>
          <a:xfrm>
            <a:off x="4449600" y="3309840"/>
            <a:ext cx="4237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4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Р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Р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 (стр.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H:\4 класс\УРОКИ\РУС ЯЗ\части речи\2.jpg"/>
          <p:cNvPicPr/>
          <p:nvPr/>
        </p:nvPicPr>
        <p:blipFill>
          <a:blip r:embed="rId1"/>
          <a:stretch/>
        </p:blipFill>
        <p:spPr>
          <a:xfrm>
            <a:off x="971640" y="1341360"/>
            <a:ext cx="655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ставь И.С. из И.п в Р.п.-В.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от-..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Ложка -.. 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ца -.. 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повтор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Для определения падежа И.С. нужн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В определении падежа И.с. помогут служебные части речи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Р.п., В.п., Д.п. неодушевленных И.С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1"/>
          <p:cNvSpPr/>
          <p:nvPr/>
        </p:nvSpPr>
        <p:spPr>
          <a:xfrm>
            <a:off x="1785960" y="71424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"/>
          <p:cNvSpPr/>
          <p:nvPr/>
        </p:nvSpPr>
        <p:spPr>
          <a:xfrm>
            <a:off x="1979640" y="11764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Закончи предлож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3"/>
          <p:cNvSpPr/>
          <p:nvPr/>
        </p:nvSpPr>
        <p:spPr>
          <a:xfrm>
            <a:off x="755640" y="213372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. В русском языке падежей  –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. Чтобы определить падеж им. сущ.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. Имя сущ. изменяется …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4. Склонение – это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5. Р.п. отвечает на вопросы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. В.п. отвечает на вопросы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C:\Users\Еленга\Desktop\методички\Чистописание 4 класс Палова\98771267_large_0015.jpg"/>
          <p:cNvPicPr/>
          <p:nvPr/>
        </p:nvPicPr>
        <p:blipFill>
          <a:blip r:embed="rId1"/>
          <a:srcRect l="6120" t="29451" r="5119" b="33777"/>
          <a:stretch/>
        </p:blipFill>
        <p:spPr>
          <a:xfrm>
            <a:off x="374760" y="476280"/>
            <a:ext cx="8597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ажнение 142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Д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Д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4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H:\4 класс\УРОКИ\РУС ЯЗ\части речи\10.jpg"/>
          <p:cNvPicPr/>
          <p:nvPr/>
        </p:nvPicPr>
        <p:blipFill>
          <a:blip r:embed="rId1"/>
          <a:stretch/>
        </p:blipFill>
        <p:spPr>
          <a:xfrm>
            <a:off x="900000" y="2028960"/>
            <a:ext cx="7096320" cy="94284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539640" y="285228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егодня мы вспомнили падеж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Р.п. отвечает на вопросы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Р.п. можно спутать с …. Для правильного определения падежа нужно обратить внимание н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Д.п. отвечает на вопросы… На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.п.и П.п. имен существительн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C:\Users\Еленга\Desktop\методички\Чистописание 4 класс Палова\98771268_large_0016.jpg"/>
          <p:cNvPicPr/>
          <p:nvPr/>
        </p:nvPicPr>
        <p:blipFill>
          <a:blip r:embed="rId1"/>
          <a:srcRect l="6592" t="26205" r="6059" b="35941"/>
          <a:stretch/>
        </p:blipFill>
        <p:spPr>
          <a:xfrm>
            <a:off x="395280" y="404640"/>
            <a:ext cx="84549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Просклоня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сина</a:t>
            </a: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4000" spc="-1" strike="noStrike" baseline="30000">
                <a:solidFill>
                  <a:srgbClr val="00b0f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Заяц </a:t>
            </a:r>
            <a:r>
              <a:rPr b="1" lang="ru-RU" sz="4000" spc="-1" strike="noStrike" baseline="30000">
                <a:solidFill>
                  <a:srgbClr val="00b0f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Жу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блак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Придумай 4 предложения. Разберите по членам предложения. Подпишите падеж И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С.87 учеб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иктан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ПР (стр.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мени слово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старый»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близким по значению словом. Запиши это сл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-то ёж поймал в сенях мышонка и показал его кот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адание: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найди слово, в состав которого соответствует схеме. Выпиши и обозна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Дуга 6"/>
          <p:cNvSpPr/>
          <p:nvPr/>
        </p:nvSpPr>
        <p:spPr>
          <a:xfrm rot="19942200">
            <a:off x="1012680" y="5106960"/>
            <a:ext cx="1204920" cy="787320"/>
          </a:xfrm>
          <a:custGeom>
            <a:avLst/>
            <a:gdLst/>
            <a:ahLst/>
            <a:rect l="l" t="t" r="r" b="b"/>
            <a:pathLst>
              <a:path stroke="0" w="1204913" h="787400">
                <a:moveTo>
                  <a:pt x="602456" y="0"/>
                </a:moveTo>
                <a:cubicBezTo>
                  <a:pt x="935184" y="0"/>
                  <a:pt x="1204913" y="176265"/>
                  <a:pt x="1204913" y="393700"/>
                </a:cubicBezTo>
                <a:lnTo>
                  <a:pt x="602457" y="393700"/>
                </a:lnTo>
                <a:cubicBezTo>
                  <a:pt x="602457" y="262467"/>
                  <a:pt x="602456" y="131233"/>
                  <a:pt x="602456" y="0"/>
                </a:cubicBezTo>
                <a:close/>
              </a:path>
              <a:path fill="none" w="1204913" h="787400">
                <a:moveTo>
                  <a:pt x="602456" y="0"/>
                </a:moveTo>
                <a:cubicBezTo>
                  <a:pt x="935184" y="0"/>
                  <a:pt x="1204913" y="176265"/>
                  <a:pt x="1204913" y="393700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Полилиния 7"/>
          <p:cNvSpPr/>
          <p:nvPr/>
        </p:nvSpPr>
        <p:spPr>
          <a:xfrm>
            <a:off x="2217600" y="4937040"/>
            <a:ext cx="482760" cy="357120"/>
          </a:xfrm>
          <a:custGeom>
            <a:avLst/>
            <a:gdLst/>
            <a:ahLst/>
            <a:rect l="l" t="t" r="r" b="b"/>
            <a:pathLst>
              <a:path w="1222646" h="405825">
                <a:moveTo>
                  <a:pt x="0" y="374073"/>
                </a:moveTo>
                <a:lnTo>
                  <a:pt x="665018" y="0"/>
                </a:lnTo>
                <a:lnTo>
                  <a:pt x="665018" y="0"/>
                </a:lnTo>
                <a:lnTo>
                  <a:pt x="1177636" y="374073"/>
                </a:lnTo>
                <a:cubicBezTo>
                  <a:pt x="1260763" y="434110"/>
                  <a:pt x="1212272" y="397164"/>
                  <a:pt x="1163782" y="360219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Прямоугольник 8"/>
          <p:cNvSpPr/>
          <p:nvPr/>
        </p:nvSpPr>
        <p:spPr>
          <a:xfrm>
            <a:off x="2843280" y="5103720"/>
            <a:ext cx="360360" cy="30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склоняемые Имена существ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в группе. Исследовательск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рфографическая разм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рога с рядами деревьев, посаженных по обеим её сторон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2" name="Picture 7" descr="i?id=77396289-08-72&amp;n=21"/>
          <p:cNvPicPr/>
          <p:nvPr/>
        </p:nvPicPr>
        <p:blipFill>
          <a:blip r:embed="rId1"/>
          <a:stretch/>
        </p:blipFill>
        <p:spPr>
          <a:xfrm>
            <a:off x="1547640" y="2714760"/>
            <a:ext cx="6120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208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реждение, собирающее и хранящее произведения печати для общего поль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53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library"/>
          <p:cNvPicPr/>
          <p:nvPr/>
        </p:nvPicPr>
        <p:blipFill>
          <a:blip r:embed="rId2"/>
          <a:stretch/>
        </p:blipFill>
        <p:spPr>
          <a:xfrm>
            <a:off x="1403280" y="1844640"/>
            <a:ext cx="62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нимательный, любопытный, привлекающий интер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Calibri"/>
              </a:rPr>
              <a:t>Какой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Picture 6" descr="450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ллея, библиотека, интересный, дорога, шо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571680" y="982440"/>
            <a:ext cx="748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го рода бывают имена существительные?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наче называется изменение по падежам?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539640" y="25124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539640" y="404640"/>
            <a:ext cx="8209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Arial"/>
              </a:rPr>
              <a:t>Чтобы определить падеж существительного, над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йти слово , к которому относится имя существительное и поставить от него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 вопросу и предлогу                                                                                                                                                                         определить падеж.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те с предлогами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 (по выбору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Журавл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648320" y="256500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осн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ик 1"/>
          <p:cNvSpPr/>
          <p:nvPr/>
        </p:nvSpPr>
        <p:spPr>
          <a:xfrm>
            <a:off x="932040" y="189000"/>
            <a:ext cx="727992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5040"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бота в группе. 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Прямоугольник 3"/>
          <p:cNvSpPr/>
          <p:nvPr/>
        </p:nvSpPr>
        <p:spPr>
          <a:xfrm>
            <a:off x="297000" y="388800"/>
            <a:ext cx="8091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5040"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826920" y="1362240"/>
          <a:ext cx="7490160" cy="4944960"/>
        </p:xfrm>
        <a:graphic>
          <a:graphicData uri="http://schemas.openxmlformats.org/drawingml/2006/table">
            <a:tbl>
              <a:tblPr/>
              <a:tblGrid>
                <a:gridCol w="2305080"/>
                <a:gridCol w="1409760"/>
                <a:gridCol w="1857600"/>
                <a:gridCol w="1917720"/>
              </a:tblGrid>
              <a:tr h="3916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и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т ли лексическое знач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яемая или неизменяемая часть реч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ется ли членом предлож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 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ю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ед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аст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очитайте предложения, спишите, определите падеж слова «пальто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магазине продаются разные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 пальто меховой воротни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 пальто пришили пуговиц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ама купила мне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Я доволен своим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не было тепло в паль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zuz_1001228999"/>
          <p:cNvPicPr/>
          <p:nvPr/>
        </p:nvPicPr>
        <p:blipFill>
          <a:blip r:embed="rId2"/>
          <a:stretch/>
        </p:blipFill>
        <p:spPr>
          <a:xfrm>
            <a:off x="2195640" y="620640"/>
            <a:ext cx="4751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611280" y="302400"/>
            <a:ext cx="7488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ибри, кенгуру, шо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аминго, пони, шимпан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ао, кофе, дом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оэ, радио, к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си, метро, купе, паль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не, кофе, трюмо, ман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аду, драже, па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тервью, рагу, ж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ианино и фой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юре, бюро и ател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все слова запоми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икогда их не склоня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8" name="Picture 5" descr="7250_0_2"/>
          <p:cNvPicPr/>
          <p:nvPr/>
        </p:nvPicPr>
        <p:blipFill>
          <a:blip r:embed="rId1"/>
          <a:stretch/>
        </p:blipFill>
        <p:spPr>
          <a:xfrm>
            <a:off x="7236000" y="1484280"/>
            <a:ext cx="1643040" cy="11905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7" descr="avatar-117224-20111215005130"/>
          <p:cNvPicPr/>
          <p:nvPr/>
        </p:nvPicPr>
        <p:blipFill>
          <a:blip r:embed="rId2"/>
          <a:stretch/>
        </p:blipFill>
        <p:spPr>
          <a:xfrm>
            <a:off x="144360" y="5446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9" descr="i?id=538967408-32-72&amp;n=21"/>
          <p:cNvPicPr/>
          <p:nvPr/>
        </p:nvPicPr>
        <p:blipFill>
          <a:blip r:embed="rId3"/>
          <a:stretch/>
        </p:blipFill>
        <p:spPr>
          <a:xfrm>
            <a:off x="7236000" y="429264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1" descr="i?id=185676225-13-72&amp;n=21"/>
          <p:cNvPicPr/>
          <p:nvPr/>
        </p:nvPicPr>
        <p:blipFill>
          <a:blip r:embed="rId4"/>
          <a:stretch/>
        </p:blipFill>
        <p:spPr>
          <a:xfrm>
            <a:off x="395280" y="4113360"/>
            <a:ext cx="1548000" cy="12236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3" descr="i?id=75438619-18-72&amp;n=21"/>
          <p:cNvPicPr/>
          <p:nvPr/>
        </p:nvPicPr>
        <p:blipFill>
          <a:blip r:embed="rId5"/>
          <a:stretch/>
        </p:blipFill>
        <p:spPr>
          <a:xfrm>
            <a:off x="539640" y="1989000"/>
            <a:ext cx="11160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и склонения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Users\Еленга\Desktop\методички\Чистописание 4 класс Палова\98771268_large_0016.jpg"/>
          <p:cNvPicPr/>
          <p:nvPr/>
        </p:nvPicPr>
        <p:blipFill>
          <a:blip r:embed="rId1"/>
          <a:srcRect l="6938" t="70549" r="7150" b="11066"/>
          <a:stretch/>
        </p:blipFill>
        <p:spPr>
          <a:xfrm>
            <a:off x="395280" y="549360"/>
            <a:ext cx="8323200" cy="25207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H:\4 класс\УРОКИ\РУС ЯЗ\части речи\12.jpg"/>
          <p:cNvPicPr/>
          <p:nvPr/>
        </p:nvPicPr>
        <p:blipFill>
          <a:blip r:embed="rId2"/>
          <a:stretch/>
        </p:blipFill>
        <p:spPr>
          <a:xfrm>
            <a:off x="419040" y="3213000"/>
            <a:ext cx="83232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Пользователь Windows</cp:lastModifiedBy>
  <dcterms:modified xsi:type="dcterms:W3CDTF">2022-11-09T13:48:19Z</dcterms:modified>
  <cp:revision>192</cp:revision>
  <dc:subject/>
  <dc:title>Заголовок слайда</dc:title>
</cp:coreProperties>
</file>